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100-8E5C-4621-A3C7-940DA7B0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224-EE39-40B4-A8C3-EF06A47A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F70-95BA-4F0A-B25D-78D6D0D2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44C-071A-4F69-A544-983C6DEE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E3FF-7F3E-4ED8-8AF7-8B6B0BFA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8592-9AA5-4AD6-AE15-4B99AA5A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4BB5-8CCE-46A0-B446-C706E288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762F-83BE-447F-83F1-AB4E3539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8150-8029-427B-B4CE-7EB1A43B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0720-E85C-4E93-9303-73B990D5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FA66-0ACF-4A4A-BCEE-A9635D23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24A-A2BE-4617-A060-661898FD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F143-0975-4D0F-8DA5-FE32CE8B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D10C-6A24-4128-A978-075E1257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D21D-0BB9-4051-AFC3-04115C7F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679A-3BD9-48A9-91F0-D02E66AC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6935-B81E-4989-80E5-42C51EFC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55BDD-4F2B-4E38-9A20-2FA819B7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57B21-68EB-4C77-A43C-79A635F9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84CB6-11B0-431B-A1D1-B30E2137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13737-4FDA-4916-A00B-F9C26CB8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2E0F9-2EE9-4C13-89D4-E11D8796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5CD-318A-4403-877B-DD3528DB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5E81-3B26-4330-A79F-8E538FB4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23ABD-5706-4B4F-AF4E-AAED4782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AA30A-AF24-4303-8D5A-4179FDD2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60005-951E-40DB-9AA3-19BE1D98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6A0D-3700-4B8F-A85B-8242F5FA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D636C-CFC9-4741-9343-D3FEBD0E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B7E6A-C0F8-4ECA-87DA-40385F1E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4650F-8488-49B4-809D-49335C12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965B2-4E6D-45B8-825D-B4CCB860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3653E-EEE4-4E04-9FBD-51EFC1C4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D5B-592C-4217-8EA9-44A07AFE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D8EF3-2264-46DF-9580-A8A488EB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54D80-148A-4933-BEFF-D6D49686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3DF65-CE04-4117-A12B-4B754CCA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C81F7-FE81-45F9-8C65-9B8593D3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6149D-E28C-4736-A7F9-F10EE1DE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316BD-9193-44EA-87B6-456E59F5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D9577-335E-4078-837F-7E1F63B0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9FFA2-3316-44E8-937A-FCFFC201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6402C-D98C-48F3-9456-C2FE164C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39F-7EB9-4988-9FF4-C287C3A5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490-F9B6-46F7-9BD1-9CBFA789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09E-015B-4ADF-90E3-8AF4F407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EAB-D538-433C-AE00-E43BFF7F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704-4DED-4E65-B512-0FDBCF0D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mputer_kuan_262885_10[1]"/>
          <p:cNvPicPr/>
          <p:nvPr/>
        </p:nvPicPr>
        <p:blipFill>
          <a:blip r:embed="rId2"/>
          <a:srcRect l="3950" t="0" r="5029" b="0"/>
          <a:stretch/>
        </p:blipFill>
        <p:spPr>
          <a:xfrm>
            <a:off x="1440" y="60480"/>
            <a:ext cx="9107640" cy="639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F66F-5D94-4E19-997E-19FED9BD5A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omputer_kuan_263056_9[1]"/>
          <p:cNvPicPr/>
          <p:nvPr/>
        </p:nvPicPr>
        <p:blipFill>
          <a:blip r:embed="rId2"/>
          <a:stretch/>
        </p:blipFill>
        <p:spPr>
          <a:xfrm>
            <a:off x="-31680" y="0"/>
            <a:ext cx="9213840" cy="676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4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57DA-C82A-431A-B9CD-A00F42B32B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omputer_kuan_262951_9[1]"/>
          <p:cNvPicPr/>
          <p:nvPr/>
        </p:nvPicPr>
        <p:blipFill>
          <a:blip r:embed="rId2"/>
          <a:stretch/>
        </p:blipFill>
        <p:spPr>
          <a:xfrm>
            <a:off x="34920" y="1440"/>
            <a:ext cx="9109080" cy="6812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8653-DDDC-4947-A842-E1B0458701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omputer_kuan_262934_11[1]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71C8-D1F3-4B91-8F41-2F5A8C64E8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2392920" y="620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相恋小曲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57200" y="63151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21:03:06Z</dcterms:created>
  <dc:creator>张媚</dc:creator>
  <dc:description/>
  <cp:keywords/>
  <dc:language>en-US</dc:language>
  <cp:lastModifiedBy>王玉清</cp:lastModifiedBy>
  <cp:lastPrinted>1899-12-30T00:00:00Z</cp:lastPrinted>
  <dcterms:modified xsi:type="dcterms:W3CDTF">2016-02-20T04:00:01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