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E3F-D360-4BC2-B4E2-6929004F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D1F-29B1-4150-B17F-CDA40259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84D-F55B-4EEA-B44D-54426177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7C5-03AF-439F-A442-559745FF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29BB-4F43-497C-8D5D-9CE3871F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5FE1-8B74-4F3D-8F4E-A59EC245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94EB-B6AD-4CBB-BA3E-0E389D7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5E0F-3F5C-4259-B387-EEC6910B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FA4-E43D-436A-AC0E-CA0F085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894960"/>
            <a:ext cx="77724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513-492D-4BCE-9858-10B331B2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223-E6EC-4897-8BE9-D18D063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6EE-0FA0-4472-AFA1-532D960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BE76-9128-47DE-98F0-49CD32D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D184-A2B2-4644-B965-3465D88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56F9-7144-4E9F-BB27-06021417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75C-1DEF-4A54-9EFE-28199FFC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000" y="17521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000" y="3643920"/>
            <a:ext cx="2502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4493-374F-484B-913F-DE548A1D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B93-F34A-4BB8-AD85-FFFF488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A85-97AF-4B88-922A-FA67BED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620-6449-4768-A271-DC628B7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94960"/>
            <a:ext cx="777240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B6F-BB2A-442F-9200-40704FC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AA2-D1B6-4B8C-9077-8503F645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6439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FE6-DB7B-4AFB-B905-CA4F20A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52120"/>
            <a:ext cx="3792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6439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FF6-33D1-4D92-B43D-B188122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092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9200" y="635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856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E7E2-82F3-4B8D-9A00-10C2741F57F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524720" y="765000"/>
            <a:ext cx="1389240" cy="34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949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4360" y="17521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DCE-367D-48ED-A3EA-D057BCF75FB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向日葵通用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PPT</a:t>
            </a: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新細明體"/>
              </a:rPr>
              <a:t>模板免费下载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02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9933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6:09:07Z</dcterms:created>
  <dc:creator>w</dc:creator>
  <dc:description/>
  <dc:language>en-US</dc:language>
  <cp:lastModifiedBy>王玉清</cp:lastModifiedBy>
  <dcterms:modified xsi:type="dcterms:W3CDTF">2016-02-22T03:21:35Z</dcterms:modified>
  <cp:revision>5</cp:revision>
  <dc:subject/>
  <dc:title>投影片 1</dc:title>
</cp:coreProperties>
</file>