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EB54-5146-4EE4-91CE-1F3CF2E5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77840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DEB1-A291-4A8D-9214-9CF29A6A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77840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7560" y="177840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266-E999-4E42-823D-C9E36287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3400" y="1443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9240" y="1443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77840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3400" y="177840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9240" y="177840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1D35-2EF1-41D4-AC8A-0805E64E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8ACA-CABF-4F14-AD76-80EDF34A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4396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DA27-B3BD-4228-A904-43FBDFA7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F770-5E02-4DE9-8722-CE718A4B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51E2-02A4-4FA8-92EC-2D28D853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34B3-734B-45F0-BE5B-BC0C3E0D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478A-EACD-4BFD-8CBF-2E20FE01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177840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3B0A-7C50-4D56-97F5-2D72351F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396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74A-480B-44D8-9C94-5029CCED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27560" y="177840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FD2C-638D-4A88-AEBD-A9D17EFF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177840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A262-9A38-4889-87D0-CFEE8495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177840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382A-8EC0-4BC9-A938-3F286DDE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177840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527560" y="177840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7F37-EA54-4B4C-BEDF-DFB4068E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823400" y="1443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189240" y="1443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177840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823400" y="177840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189240" y="177840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5087-B445-4C48-BF16-D02C2361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D8405-881F-43D3-9043-B3E8976A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4396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64B08-C825-48C4-A8F1-D3272B85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D6A66-2A02-4D32-A628-F7E5185B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02A79-4379-4199-B1D4-EDB9F66B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3A925-069E-41B8-AD1F-D29B1510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F63E-8A0F-45A8-ABC2-B3EB1689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12A58-B50D-4364-97D2-2C98C91A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177840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B3492-1073-4526-B79A-5CE6445D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527560" y="177840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DBE00-1CBF-4C83-96D6-7F37BFCA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177840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45E91-FA80-4E9D-93C2-79E65E6B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177840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AEB66-D936-4A63-ADDD-0836B88C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177840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527560" y="177840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76ADE-9659-4A4A-8BFE-BC4234D4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823400" y="1443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189240" y="1443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177840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823400" y="177840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189240" y="177840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D48D2-A4B5-41F7-8CBB-EF8AFE4D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A1A8B-0E62-4556-A0DB-58DC27F5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44396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B93C1-13F5-4521-A5BC-C0B4ACC4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69C26-1821-4957-A501-DAD2E5E6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2086-FABA-49DA-A878-CE7164BE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A655C-9AE8-4616-9D0C-EC339A4C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C2A3D-90DD-4CCB-AAE3-6F8BC9FE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2DA1B-E7B8-4364-A1F3-5D3DF535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177840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1E5DD-63BB-4923-ABDF-627FE37C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27560" y="177840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EACCC-DF13-4FDD-AA75-1C04C7E7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177840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CB7E5-BB30-4311-A249-DB3A8A90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177840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4EC95-2DB6-4A81-B4E1-202CEC5B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177840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2527560" y="177840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F9FFD-6330-4532-B660-07399499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823400" y="1443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189240" y="1443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177840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1823400" y="177840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3189240" y="177840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96CDA-BFD7-4CAC-AD59-A2869D98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80DA-704A-4E7C-B372-0EB23EE7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2C91-4FA1-4BBD-8810-8C1274DF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77840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E986-C0ED-477A-BBEC-E383F882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7560" y="177840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2427-9BDF-4A5F-906D-A51EE97C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77840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D4E9-8673-4D7B-869D-DD682F86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8920" y="5261400"/>
            <a:ext cx="77720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039BB6-71E3-4190-9912-177B214916D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8920" y="144396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77933c"/>
              </a:buClr>
              <a:buFont typeface="Arial"/>
              <a:buChar char="–"/>
            </a:pPr>
            <a:r>
              <a:rPr b="0" lang="en-US" sz="2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4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77933c"/>
              </a:buClr>
              <a:buFont typeface="Arial"/>
              <a:buChar char="–"/>
            </a:pPr>
            <a:r>
              <a:rPr b="0" lang="en-US" sz="20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77933c"/>
              </a:buClr>
              <a:buFont typeface="Arial"/>
              <a:buChar char="»"/>
            </a:pPr>
            <a:r>
              <a:rPr b="0" lang="en-US" sz="20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BCBAC9-DFE0-4566-A2BE-CB1DD74A04A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7104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281320" y="1443960"/>
            <a:ext cx="671040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77933c"/>
              </a:buClr>
              <a:buFont typeface="Arial"/>
              <a:buChar char="–"/>
            </a:pPr>
            <a:r>
              <a:rPr b="0" lang="en-US" sz="2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4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77933c"/>
              </a:buClr>
              <a:buFont typeface="Arial"/>
              <a:buChar char="–"/>
            </a:pPr>
            <a:r>
              <a:rPr b="0" lang="en-US" sz="20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77933c"/>
              </a:buClr>
              <a:buFont typeface="Arial"/>
              <a:buChar char="»"/>
            </a:pPr>
            <a:r>
              <a:rPr b="0" lang="en-US" sz="20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2051D0-11F3-45C6-BCCD-BD87E958F23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44396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57200" y="2073600"/>
            <a:ext cx="4039920" cy="37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4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77933c"/>
              </a:buClr>
              <a:buFont typeface="Arial"/>
              <a:buChar char="–"/>
            </a:pPr>
            <a:r>
              <a:rPr b="0" lang="en-US" sz="20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1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77933c"/>
              </a:buClr>
              <a:buFont typeface="Arial"/>
              <a:buChar char="–"/>
            </a:pPr>
            <a:r>
              <a:rPr b="0" lang="en-US" sz="16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77933c"/>
              </a:buClr>
              <a:buFont typeface="Arial"/>
              <a:buChar char="»"/>
            </a:pPr>
            <a:r>
              <a:rPr b="0" lang="en-US" sz="16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4645080" y="144396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645080" y="2073600"/>
            <a:ext cx="4041360" cy="37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4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77933c"/>
              </a:buClr>
              <a:buFont typeface="Arial"/>
              <a:buChar char="–"/>
            </a:pPr>
            <a:r>
              <a:rPr b="0" lang="en-US" sz="20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1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77933c"/>
              </a:buClr>
              <a:buFont typeface="Arial"/>
              <a:buChar char="–"/>
            </a:pPr>
            <a:r>
              <a:rPr b="0" lang="en-US" sz="16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77933c"/>
              </a:buClr>
              <a:buFont typeface="Arial"/>
              <a:buChar char="»"/>
            </a:pPr>
            <a:r>
              <a:rPr b="0" lang="en-US" sz="16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8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2F0CEF-7B89-4A9B-BD6D-F3B486930F8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8920" y="5261400"/>
            <a:ext cx="77720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ick to edit Master title styl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48920" y="4803480"/>
            <a:ext cx="8093160" cy="61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4e863a"/>
                </a:solidFill>
                <a:latin typeface="Calibri"/>
              </a:rPr>
              <a:t>鲜艳玫瑰淡雅通用</a:t>
            </a:r>
            <a:r>
              <a:rPr b="0" lang="en-US" sz="4000" spc="-1" strike="noStrike">
                <a:solidFill>
                  <a:srgbClr val="4e863a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4e863a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4"/>
          <p:cNvSpPr/>
          <p:nvPr/>
        </p:nvSpPr>
        <p:spPr>
          <a:xfrm>
            <a:off x="2892240" y="3276360"/>
            <a:ext cx="7779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48920" y="144396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7104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1320" y="1443960"/>
            <a:ext cx="671040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Product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2073600"/>
            <a:ext cx="4039920" cy="37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4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4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4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45080" y="144396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Product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45080" y="2073600"/>
            <a:ext cx="4041360" cy="37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4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4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4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43640" y="61632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7</TotalTime>
  <Application>LibreOffice/7.4.7.2$Linux_X86_64 LibreOffice_project/40$Build-2</Application>
  <AppVersion>15.0000</AppVersion>
  <Words>164</Words>
  <Paragraphs>32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7Z</dcterms:created>
  <dc:creator>Julian</dc:creator>
  <dc:description/>
  <dc:language>en-US</dc:language>
  <cp:lastModifiedBy>王玉清</cp:lastModifiedBy>
  <dcterms:modified xsi:type="dcterms:W3CDTF">2016-02-20T03:18:36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