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763-42D7-4E73-B3BC-0C2A2298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4A9-F168-40D5-9159-9F20CC6C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919-4BEF-448C-A3A4-7A1BA99C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773-EC06-4F9F-B955-2C8B76F2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E4C5-4D48-45DD-BEB4-37E6FEA4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3176-145A-4829-8057-8F20FCB7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E0B4-60F6-41F6-AC2A-4B88AEBC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10B7-C4EA-4CD4-AA46-AAC23193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9049-7285-4941-9387-D56EF17F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1A32-FB82-48C5-BBDC-831E3DEA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FF6-50D5-4299-8183-566315E7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E13-D74F-4637-AA00-556D0841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2763-85FC-4B11-B4EC-F5F24262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7551-62AF-494D-BACB-3FB87553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C82F-B32C-4753-BF36-A3563D72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F52D-F018-449A-A4FD-9F95D395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6CEB-EAFD-4A75-B41C-12C8E645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EC6-B6FF-4333-9B4F-402404B1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34B-027F-41F8-87A7-00BA59B3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785-9956-479D-870F-CF764281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842-AE8E-4501-954A-E293D496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50C-3E06-4DC8-AFE5-01ACD8C2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A53-DF10-45D6-99C9-E9624400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117-2D85-49A0-BA82-3B01E34D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422CA8-E50F-47ED-8881-38DAB78FA5C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c06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c06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c06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29DA70-32F8-479D-A4B8-82BF4A3F902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819520"/>
            <a:ext cx="81428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印度风光通用</a:t>
            </a:r>
            <a:r>
              <a:rPr b="1" lang="en-US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模板免费下载</a:t>
            </a:r>
            <a:endParaRPr b="0" lang="en-US" sz="40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c06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152280"/>
            <a:ext cx="624816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0" y="1295280"/>
            <a:ext cx="6476760" cy="502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5680" y="152280"/>
            <a:ext cx="724356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29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1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c0600"/>
                </a:solidFill>
                <a:latin typeface="Adobe Caslon Pro"/>
              </a:rPr>
              <a:t>MyTemplatesShop</a:t>
            </a: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7400" y="1600200"/>
            <a:ext cx="77990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</a:rPr>
              <a:t>Feel free to use this PowerPoint template and background for your personal use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</a:rPr>
              <a:t>More templates, graphics and charts are available at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0068">
  <a:themeElements>
    <a:clrScheme name="Custom 142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0000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0068">
  <a:themeElements>
    <a:clrScheme name="Custom 142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0000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0068</Template>
  <TotalTime>0</TotalTime>
  <Application>LibreOffice/7.4.7.2$Linux_X86_64 LibreOffice_project/40$Build-2</Application>
  <AppVersion>15.0000</AppVersion>
  <Words>120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3:02:01Z</dcterms:created>
  <dc:creator>YANGS</dc:creator>
  <dc:description/>
  <dc:language>en-US</dc:language>
  <cp:lastModifiedBy>王玉清</cp:lastModifiedBy>
  <dcterms:modified xsi:type="dcterms:W3CDTF">2016-02-23T03:47:09Z</dcterms:modified>
  <cp:revision>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