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BCE-475D-455C-A3F0-57B4426E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650-4717-4982-8220-EAC9F8C3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DD9-A646-498E-93CE-9A975380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60B-D272-4959-8E19-4F009ABF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032-EAAB-469B-898D-BD392F93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3B8-A692-48A3-A499-06E8033E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694-7A02-4D32-B914-6B79DBA2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3E0-231F-4E07-87F7-2F4909D9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1FA-01D3-4AF8-803A-BE60DA73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5AA-7D0A-4395-957D-94396399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44B-77B4-4162-A018-F5D59E3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A1A-1A21-4CFA-954C-A8CFD071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FAD1-07B1-42EB-8ED1-BF5FC75662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2576-E1AB-4E50-97F0-4EEE0B8286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3305160" y="4299120"/>
            <a:ext cx="28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Microsoft JhengHei"/>
                <a:ea typeface="Microsoft JhengHei"/>
              </a:rPr>
              <a:t>如果正常的付出</a:t>
            </a:r>
            <a:r>
              <a:rPr b="0" lang="en-US" sz="2400" spc="-1" strike="noStrike">
                <a:solidFill>
                  <a:srgbClr val="7f7f7f"/>
                </a:solidFill>
                <a:latin typeface="Microsoft JhengHei"/>
                <a:ea typeface="Microsoft JhengHei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3622680" y="1701720"/>
            <a:ext cx="2130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7f7f7f"/>
                </a:solidFill>
                <a:latin typeface="华康俪金黑W8"/>
                <a:ea typeface="华康俪金黑W8"/>
              </a:rPr>
              <a:t>壹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607680" y="3625920"/>
            <a:ext cx="79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d8d8"/>
                </a:solidFill>
                <a:latin typeface="Calibri"/>
                <a:ea typeface="Calibri"/>
              </a:rPr>
              <a:t>---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4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7760" y="33336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有关坚持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eb2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be9ff"/>
                </a:solidFill>
                <a:latin typeface="Calibri"/>
                <a:ea typeface="Calibri"/>
              </a:rPr>
              <a:t>---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3063960" y="4632480"/>
            <a:ext cx="30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三天打渔，两天晒网</a:t>
            </a:r>
            <a:r>
              <a:rPr b="0" lang="en-US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9"/>
          <p:cNvGrpSpPr/>
          <p:nvPr/>
        </p:nvGrpSpPr>
        <p:grpSpPr>
          <a:xfrm>
            <a:off x="2305080" y="3746520"/>
            <a:ext cx="4867200" cy="813240"/>
            <a:chOff x="2305080" y="3746520"/>
            <a:chExt cx="4867200" cy="813240"/>
          </a:xfrm>
        </p:grpSpPr>
        <p:sp>
          <p:nvSpPr>
            <p:cNvPr id="50" name="文本框 1"/>
            <p:cNvSpPr/>
            <p:nvPr/>
          </p:nvSpPr>
          <p:spPr>
            <a:xfrm>
              <a:off x="2305080" y="3856320"/>
              <a:ext cx="486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1.01  X  0.99  </a:t>
              </a:r>
              <a:r>
                <a:rPr b="1" lang="en-US" sz="4000" spc="-1" strike="noStrike">
                  <a:solidFill>
                    <a:srgbClr val="bce9ff"/>
                  </a:solidFill>
                  <a:latin typeface="Arial"/>
                  <a:ea typeface="Arial Unicode MS"/>
                </a:rPr>
                <a:t>&lt;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 1.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2"/>
            <p:cNvSpPr/>
            <p:nvPr/>
          </p:nvSpPr>
          <p:spPr>
            <a:xfrm>
              <a:off x="3285720" y="374652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6"/>
            <p:cNvSpPr/>
            <p:nvPr/>
          </p:nvSpPr>
          <p:spPr>
            <a:xfrm>
              <a:off x="5106240" y="374652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4"/>
          <p:cNvGrpSpPr/>
          <p:nvPr/>
        </p:nvGrpSpPr>
        <p:grpSpPr>
          <a:xfrm>
            <a:off x="3720960" y="1442880"/>
            <a:ext cx="1390680" cy="1289160"/>
            <a:chOff x="3720960" y="1442880"/>
            <a:chExt cx="1390680" cy="1289160"/>
          </a:xfrm>
        </p:grpSpPr>
        <p:sp>
          <p:nvSpPr>
            <p:cNvPr id="54" name="Freeform 5"/>
            <p:cNvSpPr/>
            <p:nvPr/>
          </p:nvSpPr>
          <p:spPr>
            <a:xfrm>
              <a:off x="4146480" y="2001600"/>
              <a:ext cx="955440" cy="73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3720960" y="1442880"/>
              <a:ext cx="1390680" cy="76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d21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2d2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e511"/>
                </a:solidFill>
                <a:latin typeface="Calibri"/>
                <a:ea typeface="Calibri"/>
              </a:rPr>
              <a:t>---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8"/>
          <p:cNvGrpSpPr/>
          <p:nvPr/>
        </p:nvGrpSpPr>
        <p:grpSpPr>
          <a:xfrm>
            <a:off x="2981160" y="3579840"/>
            <a:ext cx="4435560" cy="766800"/>
            <a:chOff x="2981160" y="3579840"/>
            <a:chExt cx="4435560" cy="766800"/>
          </a:xfrm>
        </p:grpSpPr>
        <p:sp>
          <p:nvSpPr>
            <p:cNvPr id="58" name="文本框 1"/>
            <p:cNvSpPr/>
            <p:nvPr/>
          </p:nvSpPr>
          <p:spPr>
            <a:xfrm>
              <a:off x="2981160" y="3643200"/>
              <a:ext cx="443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dobe Gothic Std B"/>
                </a:rPr>
                <a:t>1.01   </a:t>
              </a:r>
              <a:r>
                <a:rPr b="1" lang="en-US" sz="4000" spc="-1" strike="noStrike">
                  <a:solidFill>
                    <a:srgbClr val="0eb248"/>
                  </a:solidFill>
                  <a:latin typeface="Arial"/>
                  <a:ea typeface="Adobe Gothic Std B"/>
                </a:rPr>
                <a:t>=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dobe Gothic Std B"/>
                </a:rPr>
                <a:t>  37.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2"/>
            <p:cNvSpPr/>
            <p:nvPr/>
          </p:nvSpPr>
          <p:spPr>
            <a:xfrm>
              <a:off x="4016160" y="357984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3"/>
          <p:cNvGrpSpPr/>
          <p:nvPr/>
        </p:nvGrpSpPr>
        <p:grpSpPr>
          <a:xfrm>
            <a:off x="2981160" y="4238640"/>
            <a:ext cx="4435560" cy="766800"/>
            <a:chOff x="2981160" y="4238640"/>
            <a:chExt cx="4435560" cy="766800"/>
          </a:xfrm>
        </p:grpSpPr>
        <p:sp>
          <p:nvSpPr>
            <p:cNvPr id="61" name="文本框 14"/>
            <p:cNvSpPr/>
            <p:nvPr/>
          </p:nvSpPr>
          <p:spPr>
            <a:xfrm>
              <a:off x="2981160" y="4302000"/>
              <a:ext cx="443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dobe Gothic Std B"/>
                </a:rPr>
                <a:t>0.99   </a:t>
              </a:r>
              <a:r>
                <a:rPr b="1" lang="en-US" sz="4000" spc="-1" strike="noStrike">
                  <a:solidFill>
                    <a:srgbClr val="0eb248"/>
                  </a:solidFill>
                  <a:latin typeface="Arial"/>
                  <a:ea typeface="Adobe Gothic Std B"/>
                </a:rPr>
                <a:t>=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dobe Gothic Std B"/>
                </a:rPr>
                <a:t>  0.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15"/>
            <p:cNvSpPr/>
            <p:nvPr/>
          </p:nvSpPr>
          <p:spPr>
            <a:xfrm>
              <a:off x="4033440" y="423864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文本框 16"/>
          <p:cNvSpPr/>
          <p:nvPr/>
        </p:nvSpPr>
        <p:spPr>
          <a:xfrm>
            <a:off x="2665440" y="5342040"/>
            <a:ext cx="42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积跬步以至千里，积怠惰以致深渊</a:t>
            </a:r>
            <a:r>
              <a:rPr b="0" lang="en-US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"/>
          <p:cNvGrpSpPr/>
          <p:nvPr/>
        </p:nvGrpSpPr>
        <p:grpSpPr>
          <a:xfrm>
            <a:off x="4162320" y="1360440"/>
            <a:ext cx="923760" cy="1449360"/>
            <a:chOff x="4162320" y="1360440"/>
            <a:chExt cx="923760" cy="1449360"/>
          </a:xfrm>
        </p:grpSpPr>
        <p:sp>
          <p:nvSpPr>
            <p:cNvPr id="65" name="Oval 5"/>
            <p:cNvSpPr/>
            <p:nvPr/>
          </p:nvSpPr>
          <p:spPr>
            <a:xfrm>
              <a:off x="4479840" y="1360440"/>
              <a:ext cx="233280" cy="23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"/>
            <p:cNvSpPr/>
            <p:nvPr/>
          </p:nvSpPr>
          <p:spPr>
            <a:xfrm>
              <a:off x="4162320" y="1544760"/>
              <a:ext cx="243000" cy="42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"/>
            <p:cNvSpPr/>
            <p:nvPr/>
          </p:nvSpPr>
          <p:spPr>
            <a:xfrm>
              <a:off x="4843440" y="1720800"/>
              <a:ext cx="242640" cy="10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8"/>
            <p:cNvSpPr/>
            <p:nvPr/>
          </p:nvSpPr>
          <p:spPr>
            <a:xfrm>
              <a:off x="4200480" y="1609560"/>
              <a:ext cx="726840" cy="12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---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8"/>
          <p:cNvGrpSpPr/>
          <p:nvPr/>
        </p:nvGrpSpPr>
        <p:grpSpPr>
          <a:xfrm>
            <a:off x="2722680" y="3854520"/>
            <a:ext cx="4435200" cy="766800"/>
            <a:chOff x="2722680" y="3854520"/>
            <a:chExt cx="4435200" cy="766800"/>
          </a:xfrm>
        </p:grpSpPr>
        <p:sp>
          <p:nvSpPr>
            <p:cNvPr id="71" name="文本框 1"/>
            <p:cNvSpPr/>
            <p:nvPr/>
          </p:nvSpPr>
          <p:spPr>
            <a:xfrm>
              <a:off x="2722680" y="3917880"/>
              <a:ext cx="443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dobe Gothic Std B"/>
                </a:rPr>
                <a:t>1.02   </a:t>
              </a:r>
              <a:r>
                <a:rPr b="1" lang="en-US" sz="4000" spc="-1" strike="noStrike">
                  <a:solidFill>
                    <a:srgbClr val="e1f5f9"/>
                  </a:solidFill>
                  <a:latin typeface="Arial"/>
                  <a:ea typeface="Adobe Gothic Std B"/>
                </a:rPr>
                <a:t>=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dobe Gothic Std B"/>
                </a:rPr>
                <a:t>  1377.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文本框 2"/>
            <p:cNvSpPr/>
            <p:nvPr/>
          </p:nvSpPr>
          <p:spPr>
            <a:xfrm>
              <a:off x="3757320" y="385452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3"/>
          <p:cNvGrpSpPr/>
          <p:nvPr/>
        </p:nvGrpSpPr>
        <p:grpSpPr>
          <a:xfrm>
            <a:off x="2722680" y="4513320"/>
            <a:ext cx="4435200" cy="766800"/>
            <a:chOff x="2722680" y="4513320"/>
            <a:chExt cx="4435200" cy="766800"/>
          </a:xfrm>
        </p:grpSpPr>
        <p:sp>
          <p:nvSpPr>
            <p:cNvPr id="74" name="文本框 14"/>
            <p:cNvSpPr/>
            <p:nvPr/>
          </p:nvSpPr>
          <p:spPr>
            <a:xfrm>
              <a:off x="2722680" y="4576680"/>
              <a:ext cx="443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dobe Gothic Std B"/>
                </a:rPr>
                <a:t>0.98   </a:t>
              </a:r>
              <a:r>
                <a:rPr b="1" lang="en-US" sz="4000" spc="-1" strike="noStrike">
                  <a:solidFill>
                    <a:srgbClr val="e1f5f9"/>
                  </a:solidFill>
                  <a:latin typeface="Arial"/>
                  <a:ea typeface="Adobe Gothic Std B"/>
                </a:rPr>
                <a:t>=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Adobe Gothic Std B"/>
                </a:rPr>
                <a:t>  0.000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15"/>
            <p:cNvSpPr/>
            <p:nvPr/>
          </p:nvSpPr>
          <p:spPr>
            <a:xfrm>
              <a:off x="3774960" y="451332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文本框 16"/>
          <p:cNvSpPr/>
          <p:nvPr/>
        </p:nvSpPr>
        <p:spPr>
          <a:xfrm>
            <a:off x="2590920" y="534204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和别人的差距，就是这样拉大的</a:t>
            </a:r>
            <a:r>
              <a:rPr b="0" lang="en-US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1636560" y="2251080"/>
            <a:ext cx="601560" cy="944640"/>
            <a:chOff x="1636560" y="2251080"/>
            <a:chExt cx="601560" cy="944640"/>
          </a:xfrm>
        </p:grpSpPr>
        <p:sp>
          <p:nvSpPr>
            <p:cNvPr id="78" name="Oval 5"/>
            <p:cNvSpPr/>
            <p:nvPr/>
          </p:nvSpPr>
          <p:spPr>
            <a:xfrm>
              <a:off x="1842840" y="2251080"/>
              <a:ext cx="152640" cy="15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6"/>
            <p:cNvSpPr/>
            <p:nvPr/>
          </p:nvSpPr>
          <p:spPr>
            <a:xfrm>
              <a:off x="1636560" y="2371680"/>
              <a:ext cx="15876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7"/>
            <p:cNvSpPr/>
            <p:nvPr/>
          </p:nvSpPr>
          <p:spPr>
            <a:xfrm>
              <a:off x="2081160" y="2486160"/>
              <a:ext cx="156960" cy="70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"/>
            <p:cNvSpPr/>
            <p:nvPr/>
          </p:nvSpPr>
          <p:spPr>
            <a:xfrm>
              <a:off x="1660320" y="2413080"/>
              <a:ext cx="474840" cy="78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"/>
          <p:cNvGrpSpPr/>
          <p:nvPr/>
        </p:nvGrpSpPr>
        <p:grpSpPr>
          <a:xfrm>
            <a:off x="6918480" y="2251080"/>
            <a:ext cx="601560" cy="944640"/>
            <a:chOff x="6918480" y="2251080"/>
            <a:chExt cx="601560" cy="944640"/>
          </a:xfrm>
        </p:grpSpPr>
        <p:sp>
          <p:nvSpPr>
            <p:cNvPr id="83" name="Oval 12"/>
            <p:cNvSpPr/>
            <p:nvPr/>
          </p:nvSpPr>
          <p:spPr>
            <a:xfrm>
              <a:off x="7124760" y="2251080"/>
              <a:ext cx="152640" cy="15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6918480" y="2371680"/>
              <a:ext cx="15876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7363080" y="2486160"/>
              <a:ext cx="156960" cy="70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6942240" y="2413080"/>
              <a:ext cx="474840" cy="78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cc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------------------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7"/>
          <p:cNvSpPr/>
          <p:nvPr/>
        </p:nvSpPr>
        <p:spPr>
          <a:xfrm>
            <a:off x="2612880" y="4622760"/>
            <a:ext cx="47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一点懒惰，便能亏空了千份成就</a:t>
            </a:r>
            <a:r>
              <a:rPr b="0" lang="en-US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9"/>
          <p:cNvGrpSpPr/>
          <p:nvPr/>
        </p:nvGrpSpPr>
        <p:grpSpPr>
          <a:xfrm>
            <a:off x="2082960" y="3762360"/>
            <a:ext cx="6537240" cy="802080"/>
            <a:chOff x="2082960" y="3762360"/>
            <a:chExt cx="6537240" cy="802080"/>
          </a:xfrm>
        </p:grpSpPr>
        <p:sp>
          <p:nvSpPr>
            <p:cNvPr id="90" name="文本框 14"/>
            <p:cNvSpPr/>
            <p:nvPr/>
          </p:nvSpPr>
          <p:spPr>
            <a:xfrm>
              <a:off x="2082960" y="392184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dobe Gothic Std B"/>
                </a:rPr>
                <a:t>1377.4   X   0.98    = 0.8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18"/>
            <p:cNvSpPr/>
            <p:nvPr/>
          </p:nvSpPr>
          <p:spPr>
            <a:xfrm>
              <a:off x="5273640" y="376236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23"/>
          <p:cNvGrpSpPr/>
          <p:nvPr/>
        </p:nvGrpSpPr>
        <p:grpSpPr>
          <a:xfrm>
            <a:off x="3860640" y="1609560"/>
            <a:ext cx="1419480" cy="1298880"/>
            <a:chOff x="3860640" y="1609560"/>
            <a:chExt cx="1419480" cy="1298880"/>
          </a:xfrm>
        </p:grpSpPr>
        <p:sp>
          <p:nvSpPr>
            <p:cNvPr id="93" name="矩形 20"/>
            <p:cNvSpPr/>
            <p:nvPr/>
          </p:nvSpPr>
          <p:spPr>
            <a:xfrm>
              <a:off x="3860640" y="2097360"/>
              <a:ext cx="141948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21"/>
            <p:cNvSpPr/>
            <p:nvPr/>
          </p:nvSpPr>
          <p:spPr>
            <a:xfrm rot="16200000">
              <a:off x="3921480" y="2154240"/>
              <a:ext cx="1298880" cy="2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矩形 22"/>
          <p:cNvSpPr/>
          <p:nvPr/>
        </p:nvSpPr>
        <p:spPr>
          <a:xfrm rot="20529600">
            <a:off x="3932280" y="1425240"/>
            <a:ext cx="1192320" cy="250920"/>
          </a:xfrm>
          <a:prstGeom prst="rect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f7f7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7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"/>
          <p:cNvSpPr/>
          <p:nvPr/>
        </p:nvSpPr>
        <p:spPr>
          <a:xfrm>
            <a:off x="3809880" y="3817800"/>
            <a:ext cx="18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你</a:t>
            </a: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=</a:t>
            </a: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5"/>
          <p:cNvGrpSpPr/>
          <p:nvPr/>
        </p:nvGrpSpPr>
        <p:grpSpPr>
          <a:xfrm>
            <a:off x="736560" y="2536920"/>
            <a:ext cx="7823160" cy="866520"/>
            <a:chOff x="736560" y="2536920"/>
            <a:chExt cx="7823160" cy="866520"/>
          </a:xfrm>
        </p:grpSpPr>
        <p:sp>
          <p:nvSpPr>
            <p:cNvPr id="99" name="文本框 2"/>
            <p:cNvSpPr/>
            <p:nvPr/>
          </p:nvSpPr>
          <p:spPr>
            <a:xfrm>
              <a:off x="1140480" y="2536920"/>
              <a:ext cx="106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8d8d8"/>
                  </a:solidFill>
                  <a:latin typeface="Arial"/>
                  <a:ea typeface="Adobe Gothic Std B"/>
                </a:rPr>
                <a:t>0.9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4"/>
            <p:cNvSpPr/>
            <p:nvPr/>
          </p:nvSpPr>
          <p:spPr>
            <a:xfrm>
              <a:off x="736560" y="3403440"/>
              <a:ext cx="7823160" cy="0"/>
            </a:xfrm>
            <a:prstGeom prst="line">
              <a:avLst/>
            </a:prstGeom>
            <a:ln w="57240">
              <a:solidFill>
                <a:srgbClr val="6cce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6"/>
            <p:cNvSpPr/>
            <p:nvPr/>
          </p:nvSpPr>
          <p:spPr>
            <a:xfrm flipV="1">
              <a:off x="1635480" y="3060000"/>
              <a:ext cx="0" cy="343080"/>
            </a:xfrm>
            <a:prstGeom prst="line">
              <a:avLst/>
            </a:prstGeom>
            <a:ln w="57240">
              <a:solidFill>
                <a:srgbClr val="6cce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7"/>
            <p:cNvSpPr/>
            <p:nvPr/>
          </p:nvSpPr>
          <p:spPr>
            <a:xfrm flipV="1">
              <a:off x="3146760" y="3060000"/>
              <a:ext cx="0" cy="343080"/>
            </a:xfrm>
            <a:prstGeom prst="line">
              <a:avLst/>
            </a:prstGeom>
            <a:ln w="57240">
              <a:solidFill>
                <a:srgbClr val="6cce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8"/>
            <p:cNvSpPr/>
            <p:nvPr/>
          </p:nvSpPr>
          <p:spPr>
            <a:xfrm flipV="1">
              <a:off x="4647960" y="3060000"/>
              <a:ext cx="0" cy="343080"/>
            </a:xfrm>
            <a:prstGeom prst="line">
              <a:avLst/>
            </a:prstGeom>
            <a:ln w="57240">
              <a:solidFill>
                <a:srgbClr val="6cce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9"/>
            <p:cNvSpPr/>
            <p:nvPr/>
          </p:nvSpPr>
          <p:spPr>
            <a:xfrm flipV="1">
              <a:off x="6172200" y="3060000"/>
              <a:ext cx="0" cy="343080"/>
            </a:xfrm>
            <a:prstGeom prst="line">
              <a:avLst/>
            </a:prstGeom>
            <a:ln w="57240">
              <a:solidFill>
                <a:srgbClr val="6cce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10"/>
            <p:cNvSpPr/>
            <p:nvPr/>
          </p:nvSpPr>
          <p:spPr>
            <a:xfrm flipV="1">
              <a:off x="7721640" y="3060000"/>
              <a:ext cx="0" cy="343080"/>
            </a:xfrm>
            <a:prstGeom prst="line">
              <a:avLst/>
            </a:prstGeom>
            <a:ln w="57240">
              <a:solidFill>
                <a:srgbClr val="6cce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11"/>
            <p:cNvSpPr/>
            <p:nvPr/>
          </p:nvSpPr>
          <p:spPr>
            <a:xfrm>
              <a:off x="2612160" y="2536920"/>
              <a:ext cx="106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8d8d8"/>
                  </a:solidFill>
                  <a:latin typeface="Arial"/>
                  <a:ea typeface="Adobe Gothic Std B"/>
                </a:rPr>
                <a:t>0.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12"/>
            <p:cNvSpPr/>
            <p:nvPr/>
          </p:nvSpPr>
          <p:spPr>
            <a:xfrm>
              <a:off x="4453200" y="2536920"/>
              <a:ext cx="54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dobe Gothic Std B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13"/>
            <p:cNvSpPr/>
            <p:nvPr/>
          </p:nvSpPr>
          <p:spPr>
            <a:xfrm>
              <a:off x="5743800" y="2536920"/>
              <a:ext cx="106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8d8d8"/>
                  </a:solidFill>
                  <a:latin typeface="Arial"/>
                  <a:ea typeface="Adobe Gothic Std B"/>
                </a:rPr>
                <a:t>1.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14"/>
            <p:cNvSpPr/>
            <p:nvPr/>
          </p:nvSpPr>
          <p:spPr>
            <a:xfrm>
              <a:off x="7267680" y="2536920"/>
              <a:ext cx="106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8d8d8"/>
                  </a:solidFill>
                  <a:latin typeface="Arial"/>
                  <a:ea typeface="Adobe Gothic Std B"/>
                </a:rPr>
                <a:t>1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9"/>
          <p:cNvGrpSpPr/>
          <p:nvPr/>
        </p:nvGrpSpPr>
        <p:grpSpPr>
          <a:xfrm>
            <a:off x="1450800" y="1998720"/>
            <a:ext cx="6562800" cy="1846440"/>
            <a:chOff x="1450800" y="1998720"/>
            <a:chExt cx="6562800" cy="1846440"/>
          </a:xfrm>
        </p:grpSpPr>
        <p:sp>
          <p:nvSpPr>
            <p:cNvPr id="111" name="文本框 2"/>
            <p:cNvSpPr/>
            <p:nvPr/>
          </p:nvSpPr>
          <p:spPr>
            <a:xfrm>
              <a:off x="1450800" y="1998720"/>
              <a:ext cx="64504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7f7f7f"/>
                  </a:solidFill>
                  <a:latin typeface="Arial"/>
                  <a:ea typeface="Adobe Gothic Std B"/>
                </a:rPr>
                <a:t>THANKS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3"/>
            <p:cNvSpPr/>
            <p:nvPr/>
          </p:nvSpPr>
          <p:spPr>
            <a:xfrm>
              <a:off x="7268760" y="1998720"/>
              <a:ext cx="74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  <a:ea typeface="Adobe Gothic Std B"/>
                </a:rPr>
                <a:t>3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8"/>
          <p:cNvGrpSpPr/>
          <p:nvPr/>
        </p:nvGrpSpPr>
        <p:grpSpPr>
          <a:xfrm>
            <a:off x="1866960" y="3683160"/>
            <a:ext cx="5578560" cy="355320"/>
            <a:chOff x="1866960" y="3683160"/>
            <a:chExt cx="5578560" cy="355320"/>
          </a:xfrm>
        </p:grpSpPr>
        <p:sp>
          <p:nvSpPr>
            <p:cNvPr id="114" name="矩形 4"/>
            <p:cNvSpPr/>
            <p:nvPr/>
          </p:nvSpPr>
          <p:spPr>
            <a:xfrm>
              <a:off x="1866960" y="3683160"/>
              <a:ext cx="1280880" cy="355320"/>
            </a:xfrm>
            <a:prstGeom prst="rect">
              <a:avLst/>
            </a:prstGeom>
            <a:solidFill>
              <a:srgbClr val="0eb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5"/>
            <p:cNvSpPr/>
            <p:nvPr/>
          </p:nvSpPr>
          <p:spPr>
            <a:xfrm>
              <a:off x="3299400" y="3683160"/>
              <a:ext cx="1280880" cy="355320"/>
            </a:xfrm>
            <a:prstGeom prst="rect">
              <a:avLst/>
            </a:prstGeom>
            <a:solidFill>
              <a:srgbClr val="b2d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6"/>
            <p:cNvSpPr/>
            <p:nvPr/>
          </p:nvSpPr>
          <p:spPr>
            <a:xfrm>
              <a:off x="4731840" y="3683160"/>
              <a:ext cx="1280880" cy="355320"/>
            </a:xfrm>
            <a:prstGeom prst="rect">
              <a:avLst/>
            </a:prstGeom>
            <a:solidFill>
              <a:srgbClr val="6cc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7"/>
            <p:cNvSpPr/>
            <p:nvPr/>
          </p:nvSpPr>
          <p:spPr>
            <a:xfrm>
              <a:off x="6164640" y="3683160"/>
              <a:ext cx="1280880" cy="355320"/>
            </a:xfrm>
            <a:prstGeom prst="rect">
              <a:avLst/>
            </a:prstGeom>
            <a:solidFill>
              <a:srgbClr val="037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文本框 10"/>
          <p:cNvSpPr/>
          <p:nvPr/>
        </p:nvSpPr>
        <p:spPr>
          <a:xfrm>
            <a:off x="4027320" y="4235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Adobe Gothic Std B"/>
              </a:rPr>
              <a:t>By Si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765-E6EA-413A-9BFB-4F33681679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8:0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16:46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