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4BC-7C9F-41F8-91A6-FD157313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A69-5A86-47F0-8918-A52FE181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3CF9A-373A-4B56-B0B0-267072F2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030F1-F1F5-467B-8B1C-10ECB38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A5D61-3FD1-40D2-B437-6D65BA04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B5C22-122F-49A4-9DB9-D287B9F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6A0FA-54E7-403B-9D3A-39962662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A365A-FD42-4EAB-B4B7-6F95F41A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5C20D-94CD-4A66-99E0-BA990262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7FA85-B7AB-4A04-A2B8-26C1360B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77FDB-E55B-435C-9DA0-5F65BE66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4835D-B7A6-4C11-8A1A-FEEB51F1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5E9-D141-461F-AB86-EFF2B608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31E9D-F3CE-4ECE-A905-CE228075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33397-5EA1-467D-A66C-8B022041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20D22-1586-4D01-94C5-3E3FCE2C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6BB89-AE87-45AA-8730-CA706503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39FA2-17A7-45FE-B7F7-4DC5A669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67B62-9CC7-42B0-B616-D8DEAA79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46578-5671-4E58-90D5-371C079E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3E2D3-81A9-4DFD-A43C-B23C473A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A7043-8D0C-420B-973A-866374AE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C7836-4D5B-4065-B79C-1E87FC70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378-FADB-4551-AD89-70983943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E54FB-13CA-4F94-A92E-DA889518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A82DA-9BD4-43B2-9E3E-761AE772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767C5-12AE-41A5-A538-A1D8829C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475A7-B370-4227-8CDA-D8DF5DD3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2B892-B582-493D-9D16-D05E7664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01BE9-30AE-4F9B-8F0D-ACD2F6F2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96850-F400-4591-85E4-9437523A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B661A-222E-4DD9-B736-F16B656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3AF77-B81C-40A5-AA4A-57D145E3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96C49-0E19-44A2-836F-447949B9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0B24-FCD1-499D-BFBF-ACE1040F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5E882-57CC-4790-9709-AC640A75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1BA6E-9948-45E3-9810-BACCD7C3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03B5E-FB7F-432F-ABE2-56849E0F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48925-2C06-46DD-B938-48D1E90B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14F32-7DDE-4EC2-94D6-52A71CE5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8DEC4-B06C-44E1-8DE9-4B97A3C6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90A0D-789A-44C0-9603-3731C78C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4BBB1-0005-4C35-BA78-D8245853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D77F4-C8D7-4727-8989-5451F55A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04D3C-C7E2-4B75-83FC-33A74FF5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3BF4-9DBE-486D-A1A9-C2AF8834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83138-63A5-48EF-B510-A2AB50B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F89FE-B3A7-462F-8E90-3B150D8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73201-0D83-47CC-B185-CE36BCC7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1042D-83BB-4392-AF45-2214AB13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B558B-449E-4FD6-A066-8B3C8327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E31DB-D80A-45BE-8039-F9B99DF9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5756B-4C34-4A45-B5C4-4CD73262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453AD-4E98-4481-B836-067B0BC8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12FF8-487D-4749-8A1C-80E35BFA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FE0C5-AEDE-4E18-95E4-E493F7F7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6175-3E18-4493-B95F-DED461A5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A2558-0624-498D-8148-B9B18D6B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35C1F-3B10-46DD-9D06-9EB7B896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AFDE4-6F04-4C97-AE72-9C180CB3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63B08-AD9D-419A-A81F-073A4C71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19668-4593-4E06-BF89-91E5B3AF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EE6FA-3310-41E5-B69C-74F24A60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EBAE5-FC3C-4ED7-8F63-7EEEC96E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AD82-E570-45E8-B9E7-99567D52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DDA5-13E8-4439-BC4F-77BBCFB6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2CD4-802D-4210-A513-7019D384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B513-04DD-4A4E-BAAF-7ED68896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18C-73B3-4C3D-AFC4-898BFA2C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CDDA-9EAE-4D9B-98FE-2A22810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7B89-D5AC-4158-BC8B-B6E48932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BAA1-3647-4908-8145-4774D320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CDFF-7E38-40DD-B94F-19C7BC30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3F6E-819D-4D61-B03E-B77383E0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DA6F-2436-4D77-A45F-EEF9A6BF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D705-7473-47A6-A921-930DFC9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CBA9-DAED-4CC2-84DD-AF3BDF13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31C0-5EF4-4B64-B2F8-0D8367D2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7FE3-F2C0-4E4E-8D36-D2FB0E49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A0A-5AEE-42C4-9079-4E17E8E9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1607-5526-409B-9FEB-BA64DBED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98A0-574A-42CF-BEEB-8D81CBD8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1A95-CB57-4AF9-8DFF-60076A8A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0366-EC67-4B44-A86F-86FD47E6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30E5-49EF-4028-9170-BC1BB8EF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3297A-40D6-4FBD-8FDC-E34A3E46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6C78-9A63-4354-A696-D6052DB1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A0B3B-F947-4FD6-BF21-B88F32A6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5325-30FA-4AFA-85EB-79152AD3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95D8-6C01-4326-9A32-7AD3D8D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15D-9FD7-435E-8501-38D1E8DE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8861-80A3-4D8B-81D4-8676E842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C87E1-2A0B-48B5-AACF-2604DA78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60C26-0F1D-4A66-B41D-9FB9BC5F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7B28-7499-439F-BE5D-246015B2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E34D9-4FA0-475C-A59B-6F64750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5B309-8F53-4B4B-9FBB-F239F1B2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505B-F87E-4666-9B63-91BE29D2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2E3B-0332-4AD1-91D4-FD0C0D7D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51DA2-8FF2-4AFC-8236-EF52330A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1D671-4FD2-4007-B7E9-F5DECADC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0F3-D41E-4FEB-BF97-BF88D0A7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E741-B924-4394-9258-36F822E3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AB0C1-CFAC-4EFB-A518-7FF168BF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570B-6977-4CD5-9698-0972C796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443C-14ED-4A2C-A5A7-CDDCA3D7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19CD2-CFA9-4E6C-9D04-7DB6DFC6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E3A08-008C-412F-B985-A36BE8DC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A99A9-66BE-4F46-9238-96174E5E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4CEBB-183F-4CEE-BF1C-423940CA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B53EC-1E3D-431F-95D2-A17F6793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AA4F-D70F-4CE7-8579-B5D0EA6B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44E-23A6-4C27-B9A7-B8CC2B46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9683-2B01-4D81-A2C9-EB7DBAF3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546C5-C12C-4DC8-A863-E22CBFED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5742E-6241-4EDB-BAA1-858B482F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5786D-4A66-4A29-8ADD-88664620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525F9-4795-4F5E-9626-E40BD682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B63A-9DDC-45C3-850B-6D25D522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0763-E804-4183-80E3-8FA4E1D4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A99E-45AF-4108-BB85-AB5B9BAE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9F152-AE86-4AF3-821A-74F92D5B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C28A9-BBAD-412A-B62C-F302448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F19-350F-405F-90D5-15E4FE0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E40BE-7A04-45B2-87B1-108CFFDF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0916B-7F1C-42DD-82C4-2A95C28F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47922-3373-45C8-A076-3C14C3B9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F39E1-DBF0-4942-A8A8-C817DF42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D4FB7-5B43-4601-BB2A-7CB1A56A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6A845-757D-4135-86AC-188867A3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3EBC9-F53B-4EA8-9C94-4D4593E4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7FE0-3D0E-4E64-ADD0-63A39702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7A17F-AE09-457A-A74A-9F21848C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3386A-0D22-4C5E-BA8E-805566D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F8D-2446-406D-AC05-F40FB28E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B6040-9B06-432F-A9CA-864FED1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847B4-F190-49FB-B545-78E23D40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26C77-D238-47DA-A7B3-E682FF09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33F8C-E526-418A-AC7F-2ED958EB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10327-C4ED-4149-90D0-7DFF4CD7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2C518-13F8-4D1C-B7AF-CA3F7C9C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6B48-6119-4877-8C42-C3748838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36552-7995-4C80-9571-93E31180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E1EAC-5A50-40C2-A5EA-AA42E5D8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B2A95-2D55-4BE3-93D8-834B694D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3ED-F795-4C78-8DAE-D53330FD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D10A9-3DFC-47CD-AB99-91D0BF5D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94739-DE53-4471-AFB6-5FC08C9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7DEC-275B-4CC6-BCC7-35DA5561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BBA18-AAC5-40CE-AB0A-5E173A5C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E9466-C37F-4FFC-A9F7-901D4973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9583E-AB12-495C-82D3-FF5D0EE4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EF33B-F5ED-4B5B-82F9-4EC64C84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8DA01-AE9C-4A04-BF79-02ED3273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D0936-C84C-4C42-B9CF-79F0F4FB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4A464-E187-407A-AB71-2521FCD3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6740-F636-4F56-AD10-E1357C3267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CE0-C552-4EBD-A0A6-BCE07DBBF8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2340-3D06-49E8-913A-983C39C188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49FE-071B-4A37-99F5-54F5D4FF6B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67A-4559-4883-A84E-EC1DFD0DDD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57DC-BE7D-44CE-BBC0-2DD59A0EAE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6569-63DB-404B-ACF1-B56C94325A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0EFA-D0F3-40B1-B761-8A73E254FE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3467-AEF4-4BCF-909F-D67D8C2EEFD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C4F4-B00A-4CDC-9664-68ED6D6A86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0F15-DDBF-4DCD-B3C9-143C526BBC3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2971-F42D-413B-A59A-E16F17F4EE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146-5CE7-4A37-9760-BAF098CFD7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03E0-21BE-4CFF-8E0B-513283AFC4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F01E-5683-4586-B9AF-3A56711AD9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6EED-A312-4FD1-B58F-BC871D7324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6D95-AE5F-4685-9B44-7893426925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8440-938F-4E77-9168-0316CEAF67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7D7C-7B70-4D67-BDD3-88D3CBC1F2F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65C6-C4DC-4FA2-8945-05748516A9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1459-1C22-46CE-8646-39B65E86BA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A880-EC39-4260-8B20-E653D07FE6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44DF-9A9A-4F02-B1FD-104963529D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7BC2-7AD5-4777-B889-665D018176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特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1AAC-1808-4890-9C5E-77C9F4D020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F0B-997A-4376-BC41-3A29CAF58A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20"/>
          <p:cNvSpPr/>
          <p:nvPr/>
        </p:nvSpPr>
        <p:spPr>
          <a:xfrm>
            <a:off x="2719440" y="3241800"/>
            <a:ext cx="87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0f68"/>
                </a:solidFill>
                <a:latin typeface="微软雅黑"/>
                <a:ea typeface="微软雅黑"/>
              </a:rPr>
              <a:t>眼镜与笔动态</a:t>
            </a:r>
            <a:r>
              <a:rPr b="1" lang="en-US" sz="4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ee0f68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38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48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BD8A-0185-4893-8409-FEDF42C5C8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742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745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748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751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754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757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760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763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766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769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62D-7811-4961-B3BF-45D787DA3C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778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>
                <a:gd name="textAreaLeft" fmla="*/ 0 w 2313000"/>
                <a:gd name="textAreaRight" fmla="*/ 2313360 w 2313000"/>
                <a:gd name="textAreaTop" fmla="*/ 0 h 2876400"/>
                <a:gd name="textAreaBottom" fmla="*/ 2876760 h 28764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>
                <a:gd name="textAreaLeft" fmla="*/ 0 w 1271880"/>
                <a:gd name="textAreaRight" fmla="*/ 1272240 w 127188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735120"/>
                <a:gd name="textAreaBottom" fmla="*/ 735120 h 7351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>
                <a:gd name="textAreaLeft" fmla="*/ 0 w 3762360"/>
                <a:gd name="textAreaRight" fmla="*/ 3762720 w 3762360"/>
                <a:gd name="textAreaTop" fmla="*/ 0 h 2440080"/>
                <a:gd name="textAreaBottom" fmla="*/ 2440080 h 24400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893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896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899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1EA4-EB12-4596-9824-C8E7E3B30F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>
              <a:gd name="textAreaLeft" fmla="*/ 0 w 2020680"/>
              <a:gd name="textAreaRight" fmla="*/ 2021040 w 2020680"/>
              <a:gd name="textAreaTop" fmla="*/ 0 h 2395440"/>
              <a:gd name="textAreaBottom" fmla="*/ 2395800 h 239544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>
              <a:gd name="textAreaLeft" fmla="*/ 360 w 1898640"/>
              <a:gd name="textAreaRight" fmla="*/ 1899360 w 18986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>
              <a:gd name="textAreaLeft" fmla="*/ 0 w 1516320"/>
              <a:gd name="textAreaRight" fmla="*/ 1516680 w 15163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>
              <a:gd name="textAreaLeft" fmla="*/ -360 w 1660680"/>
              <a:gd name="textAreaRight" fmla="*/ 1660680 w 166068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679B-2ED4-497D-A4E2-7DED0AD716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方正兰亭特黑_GBK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方正兰亭特黑_GBK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38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948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0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文本框 101"/>
          <p:cNvSpPr/>
          <p:nvPr/>
        </p:nvSpPr>
        <p:spPr>
          <a:xfrm>
            <a:off x="-17640" y="-339840"/>
            <a:ext cx="3365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F67-96F3-421B-B151-A0FA707F72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966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>
                <a:gd name="textAreaLeft" fmla="*/ 0 w 1233360"/>
                <a:gd name="textAreaRight" fmla="*/ 1233720 w 1233360"/>
                <a:gd name="textAreaTop" fmla="*/ 0 h 2397240"/>
                <a:gd name="textAreaBottom" fmla="*/ 2397600 h 2397240"/>
              </a:gdLst>
              <a:ahLst/>
              <a:rect l="textAreaLeft" t="textAreaTop" r="textAreaRight" b="textAreaBottom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969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>
                <a:gd name="textAreaLeft" fmla="*/ 0 w 1317600"/>
                <a:gd name="textAreaRight" fmla="*/ 1317600 w 1317600"/>
                <a:gd name="textAreaTop" fmla="*/ 0 h 2374920"/>
                <a:gd name="textAreaBottom" fmla="*/ 2375280 h 2374920"/>
              </a:gdLst>
              <a:ahLst/>
              <a:rect l="textAreaLeft" t="textAreaTop" r="textAreaRight" b="textAreaBottom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3BA9-CB69-44DC-BCDB-44608DD2E0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4119-89BC-4231-AF01-D58679034B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>
              <a:gd name="textAreaLeft" fmla="*/ 0 w 6156360"/>
              <a:gd name="textAreaRight" fmla="*/ 6156720 w 6156360"/>
              <a:gd name="textAreaTop" fmla="*/ 0 h 2416320"/>
              <a:gd name="textAreaBottom" fmla="*/ 2416680 h 241632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>
              <a:gd name="textAreaLeft" fmla="*/ 0 w 4240440"/>
              <a:gd name="textAreaRight" fmla="*/ 4240800 w 424044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997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>
                <a:gd name="textAreaLeft" fmla="*/ 0 w 2735640"/>
                <a:gd name="textAreaRight" fmla="*/ 2736000 w 27356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1007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2D7-57E0-400B-A178-CA380E8770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28"/>
          <p:cNvSpPr/>
          <p:nvPr/>
        </p:nvSpPr>
        <p:spPr>
          <a:xfrm>
            <a:off x="2261880" y="29019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等腰三角形 52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7333-CE6B-48F8-B49B-180AC0FE19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方正兰亭特黑_GBK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581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584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A2D7-E6A9-4665-AF04-B90252E498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594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>
                <a:gd name="textAreaLeft" fmla="*/ 0 w 2487240"/>
                <a:gd name="textAreaRight" fmla="*/ 2487600 w 24872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2064960"/>
                <a:gd name="textAreaBottom" fmla="*/ 2065320 h 20649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>
                <a:gd name="textAreaLeft" fmla="*/ 0 w 2188440"/>
                <a:gd name="textAreaRight" fmla="*/ 2188800 w 218844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>
                <a:gd name="textAreaLeft" fmla="*/ 0 w 2219040"/>
                <a:gd name="textAreaRight" fmla="*/ 2219400 w 22190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D8BE-3132-4F15-B7DB-97640EBFBC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6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614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617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方正兰亭特黑_GBK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方正兰亭特黑_GBK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D56D-C62B-4382-A9AC-9AD3934A3F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方正兰亭特黑_GBK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方正兰亭特黑_GBK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63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64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101"/>
          <p:cNvSpPr/>
          <p:nvPr/>
        </p:nvSpPr>
        <p:spPr>
          <a:xfrm>
            <a:off x="-17640" y="-339840"/>
            <a:ext cx="3365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D5D2-2B6C-4F7D-B0E1-3E0545BB41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125800"/>
              <a:gd name="textAreaBottom" fmla="*/ 2126160 h 2125800"/>
            </a:gdLst>
            <a:ahLst/>
            <a:rect l="textAreaLeft" t="textAreaTop" r="textAreaRight" b="textAreaBottom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656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665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4E5D-ACAB-421C-92C5-477821CD5E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682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8" name="AutoShape 10"/>
            <p:cNvCxnSpPr>
              <a:stCxn id="682" idx="0"/>
              <a:endCxn id="689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0" name="AutoShape 11"/>
            <p:cNvCxnSpPr>
              <a:stCxn id="682" idx="7"/>
              <a:endCxn id="686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1" name="AutoShape 12"/>
            <p:cNvCxnSpPr>
              <a:stCxn id="682" idx="5"/>
              <a:endCxn id="684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2" name="AutoShape 13"/>
            <p:cNvCxnSpPr>
              <a:stCxn id="686" idx="6"/>
              <a:endCxn id="693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4" name="AutoShape 14"/>
            <p:cNvCxnSpPr>
              <a:stCxn id="684" idx="6"/>
              <a:endCxn id="693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5" name="AutoShape 15"/>
            <p:cNvCxnSpPr>
              <a:stCxn id="684" idx="1"/>
              <a:endCxn id="689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6" name="AutoShape 16"/>
            <p:cNvCxnSpPr>
              <a:stCxn id="686" idx="1"/>
              <a:endCxn id="689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cxnSp>
          <p:nvCxnSpPr>
            <p:cNvPr id="697" name="AutoShape 17"/>
            <p:cNvCxnSpPr>
              <a:stCxn id="698" idx="1"/>
              <a:endCxn id="689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bevel/>
            </a:ln>
          </p:spPr>
        </p:cxnSp>
        <p:grpSp>
          <p:nvGrpSpPr>
            <p:cNvPr id="699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700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9911-97B7-4D92-9C5E-A1B3BA882D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0"/>
          <p:cNvSpPr/>
          <p:nvPr/>
        </p:nvSpPr>
        <p:spPr>
          <a:xfrm rot="5400000">
            <a:off x="11865240" y="6517440"/>
            <a:ext cx="25884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方正兰亭特黑_GBK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方正兰亭特黑_GBK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714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d8d8d8"/>
                </a:gs>
                <a:gs pos="100000">
                  <a:srgbClr val="7f7f7f"/>
                </a:gs>
              </a:gsLst>
              <a:lin ang="16200000"/>
            </a:gradFill>
            <a:ln w="3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724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101"/>
          <p:cNvSpPr/>
          <p:nvPr/>
        </p:nvSpPr>
        <p:spPr>
          <a:xfrm>
            <a:off x="-17640" y="-339840"/>
            <a:ext cx="3365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cp:keywords/>
  <dc:language>en-US</dc:language>
  <cp:lastModifiedBy>王玉清</cp:lastModifiedBy>
  <dcterms:modified xsi:type="dcterms:W3CDTF">2016-02-19T03:13:44Z</dcterms:modified>
  <cp:revision>61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