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68BC-36D9-4357-9900-319B6A07C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5CF0-A6F5-4F08-AC41-E47A8EDC3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60FC-D337-42F7-8706-9F0768DE2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C71E-5D5B-4FC4-B713-194BA41D3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59346-1B5E-4ACC-8D50-259BB1C0DA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19C35-E2A1-4C32-935D-7993F0DD4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AC68F-C732-4AE4-99EC-1B74EE980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F08E-7C31-4107-9ABB-4C0FEB48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69F656-17EE-4EBC-ADB7-5B289F98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476F0-72AF-4211-BA91-E34B9206F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072E-FA0D-42FC-A44E-CCF51917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39B5-ECC1-4034-AF86-1D28EBD1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1EBD8-2448-4F09-91BA-295BBECB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F4F24-94CE-42E0-A202-A991BB6E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35651-D5A7-4F24-8AA0-A362BB69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E1904-1D6F-4458-ABB1-65C0E2B42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CB98-C057-4CF1-AD93-ABEE04C05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E9AF-D436-4F9F-B36A-404118A1C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8575-901C-4B72-8384-1CAA16BD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B41F-A727-4E21-83C7-87CBCD4FD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DB96-C4DB-4605-8E05-EC86DD6D9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71CE-EFCF-4CC7-ACE0-EC07825D8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D93CC-ACC4-4B5B-81B6-129CEB63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887E4-BCA2-42BB-8539-6032E1D0A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2734e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5f5f5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C5EC3-129D-412C-94B4-8EC4B7D2D9E5}" type="slidenum">
              <a:rPr b="0" lang="en-US" sz="1400" spc="-1" strike="noStrike">
                <a:solidFill>
                  <a:srgbClr val="000000"/>
                </a:solidFill>
                <a:latin typeface="华文细黑"/>
                <a:ea typeface="华文细黑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0"/>
            <a:ext cx="914112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7080" y="371520"/>
            <a:ext cx="518004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21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4221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563C-0D89-4438-81E4-BC3AB11B9F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21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4221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f5f5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5f5f5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5f5f5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f5f5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sucai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>
            <a:lum bright="-12000"/>
          </a:blip>
          <a:stretch/>
        </p:blipFill>
        <p:spPr>
          <a:xfrm>
            <a:off x="900000" y="189000"/>
            <a:ext cx="1297080" cy="4189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800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55640" y="3070080"/>
            <a:ext cx="4968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2734e"/>
                </a:solidFill>
                <a:latin typeface="Arial"/>
              </a:rPr>
              <a:t>使用规范说明</a:t>
            </a:r>
            <a:endParaRPr b="0" lang="en-US" sz="4000" spc="-1" strike="noStrike">
              <a:solidFill>
                <a:srgbClr val="92734e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F99B-57A6-40F4-99D7-9E4902075CB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0T16:10:4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0:41:14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