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51C-A851-40A6-AB04-DD8A555C6D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D20-8AA8-4F88-A01E-39009A3D5E2C}" type="slidenum">
              <a:rPr b="0" lang="en-GB" sz="1200" spc="-1" strike="noStrike">
                <a:solidFill>
                  <a:srgbClr val="534d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569F-8314-4B8A-8F04-D937DAEBECD3}" type="slidenum">
              <a:rPr b="0" lang="en-GB" sz="1200" spc="-1" strike="noStrike">
                <a:solidFill>
                  <a:srgbClr val="534d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B139-02E0-43E1-9BBD-5404D62F571E}" type="slidenum">
              <a:rPr b="0" lang="en-GB" sz="1200" spc="-1" strike="noStrike">
                <a:solidFill>
                  <a:srgbClr val="534d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32F1-5B03-4F95-9806-ECE22F8E9804}" type="slidenum">
              <a:rPr b="0" lang="en-GB" sz="1200" spc="-1" strike="noStrike">
                <a:solidFill>
                  <a:srgbClr val="534d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65B-BFF3-497E-995B-FB7EC8822C57}" type="slidenum">
              <a:rPr b="0" lang="en-GB" sz="1200" spc="-1" strike="noStrike">
                <a:solidFill>
                  <a:srgbClr val="534d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0BD-38E9-45D9-BEF8-147B83C7CC3B}" type="slidenum">
              <a:rPr b="0" lang="en-GB" sz="1200" spc="-1" strike="noStrike">
                <a:solidFill>
                  <a:srgbClr val="534d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A1F2-E339-4D98-9CF3-8D1C846E95F7}" type="slidenum">
              <a:rPr b="0" lang="en-GB" sz="1200" spc="-1" strike="noStrike">
                <a:solidFill>
                  <a:srgbClr val="534d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DCC-0670-4220-AA19-2512D9B0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0DF-C230-4665-9BD0-57574F20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027-8753-490D-9808-6222D7EA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31B-B060-43F2-91A2-318FB230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4C2-9C8C-48EB-89F6-69AF5FB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1E12-5B1D-42E1-8903-64D51B05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5F4E-7751-466E-87A8-10BADB9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3AE0-D563-417A-BE99-0B0382E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D2E6-9F31-4F48-8DB1-9AFD98C0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96FF-EEB4-49E2-9349-536B3FF3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41D-D286-41A0-AB93-EDE74B5F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027-9450-43D0-8B5C-140B1CE0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A6DD-608E-42C5-8543-96FBE5D7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AFA5-217B-4BDA-9209-1B67CDF2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19A3-0CB6-4514-9621-1F28B967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21A5-1C75-4412-A94D-7E0AD824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765D-F068-4136-A80E-A500AFF2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277E-E61C-4E81-A757-2547A1D1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32B-9209-46D4-8CD2-119CF14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A30-6128-41EC-8548-DEFF95D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7EC-3251-4C67-AF2D-A732677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9AE-17C8-4A74-85E5-35C3754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0AD-5D1D-4DA2-A707-EFA3289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27B-E60F-43EA-8409-FBF49B8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MG_3121"/>
          <p:cNvPicPr/>
          <p:nvPr/>
        </p:nvPicPr>
        <p:blipFill>
          <a:blip r:embed="rId2"/>
          <a:stretch/>
        </p:blipFill>
        <p:spPr>
          <a:xfrm>
            <a:off x="0" y="1805040"/>
            <a:ext cx="6769080" cy="5052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34d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34d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0857-A4DD-4454-AB5C-EEAF1E615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IMG_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34d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34d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34d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34d5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34d5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8EDA-B2B7-4B1A-A31A-10802866E4BF}" type="slidenum">
              <a:rPr b="0" lang="en-GB" sz="1400" spc="-1" strike="noStrike">
                <a:solidFill>
                  <a:srgbClr val="534d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羊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34d53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34d5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34d5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34d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d53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34d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d53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34d5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d53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673c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3673c"/>
                </a:solidFill>
                <a:latin typeface="Arial"/>
              </a:rPr>
              <a:t>Colour sc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686040" y="2787480"/>
            <a:ext cx="827280" cy="611280"/>
          </a:xfrm>
          <a:prstGeom prst="rect">
            <a:avLst/>
          </a:prstGeom>
          <a:solidFill>
            <a:srgbClr val="534d53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762440" y="2787480"/>
            <a:ext cx="827280" cy="611280"/>
          </a:xfrm>
          <a:prstGeom prst="rect">
            <a:avLst/>
          </a:prstGeom>
          <a:solidFill>
            <a:srgbClr val="52576c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633760" y="4402080"/>
            <a:ext cx="826920" cy="611280"/>
          </a:xfrm>
          <a:prstGeom prst="rect">
            <a:avLst/>
          </a:prstGeom>
          <a:solidFill>
            <a:srgbClr val="c3b29d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701880" y="4402080"/>
            <a:ext cx="827280" cy="611280"/>
          </a:xfrm>
          <a:prstGeom prst="rect">
            <a:avLst/>
          </a:prstGeom>
          <a:solidFill>
            <a:srgbClr val="778eac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770360" y="4402080"/>
            <a:ext cx="827280" cy="611280"/>
          </a:xfrm>
          <a:prstGeom prst="rect">
            <a:avLst/>
          </a:prstGeom>
          <a:solidFill>
            <a:srgbClr val="819555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5840280" y="4402080"/>
            <a:ext cx="827280" cy="611280"/>
          </a:xfrm>
          <a:prstGeom prst="rect">
            <a:avLst/>
          </a:prstGeom>
          <a:solidFill>
            <a:srgbClr val="8896a9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823000" y="2787480"/>
            <a:ext cx="826920" cy="611280"/>
          </a:xfrm>
          <a:prstGeom prst="rect">
            <a:avLst/>
          </a:prstGeom>
          <a:solidFill>
            <a:srgbClr val="53673c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61792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40048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71808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466812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594864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280296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70800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68504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76612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34d53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766880" y="1847880"/>
            <a:ext cx="5442120" cy="3560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3673c"/>
                </a:solidFill>
                <a:latin typeface="Arial"/>
              </a:rPr>
              <a:t>Sample Graph (3 colou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1512720" y="1668600"/>
          <a:ext cx="6726240" cy="37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668600"/>
                    <a:ext cx="672624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3673c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1600200"/>
            <a:ext cx="498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34d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d5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34d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d53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029" descr="IMG_3059-2"/>
          <p:cNvPicPr/>
          <p:nvPr/>
        </p:nvPicPr>
        <p:blipFill>
          <a:blip r:embed="rId1"/>
          <a:stretch/>
        </p:blipFill>
        <p:spPr>
          <a:xfrm>
            <a:off x="6200640" y="1692360"/>
            <a:ext cx="2176560" cy="2577960"/>
          </a:xfrm>
          <a:prstGeom prst="rect">
            <a:avLst/>
          </a:prstGeom>
          <a:ln w="57240">
            <a:solidFill>
              <a:srgbClr val="534d53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341280" y="6308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34d53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534d53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819555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534d5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369720" y="2079720"/>
            <a:ext cx="8069400" cy="3441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3673c"/>
                </a:solidFill>
                <a:latin typeface="Arial"/>
              </a:rPr>
              <a:t>Process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c993"/>
          </a:solidFill>
          <a:ln w="1260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3673c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  <a:p>
            <a:pPr marL="181080" indent="-181080">
              <a:buClr>
                <a:srgbClr val="536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534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534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7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534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8" name="Freeform 1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534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534d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673c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673c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673c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3673c"/>
                </a:solidFill>
                <a:latin typeface="Arial"/>
              </a:rPr>
              <a:t>Example of a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33640" y="1643040"/>
          <a:ext cx="7402320" cy="3265560"/>
        </p:xfrm>
        <a:graphic>
          <a:graphicData uri="http://schemas.openxmlformats.org/drawingml/2006/table">
            <a:tbl>
              <a:tblPr/>
              <a:tblGrid>
                <a:gridCol w="3701880"/>
                <a:gridCol w="3700440"/>
              </a:tblGrid>
              <a:tr h="50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solidFill>
                      <a:srgbClr val="c3b29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solidFill>
                      <a:srgbClr val="c3b29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34d53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34d53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673c"/>
                      </a:solidFill>
                    </a:lnL>
                    <a:lnR w="5760">
                      <a:solidFill>
                        <a:srgbClr val="53673c"/>
                      </a:solidFill>
                    </a:lnR>
                    <a:lnT w="5760">
                      <a:solidFill>
                        <a:srgbClr val="53673c"/>
                      </a:solidFill>
                    </a:lnT>
                    <a:lnB w="5760">
                      <a:solidFill>
                        <a:srgbClr val="53673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29"/>
          <p:cNvSpPr/>
          <p:nvPr/>
        </p:nvSpPr>
        <p:spPr>
          <a:xfrm>
            <a:off x="1784520" y="5091120"/>
            <a:ext cx="6165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34d53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534d53"/>
                </a:solidFill>
                <a:latin typeface="Arial"/>
                <a:ea typeface="Arial"/>
              </a:rPr>
              <a:t>PowerPoint does not allow you to have nice </a:t>
            </a:r>
            <a:br>
              <a:rPr sz="1800"/>
            </a:br>
            <a:r>
              <a:rPr b="0" lang="en-GB" sz="1800" spc="-1" strike="noStrike">
                <a:solidFill>
                  <a:srgbClr val="534d53"/>
                </a:solidFill>
                <a:latin typeface="Arial"/>
                <a:ea typeface="Arial"/>
              </a:rPr>
              <a:t>default tables - but you can cut and paste this one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903320" y="3706920"/>
            <a:ext cx="5646960" cy="1814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3673c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8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34d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34d53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19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19555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96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896a9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446800" y="17812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800"/>
                <a:gridCol w="15858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534d53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34d53"/>
                      </a:solidFill>
                    </a:lnL>
                    <a:lnR w="5760">
                      <a:solidFill>
                        <a:srgbClr val="534d53"/>
                      </a:solidFill>
                    </a:lnR>
                    <a:lnT w="13680">
                      <a:solidFill>
                        <a:srgbClr val="534d53"/>
                      </a:solidFill>
                    </a:lnT>
                    <a:lnB w="5760">
                      <a:solidFill>
                        <a:srgbClr val="534d5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34d53"/>
                      </a:solidFill>
                    </a:lnL>
                    <a:lnR w="13680">
                      <a:solidFill>
                        <a:srgbClr val="534d53"/>
                      </a:solidFill>
                    </a:lnR>
                    <a:lnT w="13680">
                      <a:solidFill>
                        <a:srgbClr val="534d53"/>
                      </a:solidFill>
                    </a:lnT>
                    <a:lnB w="5760">
                      <a:solidFill>
                        <a:srgbClr val="534d53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34d53"/>
                      </a:solidFill>
                    </a:lnL>
                    <a:lnR w="5760">
                      <a:solidFill>
                        <a:srgbClr val="534d53"/>
                      </a:solidFill>
                    </a:lnR>
                    <a:lnT w="5760">
                      <a:solidFill>
                        <a:srgbClr val="534d53"/>
                      </a:solidFill>
                    </a:lnT>
                    <a:lnB w="13680">
                      <a:solidFill>
                        <a:srgbClr val="534d5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34d5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34d53"/>
                      </a:solidFill>
                    </a:lnL>
                    <a:lnR w="13680">
                      <a:solidFill>
                        <a:srgbClr val="534d53"/>
                      </a:solidFill>
                    </a:lnR>
                    <a:lnT w="5760">
                      <a:solidFill>
                        <a:srgbClr val="534d53"/>
                      </a:solidFill>
                    </a:lnT>
                    <a:lnB w="13680">
                      <a:solidFill>
                        <a:srgbClr val="534d5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5"/>
          <p:cNvSpPr/>
          <p:nvPr/>
        </p:nvSpPr>
        <p:spPr>
          <a:xfrm>
            <a:off x="2101680" y="3897360"/>
            <a:ext cx="2232360" cy="1368360"/>
          </a:xfrm>
          <a:prstGeom prst="rect">
            <a:avLst/>
          </a:prstGeom>
          <a:solidFill>
            <a:srgbClr val="c3b29d"/>
          </a:solidFill>
          <a:ln w="9360">
            <a:solidFill>
              <a:srgbClr val="534d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4d53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4981680" y="3897360"/>
            <a:ext cx="2232000" cy="1368360"/>
          </a:xfrm>
          <a:prstGeom prst="rect">
            <a:avLst/>
          </a:prstGeom>
          <a:solidFill>
            <a:srgbClr val="c3b29d"/>
          </a:solidFill>
          <a:ln w="9360">
            <a:solidFill>
              <a:srgbClr val="534d53"/>
            </a:solidFill>
            <a:miter/>
          </a:ln>
          <a:effectLst>
            <a:outerShdw dist="107932" dir="2700000" blurRad="0" rotWithShape="0">
              <a:srgbClr val="52576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4d53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4d53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534d5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王玉清</cp:lastModifiedBy>
  <dcterms:modified xsi:type="dcterms:W3CDTF">2016-03-02T07:30:30Z</dcterms:modified>
  <cp:revision>82</cp:revision>
  <dc:subject/>
  <dc:title>Sheep template</dc:title>
</cp:coreProperties>
</file>