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explode.wav" ContentType="audio/x-wav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34C-6C80-4054-8434-C626D935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220-D3F4-4308-AD36-80D3A499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AF1-6020-4EBF-A422-4A2398B6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0B9-7EB4-4A5C-A4EF-98723AAB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D75-8C8B-4C97-A840-21BB9E53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F21F-4E90-4D00-9A80-10ED49E8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F6B-FEB0-408E-A491-193C7380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66B8-AF6B-4A55-8689-91372825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B0A-5217-47EC-B84C-A4D2685B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D06-13ED-46F8-B701-E4D5CBD3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DF2-49F8-45C4-830A-87C354F3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61E-2803-4DEE-A194-9DA1B9A2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7AE0-C022-42A9-BEF3-C369EEEB7F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9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d1e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2431440" y="549360"/>
            <a:ext cx="470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云之上动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d1e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:\书终稿\宣传\PPT立体图1.png"/>
          <p:cNvPicPr/>
          <p:nvPr/>
        </p:nvPicPr>
        <p:blipFill>
          <a:blip r:embed="rId1"/>
          <a:stretch/>
        </p:blipFill>
        <p:spPr>
          <a:xfrm>
            <a:off x="3471840" y="2077920"/>
            <a:ext cx="2500200" cy="32403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new尘2.png"/>
          <p:cNvPicPr/>
          <p:nvPr/>
        </p:nvPicPr>
        <p:blipFill>
          <a:blip r:embed="rId2"/>
          <a:stretch/>
        </p:blipFill>
        <p:spPr>
          <a:xfrm>
            <a:off x="3255840" y="4152960"/>
            <a:ext cx="3429000" cy="18684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1" descr="尘1-1.png"/>
          <p:cNvPicPr/>
          <p:nvPr/>
        </p:nvPicPr>
        <p:blipFill>
          <a:blip r:embed="rId3"/>
          <a:stretch/>
        </p:blipFill>
        <p:spPr>
          <a:xfrm>
            <a:off x="3090960" y="4726080"/>
            <a:ext cx="3544920" cy="11826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2" descr="new尘3.png"/>
          <p:cNvPicPr/>
          <p:nvPr/>
        </p:nvPicPr>
        <p:blipFill>
          <a:blip r:embed="rId4"/>
          <a:stretch/>
        </p:blipFill>
        <p:spPr>
          <a:xfrm>
            <a:off x="2179800" y="3078000"/>
            <a:ext cx="4489200" cy="24750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3" descr="new尘4-1.png"/>
          <p:cNvPicPr/>
          <p:nvPr/>
        </p:nvPicPr>
        <p:blipFill>
          <a:blip r:embed="rId5"/>
          <a:stretch/>
        </p:blipFill>
        <p:spPr>
          <a:xfrm>
            <a:off x="1305000" y="2994120"/>
            <a:ext cx="4562280" cy="2914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4" descr="new尘4.png"/>
          <p:cNvPicPr/>
          <p:nvPr/>
        </p:nvPicPr>
        <p:blipFill>
          <a:blip r:embed="rId6"/>
          <a:stretch/>
        </p:blipFill>
        <p:spPr>
          <a:xfrm>
            <a:off x="2933640" y="3630600"/>
            <a:ext cx="3954600" cy="220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7"/>
          <a:stretch/>
        </p:blipFill>
        <p:spPr>
          <a:xfrm>
            <a:off x="324000" y="347760"/>
            <a:ext cx="981000" cy="64584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69435 L 4.72222E-006 7.22445E-007 E">
                                      <p:cBhvr>
                                        <p:cTn id="8" dur="3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5" dur="1500" fill="hold"/>
                                        <p:tgtEl>
                                          <p:spTgt spid="45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17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7" dur="1500" fill="hold"/>
                                        <p:tgtEl>
                                          <p:spTgt spid="44"/>
                                        </p:tgtEl>
                                      </p:cBhvr>
                                      <p:to x="900000" y="9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170"/>
                                  </p:stCondLst>
                                  <p:childTnLst>
                                    <p:animScale>
                                      <p:cBhvr>
                                        <p:cTn id="39" dur="1500" fill="hold"/>
                                        <p:tgtEl>
                                          <p:spTgt spid="46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>
                                  <p:stCondLst>
                                    <p:cond delay="170"/>
                                  </p:stCondLst>
                                  <p:childTnLst>
                                    <p:animScale>
                                      <p:cBhvr>
                                        <p:cTn id="41" dur="1500" fill="hold"/>
                                        <p:tgtEl>
                                          <p:spTgt spid="48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170"/>
                                  </p:stCondLst>
                                  <p:childTnLst>
                                    <p:animScale>
                                      <p:cBhvr>
                                        <p:cTn id="43" dur="1500" fill="hold"/>
                                        <p:tgtEl>
                                          <p:spTgt spid="47"/>
                                        </p:tgtEl>
                                      </p:cBhvr>
                                      <p:to x="700000" y="700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127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127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127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167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1170"/>
                                  </p:stCondLst>
                                  <p:childTnLst>
                                    <p:animMotion origin="layout" path="M -1.66667E-006 -1.35761E-007 L -0.15087 -0.14131 E">
                                      <p:cBhvr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d1e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2830680"/>
            <a:ext cx="7988040" cy="13903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7" descr="new尘2.png"/>
          <p:cNvPicPr/>
          <p:nvPr/>
        </p:nvPicPr>
        <p:blipFill>
          <a:blip r:embed="rId2"/>
          <a:stretch/>
        </p:blipFill>
        <p:spPr>
          <a:xfrm>
            <a:off x="3255840" y="3362400"/>
            <a:ext cx="3429000" cy="18684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1" descr="尘1-1.png"/>
          <p:cNvPicPr/>
          <p:nvPr/>
        </p:nvPicPr>
        <p:blipFill>
          <a:blip r:embed="rId3"/>
          <a:stretch/>
        </p:blipFill>
        <p:spPr>
          <a:xfrm>
            <a:off x="3090960" y="4726080"/>
            <a:ext cx="3544920" cy="11826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2" descr="new尘3.png"/>
          <p:cNvPicPr/>
          <p:nvPr/>
        </p:nvPicPr>
        <p:blipFill>
          <a:blip r:embed="rId4"/>
          <a:stretch/>
        </p:blipFill>
        <p:spPr>
          <a:xfrm>
            <a:off x="2179800" y="2287440"/>
            <a:ext cx="4489200" cy="24768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3" descr="new尘4-1.png"/>
          <p:cNvPicPr/>
          <p:nvPr/>
        </p:nvPicPr>
        <p:blipFill>
          <a:blip r:embed="rId5"/>
          <a:stretch/>
        </p:blipFill>
        <p:spPr>
          <a:xfrm>
            <a:off x="1305000" y="2203560"/>
            <a:ext cx="4562280" cy="2914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4" descr="new尘4.png"/>
          <p:cNvPicPr/>
          <p:nvPr/>
        </p:nvPicPr>
        <p:blipFill>
          <a:blip r:embed="rId6"/>
          <a:stretch/>
        </p:blipFill>
        <p:spPr>
          <a:xfrm>
            <a:off x="2933640" y="2841480"/>
            <a:ext cx="3954600" cy="2205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7"/>
          <a:stretch/>
        </p:blipFill>
        <p:spPr>
          <a:xfrm>
            <a:off x="324000" y="333360"/>
            <a:ext cx="981000" cy="64620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69435 L 4.72222E-006 7.22445E-007 E">
                                      <p:cBhvr>
                                        <p:cTn id="75" dur="3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7" dur="1500" fill="hold"/>
                                        <p:tgtEl>
                                          <p:spTgt spid="52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99" dur="1300" fill="hold"/>
                                        <p:tgtEl>
                                          <p:spTgt spid="51"/>
                                        </p:tgtEl>
                                      </p:cBhvr>
                                      <p:to x="900000" y="90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1" dur="1300" fill="hold"/>
                                        <p:tgtEl>
                                          <p:spTgt spid="53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3" dur="1300" fill="hold"/>
                                        <p:tgtEl>
                                          <p:spTgt spid="55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5" dur="1400" fill="hold"/>
                                        <p:tgtEl>
                                          <p:spTgt spid="54"/>
                                        </p:tgtEl>
                                      </p:cBhvr>
                                      <p:to x="700000" y="70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9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9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9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56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1.66667E-006 -1.35761E-007 L -0.15087 -0.14131 E">
                                      <p:cBhvr>
                                        <p:cTn id="122" dur="9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d1e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7" descr="new尘2.png"/>
          <p:cNvPicPr/>
          <p:nvPr/>
        </p:nvPicPr>
        <p:blipFill>
          <a:blip r:embed="rId1"/>
          <a:stretch/>
        </p:blipFill>
        <p:spPr>
          <a:xfrm>
            <a:off x="3255840" y="3776760"/>
            <a:ext cx="3429000" cy="18684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" descr="尘1-1.png"/>
          <p:cNvPicPr/>
          <p:nvPr/>
        </p:nvPicPr>
        <p:blipFill>
          <a:blip r:embed="rId2"/>
          <a:stretch/>
        </p:blipFill>
        <p:spPr>
          <a:xfrm>
            <a:off x="3090960" y="4726080"/>
            <a:ext cx="3544920" cy="11826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2" descr="new尘3.png"/>
          <p:cNvPicPr/>
          <p:nvPr/>
        </p:nvPicPr>
        <p:blipFill>
          <a:blip r:embed="rId3"/>
          <a:stretch/>
        </p:blipFill>
        <p:spPr>
          <a:xfrm>
            <a:off x="2179800" y="2701800"/>
            <a:ext cx="4489200" cy="24768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3" descr="new尘4-1.png"/>
          <p:cNvPicPr/>
          <p:nvPr/>
        </p:nvPicPr>
        <p:blipFill>
          <a:blip r:embed="rId4"/>
          <a:stretch/>
        </p:blipFill>
        <p:spPr>
          <a:xfrm>
            <a:off x="1305000" y="2617920"/>
            <a:ext cx="4562280" cy="29145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4" descr="new尘4.png"/>
          <p:cNvPicPr/>
          <p:nvPr/>
        </p:nvPicPr>
        <p:blipFill>
          <a:blip r:embed="rId5"/>
          <a:stretch/>
        </p:blipFill>
        <p:spPr>
          <a:xfrm>
            <a:off x="2933640" y="3255840"/>
            <a:ext cx="3954600" cy="2205000"/>
          </a:xfrm>
          <a:prstGeom prst="rect">
            <a:avLst/>
          </a:prstGeom>
          <a:ln w="0">
            <a:noFill/>
          </a:ln>
        </p:spPr>
      </p:pic>
      <p:sp>
        <p:nvSpPr>
          <p:cNvPr id="6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000">
    <p:blinds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53" dur="1500" fill="hold"/>
                                        <p:tgtEl>
                                          <p:spTgt spid="58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55" dur="1300" fill="hold"/>
                                        <p:tgtEl>
                                          <p:spTgt spid="57"/>
                                        </p:tgtEl>
                                      </p:cBhvr>
                                      <p:to x="900000" y="900000"/>
                                    </p:animScale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57" dur="1300" fill="hold"/>
                                        <p:tgtEl>
                                          <p:spTgt spid="59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59" dur="1300" fill="hold"/>
                                        <p:tgtEl>
                                          <p:spTgt spid="61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61" dur="1400" fill="hold"/>
                                        <p:tgtEl>
                                          <p:spTgt spid="60"/>
                                        </p:tgtEl>
                                      </p:cBhvr>
                                      <p:to x="700000" y="7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9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9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9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56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1.66667E-006 -1.35761E-007 L -0.15087 -0.14131 E">
                                      <p:cBhvr>
                                        <p:cTn id="178" dur="9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03:48:32Z</dcterms:created>
  <dc:creator>Paralife</dc:creator>
  <dc:description/>
  <cp:keywords/>
  <dc:language>en-US</dc:language>
  <cp:lastModifiedBy>王玉清</cp:lastModifiedBy>
  <cp:lastPrinted>1899-12-30T00:00:00Z</cp:lastPrinted>
  <dcterms:modified xsi:type="dcterms:W3CDTF">2016-02-16T09:10:57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