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AD1-2569-44FA-A812-AE375323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9FE-2F84-4D47-A215-3C17898A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16307-8BD0-4DAA-8BFE-0D34E3A8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D2250-F94B-4D37-A9B3-2DA7177D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BFA75-41F2-4746-8EF6-447ACE70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5BB9E-3DE5-4BCF-868B-0A19CEC0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A3540-8E86-4C1D-8BB7-1CAE1CD3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CB020-2B3B-4C94-8D70-EF033815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C0213-EDB5-4A08-A260-C52E505E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99D2B-55C7-4433-86C8-EB39BEE5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2E273-B360-49AC-96ED-9CC26A56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98ED9-8654-4444-986C-2B3BA19F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C88-55AC-4AAE-8578-89237E53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5260B-4E75-4909-BE0F-CFA61FBC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456D1-3765-41FA-8452-E2F2D577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15943-00CD-48B1-9305-885E88D1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99760-01CD-46CD-A3F8-32C4A58A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B9F20-1A6A-4E90-9619-1B326B0F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D77CE-F8CF-4BA5-9748-6A89BF7C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F3F02-8AFC-4C93-99BA-1D6689E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AC7D1-0D3B-4FCE-81C6-D94F22EB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78C71-33F0-4F66-8390-15D73DC4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3A427-7C99-49A6-945E-D68E13F6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0ED-0E6E-4794-8F69-AE9449D7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4D8D5-F98D-45CA-8A75-3E784222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85985-4471-44A2-9475-CFB63D49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54288-992F-4B78-A15F-6F680DBB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0660D-BD38-4C01-8301-94BDC7BC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19E76-E04A-4D76-989B-499ADA9A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0EAAE-E84D-40B7-A338-08D07538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73826-C996-4F30-8F82-ED7B6693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D5FE3-55D5-4A0F-A438-4B234D13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825B0-FDEE-4FA3-9CBC-665C6A3B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47771-8897-40E1-B12E-597CA2BE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7771-9D75-4DC0-8CAB-95FC2BC1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EA93F-7FA0-4738-9922-07300608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96C9A-EF73-47F4-8FED-4BA10053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59782-3CD1-49E6-9100-2E07C011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D8529-3822-4750-8AE8-2DA5AEAA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E4123-B6E0-44DA-A0D7-DD1A3D80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1F74E-0DE9-485B-97E0-EF8FC9E5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AEF3B-F975-4DEA-9AEF-5C376AE2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41D73-5FF2-4144-8CB1-F9ED3752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9FD24-4F3A-4F21-8B6D-4064BE79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0C0DA-51CA-433C-AE01-1AE17ED5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5D71-5C0E-461D-BABF-D6B3DA07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24C69-AF68-49BC-97EC-9C12FC5D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B1465-A09A-4626-B6B7-6615B2F9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CF656-8A5C-4573-A94F-5BF2D2C4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7C677-FC52-4968-8F45-BE0935A1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FA620-3D70-4386-AB91-16BF1FBD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C775-AF0B-44A9-A4E6-C5C2E6FE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5277-E79F-475D-A4B2-2611C59E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0D0C-583C-4F4E-B23F-C1801B72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EF31-1D21-4AA4-A2AB-7BA18C7E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5B18-94D7-4AE3-B023-8AFF1278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CE3-4075-491D-9864-ABD20ACB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737F-E060-4944-8F98-ACACB2D1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7DA3-7BDE-4821-9623-4F23A4AE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7818-A31F-4B01-8326-987E61A3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6C0B-2E55-444A-93FE-2839C6D1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9900-E3CB-4224-8669-BBC82498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84EF-F413-4B5F-8CEF-BFC115CE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7A50-DCDD-429A-BF98-567E9800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EC949-D632-4FFC-9136-D6602816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F2D2-6806-4E07-8426-16B4EC2B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2182F-6CFF-49BA-81F8-B5610D87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FD8-54E4-4F0D-9DB2-A8F782AB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7F49-C403-419C-AD1B-AADD3080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AB19-631E-49DE-B813-5E9F97AA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D7C9-6C90-450C-858A-3FAB06DF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5510-EEED-4E97-B465-3F615F19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E886D-17C6-432E-9443-9198FE6B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8E8D-A114-4EDA-93FF-69C87B2A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D4E6E-313F-4935-95BD-717204EA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13FE0-231F-41FA-A593-40196CC2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85AE4-A8C9-4FEC-BB38-97786F76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605A4-E82A-4378-BF58-50F520D8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A4C-6932-41B6-BF0F-ACA92A4C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3894A-E1FB-4A5E-A078-AABB89FE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429A5-AFB8-4A01-A72E-BABFDC9F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57800-C7AA-450D-8EB7-3A923858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4B29C-F378-46C4-9110-1F6DDC07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66D61-B53E-49B5-B270-97C7A01A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976C-C42A-4243-8145-2F623A8A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4887A-CADE-4E75-A5AE-5BE88866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A62E7-7A1C-476E-99AA-E72D4D65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2E8C2-D511-4DB4-86B2-2DEF09A3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BEFBD-6D62-4E9E-8149-E31C5E73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776-F664-4782-8112-2D043DB1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8390E-CE11-4A48-905A-EDE21988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5488-725A-4FD4-8421-A2D2B9FD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57567-F616-4273-833E-AD28C3A6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4DE0A-6E1F-4C6C-BFC5-2020DD90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45154-7D25-404A-852A-275C6DA4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C571B-13F4-4E0A-92A7-FA00AE8D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3A285-D10C-43BA-925D-7AF8C0D1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73199-37CA-435A-9A20-7B098517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748BF-4B7A-4EC1-98CE-0B524825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10B6D-45F2-4C6F-B645-92A25935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B2D-01EF-4340-9778-490A7C8E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599C3-FECE-4185-A111-7D99905C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22692-2830-4DBD-8D53-AA9C6808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0F4F8-96DE-4518-8640-D6019D64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1A60F-2DCC-432E-B0E4-5DE36684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0F63F-F04E-45A0-8AED-6F53F4BD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CF39E-F1E1-4863-8380-2FF822DE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024E5-3262-44A6-9A84-7C5DBD57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42936-FB01-4CC3-853D-F36E5A69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2DC30-1F17-4758-8107-ADEF739E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CDD37-A0CD-4755-82EE-7C04448A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50E-F85C-4EAC-B3A4-9E71CFCE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4DAA7-259E-48FE-AC47-10D8E20D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11928-36E3-470D-A00A-B3B5AE0E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04DAD-DC53-498E-A5D0-517F5BF7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3D311-56B0-49C1-98B4-01E78F38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1621A-B05B-4E80-9E47-EFB940F0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AC116-8A30-4D43-BDAD-14F2C013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7F9BC-10EE-47DB-82F5-CE069886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5C5C9-1C97-4EA6-A398-2DD6EE78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D151B-0DE9-4875-93CF-0740C9EF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63C48-53BD-44D3-A24D-A898D1F0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749-D4E7-466A-A813-CAF85D96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94A89-6D7F-4DB1-BF20-B2E10F1A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DF8F6-9A84-43E0-9E15-B67DBC83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E8FCA-068C-4ED7-951E-9420CEDB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25EB0-4D87-44FE-B0EA-D90F5A3F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0E318-C7F9-482C-9FBA-0E7481F4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17F07-3138-4E7D-A32B-F987871F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CE644-8ECA-4EFE-B6E0-FE4BBE22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18CF4-EDFB-4C75-A4CB-D8B0E928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0CEEB-C7EC-4ECD-A83B-75D98283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D4AB8-22F5-4C23-92E2-515899FA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CD1-EC82-4EC6-B975-B9B7814F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7069A-9B82-4CB0-BF85-316856C6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58620-DA76-4EB2-860A-7C3F1F62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AC0AF-D57C-42F4-A1DA-57FC1062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F17F7-D2E9-4AB7-95D6-ACDF5034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2A62E-6F1D-40F6-A1B2-7A7B761D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20E4B-50B2-4027-8E5E-039F0616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39FF7-74BD-4E21-81C6-C106F3D2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64139-198C-4C51-95BA-8C5A1DA3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3A220-EFAA-434A-8860-AB37DB25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81800-4D85-4197-AE00-C663C904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79A9-A331-4AA3-A700-4F0211D1E4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262B-BAD3-4287-8865-62DD782775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2C70-D841-4E90-AFB4-4C2CC4EC7AA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DA8D-7A15-4551-A1DB-9B364E6B37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369B-10E7-4604-A014-1B7B5734ECD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AB2F-F67F-4754-8481-69FEA00B3C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6737-32C8-465F-BF23-431F4988CA0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458F-EFC8-4C11-B805-6BCA4268FC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36DB-417B-446F-9FF2-4A162DD402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4E58-219D-4533-98A4-F63DC01BF8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0E8E-70A6-4C63-B255-2F32E0BD889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52BC-8EAF-4C99-A8D6-82A2DC2EA1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AE89-ADAB-41D6-BB87-99776708A8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BEE-28B4-471F-B7D7-1A8B19A7E9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B022-967F-4046-B397-05436C874BF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9E10-62E7-4B95-953E-29BFFC5655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FEBD-C62C-4186-95A4-781EBE54468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7139-0D6E-4B78-829F-8D5172EF57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0523-2BEC-4B32-8935-08E9A781117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934D-AAFE-4EFC-A6F6-C638917E42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214D-F3A4-452D-9812-7A1CF54A871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F089-3D3E-4C3F-AFD2-4DDF17EBD6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1B46-8985-4361-AD77-5BA51052486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30F5-F92A-4407-9F36-06F9A03289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zhongguofeng/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hyperlink" Target="http://www.eeppt.com/moban/zhongguofeng/" TargetMode="Externa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93" name="TextBox 6"/>
          <p:cNvSpPr/>
          <p:nvPr/>
        </p:nvSpPr>
        <p:spPr>
          <a:xfrm>
            <a:off x="880920" y="1376280"/>
            <a:ext cx="73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炫丽彩带动态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2214720" y="2171880"/>
            <a:ext cx="4302000" cy="704520"/>
            <a:chOff x="2214720" y="2171880"/>
            <a:chExt cx="4302000" cy="704520"/>
          </a:xfrm>
        </p:grpSpPr>
        <p:grpSp>
          <p:nvGrpSpPr>
            <p:cNvPr id="496" name="Group 3"/>
            <p:cNvGrpSpPr/>
            <p:nvPr/>
          </p:nvGrpSpPr>
          <p:grpSpPr>
            <a:xfrm>
              <a:off x="2214720" y="2414880"/>
              <a:ext cx="4302000" cy="461520"/>
              <a:chOff x="2214720" y="2414880"/>
              <a:chExt cx="4302000" cy="461520"/>
            </a:xfrm>
          </p:grpSpPr>
          <p:sp>
            <p:nvSpPr>
              <p:cNvPr id="497" name="矩形 3"/>
              <p:cNvSpPr/>
              <p:nvPr/>
            </p:nvSpPr>
            <p:spPr>
              <a:xfrm rot="10800000">
                <a:off x="2214720" y="2414520"/>
                <a:ext cx="4302000" cy="461520"/>
              </a:xfrm>
              <a:prstGeom prst="rect">
                <a:avLst/>
              </a:prstGeom>
              <a:solidFill>
                <a:srgbClr val="ed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8" name="Picture 2" descr=""/>
              <p:cNvPicPr/>
              <p:nvPr/>
            </p:nvPicPr>
            <p:blipFill>
              <a:blip r:embed="rId1"/>
              <a:stretch/>
            </p:blipFill>
            <p:spPr>
              <a:xfrm rot="10800000">
                <a:off x="2214720" y="241488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9" name="TextBox 11"/>
            <p:cNvSpPr/>
            <p:nvPr/>
          </p:nvSpPr>
          <p:spPr>
            <a:xfrm>
              <a:off x="3708000" y="24534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Box 12"/>
            <p:cNvSpPr/>
            <p:nvPr/>
          </p:nvSpPr>
          <p:spPr>
            <a:xfrm>
              <a:off x="2483640" y="217188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8"/>
          <p:cNvGrpSpPr/>
          <p:nvPr/>
        </p:nvGrpSpPr>
        <p:grpSpPr>
          <a:xfrm>
            <a:off x="2214720" y="3029040"/>
            <a:ext cx="4302000" cy="704880"/>
            <a:chOff x="2214720" y="3029040"/>
            <a:chExt cx="4302000" cy="704880"/>
          </a:xfrm>
        </p:grpSpPr>
        <p:grpSp>
          <p:nvGrpSpPr>
            <p:cNvPr id="502" name="Group 9"/>
            <p:cNvGrpSpPr/>
            <p:nvPr/>
          </p:nvGrpSpPr>
          <p:grpSpPr>
            <a:xfrm>
              <a:off x="2214720" y="3272400"/>
              <a:ext cx="4302000" cy="461520"/>
              <a:chOff x="2214720" y="3272400"/>
              <a:chExt cx="4302000" cy="461520"/>
            </a:xfrm>
          </p:grpSpPr>
          <p:sp>
            <p:nvSpPr>
              <p:cNvPr id="503" name="矩形 22"/>
              <p:cNvSpPr/>
              <p:nvPr/>
            </p:nvSpPr>
            <p:spPr>
              <a:xfrm rot="10800000">
                <a:off x="2214720" y="3272400"/>
                <a:ext cx="4302000" cy="461520"/>
              </a:xfrm>
              <a:prstGeom prst="rect">
                <a:avLst/>
              </a:prstGeom>
              <a:solidFill>
                <a:srgbClr val="036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4" name="Picture 2" descr=""/>
              <p:cNvPicPr/>
              <p:nvPr/>
            </p:nvPicPr>
            <p:blipFill>
              <a:blip r:embed="rId2"/>
              <a:stretch/>
            </p:blipFill>
            <p:spPr>
              <a:xfrm rot="10800000">
                <a:off x="2214720" y="327240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5" name="TextBox 20"/>
            <p:cNvSpPr/>
            <p:nvPr/>
          </p:nvSpPr>
          <p:spPr>
            <a:xfrm>
              <a:off x="3708000" y="33109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1"/>
            <p:cNvSpPr/>
            <p:nvPr/>
          </p:nvSpPr>
          <p:spPr>
            <a:xfrm>
              <a:off x="2483640" y="302904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14"/>
          <p:cNvGrpSpPr/>
          <p:nvPr/>
        </p:nvGrpSpPr>
        <p:grpSpPr>
          <a:xfrm>
            <a:off x="2214720" y="3884760"/>
            <a:ext cx="4302000" cy="704880"/>
            <a:chOff x="2214720" y="3884760"/>
            <a:chExt cx="4302000" cy="704880"/>
          </a:xfrm>
        </p:grpSpPr>
        <p:grpSp>
          <p:nvGrpSpPr>
            <p:cNvPr id="508" name="Group 15"/>
            <p:cNvGrpSpPr/>
            <p:nvPr/>
          </p:nvGrpSpPr>
          <p:grpSpPr>
            <a:xfrm>
              <a:off x="2214720" y="4128120"/>
              <a:ext cx="4302000" cy="461520"/>
              <a:chOff x="2214720" y="4128120"/>
              <a:chExt cx="4302000" cy="461520"/>
            </a:xfrm>
          </p:grpSpPr>
          <p:sp>
            <p:nvSpPr>
              <p:cNvPr id="509" name="矩形 28"/>
              <p:cNvSpPr/>
              <p:nvPr/>
            </p:nvSpPr>
            <p:spPr>
              <a:xfrm rot="10800000">
                <a:off x="2214720" y="4128120"/>
                <a:ext cx="4302000" cy="461520"/>
              </a:xfrm>
              <a:prstGeom prst="rect">
                <a:avLst/>
              </a:prstGeom>
              <a:solidFill>
                <a:srgbClr val="2b3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0" name="Picture 2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214720" y="412812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1" name="TextBox 26"/>
            <p:cNvSpPr/>
            <p:nvPr/>
          </p:nvSpPr>
          <p:spPr>
            <a:xfrm>
              <a:off x="3708000" y="4166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7"/>
            <p:cNvSpPr/>
            <p:nvPr/>
          </p:nvSpPr>
          <p:spPr>
            <a:xfrm>
              <a:off x="2483640" y="388476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2214720" y="4740120"/>
            <a:ext cx="4302000" cy="704880"/>
            <a:chOff x="2214720" y="4740120"/>
            <a:chExt cx="4302000" cy="704880"/>
          </a:xfrm>
        </p:grpSpPr>
        <p:grpSp>
          <p:nvGrpSpPr>
            <p:cNvPr id="514" name="Group 21"/>
            <p:cNvGrpSpPr/>
            <p:nvPr/>
          </p:nvGrpSpPr>
          <p:grpSpPr>
            <a:xfrm>
              <a:off x="2214720" y="4983480"/>
              <a:ext cx="4302000" cy="461520"/>
              <a:chOff x="2214720" y="4983480"/>
              <a:chExt cx="4302000" cy="461520"/>
            </a:xfrm>
          </p:grpSpPr>
          <p:sp>
            <p:nvSpPr>
              <p:cNvPr id="515" name="矩形 34"/>
              <p:cNvSpPr/>
              <p:nvPr/>
            </p:nvSpPr>
            <p:spPr>
              <a:xfrm rot="10800000">
                <a:off x="2214720" y="4983480"/>
                <a:ext cx="4302000" cy="461520"/>
              </a:xfrm>
              <a:prstGeom prst="rect">
                <a:avLst/>
              </a:prstGeom>
              <a:solidFill>
                <a:srgbClr val="31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" name="Picture 2" descr=""/>
              <p:cNvPicPr/>
              <p:nvPr/>
            </p:nvPicPr>
            <p:blipFill>
              <a:blip r:embed="rId4"/>
              <a:stretch/>
            </p:blipFill>
            <p:spPr>
              <a:xfrm rot="10800000">
                <a:off x="2214720" y="498348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7" name="TextBox 32"/>
            <p:cNvSpPr/>
            <p:nvPr/>
          </p:nvSpPr>
          <p:spPr>
            <a:xfrm>
              <a:off x="3708000" y="50220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33"/>
            <p:cNvSpPr/>
            <p:nvPr/>
          </p:nvSpPr>
          <p:spPr>
            <a:xfrm>
              <a:off x="2483640" y="474012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6"/>
          <p:cNvGrpSpPr/>
          <p:nvPr/>
        </p:nvGrpSpPr>
        <p:grpSpPr>
          <a:xfrm>
            <a:off x="7245360" y="0"/>
            <a:ext cx="1879560" cy="1413000"/>
            <a:chOff x="7245360" y="0"/>
            <a:chExt cx="1879560" cy="1413000"/>
          </a:xfrm>
        </p:grpSpPr>
        <p:pic>
          <p:nvPicPr>
            <p:cNvPr id="520" name="Picture 4" descr=""/>
            <p:cNvPicPr/>
            <p:nvPr/>
          </p:nvPicPr>
          <p:blipFill>
            <a:blip r:embed="rId5"/>
            <a:srcRect l="0" t="0" r="0" b="5869"/>
            <a:stretch/>
          </p:blipFill>
          <p:spPr>
            <a:xfrm>
              <a:off x="7245360" y="0"/>
              <a:ext cx="1879560" cy="132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椭圆 2057"/>
            <p:cNvSpPr/>
            <p:nvPr/>
          </p:nvSpPr>
          <p:spPr>
            <a:xfrm>
              <a:off x="7688160" y="1196640"/>
              <a:ext cx="988560" cy="21636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Box 6"/>
          <p:cNvSpPr/>
          <p:nvPr/>
        </p:nvSpPr>
        <p:spPr>
          <a:xfrm>
            <a:off x="2708280" y="674640"/>
            <a:ext cx="32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目录设计一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30"/>
          <p:cNvGrpSpPr/>
          <p:nvPr/>
        </p:nvGrpSpPr>
        <p:grpSpPr>
          <a:xfrm>
            <a:off x="-360" y="475920"/>
            <a:ext cx="1879560" cy="1413000"/>
            <a:chOff x="-360" y="475920"/>
            <a:chExt cx="1879560" cy="1413000"/>
          </a:xfrm>
        </p:grpSpPr>
        <p:pic>
          <p:nvPicPr>
            <p:cNvPr id="524" name="Picture 4" descr=""/>
            <p:cNvPicPr/>
            <p:nvPr/>
          </p:nvPicPr>
          <p:blipFill>
            <a:blip r:embed="rId6"/>
            <a:srcRect l="0" t="0" r="0" b="5869"/>
            <a:stretch/>
          </p:blipFill>
          <p:spPr>
            <a:xfrm rot="10800000">
              <a:off x="-360" y="565200"/>
              <a:ext cx="1879560" cy="132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椭圆 52"/>
            <p:cNvSpPr/>
            <p:nvPr/>
          </p:nvSpPr>
          <p:spPr>
            <a:xfrm rot="10800000">
              <a:off x="447840" y="475920"/>
              <a:ext cx="988560" cy="21636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直接连接符 2064"/>
          <p:cNvSpPr/>
          <p:nvPr/>
        </p:nvSpPr>
        <p:spPr>
          <a:xfrm>
            <a:off x="1879560" y="923760"/>
            <a:ext cx="873000" cy="0"/>
          </a:xfrm>
          <a:prstGeom prst="line">
            <a:avLst/>
          </a:prstGeom>
          <a:ln w="9360">
            <a:solidFill>
              <a:srgbClr val="f695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2066"/>
          <p:cNvSpPr/>
          <p:nvPr/>
        </p:nvSpPr>
        <p:spPr>
          <a:xfrm>
            <a:off x="6012000" y="923760"/>
            <a:ext cx="1233360" cy="0"/>
          </a:xfrm>
          <a:prstGeom prst="line">
            <a:avLst/>
          </a:prstGeom>
          <a:ln w="9360">
            <a:solidFill>
              <a:srgbClr val="f695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6732720" y="5045040"/>
            <a:ext cx="2411280" cy="1812960"/>
            <a:chOff x="6732720" y="5045040"/>
            <a:chExt cx="2411280" cy="1812960"/>
          </a:xfrm>
        </p:grpSpPr>
        <p:pic>
          <p:nvPicPr>
            <p:cNvPr id="529" name="Picture 4" descr=""/>
            <p:cNvPicPr/>
            <p:nvPr/>
          </p:nvPicPr>
          <p:blipFill>
            <a:blip r:embed="rId1"/>
            <a:srcRect l="0" t="0" r="0" b="5868"/>
            <a:stretch/>
          </p:blipFill>
          <p:spPr>
            <a:xfrm>
              <a:off x="6732720" y="5045040"/>
              <a:ext cx="2411280" cy="16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椭圆 5"/>
            <p:cNvSpPr/>
            <p:nvPr/>
          </p:nvSpPr>
          <p:spPr>
            <a:xfrm>
              <a:off x="7300800" y="6580440"/>
              <a:ext cx="1268280" cy="27756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5"/>
          <p:cNvGrpSpPr/>
          <p:nvPr/>
        </p:nvGrpSpPr>
        <p:grpSpPr>
          <a:xfrm>
            <a:off x="2359080" y="1917720"/>
            <a:ext cx="4302000" cy="704880"/>
            <a:chOff x="2359080" y="1917720"/>
            <a:chExt cx="4302000" cy="704880"/>
          </a:xfrm>
        </p:grpSpPr>
        <p:grpSp>
          <p:nvGrpSpPr>
            <p:cNvPr id="532" name="Group 6"/>
            <p:cNvGrpSpPr/>
            <p:nvPr/>
          </p:nvGrpSpPr>
          <p:grpSpPr>
            <a:xfrm>
              <a:off x="2359080" y="2161080"/>
              <a:ext cx="4302000" cy="461520"/>
              <a:chOff x="2359080" y="2161080"/>
              <a:chExt cx="4302000" cy="461520"/>
            </a:xfrm>
          </p:grpSpPr>
          <p:sp>
            <p:nvSpPr>
              <p:cNvPr id="533" name="矩形 10"/>
              <p:cNvSpPr/>
              <p:nvPr/>
            </p:nvSpPr>
            <p:spPr>
              <a:xfrm rot="10800000">
                <a:off x="2359080" y="2160720"/>
                <a:ext cx="4302000" cy="461520"/>
              </a:xfrm>
              <a:prstGeom prst="rect">
                <a:avLst/>
              </a:prstGeom>
              <a:solidFill>
                <a:srgbClr val="ed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4" name="Picture 2" descr=""/>
              <p:cNvPicPr/>
              <p:nvPr/>
            </p:nvPicPr>
            <p:blipFill>
              <a:blip r:embed="rId2"/>
              <a:stretch/>
            </p:blipFill>
            <p:spPr>
              <a:xfrm rot="10800000">
                <a:off x="2359080" y="216108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5" name="TextBox 8"/>
            <p:cNvSpPr/>
            <p:nvPr/>
          </p:nvSpPr>
          <p:spPr>
            <a:xfrm>
              <a:off x="3852360" y="21996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9"/>
            <p:cNvSpPr/>
            <p:nvPr/>
          </p:nvSpPr>
          <p:spPr>
            <a:xfrm>
              <a:off x="2628000" y="191772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11"/>
          <p:cNvGrpSpPr/>
          <p:nvPr/>
        </p:nvGrpSpPr>
        <p:grpSpPr>
          <a:xfrm>
            <a:off x="2359080" y="2773440"/>
            <a:ext cx="4302000" cy="704880"/>
            <a:chOff x="2359080" y="2773440"/>
            <a:chExt cx="4302000" cy="704880"/>
          </a:xfrm>
        </p:grpSpPr>
        <p:grpSp>
          <p:nvGrpSpPr>
            <p:cNvPr id="538" name="Group 12"/>
            <p:cNvGrpSpPr/>
            <p:nvPr/>
          </p:nvGrpSpPr>
          <p:grpSpPr>
            <a:xfrm>
              <a:off x="2359080" y="3016800"/>
              <a:ext cx="4302000" cy="461520"/>
              <a:chOff x="2359080" y="3016800"/>
              <a:chExt cx="4302000" cy="461520"/>
            </a:xfrm>
          </p:grpSpPr>
          <p:sp>
            <p:nvSpPr>
              <p:cNvPr id="539" name="矩形 16"/>
              <p:cNvSpPr/>
              <p:nvPr/>
            </p:nvSpPr>
            <p:spPr>
              <a:xfrm rot="10800000">
                <a:off x="2359080" y="3016800"/>
                <a:ext cx="4302000" cy="461520"/>
              </a:xfrm>
              <a:prstGeom prst="rect">
                <a:avLst/>
              </a:prstGeom>
              <a:solidFill>
                <a:srgbClr val="036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0" name="Picture 2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359080" y="301680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1" name="TextBox 14"/>
            <p:cNvSpPr/>
            <p:nvPr/>
          </p:nvSpPr>
          <p:spPr>
            <a:xfrm>
              <a:off x="3852360" y="30553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15"/>
            <p:cNvSpPr/>
            <p:nvPr/>
          </p:nvSpPr>
          <p:spPr>
            <a:xfrm>
              <a:off x="2628000" y="277344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17"/>
          <p:cNvGrpSpPr/>
          <p:nvPr/>
        </p:nvGrpSpPr>
        <p:grpSpPr>
          <a:xfrm>
            <a:off x="2359080" y="3629160"/>
            <a:ext cx="4302000" cy="704880"/>
            <a:chOff x="2359080" y="3629160"/>
            <a:chExt cx="4302000" cy="704880"/>
          </a:xfrm>
        </p:grpSpPr>
        <p:grpSp>
          <p:nvGrpSpPr>
            <p:cNvPr id="544" name="Group 18"/>
            <p:cNvGrpSpPr/>
            <p:nvPr/>
          </p:nvGrpSpPr>
          <p:grpSpPr>
            <a:xfrm>
              <a:off x="2359080" y="3872520"/>
              <a:ext cx="4302000" cy="461520"/>
              <a:chOff x="2359080" y="3872520"/>
              <a:chExt cx="4302000" cy="461520"/>
            </a:xfrm>
          </p:grpSpPr>
          <p:sp>
            <p:nvSpPr>
              <p:cNvPr id="545" name="矩形 22"/>
              <p:cNvSpPr/>
              <p:nvPr/>
            </p:nvSpPr>
            <p:spPr>
              <a:xfrm rot="10800000">
                <a:off x="2359080" y="3872520"/>
                <a:ext cx="4302000" cy="461520"/>
              </a:xfrm>
              <a:prstGeom prst="rect">
                <a:avLst/>
              </a:prstGeom>
              <a:solidFill>
                <a:srgbClr val="2b3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6" name="Picture 2" descr=""/>
              <p:cNvPicPr/>
              <p:nvPr/>
            </p:nvPicPr>
            <p:blipFill>
              <a:blip r:embed="rId4"/>
              <a:stretch/>
            </p:blipFill>
            <p:spPr>
              <a:xfrm rot="10800000">
                <a:off x="2359080" y="387252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7" name="TextBox 20"/>
            <p:cNvSpPr/>
            <p:nvPr/>
          </p:nvSpPr>
          <p:spPr>
            <a:xfrm>
              <a:off x="3852360" y="39110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1"/>
            <p:cNvSpPr/>
            <p:nvPr/>
          </p:nvSpPr>
          <p:spPr>
            <a:xfrm>
              <a:off x="2628000" y="362916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3"/>
          <p:cNvGrpSpPr/>
          <p:nvPr/>
        </p:nvGrpSpPr>
        <p:grpSpPr>
          <a:xfrm>
            <a:off x="2359080" y="4484520"/>
            <a:ext cx="4302000" cy="704880"/>
            <a:chOff x="2359080" y="4484520"/>
            <a:chExt cx="4302000" cy="704880"/>
          </a:xfrm>
        </p:grpSpPr>
        <p:grpSp>
          <p:nvGrpSpPr>
            <p:cNvPr id="550" name="Group 24"/>
            <p:cNvGrpSpPr/>
            <p:nvPr/>
          </p:nvGrpSpPr>
          <p:grpSpPr>
            <a:xfrm>
              <a:off x="2359080" y="4727880"/>
              <a:ext cx="4302000" cy="461520"/>
              <a:chOff x="2359080" y="4727880"/>
              <a:chExt cx="4302000" cy="461520"/>
            </a:xfrm>
          </p:grpSpPr>
          <p:sp>
            <p:nvSpPr>
              <p:cNvPr id="551" name="矩形 28"/>
              <p:cNvSpPr/>
              <p:nvPr/>
            </p:nvSpPr>
            <p:spPr>
              <a:xfrm rot="10800000">
                <a:off x="2359080" y="4727880"/>
                <a:ext cx="4302000" cy="461520"/>
              </a:xfrm>
              <a:prstGeom prst="rect">
                <a:avLst/>
              </a:prstGeom>
              <a:solidFill>
                <a:srgbClr val="31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2" name="Picture 2" descr="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2359080" y="472788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3" name="TextBox 26"/>
            <p:cNvSpPr/>
            <p:nvPr/>
          </p:nvSpPr>
          <p:spPr>
            <a:xfrm>
              <a:off x="3852360" y="47664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27"/>
            <p:cNvSpPr/>
            <p:nvPr/>
          </p:nvSpPr>
          <p:spPr>
            <a:xfrm>
              <a:off x="2628000" y="448452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TextBox 30"/>
          <p:cNvSpPr/>
          <p:nvPr/>
        </p:nvSpPr>
        <p:spPr>
          <a:xfrm>
            <a:off x="449280" y="601560"/>
            <a:ext cx="32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目录设计二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-261000" y="5369400"/>
            <a:ext cx="2280960" cy="2234160"/>
            <a:chOff x="-261000" y="5369400"/>
            <a:chExt cx="2280960" cy="2234160"/>
          </a:xfrm>
        </p:grpSpPr>
        <p:pic>
          <p:nvPicPr>
            <p:cNvPr id="557" name="Picture 4" descr=""/>
            <p:cNvPicPr/>
            <p:nvPr/>
          </p:nvPicPr>
          <p:blipFill>
            <a:blip r:embed="rId1"/>
            <a:srcRect l="0" t="0" r="0" b="5869"/>
            <a:stretch/>
          </p:blipFill>
          <p:spPr>
            <a:xfrm rot="8306400">
              <a:off x="-57600" y="5824800"/>
              <a:ext cx="1874880" cy="132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椭圆 5"/>
            <p:cNvSpPr/>
            <p:nvPr/>
          </p:nvSpPr>
          <p:spPr>
            <a:xfrm rot="8306400">
              <a:off x="-37800" y="5895000"/>
              <a:ext cx="986040" cy="21636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5"/>
          <p:cNvGrpSpPr/>
          <p:nvPr/>
        </p:nvGrpSpPr>
        <p:grpSpPr>
          <a:xfrm>
            <a:off x="7056720" y="-780840"/>
            <a:ext cx="2277720" cy="2243160"/>
            <a:chOff x="7056720" y="-780840"/>
            <a:chExt cx="2277720" cy="2243160"/>
          </a:xfrm>
        </p:grpSpPr>
        <p:pic>
          <p:nvPicPr>
            <p:cNvPr id="560" name="Picture 4" descr=""/>
            <p:cNvPicPr/>
            <p:nvPr/>
          </p:nvPicPr>
          <p:blipFill>
            <a:blip r:embed="rId2"/>
            <a:srcRect l="0" t="0" r="0" b="5869"/>
            <a:stretch/>
          </p:blipFill>
          <p:spPr>
            <a:xfrm rot="19048800">
              <a:off x="7254720" y="-318240"/>
              <a:ext cx="1881360" cy="131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椭圆 8"/>
            <p:cNvSpPr/>
            <p:nvPr/>
          </p:nvSpPr>
          <p:spPr>
            <a:xfrm rot="19048800">
              <a:off x="8131680" y="707040"/>
              <a:ext cx="989640" cy="21564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直接连接符 12"/>
          <p:cNvSpPr/>
          <p:nvPr/>
        </p:nvSpPr>
        <p:spPr>
          <a:xfrm flipV="1">
            <a:off x="1547640" y="1123920"/>
            <a:ext cx="5977080" cy="4470480"/>
          </a:xfrm>
          <a:prstGeom prst="line">
            <a:avLst/>
          </a:prstGeom>
          <a:ln w="9360">
            <a:solidFill>
              <a:srgbClr val="f695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3"/>
          <p:cNvSpPr/>
          <p:nvPr/>
        </p:nvSpPr>
        <p:spPr>
          <a:xfrm>
            <a:off x="3708360" y="3673440"/>
            <a:ext cx="3743280" cy="368280"/>
          </a:xfrm>
          <a:prstGeom prst="rect">
            <a:avLst/>
          </a:prstGeom>
          <a:solidFill>
            <a:srgbClr val="f0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262626"/>
                </a:solidFill>
                <a:latin typeface="Calibri"/>
                <a:ea typeface="微软雅黑"/>
              </a:rPr>
              <a:t>、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4"/>
          <p:cNvSpPr/>
          <p:nvPr/>
        </p:nvSpPr>
        <p:spPr>
          <a:xfrm>
            <a:off x="449280" y="60156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过渡页设计一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449280" y="6303960"/>
            <a:ext cx="682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3"/>
              </a:rPr>
              <a:t>中国风</a:t>
            </a: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5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8"/>
          <p:cNvSpPr/>
          <p:nvPr/>
        </p:nvSpPr>
        <p:spPr>
          <a:xfrm rot="10800000">
            <a:off x="-360" y="-19440"/>
            <a:ext cx="9180360" cy="6907320"/>
          </a:xfrm>
          <a:prstGeom prst="rect">
            <a:avLst/>
          </a:prstGeom>
          <a:solidFill>
            <a:srgbClr val="ed2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12600" y="3079800"/>
            <a:ext cx="8933040" cy="1319040"/>
          </a:xfrm>
          <a:prstGeom prst="rect">
            <a:avLst/>
          </a:prstGeom>
          <a:ln w="0">
            <a:noFill/>
          </a:ln>
        </p:spPr>
      </p:pic>
      <p:sp>
        <p:nvSpPr>
          <p:cNvPr id="568" name="TextBox 6"/>
          <p:cNvSpPr/>
          <p:nvPr/>
        </p:nvSpPr>
        <p:spPr>
          <a:xfrm>
            <a:off x="4140360" y="29703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7"/>
          <p:cNvSpPr/>
          <p:nvPr/>
        </p:nvSpPr>
        <p:spPr>
          <a:xfrm>
            <a:off x="3564000" y="2892600"/>
            <a:ext cx="9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0"/>
          <p:cNvSpPr/>
          <p:nvPr/>
        </p:nvSpPr>
        <p:spPr>
          <a:xfrm>
            <a:off x="449280" y="60156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过渡页设计二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3"/>
          <p:cNvSpPr/>
          <p:nvPr/>
        </p:nvSpPr>
        <p:spPr>
          <a:xfrm rot="10800000">
            <a:off x="-23760" y="460080"/>
            <a:ext cx="9167760" cy="681120"/>
          </a:xfrm>
          <a:prstGeom prst="rect">
            <a:avLst/>
          </a:prstGeom>
          <a:solidFill>
            <a:srgbClr val="ed2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rcRect l="0" t="5869" r="0" b="0"/>
          <a:stretch/>
        </p:blipFill>
        <p:spPr>
          <a:xfrm>
            <a:off x="-23760" y="378000"/>
            <a:ext cx="1874880" cy="1322280"/>
          </a:xfrm>
          <a:prstGeom prst="rect">
            <a:avLst/>
          </a:prstGeom>
          <a:ln w="0">
            <a:noFill/>
          </a:ln>
        </p:spPr>
      </p:pic>
      <p:sp>
        <p:nvSpPr>
          <p:cNvPr id="573" name="TextBox 8"/>
          <p:cNvSpPr/>
          <p:nvPr/>
        </p:nvSpPr>
        <p:spPr>
          <a:xfrm>
            <a:off x="2124000" y="5698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Calibri"/>
                <a:ea typeface="微软雅黑"/>
              </a:rPr>
              <a:t>内页设计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9"/>
          <p:cNvSpPr/>
          <p:nvPr/>
        </p:nvSpPr>
        <p:spPr>
          <a:xfrm>
            <a:off x="888840" y="2349360"/>
            <a:ext cx="2924280" cy="3527640"/>
          </a:xfrm>
          <a:prstGeom prst="rect">
            <a:avLst/>
          </a:prstGeom>
          <a:solidFill>
            <a:srgbClr val="ed2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84"/>
          <p:cNvSpPr/>
          <p:nvPr/>
        </p:nvSpPr>
        <p:spPr>
          <a:xfrm>
            <a:off x="4556160" y="2736720"/>
            <a:ext cx="36939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staurantRow.com strives to bring you the best and most current information about a variety of topics to enhance your dining exper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ver time, we will be add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ver time, we will be add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ver time, we will be add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ver time, we will be add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图片 11" descr=""/>
          <p:cNvPicPr/>
          <p:nvPr/>
        </p:nvPicPr>
        <p:blipFill>
          <a:blip r:embed="rId2"/>
          <a:srcRect l="42368" t="0" r="7185" b="0"/>
          <a:stretch/>
        </p:blipFill>
        <p:spPr>
          <a:xfrm>
            <a:off x="1085760" y="2565360"/>
            <a:ext cx="25005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2266920" y="692280"/>
            <a:ext cx="6877080" cy="4960800"/>
          </a:xfrm>
          <a:prstGeom prst="rect">
            <a:avLst/>
          </a:prstGeom>
          <a:ln w="0">
            <a:noFill/>
          </a:ln>
        </p:spPr>
      </p:pic>
      <p:sp>
        <p:nvSpPr>
          <p:cNvPr id="578" name="TextBox 35"/>
          <p:cNvSpPr/>
          <p:nvPr/>
        </p:nvSpPr>
        <p:spPr>
          <a:xfrm>
            <a:off x="449280" y="60156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模版素材一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4024440" y="-27000"/>
            <a:ext cx="5119560" cy="27259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2" descr=""/>
          <p:cNvPicPr/>
          <p:nvPr/>
        </p:nvPicPr>
        <p:blipFill>
          <a:blip r:embed="rId2"/>
          <a:stretch/>
        </p:blipFill>
        <p:spPr>
          <a:xfrm>
            <a:off x="0" y="3102120"/>
            <a:ext cx="6856560" cy="12110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"/>
          <p:cNvPicPr/>
          <p:nvPr/>
        </p:nvPicPr>
        <p:blipFill>
          <a:blip r:embed="rId3"/>
          <a:stretch/>
        </p:blipFill>
        <p:spPr>
          <a:xfrm>
            <a:off x="0" y="4869000"/>
            <a:ext cx="8929800" cy="1319040"/>
          </a:xfrm>
          <a:prstGeom prst="rect">
            <a:avLst/>
          </a:prstGeom>
          <a:ln w="0">
            <a:noFill/>
          </a:ln>
        </p:spPr>
      </p:pic>
      <p:sp>
        <p:nvSpPr>
          <p:cNvPr id="582" name="TextBox 6"/>
          <p:cNvSpPr/>
          <p:nvPr/>
        </p:nvSpPr>
        <p:spPr>
          <a:xfrm>
            <a:off x="449280" y="60156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模版素材二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  <a:ea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" descr=""/>
          <p:cNvPicPr/>
          <p:nvPr/>
        </p:nvPicPr>
        <p:blipFill>
          <a:blip r:embed="rId1"/>
          <a:stretch/>
        </p:blipFill>
        <p:spPr>
          <a:xfrm>
            <a:off x="7920" y="-126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584" name="TextBox 6"/>
          <p:cNvSpPr/>
          <p:nvPr/>
        </p:nvSpPr>
        <p:spPr>
          <a:xfrm>
            <a:off x="1100160" y="118440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您的支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1:18:00Z</dcterms:created>
  <dc:creator>王琳</dc:creator>
  <dc:description/>
  <cp:keywords/>
  <dc:language>en-US</dc:language>
  <cp:lastModifiedBy>王玉清</cp:lastModifiedBy>
  <dcterms:modified xsi:type="dcterms:W3CDTF">2016-02-19T07:06:27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