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1.gif" ContentType="image/gif"/>
  <Override PartName="/ppt/media/image26.png" ContentType="image/png"/>
  <Override PartName="/ppt/media/image3.gif" ContentType="image/gif"/>
  <Override PartName="/ppt/media/image23.gif" ContentType="image/gif"/>
  <Override PartName="/ppt/media/image22.png" ContentType="image/png"/>
  <Override PartName="/ppt/media/image11.gif" ContentType="image/gif"/>
  <Override PartName="/ppt/media/image14.png" ContentType="image/png"/>
  <Override PartName="/ppt/media/image7.gif" ContentType="image/gif"/>
  <Override PartName="/ppt/media/image35.png" ContentType="image/png"/>
  <Override PartName="/ppt/media/image8.gif" ContentType="image/gif"/>
  <Override PartName="/ppt/media/image36.png" ContentType="image/png"/>
  <Override PartName="/ppt/media/image13.gif" ContentType="image/gif"/>
  <Override PartName="/ppt/media/image9.gif" ContentType="image/gif"/>
  <Override PartName="/ppt/media/image37.png" ContentType="image/png"/>
  <Override PartName="/ppt/media/image30.png" ContentType="image/png"/>
  <Override PartName="/ppt/media/image31.png" ContentType="image/png"/>
  <Override PartName="/ppt/media/image32.png" ContentType="image/png"/>
  <Override PartName="/ppt/media/image33.png" ContentType="image/png"/>
  <Override PartName="/ppt/media/image28.png" ContentType="image/png"/>
  <Override PartName="/ppt/media/image5.gif" ContentType="image/gif"/>
  <Override PartName="/ppt/media/image34.png" ContentType="image/png"/>
  <Override PartName="/ppt/media/image29.png" ContentType="image/png"/>
  <Override PartName="/ppt/media/image6.gif" ContentType="image/gif"/>
  <Override PartName="/ppt/media/image10.gif" ContentType="image/gif"/>
  <Override PartName="/ppt/media/image12.png" ContentType="image/png"/>
  <Override PartName="/ppt/media/image4.gif" ContentType="image/gif"/>
  <Override PartName="/ppt/media/image27.png" ContentType="image/png"/>
  <Override PartName="/ppt/media/image15.gif" ContentType="image/gif"/>
  <Override PartName="/ppt/media/image16.gif" ContentType="image/gif"/>
  <Override PartName="/ppt/media/image19.png" ContentType="image/png"/>
  <Override PartName="/ppt/media/image21.png" ContentType="image/png"/>
  <Override PartName="/ppt/media/image17.png" ContentType="image/png"/>
  <Override PartName="/ppt/media/image18.gif" ContentType="image/gif"/>
  <Override PartName="/ppt/media/image20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406-9672-4B69-8354-BD5791F1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73A-4A09-4EBB-80A8-A60EF2C7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7E426-3B6A-4D71-83B3-13DFEDAF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39056-16B4-4326-83C8-2E0D22AA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DBACF-7258-4A0A-9E52-7544DA4B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A8890-DE2B-4454-9331-8A3F907B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745D1-3C6C-4617-8448-6CD78B7A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44884-91E5-4CCF-A8BB-975BAF63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BE1E9-13B8-4943-A13A-38E4DDD4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F9F1D-C9BB-4E8E-8FCC-20F4507A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4A3A4-10FF-410A-85D7-70A45C7F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EBA97-BD86-4344-8E21-C6EFC503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139-983D-467B-8223-CA2A20A1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058A0-9E0E-4949-B39C-E28F4149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6E54F-0F08-489C-9856-AFAD2091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A0D86-9534-44B2-A5CC-F93B87AB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49DF2-CF82-46D5-BC9F-7D905F05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310F3-5811-4CC2-854A-778E01EB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4DF44-A88D-4B2C-B6EB-2043F6D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467B3-F181-4B06-964C-8838326A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B74B2-5222-433D-A9CA-AB7D9439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50FAB-0485-49E9-9D99-B9C53F9A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CBDD8-9229-47A4-ADE0-C740F188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0A2-70CE-4614-B4D4-FDEFB124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462EB-183C-41B4-B05C-98188120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1F09A-A685-4A69-A7D2-4E79FCA9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10D07-1C85-4654-AE21-31879549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EAC42-9DDC-4ED4-A31F-2499FC17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2C2BD-E0A1-46E4-8B63-13DD0CB2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7230B-AB20-4DD3-AF4A-821A9524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F797E-BDAE-46F8-A384-D298C014E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F28F6-3CDA-4254-86CF-6FE4824B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6BE9A-0866-44B4-9161-018BD50F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473CE-7B11-4827-A638-373F9449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07EC-F178-40BE-A134-FCFD5F4C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D55F8-AC35-4357-AAD8-24EDAD38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79C60-DDA6-4379-834C-3FBE6C04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53C91-FC86-49E2-84F2-3ACDCB39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3DA7B-B897-486E-A6E7-BA66AA20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3D2F4-D227-4B7C-9832-E63671AA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996E3-B668-4096-B032-4CD9B10A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C3A01-27E4-4CFD-80F3-AE0A8462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5F697-226E-4636-AA05-CBC3F8AB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6BD4D-6B2A-4149-8848-6404E51A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BA988-6BF0-420C-82CD-D5D7F280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E1BC-B1DB-485B-AC2A-80D21229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DBB48-D299-48F9-BB23-80AE3DA3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5177C-13DC-4678-A960-55554668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746EF-81A5-4674-A404-98C20DD5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3CB3B-04C7-40B4-B1AF-E2EE44C7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E0EF0-F21B-44DF-8C32-AFCCE9D8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3C3E-3F69-4F0C-9F19-65CDC8D2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1544-1241-4D69-9F39-662D06AF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0CD9-CA84-475D-8071-CB05758E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62F8-87B5-4C4E-8BE2-742D7D50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DAB4-9F5E-432D-B2BB-E1573C55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D20-86CD-4270-A559-836DF492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AC87-4A16-4D73-B3DD-783C3FEB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0398-475A-49A3-8B74-A75AD05B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1FE3-6E33-4E33-A7DB-D4AB070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91D1-F615-4975-88E2-571CCB87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071A-F670-4F8D-92EE-4E061008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A5A7-014B-4A19-A643-5DD8AA6D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60E63-74FC-40D7-AD7A-06ACF98D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F329-103A-4EB3-B80C-22257C8C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68976-F683-443B-9165-84BDB093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EFB2F-E31F-426B-99E8-6C89A827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982-CABB-4393-8AFC-980CB14C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1B1A-1605-47B1-9A09-6C1DD4B8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208B-9BA6-4256-8D66-B4DC462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0CCC-AD26-462E-8492-A42B940A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2E02-F990-472B-A282-1B83FFE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5454-6BA9-4C39-9595-2231FA71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94B92-3EE8-4058-B80B-2FDB25A4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7DA21-C80B-4347-AF75-7AC10040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F0AA3-241C-4083-BFD3-DBAB646E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CB58A-CF87-4E11-85F1-251D1C53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AD1F1-322F-432F-BD73-CF4C6CA3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66D-4D5E-404C-B344-53DD3C3E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E9B43-DB1A-4ECB-8CC6-6235A50B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B79B-06FD-46C0-AE74-74F5CA66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3091A-D90D-4CCB-822C-159B7701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508A-EC2F-4EA4-BF08-95C7629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3C0F5-9E2A-44D8-9025-A0C0377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37447-0910-41DF-8713-74A82614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9B9AE-3F95-4BE6-846B-4474DF4F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AA1A7-88F7-44BC-95B6-B0066875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9F396-FA92-4102-83F5-9D7A788E6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20FA0-7DD7-498E-BF44-9232FE88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E2F-E2B3-4843-889D-0844B4F2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F162-6F09-4F26-A535-B0B9C821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E8FAD-333B-4038-A448-A4870B5E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0DF09-E9E4-4A5E-AF63-7F3E499B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C3AB-A1B8-4075-8CD6-3A8DDC97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224F0-2A62-4E76-8D7B-A98E9FBC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6054E-BFFB-4F55-A251-20026965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BBAE2-D505-4414-89FE-2F45FB58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7DC73-A89F-4ACD-A537-EEA26AE0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350F9-BAD2-4E81-B08E-61483589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E4E81-1F46-40A2-A1CB-7EE5F140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221-B936-4FA5-9BD2-BA1102ED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E6BB6-725E-4144-A88E-7D03BAF5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56AE0-EEAB-4862-A44B-0AF183F4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ADD9E-524C-46D3-BDD1-BECAE399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5FF48-11BC-4038-8CAD-FE7AE0D7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85C22-4CFE-4435-99AF-6FE1AE37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241A4-206F-4099-A82C-7B83960E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34C8A-DAEA-4FEC-A881-BF813143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3327A-C983-4B3A-9B73-4E8B67EF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84796-DB8E-4A91-B3FA-0221ACA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E7A2D-3DEE-4F7A-B849-1978EAD5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8893-6233-47A9-906E-B6AD0AC7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5D495-29EA-41C3-BD31-E13D83D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84CEB-9F76-4D5E-95E1-C063A951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0C186-1DB3-449C-9609-9D9E6301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C5FD-4FD0-4147-BF01-DF3EB27C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99150-6400-4552-B93F-91FBF48F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03D0A-3EC6-444D-BC7E-357B74C6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0ACF6-F209-4A50-97E4-39B4368A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01517-104C-499F-828B-BAB229CA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2E714-4624-49F9-AB26-B886909D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F893A-D3A6-4611-A63B-83AFA967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A6A-AA48-4E7D-80F1-5280EF29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E1507-A702-4952-A871-B3801CA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DC4CF-0FD1-4295-B34B-5503E0DD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203AC-29F5-49B1-9D95-1662FD0F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BB26A-92EF-49FA-BD0E-19900D2C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F47BC-D0DB-40E5-80AC-B82001AD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FBBA4-647B-43BB-AA3C-70277F1C2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9B7FB-02DA-4747-B283-3EC0D734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6BD7F-ADF2-4DAD-9E14-FAD9599D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808B9-6055-4030-AE0B-25ABBE60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EB5A8-563E-4E64-9B78-02BAA995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EA0-9BE0-4C5F-8326-AB8027A8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8C11D-CD33-4B18-ADFF-28296C5B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C84FF-F8CA-43EC-9A14-7F45B955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EE108-61B0-422E-B21C-50E583A8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082C2-EEB8-4483-BD37-FEC8045A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89A7E-348F-4CB5-940E-CDAFFA99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2755E-55EB-420A-A128-9450FB14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4FDADE-8C79-46FE-B042-521F6A37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9076C-D03A-4052-99AB-AA3DF4D4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59E54-D4D6-4DE0-8DA8-D87CED8C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D3B99-366E-409C-A1DD-045499D7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9A48-A98A-4E5E-994D-4B85DB2B5F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3950-E9F2-452B-8BF0-EE7022E925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012A-8791-4379-8B04-580FDE1E2B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1E05-A8F0-4809-BF73-686B759DC7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4255-B51C-41DB-8E8E-0C896BB4EC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6C62-FE5A-42F6-9CB1-B5D7F84FC0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8E7E-0C42-45FF-A9D8-CD5C072851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E277-A923-4739-8F9E-5C8A8ADA64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D55D-4208-4D4C-AA56-6F7246BA7B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5CA0-1483-4F36-AEEF-429E3E1784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1243-6F8A-43FB-A96C-83D01EF2E6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7D3A-B67B-40C7-B9D7-04FCF43CDA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C13D-2D98-4100-A285-C57F75760A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8BC9-A218-46AF-A8D6-81822E7E98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EB9E-A058-4356-BEEA-599C91ADB0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63BD-0F9F-45DF-ACE4-757BF5E0959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6A29-49C2-4560-A8B9-4AE32A02A6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0E18-7DC8-4F46-A4FE-FAF08681E7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09E8-B758-4275-A01F-BAF763F1E2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5010-1B95-4149-9DF4-7BF10B3C5C6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55BE-3008-440D-946D-F1175391F0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559C-DBE3-400A-95B6-EA15ADD006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7DDA-3F11-43E2-8213-C6C3B66DF1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28.png"/><Relationship Id="rId3" Type="http://schemas.openxmlformats.org/officeDocument/2006/relationships/image" Target="../media/image10.gif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30.pn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31.pn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gif"/><Relationship Id="rId3" Type="http://schemas.openxmlformats.org/officeDocument/2006/relationships/image" Target="../media/image12.png"/><Relationship Id="rId4" Type="http://schemas.openxmlformats.org/officeDocument/2006/relationships/image" Target="../media/image10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0.gi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10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0.gif"/><Relationship Id="rId3" Type="http://schemas.openxmlformats.org/officeDocument/2006/relationships/image" Target="../media/image25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祝我最亲爱的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h"/>
          <p:cNvPicPr/>
          <p:nvPr/>
        </p:nvPicPr>
        <p:blipFill>
          <a:blip r:embed="rId1"/>
          <a:stretch/>
        </p:blipFill>
        <p:spPr>
          <a:xfrm>
            <a:off x="2557440" y="3090960"/>
            <a:ext cx="4029120" cy="67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5" descr="i"/>
          <p:cNvPicPr/>
          <p:nvPr/>
        </p:nvPicPr>
        <p:blipFill>
          <a:blip r:embed="rId2"/>
          <a:stretch/>
        </p:blipFill>
        <p:spPr>
          <a:xfrm>
            <a:off x="3132000" y="4005360"/>
            <a:ext cx="2857680" cy="14284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g"/>
          <p:cNvPicPr/>
          <p:nvPr/>
        </p:nvPicPr>
        <p:blipFill>
          <a:blip r:embed="rId3"/>
          <a:stretch/>
        </p:blipFill>
        <p:spPr>
          <a:xfrm>
            <a:off x="6877080" y="335772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g"/>
          <p:cNvPicPr/>
          <p:nvPr/>
        </p:nvPicPr>
        <p:blipFill>
          <a:blip r:embed="rId4"/>
          <a:stretch/>
        </p:blipFill>
        <p:spPr>
          <a:xfrm>
            <a:off x="7093080" y="335772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8" descr="g"/>
          <p:cNvPicPr/>
          <p:nvPr/>
        </p:nvPicPr>
        <p:blipFill>
          <a:blip r:embed="rId5"/>
          <a:stretch/>
        </p:blipFill>
        <p:spPr>
          <a:xfrm>
            <a:off x="7308720" y="335772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9" descr="g"/>
          <p:cNvPicPr/>
          <p:nvPr/>
        </p:nvPicPr>
        <p:blipFill>
          <a:blip r:embed="rId6"/>
          <a:stretch/>
        </p:blipFill>
        <p:spPr>
          <a:xfrm>
            <a:off x="1692360" y="3319560"/>
            <a:ext cx="180720" cy="1807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0" descr="g"/>
          <p:cNvPicPr/>
          <p:nvPr/>
        </p:nvPicPr>
        <p:blipFill>
          <a:blip r:embed="rId7"/>
          <a:stretch/>
        </p:blipFill>
        <p:spPr>
          <a:xfrm>
            <a:off x="1908000" y="3319560"/>
            <a:ext cx="181080" cy="1807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1" descr="g"/>
          <p:cNvPicPr/>
          <p:nvPr/>
        </p:nvPicPr>
        <p:blipFill>
          <a:blip r:embed="rId8"/>
          <a:stretch/>
        </p:blipFill>
        <p:spPr>
          <a:xfrm>
            <a:off x="2124000" y="3319560"/>
            <a:ext cx="181080" cy="18072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2"/>
          <p:cNvSpPr/>
          <p:nvPr/>
        </p:nvSpPr>
        <p:spPr>
          <a:xfrm>
            <a:off x="2700360" y="53881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"/>
          <p:cNvSpPr/>
          <p:nvPr/>
        </p:nvSpPr>
        <p:spPr>
          <a:xfrm>
            <a:off x="2429640" y="295200"/>
            <a:ext cx="409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秋节动态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-13680" y="504720"/>
            <a:ext cx="877608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黑体"/>
              </a:rPr>
              <a:t>或者现在关系如何的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亲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                                      </a:t>
            </a:r>
            <a:br>
              <a:rPr sz="1800"/>
            </a:br>
            <a:br>
              <a:rPr sz="1800"/>
            </a:b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你也可以把它回复给寄给你的人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</a:t>
            </a:r>
            <a:br>
              <a:rPr sz="1800"/>
            </a:br>
            <a:r>
              <a:rPr b="0" lang="zh-CN" sz="11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zh-CN" sz="120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0" lang="zh-CN" sz="1100" spc="-1" strike="noStrike">
                <a:solidFill>
                  <a:srgbClr val="ffff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2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60"/>
          <p:cNvPicPr/>
          <p:nvPr/>
        </p:nvPicPr>
        <p:blipFill>
          <a:blip r:embed="rId1"/>
          <a:stretch/>
        </p:blipFill>
        <p:spPr>
          <a:xfrm>
            <a:off x="3132000" y="907920"/>
            <a:ext cx="2492640" cy="21654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3401"/>
          <p:cNvPicPr/>
          <p:nvPr/>
        </p:nvPicPr>
        <p:blipFill>
          <a:blip r:embed="rId2"/>
          <a:stretch/>
        </p:blipFill>
        <p:spPr>
          <a:xfrm>
            <a:off x="2268360" y="3068640"/>
            <a:ext cx="452520" cy="34596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3401"/>
          <p:cNvPicPr/>
          <p:nvPr/>
        </p:nvPicPr>
        <p:blipFill>
          <a:blip r:embed="rId3"/>
          <a:stretch/>
        </p:blipFill>
        <p:spPr>
          <a:xfrm>
            <a:off x="6181560" y="2997360"/>
            <a:ext cx="452520" cy="3459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8" descr="61"/>
          <p:cNvPicPr/>
          <p:nvPr/>
        </p:nvPicPr>
        <p:blipFill>
          <a:blip r:embed="rId4"/>
          <a:stretch/>
        </p:blipFill>
        <p:spPr>
          <a:xfrm>
            <a:off x="2916360" y="3500280"/>
            <a:ext cx="308592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261000" y="578520"/>
            <a:ext cx="8623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让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老朋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知道你没有忘记他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20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并且告诉</a:t>
            </a:r>
            <a:r>
              <a:rPr b="1" lang="zh-CN" sz="2400" spc="-1" strike="noStrike">
                <a:solidFill>
                  <a:srgbClr val="ff99ff"/>
                </a:solidFill>
                <a:latin typeface="Arial"/>
                <a:ea typeface="黑体"/>
              </a:rPr>
              <a:t>新朋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你永远也不会忘掉朋友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 </a:t>
            </a:r>
            <a:br>
              <a:rPr sz="2400"/>
            </a:br>
            <a:br>
              <a:rPr sz="2400"/>
            </a:b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20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   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3401"/>
          <p:cNvPicPr/>
          <p:nvPr/>
        </p:nvPicPr>
        <p:blipFill>
          <a:blip r:embed="rId1"/>
          <a:stretch/>
        </p:blipFill>
        <p:spPr>
          <a:xfrm>
            <a:off x="2411280" y="69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62"/>
          <p:cNvPicPr/>
          <p:nvPr/>
        </p:nvPicPr>
        <p:blipFill>
          <a:blip r:embed="rId2"/>
          <a:stretch/>
        </p:blipFill>
        <p:spPr>
          <a:xfrm>
            <a:off x="3995640" y="1197000"/>
            <a:ext cx="1552680" cy="1905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7" descr="3401"/>
          <p:cNvPicPr/>
          <p:nvPr/>
        </p:nvPicPr>
        <p:blipFill>
          <a:blip r:embed="rId3"/>
          <a:stretch/>
        </p:blipFill>
        <p:spPr>
          <a:xfrm>
            <a:off x="6361200" y="3344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63"/>
          <p:cNvPicPr/>
          <p:nvPr/>
        </p:nvPicPr>
        <p:blipFill>
          <a:blip r:embed="rId4"/>
          <a:stretch/>
        </p:blipFill>
        <p:spPr>
          <a:xfrm>
            <a:off x="3780000" y="3860640"/>
            <a:ext cx="1647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-396720" y="1382760"/>
            <a:ext cx="97135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记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每个人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都需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朋友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62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   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br>
              <a:rPr sz="1100"/>
            </a:br>
            <a:br>
              <a:rPr sz="11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当有一天你感到自己根本就</a:t>
            </a:r>
            <a:r>
              <a:rPr b="1" lang="zh-CN" sz="2400" spc="-1" strike="noStrike">
                <a:solidFill>
                  <a:srgbClr val="ff66cc"/>
                </a:solidFill>
                <a:latin typeface="Arial"/>
                <a:ea typeface="黑体"/>
              </a:rPr>
              <a:t>没有朋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Tahoma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  <a:ea typeface="Tahoma"/>
              </a:rPr>
              <a:t> 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Tahoma"/>
              </a:rPr>
              <a:t>                                                                                   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br>
              <a:rPr sz="11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5" descr="3401"/>
          <p:cNvPicPr/>
          <p:nvPr/>
        </p:nvPicPr>
        <p:blipFill>
          <a:blip r:embed="rId1"/>
          <a:stretch/>
        </p:blipFill>
        <p:spPr>
          <a:xfrm>
            <a:off x="2649600" y="13478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3401"/>
          <p:cNvPicPr/>
          <p:nvPr/>
        </p:nvPicPr>
        <p:blipFill>
          <a:blip r:embed="rId2"/>
          <a:stretch/>
        </p:blipFill>
        <p:spPr>
          <a:xfrm>
            <a:off x="6159600" y="13478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7" descr="123"/>
          <p:cNvPicPr/>
          <p:nvPr/>
        </p:nvPicPr>
        <p:blipFill>
          <a:blip r:embed="rId3"/>
          <a:stretch/>
        </p:blipFill>
        <p:spPr>
          <a:xfrm>
            <a:off x="2700360" y="1897200"/>
            <a:ext cx="2808360" cy="9903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" descr="3401"/>
          <p:cNvPicPr/>
          <p:nvPr/>
        </p:nvPicPr>
        <p:blipFill>
          <a:blip r:embed="rId4"/>
          <a:stretch/>
        </p:blipFill>
        <p:spPr>
          <a:xfrm>
            <a:off x="5622840" y="18972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9" descr="3401"/>
          <p:cNvPicPr/>
          <p:nvPr/>
        </p:nvPicPr>
        <p:blipFill>
          <a:blip r:embed="rId5"/>
          <a:stretch/>
        </p:blipFill>
        <p:spPr>
          <a:xfrm>
            <a:off x="2313000" y="3284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0" descr="64"/>
          <p:cNvPicPr/>
          <p:nvPr/>
        </p:nvPicPr>
        <p:blipFill>
          <a:blip r:embed="rId6"/>
          <a:stretch/>
        </p:blipFill>
        <p:spPr>
          <a:xfrm>
            <a:off x="3203640" y="3429000"/>
            <a:ext cx="2662200" cy="3168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1" descr="3401"/>
          <p:cNvPicPr/>
          <p:nvPr/>
        </p:nvPicPr>
        <p:blipFill>
          <a:blip r:embed="rId7"/>
          <a:stretch/>
        </p:blipFill>
        <p:spPr>
          <a:xfrm>
            <a:off x="649620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-1256040" y="709560"/>
            <a:ext cx="11656440" cy="54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Arial"/>
                <a:ea typeface="黑体"/>
              </a:rPr>
              <a:t>你才会明白这句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                                                         </a:t>
            </a:r>
            <a:br>
              <a:rPr sz="1800"/>
            </a:br>
            <a:br>
              <a:rPr sz="1800"/>
            </a:b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  <a:ea typeface="黑体"/>
              </a:rPr>
              <a:t> 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  <a:ea typeface="黑体"/>
              </a:rPr>
              <a:t>同时你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很高兴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的知道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02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                   </a:t>
            </a:r>
            <a:br>
              <a:rPr sz="2600"/>
            </a:br>
            <a:br>
              <a:rPr sz="26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我在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  <a:ea typeface="黑体"/>
              </a:rPr>
              <a:t>关注着你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并且在你需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帮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时会出现在你身旁</a:t>
            </a: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黑体"/>
              </a:rPr>
              <a:t>……</a:t>
            </a:r>
            <a:br>
              <a:rPr sz="11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65"/>
          <p:cNvPicPr/>
          <p:nvPr/>
        </p:nvPicPr>
        <p:blipFill>
          <a:blip r:embed="rId1"/>
          <a:stretch/>
        </p:blipFill>
        <p:spPr>
          <a:xfrm>
            <a:off x="2041560" y="1004760"/>
            <a:ext cx="2371680" cy="19051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3401"/>
          <p:cNvPicPr/>
          <p:nvPr/>
        </p:nvPicPr>
        <p:blipFill>
          <a:blip r:embed="rId2"/>
          <a:stretch/>
        </p:blipFill>
        <p:spPr>
          <a:xfrm>
            <a:off x="2992320" y="3108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7" descr="3401"/>
          <p:cNvPicPr/>
          <p:nvPr/>
        </p:nvPicPr>
        <p:blipFill>
          <a:blip r:embed="rId3"/>
          <a:stretch/>
        </p:blipFill>
        <p:spPr>
          <a:xfrm>
            <a:off x="5815080" y="31082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66"/>
          <p:cNvPicPr/>
          <p:nvPr/>
        </p:nvPicPr>
        <p:blipFill>
          <a:blip r:embed="rId4"/>
          <a:stretch/>
        </p:blipFill>
        <p:spPr>
          <a:xfrm>
            <a:off x="2930400" y="3505320"/>
            <a:ext cx="2448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Arial"/>
              </a:rPr>
              <a:t>在这里祝你工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gongzuo1"/>
          <p:cNvPicPr/>
          <p:nvPr/>
        </p:nvPicPr>
        <p:blipFill>
          <a:blip r:embed="rId1"/>
          <a:stretch/>
        </p:blipFill>
        <p:spPr>
          <a:xfrm>
            <a:off x="1906560" y="2133720"/>
            <a:ext cx="5286240" cy="8524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gongzuo2"/>
          <p:cNvPicPr/>
          <p:nvPr/>
        </p:nvPicPr>
        <p:blipFill>
          <a:blip r:embed="rId2"/>
          <a:stretch/>
        </p:blipFill>
        <p:spPr>
          <a:xfrm>
            <a:off x="1979640" y="3141720"/>
            <a:ext cx="5151240" cy="8287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6" descr="gongzuo3"/>
          <p:cNvPicPr/>
          <p:nvPr/>
        </p:nvPicPr>
        <p:blipFill>
          <a:blip r:embed="rId3"/>
          <a:stretch/>
        </p:blipFill>
        <p:spPr>
          <a:xfrm>
            <a:off x="1979640" y="4013280"/>
            <a:ext cx="51847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最后祝你中秋快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482040" y="2696400"/>
            <a:ext cx="8180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后在这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祝你中秋快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5" descr="011"/>
          <p:cNvPicPr/>
          <p:nvPr/>
        </p:nvPicPr>
        <p:blipFill>
          <a:blip r:embed="rId1"/>
          <a:stretch/>
        </p:blipFill>
        <p:spPr>
          <a:xfrm>
            <a:off x="1476360" y="2637000"/>
            <a:ext cx="6365880" cy="190944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6"/>
          <p:cNvSpPr/>
          <p:nvPr/>
        </p:nvSpPr>
        <p:spPr>
          <a:xfrm>
            <a:off x="511200" y="63151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132000" y="242064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转给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0-4</a:t>
            </a: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人：生活不会有变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转给</a:t>
            </a:r>
            <a:r>
              <a:rPr b="0" lang="zh-CN" sz="2000" spc="-1" strike="noStrike">
                <a:solidFill>
                  <a:srgbClr val="ffccff"/>
                </a:solidFill>
                <a:latin typeface="Arial"/>
              </a:rPr>
              <a:t>5-9</a:t>
            </a: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人：你期待的恋情将会出现</a:t>
            </a:r>
            <a:br>
              <a:rPr sz="2000"/>
            </a:b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转给</a:t>
            </a:r>
            <a:r>
              <a:rPr b="0" lang="zh-CN" sz="2000" spc="-1" strike="noStrike">
                <a:solidFill>
                  <a:srgbClr val="ff99cc"/>
                </a:solidFill>
                <a:latin typeface="Arial"/>
              </a:rPr>
              <a:t>9-14</a:t>
            </a: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人：接下来的三个星期你会有惊喜的发现</a:t>
            </a:r>
            <a:br>
              <a:rPr sz="2000"/>
            </a:b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转给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人</a:t>
            </a:r>
            <a:r>
              <a:rPr b="0" lang="zh-CN" sz="2000" spc="-1" strike="noStrike">
                <a:solidFill>
                  <a:srgbClr val="cccccc"/>
                </a:solidFill>
                <a:latin typeface="Arial"/>
              </a:rPr>
              <a:t>以上：你将和你爱的人天长地久 亲人和睦　　　</a:t>
            </a:r>
            <a:br>
              <a:rPr sz="2000"/>
            </a:br>
            <a:br>
              <a:rPr sz="2000"/>
            </a:b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如果你不转发：你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......</a:t>
            </a:r>
            <a:r>
              <a:rPr b="0" lang="zh-CN" sz="2000" spc="-1" strike="noStrike">
                <a:solidFill>
                  <a:srgbClr val="ffff00"/>
                </a:solidFill>
                <a:latin typeface="Arial"/>
              </a:rPr>
              <a:t>嗬嗬 ：）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51360" y="816120"/>
            <a:ext cx="56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请祝福带给你的朋友！有了朋友，你将会快乐一生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pic_001"/>
          <p:cNvPicPr/>
          <p:nvPr/>
        </p:nvPicPr>
        <p:blipFill>
          <a:blip r:embed="rId1"/>
          <a:stretch/>
        </p:blipFill>
        <p:spPr>
          <a:xfrm>
            <a:off x="1488960" y="1890720"/>
            <a:ext cx="16113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明月几时有   把酒問青天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不知天上宮闕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今夕是何年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我欲乘風歸去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唯恐瓊樓玉宇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高處不勝寒    起舞弄清影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何似在人間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轉朱閣 低綺戶 照無眠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不應有恨何事長向別時圓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人有悲歡離合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月有陰晴圓缺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此事古難全</a:t>
            </a:r>
            <a:br>
              <a:rPr sz="1800"/>
            </a:br>
            <a:r>
              <a:rPr b="0" lang="zh-CN" sz="1800" spc="-1" strike="noStrike">
                <a:solidFill>
                  <a:srgbClr val="00b0f0"/>
                </a:solidFill>
                <a:latin typeface="Arial"/>
              </a:rPr>
              <a:t> 但願人長久      千里共嬋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f"/>
          <p:cNvPicPr/>
          <p:nvPr/>
        </p:nvPicPr>
        <p:blipFill>
          <a:blip r:embed="rId1"/>
          <a:stretch/>
        </p:blipFill>
        <p:spPr>
          <a:xfrm>
            <a:off x="2195640" y="4797360"/>
            <a:ext cx="46083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920" y="-97200"/>
            <a:ext cx="8642160" cy="237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送上一支红玫瑰，祝您中秋节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e"/>
          <p:cNvPicPr/>
          <p:nvPr/>
        </p:nvPicPr>
        <p:blipFill>
          <a:blip r:embed="rId1"/>
          <a:stretch/>
        </p:blipFill>
        <p:spPr>
          <a:xfrm>
            <a:off x="3076560" y="1576440"/>
            <a:ext cx="2990880" cy="37051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4"/>
          <p:cNvSpPr/>
          <p:nvPr/>
        </p:nvSpPr>
        <p:spPr>
          <a:xfrm>
            <a:off x="2596680" y="5281560"/>
            <a:ext cx="392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但願人長久 千里共嬋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愿愛你的人更愛你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; 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你愛的人更懂你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cc00"/>
                </a:solidFill>
                <a:latin typeface="Arial"/>
              </a:rPr>
              <a:t>送上三个小月饼，祝您中秋节快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d"/>
          <p:cNvPicPr/>
          <p:nvPr/>
        </p:nvPicPr>
        <p:blipFill>
          <a:blip r:embed="rId1"/>
          <a:stretch/>
        </p:blipFill>
        <p:spPr>
          <a:xfrm>
            <a:off x="2050920" y="692280"/>
            <a:ext cx="4953240" cy="5713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011"/>
          <p:cNvPicPr/>
          <p:nvPr/>
        </p:nvPicPr>
        <p:blipFill>
          <a:blip r:embed="rId2"/>
          <a:stretch/>
        </p:blipFill>
        <p:spPr>
          <a:xfrm>
            <a:off x="1835280" y="2852640"/>
            <a:ext cx="5545080" cy="1440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2302"/>
          <p:cNvPicPr/>
          <p:nvPr/>
        </p:nvPicPr>
        <p:blipFill>
          <a:blip r:embed="rId3"/>
          <a:stretch/>
        </p:blipFill>
        <p:spPr>
          <a:xfrm>
            <a:off x="1258920" y="4508640"/>
            <a:ext cx="7058160" cy="2379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2302"/>
          <p:cNvPicPr/>
          <p:nvPr/>
        </p:nvPicPr>
        <p:blipFill>
          <a:blip r:embed="rId4"/>
          <a:stretch/>
        </p:blipFill>
        <p:spPr>
          <a:xfrm>
            <a:off x="1258920" y="6093000"/>
            <a:ext cx="7058160" cy="23796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8"/>
          <p:cNvSpPr/>
          <p:nvPr/>
        </p:nvSpPr>
        <p:spPr>
          <a:xfrm>
            <a:off x="1908000" y="4920840"/>
            <a:ext cx="60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预祝我最亲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  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- -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   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的朋友中秋节快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9" descr="3401"/>
          <p:cNvPicPr/>
          <p:nvPr/>
        </p:nvPicPr>
        <p:blipFill>
          <a:blip r:embed="rId5"/>
          <a:stretch/>
        </p:blipFill>
        <p:spPr>
          <a:xfrm>
            <a:off x="2556000" y="566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0" descr="3401"/>
          <p:cNvPicPr/>
          <p:nvPr/>
        </p:nvPicPr>
        <p:blipFill>
          <a:blip r:embed="rId6"/>
          <a:stretch/>
        </p:blipFill>
        <p:spPr>
          <a:xfrm>
            <a:off x="33210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1" descr="3401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2" descr="3401"/>
          <p:cNvPicPr/>
          <p:nvPr/>
        </p:nvPicPr>
        <p:blipFill>
          <a:blip r:embed="rId8"/>
          <a:stretch/>
        </p:blipFill>
        <p:spPr>
          <a:xfrm>
            <a:off x="716436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黑体"/>
              </a:rPr>
              <a:t>也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许一年中你是一个</a:t>
            </a:r>
            <a:r>
              <a:rPr b="1" lang="zh-CN" sz="3200" spc="-1" strike="noStrike">
                <a:solidFill>
                  <a:srgbClr val="9966ff"/>
                </a:solidFill>
                <a:latin typeface="Arial"/>
                <a:ea typeface="黑体"/>
              </a:rPr>
              <a:t>最好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   朋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2413"/>
          <p:cNvPicPr/>
          <p:nvPr/>
        </p:nvPicPr>
        <p:blipFill>
          <a:blip r:embed="rId1"/>
          <a:stretch/>
        </p:blipFill>
        <p:spPr>
          <a:xfrm>
            <a:off x="5796000" y="836640"/>
            <a:ext cx="952560" cy="476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3401"/>
          <p:cNvPicPr/>
          <p:nvPr/>
        </p:nvPicPr>
        <p:blipFill>
          <a:blip r:embed="rId2"/>
          <a:stretch/>
        </p:blipFill>
        <p:spPr>
          <a:xfrm>
            <a:off x="802800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51"/>
          <p:cNvPicPr/>
          <p:nvPr/>
        </p:nvPicPr>
        <p:blipFill>
          <a:blip r:embed="rId3"/>
          <a:stretch/>
        </p:blipFill>
        <p:spPr>
          <a:xfrm>
            <a:off x="2987640" y="2085840"/>
            <a:ext cx="2584440" cy="219096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6"/>
          <p:cNvSpPr/>
          <p:nvPr/>
        </p:nvSpPr>
        <p:spPr>
          <a:xfrm>
            <a:off x="741960" y="4796640"/>
            <a:ext cx="729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Impact"/>
                <a:ea typeface="黑体"/>
              </a:rPr>
              <a:t>  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下一年仍是一个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黑体"/>
              </a:rPr>
              <a:t>很不错的  </a:t>
            </a:r>
            <a:r>
              <a:rPr b="1" lang="zh-CN" sz="3200" spc="-1" strike="noStrike">
                <a:solidFill>
                  <a:srgbClr val="ff6600"/>
                </a:solidFill>
                <a:latin typeface="Impact"/>
                <a:ea typeface="黑体"/>
              </a:rPr>
              <a:t>            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朋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7" descr="3401"/>
          <p:cNvPicPr/>
          <p:nvPr/>
        </p:nvPicPr>
        <p:blipFill>
          <a:blip r:embed="rId4"/>
          <a:stretch/>
        </p:blipFill>
        <p:spPr>
          <a:xfrm>
            <a:off x="1011240" y="4883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8" descr="2433"/>
          <p:cNvPicPr/>
          <p:nvPr/>
        </p:nvPicPr>
        <p:blipFill>
          <a:blip r:embed="rId5"/>
          <a:stretch/>
        </p:blipFill>
        <p:spPr>
          <a:xfrm>
            <a:off x="6084720" y="4869000"/>
            <a:ext cx="7621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56"/>
          <p:cNvPicPr/>
          <p:nvPr/>
        </p:nvPicPr>
        <p:blipFill>
          <a:blip r:embed="rId1"/>
          <a:stretch/>
        </p:blipFill>
        <p:spPr>
          <a:xfrm>
            <a:off x="3059280" y="549360"/>
            <a:ext cx="2971800" cy="24350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5"/>
          <p:cNvSpPr/>
          <p:nvPr/>
        </p:nvSpPr>
        <p:spPr>
          <a:xfrm>
            <a:off x="747720" y="3355920"/>
            <a:ext cx="828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再下一年就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ffff"/>
                </a:solidFill>
                <a:latin typeface="Impact"/>
                <a:ea typeface="黑体"/>
              </a:rPr>
              <a:t>             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黑体"/>
              </a:rPr>
              <a:t>不一定经常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记起了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                 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6" descr="2414"/>
          <p:cNvPicPr/>
          <p:nvPr/>
        </p:nvPicPr>
        <p:blipFill>
          <a:blip r:embed="rId2"/>
          <a:stretch/>
        </p:blipFill>
        <p:spPr>
          <a:xfrm>
            <a:off x="3603600" y="337968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7" descr="2415"/>
          <p:cNvPicPr/>
          <p:nvPr/>
        </p:nvPicPr>
        <p:blipFill>
          <a:blip r:embed="rId3"/>
          <a:stretch/>
        </p:blipFill>
        <p:spPr>
          <a:xfrm>
            <a:off x="5908680" y="345132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3401"/>
          <p:cNvPicPr/>
          <p:nvPr/>
        </p:nvPicPr>
        <p:blipFill>
          <a:blip r:embed="rId4"/>
          <a:stretch/>
        </p:blipFill>
        <p:spPr>
          <a:xfrm>
            <a:off x="6915240" y="304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9" descr="54"/>
          <p:cNvPicPr/>
          <p:nvPr/>
        </p:nvPicPr>
        <p:blipFill>
          <a:blip r:embed="rId5"/>
          <a:stretch/>
        </p:blipFill>
        <p:spPr>
          <a:xfrm>
            <a:off x="2987640" y="4221000"/>
            <a:ext cx="3024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539640" y="393840"/>
            <a:ext cx="7920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并且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黑体"/>
              </a:rPr>
              <a:t>从那以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整年也许都不一定记得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20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18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Impact"/>
                <a:ea typeface="黑体"/>
              </a:rPr>
              <a:t>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  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即使我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一生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中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永远也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再提起你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对我来说你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永远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是一个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特别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Impact"/>
                <a:ea typeface="黑体"/>
              </a:rPr>
              <a:t> </a:t>
            </a:r>
            <a:r>
              <a:rPr b="1" lang="zh-CN" sz="2400" spc="-1" strike="noStrike">
                <a:solidFill>
                  <a:srgbClr val="99cc00"/>
                </a:solidFill>
                <a:latin typeface="Impact"/>
                <a:ea typeface="黑体"/>
              </a:rPr>
              <a:t>                  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黑体"/>
              </a:rPr>
              <a:t>人，在我的生命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黑体"/>
              </a:rPr>
              <a:t>你</a:t>
            </a:r>
            <a:r>
              <a:rPr b="1" lang="zh-CN" sz="2400" spc="-1" strike="noStrike" u="sng">
                <a:solidFill>
                  <a:srgbClr val="99cc00"/>
                </a:solidFill>
                <a:uFillTx/>
                <a:latin typeface="Arial"/>
                <a:ea typeface="黑体"/>
              </a:rPr>
              <a:t>永远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黑体"/>
              </a:rPr>
              <a:t>是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与众不同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                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Impact"/>
                <a:ea typeface="黑体"/>
              </a:rPr>
              <a:t>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2443"/>
          <p:cNvPicPr/>
          <p:nvPr/>
        </p:nvPicPr>
        <p:blipFill>
          <a:blip r:embed="rId1"/>
          <a:stretch/>
        </p:blipFill>
        <p:spPr>
          <a:xfrm>
            <a:off x="3203640" y="549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53"/>
          <p:cNvPicPr/>
          <p:nvPr/>
        </p:nvPicPr>
        <p:blipFill>
          <a:blip r:embed="rId2"/>
          <a:stretch/>
        </p:blipFill>
        <p:spPr>
          <a:xfrm>
            <a:off x="3132000" y="1700280"/>
            <a:ext cx="2857680" cy="1904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7" descr="3401"/>
          <p:cNvPicPr/>
          <p:nvPr/>
        </p:nvPicPr>
        <p:blipFill>
          <a:blip r:embed="rId3"/>
          <a:stretch/>
        </p:blipFill>
        <p:spPr>
          <a:xfrm>
            <a:off x="2793960" y="4091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8" descr="2442"/>
          <p:cNvPicPr/>
          <p:nvPr/>
        </p:nvPicPr>
        <p:blipFill>
          <a:blip r:embed="rId4"/>
          <a:stretch/>
        </p:blipFill>
        <p:spPr>
          <a:xfrm>
            <a:off x="4932360" y="5013360"/>
            <a:ext cx="609480" cy="3906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9" descr="23"/>
          <p:cNvPicPr/>
          <p:nvPr/>
        </p:nvPicPr>
        <p:blipFill>
          <a:blip r:embed="rId5"/>
          <a:stretch/>
        </p:blipFill>
        <p:spPr>
          <a:xfrm>
            <a:off x="5219640" y="5589720"/>
            <a:ext cx="304920" cy="2854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0" descr="3401"/>
          <p:cNvPicPr/>
          <p:nvPr/>
        </p:nvPicPr>
        <p:blipFill>
          <a:blip r:embed="rId6"/>
          <a:stretch/>
        </p:blipFill>
        <p:spPr>
          <a:xfrm>
            <a:off x="8659800" y="46562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55"/>
          <p:cNvPicPr/>
          <p:nvPr/>
        </p:nvPicPr>
        <p:blipFill>
          <a:blip r:embed="rId1"/>
          <a:stretch/>
        </p:blipFill>
        <p:spPr>
          <a:xfrm>
            <a:off x="3348000" y="620640"/>
            <a:ext cx="2824200" cy="262728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5"/>
          <p:cNvSpPr/>
          <p:nvPr/>
        </p:nvSpPr>
        <p:spPr>
          <a:xfrm>
            <a:off x="1403280" y="29959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我</a:t>
            </a:r>
            <a:r>
              <a:rPr b="1" lang="zh-CN" sz="2400" spc="-1" strike="noStrike">
                <a:solidFill>
                  <a:srgbClr val="cc66ff"/>
                </a:solidFill>
                <a:latin typeface="Arial"/>
                <a:ea typeface="黑体"/>
              </a:rPr>
              <a:t>尊重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你，</a:t>
            </a:r>
            <a:r>
              <a:rPr b="1" lang="zh-CN" sz="2400" spc="-1" strike="noStrike">
                <a:solidFill>
                  <a:srgbClr val="ff99ff"/>
                </a:solidFill>
                <a:latin typeface="Arial"/>
                <a:ea typeface="黑体"/>
              </a:rPr>
              <a:t>尊敬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你，并且实实在在的</a:t>
            </a:r>
            <a:r>
              <a:rPr b="1" lang="zh-CN" sz="2400" spc="-1" strike="noStrike">
                <a:solidFill>
                  <a:srgbClr val="ff6600"/>
                </a:solidFill>
                <a:latin typeface="Arial"/>
                <a:ea typeface="黑体"/>
              </a:rPr>
              <a:t>珍爱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着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2695680" y="4498200"/>
            <a:ext cx="394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99cc00"/>
                </a:solidFill>
                <a:latin typeface="Arial"/>
              </a:rPr>
              <a:t> 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              </a:t>
            </a:r>
            <a:br>
              <a:rPr sz="1800"/>
            </a:br>
            <a:br>
              <a:rPr sz="1800"/>
            </a:br>
            <a:r>
              <a:rPr b="1" lang="zh-CN" sz="2600" spc="-1" strike="noStrike">
                <a:solidFill>
                  <a:srgbClr val="99cc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99cc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99cc00"/>
                </a:solidFill>
                <a:latin typeface="Impact"/>
                <a:ea typeface="黑体"/>
              </a:rPr>
              <a:t> </a:t>
            </a:r>
            <a:r>
              <a:rPr b="1" lang="zh-CN" sz="2400" spc="-1" strike="noStrike">
                <a:solidFill>
                  <a:srgbClr val="99cc00"/>
                </a:solidFill>
                <a:latin typeface="Impact"/>
                <a:ea typeface="黑体"/>
              </a:rPr>
              <a:t> 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  <a:ea typeface="黑体"/>
              </a:rPr>
              <a:t>请把这发给你的朋友们</a:t>
            </a:r>
            <a:r>
              <a:rPr b="1" lang="zh-CN" sz="2600" spc="-1" strike="noStrike">
                <a:solidFill>
                  <a:srgbClr val="99cc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99cc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99cc00"/>
                </a:solidFill>
                <a:latin typeface="Impact"/>
                <a:ea typeface="黑体"/>
              </a:rPr>
              <a:t>  </a:t>
            </a: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7" descr="ld1"/>
          <p:cNvPicPr/>
          <p:nvPr/>
        </p:nvPicPr>
        <p:blipFill>
          <a:blip r:embed="rId2"/>
          <a:stretch/>
        </p:blipFill>
        <p:spPr>
          <a:xfrm>
            <a:off x="3851280" y="4076640"/>
            <a:ext cx="1800360" cy="1425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8" descr="3401"/>
          <p:cNvPicPr/>
          <p:nvPr/>
        </p:nvPicPr>
        <p:blipFill>
          <a:blip r:embed="rId3"/>
          <a:stretch/>
        </p:blipFill>
        <p:spPr>
          <a:xfrm>
            <a:off x="2627280" y="5589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3401"/>
          <p:cNvPicPr/>
          <p:nvPr/>
        </p:nvPicPr>
        <p:blipFill>
          <a:blip r:embed="rId4"/>
          <a:stretch/>
        </p:blipFill>
        <p:spPr>
          <a:xfrm>
            <a:off x="644364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344520" y="657396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2987640" y="1166400"/>
            <a:ext cx="5472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</a:t>
            </a:r>
            <a:br>
              <a:rPr sz="1800"/>
            </a:br>
            <a:br>
              <a:rPr sz="2400"/>
            </a:b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无论是你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  <a:ea typeface="黑体"/>
              </a:rPr>
              <a:t>偶尔才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记起他</a:t>
            </a:r>
            <a:br>
              <a:rPr sz="2400"/>
            </a:b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1" lang="zh-CN" sz="1900" spc="-1" strike="noStrike">
                <a:solidFill>
                  <a:srgbClr val="ffff00"/>
                </a:solidFill>
                <a:latin typeface="Impact"/>
                <a:ea typeface="黑体"/>
              </a:rPr>
              <a:t> </a:t>
            </a:r>
            <a:r>
              <a:rPr b="1" lang="zh-CN" sz="2600" spc="-1" strike="noStrike">
                <a:solidFill>
                  <a:srgbClr val="ffff00"/>
                </a:solidFill>
                <a:latin typeface="Impact"/>
                <a:ea typeface="黑体"/>
              </a:rPr>
              <a:t>  </a:t>
            </a:r>
            <a:br>
              <a:rPr sz="1100"/>
            </a:br>
            <a:br>
              <a:rPr sz="11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5" descr="57"/>
          <p:cNvPicPr/>
          <p:nvPr/>
        </p:nvPicPr>
        <p:blipFill>
          <a:blip r:embed="rId1"/>
          <a:stretch/>
        </p:blipFill>
        <p:spPr>
          <a:xfrm>
            <a:off x="2165400" y="363600"/>
            <a:ext cx="3873600" cy="28479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3401"/>
          <p:cNvPicPr/>
          <p:nvPr/>
        </p:nvPicPr>
        <p:blipFill>
          <a:blip r:embed="rId2"/>
          <a:stretch/>
        </p:blipFill>
        <p:spPr>
          <a:xfrm>
            <a:off x="2340000" y="3284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58"/>
          <p:cNvPicPr/>
          <p:nvPr/>
        </p:nvPicPr>
        <p:blipFill>
          <a:blip r:embed="rId3"/>
          <a:stretch/>
        </p:blipFill>
        <p:spPr>
          <a:xfrm>
            <a:off x="3059280" y="4010040"/>
            <a:ext cx="2946240" cy="28479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8" descr="3401"/>
          <p:cNvPicPr/>
          <p:nvPr/>
        </p:nvPicPr>
        <p:blipFill>
          <a:blip r:embed="rId4"/>
          <a:stretch/>
        </p:blipFill>
        <p:spPr>
          <a:xfrm>
            <a:off x="6443640" y="328464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8:27:52Z</dcterms:created>
  <dc:creator>Administrator</dc:creator>
  <dc:description/>
  <cp:keywords/>
  <dc:language>en-US</dc:language>
  <cp:lastModifiedBy>王玉清</cp:lastModifiedBy>
  <dcterms:modified xsi:type="dcterms:W3CDTF">2016-02-19T07:24:48Z</dcterms:modified>
  <cp:revision>2</cp:revision>
  <dc:subject/>
  <dc:title>祝我最亲爱的朋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