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36C6E-ED00-45A9-A865-523643A48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0CF1D4-C78C-4AED-9CB0-D987F664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A0347B-C974-4289-9E3E-42127B67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DE411-78E2-4648-BAD8-0367F0BC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303D-BC0D-443F-BBB7-684D9BA9B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C9D6-1F58-46A7-AE7F-2625A4D38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14B8-BB23-4C7A-8F70-8A51E772F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24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24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3878-7901-4462-8110-E7DACD493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083-1672-4477-9D93-E4B0AEE7DC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856-58F7-4880-9862-BCEACDC9ED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8D6-B55C-49E2-9A95-57C064DC7D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62B-5DC7-4BE9-8C82-5815735940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06C-B49D-4520-B961-1A2B8DC1A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520" y="304920"/>
            <a:ext cx="79704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45A-C227-4D50-8CA0-30415DB1E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352-BA62-4C78-8BD8-ECE4D3742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576D-3DC5-4E9D-98B6-CCA3F876E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476-A1C5-4B21-A87B-4082940BE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D6B-D82F-401C-BFAF-E64C3FA2B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DA6-06C4-4DAF-A526-10DE4F32A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480-A341-4F0F-851E-D63D0A46CE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224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356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224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356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84E-0D6A-4F21-9E47-551D9058FA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A920-773D-444B-867E-19DFAEA400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3A6A-C19E-40E8-A459-AE516186E8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6E47F-D21A-47A1-9A8D-E3B052C46A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C5625-E1BE-4174-B1F3-B1ED4FBD95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36EAA-454E-4C8B-A421-AAE80021E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579D-3258-4615-AF03-5260BDD990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2520" y="304920"/>
            <a:ext cx="79704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0C0B9-DCEB-4348-8A7D-D0E95F199A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3E1A-EC2A-40BE-9FC3-EE7077BAD8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4E48-1FFB-45D0-BB2E-C880EBD1E0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570D-5AFE-43DC-9B42-2103EF874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8550E-254C-4EAF-936A-6BEACA2C75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A2F2-6ADE-49E9-852B-2B437D570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3560" y="1295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1128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3560" y="38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23E5F-DEE8-4A9D-B9B0-3744BB3E2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196F-46A9-4F31-B525-2EC157C66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C943-965B-4337-B9A1-18848C1A9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304920"/>
            <a:ext cx="79704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00BD-2BFE-4ABF-8EFB-1929FA05B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E61F-7980-4354-AC6F-AA2AC30D7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840" y="384264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C290-6D9D-4D6B-B7CD-BF565B3EE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840" y="1295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4264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07FB-6A7B-42E7-B8F3-7F2EDA5C5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 hidden="1"/>
          <p:cNvSpPr/>
          <p:nvPr/>
        </p:nvSpPr>
        <p:spPr>
          <a:xfrm>
            <a:off x="7620120" y="762120"/>
            <a:ext cx="1371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1800" y="2104920"/>
            <a:ext cx="838152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485200" y="6553080"/>
            <a:ext cx="6584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759850-9F7E-4C63-87D7-2F7F77890DA4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00400" y="6324480"/>
            <a:ext cx="2895120" cy="35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"/>
          <p:cNvSpPr/>
          <p:nvPr/>
        </p:nvSpPr>
        <p:spPr>
          <a:xfrm>
            <a:off x="7620120" y="762120"/>
            <a:ext cx="1371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굴림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  <a:ea typeface="굴림"/>
              </a:rPr>
              <a:t>单击此处编辑母版文本样式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굴림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굴림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굴림"/>
              </a:rPr>
              <a:t>第四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굴림"/>
              </a:rPr>
              <a:t>第五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302680" y="6524640"/>
            <a:ext cx="764640" cy="333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C01425-5B3A-48F2-A2D7-B469C8D5E036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76320" y="6445080"/>
            <a:ext cx="2895120" cy="35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3"/>
          <p:cNvSpPr/>
          <p:nvPr/>
        </p:nvSpPr>
        <p:spPr>
          <a:xfrm>
            <a:off x="7620120" y="762120"/>
            <a:ext cx="1371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굴림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굴림"/>
              </a:rPr>
              <a:t>单击图标添加图表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8302680" y="6524640"/>
            <a:ext cx="764640" cy="333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2AE4D7-707D-4300-B79E-00B031024736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76320" y="6445080"/>
            <a:ext cx="2895120" cy="35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943600" y="4619520"/>
            <a:ext cx="3047760" cy="4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61800" y="2009880"/>
            <a:ext cx="838152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굴림"/>
              </a:rPr>
              <a:t>PowerPoint Templat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80880" y="2666880"/>
            <a:ext cx="441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Click to edit Maste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576880" y="340812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然绿商务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bettygreen_c0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20" y="374760"/>
            <a:ext cx="880884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51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2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3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4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5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6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7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itle 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www.1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ccff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iagram 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533520" y="1676520"/>
            <a:ext cx="1752120" cy="456840"/>
          </a:xfrm>
          <a:prstGeom prst="homePlate">
            <a:avLst>
              <a:gd name="adj" fmla="val 95833"/>
            </a:avLst>
          </a:prstGeom>
          <a:gradFill rotWithShape="0">
            <a:gsLst>
              <a:gs pos="0">
                <a:srgbClr val="0066cc"/>
              </a:gs>
              <a:gs pos="100000">
                <a:srgbClr val="66ccff"/>
              </a:gs>
            </a:gsLst>
            <a:lin ang="0"/>
          </a:gradFill>
          <a:ln w="3175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905120" y="1676520"/>
            <a:ext cx="2514240" cy="456840"/>
          </a:xfrm>
          <a:prstGeom prst="chevron">
            <a:avLst>
              <a:gd name="adj" fmla="val 95486"/>
            </a:avLst>
          </a:prstGeom>
          <a:gradFill rotWithShape="0">
            <a:gsLst>
              <a:gs pos="0">
                <a:srgbClr val="0066cc"/>
              </a:gs>
              <a:gs pos="100000">
                <a:srgbClr val="66ccff"/>
              </a:gs>
            </a:gsLst>
            <a:lin ang="0"/>
          </a:gradFill>
          <a:ln w="3175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038480" y="1676520"/>
            <a:ext cx="2514240" cy="456840"/>
          </a:xfrm>
          <a:prstGeom prst="chevron">
            <a:avLst>
              <a:gd name="adj" fmla="val 95486"/>
            </a:avLst>
          </a:prstGeom>
          <a:gradFill rotWithShape="0">
            <a:gsLst>
              <a:gs pos="0">
                <a:srgbClr val="0066cc"/>
              </a:gs>
              <a:gs pos="100000">
                <a:srgbClr val="66ccff"/>
              </a:gs>
            </a:gsLst>
            <a:lin ang="0"/>
          </a:gradFill>
          <a:ln w="3175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6172200" y="1676520"/>
            <a:ext cx="2514240" cy="456840"/>
          </a:xfrm>
          <a:prstGeom prst="chevron">
            <a:avLst>
              <a:gd name="adj" fmla="val 95486"/>
            </a:avLst>
          </a:prstGeom>
          <a:gradFill rotWithShape="0">
            <a:gsLst>
              <a:gs pos="0">
                <a:srgbClr val="0066cc"/>
              </a:gs>
              <a:gs pos="100000">
                <a:srgbClr val="66ccff"/>
              </a:gs>
            </a:gsLst>
            <a:lin ang="0"/>
          </a:gradFill>
          <a:ln w="3175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33160" y="2209680"/>
            <a:ext cx="360" cy="3276720"/>
          </a:xfrm>
          <a:prstGeom prst="line">
            <a:avLst/>
          </a:prstGeom>
          <a:ln w="381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981080" y="2209680"/>
            <a:ext cx="360" cy="3276720"/>
          </a:xfrm>
          <a:prstGeom prst="line">
            <a:avLst/>
          </a:prstGeom>
          <a:ln w="381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038480" y="2209680"/>
            <a:ext cx="360" cy="3276720"/>
          </a:xfrm>
          <a:prstGeom prst="line">
            <a:avLst/>
          </a:prstGeom>
          <a:ln w="381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172200" y="2209680"/>
            <a:ext cx="360" cy="3276720"/>
          </a:xfrm>
          <a:prstGeom prst="line">
            <a:avLst/>
          </a:prstGeom>
          <a:ln w="381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8686800" y="1981080"/>
            <a:ext cx="360" cy="3505320"/>
          </a:xfrm>
          <a:prstGeom prst="line">
            <a:avLst/>
          </a:prstGeom>
          <a:ln w="381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762120" y="2362320"/>
            <a:ext cx="106632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209680" y="2362320"/>
            <a:ext cx="106632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267080" y="2362320"/>
            <a:ext cx="106632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6386400" y="2362320"/>
            <a:ext cx="106632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  <a:ea typeface="굴림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33160" y="5562360"/>
            <a:ext cx="8153640" cy="360"/>
          </a:xfrm>
          <a:prstGeom prst="line">
            <a:avLst/>
          </a:prstGeom>
          <a:ln w="254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20" y="304920"/>
            <a:ext cx="797040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굴림"/>
              </a:rPr>
              <a:t>Diagram 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3200400" y="2666880"/>
            <a:ext cx="2361960" cy="2361960"/>
          </a:xfrm>
          <a:prstGeom prst="ellipse">
            <a:avLst/>
          </a:prstGeom>
          <a:noFill/>
          <a:ln w="63500">
            <a:solidFill>
              <a:srgbClr val="66cc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3657600" y="1905120"/>
            <a:ext cx="1447560" cy="14475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66cc"/>
              </a:gs>
            </a:gsLst>
            <a:lin ang="2700000"/>
          </a:gradFill>
          <a:ln w="508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2514600" y="3809880"/>
            <a:ext cx="1447560" cy="14475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66cc"/>
              </a:gs>
            </a:gsLst>
            <a:lin ang="2700000"/>
          </a:gradFill>
          <a:ln w="508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4952880" y="3809880"/>
            <a:ext cx="1447560" cy="14475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66cc"/>
              </a:gs>
            </a:gsLst>
            <a:lin ang="2700000"/>
          </a:gradFill>
          <a:ln w="508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35080" y="2376360"/>
            <a:ext cx="110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2692080" y="4273560"/>
            <a:ext cx="110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5143320" y="4273560"/>
            <a:ext cx="110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5257800" y="2057400"/>
            <a:ext cx="28951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228600" y="4861080"/>
            <a:ext cx="2285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6400800" y="4861080"/>
            <a:ext cx="2285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3"/>
          <p:cNvSpPr/>
          <p:nvPr/>
        </p:nvSpPr>
        <p:spPr>
          <a:xfrm>
            <a:off x="2286000" y="3657600"/>
            <a:ext cx="48970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굴림"/>
              </a:rPr>
              <a:t>E-mail : 00@00.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굴림"/>
              </a:rPr>
              <a:t>Office : 00- 0000-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957040" y="2590920"/>
            <a:ext cx="3526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굴림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绿色自然PPT模板">
  <a:themeElements>
    <a:clrScheme name="bettygreen02 1">
      <a:dk1>
        <a:srgbClr val="000000"/>
      </a:dk1>
      <a:lt1>
        <a:srgbClr val="ffffff"/>
      </a:lt1>
      <a:dk2>
        <a:srgbClr val="000066"/>
      </a:dk2>
      <a:lt2>
        <a:srgbClr val="ccffff"/>
      </a:lt2>
      <a:accent1>
        <a:srgbClr val="0066cc"/>
      </a:accent1>
      <a:accent2>
        <a:srgbClr val="ff9900"/>
      </a:accent2>
      <a:accent3>
        <a:srgbClr val="ffffff"/>
      </a:accent3>
      <a:accent4>
        <a:srgbClr val="000000"/>
      </a:accent4>
      <a:accent5>
        <a:srgbClr val="aab8e2"/>
      </a:accent5>
      <a:accent6>
        <a:srgbClr val="e78a00"/>
      </a:accent6>
      <a:hlink>
        <a:srgbClr val="66ccf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绿色自然PPT模板">
  <a:themeElements>
    <a:clrScheme name="bettygreen02 1">
      <a:dk1>
        <a:srgbClr val="000000"/>
      </a:dk1>
      <a:lt1>
        <a:srgbClr val="ffffff"/>
      </a:lt1>
      <a:dk2>
        <a:srgbClr val="000066"/>
      </a:dk2>
      <a:lt2>
        <a:srgbClr val="ccffff"/>
      </a:lt2>
      <a:accent1>
        <a:srgbClr val="0066cc"/>
      </a:accent1>
      <a:accent2>
        <a:srgbClr val="ff9900"/>
      </a:accent2>
      <a:accent3>
        <a:srgbClr val="ffffff"/>
      </a:accent3>
      <a:accent4>
        <a:srgbClr val="000000"/>
      </a:accent4>
      <a:accent5>
        <a:srgbClr val="aab8e2"/>
      </a:accent5>
      <a:accent6>
        <a:srgbClr val="e78a00"/>
      </a:accent6>
      <a:hlink>
        <a:srgbClr val="66ccf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绿色自然PPT模板">
  <a:themeElements>
    <a:clrScheme name="bettygreen02 1">
      <a:dk1>
        <a:srgbClr val="000000"/>
      </a:dk1>
      <a:lt1>
        <a:srgbClr val="ffffff"/>
      </a:lt1>
      <a:dk2>
        <a:srgbClr val="000066"/>
      </a:dk2>
      <a:lt2>
        <a:srgbClr val="ccffff"/>
      </a:lt2>
      <a:accent1>
        <a:srgbClr val="0066cc"/>
      </a:accent1>
      <a:accent2>
        <a:srgbClr val="ff9900"/>
      </a:accent2>
      <a:accent3>
        <a:srgbClr val="ffffff"/>
      </a:accent3>
      <a:accent4>
        <a:srgbClr val="000000"/>
      </a:accent4>
      <a:accent5>
        <a:srgbClr val="aab8e2"/>
      </a:accent5>
      <a:accent6>
        <a:srgbClr val="e78a00"/>
      </a:accent6>
      <a:hlink>
        <a:srgbClr val="66ccf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ccffff"/>
      </a:lt2>
      <a:accent1>
        <a:srgbClr val="0066cc"/>
      </a:accent1>
      <a:accent2>
        <a:srgbClr val="ff9900"/>
      </a:accent2>
      <a:accent3>
        <a:srgbClr val="ffffff"/>
      </a:accent3>
      <a:accent4>
        <a:srgbClr val="000000"/>
      </a:accent4>
      <a:accent5>
        <a:srgbClr val="aab8e2"/>
      </a:accent5>
      <a:accent6>
        <a:srgbClr val="e78a00"/>
      </a:accent6>
      <a:hlink>
        <a:srgbClr val="66ccf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绿色自然PPT模板</Template>
  <TotalTime>197</TotalTime>
  <Application>LibreOffice/7.4.7.2$Linux_X86_64 LibreOffice_project/40$Build-2</Application>
  <AppVersion>15.0000</AppVersion>
  <Words>135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1:55:52Z</dcterms:created>
  <dc:creator>jccook</dc:creator>
  <dc:description/>
  <dc:language>en-US</dc:language>
  <cp:lastModifiedBy>王玉清</cp:lastModifiedBy>
  <dcterms:modified xsi:type="dcterms:W3CDTF">2016-02-21T07:32:11Z</dcterms:modified>
  <cp:revision>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