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72C-8CE4-4FDE-8457-0A61E0E6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975-BB50-42D1-A9F6-13686BD6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BCC-C72C-46A9-A875-BF72E39B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23C-E858-4E8D-B50C-CAAB7AE4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35A7-1D80-4B36-AD3F-86546CB6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40D9-17A7-41EB-B797-E64BC464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EC8E-ED0C-499D-8D5E-8E3B1100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0906-F9B3-4DAA-9A0A-0C869104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E826-4E75-4065-A793-5C44D4A2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BC1F-73DA-4F46-B26B-240A231F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93D6-87AF-43DD-A2C6-E94A6E6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76EF-743A-4F8A-83DE-8BC88BBB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94DB-91BB-44DD-BB58-A0A09244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1B42-688D-4F42-BB2D-D35B0A19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643B-3403-4564-8F5C-D68E3E30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80C1-243A-476C-88E6-2E629209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E081-EA56-4249-BB2D-4173DD2B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F59-9A10-4FAF-9780-EE341D21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764-8E5B-4F1C-A2B2-F9D9A0FA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C5D-6B9B-479D-B9E8-09A6D13E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12EA-1478-4055-BED8-421B96F2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855E-9AEE-4376-A972-C6698EA3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D3B-D5DE-4919-862D-0B977A1D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98B3-4F65-4ECC-BAE3-ECBFD3C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6D9B-B910-4C21-822E-0A95CEA0A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23D3-D306-4091-BDAA-8C1FAA944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63600"/>
            <a:ext cx="8229240" cy="31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059280"/>
            <a:ext cx="64008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4932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760" y="3240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植物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8720" y="248436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000080"/>
            <a:ext cx="89280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262080"/>
            <a:ext cx="13888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749-FCFA-49CE-88BF-B54C91797B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02:1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