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F01-9E57-4191-A27C-FEF457C1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C01-9936-4B2A-9D34-1BE447D9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BF5-C4B1-46B8-9531-0B04531C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818-84AB-409F-90BC-D2523DF8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184F-E715-4AC5-A976-1A12169C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8711-291A-42D4-BB78-83844EB3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309A-9AED-4B0F-AFFB-0CD07DB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6555-6E98-411A-B0A9-4A63C407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8BB4-0E27-4865-96F1-47B77CA7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73E1-EF55-456B-B2B9-B29CB519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DF12-FA7D-49FD-B05A-27B02CD2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92D-EEFC-45CB-B28A-953B05FB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F20D-2DCC-484D-AEA2-F61FDDB2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9F7E-1B14-4E50-A6DA-38B22029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5F09-5164-4AE5-ABDD-EB300FA4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D0AD-738F-4A1F-BDED-EA4CD2C6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BB6F-D16F-46B4-9CBB-88048CE0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1F0CB-CB34-4B31-90AA-EF5F01C7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85D9-A181-434A-B348-BBDA4C01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820B-1D5C-416E-BBD1-7F2ABC05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2665-8278-4350-AF40-4F43DFEB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D260-7CC8-4681-8027-88BCD2EB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EED-639A-4ADC-9EDC-4BD9CD1D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196D-AB7F-4C77-87AD-4C7D965C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8D11-ADE9-49F0-A68B-AFFE1E0B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D90E-B1EF-4FF4-9E88-14A4D48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F12D-46B9-4BC1-9AB5-EBACC4E6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2D6E-892D-46B4-8C14-E9E93FAB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05D1-A020-4687-A566-342CB5A4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ED1F-F9F1-46EC-AF9D-EFB78B38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EA2-A525-4512-B5A3-DB2C1132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C6F-0470-4160-8BC6-C258FC09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273-AEB7-402A-83CF-DB5B6D5B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3DD-8D1F-4DCB-91CD-2E33B620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A9B-38A2-4BF4-A526-E6C9AE4A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3C3-1925-4B2A-B672-612D44E5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79125C-67D1-487B-8F74-1C3D7A162D23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5770BC-F83C-44FC-9DE9-325284F18734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0" y="0"/>
            <a:ext cx="12191760" cy="864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sp>
        <p:nvSpPr>
          <p:cNvPr id="45" name="等腰三角形 6"/>
          <p:cNvSpPr/>
          <p:nvPr/>
        </p:nvSpPr>
        <p:spPr>
          <a:xfrm flipV="1">
            <a:off x="867960" y="744840"/>
            <a:ext cx="460800" cy="397080"/>
          </a:xfrm>
          <a:prstGeom prst="triangle">
            <a:avLst>
              <a:gd name="adj" fmla="val 50000"/>
            </a:avLst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19560" y="79560"/>
            <a:ext cx="10515240" cy="7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4BE318-9676-4966-BB84-EC443B901951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00600" y="958320"/>
            <a:ext cx="4390560" cy="126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8800" spc="-1" strike="noStrike">
                <a:solidFill>
                  <a:srgbClr val="c00000"/>
                </a:solidFill>
                <a:latin typeface="黑体"/>
                <a:ea typeface="黑体"/>
              </a:rPr>
              <a:t>风暴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00600" y="2221920"/>
            <a:ext cx="43905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 Light"/>
              </a:rPr>
              <a:t>大风起兮潮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"/>
          <p:cNvSpPr/>
          <p:nvPr/>
        </p:nvSpPr>
        <p:spPr>
          <a:xfrm>
            <a:off x="4613040" y="2667600"/>
            <a:ext cx="2965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 Light"/>
              </a:rPr>
              <a:t>文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 Light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 Light"/>
              </a:rPr>
              <a:t>广东梅县东山中学 范国雄      图自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直接连接符 7"/>
          <p:cNvCxnSpPr/>
          <p:nvPr/>
        </p:nvCxnSpPr>
        <p:spPr>
          <a:xfrm>
            <a:off x="4002480" y="2676240"/>
            <a:ext cx="41871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</a:ln>
        </p:spPr>
      </p:cxnSp>
      <p:sp>
        <p:nvSpPr>
          <p:cNvPr id="130" name="矩形 4"/>
          <p:cNvSpPr/>
          <p:nvPr/>
        </p:nvSpPr>
        <p:spPr>
          <a:xfrm>
            <a:off x="3866760" y="250560"/>
            <a:ext cx="4458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 Light"/>
              </a:rPr>
              <a:t>中学地理课件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 Light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 Light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2"/>
          <p:cNvGrpSpPr/>
          <p:nvPr/>
        </p:nvGrpSpPr>
        <p:grpSpPr>
          <a:xfrm>
            <a:off x="1847880" y="501480"/>
            <a:ext cx="8180280" cy="1619280"/>
            <a:chOff x="1847880" y="501480"/>
            <a:chExt cx="8180280" cy="1619280"/>
          </a:xfrm>
        </p:grpSpPr>
        <p:sp>
          <p:nvSpPr>
            <p:cNvPr id="235" name="圆角矩形 3"/>
            <p:cNvSpPr/>
            <p:nvPr/>
          </p:nvSpPr>
          <p:spPr>
            <a:xfrm>
              <a:off x="2047320" y="501480"/>
              <a:ext cx="7980840" cy="1619280"/>
            </a:xfrm>
            <a:prstGeom prst="roundRect">
              <a:avLst>
                <a:gd name="adj" fmla="val 4656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36" name="等腰三角形 4"/>
            <p:cNvSpPr/>
            <p:nvPr/>
          </p:nvSpPr>
          <p:spPr>
            <a:xfrm rot="16200000">
              <a:off x="1829880" y="7628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237" name="文本框 5"/>
          <p:cNvSpPr/>
          <p:nvPr/>
        </p:nvSpPr>
        <p:spPr>
          <a:xfrm>
            <a:off x="2054160" y="519480"/>
            <a:ext cx="79408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按照诱发风暴潮的大气扰动特性，把风暴潮分为由热带气旋所引起的</a:t>
            </a: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台风风暴潮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和由温带气旋等温带天气系统所引起的</a:t>
            </a: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温带风暴潮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6"/>
          <p:cNvGrpSpPr/>
          <p:nvPr/>
        </p:nvGrpSpPr>
        <p:grpSpPr>
          <a:xfrm>
            <a:off x="506880" y="501480"/>
            <a:ext cx="1182240" cy="1182240"/>
            <a:chOff x="506880" y="501480"/>
            <a:chExt cx="1182240" cy="1182240"/>
          </a:xfrm>
        </p:grpSpPr>
        <p:sp>
          <p:nvSpPr>
            <p:cNvPr id="239" name="圆角矩形 7"/>
            <p:cNvSpPr/>
            <p:nvPr/>
          </p:nvSpPr>
          <p:spPr>
            <a:xfrm>
              <a:off x="506880" y="50148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240" name="图片 8" descr=""/>
            <p:cNvPicPr/>
            <p:nvPr/>
          </p:nvPicPr>
          <p:blipFill>
            <a:blip r:embed="rId1"/>
            <a:stretch/>
          </p:blipFill>
          <p:spPr>
            <a:xfrm flipH="1">
              <a:off x="543600" y="564120"/>
              <a:ext cx="1069920" cy="10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组合 22"/>
          <p:cNvGrpSpPr/>
          <p:nvPr/>
        </p:nvGrpSpPr>
        <p:grpSpPr>
          <a:xfrm>
            <a:off x="2054160" y="2683440"/>
            <a:ext cx="7940880" cy="1331640"/>
            <a:chOff x="2054160" y="2683440"/>
            <a:chExt cx="7940880" cy="1331640"/>
          </a:xfrm>
        </p:grpSpPr>
        <p:sp>
          <p:nvSpPr>
            <p:cNvPr id="242" name="圆角矩形 9"/>
            <p:cNvSpPr/>
            <p:nvPr/>
          </p:nvSpPr>
          <p:spPr>
            <a:xfrm>
              <a:off x="2054160" y="2683440"/>
              <a:ext cx="2219400" cy="1331640"/>
            </a:xfrm>
            <a:prstGeom prst="roundRect">
              <a:avLst>
                <a:gd name="adj" fmla="val 7712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43" name="圆角矩形 10"/>
            <p:cNvSpPr/>
            <p:nvPr/>
          </p:nvSpPr>
          <p:spPr>
            <a:xfrm>
              <a:off x="4273920" y="2683440"/>
              <a:ext cx="5721120" cy="1331640"/>
            </a:xfrm>
            <a:prstGeom prst="roundRect">
              <a:avLst>
                <a:gd name="adj" fmla="val 7712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44" name="矩形 11"/>
            <p:cNvSpPr/>
            <p:nvPr/>
          </p:nvSpPr>
          <p:spPr>
            <a:xfrm>
              <a:off x="3429000" y="2683440"/>
              <a:ext cx="1361160" cy="133164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45" name="等腰三角形 12"/>
            <p:cNvSpPr/>
            <p:nvPr/>
          </p:nvSpPr>
          <p:spPr>
            <a:xfrm rot="5400000">
              <a:off x="3415680" y="3263760"/>
              <a:ext cx="198360" cy="17100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46" name="矩形 13"/>
            <p:cNvSpPr/>
            <p:nvPr/>
          </p:nvSpPr>
          <p:spPr>
            <a:xfrm>
              <a:off x="2341080" y="2841480"/>
              <a:ext cx="7297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台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风暴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4"/>
            <p:cNvSpPr/>
            <p:nvPr/>
          </p:nvSpPr>
          <p:spPr>
            <a:xfrm>
              <a:off x="3600360" y="2749320"/>
              <a:ext cx="632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 Light"/>
                </a:rPr>
                <a:t>多见于</a:t>
              </a:r>
              <a:r>
                <a:rPr b="0" lang="zh-CN" sz="2400" spc="-1" strike="noStrike">
                  <a:solidFill>
                    <a:srgbClr val="99ff33"/>
                  </a:solidFill>
                  <a:latin typeface="Arial"/>
                  <a:ea typeface="微软雅黑 Light"/>
                </a:rPr>
                <a:t>夏秋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 Light"/>
                </a:rPr>
                <a:t>季节。特点是：来势</a:t>
              </a:r>
              <a:r>
                <a:rPr b="0" lang="zh-CN" sz="2400" spc="-1" strike="noStrike">
                  <a:solidFill>
                    <a:srgbClr val="99ff33"/>
                  </a:solidFill>
                  <a:latin typeface="Arial"/>
                  <a:ea typeface="微软雅黑 Light"/>
                </a:rPr>
                <a:t>猛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 Light"/>
                </a:rPr>
                <a:t>、速度快、强度大、破坏力强。凡是有台风（飓风）影响的海洋国家、沿海地区均有台风风暴潮发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21"/>
          <p:cNvGrpSpPr/>
          <p:nvPr/>
        </p:nvGrpSpPr>
        <p:grpSpPr>
          <a:xfrm>
            <a:off x="2042640" y="4516200"/>
            <a:ext cx="7940880" cy="1635120"/>
            <a:chOff x="2042640" y="4516200"/>
            <a:chExt cx="7940880" cy="1635120"/>
          </a:xfrm>
        </p:grpSpPr>
        <p:sp>
          <p:nvSpPr>
            <p:cNvPr id="249" name="圆角矩形 15"/>
            <p:cNvSpPr/>
            <p:nvPr/>
          </p:nvSpPr>
          <p:spPr>
            <a:xfrm>
              <a:off x="2042640" y="4516200"/>
              <a:ext cx="2219400" cy="1635120"/>
            </a:xfrm>
            <a:prstGeom prst="roundRect">
              <a:avLst>
                <a:gd name="adj" fmla="val 7712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50" name="圆角矩形 16"/>
            <p:cNvSpPr/>
            <p:nvPr/>
          </p:nvSpPr>
          <p:spPr>
            <a:xfrm>
              <a:off x="4262400" y="4516200"/>
              <a:ext cx="5721120" cy="1635120"/>
            </a:xfrm>
            <a:prstGeom prst="roundRect">
              <a:avLst>
                <a:gd name="adj" fmla="val 7712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51" name="矩形 17"/>
            <p:cNvSpPr/>
            <p:nvPr/>
          </p:nvSpPr>
          <p:spPr>
            <a:xfrm>
              <a:off x="3417480" y="4516200"/>
              <a:ext cx="1361160" cy="163512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52" name="等腰三角形 18"/>
            <p:cNvSpPr/>
            <p:nvPr/>
          </p:nvSpPr>
          <p:spPr>
            <a:xfrm rot="5400000">
              <a:off x="3404160" y="5248080"/>
              <a:ext cx="198360" cy="17100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53" name="矩形 19"/>
            <p:cNvSpPr/>
            <p:nvPr/>
          </p:nvSpPr>
          <p:spPr>
            <a:xfrm>
              <a:off x="2329560" y="4826160"/>
              <a:ext cx="7297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温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风暴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20"/>
            <p:cNvSpPr/>
            <p:nvPr/>
          </p:nvSpPr>
          <p:spPr>
            <a:xfrm>
              <a:off x="3588840" y="4548960"/>
              <a:ext cx="63252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 Light"/>
                </a:rPr>
                <a:t>多发于</a:t>
              </a:r>
              <a:r>
                <a:rPr b="0" lang="zh-CN" sz="2400" spc="-1" strike="noStrike">
                  <a:solidFill>
                    <a:srgbClr val="99ff33"/>
                  </a:solidFill>
                  <a:latin typeface="Arial"/>
                  <a:ea typeface="微软雅黑 Light"/>
                </a:rPr>
                <a:t>春秋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 Light"/>
                </a:rPr>
                <a:t>季节，夏季也时有发生。其增水过程较平</a:t>
              </a:r>
              <a:r>
                <a:rPr b="0" lang="zh-CN" sz="2400" spc="-1" strike="noStrike">
                  <a:solidFill>
                    <a:srgbClr val="99ff33"/>
                  </a:solidFill>
                  <a:latin typeface="Arial"/>
                  <a:ea typeface="微软雅黑 Light"/>
                </a:rPr>
                <a:t>缓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 Light"/>
                </a:rPr>
                <a:t>，增水高度较低。主要发生在中纬度沿海地区。以欧洲北海沿岸、美国东海岸以及中国北方海区沿岸为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1"/>
          <p:cNvGrpSpPr/>
          <p:nvPr/>
        </p:nvGrpSpPr>
        <p:grpSpPr>
          <a:xfrm>
            <a:off x="1847880" y="501480"/>
            <a:ext cx="8180280" cy="681120"/>
            <a:chOff x="1847880" y="501480"/>
            <a:chExt cx="8180280" cy="681120"/>
          </a:xfrm>
        </p:grpSpPr>
        <p:sp>
          <p:nvSpPr>
            <p:cNvPr id="256" name="圆角矩形 2"/>
            <p:cNvSpPr/>
            <p:nvPr/>
          </p:nvSpPr>
          <p:spPr>
            <a:xfrm>
              <a:off x="2047320" y="501480"/>
              <a:ext cx="7980840" cy="681120"/>
            </a:xfrm>
            <a:prstGeom prst="roundRect">
              <a:avLst>
                <a:gd name="adj" fmla="val 9032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57" name="等腰三角形 3"/>
            <p:cNvSpPr/>
            <p:nvPr/>
          </p:nvSpPr>
          <p:spPr>
            <a:xfrm rot="16200000">
              <a:off x="1829880" y="7628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258" name="文本框 4"/>
          <p:cNvSpPr/>
          <p:nvPr/>
        </p:nvSpPr>
        <p:spPr>
          <a:xfrm>
            <a:off x="2054160" y="519480"/>
            <a:ext cx="7940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形成风暴潮一般有三个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5"/>
          <p:cNvGrpSpPr/>
          <p:nvPr/>
        </p:nvGrpSpPr>
        <p:grpSpPr>
          <a:xfrm>
            <a:off x="506880" y="501480"/>
            <a:ext cx="1182240" cy="1182240"/>
            <a:chOff x="506880" y="501480"/>
            <a:chExt cx="1182240" cy="1182240"/>
          </a:xfrm>
        </p:grpSpPr>
        <p:sp>
          <p:nvSpPr>
            <p:cNvPr id="260" name="圆角矩形 6"/>
            <p:cNvSpPr/>
            <p:nvPr/>
          </p:nvSpPr>
          <p:spPr>
            <a:xfrm>
              <a:off x="506880" y="50148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261" name="图片 7" descr=""/>
            <p:cNvPicPr/>
            <p:nvPr/>
          </p:nvPicPr>
          <p:blipFill>
            <a:blip r:embed="rId1"/>
            <a:stretch/>
          </p:blipFill>
          <p:spPr>
            <a:xfrm flipH="1">
              <a:off x="543600" y="564120"/>
              <a:ext cx="1069920" cy="10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组合 8"/>
          <p:cNvGrpSpPr/>
          <p:nvPr/>
        </p:nvGrpSpPr>
        <p:grpSpPr>
          <a:xfrm>
            <a:off x="2054160" y="1684080"/>
            <a:ext cx="7940880" cy="1331640"/>
            <a:chOff x="2054160" y="1684080"/>
            <a:chExt cx="7940880" cy="1331640"/>
          </a:xfrm>
        </p:grpSpPr>
        <p:sp>
          <p:nvSpPr>
            <p:cNvPr id="263" name="圆角矩形 9"/>
            <p:cNvSpPr/>
            <p:nvPr/>
          </p:nvSpPr>
          <p:spPr>
            <a:xfrm>
              <a:off x="2054160" y="1684080"/>
              <a:ext cx="2219400" cy="1331640"/>
            </a:xfrm>
            <a:prstGeom prst="roundRect">
              <a:avLst>
                <a:gd name="adj" fmla="val 7712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64" name="圆角矩形 10"/>
            <p:cNvSpPr/>
            <p:nvPr/>
          </p:nvSpPr>
          <p:spPr>
            <a:xfrm>
              <a:off x="4273920" y="1684080"/>
              <a:ext cx="5721120" cy="1331640"/>
            </a:xfrm>
            <a:prstGeom prst="roundRect">
              <a:avLst>
                <a:gd name="adj" fmla="val 7712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65" name="矩形 11"/>
            <p:cNvSpPr/>
            <p:nvPr/>
          </p:nvSpPr>
          <p:spPr>
            <a:xfrm>
              <a:off x="3429000" y="1684080"/>
              <a:ext cx="1361160" cy="133164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66" name="等腰三角形 12"/>
            <p:cNvSpPr/>
            <p:nvPr/>
          </p:nvSpPr>
          <p:spPr>
            <a:xfrm rot="5400000">
              <a:off x="3415680" y="2264400"/>
              <a:ext cx="198360" cy="17100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67" name="矩形 13"/>
            <p:cNvSpPr/>
            <p:nvPr/>
          </p:nvSpPr>
          <p:spPr>
            <a:xfrm>
              <a:off x="2341080" y="1842120"/>
              <a:ext cx="72972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有利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地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4"/>
            <p:cNvSpPr/>
            <p:nvPr/>
          </p:nvSpPr>
          <p:spPr>
            <a:xfrm>
              <a:off x="3600360" y="1934640"/>
              <a:ext cx="63252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 Light"/>
                </a:rPr>
                <a:t>海岸线或海湾地形呈喇叭口状，海滩平缓，使海浪直抵湾顶，不易向四周扩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15"/>
          <p:cNvGrpSpPr/>
          <p:nvPr/>
        </p:nvGrpSpPr>
        <p:grpSpPr>
          <a:xfrm>
            <a:off x="2047320" y="3108240"/>
            <a:ext cx="7940880" cy="1331640"/>
            <a:chOff x="2047320" y="3108240"/>
            <a:chExt cx="7940880" cy="1331640"/>
          </a:xfrm>
        </p:grpSpPr>
        <p:sp>
          <p:nvSpPr>
            <p:cNvPr id="270" name="圆角矩形 16"/>
            <p:cNvSpPr/>
            <p:nvPr/>
          </p:nvSpPr>
          <p:spPr>
            <a:xfrm>
              <a:off x="2047320" y="3108240"/>
              <a:ext cx="2219400" cy="1331640"/>
            </a:xfrm>
            <a:prstGeom prst="roundRect">
              <a:avLst>
                <a:gd name="adj" fmla="val 7712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71" name="圆角矩形 17"/>
            <p:cNvSpPr/>
            <p:nvPr/>
          </p:nvSpPr>
          <p:spPr>
            <a:xfrm>
              <a:off x="4267080" y="3108240"/>
              <a:ext cx="5721120" cy="1331640"/>
            </a:xfrm>
            <a:prstGeom prst="roundRect">
              <a:avLst>
                <a:gd name="adj" fmla="val 7712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72" name="矩形 18"/>
            <p:cNvSpPr/>
            <p:nvPr/>
          </p:nvSpPr>
          <p:spPr>
            <a:xfrm>
              <a:off x="3422520" y="3108240"/>
              <a:ext cx="1361160" cy="133164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73" name="等腰三角形 19"/>
            <p:cNvSpPr/>
            <p:nvPr/>
          </p:nvSpPr>
          <p:spPr>
            <a:xfrm rot="5400000">
              <a:off x="3409200" y="3688560"/>
              <a:ext cx="198360" cy="17100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74" name="矩形 20"/>
            <p:cNvSpPr/>
            <p:nvPr/>
          </p:nvSpPr>
          <p:spPr>
            <a:xfrm>
              <a:off x="2242800" y="3266280"/>
              <a:ext cx="9126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持续向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大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21"/>
            <p:cNvSpPr/>
            <p:nvPr/>
          </p:nvSpPr>
          <p:spPr>
            <a:xfrm>
              <a:off x="3593880" y="3358800"/>
              <a:ext cx="632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 Light"/>
                </a:rPr>
                <a:t>由于强风或气压骤变等强烈的天气系统对海面作用，导致海水急剧升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22"/>
          <p:cNvGrpSpPr/>
          <p:nvPr/>
        </p:nvGrpSpPr>
        <p:grpSpPr>
          <a:xfrm>
            <a:off x="2047320" y="4522320"/>
            <a:ext cx="7940880" cy="1331640"/>
            <a:chOff x="2047320" y="4522320"/>
            <a:chExt cx="7940880" cy="1331640"/>
          </a:xfrm>
        </p:grpSpPr>
        <p:sp>
          <p:nvSpPr>
            <p:cNvPr id="277" name="圆角矩形 23"/>
            <p:cNvSpPr/>
            <p:nvPr/>
          </p:nvSpPr>
          <p:spPr>
            <a:xfrm>
              <a:off x="2047320" y="4522320"/>
              <a:ext cx="2219400" cy="1331640"/>
            </a:xfrm>
            <a:prstGeom prst="roundRect">
              <a:avLst>
                <a:gd name="adj" fmla="val 7712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78" name="圆角矩形 24"/>
            <p:cNvSpPr/>
            <p:nvPr/>
          </p:nvSpPr>
          <p:spPr>
            <a:xfrm>
              <a:off x="4267080" y="4522320"/>
              <a:ext cx="5721120" cy="1331640"/>
            </a:xfrm>
            <a:prstGeom prst="roundRect">
              <a:avLst>
                <a:gd name="adj" fmla="val 7712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79" name="矩形 25"/>
            <p:cNvSpPr/>
            <p:nvPr/>
          </p:nvSpPr>
          <p:spPr>
            <a:xfrm>
              <a:off x="3422520" y="4522320"/>
              <a:ext cx="1361160" cy="133164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80" name="等腰三角形 26"/>
            <p:cNvSpPr/>
            <p:nvPr/>
          </p:nvSpPr>
          <p:spPr>
            <a:xfrm rot="5400000">
              <a:off x="3409200" y="5102640"/>
              <a:ext cx="198360" cy="17100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81" name="矩形 27"/>
            <p:cNvSpPr/>
            <p:nvPr/>
          </p:nvSpPr>
          <p:spPr>
            <a:xfrm>
              <a:off x="2334600" y="4588200"/>
              <a:ext cx="7297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天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大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8"/>
            <p:cNvSpPr/>
            <p:nvPr/>
          </p:nvSpPr>
          <p:spPr>
            <a:xfrm>
              <a:off x="3593880" y="4588200"/>
              <a:ext cx="632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微软雅黑 Light"/>
                </a:rPr>
                <a:t>逢农历初一、十五的天文大潮，它是形成风暴潮的主体。当天文大潮与持续的向岸大风遭遇时，就形成了破坏性的风暴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13"/>
          <p:cNvGrpSpPr/>
          <p:nvPr/>
        </p:nvGrpSpPr>
        <p:grpSpPr>
          <a:xfrm>
            <a:off x="2046960" y="350640"/>
            <a:ext cx="8181000" cy="752400"/>
            <a:chOff x="2046960" y="350640"/>
            <a:chExt cx="8181000" cy="752400"/>
          </a:xfrm>
        </p:grpSpPr>
        <p:sp>
          <p:nvSpPr>
            <p:cNvPr id="284" name="圆角矩形 14"/>
            <p:cNvSpPr/>
            <p:nvPr/>
          </p:nvSpPr>
          <p:spPr>
            <a:xfrm flipH="1">
              <a:off x="2046600" y="350640"/>
              <a:ext cx="7980840" cy="752400"/>
            </a:xfrm>
            <a:prstGeom prst="roundRect">
              <a:avLst>
                <a:gd name="adj" fmla="val 10641"/>
              </a:avLst>
            </a:prstGeom>
            <a:solidFill>
              <a:srgbClr val="ff3399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85" name="等腰三角形 15"/>
            <p:cNvSpPr/>
            <p:nvPr/>
          </p:nvSpPr>
          <p:spPr>
            <a:xfrm flipH="1" rot="5400000">
              <a:off x="9987480" y="61200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286" name="文本框 4"/>
          <p:cNvSpPr/>
          <p:nvPr/>
        </p:nvSpPr>
        <p:spPr>
          <a:xfrm>
            <a:off x="2054160" y="350640"/>
            <a:ext cx="7940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老师，你讲讲哪里容易发生风暴潮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9"/>
          <p:cNvGrpSpPr/>
          <p:nvPr/>
        </p:nvGrpSpPr>
        <p:grpSpPr>
          <a:xfrm>
            <a:off x="10422720" y="332280"/>
            <a:ext cx="1182240" cy="1577520"/>
            <a:chOff x="10422720" y="332280"/>
            <a:chExt cx="1182240" cy="1577520"/>
          </a:xfrm>
        </p:grpSpPr>
        <p:sp>
          <p:nvSpPr>
            <p:cNvPr id="288" name="圆角矩形 6"/>
            <p:cNvSpPr/>
            <p:nvPr/>
          </p:nvSpPr>
          <p:spPr>
            <a:xfrm>
              <a:off x="10422720" y="332280"/>
              <a:ext cx="1182240" cy="11822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8127936" ty="7165267" sx="59999" sy="59999" algn="tl"/>
            </a:blip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89" name="文本框 8"/>
            <p:cNvSpPr/>
            <p:nvPr/>
          </p:nvSpPr>
          <p:spPr>
            <a:xfrm>
              <a:off x="10770840" y="151524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 Light"/>
                </a:rPr>
                <a:t>学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6"/>
          <p:cNvGrpSpPr/>
          <p:nvPr/>
        </p:nvGrpSpPr>
        <p:grpSpPr>
          <a:xfrm>
            <a:off x="1847880" y="1515240"/>
            <a:ext cx="8180280" cy="681120"/>
            <a:chOff x="1847880" y="1515240"/>
            <a:chExt cx="8180280" cy="681120"/>
          </a:xfrm>
        </p:grpSpPr>
        <p:sp>
          <p:nvSpPr>
            <p:cNvPr id="291" name="圆角矩形 17"/>
            <p:cNvSpPr/>
            <p:nvPr/>
          </p:nvSpPr>
          <p:spPr>
            <a:xfrm>
              <a:off x="2047320" y="1515240"/>
              <a:ext cx="7980840" cy="681120"/>
            </a:xfrm>
            <a:prstGeom prst="roundRect">
              <a:avLst>
                <a:gd name="adj" fmla="val 9032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92" name="等腰三角形 18"/>
            <p:cNvSpPr/>
            <p:nvPr/>
          </p:nvSpPr>
          <p:spPr>
            <a:xfrm rot="16200000">
              <a:off x="1829880" y="177660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293" name="文本框 19"/>
          <p:cNvSpPr/>
          <p:nvPr/>
        </p:nvSpPr>
        <p:spPr>
          <a:xfrm>
            <a:off x="2054160" y="1533240"/>
            <a:ext cx="7940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同学你又调皮了，前面我已经讲过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20"/>
          <p:cNvGrpSpPr/>
          <p:nvPr/>
        </p:nvGrpSpPr>
        <p:grpSpPr>
          <a:xfrm>
            <a:off x="506880" y="1515240"/>
            <a:ext cx="1182240" cy="1182240"/>
            <a:chOff x="506880" y="1515240"/>
            <a:chExt cx="1182240" cy="1182240"/>
          </a:xfrm>
        </p:grpSpPr>
        <p:sp>
          <p:nvSpPr>
            <p:cNvPr id="295" name="圆角矩形 21"/>
            <p:cNvSpPr/>
            <p:nvPr/>
          </p:nvSpPr>
          <p:spPr>
            <a:xfrm>
              <a:off x="506880" y="151524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296" name="图片 22" descr=""/>
            <p:cNvPicPr/>
            <p:nvPr/>
          </p:nvPicPr>
          <p:blipFill>
            <a:blip r:embed="rId2"/>
            <a:stretch/>
          </p:blipFill>
          <p:spPr>
            <a:xfrm flipH="1">
              <a:off x="543600" y="1577880"/>
              <a:ext cx="1069920" cy="106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文本框 23"/>
          <p:cNvSpPr/>
          <p:nvPr/>
        </p:nvSpPr>
        <p:spPr>
          <a:xfrm>
            <a:off x="835200" y="269784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 Light"/>
              </a:rPr>
              <a:t>专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25"/>
          <p:cNvGrpSpPr/>
          <p:nvPr/>
        </p:nvGrpSpPr>
        <p:grpSpPr>
          <a:xfrm>
            <a:off x="2046960" y="2629440"/>
            <a:ext cx="8181000" cy="752400"/>
            <a:chOff x="2046960" y="2629440"/>
            <a:chExt cx="8181000" cy="752400"/>
          </a:xfrm>
        </p:grpSpPr>
        <p:sp>
          <p:nvSpPr>
            <p:cNvPr id="299" name="圆角矩形 26"/>
            <p:cNvSpPr/>
            <p:nvPr/>
          </p:nvSpPr>
          <p:spPr>
            <a:xfrm flipH="1">
              <a:off x="2046600" y="2629440"/>
              <a:ext cx="7980840" cy="752400"/>
            </a:xfrm>
            <a:prstGeom prst="roundRect">
              <a:avLst>
                <a:gd name="adj" fmla="val 10641"/>
              </a:avLst>
            </a:prstGeom>
            <a:solidFill>
              <a:srgbClr val="ff3399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300" name="等腰三角形 27"/>
            <p:cNvSpPr/>
            <p:nvPr/>
          </p:nvSpPr>
          <p:spPr>
            <a:xfrm flipH="1" rot="5400000">
              <a:off x="9987480" y="289080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301" name="文本框 28"/>
          <p:cNvSpPr/>
          <p:nvPr/>
        </p:nvSpPr>
        <p:spPr>
          <a:xfrm>
            <a:off x="2054160" y="2629440"/>
            <a:ext cx="7940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……好吧，我再回去看看呗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30"/>
          <p:cNvSpPr/>
          <p:nvPr/>
        </p:nvSpPr>
        <p:spPr>
          <a:xfrm>
            <a:off x="10422720" y="2611080"/>
            <a:ext cx="1182240" cy="11822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8127936" ty="7165267" sx="59999" sy="59999" algn="tl"/>
          </a:blipFill>
          <a:ln w="1905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grpSp>
        <p:nvGrpSpPr>
          <p:cNvPr id="303" name="组合 32"/>
          <p:cNvGrpSpPr/>
          <p:nvPr/>
        </p:nvGrpSpPr>
        <p:grpSpPr>
          <a:xfrm>
            <a:off x="1847880" y="3807720"/>
            <a:ext cx="8180280" cy="1182240"/>
            <a:chOff x="1847880" y="3807720"/>
            <a:chExt cx="8180280" cy="1182240"/>
          </a:xfrm>
        </p:grpSpPr>
        <p:sp>
          <p:nvSpPr>
            <p:cNvPr id="304" name="圆角矩形 33"/>
            <p:cNvSpPr/>
            <p:nvPr/>
          </p:nvSpPr>
          <p:spPr>
            <a:xfrm>
              <a:off x="2047320" y="3807720"/>
              <a:ext cx="7980840" cy="1182240"/>
            </a:xfrm>
            <a:prstGeom prst="roundRect">
              <a:avLst>
                <a:gd name="adj" fmla="val 9032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305" name="等腰三角形 34"/>
            <p:cNvSpPr/>
            <p:nvPr/>
          </p:nvSpPr>
          <p:spPr>
            <a:xfrm rot="16200000">
              <a:off x="1829880" y="40694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306" name="文本框 35"/>
          <p:cNvSpPr/>
          <p:nvPr/>
        </p:nvSpPr>
        <p:spPr>
          <a:xfrm>
            <a:off x="2054160" y="3826080"/>
            <a:ext cx="7940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两种类型的风暴潮，其破坏力不同，发生的</a:t>
            </a: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时间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和</a:t>
            </a:r>
            <a:r>
              <a:rPr b="0" lang="zh-CN" sz="28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空间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都是不一样的，要注意区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36"/>
          <p:cNvGrpSpPr/>
          <p:nvPr/>
        </p:nvGrpSpPr>
        <p:grpSpPr>
          <a:xfrm>
            <a:off x="506880" y="3807720"/>
            <a:ext cx="1182240" cy="1182240"/>
            <a:chOff x="506880" y="3807720"/>
            <a:chExt cx="1182240" cy="1182240"/>
          </a:xfrm>
        </p:grpSpPr>
        <p:sp>
          <p:nvSpPr>
            <p:cNvPr id="308" name="圆角矩形 37"/>
            <p:cNvSpPr/>
            <p:nvPr/>
          </p:nvSpPr>
          <p:spPr>
            <a:xfrm>
              <a:off x="506880" y="380772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309" name="图片 38" descr=""/>
            <p:cNvPicPr/>
            <p:nvPr/>
          </p:nvPicPr>
          <p:blipFill>
            <a:blip r:embed="rId4"/>
            <a:stretch/>
          </p:blipFill>
          <p:spPr>
            <a:xfrm flipH="1">
              <a:off x="543600" y="3870720"/>
              <a:ext cx="1069920" cy="10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组合 39"/>
          <p:cNvGrpSpPr/>
          <p:nvPr/>
        </p:nvGrpSpPr>
        <p:grpSpPr>
          <a:xfrm>
            <a:off x="2050560" y="5438160"/>
            <a:ext cx="8180640" cy="752400"/>
            <a:chOff x="2050560" y="5438160"/>
            <a:chExt cx="8180640" cy="752400"/>
          </a:xfrm>
        </p:grpSpPr>
        <p:sp>
          <p:nvSpPr>
            <p:cNvPr id="311" name="圆角矩形 40"/>
            <p:cNvSpPr/>
            <p:nvPr/>
          </p:nvSpPr>
          <p:spPr>
            <a:xfrm flipH="1">
              <a:off x="2050200" y="5438160"/>
              <a:ext cx="7980840" cy="752400"/>
            </a:xfrm>
            <a:prstGeom prst="roundRect">
              <a:avLst>
                <a:gd name="adj" fmla="val 10641"/>
              </a:avLst>
            </a:prstGeom>
            <a:solidFill>
              <a:srgbClr val="ff3399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312" name="等腰三角形 41"/>
            <p:cNvSpPr/>
            <p:nvPr/>
          </p:nvSpPr>
          <p:spPr>
            <a:xfrm flipH="1" rot="5400000">
              <a:off x="9990720" y="569952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313" name="文本框 42"/>
          <p:cNvSpPr/>
          <p:nvPr/>
        </p:nvSpPr>
        <p:spPr>
          <a:xfrm>
            <a:off x="2057400" y="5438160"/>
            <a:ext cx="7940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嗯嗯！知道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……老师拜拜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43"/>
          <p:cNvSpPr/>
          <p:nvPr/>
        </p:nvSpPr>
        <p:spPr>
          <a:xfrm>
            <a:off x="10426320" y="5419800"/>
            <a:ext cx="1182240" cy="11822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8127936" ty="7165267" sx="59999" sy="59999" algn="tl"/>
          </a:blipFill>
          <a:ln w="1905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32"/>
          <p:cNvGrpSpPr/>
          <p:nvPr/>
        </p:nvGrpSpPr>
        <p:grpSpPr>
          <a:xfrm>
            <a:off x="2046960" y="4367880"/>
            <a:ext cx="8181000" cy="1791000"/>
            <a:chOff x="2046960" y="4367880"/>
            <a:chExt cx="8181000" cy="1791000"/>
          </a:xfrm>
        </p:grpSpPr>
        <p:sp>
          <p:nvSpPr>
            <p:cNvPr id="133" name="圆角矩形 33"/>
            <p:cNvSpPr/>
            <p:nvPr/>
          </p:nvSpPr>
          <p:spPr>
            <a:xfrm flipH="1">
              <a:off x="2046600" y="4367880"/>
              <a:ext cx="7980840" cy="1791000"/>
            </a:xfrm>
            <a:prstGeom prst="roundRect">
              <a:avLst>
                <a:gd name="adj" fmla="val 6504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134" name="等腰三角形 34"/>
            <p:cNvSpPr/>
            <p:nvPr/>
          </p:nvSpPr>
          <p:spPr>
            <a:xfrm flipH="1" rot="5400000">
              <a:off x="9987480" y="46292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grpSp>
        <p:nvGrpSpPr>
          <p:cNvPr id="135" name="组合 31"/>
          <p:cNvGrpSpPr/>
          <p:nvPr/>
        </p:nvGrpSpPr>
        <p:grpSpPr>
          <a:xfrm>
            <a:off x="1847880" y="1525680"/>
            <a:ext cx="8180280" cy="2180880"/>
            <a:chOff x="1847880" y="1525680"/>
            <a:chExt cx="8180280" cy="2180880"/>
          </a:xfrm>
        </p:grpSpPr>
        <p:sp>
          <p:nvSpPr>
            <p:cNvPr id="136" name="圆角矩形 29"/>
            <p:cNvSpPr/>
            <p:nvPr/>
          </p:nvSpPr>
          <p:spPr>
            <a:xfrm>
              <a:off x="2047320" y="1525680"/>
              <a:ext cx="7980840" cy="2180880"/>
            </a:xfrm>
            <a:prstGeom prst="roundRect">
              <a:avLst>
                <a:gd name="adj" fmla="val 3664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137" name="等腰三角形 30"/>
            <p:cNvSpPr/>
            <p:nvPr/>
          </p:nvSpPr>
          <p:spPr>
            <a:xfrm rot="16200000">
              <a:off x="1829880" y="17870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9560" y="79560"/>
            <a:ext cx="10515240" cy="7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华康俪金黑W8"/>
              </a:rPr>
              <a:t>什么是风暴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070720" y="1553400"/>
            <a:ext cx="7957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由于剧烈的大气扰动，如强风和气压骤变（通常指台风和温带气旋等）导致海水异常升降，同时和天文潮（通常指潮汐）叠加时的情况。又可称“风暴增水”、“风暴海啸”、“气象海啸”或“风潮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16"/>
          <p:cNvGrpSpPr/>
          <p:nvPr/>
        </p:nvGrpSpPr>
        <p:grpSpPr>
          <a:xfrm>
            <a:off x="506880" y="1525680"/>
            <a:ext cx="1182240" cy="1182240"/>
            <a:chOff x="506880" y="1525680"/>
            <a:chExt cx="1182240" cy="1182240"/>
          </a:xfrm>
        </p:grpSpPr>
        <p:sp>
          <p:nvSpPr>
            <p:cNvPr id="141" name="圆角矩形 15"/>
            <p:cNvSpPr/>
            <p:nvPr/>
          </p:nvSpPr>
          <p:spPr>
            <a:xfrm>
              <a:off x="506880" y="152568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142" name="图片 14" descr=""/>
            <p:cNvPicPr/>
            <p:nvPr/>
          </p:nvPicPr>
          <p:blipFill>
            <a:blip r:embed="rId1"/>
            <a:stretch/>
          </p:blipFill>
          <p:spPr>
            <a:xfrm flipH="1">
              <a:off x="543600" y="1588680"/>
              <a:ext cx="1069920" cy="10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组合 17"/>
          <p:cNvGrpSpPr/>
          <p:nvPr/>
        </p:nvGrpSpPr>
        <p:grpSpPr>
          <a:xfrm>
            <a:off x="10422720" y="4367880"/>
            <a:ext cx="1182240" cy="1182240"/>
            <a:chOff x="10422720" y="4367880"/>
            <a:chExt cx="1182240" cy="1182240"/>
          </a:xfrm>
        </p:grpSpPr>
        <p:sp>
          <p:nvSpPr>
            <p:cNvPr id="144" name="圆角矩形 18"/>
            <p:cNvSpPr/>
            <p:nvPr/>
          </p:nvSpPr>
          <p:spPr>
            <a:xfrm>
              <a:off x="10422720" y="436788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145" name="图片 19" descr=""/>
            <p:cNvPicPr/>
            <p:nvPr/>
          </p:nvPicPr>
          <p:blipFill>
            <a:blip r:embed="rId2"/>
            <a:stretch/>
          </p:blipFill>
          <p:spPr>
            <a:xfrm>
              <a:off x="10521000" y="4465800"/>
              <a:ext cx="986400" cy="98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文本框 23"/>
          <p:cNvSpPr/>
          <p:nvPr/>
        </p:nvSpPr>
        <p:spPr>
          <a:xfrm>
            <a:off x="2054160" y="4367880"/>
            <a:ext cx="794088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嗯，我是这样理解的：</a:t>
            </a:r>
            <a:r>
              <a:rPr b="0" lang="zh-CN" sz="3200" spc="-1" strike="noStrike">
                <a:solidFill>
                  <a:srgbClr val="99ff33"/>
                </a:solidFill>
                <a:latin typeface="Arial"/>
                <a:ea typeface="微软雅黑 Light"/>
              </a:rPr>
              <a:t>狂风刮起的巨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再准确点的话就应该是</a:t>
            </a:r>
            <a:r>
              <a:rPr b="0" lang="zh-CN" sz="3200" spc="-1" strike="noStrike">
                <a:solidFill>
                  <a:srgbClr val="99ff33"/>
                </a:solidFill>
                <a:latin typeface="Arial"/>
                <a:ea typeface="微软雅黑 Light"/>
              </a:rPr>
              <a:t>涨潮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  <a:ea typeface="微软雅黑 Light"/>
              </a:rPr>
              <a:t>+</a:t>
            </a:r>
            <a:r>
              <a:rPr b="0" lang="zh-CN" sz="3200" spc="-1" strike="noStrike">
                <a:solidFill>
                  <a:srgbClr val="99ff33"/>
                </a:solidFill>
                <a:latin typeface="Arial"/>
                <a:ea typeface="微软雅黑 Light"/>
              </a:rPr>
              <a:t>狂风大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同样，风暴潮的破坏力也是很大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7"/>
          <p:cNvSpPr/>
          <p:nvPr/>
        </p:nvSpPr>
        <p:spPr>
          <a:xfrm>
            <a:off x="855000" y="268128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 Light"/>
              </a:rPr>
              <a:t>专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8"/>
          <p:cNvSpPr/>
          <p:nvPr/>
        </p:nvSpPr>
        <p:spPr>
          <a:xfrm>
            <a:off x="10770840" y="5526360"/>
            <a:ext cx="48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  <a:ea typeface="微软雅黑 Light"/>
              </a:rPr>
              <a:t>老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9"/>
          <p:cNvGrpSpPr/>
          <p:nvPr/>
        </p:nvGrpSpPr>
        <p:grpSpPr>
          <a:xfrm>
            <a:off x="2046960" y="386280"/>
            <a:ext cx="8181000" cy="6004080"/>
            <a:chOff x="2046960" y="386280"/>
            <a:chExt cx="8181000" cy="6004080"/>
          </a:xfrm>
        </p:grpSpPr>
        <p:sp>
          <p:nvSpPr>
            <p:cNvPr id="150" name="圆角矩形 10"/>
            <p:cNvSpPr/>
            <p:nvPr/>
          </p:nvSpPr>
          <p:spPr>
            <a:xfrm flipH="1">
              <a:off x="2046600" y="386280"/>
              <a:ext cx="7980840" cy="6004080"/>
            </a:xfrm>
            <a:prstGeom prst="roundRect">
              <a:avLst>
                <a:gd name="adj" fmla="val 248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151" name="等腰三角形 11"/>
            <p:cNvSpPr/>
            <p:nvPr/>
          </p:nvSpPr>
          <p:spPr>
            <a:xfrm flipH="1" rot="5400000">
              <a:off x="9987480" y="6476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152" name="文本框 4"/>
          <p:cNvSpPr/>
          <p:nvPr/>
        </p:nvSpPr>
        <p:spPr>
          <a:xfrm>
            <a:off x="2047320" y="406080"/>
            <a:ext cx="795744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看！这力量！大海在咆哮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风暴潮虽然没有海啸那么厉害，但也绝非善类。它能破坏基础设施，损毁船只，摧毁建筑，造成人员伤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5"/>
          <p:cNvGrpSpPr/>
          <p:nvPr/>
        </p:nvGrpSpPr>
        <p:grpSpPr>
          <a:xfrm>
            <a:off x="10422720" y="386280"/>
            <a:ext cx="1182240" cy="1182240"/>
            <a:chOff x="10422720" y="386280"/>
            <a:chExt cx="1182240" cy="1182240"/>
          </a:xfrm>
        </p:grpSpPr>
        <p:sp>
          <p:nvSpPr>
            <p:cNvPr id="154" name="圆角矩形 6"/>
            <p:cNvSpPr/>
            <p:nvPr/>
          </p:nvSpPr>
          <p:spPr>
            <a:xfrm>
              <a:off x="10422720" y="38628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155" name="图片 7" descr=""/>
            <p:cNvPicPr/>
            <p:nvPr/>
          </p:nvPicPr>
          <p:blipFill>
            <a:blip r:embed="rId1"/>
            <a:stretch/>
          </p:blipFill>
          <p:spPr>
            <a:xfrm>
              <a:off x="10521000" y="484200"/>
              <a:ext cx="986400" cy="98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图片 8" descr=""/>
          <p:cNvPicPr/>
          <p:nvPr/>
        </p:nvPicPr>
        <p:blipFill>
          <a:blip r:embed="rId2"/>
          <a:stretch/>
        </p:blipFill>
        <p:spPr>
          <a:xfrm>
            <a:off x="2186640" y="1847880"/>
            <a:ext cx="77025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9"/>
          <p:cNvGrpSpPr/>
          <p:nvPr/>
        </p:nvGrpSpPr>
        <p:grpSpPr>
          <a:xfrm>
            <a:off x="2046960" y="386280"/>
            <a:ext cx="8181000" cy="6004080"/>
            <a:chOff x="2046960" y="386280"/>
            <a:chExt cx="8181000" cy="6004080"/>
          </a:xfrm>
        </p:grpSpPr>
        <p:sp>
          <p:nvSpPr>
            <p:cNvPr id="158" name="圆角矩形 10"/>
            <p:cNvSpPr/>
            <p:nvPr/>
          </p:nvSpPr>
          <p:spPr>
            <a:xfrm flipH="1">
              <a:off x="2046600" y="386280"/>
              <a:ext cx="7980840" cy="6004080"/>
            </a:xfrm>
            <a:prstGeom prst="roundRect">
              <a:avLst>
                <a:gd name="adj" fmla="val 1748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159" name="等腰三角形 11"/>
            <p:cNvSpPr/>
            <p:nvPr/>
          </p:nvSpPr>
          <p:spPr>
            <a:xfrm flipH="1" rot="5400000">
              <a:off x="9987480" y="6476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160" name="文本框 4"/>
          <p:cNvSpPr/>
          <p:nvPr/>
        </p:nvSpPr>
        <p:spPr>
          <a:xfrm>
            <a:off x="2047320" y="406080"/>
            <a:ext cx="7535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美女！难道你没有听说过中国有句话叫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——人不作死就不会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5"/>
          <p:cNvGrpSpPr/>
          <p:nvPr/>
        </p:nvGrpSpPr>
        <p:grpSpPr>
          <a:xfrm>
            <a:off x="10422720" y="386280"/>
            <a:ext cx="1182240" cy="1182240"/>
            <a:chOff x="10422720" y="386280"/>
            <a:chExt cx="1182240" cy="1182240"/>
          </a:xfrm>
        </p:grpSpPr>
        <p:sp>
          <p:nvSpPr>
            <p:cNvPr id="162" name="圆角矩形 6"/>
            <p:cNvSpPr/>
            <p:nvPr/>
          </p:nvSpPr>
          <p:spPr>
            <a:xfrm>
              <a:off x="10422720" y="38628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163" name="图片 7" descr=""/>
            <p:cNvPicPr/>
            <p:nvPr/>
          </p:nvPicPr>
          <p:blipFill>
            <a:blip r:embed="rId1"/>
            <a:stretch/>
          </p:blipFill>
          <p:spPr>
            <a:xfrm>
              <a:off x="10521000" y="484200"/>
              <a:ext cx="986400" cy="98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图片 8" descr=""/>
          <p:cNvPicPr/>
          <p:nvPr/>
        </p:nvPicPr>
        <p:blipFill>
          <a:blip r:embed="rId2"/>
          <a:stretch/>
        </p:blipFill>
        <p:spPr>
          <a:xfrm>
            <a:off x="2146680" y="1569240"/>
            <a:ext cx="776196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9"/>
          <p:cNvGrpSpPr/>
          <p:nvPr/>
        </p:nvGrpSpPr>
        <p:grpSpPr>
          <a:xfrm>
            <a:off x="2046960" y="386280"/>
            <a:ext cx="8181000" cy="6004080"/>
            <a:chOff x="2046960" y="386280"/>
            <a:chExt cx="8181000" cy="6004080"/>
          </a:xfrm>
        </p:grpSpPr>
        <p:sp>
          <p:nvSpPr>
            <p:cNvPr id="166" name="圆角矩形 10"/>
            <p:cNvSpPr/>
            <p:nvPr/>
          </p:nvSpPr>
          <p:spPr>
            <a:xfrm flipH="1">
              <a:off x="2046600" y="386280"/>
              <a:ext cx="7980840" cy="6004080"/>
            </a:xfrm>
            <a:prstGeom prst="roundRect">
              <a:avLst>
                <a:gd name="adj" fmla="val 248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167" name="等腰三角形 11"/>
            <p:cNvSpPr/>
            <p:nvPr/>
          </p:nvSpPr>
          <p:spPr>
            <a:xfrm flipH="1" rot="5400000">
              <a:off x="9987480" y="6476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168" name="文本框 4"/>
          <p:cNvSpPr/>
          <p:nvPr/>
        </p:nvSpPr>
        <p:spPr>
          <a:xfrm>
            <a:off x="2047320" y="406080"/>
            <a:ext cx="7859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这是神马情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5"/>
          <p:cNvGrpSpPr/>
          <p:nvPr/>
        </p:nvGrpSpPr>
        <p:grpSpPr>
          <a:xfrm>
            <a:off x="10422720" y="386280"/>
            <a:ext cx="1182240" cy="1182240"/>
            <a:chOff x="10422720" y="386280"/>
            <a:chExt cx="1182240" cy="1182240"/>
          </a:xfrm>
        </p:grpSpPr>
        <p:sp>
          <p:nvSpPr>
            <p:cNvPr id="170" name="圆角矩形 6"/>
            <p:cNvSpPr/>
            <p:nvPr/>
          </p:nvSpPr>
          <p:spPr>
            <a:xfrm>
              <a:off x="10422720" y="38628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171" name="图片 7" descr=""/>
            <p:cNvPicPr/>
            <p:nvPr/>
          </p:nvPicPr>
          <p:blipFill>
            <a:blip r:embed="rId1"/>
            <a:stretch/>
          </p:blipFill>
          <p:spPr>
            <a:xfrm>
              <a:off x="10521000" y="484200"/>
              <a:ext cx="986400" cy="98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图片 8" descr=""/>
          <p:cNvPicPr/>
          <p:nvPr/>
        </p:nvPicPr>
        <p:blipFill>
          <a:blip r:embed="rId2"/>
          <a:stretch/>
        </p:blipFill>
        <p:spPr>
          <a:xfrm>
            <a:off x="2148840" y="1821600"/>
            <a:ext cx="7758000" cy="36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9"/>
          <p:cNvGrpSpPr/>
          <p:nvPr/>
        </p:nvGrpSpPr>
        <p:grpSpPr>
          <a:xfrm>
            <a:off x="2046960" y="386280"/>
            <a:ext cx="8181000" cy="6004080"/>
            <a:chOff x="2046960" y="386280"/>
            <a:chExt cx="8181000" cy="6004080"/>
          </a:xfrm>
        </p:grpSpPr>
        <p:sp>
          <p:nvSpPr>
            <p:cNvPr id="174" name="圆角矩形 10"/>
            <p:cNvSpPr/>
            <p:nvPr/>
          </p:nvSpPr>
          <p:spPr>
            <a:xfrm flipH="1">
              <a:off x="2046600" y="386280"/>
              <a:ext cx="7980840" cy="6004080"/>
            </a:xfrm>
            <a:prstGeom prst="roundRect">
              <a:avLst>
                <a:gd name="adj" fmla="val 248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175" name="等腰三角形 11"/>
            <p:cNvSpPr/>
            <p:nvPr/>
          </p:nvSpPr>
          <p:spPr>
            <a:xfrm flipH="1" rot="5400000">
              <a:off x="9987480" y="6476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176" name="文本框 4"/>
          <p:cNvSpPr/>
          <p:nvPr/>
        </p:nvSpPr>
        <p:spPr>
          <a:xfrm>
            <a:off x="2047320" y="406080"/>
            <a:ext cx="7859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被风暴潮损毁的船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5"/>
          <p:cNvGrpSpPr/>
          <p:nvPr/>
        </p:nvGrpSpPr>
        <p:grpSpPr>
          <a:xfrm>
            <a:off x="10422720" y="386280"/>
            <a:ext cx="1182240" cy="1182240"/>
            <a:chOff x="10422720" y="386280"/>
            <a:chExt cx="1182240" cy="1182240"/>
          </a:xfrm>
        </p:grpSpPr>
        <p:sp>
          <p:nvSpPr>
            <p:cNvPr id="178" name="圆角矩形 6"/>
            <p:cNvSpPr/>
            <p:nvPr/>
          </p:nvSpPr>
          <p:spPr>
            <a:xfrm>
              <a:off x="10422720" y="38628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179" name="图片 7" descr=""/>
            <p:cNvPicPr/>
            <p:nvPr/>
          </p:nvPicPr>
          <p:blipFill>
            <a:blip r:embed="rId1"/>
            <a:stretch/>
          </p:blipFill>
          <p:spPr>
            <a:xfrm>
              <a:off x="10521000" y="484200"/>
              <a:ext cx="986400" cy="98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图片 8" descr=""/>
          <p:cNvPicPr/>
          <p:nvPr/>
        </p:nvPicPr>
        <p:blipFill>
          <a:blip r:embed="rId2"/>
          <a:stretch/>
        </p:blipFill>
        <p:spPr>
          <a:xfrm>
            <a:off x="2159280" y="1072440"/>
            <a:ext cx="7737120" cy="516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9"/>
          <p:cNvGrpSpPr/>
          <p:nvPr/>
        </p:nvGrpSpPr>
        <p:grpSpPr>
          <a:xfrm>
            <a:off x="2046960" y="386280"/>
            <a:ext cx="8181000" cy="6004080"/>
            <a:chOff x="2046960" y="386280"/>
            <a:chExt cx="8181000" cy="6004080"/>
          </a:xfrm>
        </p:grpSpPr>
        <p:sp>
          <p:nvSpPr>
            <p:cNvPr id="182" name="圆角矩形 10"/>
            <p:cNvSpPr/>
            <p:nvPr/>
          </p:nvSpPr>
          <p:spPr>
            <a:xfrm flipH="1">
              <a:off x="2046600" y="386280"/>
              <a:ext cx="7980840" cy="6004080"/>
            </a:xfrm>
            <a:prstGeom prst="roundRect">
              <a:avLst>
                <a:gd name="adj" fmla="val 248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183" name="等腰三角形 11"/>
            <p:cNvSpPr/>
            <p:nvPr/>
          </p:nvSpPr>
          <p:spPr>
            <a:xfrm flipH="1" rot="5400000">
              <a:off x="9987480" y="6476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184" name="文本框 4"/>
          <p:cNvSpPr/>
          <p:nvPr/>
        </p:nvSpPr>
        <p:spPr>
          <a:xfrm>
            <a:off x="2047320" y="406080"/>
            <a:ext cx="7859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妈呀！老吓人了，这浪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5"/>
          <p:cNvGrpSpPr/>
          <p:nvPr/>
        </p:nvGrpSpPr>
        <p:grpSpPr>
          <a:xfrm>
            <a:off x="10422720" y="386280"/>
            <a:ext cx="1182240" cy="1182240"/>
            <a:chOff x="10422720" y="386280"/>
            <a:chExt cx="1182240" cy="1182240"/>
          </a:xfrm>
        </p:grpSpPr>
        <p:sp>
          <p:nvSpPr>
            <p:cNvPr id="186" name="圆角矩形 6"/>
            <p:cNvSpPr/>
            <p:nvPr/>
          </p:nvSpPr>
          <p:spPr>
            <a:xfrm>
              <a:off x="10422720" y="38628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187" name="图片 7" descr=""/>
            <p:cNvPicPr/>
            <p:nvPr/>
          </p:nvPicPr>
          <p:blipFill>
            <a:blip r:embed="rId1"/>
            <a:stretch/>
          </p:blipFill>
          <p:spPr>
            <a:xfrm>
              <a:off x="10521000" y="484200"/>
              <a:ext cx="986400" cy="98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图片 8" descr=""/>
          <p:cNvPicPr/>
          <p:nvPr/>
        </p:nvPicPr>
        <p:blipFill>
          <a:blip r:embed="rId2"/>
          <a:stretch/>
        </p:blipFill>
        <p:spPr>
          <a:xfrm>
            <a:off x="4310280" y="1072440"/>
            <a:ext cx="3435480" cy="516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9"/>
          <p:cNvGrpSpPr/>
          <p:nvPr/>
        </p:nvGrpSpPr>
        <p:grpSpPr>
          <a:xfrm>
            <a:off x="2046960" y="386280"/>
            <a:ext cx="8181000" cy="6004080"/>
            <a:chOff x="2046960" y="386280"/>
            <a:chExt cx="8181000" cy="6004080"/>
          </a:xfrm>
        </p:grpSpPr>
        <p:sp>
          <p:nvSpPr>
            <p:cNvPr id="190" name="圆角矩形 10"/>
            <p:cNvSpPr/>
            <p:nvPr/>
          </p:nvSpPr>
          <p:spPr>
            <a:xfrm flipH="1">
              <a:off x="2046600" y="386280"/>
              <a:ext cx="7980840" cy="6004080"/>
            </a:xfrm>
            <a:prstGeom prst="roundRect">
              <a:avLst>
                <a:gd name="adj" fmla="val 248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191" name="等腰三角形 11"/>
            <p:cNvSpPr/>
            <p:nvPr/>
          </p:nvSpPr>
          <p:spPr>
            <a:xfrm flipH="1" rot="5400000">
              <a:off x="9987480" y="6476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sp>
        <p:nvSpPr>
          <p:cNvPr id="192" name="文本框 4"/>
          <p:cNvSpPr/>
          <p:nvPr/>
        </p:nvSpPr>
        <p:spPr>
          <a:xfrm>
            <a:off x="2047320" y="406080"/>
            <a:ext cx="7859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防潮堤都被击坏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 Light"/>
              </a:rPr>
              <a:t>……美女，小心鲨鱼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5"/>
          <p:cNvGrpSpPr/>
          <p:nvPr/>
        </p:nvGrpSpPr>
        <p:grpSpPr>
          <a:xfrm>
            <a:off x="10422720" y="386280"/>
            <a:ext cx="1182240" cy="1182240"/>
            <a:chOff x="10422720" y="386280"/>
            <a:chExt cx="1182240" cy="1182240"/>
          </a:xfrm>
        </p:grpSpPr>
        <p:sp>
          <p:nvSpPr>
            <p:cNvPr id="194" name="圆角矩形 6"/>
            <p:cNvSpPr/>
            <p:nvPr/>
          </p:nvSpPr>
          <p:spPr>
            <a:xfrm>
              <a:off x="10422720" y="38628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195" name="图片 7" descr=""/>
            <p:cNvPicPr/>
            <p:nvPr/>
          </p:nvPicPr>
          <p:blipFill>
            <a:blip r:embed="rId1"/>
            <a:stretch/>
          </p:blipFill>
          <p:spPr>
            <a:xfrm>
              <a:off x="10521000" y="484200"/>
              <a:ext cx="986400" cy="98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图片 8" descr=""/>
          <p:cNvPicPr/>
          <p:nvPr/>
        </p:nvPicPr>
        <p:blipFill>
          <a:blip r:embed="rId2"/>
          <a:srcRect l="0" t="5575" r="0" b="5575"/>
          <a:stretch/>
        </p:blipFill>
        <p:spPr>
          <a:xfrm>
            <a:off x="2148840" y="993240"/>
            <a:ext cx="7758000" cy="51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9560" y="79560"/>
            <a:ext cx="10515240" cy="7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  <a:ea typeface="华康俪金黑W8"/>
              </a:rPr>
              <a:t>风暴潮是怎么产生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32"/>
          <p:cNvGrpSpPr/>
          <p:nvPr/>
        </p:nvGrpSpPr>
        <p:grpSpPr>
          <a:xfrm>
            <a:off x="2046960" y="1410480"/>
            <a:ext cx="8181000" cy="2398320"/>
            <a:chOff x="2046960" y="1410480"/>
            <a:chExt cx="8181000" cy="2398320"/>
          </a:xfrm>
        </p:grpSpPr>
        <p:sp>
          <p:nvSpPr>
            <p:cNvPr id="199" name="圆角矩形 33"/>
            <p:cNvSpPr/>
            <p:nvPr/>
          </p:nvSpPr>
          <p:spPr>
            <a:xfrm flipH="1">
              <a:off x="2046600" y="1410480"/>
              <a:ext cx="7980840" cy="2398320"/>
            </a:xfrm>
            <a:prstGeom prst="roundRect">
              <a:avLst>
                <a:gd name="adj" fmla="val 4038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00" name="等腰三角形 34"/>
            <p:cNvSpPr/>
            <p:nvPr/>
          </p:nvSpPr>
          <p:spPr>
            <a:xfrm flipH="1" rot="5400000">
              <a:off x="9987480" y="1671840"/>
              <a:ext cx="258120" cy="22248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</p:grpSp>
      <p:grpSp>
        <p:nvGrpSpPr>
          <p:cNvPr id="201" name="组合 36"/>
          <p:cNvGrpSpPr/>
          <p:nvPr/>
        </p:nvGrpSpPr>
        <p:grpSpPr>
          <a:xfrm>
            <a:off x="10422720" y="1388520"/>
            <a:ext cx="1182240" cy="1182240"/>
            <a:chOff x="10422720" y="1388520"/>
            <a:chExt cx="1182240" cy="1182240"/>
          </a:xfrm>
        </p:grpSpPr>
        <p:sp>
          <p:nvSpPr>
            <p:cNvPr id="202" name="圆角矩形 37"/>
            <p:cNvSpPr/>
            <p:nvPr/>
          </p:nvSpPr>
          <p:spPr>
            <a:xfrm>
              <a:off x="10422720" y="1388520"/>
              <a:ext cx="1182240" cy="118224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19050"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pic>
          <p:nvPicPr>
            <p:cNvPr id="203" name="图片 53" descr=""/>
            <p:cNvPicPr/>
            <p:nvPr/>
          </p:nvPicPr>
          <p:blipFill>
            <a:blip r:embed="rId1"/>
            <a:stretch/>
          </p:blipFill>
          <p:spPr>
            <a:xfrm>
              <a:off x="10521000" y="1486440"/>
              <a:ext cx="986400" cy="98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矩形 12"/>
          <p:cNvSpPr/>
          <p:nvPr/>
        </p:nvSpPr>
        <p:spPr>
          <a:xfrm>
            <a:off x="2070720" y="1419840"/>
            <a:ext cx="79574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我个人理解大致来说有几种情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2400" spc="-1" strike="noStrike">
                <a:solidFill>
                  <a:schemeClr val="accent4"/>
                </a:solidFill>
                <a:latin typeface="Arial"/>
                <a:ea typeface="微软雅黑 Light"/>
              </a:rPr>
              <a:t>1.</a:t>
            </a:r>
            <a:r>
              <a:rPr b="0" lang="zh-CN" sz="2400" spc="-1" strike="noStrike">
                <a:solidFill>
                  <a:schemeClr val="accent4"/>
                </a:solidFill>
                <a:latin typeface="Arial"/>
                <a:ea typeface="微软雅黑 Light"/>
              </a:rPr>
              <a:t>大风 </a:t>
            </a:r>
            <a:r>
              <a:rPr b="0" lang="en-US" sz="2400" spc="-1" strike="noStrike">
                <a:solidFill>
                  <a:schemeClr val="accent4"/>
                </a:solidFill>
                <a:latin typeface="Arial"/>
                <a:ea typeface="微软雅黑 Light"/>
              </a:rPr>
              <a:t>+ </a:t>
            </a:r>
            <a:r>
              <a:rPr b="0" lang="zh-CN" sz="2400" spc="-1" strike="noStrike">
                <a:solidFill>
                  <a:schemeClr val="accent4"/>
                </a:solidFill>
                <a:latin typeface="Arial"/>
                <a:ea typeface="微软雅黑 Light"/>
              </a:rPr>
              <a:t>天文大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，意思就是风吹水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2400" spc="-1" strike="noStrike">
                <a:solidFill>
                  <a:schemeClr val="accent4"/>
                </a:solidFill>
                <a:latin typeface="Arial"/>
                <a:ea typeface="微软雅黑 Light"/>
              </a:rPr>
              <a:t>2.</a:t>
            </a:r>
            <a:r>
              <a:rPr b="0" lang="zh-CN" sz="2400" spc="-1" strike="noStrike">
                <a:solidFill>
                  <a:schemeClr val="accent4"/>
                </a:solidFill>
                <a:latin typeface="Arial"/>
                <a:ea typeface="微软雅黑 Light"/>
              </a:rPr>
              <a:t>低压 </a:t>
            </a:r>
            <a:r>
              <a:rPr b="0" lang="en-US" sz="2400" spc="-1" strike="noStrike">
                <a:solidFill>
                  <a:schemeClr val="accent4"/>
                </a:solidFill>
                <a:latin typeface="Arial"/>
                <a:ea typeface="微软雅黑 Light"/>
              </a:rPr>
              <a:t>+ </a:t>
            </a:r>
            <a:r>
              <a:rPr b="0" lang="zh-CN" sz="2400" spc="-1" strike="noStrike">
                <a:solidFill>
                  <a:schemeClr val="accent4"/>
                </a:solidFill>
                <a:latin typeface="Arial"/>
                <a:ea typeface="微软雅黑 Light"/>
              </a:rPr>
              <a:t>天文大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，低压系统气流上升，把海水向上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大风或低压，没有叠加天文大潮也应该能形成风暴潮吧，当然这种肯定没那么厉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57"/>
          <p:cNvSpPr/>
          <p:nvPr/>
        </p:nvSpPr>
        <p:spPr>
          <a:xfrm>
            <a:off x="2070720" y="5386320"/>
            <a:ext cx="2826360" cy="759240"/>
          </a:xfrm>
          <a:custGeom>
            <a:avLst/>
            <a:gdLst>
              <a:gd name="textAreaLeft" fmla="*/ 0 w 2826360"/>
              <a:gd name="textAreaRight" fmla="*/ 2826720 w 2826360"/>
              <a:gd name="textAreaTop" fmla="*/ 0 h 759240"/>
              <a:gd name="textAreaBottom" fmla="*/ 759600 h 759240"/>
            </a:gdLst>
            <a:ahLst/>
            <a:rect l="textAreaLeft" t="textAreaTop" r="textAreaRight" b="textAreaBottom"/>
            <a:pathLst>
              <a:path w="2826649" h="759451">
                <a:moveTo>
                  <a:pt x="2569694" y="5580"/>
                </a:moveTo>
                <a:cubicBezTo>
                  <a:pt x="2732352" y="-19332"/>
                  <a:pt x="2787884" y="44218"/>
                  <a:pt x="2817870" y="96672"/>
                </a:cubicBezTo>
                <a:cubicBezTo>
                  <a:pt x="2847856" y="149126"/>
                  <a:pt x="2795039" y="228893"/>
                  <a:pt x="2749612" y="320306"/>
                </a:cubicBezTo>
                <a:cubicBezTo>
                  <a:pt x="2704185" y="411719"/>
                  <a:pt x="2597310" y="577879"/>
                  <a:pt x="2545309" y="645151"/>
                </a:cubicBezTo>
                <a:cubicBezTo>
                  <a:pt x="2493308" y="712423"/>
                  <a:pt x="2476894" y="699553"/>
                  <a:pt x="2437604" y="723938"/>
                </a:cubicBezTo>
                <a:lnTo>
                  <a:pt x="2370384" y="759451"/>
                </a:lnTo>
                <a:lnTo>
                  <a:pt x="105521" y="759451"/>
                </a:lnTo>
                <a:cubicBezTo>
                  <a:pt x="47243" y="759451"/>
                  <a:pt x="0" y="712208"/>
                  <a:pt x="0" y="653930"/>
                </a:cubicBezTo>
                <a:lnTo>
                  <a:pt x="0" y="363797"/>
                </a:lnTo>
                <a:lnTo>
                  <a:pt x="21916" y="363797"/>
                </a:lnTo>
                <a:cubicBezTo>
                  <a:pt x="186039" y="359401"/>
                  <a:pt x="523078" y="337420"/>
                  <a:pt x="523078" y="337420"/>
                </a:cubicBezTo>
                <a:cubicBezTo>
                  <a:pt x="826413" y="321301"/>
                  <a:pt x="1541520" y="302251"/>
                  <a:pt x="1841924" y="267082"/>
                </a:cubicBezTo>
                <a:cubicBezTo>
                  <a:pt x="2183027" y="211775"/>
                  <a:pt x="2418759" y="45145"/>
                  <a:pt x="2569694" y="5580"/>
                </a:cubicBezTo>
                <a:close/>
              </a:path>
            </a:pathLst>
          </a:custGeom>
          <a:solidFill>
            <a:srgbClr val="00b0f0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sp>
        <p:nvSpPr>
          <p:cNvPr id="206" name="任意多边形 55"/>
          <p:cNvSpPr/>
          <p:nvPr/>
        </p:nvSpPr>
        <p:spPr>
          <a:xfrm>
            <a:off x="3930120" y="5556600"/>
            <a:ext cx="1865880" cy="588600"/>
          </a:xfrm>
          <a:custGeom>
            <a:avLst/>
            <a:gdLst>
              <a:gd name="textAreaLeft" fmla="*/ 0 w 1865880"/>
              <a:gd name="textAreaRight" fmla="*/ 1866240 w 1865880"/>
              <a:gd name="textAreaTop" fmla="*/ 0 h 588600"/>
              <a:gd name="textAreaBottom" fmla="*/ 588960 h 588600"/>
            </a:gdLst>
            <a:ahLst/>
            <a:rect l="textAreaLeft" t="textAreaTop" r="textAreaRight" b="textAreaBottom"/>
            <a:pathLst>
              <a:path w="1866135" h="589085">
                <a:moveTo>
                  <a:pt x="888023" y="0"/>
                </a:moveTo>
                <a:lnTo>
                  <a:pt x="1866135" y="0"/>
                </a:lnTo>
                <a:lnTo>
                  <a:pt x="1866135" y="483564"/>
                </a:lnTo>
                <a:cubicBezTo>
                  <a:pt x="1866135" y="541842"/>
                  <a:pt x="1818892" y="589085"/>
                  <a:pt x="1760614" y="589085"/>
                </a:cubicBezTo>
                <a:lnTo>
                  <a:pt x="61546" y="589085"/>
                </a:lnTo>
                <a:lnTo>
                  <a:pt x="0" y="589085"/>
                </a:lnTo>
                <a:close/>
              </a:path>
            </a:pathLst>
          </a:custGeom>
          <a:solidFill>
            <a:schemeClr val="tx1">
              <a:lumMod val="75000"/>
              <a:lumOff val="25000"/>
            </a:schemeClr>
          </a:solidFill>
          <a:ln>
            <a:solidFill>
              <a:srgbClr val="000000">
                <a:lumMod val="75000"/>
                <a:lumOff val="2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cxnSp>
        <p:nvCxnSpPr>
          <p:cNvPr id="207" name="直接连接符 11"/>
          <p:cNvCxnSpPr/>
          <p:nvPr/>
        </p:nvCxnSpPr>
        <p:spPr>
          <a:xfrm>
            <a:off x="2070360" y="5758920"/>
            <a:ext cx="2457720" cy="360"/>
          </a:xfrm>
          <a:prstGeom prst="straightConnector1">
            <a:avLst/>
          </a:prstGeom>
          <a:ln w="19050">
            <a:solidFill>
              <a:srgbClr val="ffffff"/>
            </a:solidFill>
            <a:prstDash val="sysDot"/>
          </a:ln>
        </p:spPr>
      </p:cxnSp>
      <p:sp>
        <p:nvSpPr>
          <p:cNvPr id="208" name="文本框 17"/>
          <p:cNvSpPr/>
          <p:nvPr/>
        </p:nvSpPr>
        <p:spPr>
          <a:xfrm>
            <a:off x="2299680" y="568404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正常高潮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3"/>
          <p:cNvGrpSpPr/>
          <p:nvPr/>
        </p:nvGrpSpPr>
        <p:grpSpPr>
          <a:xfrm>
            <a:off x="4202640" y="4776480"/>
            <a:ext cx="993240" cy="578880"/>
            <a:chOff x="4202640" y="4776480"/>
            <a:chExt cx="993240" cy="578880"/>
          </a:xfrm>
        </p:grpSpPr>
        <p:grpSp>
          <p:nvGrpSpPr>
            <p:cNvPr id="210" name="组合 21"/>
            <p:cNvGrpSpPr/>
            <p:nvPr/>
          </p:nvGrpSpPr>
          <p:grpSpPr>
            <a:xfrm>
              <a:off x="4202640" y="4852440"/>
              <a:ext cx="993240" cy="502920"/>
              <a:chOff x="4202640" y="4852440"/>
              <a:chExt cx="993240" cy="502920"/>
            </a:xfrm>
          </p:grpSpPr>
          <p:sp>
            <p:nvSpPr>
              <p:cNvPr id="211" name="圆角矩形 19"/>
              <p:cNvSpPr/>
              <p:nvPr/>
            </p:nvSpPr>
            <p:spPr>
              <a:xfrm>
                <a:off x="4202640" y="4852440"/>
                <a:ext cx="993240" cy="36900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 Light"/>
                </a:endParaRPr>
              </a:p>
            </p:txBody>
          </p:sp>
          <p:sp>
            <p:nvSpPr>
              <p:cNvPr id="212" name="等腰三角形 20"/>
              <p:cNvSpPr/>
              <p:nvPr/>
            </p:nvSpPr>
            <p:spPr>
              <a:xfrm flipV="1">
                <a:off x="4615920" y="5211360"/>
                <a:ext cx="166680" cy="143640"/>
              </a:xfrm>
              <a:prstGeom prst="triangle">
                <a:avLst>
                  <a:gd name="adj" fmla="val 50000"/>
                </a:avLst>
              </a:prstGeom>
              <a:solidFill>
                <a:srgbClr val="c0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7000" bIns="27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  <a:ea typeface="微软雅黑 Light"/>
                </a:endParaRPr>
              </a:p>
            </p:txBody>
          </p:sp>
        </p:grpSp>
        <p:sp>
          <p:nvSpPr>
            <p:cNvPr id="213" name="文本框 22"/>
            <p:cNvSpPr/>
            <p:nvPr/>
          </p:nvSpPr>
          <p:spPr>
            <a:xfrm>
              <a:off x="4334400" y="4776480"/>
              <a:ext cx="729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风暴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任意多边形 24"/>
          <p:cNvSpPr/>
          <p:nvPr/>
        </p:nvSpPr>
        <p:spPr>
          <a:xfrm>
            <a:off x="2206800" y="5363280"/>
            <a:ext cx="1933920" cy="149040"/>
          </a:xfrm>
          <a:custGeom>
            <a:avLst/>
            <a:gdLst>
              <a:gd name="textAreaLeft" fmla="*/ 0 w 1933920"/>
              <a:gd name="textAreaRight" fmla="*/ 1934280 w 19339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934308" h="149469">
                <a:moveTo>
                  <a:pt x="0" y="149469"/>
                </a:moveTo>
                <a:lnTo>
                  <a:pt x="1028700" y="140677"/>
                </a:lnTo>
                <a:cubicBezTo>
                  <a:pt x="1302727" y="130419"/>
                  <a:pt x="1493227" y="111369"/>
                  <a:pt x="1644162" y="87923"/>
                </a:cubicBezTo>
                <a:cubicBezTo>
                  <a:pt x="1795097" y="64477"/>
                  <a:pt x="1864702" y="32238"/>
                  <a:pt x="1934308" y="0"/>
                </a:cubicBezTo>
              </a:path>
            </a:pathLst>
          </a:custGeom>
          <a:noFill/>
          <a:ln>
            <a:solidFill>
              <a:srgbClr val="000000"/>
            </a:solidFill>
            <a:tailEnd len="med" type="triangle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sp>
        <p:nvSpPr>
          <p:cNvPr id="215" name="任意多边形 58"/>
          <p:cNvSpPr/>
          <p:nvPr/>
        </p:nvSpPr>
        <p:spPr>
          <a:xfrm>
            <a:off x="2202480" y="5247000"/>
            <a:ext cx="1933920" cy="149040"/>
          </a:xfrm>
          <a:custGeom>
            <a:avLst/>
            <a:gdLst>
              <a:gd name="textAreaLeft" fmla="*/ 0 w 1933920"/>
              <a:gd name="textAreaRight" fmla="*/ 1934280 w 19339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934308" h="149469">
                <a:moveTo>
                  <a:pt x="0" y="149469"/>
                </a:moveTo>
                <a:lnTo>
                  <a:pt x="1028700" y="140677"/>
                </a:lnTo>
                <a:cubicBezTo>
                  <a:pt x="1302727" y="130419"/>
                  <a:pt x="1493227" y="111369"/>
                  <a:pt x="1644162" y="87923"/>
                </a:cubicBezTo>
                <a:cubicBezTo>
                  <a:pt x="1795097" y="64477"/>
                  <a:pt x="1864702" y="32238"/>
                  <a:pt x="1934308" y="0"/>
                </a:cubicBezTo>
              </a:path>
            </a:pathLst>
          </a:custGeom>
          <a:noFill/>
          <a:ln>
            <a:solidFill>
              <a:srgbClr val="000000"/>
            </a:solidFill>
            <a:tailEnd len="med" type="triangle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sp>
        <p:nvSpPr>
          <p:cNvPr id="216" name="任意多边形 59"/>
          <p:cNvSpPr/>
          <p:nvPr/>
        </p:nvSpPr>
        <p:spPr>
          <a:xfrm>
            <a:off x="2256840" y="5478480"/>
            <a:ext cx="1933920" cy="149040"/>
          </a:xfrm>
          <a:custGeom>
            <a:avLst/>
            <a:gdLst>
              <a:gd name="textAreaLeft" fmla="*/ 0 w 1933920"/>
              <a:gd name="textAreaRight" fmla="*/ 1934280 w 19339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934308" h="149469">
                <a:moveTo>
                  <a:pt x="0" y="149469"/>
                </a:moveTo>
                <a:lnTo>
                  <a:pt x="1028700" y="140677"/>
                </a:lnTo>
                <a:cubicBezTo>
                  <a:pt x="1302727" y="130419"/>
                  <a:pt x="1493227" y="111369"/>
                  <a:pt x="1644162" y="87923"/>
                </a:cubicBezTo>
                <a:cubicBezTo>
                  <a:pt x="1795097" y="64477"/>
                  <a:pt x="1864702" y="32238"/>
                  <a:pt x="1934308" y="0"/>
                </a:cubicBezTo>
              </a:path>
            </a:pathLst>
          </a:custGeom>
          <a:noFill/>
          <a:ln>
            <a:solidFill>
              <a:srgbClr val="000000"/>
            </a:solidFill>
            <a:tailEnd len="med" type="triangle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sp>
        <p:nvSpPr>
          <p:cNvPr id="217" name="文本框 25"/>
          <p:cNvSpPr/>
          <p:nvPr/>
        </p:nvSpPr>
        <p:spPr>
          <a:xfrm>
            <a:off x="2656440" y="4980240"/>
            <a:ext cx="54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 Light"/>
              </a:rPr>
              <a:t>大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接连接符 63"/>
          <p:cNvCxnSpPr/>
          <p:nvPr/>
        </p:nvCxnSpPr>
        <p:spPr>
          <a:xfrm>
            <a:off x="6294240" y="5762160"/>
            <a:ext cx="2457720" cy="360"/>
          </a:xfrm>
          <a:prstGeom prst="straightConnector1">
            <a:avLst/>
          </a:prstGeom>
          <a:ln w="19050">
            <a:solidFill>
              <a:srgbClr val="ffffff"/>
            </a:solidFill>
            <a:prstDash val="sysDot"/>
          </a:ln>
        </p:spPr>
      </p:cxnSp>
      <p:sp>
        <p:nvSpPr>
          <p:cNvPr id="219" name="文本框 64"/>
          <p:cNvSpPr/>
          <p:nvPr/>
        </p:nvSpPr>
        <p:spPr>
          <a:xfrm>
            <a:off x="6523560" y="568764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正常高潮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73"/>
          <p:cNvSpPr/>
          <p:nvPr/>
        </p:nvSpPr>
        <p:spPr>
          <a:xfrm>
            <a:off x="7615800" y="429624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 Light"/>
              </a:rPr>
              <a:t>低压（气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75"/>
          <p:cNvSpPr/>
          <p:nvPr/>
        </p:nvSpPr>
        <p:spPr>
          <a:xfrm>
            <a:off x="6294240" y="5536080"/>
            <a:ext cx="3731760" cy="619560"/>
          </a:xfrm>
          <a:custGeom>
            <a:avLst/>
            <a:gdLst>
              <a:gd name="textAreaLeft" fmla="*/ 0 w 3731760"/>
              <a:gd name="textAreaRight" fmla="*/ 3732120 w 3731760"/>
              <a:gd name="textAreaTop" fmla="*/ 0 h 619560"/>
              <a:gd name="textAreaBottom" fmla="*/ 619920 h 619560"/>
            </a:gdLst>
            <a:ahLst/>
            <a:rect l="textAreaLeft" t="textAreaTop" r="textAreaRight" b="textAreaBottom"/>
            <a:pathLst>
              <a:path w="3732270" h="619747">
                <a:moveTo>
                  <a:pt x="1945267" y="121"/>
                </a:moveTo>
                <a:cubicBezTo>
                  <a:pt x="2177180" y="5090"/>
                  <a:pt x="2321298" y="174055"/>
                  <a:pt x="2621128" y="218781"/>
                </a:cubicBezTo>
                <a:cubicBezTo>
                  <a:pt x="2883479" y="257917"/>
                  <a:pt x="3323390" y="237443"/>
                  <a:pt x="3624582" y="257237"/>
                </a:cubicBezTo>
                <a:lnTo>
                  <a:pt x="3732270" y="267352"/>
                </a:lnTo>
                <a:lnTo>
                  <a:pt x="3732270" y="514226"/>
                </a:lnTo>
                <a:cubicBezTo>
                  <a:pt x="3732270" y="572504"/>
                  <a:pt x="3685027" y="619747"/>
                  <a:pt x="3626749" y="619747"/>
                </a:cubicBezTo>
                <a:lnTo>
                  <a:pt x="105521" y="619747"/>
                </a:lnTo>
                <a:cubicBezTo>
                  <a:pt x="47243" y="619747"/>
                  <a:pt x="0" y="572504"/>
                  <a:pt x="0" y="514226"/>
                </a:cubicBezTo>
                <a:lnTo>
                  <a:pt x="0" y="196983"/>
                </a:lnTo>
                <a:lnTo>
                  <a:pt x="1229650" y="188964"/>
                </a:lnTo>
                <a:cubicBezTo>
                  <a:pt x="1595741" y="145895"/>
                  <a:pt x="1713354" y="-4848"/>
                  <a:pt x="1945267" y="121"/>
                </a:cubicBezTo>
                <a:close/>
              </a:path>
            </a:pathLst>
          </a:custGeom>
          <a:solidFill>
            <a:srgbClr val="00b0f0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sp>
        <p:nvSpPr>
          <p:cNvPr id="222" name="圆角矩形 8"/>
          <p:cNvSpPr/>
          <p:nvPr/>
        </p:nvSpPr>
        <p:spPr>
          <a:xfrm>
            <a:off x="2070720" y="4299480"/>
            <a:ext cx="3731760" cy="1846080"/>
          </a:xfrm>
          <a:prstGeom prst="roundRect">
            <a:avLst>
              <a:gd name="adj" fmla="val 5715"/>
            </a:avLst>
          </a:prstGeom>
          <a:noFill/>
          <a:ln w="19050">
            <a:solidFill>
              <a:srgbClr val="000000">
                <a:lumMod val="75000"/>
                <a:lumOff val="2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sp>
        <p:nvSpPr>
          <p:cNvPr id="223" name="圆角矩形 60"/>
          <p:cNvSpPr/>
          <p:nvPr/>
        </p:nvSpPr>
        <p:spPr>
          <a:xfrm>
            <a:off x="6294240" y="4302720"/>
            <a:ext cx="3731760" cy="1846080"/>
          </a:xfrm>
          <a:prstGeom prst="roundRect">
            <a:avLst>
              <a:gd name="adj" fmla="val 5715"/>
            </a:avLst>
          </a:prstGeom>
          <a:noFill/>
          <a:ln w="19050">
            <a:solidFill>
              <a:srgbClr val="000000">
                <a:lumMod val="75000"/>
                <a:lumOff val="2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 Light"/>
            </a:endParaRPr>
          </a:p>
        </p:txBody>
      </p:sp>
      <p:grpSp>
        <p:nvGrpSpPr>
          <p:cNvPr id="224" name="组合 78"/>
          <p:cNvGrpSpPr/>
          <p:nvPr/>
        </p:nvGrpSpPr>
        <p:grpSpPr>
          <a:xfrm>
            <a:off x="7245360" y="4681080"/>
            <a:ext cx="2030040" cy="925920"/>
            <a:chOff x="7245360" y="4681080"/>
            <a:chExt cx="2030040" cy="925920"/>
          </a:xfrm>
        </p:grpSpPr>
        <p:sp>
          <p:nvSpPr>
            <p:cNvPr id="225" name="任意多边形 70"/>
            <p:cNvSpPr/>
            <p:nvPr/>
          </p:nvSpPr>
          <p:spPr>
            <a:xfrm>
              <a:off x="7245360" y="4681440"/>
              <a:ext cx="814320" cy="92556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814757" h="1174922">
                  <a:moveTo>
                    <a:pt x="0" y="1173202"/>
                  </a:moveTo>
                  <a:cubicBezTo>
                    <a:pt x="588448" y="1199578"/>
                    <a:pt x="848904" y="927780"/>
                    <a:pt x="811187" y="0"/>
                  </a:cubicBezTo>
                </a:path>
              </a:pathLst>
            </a:custGeom>
            <a:noFill/>
            <a:ln>
              <a:solidFill>
                <a:srgbClr val="000000"/>
              </a:solidFill>
              <a:tailEnd len="med" type="triangle" w="med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26" name="任意多边形 76"/>
            <p:cNvSpPr/>
            <p:nvPr/>
          </p:nvSpPr>
          <p:spPr>
            <a:xfrm flipH="1">
              <a:off x="8461080" y="4681440"/>
              <a:ext cx="814320" cy="925560"/>
            </a:xfrm>
            <a:custGeom>
              <a:avLst/>
              <a:gdLst>
                <a:gd name="textAreaLeft" fmla="*/ 360 w 814320"/>
                <a:gd name="textAreaRight" fmla="*/ 815040 w 81432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814757" h="1174922">
                  <a:moveTo>
                    <a:pt x="0" y="1173202"/>
                  </a:moveTo>
                  <a:cubicBezTo>
                    <a:pt x="588448" y="1199578"/>
                    <a:pt x="848904" y="927780"/>
                    <a:pt x="811187" y="0"/>
                  </a:cubicBezTo>
                </a:path>
              </a:pathLst>
            </a:custGeom>
            <a:noFill/>
            <a:ln>
              <a:solidFill>
                <a:srgbClr val="000000"/>
              </a:solidFill>
              <a:tailEnd len="med" type="triangle" w="med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cxnSp>
          <p:nvCxnSpPr>
            <p:cNvPr id="227" name="直接箭头连接符 77"/>
            <p:cNvCxnSpPr/>
            <p:nvPr/>
          </p:nvCxnSpPr>
          <p:spPr>
            <a:xfrm flipV="1">
              <a:off x="8259120" y="4681080"/>
              <a:ext cx="360" cy="759960"/>
            </a:xfrm>
            <a:prstGeom prst="straightConnector1">
              <a:avLst/>
            </a:prstGeom>
            <a:ln>
              <a:solidFill>
                <a:srgbClr val="000000"/>
              </a:solidFill>
              <a:tailEnd len="med" type="triangle" w="med"/>
            </a:ln>
          </p:spPr>
        </p:cxnSp>
      </p:grpSp>
      <p:sp>
        <p:nvSpPr>
          <p:cNvPr id="228" name="文本框 81"/>
          <p:cNvSpPr/>
          <p:nvPr/>
        </p:nvSpPr>
        <p:spPr>
          <a:xfrm>
            <a:off x="6405120" y="566532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 Light"/>
              </a:rPr>
              <a:t>海平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88"/>
          <p:cNvGrpSpPr/>
          <p:nvPr/>
        </p:nvGrpSpPr>
        <p:grpSpPr>
          <a:xfrm>
            <a:off x="8352360" y="5058360"/>
            <a:ext cx="1444320" cy="497160"/>
            <a:chOff x="8352360" y="5058360"/>
            <a:chExt cx="1444320" cy="497160"/>
          </a:xfrm>
        </p:grpSpPr>
        <p:sp>
          <p:nvSpPr>
            <p:cNvPr id="230" name="圆角矩形 85"/>
            <p:cNvSpPr/>
            <p:nvPr/>
          </p:nvSpPr>
          <p:spPr>
            <a:xfrm>
              <a:off x="8803440" y="5134320"/>
              <a:ext cx="993240" cy="369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31" name="直角三角形 87"/>
            <p:cNvSpPr/>
            <p:nvPr/>
          </p:nvSpPr>
          <p:spPr>
            <a:xfrm flipH="1" rot="20850600">
              <a:off x="8359920" y="5371560"/>
              <a:ext cx="497160" cy="131760"/>
            </a:xfrm>
            <a:prstGeom prst="rtTriangl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 Light"/>
              </a:endParaRPr>
            </a:p>
          </p:txBody>
        </p:sp>
        <p:sp>
          <p:nvSpPr>
            <p:cNvPr id="232" name="文本框 84"/>
            <p:cNvSpPr/>
            <p:nvPr/>
          </p:nvSpPr>
          <p:spPr>
            <a:xfrm>
              <a:off x="8935200" y="5058360"/>
              <a:ext cx="729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风暴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  <Words>561</Words>
  <Paragraphs>56</Paragraphs>
  <Company>广东梅县东山中学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4:44:12Z</dcterms:created>
  <dc:creator>范国雄</dc:creator>
  <dc:description/>
  <dc:language>en-US</dc:language>
  <cp:lastModifiedBy>王玉清</cp:lastModifiedBy>
  <dcterms:modified xsi:type="dcterms:W3CDTF">2016-02-24T02:44:03Z</dcterms:modified>
  <cp:revision>39</cp:revision>
  <dc:subject/>
  <dc:title>凌汛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