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BD6B-FAD5-45D3-9BF9-F99E56CB9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58FE-FDE5-45B1-9E86-6FFB3AAB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E683C-C265-4949-88FF-3B4A306C2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6420-BA3E-4EE5-B388-61D670902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8A151-F548-4588-9461-C4ECC4B17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438D-5EB2-4DCE-AEA2-F90674986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112D6-39E2-4CA2-85F6-71A2D88AB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C352C-8821-4A5E-9092-8469C53D9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5FA4-1585-4BCB-88C5-6BB6DD466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F3E99-881D-42E6-8091-0B22119A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239EF3-0CF7-46AD-97A6-F6C53E48A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123E-CDAE-4150-A009-F59D41103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B3F950-E52A-4847-A46A-0D4539B01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942B8-BE45-44E6-B5C8-BD23AFFE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25DCF-D6E9-4EA1-8638-79C4AF50C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DA0B8-794D-4B20-BBFE-5ACB7A651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2B8FE-54BB-425E-B475-3C9306D95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43B7-A867-4C9D-8684-B32D27362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3DA39-4FED-4350-90D0-8A7D1C32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3ABC-F6D3-4C32-A6B5-8D3EF3329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240" cy="529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D550-6F29-4C4A-AD1C-AF7281068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641D1-8E56-4799-B5CD-A30ABE71A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255F4-C12F-441B-A61D-967114B1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2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0949D-049D-43AA-B7AB-2EAE65B5A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9591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673127D-9B85-4A45-BD3E-70CBF7DAAC8D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" name="直接连接符 7"/>
          <p:cNvCxnSpPr/>
          <p:nvPr/>
        </p:nvCxnSpPr>
        <p:spPr>
          <a:xfrm>
            <a:off x="0" y="3573000"/>
            <a:ext cx="9144360" cy="360"/>
          </a:xfrm>
          <a:prstGeom prst="straightConnector1">
            <a:avLst/>
          </a:prstGeom>
          <a:ln w="38100">
            <a:solidFill>
              <a:srgbClr val="ffffff"/>
            </a:solidFill>
            <a:round/>
          </a:ln>
        </p:spPr>
      </p:cxn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Wingdings" charset="2"/>
              <a:buChar char=""/>
            </a:pPr>
            <a:r>
              <a:rPr b="0" lang="zh-CN" sz="2400" spc="-1" strike="noStrike">
                <a:solidFill>
                  <a:srgbClr val="000000"/>
                </a:solidFill>
                <a:latin typeface="Calibri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Calibri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Calibri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0073130-931D-4B1F-98F4-DD5E7993EDF9}" type="slidenum">
              <a:rPr b="0" lang="en-US" sz="1200" spc="-1" strike="noStrike">
                <a:solidFill>
                  <a:srgbClr val="8b8b8b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95912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拜客通用</a:t>
            </a:r>
            <a:r>
              <a:rPr b="0" lang="en-US" sz="4000" spc="-1" strike="noStrike">
                <a:solidFill>
                  <a:srgbClr val="ffffff"/>
                </a:solidFill>
                <a:latin typeface="黑体"/>
                <a:ea typeface="黑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440" cy="175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240" cy="114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</a:pPr>
            <a:endParaRPr b="0" lang="en-US" sz="3600" spc="-1" strike="noStrike">
              <a:solidFill>
                <a:srgbClr val="ffffff"/>
              </a:solidFill>
              <a:latin typeface="黑体"/>
              <a:ea typeface="黑体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240" cy="45255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Office">
      <a:dk1>
        <a:srgbClr val="000000"/>
      </a:dk1>
      <a:lt1>
        <a:srgbClr val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  <Words>13</Words>
  <Paragraphs>2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cp:category>UDi-主题模板</cp:category>
  <dcterms:created xsi:type="dcterms:W3CDTF">2011-10-05T06:12:40Z</dcterms:created>
  <dc:creator>果因PPT工作室</dc:creator>
  <dc:description/>
  <cp:keywords>XS-普屏 4：3 SC-深蓝色 BG-浅色 DH-静态</cp:keywords>
  <dc:language>en-US</dc:language>
  <cp:lastModifiedBy>王玉清</cp:lastModifiedBy>
  <dcterms:modified xsi:type="dcterms:W3CDTF">2016-02-24T04:03:44Z</dcterms:modified>
  <cp:revision>4</cp:revision>
  <dc:subject>TP-体育竞技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2</vt:r8>
  </property>
</Properties>
</file>