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C32-FA45-46DE-A3CF-64554C9C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978-9E72-49D7-BA51-6055522D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A7B-9E47-469F-9489-89E17E63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585-13D3-4822-AD69-EC168EA1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779-7CF2-4D35-BB1A-E8BB45AD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F58-F054-4DD6-8EC8-10FAA023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79C-2697-4466-AF6C-40D882A2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1EF-5DE0-4048-802C-B8C774E4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C0E-EC11-42CB-9354-6B0F3D78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D45-2966-4D3B-9229-7D195A6F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4C2-9B0C-4FA1-9B11-8BB1CA7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/>
          </a:bodyPr>
          <a:p>
            <a:pPr indent="0">
              <a:spcBef>
                <a:spcPts val="1026"/>
              </a:spcBef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D98-067B-4A40-80A2-31C50F2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t">
            <a:normAutofit fontScale="85000"/>
          </a:bodyPr>
          <a:p>
            <a:pPr marL="372240" indent="-37224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807840" indent="-30996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244160" indent="-248400">
              <a:spcBef>
                <a:spcPts val="102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740600" indent="-248400">
              <a:spcBef>
                <a:spcPts val="10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238480" indent="-248400">
              <a:spcBef>
                <a:spcPts val="10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1109C763-DBB9-482D-950F-F521C9950893}" type="datetime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p>
            <a:pPr indent="0"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117000" rIns="11700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  <a:defRPr b="0" lang="zh-CN" sz="1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fld id="{473E92EA-56E2-458B-8B5C-919B42FB7DBE}" type="slidenum">
              <a:rPr b="0" lang="zh-CN" sz="1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0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58680" bIns="58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821556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821556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17280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18108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1810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8215560" y="63961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13" descr=""/>
          <p:cNvPicPr/>
          <p:nvPr/>
        </p:nvPicPr>
        <p:blipFill>
          <a:blip r:embed="rId2"/>
          <a:stretch/>
        </p:blipFill>
        <p:spPr>
          <a:xfrm>
            <a:off x="-11160" y="2536920"/>
            <a:ext cx="9178920" cy="17859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6" descr=""/>
          <p:cNvPicPr/>
          <p:nvPr/>
        </p:nvPicPr>
        <p:blipFill>
          <a:blip r:embed="rId3"/>
          <a:stretch/>
        </p:blipFill>
        <p:spPr>
          <a:xfrm>
            <a:off x="108000" y="1604880"/>
            <a:ext cx="2066760" cy="3648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8238240" y="15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Calibri"/>
                <a:ea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页脚占位符 3"/>
          <p:cNvSpPr/>
          <p:nvPr/>
        </p:nvSpPr>
        <p:spPr>
          <a:xfrm>
            <a:off x="8155080" y="6423120"/>
            <a:ext cx="12906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22320" bIns="22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959200" y="2978280"/>
            <a:ext cx="5052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部门工作会议通用</a:t>
            </a: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1638360" y="4754520"/>
            <a:ext cx="5870520" cy="617760"/>
            <a:chOff x="1638360" y="4754520"/>
            <a:chExt cx="5870520" cy="617760"/>
          </a:xfrm>
        </p:grpSpPr>
        <p:grpSp>
          <p:nvGrpSpPr>
            <p:cNvPr id="280" name="Group 3"/>
            <p:cNvGrpSpPr/>
            <p:nvPr/>
          </p:nvGrpSpPr>
          <p:grpSpPr>
            <a:xfrm>
              <a:off x="1638360" y="4754520"/>
              <a:ext cx="5870520" cy="617760"/>
              <a:chOff x="1638360" y="4754520"/>
              <a:chExt cx="5870520" cy="617760"/>
            </a:xfrm>
          </p:grpSpPr>
          <p:sp>
            <p:nvSpPr>
              <p:cNvPr id="281" name="Rectangle 33"/>
              <p:cNvSpPr/>
              <p:nvPr/>
            </p:nvSpPr>
            <p:spPr>
              <a:xfrm>
                <a:off x="1638360" y="5186520"/>
                <a:ext cx="587052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71440"/>
                    <a:tab algn="l" pos="2343240"/>
                    <a:tab algn="l" pos="3514680"/>
                    <a:tab algn="l" pos="4686480"/>
                    <a:tab algn="l" pos="5857920"/>
                    <a:tab algn="l" pos="7029360"/>
                    <a:tab algn="l" pos="8201160"/>
                    <a:tab algn="l" pos="937260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12"/>
              <p:cNvSpPr/>
              <p:nvPr/>
            </p:nvSpPr>
            <p:spPr>
              <a:xfrm>
                <a:off x="1675080" y="4754520"/>
                <a:ext cx="5833800" cy="53388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1171440"/>
                    <a:tab algn="l" pos="2343240"/>
                    <a:tab algn="l" pos="3514680"/>
                    <a:tab algn="l" pos="4686480"/>
                    <a:tab algn="l" pos="5857920"/>
                    <a:tab algn="l" pos="7029360"/>
                    <a:tab algn="l" pos="8201160"/>
                    <a:tab algn="l" pos="937260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AutoShape 28"/>
            <p:cNvSpPr/>
            <p:nvPr/>
          </p:nvSpPr>
          <p:spPr>
            <a:xfrm>
              <a:off x="1675080" y="4754520"/>
              <a:ext cx="5833800" cy="5338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问题反馈及工作思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1619280" y="4083120"/>
            <a:ext cx="58705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右箭头 26"/>
          <p:cNvSpPr/>
          <p:nvPr/>
        </p:nvSpPr>
        <p:spPr>
          <a:xfrm>
            <a:off x="1951200" y="4854600"/>
            <a:ext cx="431640" cy="2728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问题反馈及工作思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08000" y="6505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5" descr=""/>
          <p:cNvPicPr/>
          <p:nvPr/>
        </p:nvPicPr>
        <p:blipFill>
          <a:blip r:embed="rId1"/>
          <a:stretch/>
        </p:blipFill>
        <p:spPr>
          <a:xfrm>
            <a:off x="-11160" y="2536920"/>
            <a:ext cx="9178920" cy="17859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3081600" y="2997360"/>
            <a:ext cx="29394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汇报完毕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0"/>
          <p:cNvSpPr/>
          <p:nvPr/>
        </p:nvSpPr>
        <p:spPr>
          <a:xfrm>
            <a:off x="8238240" y="15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页脚占位符 3"/>
          <p:cNvSpPr/>
          <p:nvPr/>
        </p:nvSpPr>
        <p:spPr>
          <a:xfrm>
            <a:off x="8155080" y="6423120"/>
            <a:ext cx="129060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" rIns="117000" tIns="22320" bIns="22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4854600" y="5097240"/>
            <a:ext cx="4068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T  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619280" y="4083120"/>
            <a:ext cx="58705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1619280" y="514512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8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反馈及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26"/>
          <p:cNvSpPr/>
          <p:nvPr/>
        </p:nvSpPr>
        <p:spPr>
          <a:xfrm>
            <a:off x="1946160" y="1685880"/>
            <a:ext cx="432000" cy="2732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3"/>
          <p:cNvSpPr/>
          <p:nvPr/>
        </p:nvSpPr>
        <p:spPr>
          <a:xfrm>
            <a:off x="191772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片区维护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79040" y="1988640"/>
            <a:ext cx="555660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9040" y="3429000"/>
            <a:ext cx="555660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73280" y="486900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1964160" y="162864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片区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2837160" y="4365720"/>
            <a:ext cx="6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人员、车辆、工器具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016000" y="1557000"/>
            <a:ext cx="511200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3307320" y="69228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片区组织架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2"/>
          <p:cNvSpPr/>
          <p:nvPr/>
        </p:nvSpPr>
        <p:spPr>
          <a:xfrm>
            <a:off x="179280" y="1090440"/>
            <a:ext cx="2521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28600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片区（部门）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016000" y="1557000"/>
            <a:ext cx="511200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177840" indent="-177840">
              <a:lnSpc>
                <a:spcPct val="120000"/>
              </a:lnSpc>
              <a:spcBef>
                <a:spcPts val="476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4190760" y="692280"/>
            <a:ext cx="6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Arial"/>
              <a:buChar char="—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>
                <a:solidFill>
                  <a:srgbClr val="c11103"/>
                </a:solidFill>
                <a:latin typeface="Arial"/>
                <a:ea typeface="微软雅黑"/>
              </a:rPr>
              <a:t>人员、车辆、工器具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611280" y="6165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1600" spc="-1" strike="noStrike" u="sng">
                <a:solidFill>
                  <a:srgbClr val="8000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1619280" y="1533600"/>
            <a:ext cx="5870520" cy="606240"/>
            <a:chOff x="1619280" y="1533600"/>
            <a:chExt cx="5870520" cy="606240"/>
          </a:xfrm>
        </p:grpSpPr>
        <p:sp>
          <p:nvSpPr>
            <p:cNvPr id="201" name="Rectangle 31"/>
            <p:cNvSpPr/>
            <p:nvPr/>
          </p:nvSpPr>
          <p:spPr>
            <a:xfrm>
              <a:off x="1619280" y="1954080"/>
              <a:ext cx="58705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656000" y="1533600"/>
              <a:ext cx="58338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5"/>
            <p:cNvSpPr/>
            <p:nvPr/>
          </p:nvSpPr>
          <p:spPr>
            <a:xfrm>
              <a:off x="1656000" y="1533600"/>
              <a:ext cx="583380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片区（部门）概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"/>
          <p:cNvGrpSpPr/>
          <p:nvPr/>
        </p:nvGrpSpPr>
        <p:grpSpPr>
          <a:xfrm>
            <a:off x="1619280" y="3666960"/>
            <a:ext cx="5870520" cy="603360"/>
            <a:chOff x="1619280" y="3666960"/>
            <a:chExt cx="5870520" cy="603360"/>
          </a:xfrm>
        </p:grpSpPr>
        <p:sp>
          <p:nvSpPr>
            <p:cNvPr id="205" name="Rectangle 33"/>
            <p:cNvSpPr/>
            <p:nvPr/>
          </p:nvSpPr>
          <p:spPr>
            <a:xfrm>
              <a:off x="1619280" y="4084200"/>
              <a:ext cx="5870520" cy="18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"/>
            <p:cNvSpPr/>
            <p:nvPr/>
          </p:nvSpPr>
          <p:spPr>
            <a:xfrm>
              <a:off x="1656000" y="3674880"/>
              <a:ext cx="5833800" cy="53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7"/>
            <p:cNvSpPr/>
            <p:nvPr/>
          </p:nvSpPr>
          <p:spPr>
            <a:xfrm>
              <a:off x="1656000" y="3666960"/>
              <a:ext cx="5833800" cy="53460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下月工作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0"/>
          <p:cNvGrpSpPr/>
          <p:nvPr/>
        </p:nvGrpSpPr>
        <p:grpSpPr>
          <a:xfrm>
            <a:off x="1619280" y="4724280"/>
            <a:ext cx="5870520" cy="606600"/>
            <a:chOff x="1619280" y="4724280"/>
            <a:chExt cx="5870520" cy="606600"/>
          </a:xfrm>
        </p:grpSpPr>
        <p:sp>
          <p:nvSpPr>
            <p:cNvPr id="209" name="Rectangle 34"/>
            <p:cNvSpPr/>
            <p:nvPr/>
          </p:nvSpPr>
          <p:spPr>
            <a:xfrm>
              <a:off x="1619280" y="5145120"/>
              <a:ext cx="587052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5"/>
            <p:cNvSpPr/>
            <p:nvPr/>
          </p:nvSpPr>
          <p:spPr>
            <a:xfrm>
              <a:off x="1656000" y="4724280"/>
              <a:ext cx="58338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8"/>
            <p:cNvSpPr/>
            <p:nvPr/>
          </p:nvSpPr>
          <p:spPr>
            <a:xfrm>
              <a:off x="1656000" y="4724280"/>
              <a:ext cx="583380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问题反馈及工作思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右箭头 26"/>
          <p:cNvSpPr/>
          <p:nvPr/>
        </p:nvSpPr>
        <p:spPr>
          <a:xfrm>
            <a:off x="1946160" y="2749680"/>
            <a:ext cx="432000" cy="27288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本月质量分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26920" y="1979280"/>
            <a:ext cx="304344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–"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9880" y="4257360"/>
            <a:ext cx="3155760" cy="14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装满意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修障满意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0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投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客户故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面积故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c11103"/>
              </a:buClr>
              <a:buSzPct val="60000"/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小组内部横向比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238720" y="1989000"/>
            <a:ext cx="300672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添加文本单击添加文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c11103"/>
              </a:buClr>
              <a:buSzPct val="60000"/>
              <a:buFont typeface="Arial"/>
              <a:buChar char="−"/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5"/>
          <p:cNvSpPr/>
          <p:nvPr/>
        </p:nvSpPr>
        <p:spPr>
          <a:xfrm>
            <a:off x="2229480" y="38876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本月装机、修障满意度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6"/>
          <p:cNvSpPr/>
          <p:nvPr/>
        </p:nvSpPr>
        <p:spPr>
          <a:xfrm>
            <a:off x="1165680" y="1619280"/>
            <a:ext cx="12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本月代维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7"/>
          <p:cNvSpPr/>
          <p:nvPr/>
        </p:nvSpPr>
        <p:spPr>
          <a:xfrm>
            <a:off x="5424840" y="162864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专项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占位符 3"/>
          <p:cNvSpPr/>
          <p:nvPr/>
        </p:nvSpPr>
        <p:spPr>
          <a:xfrm>
            <a:off x="5232240" y="4246560"/>
            <a:ext cx="29401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本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417640" y="3886200"/>
            <a:ext cx="10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11103"/>
              </a:buClr>
              <a:buSzPct val="60000"/>
              <a:buFont typeface="Wingdings" charset="2"/>
              <a:buChar char="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800" spc="-1" strike="noStrike" u="sng">
                <a:solidFill>
                  <a:srgbClr val="c11103"/>
                </a:solidFill>
                <a:uFillTx/>
                <a:latin typeface="Arial"/>
                <a:ea typeface="微软雅黑"/>
              </a:rPr>
              <a:t>网优网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1"/>
          <p:cNvSpPr/>
          <p:nvPr/>
        </p:nvSpPr>
        <p:spPr>
          <a:xfrm>
            <a:off x="1619280" y="19540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5"/>
          <p:cNvSpPr/>
          <p:nvPr/>
        </p:nvSpPr>
        <p:spPr>
          <a:xfrm>
            <a:off x="1657440" y="1533600"/>
            <a:ext cx="58323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片区（部门）概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1619280" y="410688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1657440" y="36766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1657440" y="36669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月工作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1619280" y="5145120"/>
            <a:ext cx="58705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8"/>
          <p:cNvSpPr/>
          <p:nvPr/>
        </p:nvSpPr>
        <p:spPr>
          <a:xfrm>
            <a:off x="1657440" y="472428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反馈及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1619280" y="3059280"/>
            <a:ext cx="587052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1657440" y="2638440"/>
            <a:ext cx="58323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月质量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6"/>
          <p:cNvSpPr/>
          <p:nvPr/>
        </p:nvSpPr>
        <p:spPr>
          <a:xfrm>
            <a:off x="1657440" y="2619360"/>
            <a:ext cx="58323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右箭头 26"/>
          <p:cNvSpPr/>
          <p:nvPr/>
        </p:nvSpPr>
        <p:spPr>
          <a:xfrm>
            <a:off x="1951200" y="3797280"/>
            <a:ext cx="431640" cy="27324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2"/>
          <p:cNvSpPr/>
          <p:nvPr/>
        </p:nvSpPr>
        <p:spPr>
          <a:xfrm>
            <a:off x="179280" y="1090440"/>
            <a:ext cx="302436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2735280" cy="503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下月工作计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 rot="10800000">
            <a:off x="1330200" y="1628280"/>
            <a:ext cx="2571840" cy="1476360"/>
          </a:xfrm>
          <a:prstGeom prst="roundRect">
            <a:avLst>
              <a:gd name="adj" fmla="val 255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rot="10800000">
            <a:off x="5290920" y="1628280"/>
            <a:ext cx="2570040" cy="1476360"/>
          </a:xfrm>
          <a:prstGeom prst="roundRect">
            <a:avLst>
              <a:gd name="adj" fmla="val 255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5284800" y="2374920"/>
            <a:ext cx="2849400" cy="2752560"/>
          </a:xfrm>
          <a:prstGeom prst="roundRect">
            <a:avLst>
              <a:gd name="adj" fmla="val 8014"/>
            </a:avLst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348160" y="2440080"/>
            <a:ext cx="2703600" cy="2611440"/>
          </a:xfrm>
          <a:prstGeom prst="roundRect">
            <a:avLst>
              <a:gd name="adj" fmla="val 7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974880" y="1660680"/>
            <a:ext cx="2856960" cy="466560"/>
            <a:chOff x="974880" y="1660680"/>
            <a:chExt cx="2856960" cy="466560"/>
          </a:xfrm>
        </p:grpSpPr>
        <p:sp>
          <p:nvSpPr>
            <p:cNvPr id="248" name="AutoShape 6"/>
            <p:cNvSpPr/>
            <p:nvPr/>
          </p:nvSpPr>
          <p:spPr>
            <a:xfrm>
              <a:off x="974880" y="1660680"/>
              <a:ext cx="2856960" cy="46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"/>
            <p:cNvSpPr/>
            <p:nvPr/>
          </p:nvSpPr>
          <p:spPr>
            <a:xfrm flipH="1">
              <a:off x="368928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"/>
            <p:cNvSpPr/>
            <p:nvPr/>
          </p:nvSpPr>
          <p:spPr>
            <a:xfrm>
              <a:off x="100512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5259240" y="1660680"/>
            <a:ext cx="2857320" cy="466560"/>
            <a:chOff x="5259240" y="1660680"/>
            <a:chExt cx="2857320" cy="466560"/>
          </a:xfrm>
        </p:grpSpPr>
        <p:sp>
          <p:nvSpPr>
            <p:cNvPr id="252" name="AutoShape 10"/>
            <p:cNvSpPr/>
            <p:nvPr/>
          </p:nvSpPr>
          <p:spPr>
            <a:xfrm>
              <a:off x="5259240" y="1660680"/>
              <a:ext cx="2857320" cy="46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1"/>
            <p:cNvSpPr/>
            <p:nvPr/>
          </p:nvSpPr>
          <p:spPr>
            <a:xfrm flipH="1">
              <a:off x="797400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2"/>
            <p:cNvSpPr/>
            <p:nvPr/>
          </p:nvSpPr>
          <p:spPr>
            <a:xfrm>
              <a:off x="5289480" y="173052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13"/>
          <p:cNvSpPr/>
          <p:nvPr/>
        </p:nvSpPr>
        <p:spPr>
          <a:xfrm>
            <a:off x="974880" y="2374920"/>
            <a:ext cx="2849400" cy="2711520"/>
          </a:xfrm>
          <a:prstGeom prst="roundRect">
            <a:avLst>
              <a:gd name="adj" fmla="val 8014"/>
            </a:avLst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1241280" y="173988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上月完成情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5580000" y="173988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月工作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 flipH="1" flipV="1" rot="10806000">
            <a:off x="3906360" y="2918880"/>
            <a:ext cx="1293840" cy="756000"/>
          </a:xfrm>
          <a:prstGeom prst="rightArrow">
            <a:avLst>
              <a:gd name="adj1" fmla="val 46509"/>
              <a:gd name="adj2" fmla="val 376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5527800" y="251604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5516640" y="37958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5657760" y="28209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5657760" y="40417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4"/>
          <p:cNvGrpSpPr/>
          <p:nvPr/>
        </p:nvGrpSpPr>
        <p:grpSpPr>
          <a:xfrm>
            <a:off x="5416560" y="2585880"/>
            <a:ext cx="168120" cy="168480"/>
            <a:chOff x="5416560" y="2585880"/>
            <a:chExt cx="168120" cy="168480"/>
          </a:xfrm>
        </p:grpSpPr>
        <p:sp>
          <p:nvSpPr>
            <p:cNvPr id="264" name="Oval 22"/>
            <p:cNvSpPr/>
            <p:nvPr/>
          </p:nvSpPr>
          <p:spPr>
            <a:xfrm>
              <a:off x="5416560" y="2585880"/>
              <a:ext cx="16812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3"/>
            <p:cNvSpPr/>
            <p:nvPr/>
          </p:nvSpPr>
          <p:spPr>
            <a:xfrm>
              <a:off x="5429160" y="2599920"/>
              <a:ext cx="14112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7"/>
          <p:cNvGrpSpPr/>
          <p:nvPr/>
        </p:nvGrpSpPr>
        <p:grpSpPr>
          <a:xfrm>
            <a:off x="5416560" y="3876840"/>
            <a:ext cx="168120" cy="168120"/>
            <a:chOff x="5416560" y="3876840"/>
            <a:chExt cx="168120" cy="168120"/>
          </a:xfrm>
        </p:grpSpPr>
        <p:sp>
          <p:nvSpPr>
            <p:cNvPr id="267" name="Oval 25"/>
            <p:cNvSpPr/>
            <p:nvPr/>
          </p:nvSpPr>
          <p:spPr>
            <a:xfrm>
              <a:off x="5416560" y="3876840"/>
              <a:ext cx="1681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6"/>
            <p:cNvSpPr/>
            <p:nvPr/>
          </p:nvSpPr>
          <p:spPr>
            <a:xfrm>
              <a:off x="5429160" y="3890880"/>
              <a:ext cx="141120" cy="14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71440"/>
                  <a:tab algn="l" pos="2343240"/>
                  <a:tab algn="l" pos="3514680"/>
                  <a:tab algn="l" pos="4686480"/>
                  <a:tab algn="l" pos="5857920"/>
                  <a:tab algn="l" pos="7029360"/>
                  <a:tab algn="l" pos="8201160"/>
                  <a:tab algn="l" pos="9372600"/>
                  <a:tab algn="l" pos="10544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27"/>
          <p:cNvSpPr/>
          <p:nvPr/>
        </p:nvSpPr>
        <p:spPr>
          <a:xfrm>
            <a:off x="1127160" y="43657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8"/>
          <p:cNvSpPr/>
          <p:nvPr/>
        </p:nvSpPr>
        <p:spPr>
          <a:xfrm>
            <a:off x="1050840" y="260208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9"/>
          <p:cNvSpPr/>
          <p:nvPr/>
        </p:nvSpPr>
        <p:spPr>
          <a:xfrm>
            <a:off x="1050840" y="3186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0"/>
          <p:cNvSpPr/>
          <p:nvPr/>
        </p:nvSpPr>
        <p:spPr>
          <a:xfrm>
            <a:off x="1050840" y="37465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cc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1300680" y="2674800"/>
            <a:ext cx="957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1300680" y="3259080"/>
            <a:ext cx="957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1300680" y="3817800"/>
            <a:ext cx="957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4"/>
          <p:cNvSpPr/>
          <p:nvPr/>
        </p:nvSpPr>
        <p:spPr>
          <a:xfrm flipV="1" rot="10794000">
            <a:off x="3874320" y="3524400"/>
            <a:ext cx="1297080" cy="755640"/>
          </a:xfrm>
          <a:prstGeom prst="rightArrow">
            <a:avLst>
              <a:gd name="adj1" fmla="val 46509"/>
              <a:gd name="adj2" fmla="val 377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1530720" y="5292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月工作完成情况的大体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5961960" y="529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月工作计划的简要概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01:51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1T04:06:39Z</dcterms:modified>
  <cp:revision>3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