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6EC-4904-411F-B5AE-8E228FDC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79F-8C03-4808-B89C-D36F3E97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5C9-D9F5-4D2F-881E-9E67AE37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BAC-03D0-4525-8EB1-CF5141D1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AA2-0A75-4650-A7BC-209C2955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581-4FF6-46D8-AAE0-8B673DEE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E2A-4D8F-48A8-B6A4-582FE49C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32E-674F-4ED4-9215-566506C2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CC1-5492-47F5-82E2-650990F9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5C1-9F9B-4185-BBC1-BBF4FF70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039-378D-4317-B7D8-96767C4B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A57-5A08-41BD-9864-C2D846B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9C1E4D-5FFF-4F56-9CAB-7BCE23929DD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【演界网独家PPT】做企业就要用人不疑（www.yanj.cn)-1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>
            <a:hlinkClick r:id="rId2"/>
          </p:cNvPr>
          <p:cNvSpPr/>
          <p:nvPr/>
        </p:nvSpPr>
        <p:spPr>
          <a:xfrm>
            <a:off x="-1690200" y="-147456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2007000" y="80964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扁平化创意欧美风卡通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494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【演界网独家PPT】做企业就要用人不疑（www.yanj.cn)-10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63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【演界网独家PPT】做企业就要用人不疑（www.yanj.cn)-2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【演界网独家PPT】做企业就要用人不疑（www.yanj.cn)-3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【演界网独家PPT】做企业就要用人不疑（www.yanj.cn)-4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【演界网独家PPT】做企业就要用人不疑（www.yanj.cn)-5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【演界网独家PPT】做企业就要用人不疑（www.yanj.cn)-6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【演界网独家PPT】做企业就要用人不疑（www.yanj.cn)-7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09960" y="54957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【演界网独家PPT】做企业就要用人不疑（www.yanj.cn)-8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【演界网独家PPT】做企业就要用人不疑（www.yanj.cn)-9"/>
          <p:cNvPicPr/>
          <p:nvPr/>
        </p:nvPicPr>
        <p:blipFill>
          <a:blip r:embed="rId1"/>
          <a:stretch/>
        </p:blipFill>
        <p:spPr>
          <a:xfrm>
            <a:off x="-4680" y="0"/>
            <a:ext cx="9151560" cy="6857640"/>
          </a:xfrm>
          <a:prstGeom prst="rect">
            <a:avLst/>
          </a:prstGeom>
          <a:ln w="0">
            <a:noFill/>
          </a:ln>
        </p:spPr>
      </p:pic>
      <p:sp>
        <p:nvSpPr>
          <p:cNvPr id="61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</TotalTime>
  <Application>LibreOffice/7.4.7.2$Linux_X86_64 LibreOffice_project/40$Build-2</Application>
  <AppVersion>15.0000</AppVersion>
  <Words>27</Words>
  <Paragraphs>3</Paragraphs>
  <Company>iTianKong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3T08:39:00Z</dcterms:created>
  <dc:creator>www.pptbz.com</dc:creator>
  <dc:description/>
  <dc:language>en-US</dc:language>
  <cp:lastModifiedBy>a</cp:lastModifiedBy>
  <dcterms:modified xsi:type="dcterms:W3CDTF">2015-07-25T12:00:2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