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AE7-A589-4392-A1EA-13563F40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538-152B-473B-8D32-17C83B8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2F0-BF03-47BC-A3D4-A60AC5A7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225-C446-4EDB-909F-66AFA6D9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33E-2D02-4764-A8AA-7E61C51D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339-2982-47FE-B303-447428FA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961-C957-4520-A856-E9C64FB5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E6A-6902-47C6-911E-23D3FA62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E71-F681-4BDD-828D-B8E46C2F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EAA-B7E3-4ED6-8091-396333C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B14-959E-4BC0-933A-0079681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ECE-DF4F-467F-8602-305A3F5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3397-4E97-44DE-8C43-D769F6851A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:\个人\简历\蓝色凳子.png"/>
          <p:cNvPicPr/>
          <p:nvPr/>
        </p:nvPicPr>
        <p:blipFill>
          <a:blip r:embed="rId1"/>
          <a:stretch/>
        </p:blipFill>
        <p:spPr>
          <a:xfrm>
            <a:off x="428760" y="1428840"/>
            <a:ext cx="2879640" cy="3565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2214720" y="14288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179280" y="465624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韵动粗黑简体"/>
                <a:ea typeface="方正韵动粗黑简体"/>
              </a:rPr>
              <a:t>把这个位置</a:t>
            </a:r>
            <a:r>
              <a:rPr b="0" lang="zh-CN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给适合他的人通用</a:t>
            </a:r>
            <a:r>
              <a:rPr b="0" lang="en-US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4"/>
          <p:cNvSpPr/>
          <p:nvPr/>
        </p:nvSpPr>
        <p:spPr>
          <a:xfrm>
            <a:off x="6357960" y="1187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L:\个人\简历\办公椅.png"/>
          <p:cNvPicPr/>
          <p:nvPr/>
        </p:nvPicPr>
        <p:blipFill>
          <a:blip r:embed="rId1"/>
          <a:stretch/>
        </p:blipFill>
        <p:spPr>
          <a:xfrm>
            <a:off x="2643120" y="1928880"/>
            <a:ext cx="1204920" cy="1538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L:\个人\简历\针.png"/>
          <p:cNvPicPr/>
          <p:nvPr/>
        </p:nvPicPr>
        <p:blipFill>
          <a:blip r:embed="rId3"/>
          <a:stretch/>
        </p:blipFill>
        <p:spPr>
          <a:xfrm>
            <a:off x="357120" y="3048120"/>
            <a:ext cx="287496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L:\个人\简历\线.png"/>
          <p:cNvPicPr/>
          <p:nvPr/>
        </p:nvPicPr>
        <p:blipFill>
          <a:blip r:embed="rId4"/>
          <a:stretch/>
        </p:blipFill>
        <p:spPr>
          <a:xfrm>
            <a:off x="2143080" y="3048120"/>
            <a:ext cx="38577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5786280" y="57168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786280" y="1957320"/>
            <a:ext cx="2928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一份工作最主要的就是需要一个认真的人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认真是对自己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对工作负责的表现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一切才华是在认真之后的。</a:t>
            </a: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5786280" y="2844720"/>
            <a:ext cx="2928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相信自己是个认真负责的美术指导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一直以来用我认真的态度完成每一份工作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6481800" y="4000680"/>
            <a:ext cx="39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c000"/>
                </a:solidFill>
                <a:latin typeface="Calibri"/>
              </a:rPr>
              <a:t>让我们一起去认真面对工作</a:t>
            </a:r>
            <a:r>
              <a:rPr b="0" lang="en-US" sz="1100" spc="-1" strike="noStrike">
                <a:solidFill>
                  <a:srgbClr val="ffc000"/>
                </a:solidFill>
                <a:latin typeface="Calibri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28668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认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L:\个人\简历\办公椅.png"/>
          <p:cNvPicPr/>
          <p:nvPr/>
        </p:nvPicPr>
        <p:blipFill>
          <a:blip r:embed="rId2"/>
          <a:stretch/>
        </p:blipFill>
        <p:spPr>
          <a:xfrm>
            <a:off x="2643120" y="2428920"/>
            <a:ext cx="1204920" cy="15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:\个人\简历\人头.png"/>
          <p:cNvPicPr/>
          <p:nvPr/>
        </p:nvPicPr>
        <p:blipFill>
          <a:blip r:embed="rId3"/>
          <a:stretch/>
        </p:blipFill>
        <p:spPr>
          <a:xfrm>
            <a:off x="1428840" y="4392720"/>
            <a:ext cx="3000240" cy="357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:\个人\简历\帽子.png"/>
          <p:cNvPicPr/>
          <p:nvPr/>
        </p:nvPicPr>
        <p:blipFill>
          <a:blip r:embed="rId4"/>
          <a:stretch/>
        </p:blipFill>
        <p:spPr>
          <a:xfrm>
            <a:off x="-4284720" y="3208320"/>
            <a:ext cx="9428400" cy="3649680"/>
          </a:xfrm>
          <a:prstGeom prst="rect">
            <a:avLst/>
          </a:prstGeom>
          <a:ln w="0">
            <a:noFill/>
          </a:ln>
        </p:spPr>
      </p:pic>
      <p:sp>
        <p:nvSpPr>
          <p:cNvPr id="59" name="矩形 8"/>
          <p:cNvSpPr/>
          <p:nvPr/>
        </p:nvSpPr>
        <p:spPr>
          <a:xfrm>
            <a:off x="6161040" y="1187280"/>
            <a:ext cx="22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589720" y="571680"/>
            <a:ext cx="285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5589720" y="1957320"/>
            <a:ext cx="2930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们有了认真态度，接下来就是你的智慧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们怕招聘笨的员工，同事更怕遇见愚钝的伙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他有可能让客户恼火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1"/>
          <p:cNvSpPr/>
          <p:nvPr/>
        </p:nvSpPr>
        <p:spPr>
          <a:xfrm>
            <a:off x="5589720" y="2844720"/>
            <a:ext cx="29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不算是非常聪明的人，不过幸好我是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在工作上能完成比较好的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6421320" y="400068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Calibri"/>
              </a:rPr>
              <a:t>来吧！我们去头脑风暴一下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608976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有脑子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940">
                                      <p:cBhvr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:\个人\简历\橘黄色logo.png"/>
          <p:cNvPicPr/>
          <p:nvPr/>
        </p:nvPicPr>
        <p:blipFill>
          <a:blip r:embed="rId1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66" name="矩形 6"/>
          <p:cNvSpPr/>
          <p:nvPr/>
        </p:nvSpPr>
        <p:spPr>
          <a:xfrm>
            <a:off x="6357960" y="1187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786280" y="57168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/>
          <p:cNvSpPr/>
          <p:nvPr/>
        </p:nvSpPr>
        <p:spPr>
          <a:xfrm>
            <a:off x="5786280" y="1957320"/>
            <a:ext cx="2928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有了认真，有了聪明，下一需要的就是勤快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勤劳、快速的完成每份工作，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就是你们需要的员工，好的员工需要这个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786280" y="2844720"/>
            <a:ext cx="2928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没说什么可说的，这个只能在日常的工作的表现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才是最好的辩解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5970960" y="4000680"/>
            <a:ext cx="127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000"/>
                </a:solidFill>
                <a:latin typeface="Calibri"/>
              </a:rPr>
              <a:t>Let's go,</a:t>
            </a:r>
            <a:r>
              <a:rPr b="0" lang="zh-CN" sz="1100" spc="-1" strike="noStrike">
                <a:solidFill>
                  <a:srgbClr val="ffc000"/>
                </a:solidFill>
                <a:latin typeface="Calibri"/>
              </a:rPr>
              <a:t>让我们马上行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628668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勤快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L:\个人\简历\指甲.png"/>
          <p:cNvPicPr/>
          <p:nvPr/>
        </p:nvPicPr>
        <p:blipFill>
          <a:blip r:embed="rId2"/>
          <a:stretch/>
        </p:blipFill>
        <p:spPr>
          <a:xfrm>
            <a:off x="-1569960" y="2428920"/>
            <a:ext cx="4641840" cy="29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L:\个人\简历\涂指甲.png"/>
          <p:cNvPicPr/>
          <p:nvPr/>
        </p:nvPicPr>
        <p:blipFill>
          <a:blip r:embed="rId3"/>
          <a:stretch/>
        </p:blipFill>
        <p:spPr>
          <a:xfrm>
            <a:off x="2714760" y="4143240"/>
            <a:ext cx="3429000" cy="377028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7072200" y="857160"/>
            <a:ext cx="1106640" cy="100008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785880" y="2873520"/>
            <a:ext cx="78588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姓　　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性　　别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年　　龄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出生日期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工作年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有效证件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证件号码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居住地址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电子邮箱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移动电话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054920" y="85716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714240" y="928800"/>
            <a:ext cx="4286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554120" y="2873520"/>
            <a:ext cx="15177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19</a:t>
            </a: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身份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211xxx19820724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</a:t>
            </a: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g@126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13889245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"/>
          <p:cNvSpPr/>
          <p:nvPr/>
        </p:nvSpPr>
        <p:spPr>
          <a:xfrm>
            <a:off x="714240" y="61578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2"/>
          <p:cNvSpPr/>
          <p:nvPr/>
        </p:nvSpPr>
        <p:spPr>
          <a:xfrm>
            <a:off x="714240" y="269064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2-2003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计算机软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美编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网页前台和广告推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追求平面设计生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3-2008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房地产广告行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推广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美术指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升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8-2011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x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房地产广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推广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美术指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创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4000680" y="25718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4240440" y="36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谢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8:14Z</dcterms:created>
  <dc:creator>mac</dc:creator>
  <dc:description/>
  <cp:keywords/>
  <dc:language>en-US</dc:language>
  <cp:lastModifiedBy>王玉清</cp:lastModifiedBy>
  <cp:lastPrinted>1899-12-30T00:00:00Z</cp:lastPrinted>
  <dcterms:modified xsi:type="dcterms:W3CDTF">2016-03-07T02:54:19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