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EAA-885F-4943-ADE0-0C1696D4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954-B763-410B-8B92-B90EE62A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775-7C94-407B-A92C-3AB5F92A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89F-A191-4085-8D15-672A49ED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289-EA16-421F-992D-C2BFC97B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84E-61F5-4E52-BC84-E162B13D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F41-42F0-4168-A9EA-4C366D7F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EC8-D39B-4282-B2D7-0842B74F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EC5-5903-456F-BAE0-BF09F7E0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EA0-EEDF-4551-9602-53DD2F5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C26-8D0D-4B36-9F1C-7D1E4474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054-70F0-492F-B85A-9AFA005F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0977-1FF3-4463-BC9E-6317DECD8F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116000" y="907920"/>
            <a:ext cx="75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存钱罐金融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8"/>
          <p:cNvSpPr/>
          <p:nvPr/>
        </p:nvSpPr>
        <p:spPr>
          <a:xfrm flipH="1">
            <a:off x="6996240" y="278604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圆角矩形 9"/>
          <p:cNvGrpSpPr/>
          <p:nvPr/>
        </p:nvGrpSpPr>
        <p:grpSpPr>
          <a:xfrm>
            <a:off x="3151080" y="1616040"/>
            <a:ext cx="3030480" cy="785880"/>
            <a:chOff x="3151080" y="1616040"/>
            <a:chExt cx="3030480" cy="785880"/>
          </a:xfrm>
        </p:grpSpPr>
        <p:pic>
          <p:nvPicPr>
            <p:cNvPr id="50" name="圆角矩形 9" descr=""/>
            <p:cNvPicPr/>
            <p:nvPr/>
          </p:nvPicPr>
          <p:blipFill>
            <a:blip r:embed="rId2"/>
            <a:stretch/>
          </p:blipFill>
          <p:spPr>
            <a:xfrm>
              <a:off x="3151080" y="1616040"/>
              <a:ext cx="30304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314880" y="1739880"/>
              <a:ext cx="2700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圆角矩形 10"/>
          <p:cNvGrpSpPr/>
          <p:nvPr/>
        </p:nvGrpSpPr>
        <p:grpSpPr>
          <a:xfrm>
            <a:off x="3187800" y="1616040"/>
            <a:ext cx="2944800" cy="712800"/>
            <a:chOff x="3187800" y="1616040"/>
            <a:chExt cx="2944800" cy="712800"/>
          </a:xfrm>
        </p:grpSpPr>
        <p:pic>
          <p:nvPicPr>
            <p:cNvPr id="53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3187800" y="1616040"/>
              <a:ext cx="29448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311640" y="173988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圆角矩形 11"/>
          <p:cNvGrpSpPr/>
          <p:nvPr/>
        </p:nvGrpSpPr>
        <p:grpSpPr>
          <a:xfrm>
            <a:off x="3187800" y="2382840"/>
            <a:ext cx="2944800" cy="714240"/>
            <a:chOff x="3187800" y="2382840"/>
            <a:chExt cx="2944800" cy="714240"/>
          </a:xfrm>
        </p:grpSpPr>
        <p:pic>
          <p:nvPicPr>
            <p:cNvPr id="56" name="圆角矩形 11" descr=""/>
            <p:cNvPicPr/>
            <p:nvPr/>
          </p:nvPicPr>
          <p:blipFill>
            <a:blip r:embed="rId4"/>
            <a:stretch/>
          </p:blipFill>
          <p:spPr>
            <a:xfrm>
              <a:off x="3187800" y="2382840"/>
              <a:ext cx="2944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311640" y="250992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圆角矩形 12"/>
          <p:cNvGrpSpPr/>
          <p:nvPr/>
        </p:nvGrpSpPr>
        <p:grpSpPr>
          <a:xfrm>
            <a:off x="3151080" y="3181320"/>
            <a:ext cx="3030480" cy="793800"/>
            <a:chOff x="3151080" y="3181320"/>
            <a:chExt cx="3030480" cy="793800"/>
          </a:xfrm>
        </p:grpSpPr>
        <p:pic>
          <p:nvPicPr>
            <p:cNvPr id="59" name="圆角矩形 12" descr=""/>
            <p:cNvPicPr/>
            <p:nvPr/>
          </p:nvPicPr>
          <p:blipFill>
            <a:blip r:embed="rId5"/>
            <a:stretch/>
          </p:blipFill>
          <p:spPr>
            <a:xfrm>
              <a:off x="3151080" y="3181320"/>
              <a:ext cx="303048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314880" y="3311640"/>
              <a:ext cx="2700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圆角矩形 13"/>
          <p:cNvGrpSpPr/>
          <p:nvPr/>
        </p:nvGrpSpPr>
        <p:grpSpPr>
          <a:xfrm>
            <a:off x="3187800" y="3187800"/>
            <a:ext cx="2944800" cy="714240"/>
            <a:chOff x="3187800" y="3187800"/>
            <a:chExt cx="2944800" cy="714240"/>
          </a:xfrm>
        </p:grpSpPr>
        <p:pic>
          <p:nvPicPr>
            <p:cNvPr id="62" name="圆角矩形 13" descr=""/>
            <p:cNvPicPr/>
            <p:nvPr/>
          </p:nvPicPr>
          <p:blipFill>
            <a:blip r:embed="rId6"/>
            <a:stretch/>
          </p:blipFill>
          <p:spPr>
            <a:xfrm>
              <a:off x="3187800" y="3187800"/>
              <a:ext cx="2944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311640" y="331164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圆角矩形 14"/>
          <p:cNvGrpSpPr/>
          <p:nvPr/>
        </p:nvGrpSpPr>
        <p:grpSpPr>
          <a:xfrm>
            <a:off x="3187800" y="3956040"/>
            <a:ext cx="2944800" cy="712800"/>
            <a:chOff x="3187800" y="3956040"/>
            <a:chExt cx="2944800" cy="712800"/>
          </a:xfrm>
        </p:grpSpPr>
        <p:pic>
          <p:nvPicPr>
            <p:cNvPr id="65" name="圆角矩形 14" descr=""/>
            <p:cNvPicPr/>
            <p:nvPr/>
          </p:nvPicPr>
          <p:blipFill>
            <a:blip r:embed="rId7"/>
            <a:stretch/>
          </p:blipFill>
          <p:spPr>
            <a:xfrm>
              <a:off x="3187800" y="3956040"/>
              <a:ext cx="29448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311640" y="408132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矩形 20"/>
          <p:cNvSpPr/>
          <p:nvPr/>
        </p:nvSpPr>
        <p:spPr>
          <a:xfrm>
            <a:off x="4181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1"/>
          <p:cNvSpPr/>
          <p:nvPr/>
        </p:nvSpPr>
        <p:spPr>
          <a:xfrm>
            <a:off x="41104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2"/>
          <p:cNvSpPr/>
          <p:nvPr/>
        </p:nvSpPr>
        <p:spPr>
          <a:xfrm>
            <a:off x="4181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1"/>
          <p:cNvSpPr/>
          <p:nvPr/>
        </p:nvSpPr>
        <p:spPr>
          <a:xfrm>
            <a:off x="41090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22"/>
          <p:cNvGrpSpPr/>
          <p:nvPr/>
        </p:nvGrpSpPr>
        <p:grpSpPr>
          <a:xfrm>
            <a:off x="500040" y="2214720"/>
            <a:ext cx="6178680" cy="1671480"/>
            <a:chOff x="500040" y="2214720"/>
            <a:chExt cx="6178680" cy="1671480"/>
          </a:xfrm>
        </p:grpSpPr>
        <p:grpSp>
          <p:nvGrpSpPr>
            <p:cNvPr id="77" name="组合 20"/>
            <p:cNvGrpSpPr/>
            <p:nvPr/>
          </p:nvGrpSpPr>
          <p:grpSpPr>
            <a:xfrm>
              <a:off x="500040" y="2214720"/>
              <a:ext cx="6178680" cy="1671480"/>
              <a:chOff x="500040" y="2214720"/>
              <a:chExt cx="6178680" cy="1671480"/>
            </a:xfrm>
          </p:grpSpPr>
          <p:grpSp>
            <p:nvGrpSpPr>
              <p:cNvPr id="78" name="组合 12"/>
              <p:cNvGrpSpPr/>
              <p:nvPr/>
            </p:nvGrpSpPr>
            <p:grpSpPr>
              <a:xfrm>
                <a:off x="500040" y="2214720"/>
                <a:ext cx="2009520" cy="1671480"/>
                <a:chOff x="500040" y="2214720"/>
                <a:chExt cx="2009520" cy="1671480"/>
              </a:xfrm>
            </p:grpSpPr>
            <p:sp>
              <p:nvSpPr>
                <p:cNvPr id="79" name="矩形标注 17"/>
                <p:cNvSpPr/>
                <p:nvPr/>
              </p:nvSpPr>
              <p:spPr>
                <a:xfrm>
                  <a:off x="500040" y="2214720"/>
                  <a:ext cx="2009520" cy="1671480"/>
                </a:xfrm>
                <a:prstGeom prst="wedgeRectCallout">
                  <a:avLst>
                    <a:gd name="adj1" fmla="val -20833"/>
                    <a:gd name="adj2" fmla="val 62500"/>
                  </a:avLst>
                </a:prstGeom>
                <a:solidFill>
                  <a:srgbClr val="525d57"/>
                </a:solidFill>
                <a:ln w="0">
                  <a:noFill/>
                </a:ln>
                <a:effectLst>
                  <a:outerShdw dist="76367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矩形 18"/>
                <p:cNvGrpSpPr/>
                <p:nvPr/>
              </p:nvGrpSpPr>
              <p:grpSpPr>
                <a:xfrm>
                  <a:off x="603360" y="2804040"/>
                  <a:ext cx="1798200" cy="932760"/>
                  <a:chOff x="603360" y="2804040"/>
                  <a:chExt cx="1798200" cy="932760"/>
                </a:xfrm>
              </p:grpSpPr>
              <p:pic>
                <p:nvPicPr>
                  <p:cNvPr id="81" name="矩形 18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03360" y="2804760"/>
                    <a:ext cx="1796400" cy="92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"/>
                  <p:cNvSpPr/>
                  <p:nvPr/>
                </p:nvSpPr>
                <p:spPr>
                  <a:xfrm>
                    <a:off x="604800" y="2804040"/>
                    <a:ext cx="1796760" cy="93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" name="矩形标注 12"/>
              <p:cNvSpPr/>
              <p:nvPr/>
            </p:nvSpPr>
            <p:spPr>
              <a:xfrm>
                <a:off x="2584440" y="2214720"/>
                <a:ext cx="2009880" cy="1671480"/>
              </a:xfrm>
              <a:prstGeom prst="wedgeRectCallout">
                <a:avLst>
                  <a:gd name="adj1" fmla="val -20833"/>
                  <a:gd name="adj2" fmla="val 62500"/>
                </a:avLst>
              </a:prstGeom>
              <a:solidFill>
                <a:srgbClr val="8c9695"/>
              </a:solidFill>
              <a:ln w="0">
                <a:noFill/>
              </a:ln>
              <a:effectLst>
                <a:outerShdw dist="7636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矩形 13"/>
              <p:cNvGrpSpPr/>
              <p:nvPr/>
            </p:nvGrpSpPr>
            <p:grpSpPr>
              <a:xfrm>
                <a:off x="2688120" y="2804040"/>
                <a:ext cx="1798200" cy="932760"/>
                <a:chOff x="2688120" y="2804040"/>
                <a:chExt cx="1798200" cy="932760"/>
              </a:xfrm>
            </p:grpSpPr>
            <p:pic>
              <p:nvPicPr>
                <p:cNvPr id="85" name="矩形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88120" y="2804760"/>
                  <a:ext cx="1796400" cy="92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2689560" y="2804040"/>
                  <a:ext cx="1796760" cy="93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组合 17"/>
              <p:cNvGrpSpPr/>
              <p:nvPr/>
            </p:nvGrpSpPr>
            <p:grpSpPr>
              <a:xfrm>
                <a:off x="4669200" y="2214720"/>
                <a:ext cx="2009520" cy="1671480"/>
                <a:chOff x="4669200" y="2214720"/>
                <a:chExt cx="2009520" cy="1671480"/>
              </a:xfrm>
            </p:grpSpPr>
            <p:sp>
              <p:nvSpPr>
                <p:cNvPr id="88" name="矩形标注 15"/>
                <p:cNvSpPr/>
                <p:nvPr/>
              </p:nvSpPr>
              <p:spPr>
                <a:xfrm>
                  <a:off x="4669200" y="2214720"/>
                  <a:ext cx="2009520" cy="1671480"/>
                </a:xfrm>
                <a:prstGeom prst="wedgeRectCallout">
                  <a:avLst>
                    <a:gd name="adj1" fmla="val -20833"/>
                    <a:gd name="adj2" fmla="val 62500"/>
                  </a:avLst>
                </a:prstGeom>
                <a:solidFill>
                  <a:srgbClr val="525d57"/>
                </a:solidFill>
                <a:ln w="0">
                  <a:noFill/>
                </a:ln>
                <a:effectLst>
                  <a:outerShdw dist="76367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矩形 16"/>
                <p:cNvGrpSpPr/>
                <p:nvPr/>
              </p:nvGrpSpPr>
              <p:grpSpPr>
                <a:xfrm>
                  <a:off x="4773240" y="2804040"/>
                  <a:ext cx="1798200" cy="932760"/>
                  <a:chOff x="4773240" y="2804040"/>
                  <a:chExt cx="1798200" cy="932760"/>
                </a:xfrm>
              </p:grpSpPr>
              <p:pic>
                <p:nvPicPr>
                  <p:cNvPr id="90" name="矩形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73240" y="2804760"/>
                    <a:ext cx="1796400" cy="92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>
                    <a:off x="4774680" y="2804040"/>
                    <a:ext cx="1796760" cy="93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2" name="矩形 12"/>
            <p:cNvSpPr/>
            <p:nvPr/>
          </p:nvSpPr>
          <p:spPr>
            <a:xfrm>
              <a:off x="3294720" y="3105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3"/>
            <p:cNvSpPr/>
            <p:nvPr/>
          </p:nvSpPr>
          <p:spPr>
            <a:xfrm>
              <a:off x="5417280" y="31608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5"/>
            <p:cNvSpPr/>
            <p:nvPr/>
          </p:nvSpPr>
          <p:spPr>
            <a:xfrm>
              <a:off x="1173600" y="3105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矩形标注 23"/>
          <p:cNvSpPr/>
          <p:nvPr/>
        </p:nvSpPr>
        <p:spPr>
          <a:xfrm>
            <a:off x="6778800" y="2214720"/>
            <a:ext cx="2008080" cy="16714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8c9695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矩形 24"/>
          <p:cNvGrpSpPr/>
          <p:nvPr/>
        </p:nvGrpSpPr>
        <p:grpSpPr>
          <a:xfrm>
            <a:off x="6881760" y="2803680"/>
            <a:ext cx="1798200" cy="933120"/>
            <a:chOff x="6881760" y="2803680"/>
            <a:chExt cx="1798200" cy="933120"/>
          </a:xfrm>
        </p:grpSpPr>
        <p:pic>
          <p:nvPicPr>
            <p:cNvPr id="97" name="矩形 24" descr=""/>
            <p:cNvPicPr/>
            <p:nvPr/>
          </p:nvPicPr>
          <p:blipFill>
            <a:blip r:embed="rId4"/>
            <a:stretch/>
          </p:blipFill>
          <p:spPr>
            <a:xfrm>
              <a:off x="6881760" y="2803680"/>
              <a:ext cx="1796760" cy="9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883200" y="2803680"/>
              <a:ext cx="1796760" cy="9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12"/>
          <p:cNvSpPr/>
          <p:nvPr/>
        </p:nvSpPr>
        <p:spPr>
          <a:xfrm>
            <a:off x="7488720" y="31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直接连接符 10"/>
          <p:cNvSpPr/>
          <p:nvPr/>
        </p:nvSpPr>
        <p:spPr>
          <a:xfrm>
            <a:off x="4572000" y="0"/>
            <a:ext cx="0" cy="219564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>
            <a:off x="1994040" y="0"/>
            <a:ext cx="0" cy="219564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>
            <a:off x="7196040" y="0"/>
            <a:ext cx="0" cy="219564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椭圆 13"/>
          <p:cNvGrpSpPr/>
          <p:nvPr/>
        </p:nvGrpSpPr>
        <p:grpSpPr>
          <a:xfrm>
            <a:off x="2998800" y="1871640"/>
            <a:ext cx="3273480" cy="3267000"/>
            <a:chOff x="2998800" y="1871640"/>
            <a:chExt cx="3273480" cy="3267000"/>
          </a:xfrm>
        </p:grpSpPr>
        <p:pic>
          <p:nvPicPr>
            <p:cNvPr id="104" name="椭圆 13" descr=""/>
            <p:cNvPicPr/>
            <p:nvPr/>
          </p:nvPicPr>
          <p:blipFill>
            <a:blip r:embed="rId1"/>
            <a:stretch/>
          </p:blipFill>
          <p:spPr>
            <a:xfrm>
              <a:off x="2998800" y="1871640"/>
              <a:ext cx="327348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463920" y="2332080"/>
              <a:ext cx="2023920" cy="20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椭圆 14"/>
          <p:cNvGrpSpPr/>
          <p:nvPr/>
        </p:nvGrpSpPr>
        <p:grpSpPr>
          <a:xfrm>
            <a:off x="3328920" y="2193840"/>
            <a:ext cx="2297160" cy="2298960"/>
            <a:chOff x="3328920" y="2193840"/>
            <a:chExt cx="2297160" cy="2298960"/>
          </a:xfrm>
        </p:grpSpPr>
        <p:pic>
          <p:nvPicPr>
            <p:cNvPr id="107" name="椭圆 14" descr=""/>
            <p:cNvPicPr/>
            <p:nvPr/>
          </p:nvPicPr>
          <p:blipFill>
            <a:blip r:embed="rId2"/>
            <a:stretch/>
          </p:blipFill>
          <p:spPr>
            <a:xfrm>
              <a:off x="3328920" y="2193840"/>
              <a:ext cx="229716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664080" y="2532240"/>
              <a:ext cx="1623960" cy="16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椭圆 15"/>
          <p:cNvGrpSpPr/>
          <p:nvPr/>
        </p:nvGrpSpPr>
        <p:grpSpPr>
          <a:xfrm>
            <a:off x="426960" y="1871640"/>
            <a:ext cx="3267000" cy="3267000"/>
            <a:chOff x="426960" y="1871640"/>
            <a:chExt cx="3267000" cy="3267000"/>
          </a:xfrm>
        </p:grpSpPr>
        <p:pic>
          <p:nvPicPr>
            <p:cNvPr id="110" name="椭圆 15" descr=""/>
            <p:cNvPicPr/>
            <p:nvPr/>
          </p:nvPicPr>
          <p:blipFill>
            <a:blip r:embed="rId3"/>
            <a:stretch/>
          </p:blipFill>
          <p:spPr>
            <a:xfrm>
              <a:off x="426960" y="187164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87400" y="2332080"/>
              <a:ext cx="2023920" cy="20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椭圆 16"/>
          <p:cNvGrpSpPr/>
          <p:nvPr/>
        </p:nvGrpSpPr>
        <p:grpSpPr>
          <a:xfrm>
            <a:off x="749160" y="2193840"/>
            <a:ext cx="2298960" cy="2298960"/>
            <a:chOff x="749160" y="2193840"/>
            <a:chExt cx="2298960" cy="2298960"/>
          </a:xfrm>
        </p:grpSpPr>
        <p:pic>
          <p:nvPicPr>
            <p:cNvPr id="113" name="椭圆 16" descr=""/>
            <p:cNvPicPr/>
            <p:nvPr/>
          </p:nvPicPr>
          <p:blipFill>
            <a:blip r:embed="rId4"/>
            <a:stretch/>
          </p:blipFill>
          <p:spPr>
            <a:xfrm>
              <a:off x="749160" y="2193840"/>
              <a:ext cx="229896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087560" y="2532240"/>
              <a:ext cx="1623960" cy="16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椭圆 17"/>
          <p:cNvGrpSpPr/>
          <p:nvPr/>
        </p:nvGrpSpPr>
        <p:grpSpPr>
          <a:xfrm>
            <a:off x="5626080" y="1871640"/>
            <a:ext cx="3273480" cy="3267000"/>
            <a:chOff x="5626080" y="1871640"/>
            <a:chExt cx="3273480" cy="3267000"/>
          </a:xfrm>
        </p:grpSpPr>
        <p:pic>
          <p:nvPicPr>
            <p:cNvPr id="116" name="椭圆 17" descr=""/>
            <p:cNvPicPr/>
            <p:nvPr/>
          </p:nvPicPr>
          <p:blipFill>
            <a:blip r:embed="rId5"/>
            <a:stretch/>
          </p:blipFill>
          <p:spPr>
            <a:xfrm>
              <a:off x="5626080" y="1871640"/>
              <a:ext cx="327348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087960" y="2332080"/>
              <a:ext cx="2025720" cy="20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椭圆 18"/>
          <p:cNvGrpSpPr/>
          <p:nvPr/>
        </p:nvGrpSpPr>
        <p:grpSpPr>
          <a:xfrm>
            <a:off x="5950080" y="2193840"/>
            <a:ext cx="2298600" cy="2298960"/>
            <a:chOff x="5950080" y="2193840"/>
            <a:chExt cx="2298600" cy="2298960"/>
          </a:xfrm>
        </p:grpSpPr>
        <p:pic>
          <p:nvPicPr>
            <p:cNvPr id="119" name="椭圆 18" descr=""/>
            <p:cNvPicPr/>
            <p:nvPr/>
          </p:nvPicPr>
          <p:blipFill>
            <a:blip r:embed="rId6"/>
            <a:stretch/>
          </p:blipFill>
          <p:spPr>
            <a:xfrm>
              <a:off x="5950080" y="2193840"/>
              <a:ext cx="229860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288120" y="2532240"/>
              <a:ext cx="1625400" cy="16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直接连接符 19"/>
          <p:cNvSpPr/>
          <p:nvPr/>
        </p:nvSpPr>
        <p:spPr>
          <a:xfrm>
            <a:off x="4476600" y="0"/>
            <a:ext cx="0" cy="219564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20"/>
          <p:cNvSpPr/>
          <p:nvPr/>
        </p:nvSpPr>
        <p:spPr>
          <a:xfrm>
            <a:off x="1898640" y="0"/>
            <a:ext cx="0" cy="219564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21"/>
          <p:cNvSpPr/>
          <p:nvPr/>
        </p:nvSpPr>
        <p:spPr>
          <a:xfrm>
            <a:off x="7101000" y="0"/>
            <a:ext cx="0" cy="219564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3997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6712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1497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11"/>
          <p:cNvSpPr/>
          <p:nvPr/>
        </p:nvSpPr>
        <p:spPr>
          <a:xfrm flipH="1">
            <a:off x="428760" y="1857240"/>
            <a:ext cx="4000320" cy="831960"/>
          </a:xfrm>
          <a:custGeom>
            <a:avLst/>
            <a:gdLst/>
            <a:ahLst/>
            <a:rect l="l" t="t" r="r" b="b"/>
            <a:pathLst>
              <a:path w="9248671" h="2009105">
                <a:moveTo>
                  <a:pt x="418455" y="0"/>
                </a:moveTo>
                <a:cubicBezTo>
                  <a:pt x="534008" y="0"/>
                  <a:pt x="638622" y="46837"/>
                  <a:pt x="714348" y="122563"/>
                </a:cubicBezTo>
                <a:lnTo>
                  <a:pt x="751055" y="167053"/>
                </a:lnTo>
                <a:lnTo>
                  <a:pt x="8941656" y="167053"/>
                </a:lnTo>
                <a:cubicBezTo>
                  <a:pt x="9111216" y="167053"/>
                  <a:pt x="9248671" y="304508"/>
                  <a:pt x="9248671" y="474068"/>
                </a:cubicBezTo>
                <a:lnTo>
                  <a:pt x="9248671" y="1702090"/>
                </a:lnTo>
                <a:cubicBezTo>
                  <a:pt x="9248671" y="1871650"/>
                  <a:pt x="9111216" y="2009105"/>
                  <a:pt x="8941656" y="2009105"/>
                </a:cubicBezTo>
                <a:lnTo>
                  <a:pt x="663478" y="2009105"/>
                </a:lnTo>
                <a:cubicBezTo>
                  <a:pt x="493918" y="2009105"/>
                  <a:pt x="356463" y="1871650"/>
                  <a:pt x="356463" y="1702090"/>
                </a:cubicBezTo>
                <a:lnTo>
                  <a:pt x="356463" y="830661"/>
                </a:lnTo>
                <a:lnTo>
                  <a:pt x="334122" y="828409"/>
                </a:lnTo>
                <a:cubicBezTo>
                  <a:pt x="143439" y="789389"/>
                  <a:pt x="0" y="620673"/>
                  <a:pt x="0" y="418455"/>
                </a:cubicBezTo>
                <a:cubicBezTo>
                  <a:pt x="0" y="187349"/>
                  <a:pt x="187349" y="0"/>
                  <a:pt x="418455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525d57"/>
            </a:solidFill>
            <a:miter/>
          </a:ln>
          <a:effectLst>
            <a:outerShdw dist="633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12"/>
          <p:cNvSpPr/>
          <p:nvPr/>
        </p:nvSpPr>
        <p:spPr>
          <a:xfrm flipH="1">
            <a:off x="4096440" y="1890720"/>
            <a:ext cx="295560" cy="282600"/>
          </a:xfrm>
          <a:prstGeom prst="ellipse">
            <a:avLst/>
          </a:prstGeom>
          <a:solidFill>
            <a:srgbClr val="525d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14"/>
          <p:cNvSpPr/>
          <p:nvPr/>
        </p:nvSpPr>
        <p:spPr>
          <a:xfrm>
            <a:off x="4714920" y="1857240"/>
            <a:ext cx="4000320" cy="831960"/>
          </a:xfrm>
          <a:custGeom>
            <a:avLst/>
            <a:gdLst/>
            <a:ahLst/>
            <a:rect l="l" t="t" r="r" b="b"/>
            <a:pathLst>
              <a:path w="9248671" h="2009105">
                <a:moveTo>
                  <a:pt x="418455" y="0"/>
                </a:moveTo>
                <a:cubicBezTo>
                  <a:pt x="534008" y="0"/>
                  <a:pt x="638622" y="46837"/>
                  <a:pt x="714348" y="122563"/>
                </a:cubicBezTo>
                <a:lnTo>
                  <a:pt x="751055" y="167053"/>
                </a:lnTo>
                <a:lnTo>
                  <a:pt x="8941656" y="167053"/>
                </a:lnTo>
                <a:cubicBezTo>
                  <a:pt x="9111216" y="167053"/>
                  <a:pt x="9248671" y="304508"/>
                  <a:pt x="9248671" y="474068"/>
                </a:cubicBezTo>
                <a:lnTo>
                  <a:pt x="9248671" y="1702090"/>
                </a:lnTo>
                <a:cubicBezTo>
                  <a:pt x="9248671" y="1871650"/>
                  <a:pt x="9111216" y="2009105"/>
                  <a:pt x="8941656" y="2009105"/>
                </a:cubicBezTo>
                <a:lnTo>
                  <a:pt x="663478" y="2009105"/>
                </a:lnTo>
                <a:cubicBezTo>
                  <a:pt x="493918" y="2009105"/>
                  <a:pt x="356463" y="1871650"/>
                  <a:pt x="356463" y="1702090"/>
                </a:cubicBezTo>
                <a:lnTo>
                  <a:pt x="356463" y="830661"/>
                </a:lnTo>
                <a:lnTo>
                  <a:pt x="334122" y="828409"/>
                </a:lnTo>
                <a:cubicBezTo>
                  <a:pt x="143439" y="789389"/>
                  <a:pt x="0" y="620673"/>
                  <a:pt x="0" y="418455"/>
                </a:cubicBezTo>
                <a:cubicBezTo>
                  <a:pt x="0" y="187349"/>
                  <a:pt x="187349" y="0"/>
                  <a:pt x="418455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8c9695"/>
            </a:solidFill>
            <a:miter/>
          </a:ln>
          <a:effectLst>
            <a:outerShdw dist="633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15"/>
          <p:cNvSpPr/>
          <p:nvPr/>
        </p:nvSpPr>
        <p:spPr>
          <a:xfrm>
            <a:off x="4751280" y="1890720"/>
            <a:ext cx="295560" cy="282600"/>
          </a:xfrm>
          <a:prstGeom prst="ellipse">
            <a:avLst/>
          </a:prstGeom>
          <a:solidFill>
            <a:srgbClr val="8c9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17"/>
          <p:cNvSpPr/>
          <p:nvPr/>
        </p:nvSpPr>
        <p:spPr>
          <a:xfrm flipH="1">
            <a:off x="428760" y="2857680"/>
            <a:ext cx="4000320" cy="831600"/>
          </a:xfrm>
          <a:custGeom>
            <a:avLst/>
            <a:gdLst/>
            <a:ahLst/>
            <a:rect l="l" t="t" r="r" b="b"/>
            <a:pathLst>
              <a:path w="9248671" h="2009105">
                <a:moveTo>
                  <a:pt x="418455" y="0"/>
                </a:moveTo>
                <a:cubicBezTo>
                  <a:pt x="534008" y="0"/>
                  <a:pt x="638622" y="46837"/>
                  <a:pt x="714348" y="122563"/>
                </a:cubicBezTo>
                <a:lnTo>
                  <a:pt x="751055" y="167053"/>
                </a:lnTo>
                <a:lnTo>
                  <a:pt x="8941656" y="167053"/>
                </a:lnTo>
                <a:cubicBezTo>
                  <a:pt x="9111216" y="167053"/>
                  <a:pt x="9248671" y="304508"/>
                  <a:pt x="9248671" y="474068"/>
                </a:cubicBezTo>
                <a:lnTo>
                  <a:pt x="9248671" y="1702090"/>
                </a:lnTo>
                <a:cubicBezTo>
                  <a:pt x="9248671" y="1871650"/>
                  <a:pt x="9111216" y="2009105"/>
                  <a:pt x="8941656" y="2009105"/>
                </a:cubicBezTo>
                <a:lnTo>
                  <a:pt x="663478" y="2009105"/>
                </a:lnTo>
                <a:cubicBezTo>
                  <a:pt x="493918" y="2009105"/>
                  <a:pt x="356463" y="1871650"/>
                  <a:pt x="356463" y="1702090"/>
                </a:cubicBezTo>
                <a:lnTo>
                  <a:pt x="356463" y="830661"/>
                </a:lnTo>
                <a:lnTo>
                  <a:pt x="334122" y="828409"/>
                </a:lnTo>
                <a:cubicBezTo>
                  <a:pt x="143439" y="789389"/>
                  <a:pt x="0" y="620673"/>
                  <a:pt x="0" y="418455"/>
                </a:cubicBezTo>
                <a:cubicBezTo>
                  <a:pt x="0" y="187349"/>
                  <a:pt x="187349" y="0"/>
                  <a:pt x="418455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525d57"/>
            </a:solidFill>
            <a:miter/>
          </a:ln>
          <a:effectLst>
            <a:outerShdw dist="633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18"/>
          <p:cNvSpPr/>
          <p:nvPr/>
        </p:nvSpPr>
        <p:spPr>
          <a:xfrm flipH="1">
            <a:off x="4096440" y="2890800"/>
            <a:ext cx="295560" cy="282600"/>
          </a:xfrm>
          <a:prstGeom prst="ellipse">
            <a:avLst/>
          </a:prstGeom>
          <a:solidFill>
            <a:srgbClr val="525d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20"/>
          <p:cNvSpPr/>
          <p:nvPr/>
        </p:nvSpPr>
        <p:spPr>
          <a:xfrm>
            <a:off x="4714920" y="2857680"/>
            <a:ext cx="4000320" cy="831600"/>
          </a:xfrm>
          <a:custGeom>
            <a:avLst/>
            <a:gdLst/>
            <a:ahLst/>
            <a:rect l="l" t="t" r="r" b="b"/>
            <a:pathLst>
              <a:path w="9248671" h="2009105">
                <a:moveTo>
                  <a:pt x="418455" y="0"/>
                </a:moveTo>
                <a:cubicBezTo>
                  <a:pt x="534008" y="0"/>
                  <a:pt x="638622" y="46837"/>
                  <a:pt x="714348" y="122563"/>
                </a:cubicBezTo>
                <a:lnTo>
                  <a:pt x="751055" y="167053"/>
                </a:lnTo>
                <a:lnTo>
                  <a:pt x="8941656" y="167053"/>
                </a:lnTo>
                <a:cubicBezTo>
                  <a:pt x="9111216" y="167053"/>
                  <a:pt x="9248671" y="304508"/>
                  <a:pt x="9248671" y="474068"/>
                </a:cubicBezTo>
                <a:lnTo>
                  <a:pt x="9248671" y="1702090"/>
                </a:lnTo>
                <a:cubicBezTo>
                  <a:pt x="9248671" y="1871650"/>
                  <a:pt x="9111216" y="2009105"/>
                  <a:pt x="8941656" y="2009105"/>
                </a:cubicBezTo>
                <a:lnTo>
                  <a:pt x="663478" y="2009105"/>
                </a:lnTo>
                <a:cubicBezTo>
                  <a:pt x="493918" y="2009105"/>
                  <a:pt x="356463" y="1871650"/>
                  <a:pt x="356463" y="1702090"/>
                </a:cubicBezTo>
                <a:lnTo>
                  <a:pt x="356463" y="830661"/>
                </a:lnTo>
                <a:lnTo>
                  <a:pt x="334122" y="828409"/>
                </a:lnTo>
                <a:cubicBezTo>
                  <a:pt x="143439" y="789389"/>
                  <a:pt x="0" y="620673"/>
                  <a:pt x="0" y="418455"/>
                </a:cubicBezTo>
                <a:cubicBezTo>
                  <a:pt x="0" y="187349"/>
                  <a:pt x="187349" y="0"/>
                  <a:pt x="418455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8c9695"/>
            </a:solidFill>
            <a:miter/>
          </a:ln>
          <a:effectLst>
            <a:outerShdw dist="633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1"/>
          <p:cNvSpPr/>
          <p:nvPr/>
        </p:nvSpPr>
        <p:spPr>
          <a:xfrm>
            <a:off x="4751280" y="2890800"/>
            <a:ext cx="295560" cy="282600"/>
          </a:xfrm>
          <a:prstGeom prst="ellipse">
            <a:avLst/>
          </a:prstGeom>
          <a:solidFill>
            <a:srgbClr val="8c9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23"/>
          <p:cNvSpPr/>
          <p:nvPr/>
        </p:nvSpPr>
        <p:spPr>
          <a:xfrm flipH="1">
            <a:off x="428760" y="3882960"/>
            <a:ext cx="4000320" cy="831960"/>
          </a:xfrm>
          <a:custGeom>
            <a:avLst/>
            <a:gdLst/>
            <a:ahLst/>
            <a:rect l="l" t="t" r="r" b="b"/>
            <a:pathLst>
              <a:path w="9248671" h="2009105">
                <a:moveTo>
                  <a:pt x="418455" y="0"/>
                </a:moveTo>
                <a:cubicBezTo>
                  <a:pt x="534008" y="0"/>
                  <a:pt x="638622" y="46837"/>
                  <a:pt x="714348" y="122563"/>
                </a:cubicBezTo>
                <a:lnTo>
                  <a:pt x="751055" y="167053"/>
                </a:lnTo>
                <a:lnTo>
                  <a:pt x="8941656" y="167053"/>
                </a:lnTo>
                <a:cubicBezTo>
                  <a:pt x="9111216" y="167053"/>
                  <a:pt x="9248671" y="304508"/>
                  <a:pt x="9248671" y="474068"/>
                </a:cubicBezTo>
                <a:lnTo>
                  <a:pt x="9248671" y="1702090"/>
                </a:lnTo>
                <a:cubicBezTo>
                  <a:pt x="9248671" y="1871650"/>
                  <a:pt x="9111216" y="2009105"/>
                  <a:pt x="8941656" y="2009105"/>
                </a:cubicBezTo>
                <a:lnTo>
                  <a:pt x="663478" y="2009105"/>
                </a:lnTo>
                <a:cubicBezTo>
                  <a:pt x="493918" y="2009105"/>
                  <a:pt x="356463" y="1871650"/>
                  <a:pt x="356463" y="1702090"/>
                </a:cubicBezTo>
                <a:lnTo>
                  <a:pt x="356463" y="830661"/>
                </a:lnTo>
                <a:lnTo>
                  <a:pt x="334122" y="828409"/>
                </a:lnTo>
                <a:cubicBezTo>
                  <a:pt x="143439" y="789389"/>
                  <a:pt x="0" y="620673"/>
                  <a:pt x="0" y="418455"/>
                </a:cubicBezTo>
                <a:cubicBezTo>
                  <a:pt x="0" y="187349"/>
                  <a:pt x="187349" y="0"/>
                  <a:pt x="418455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525d57"/>
            </a:solidFill>
            <a:miter/>
          </a:ln>
          <a:effectLst>
            <a:outerShdw dist="633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4"/>
          <p:cNvSpPr/>
          <p:nvPr/>
        </p:nvSpPr>
        <p:spPr>
          <a:xfrm flipH="1">
            <a:off x="4096440" y="3916440"/>
            <a:ext cx="295560" cy="282600"/>
          </a:xfrm>
          <a:prstGeom prst="ellipse">
            <a:avLst/>
          </a:prstGeom>
          <a:solidFill>
            <a:srgbClr val="525d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26"/>
          <p:cNvSpPr/>
          <p:nvPr/>
        </p:nvSpPr>
        <p:spPr>
          <a:xfrm>
            <a:off x="4714920" y="3882960"/>
            <a:ext cx="4000320" cy="831960"/>
          </a:xfrm>
          <a:custGeom>
            <a:avLst/>
            <a:gdLst/>
            <a:ahLst/>
            <a:rect l="l" t="t" r="r" b="b"/>
            <a:pathLst>
              <a:path w="9248671" h="2009105">
                <a:moveTo>
                  <a:pt x="418455" y="0"/>
                </a:moveTo>
                <a:cubicBezTo>
                  <a:pt x="534008" y="0"/>
                  <a:pt x="638622" y="46837"/>
                  <a:pt x="714348" y="122563"/>
                </a:cubicBezTo>
                <a:lnTo>
                  <a:pt x="751055" y="167053"/>
                </a:lnTo>
                <a:lnTo>
                  <a:pt x="8941656" y="167053"/>
                </a:lnTo>
                <a:cubicBezTo>
                  <a:pt x="9111216" y="167053"/>
                  <a:pt x="9248671" y="304508"/>
                  <a:pt x="9248671" y="474068"/>
                </a:cubicBezTo>
                <a:lnTo>
                  <a:pt x="9248671" y="1702090"/>
                </a:lnTo>
                <a:cubicBezTo>
                  <a:pt x="9248671" y="1871650"/>
                  <a:pt x="9111216" y="2009105"/>
                  <a:pt x="8941656" y="2009105"/>
                </a:cubicBezTo>
                <a:lnTo>
                  <a:pt x="663478" y="2009105"/>
                </a:lnTo>
                <a:cubicBezTo>
                  <a:pt x="493918" y="2009105"/>
                  <a:pt x="356463" y="1871650"/>
                  <a:pt x="356463" y="1702090"/>
                </a:cubicBezTo>
                <a:lnTo>
                  <a:pt x="356463" y="830661"/>
                </a:lnTo>
                <a:lnTo>
                  <a:pt x="334122" y="828409"/>
                </a:lnTo>
                <a:cubicBezTo>
                  <a:pt x="143439" y="789389"/>
                  <a:pt x="0" y="620673"/>
                  <a:pt x="0" y="418455"/>
                </a:cubicBezTo>
                <a:cubicBezTo>
                  <a:pt x="0" y="187349"/>
                  <a:pt x="187349" y="0"/>
                  <a:pt x="418455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8c9695"/>
            </a:solidFill>
            <a:miter/>
          </a:ln>
          <a:effectLst>
            <a:outerShdw dist="633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7"/>
          <p:cNvSpPr/>
          <p:nvPr/>
        </p:nvSpPr>
        <p:spPr>
          <a:xfrm>
            <a:off x="4751280" y="3916440"/>
            <a:ext cx="295560" cy="282600"/>
          </a:xfrm>
          <a:prstGeom prst="ellipse">
            <a:avLst/>
          </a:prstGeom>
          <a:solidFill>
            <a:srgbClr val="8c9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62838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621252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6212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1784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171324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17132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下箭头 6"/>
          <p:cNvSpPr/>
          <p:nvPr/>
        </p:nvSpPr>
        <p:spPr>
          <a:xfrm flipV="1">
            <a:off x="1612800" y="1500120"/>
            <a:ext cx="1530360" cy="3090960"/>
          </a:xfrm>
          <a:prstGeom prst="downArrow">
            <a:avLst>
              <a:gd name="adj1" fmla="val 2519"/>
              <a:gd name="adj2" fmla="val 49998"/>
            </a:avLst>
          </a:prstGeom>
          <a:solidFill>
            <a:srgbClr val="525d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下箭头 7"/>
          <p:cNvSpPr/>
          <p:nvPr/>
        </p:nvSpPr>
        <p:spPr>
          <a:xfrm flipV="1">
            <a:off x="3184560" y="1500120"/>
            <a:ext cx="1530360" cy="3090960"/>
          </a:xfrm>
          <a:prstGeom prst="downArrow">
            <a:avLst>
              <a:gd name="adj1" fmla="val 2519"/>
              <a:gd name="adj2" fmla="val 49998"/>
            </a:avLst>
          </a:prstGeom>
          <a:solidFill>
            <a:srgbClr val="525d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下箭头 8"/>
          <p:cNvSpPr/>
          <p:nvPr/>
        </p:nvSpPr>
        <p:spPr>
          <a:xfrm flipV="1">
            <a:off x="4756320" y="1500120"/>
            <a:ext cx="1530360" cy="3090960"/>
          </a:xfrm>
          <a:prstGeom prst="downArrow">
            <a:avLst>
              <a:gd name="adj1" fmla="val 2519"/>
              <a:gd name="adj2" fmla="val 49998"/>
            </a:avLst>
          </a:prstGeom>
          <a:solidFill>
            <a:srgbClr val="525d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下箭头 9"/>
          <p:cNvSpPr/>
          <p:nvPr/>
        </p:nvSpPr>
        <p:spPr>
          <a:xfrm flipV="1">
            <a:off x="6327720" y="1500120"/>
            <a:ext cx="1530360" cy="3090960"/>
          </a:xfrm>
          <a:prstGeom prst="downArrow">
            <a:avLst>
              <a:gd name="adj1" fmla="val 2519"/>
              <a:gd name="adj2" fmla="val 49998"/>
            </a:avLst>
          </a:prstGeom>
          <a:solidFill>
            <a:srgbClr val="525d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0"/>
          <p:cNvSpPr/>
          <p:nvPr/>
        </p:nvSpPr>
        <p:spPr>
          <a:xfrm>
            <a:off x="1571760" y="4162320"/>
            <a:ext cx="6286320" cy="1357560"/>
          </a:xfrm>
          <a:prstGeom prst="rect">
            <a:avLst/>
          </a:prstGeom>
          <a:solidFill>
            <a:srgbClr val="8c9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5426640" y="4662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2568960" y="4662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折角形 6"/>
          <p:cNvSpPr/>
          <p:nvPr/>
        </p:nvSpPr>
        <p:spPr>
          <a:xfrm>
            <a:off x="785880" y="1928880"/>
            <a:ext cx="7500960" cy="1357200"/>
          </a:xfrm>
          <a:prstGeom prst="foldedCorner">
            <a:avLst>
              <a:gd name="adj" fmla="val 16666"/>
            </a:avLst>
          </a:prstGeom>
          <a:solidFill>
            <a:srgbClr val="8c9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折角形 7"/>
          <p:cNvSpPr/>
          <p:nvPr/>
        </p:nvSpPr>
        <p:spPr>
          <a:xfrm flipH="1">
            <a:off x="785880" y="3571920"/>
            <a:ext cx="7500960" cy="1357200"/>
          </a:xfrm>
          <a:prstGeom prst="foldedCorner">
            <a:avLst>
              <a:gd name="adj" fmla="val 16666"/>
            </a:avLst>
          </a:prstGeom>
          <a:solidFill>
            <a:srgbClr val="525d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0708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0708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2-15T04:04:56Z</dcterms:modified>
  <cp:revision>288</cp:revision>
  <dc:subject/>
  <dc:title>www.pptbz.com</dc:title>
</cp:coreProperties>
</file>