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7F594F-5FA7-44F2-8499-DDF0F25A2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FB9C95-EB94-436B-A7E2-AF51C2DFAD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0D5C11-5A25-46BD-9975-B1C90E83B7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3FCA26-9C96-4368-B3C3-78414E1EAB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80643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7640" y="3698280"/>
            <a:ext cx="80643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764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008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54280" y="76464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0560" y="76464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7640" y="369828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54280" y="369828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0560" y="369828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116-E24E-4102-B977-37907CA0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27640" y="764640"/>
            <a:ext cx="80643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0AA-5836-4B39-AB74-C69B47F2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80643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F3E-196E-4964-91CC-2D4DF8BC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F92C-FD28-4C6B-AACD-89E2AF93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57D-C19F-47A4-B734-71DDC5BF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27640" y="188640"/>
            <a:ext cx="806436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879-7C88-4FD8-B5D1-F1A7BB35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2764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86B2-00C6-48CA-9F38-BD7E47E6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7640" y="764640"/>
            <a:ext cx="80643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008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5A6-9A55-44E3-AA6C-BDE33AAF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27640" y="3698280"/>
            <a:ext cx="80643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7C2-5528-458D-B475-FFC15AD2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80643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27640" y="3698280"/>
            <a:ext cx="80643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F38-522F-404E-AF84-5C02C17F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2764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008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3F6-4C8C-447C-954A-50238A4D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54280" y="76464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80560" y="76464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27640" y="369828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54280" y="369828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80560" y="369828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FA3-4221-487B-8E5B-0019CB14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7CCC-C940-490F-9C16-0AD61553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7640" y="764640"/>
            <a:ext cx="80643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78C1-3968-4C07-839B-7FDF3048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80643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3234-EB61-49E5-BB36-B0ED9CFF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D2DD-20FC-49D7-88F8-55F3B581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E285-BE41-4DBD-A3A6-323EA916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80643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7640" y="188640"/>
            <a:ext cx="806436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7FAF-96A1-484C-98D4-504FD9A4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764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1497-DC7A-4F0E-A05E-2ED21E61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6008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2CB4-9941-4B2D-B593-E9A684C0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7640" y="3698280"/>
            <a:ext cx="80643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7DAE-393C-4942-A599-77E47109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80643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7640" y="3698280"/>
            <a:ext cx="80643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AB17-02E1-4581-B40E-A0062F3B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764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6008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0F8F-0C5F-4F5F-952B-B180EEEA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54280" y="76464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0560" y="76464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7640" y="369828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54280" y="369828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80560" y="3698280"/>
            <a:ext cx="259632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30E9-EBFD-44CD-BA1B-24D389D4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27640" y="188640"/>
            <a:ext cx="806436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764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0080" y="369828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0080" y="764640"/>
            <a:ext cx="39351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7640" y="3698280"/>
            <a:ext cx="806436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rcRect l="396" t="0" r="588" b="2242"/>
          <a:stretch/>
        </p:blipFill>
        <p:spPr>
          <a:xfrm>
            <a:off x="0" y="-4680"/>
            <a:ext cx="9143640" cy="6862320"/>
          </a:xfrm>
          <a:prstGeom prst="rect">
            <a:avLst/>
          </a:prstGeom>
          <a:ln w="0">
            <a:noFill/>
          </a:ln>
        </p:spPr>
      </p:pic>
      <p:pic>
        <p:nvPicPr>
          <p:cNvPr id="1" name="图片 3" descr=""/>
          <p:cNvPicPr/>
          <p:nvPr/>
        </p:nvPicPr>
        <p:blipFill>
          <a:blip r:embed="rId3"/>
          <a:srcRect l="244" t="1711" r="136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64000" y="3069000"/>
            <a:ext cx="4896360" cy="194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1" lang="en-US" sz="7200" spc="-1" strike="noStrike">
                <a:solidFill>
                  <a:schemeClr val="accent5">
                    <a:lumMod val="50000"/>
                  </a:schemeClr>
                </a:solidFill>
                <a:latin typeface="Monotype Corsiva"/>
                <a:ea typeface="微软雅黑"/>
              </a:rPr>
              <a:t>PowerPoint Template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864000" indent="-324000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  <a:p>
            <a:pPr lvl="2" marL="1296000" indent="-288000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3c3c3c"/>
              </a:solidFill>
              <a:latin typeface="Arial"/>
            </a:endParaRPr>
          </a:p>
          <a:p>
            <a:pPr lvl="3" marL="1728000" indent="-216000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3c3c3c"/>
              </a:solidFill>
              <a:latin typeface="Arial"/>
            </a:endParaRPr>
          </a:p>
          <a:p>
            <a:pPr lvl="4" marL="2160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lvl="5" marL="2592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lvl="6" marL="3024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1" descr=""/>
          <p:cNvPicPr/>
          <p:nvPr/>
        </p:nvPicPr>
        <p:blipFill>
          <a:blip r:embed="rId2"/>
          <a:srcRect l="396" t="0" r="588" b="2242"/>
          <a:stretch/>
        </p:blipFill>
        <p:spPr>
          <a:xfrm>
            <a:off x="0" y="-4680"/>
            <a:ext cx="9143640" cy="68623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1640" y="2205000"/>
            <a:ext cx="5400360" cy="677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5">
                    <a:lumMod val="50000"/>
                  </a:schemeClr>
                </a:solidFill>
                <a:latin typeface="微软雅黑"/>
                <a:ea typeface="微软雅黑"/>
              </a:rPr>
              <a:t>Click to add title</a:t>
            </a:r>
            <a:endParaRPr b="0" lang="en-US" sz="4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BF0037-5437-4103-9EC2-06037A5C67C7}" type="slidenum"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2915640" y="2949480"/>
            <a:ext cx="3456000" cy="335160"/>
          </a:xfrm>
          <a:prstGeom prst="rect">
            <a:avLst/>
          </a:prstGeom>
          <a:gradFill rotWithShape="0">
            <a:gsLst>
              <a:gs pos="0">
                <a:srgbClr val="00668d"/>
              </a:gs>
              <a:gs pos="100000">
                <a:srgbClr val="0091c9"/>
              </a:gs>
            </a:gsLst>
            <a:lin ang="5400000"/>
          </a:gra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5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Click here to edit Master text style</a:t>
            </a: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2"/>
          <a:srcRect l="396" t="0" r="588" b="2242"/>
          <a:stretch/>
        </p:blipFill>
        <p:spPr>
          <a:xfrm>
            <a:off x="0" y="-4680"/>
            <a:ext cx="9143640" cy="6862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微软雅黑"/>
              </a:rPr>
              <a:t>Click here to edit Master text style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8728E0-ECC0-4862-B25A-3A4B900E4B68}" type="slidenum"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827640" y="764640"/>
            <a:ext cx="8064360" cy="561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3c3c3c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  <a:ea typeface="微软雅黑"/>
              </a:rPr>
              <a:t>Click to edit Master text styles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3c3c3c"/>
                </a:solidFill>
                <a:latin typeface="Arial"/>
                <a:ea typeface="微软雅黑"/>
              </a:rPr>
              <a:t>Second level</a:t>
            </a:r>
            <a:endParaRPr b="0" lang="en-US" sz="1600" spc="-1" strike="noStrike">
              <a:solidFill>
                <a:srgbClr val="3c3c3c"/>
              </a:solidFill>
              <a:latin typeface="Arial"/>
            </a:endParaRPr>
          </a:p>
          <a:p>
            <a:pPr marL="914400" indent="0">
              <a:lnSpc>
                <a:spcPct val="15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3c3c3c"/>
                </a:solidFill>
                <a:latin typeface="Arial"/>
                <a:ea typeface="微软雅黑"/>
              </a:rPr>
              <a:t>Third level</a:t>
            </a: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  <a:p>
            <a:pPr marL="1371600" indent="0">
              <a:lnSpc>
                <a:spcPct val="15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3c3c3c"/>
                </a:solidFill>
                <a:latin typeface="Arial"/>
                <a:ea typeface="微软雅黑"/>
              </a:rPr>
              <a:t>Fourth level</a:t>
            </a:r>
            <a:endParaRPr b="0" lang="en-US" sz="1200" spc="-1" strike="noStrike">
              <a:solidFill>
                <a:srgbClr val="3c3c3c"/>
              </a:solidFill>
              <a:latin typeface="Arial"/>
            </a:endParaRPr>
          </a:p>
          <a:p>
            <a:pPr marL="1828800" indent="0">
              <a:lnSpc>
                <a:spcPct val="15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3c3c3c"/>
                </a:solidFill>
                <a:latin typeface="Arial"/>
                <a:ea typeface="微软雅黑"/>
              </a:rPr>
              <a:t>Fifth level</a:t>
            </a:r>
            <a:endParaRPr b="0" lang="en-US" sz="1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64000" y="3069000"/>
            <a:ext cx="4896360" cy="194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1" lang="en-US" sz="7200" spc="-1" strike="noStrike">
                <a:solidFill>
                  <a:schemeClr val="accent5">
                    <a:lumMod val="50000"/>
                  </a:schemeClr>
                </a:solidFill>
                <a:latin typeface="Monotype Corsiva"/>
                <a:ea typeface="微软雅黑"/>
              </a:rPr>
              <a:t>PowerPoint Template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60000" y="5733360"/>
            <a:ext cx="6120360" cy="503640"/>
          </a:xfrm>
          <a:prstGeom prst="rect">
            <a:avLst/>
          </a:prstGeom>
          <a:noFill/>
          <a:ln w="28440">
            <a:noFill/>
          </a:ln>
        </p:spPr>
        <p:txBody>
          <a:bodyPr numCol="1" spcCol="0" anchor="ctr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32" name="矩形 1"/>
          <p:cNvSpPr/>
          <p:nvPr/>
        </p:nvSpPr>
        <p:spPr>
          <a:xfrm>
            <a:off x="2105280" y="69264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262626"/>
                </a:solidFill>
                <a:latin typeface="Arial"/>
                <a:ea typeface="宋体"/>
              </a:rPr>
              <a:t>彩色梦幻圆点通用</a:t>
            </a: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262626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26262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1640" y="2205000"/>
            <a:ext cx="5400360" cy="677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5">
                    <a:lumMod val="50000"/>
                  </a:schemeClr>
                </a:solidFill>
                <a:latin typeface="微软雅黑"/>
                <a:ea typeface="微软雅黑"/>
              </a:rPr>
              <a:t>Click to add title</a:t>
            </a:r>
            <a:endParaRPr b="0" lang="en-US" sz="4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915640" y="2949480"/>
            <a:ext cx="3456000" cy="335160"/>
          </a:xfrm>
          <a:prstGeom prst="rect">
            <a:avLst/>
          </a:prstGeom>
          <a:gradFill rotWithShape="0">
            <a:gsLst>
              <a:gs pos="0">
                <a:srgbClr val="00668d"/>
              </a:gs>
              <a:gs pos="100000">
                <a:srgbClr val="0091c9"/>
              </a:gs>
            </a:gsLst>
            <a:lin ang="5400000"/>
          </a:gra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5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Click here to add your subtitle</a:t>
            </a: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7640" y="188640"/>
            <a:ext cx="8064360" cy="50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chemeClr val="accent5">
                    <a:lumMod val="50000"/>
                  </a:schemeClr>
                </a:solidFill>
                <a:latin typeface="微软雅黑"/>
                <a:ea typeface="微软雅黑"/>
              </a:rPr>
              <a:t>Click here to add your title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7640" y="764640"/>
            <a:ext cx="8064360" cy="561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3c3c3c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  <a:ea typeface="微软雅黑"/>
              </a:rPr>
              <a:t>Click to edit Master text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模板从 www.mysoeasy.com 下载">
  <a:themeElements>
    <a:clrScheme name="office资源宝库-www.mySoEasy.com">
      <a:dk1>
        <a:srgbClr val="262626"/>
      </a:dk1>
      <a:lt1>
        <a:srgbClr val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模板从 www.mysoeasy.com 下载">
  <a:themeElements>
    <a:clrScheme name="office资源宝库-www.mySoEasy.com">
      <a:dk1>
        <a:srgbClr val="262626"/>
      </a:dk1>
      <a:lt1>
        <a:srgbClr val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模板从 www.mysoeasy.com 下载">
  <a:themeElements>
    <a:clrScheme name="office资源宝库-www.mySoEasy.com">
      <a:dk1>
        <a:srgbClr val="262626"/>
      </a:dk1>
      <a:lt1>
        <a:srgbClr val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  <Words>66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>chen.zhb;ivywang</dc:creator>
  <dc:description/>
  <dc:language>en-US</dc:language>
  <cp:lastModifiedBy>王玉清</cp:lastModifiedBy>
  <dcterms:modified xsi:type="dcterms:W3CDTF">2016-02-24T03:28:34Z</dcterms:modified>
  <cp:revision>16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全屏显示(4:3)</vt:lpwstr>
  </property>
  <property fmtid="{D5CDD505-2E9C-101B-9397-08002B2CF9AE}" pid="4" name="Slides">
    <vt:r8>3</vt:r8>
  </property>
  <property fmtid="{D5CDD505-2E9C-101B-9397-08002B2CF9AE}" pid="5" name="VIP等级">
    <vt:lpwstr>2</vt:lpwstr>
  </property>
  <property fmtid="{D5CDD505-2E9C-101B-9397-08002B2CF9AE}" pid="6" name="价格">
    <vt:lpwstr>20</vt:lpwstr>
  </property>
  <property fmtid="{D5CDD505-2E9C-101B-9397-08002B2CF9AE}" pid="7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8" name="使用软件">
    <vt:lpwstr>ppt</vt:lpwstr>
  </property>
  <property fmtid="{D5CDD505-2E9C-101B-9397-08002B2CF9AE}" pid="9" name="关键字">
    <vt:lpwstr>PPT背景模板 EN PPT 格式 时尚 蓝 蓝色 潮流 炫光 华丽 梦幻 线 线条 抽象 动态 动感 清新 年轻 活力 青春 渐变 背景 V2</vt:lpwstr>
  </property>
  <property fmtid="{D5CDD505-2E9C-101B-9397-08002B2CF9AE}" pid="10" name="操作代码">
    <vt:lpwstr>2</vt:lpwstr>
  </property>
  <property fmtid="{D5CDD505-2E9C-101B-9397-08002B2CF9AE}" pid="11" name="是否可购买">
    <vt:lpwstr>1</vt:lpwstr>
  </property>
  <property fmtid="{D5CDD505-2E9C-101B-9397-08002B2CF9AE}" pid="12" name="显示VIP等级">
    <vt:lpwstr>2</vt:lpwstr>
  </property>
  <property fmtid="{D5CDD505-2E9C-101B-9397-08002B2CF9AE}" pid="13" name="标题">
    <vt:lpwstr>蓝色梦幻圆点</vt:lpwstr>
  </property>
  <property fmtid="{D5CDD505-2E9C-101B-9397-08002B2CF9AE}" pid="14" name="模板ID">
    <vt:lpwstr>A30220130608A12</vt:lpwstr>
  </property>
  <property fmtid="{D5CDD505-2E9C-101B-9397-08002B2CF9AE}" pid="15" name="模板缩略图">
    <vt:lpwstr>A30220130608A12.png</vt:lpwstr>
  </property>
  <property fmtid="{D5CDD505-2E9C-101B-9397-08002B2CF9AE}" pid="16" name="相关案例">
    <vt:lpwstr>854</vt:lpwstr>
  </property>
  <property fmtid="{D5CDD505-2E9C-101B-9397-08002B2CF9AE}" pid="17" name="缩略图标题">
    <vt:lpwstr>蓝色梦幻圆点</vt:lpwstr>
  </property>
  <property fmtid="{D5CDD505-2E9C-101B-9397-08002B2CF9AE}" pid="18" name="适用软件">
    <vt:lpwstr>PowerPoint 2007及以上版本</vt:lpwstr>
  </property>
  <property fmtid="{D5CDD505-2E9C-101B-9397-08002B2CF9AE}" pid="19" name="附件ID">
    <vt:lpwstr>A30220130608A1201</vt:lpwstr>
  </property>
  <property fmtid="{D5CDD505-2E9C-101B-9397-08002B2CF9AE}" pid="20" name="附件缩略图">
    <vt:lpwstr>A30220130608A1201.png</vt:lpwstr>
  </property>
  <property fmtid="{D5CDD505-2E9C-101B-9397-08002B2CF9AE}" pid="21" name="附件路径">
    <vt:lpwstr>A30220130608A1201.pptx</vt:lpwstr>
  </property>
</Properties>
</file>