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8A6-B0DB-44C4-95AC-CCC32B6F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8CF-DCE8-4644-882D-46483A98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64B-5256-4366-909F-E6227F7C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EF2-8380-4FB4-B785-B7302702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D44-C2E8-4A1D-BC24-4CE7F45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D3C-2608-4766-A8F7-42309D5E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F17-552B-49A4-8ED6-B0319A1B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526-7D24-4A9A-BA46-99CE8DAB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919-FFB7-47A6-9E72-84436C7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B3C-78BB-4D9A-BC91-F2B3745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91F-DC08-47A8-AEB0-8BE9205F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C21-DCDB-4FE6-9433-97670A4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5301-FDFB-41C4-B8E8-25A11E2CB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封面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649240" y="1989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的人生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内页文字"/>
          <p:cNvPicPr/>
          <p:nvPr/>
        </p:nvPicPr>
        <p:blipFill>
          <a:blip r:embed="rId2"/>
          <a:stretch/>
        </p:blipFill>
        <p:spPr>
          <a:xfrm>
            <a:off x="838080" y="2124000"/>
            <a:ext cx="7466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6:43:16Z</dcterms:created>
  <dc:creator>YE</dc:creator>
  <dc:description/>
  <dc:language>en-US</dc:language>
  <cp:lastModifiedBy>王玉清</cp:lastModifiedBy>
  <dcterms:modified xsi:type="dcterms:W3CDTF">2016-02-24T04:10:08Z</dcterms:modified>
  <cp:revision>2</cp:revision>
  <dc:subject/>
  <dc:title>幻灯片 1</dc:title>
</cp:coreProperties>
</file>