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1B0-D311-497B-94DC-162B2747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FE8-44AB-4245-A663-C7D958D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D26-5461-482C-ABB8-3636D7AA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8AF-0661-46FD-91F0-FA2BB022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475-C59F-44BE-BB43-2FFFC0D7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1A0-89EA-4C05-91CC-1F81B960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FF3-4331-47CC-88C2-582B32FB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1D8-359B-4356-B8E8-FB46EB4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AF9-0A0D-4594-96CF-5F75740C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29B-5A6B-4BDC-AD9F-66F2723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B1A-AE33-4343-B18A-698BDD0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F2E-D1C8-411B-9E8A-4015244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2" descr="D:\Documents and Settings\Administrator\桌面\24\商务\17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6A59-F603-422C-89E1-B044A4AAE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担负压力的人们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2:39:33Z</dcterms:created>
  <dc:creator>ppt宝藏</dc:creator>
  <dc:description/>
  <dc:language>en-US</dc:language>
  <cp:lastModifiedBy>a</cp:lastModifiedBy>
  <dcterms:modified xsi:type="dcterms:W3CDTF">2015-07-25T07:05:21Z</dcterms:modified>
  <cp:revision>17</cp:revision>
  <dc:subject/>
  <dc:title>www.pptbz.com</dc:title>
</cp:coreProperties>
</file>