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615-BE67-444B-8BF9-A769248B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39A-3B6E-46CD-8751-CE00444D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2FA-387D-457F-ADE4-7F50A56A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F06-C726-4B13-9D94-21A9782D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273-60A6-4F1D-B1CD-4204FE15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5270-BD0B-41D5-849F-F887059D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913-BE3A-4BDC-BF92-DFBD1684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D26A-004E-49DC-861B-5FF3E2CD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084-8DC9-4979-870C-AA6863DB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8B2-6C46-49C3-B56D-A766F04F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371-F484-4262-98B9-9312FCCC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1AF-1D0B-482A-9F3A-31881F62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2F50-982C-4C1A-BC92-C317407843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57160" y="4214880"/>
            <a:ext cx="485784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657072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907920" y="465300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2063520" y="1484280"/>
            <a:ext cx="51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电话话筒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6"/>
          <p:cNvSpPr/>
          <p:nvPr/>
        </p:nvSpPr>
        <p:spPr>
          <a:xfrm>
            <a:off x="1406520" y="1643040"/>
            <a:ext cx="1593720" cy="1592280"/>
          </a:xfrm>
          <a:prstGeom prst="ellips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10"/>
          <p:cNvSpPr/>
          <p:nvPr/>
        </p:nvSpPr>
        <p:spPr>
          <a:xfrm>
            <a:off x="0" y="2500200"/>
            <a:ext cx="6993000" cy="908280"/>
          </a:xfrm>
          <a:custGeom>
            <a:avLst/>
            <a:gdLst/>
            <a:ahLst/>
            <a:rect l="l" t="t" r="r" b="b"/>
            <a:pathLst>
              <a:path w="9163763" h="1189891">
                <a:moveTo>
                  <a:pt x="9163763" y="14515"/>
                </a:moveTo>
                <a:lnTo>
                  <a:pt x="4128446" y="0"/>
                </a:lnTo>
                <a:cubicBezTo>
                  <a:pt x="4092690" y="663472"/>
                  <a:pt x="3542913" y="1189891"/>
                  <a:pt x="2870184" y="1189891"/>
                </a:cubicBezTo>
                <a:cubicBezTo>
                  <a:pt x="2197455" y="1189891"/>
                  <a:pt x="1647677" y="663471"/>
                  <a:pt x="1611922" y="0"/>
                </a:cubicBezTo>
                <a:lnTo>
                  <a:pt x="0" y="4918"/>
                </a:lnTo>
              </a:path>
            </a:pathLst>
          </a:custGeom>
          <a:noFill/>
          <a:ln w="76320">
            <a:solidFill>
              <a:srgbClr val="7c54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圆角矩形 8"/>
          <p:cNvSpPr/>
          <p:nvPr/>
        </p:nvSpPr>
        <p:spPr>
          <a:xfrm>
            <a:off x="6643800" y="2214720"/>
            <a:ext cx="2214360" cy="3500280"/>
          </a:xfrm>
          <a:custGeom>
            <a:avLst/>
            <a:gdLst>
              <a:gd name="textAreaLeft" fmla="*/ 36720 w 2214360"/>
              <a:gd name="textAreaRight" fmla="*/ 2177640 w 2214360"/>
              <a:gd name="textAreaTop" fmla="*/ 36720 h 3500280"/>
              <a:gd name="textAreaBottom" fmla="*/ 3463560 h 3500280"/>
            </a:gdLst>
            <a:ahLst/>
            <a:rect l="textAreaLeft" t="textAreaTop" r="textAreaRight" b="textAreaBottom"/>
            <a:pathLst>
              <a:path w="21600" h="34141">
                <a:moveTo>
                  <a:pt x="1228" y="0"/>
                </a:moveTo>
                <a:arcTo wR="1228" hR="1228" stAng="16200000" swAng="-5400000"/>
                <a:lnTo>
                  <a:pt x="0" y="32913"/>
                </a:lnTo>
                <a:arcTo wR="1228" hR="1228" stAng="10800000" swAng="-5400000"/>
                <a:lnTo>
                  <a:pt x="20372" y="34141"/>
                </a:lnTo>
                <a:arcTo wR="1228" hR="1228" stAng="5400000" swAng="-5400000"/>
                <a:lnTo>
                  <a:pt x="21600" y="1228"/>
                </a:lnTo>
                <a:arcTo wR="1228" hR="1228" stAng="0" swAng="-5400000"/>
                <a:close/>
              </a:path>
            </a:pathLst>
          </a:cu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圆角矩形 9"/>
          <p:cNvSpPr/>
          <p:nvPr/>
        </p:nvSpPr>
        <p:spPr>
          <a:xfrm>
            <a:off x="3714840" y="2214720"/>
            <a:ext cx="2214360" cy="3500280"/>
          </a:xfrm>
          <a:custGeom>
            <a:avLst/>
            <a:gdLst>
              <a:gd name="textAreaLeft" fmla="*/ 36720 w 2214360"/>
              <a:gd name="textAreaRight" fmla="*/ 2177640 w 2214360"/>
              <a:gd name="textAreaTop" fmla="*/ 36720 h 3500280"/>
              <a:gd name="textAreaBottom" fmla="*/ 3463560 h 3500280"/>
            </a:gdLst>
            <a:ahLst/>
            <a:rect l="textAreaLeft" t="textAreaTop" r="textAreaRight" b="textAreaBottom"/>
            <a:pathLst>
              <a:path w="21600" h="34141">
                <a:moveTo>
                  <a:pt x="1228" y="0"/>
                </a:moveTo>
                <a:arcTo wR="1228" hR="1228" stAng="16200000" swAng="-5400000"/>
                <a:lnTo>
                  <a:pt x="0" y="32913"/>
                </a:lnTo>
                <a:arcTo wR="1228" hR="1228" stAng="10800000" swAng="-5400000"/>
                <a:lnTo>
                  <a:pt x="20372" y="34141"/>
                </a:lnTo>
                <a:arcTo wR="1228" hR="1228" stAng="5400000" swAng="-5400000"/>
                <a:lnTo>
                  <a:pt x="21600" y="1228"/>
                </a:lnTo>
                <a:arcTo wR="1228" hR="1228" stAng="0" swAng="-5400000"/>
                <a:close/>
              </a:path>
            </a:pathLst>
          </a:custGeom>
          <a:solidFill>
            <a:srgbClr val="ece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3"/>
          <p:cNvSpPr/>
          <p:nvPr/>
        </p:nvSpPr>
        <p:spPr>
          <a:xfrm>
            <a:off x="7356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4"/>
          <p:cNvSpPr/>
          <p:nvPr/>
        </p:nvSpPr>
        <p:spPr>
          <a:xfrm>
            <a:off x="44265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5"/>
          <p:cNvSpPr/>
          <p:nvPr/>
        </p:nvSpPr>
        <p:spPr>
          <a:xfrm>
            <a:off x="1711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163440" y="6308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9"/>
          <p:cNvSpPr/>
          <p:nvPr/>
        </p:nvSpPr>
        <p:spPr>
          <a:xfrm>
            <a:off x="3143160" y="1722600"/>
            <a:ext cx="3571920" cy="537840"/>
          </a:xfrm>
          <a:prstGeom prst="roundRect">
            <a:avLst>
              <a:gd name="adj" fmla="val 50000"/>
            </a:avLst>
          </a:prstGeom>
          <a:solidFill>
            <a:srgbClr val="ece455"/>
          </a:solidFill>
          <a:ln w="0">
            <a:noFill/>
          </a:ln>
          <a:effectLst>
            <a:outerShdw dist="153753" dir="2700000" blurRad="0" rotWithShape="0">
              <a:srgbClr val="133153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组合 10" descr=""/>
          <p:cNvPicPr/>
          <p:nvPr/>
        </p:nvPicPr>
        <p:blipFill>
          <a:blip r:embed="rId2"/>
          <a:stretch/>
        </p:blipFill>
        <p:spPr>
          <a:xfrm>
            <a:off x="2822400" y="1731960"/>
            <a:ext cx="798840" cy="693720"/>
          </a:xfrm>
          <a:prstGeom prst="rect">
            <a:avLst/>
          </a:prstGeom>
          <a:ln w="0">
            <a:noFill/>
          </a:ln>
        </p:spPr>
      </p:pic>
      <p:sp>
        <p:nvSpPr>
          <p:cNvPr id="53" name="圆角矩形 13"/>
          <p:cNvSpPr/>
          <p:nvPr/>
        </p:nvSpPr>
        <p:spPr>
          <a:xfrm>
            <a:off x="3143160" y="2436840"/>
            <a:ext cx="3571920" cy="538200"/>
          </a:xfrm>
          <a:prstGeom prst="roundRect">
            <a:avLst>
              <a:gd name="adj" fmla="val 50000"/>
            </a:avLst>
          </a:prstGeom>
          <a:solidFill>
            <a:srgbClr val="ece455"/>
          </a:solidFill>
          <a:ln w="0">
            <a:noFill/>
          </a:ln>
          <a:effectLst>
            <a:outerShdw dist="153753" dir="2700000" blurRad="0" rotWithShape="0">
              <a:srgbClr val="133153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组合 10" descr=""/>
          <p:cNvPicPr/>
          <p:nvPr/>
        </p:nvPicPr>
        <p:blipFill>
          <a:blip r:embed="rId3"/>
          <a:stretch/>
        </p:blipFill>
        <p:spPr>
          <a:xfrm>
            <a:off x="2822400" y="2444760"/>
            <a:ext cx="798840" cy="695160"/>
          </a:xfrm>
          <a:prstGeom prst="rect">
            <a:avLst/>
          </a:prstGeom>
          <a:ln w="0">
            <a:noFill/>
          </a:ln>
        </p:spPr>
      </p:pic>
      <p:sp>
        <p:nvSpPr>
          <p:cNvPr id="55" name="圆角矩形 17"/>
          <p:cNvSpPr/>
          <p:nvPr/>
        </p:nvSpPr>
        <p:spPr>
          <a:xfrm>
            <a:off x="3143160" y="3222720"/>
            <a:ext cx="3571920" cy="538200"/>
          </a:xfrm>
          <a:prstGeom prst="roundRect">
            <a:avLst>
              <a:gd name="adj" fmla="val 50000"/>
            </a:avLst>
          </a:prstGeom>
          <a:solidFill>
            <a:srgbClr val="ece455"/>
          </a:solidFill>
          <a:ln w="0">
            <a:noFill/>
          </a:ln>
          <a:effectLst>
            <a:outerShdw dist="153753" dir="2700000" blurRad="0" rotWithShape="0">
              <a:srgbClr val="133153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组合 10" descr=""/>
          <p:cNvPicPr/>
          <p:nvPr/>
        </p:nvPicPr>
        <p:blipFill>
          <a:blip r:embed="rId4"/>
          <a:stretch/>
        </p:blipFill>
        <p:spPr>
          <a:xfrm>
            <a:off x="2822400" y="3230640"/>
            <a:ext cx="798840" cy="695160"/>
          </a:xfrm>
          <a:prstGeom prst="rect">
            <a:avLst/>
          </a:prstGeom>
          <a:ln w="0">
            <a:noFill/>
          </a:ln>
        </p:spPr>
      </p:pic>
      <p:sp>
        <p:nvSpPr>
          <p:cNvPr id="57" name="圆角矩形 21"/>
          <p:cNvSpPr/>
          <p:nvPr/>
        </p:nvSpPr>
        <p:spPr>
          <a:xfrm>
            <a:off x="3143160" y="3936960"/>
            <a:ext cx="3571920" cy="538200"/>
          </a:xfrm>
          <a:prstGeom prst="roundRect">
            <a:avLst>
              <a:gd name="adj" fmla="val 50000"/>
            </a:avLst>
          </a:prstGeom>
          <a:solidFill>
            <a:srgbClr val="ece455"/>
          </a:solidFill>
          <a:ln w="0">
            <a:noFill/>
          </a:ln>
          <a:effectLst>
            <a:outerShdw dist="153753" dir="2700000" blurRad="0" rotWithShape="0">
              <a:srgbClr val="133153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组合 10" descr=""/>
          <p:cNvPicPr/>
          <p:nvPr/>
        </p:nvPicPr>
        <p:blipFill>
          <a:blip r:embed="rId5"/>
          <a:stretch/>
        </p:blipFill>
        <p:spPr>
          <a:xfrm>
            <a:off x="2822400" y="3943440"/>
            <a:ext cx="798840" cy="695160"/>
          </a:xfrm>
          <a:prstGeom prst="rect">
            <a:avLst/>
          </a:prstGeom>
          <a:ln w="0">
            <a:noFill/>
          </a:ln>
        </p:spPr>
      </p:pic>
      <p:sp>
        <p:nvSpPr>
          <p:cNvPr id="59" name="矩形 20"/>
          <p:cNvSpPr/>
          <p:nvPr/>
        </p:nvSpPr>
        <p:spPr>
          <a:xfrm>
            <a:off x="4426560" y="335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426560" y="2508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4428000" y="406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4426560" y="1852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等腰三角形 47"/>
          <p:cNvGrpSpPr/>
          <p:nvPr/>
        </p:nvGrpSpPr>
        <p:grpSpPr>
          <a:xfrm>
            <a:off x="55440" y="1865160"/>
            <a:ext cx="2840040" cy="2792520"/>
            <a:chOff x="55440" y="1865160"/>
            <a:chExt cx="2840040" cy="2792520"/>
          </a:xfrm>
        </p:grpSpPr>
        <p:pic>
          <p:nvPicPr>
            <p:cNvPr id="69" name="等腰三角形 47" descr=""/>
            <p:cNvPicPr/>
            <p:nvPr/>
          </p:nvPicPr>
          <p:blipFill>
            <a:blip r:embed="rId1"/>
            <a:stretch/>
          </p:blipFill>
          <p:spPr>
            <a:xfrm>
              <a:off x="55440" y="1865160"/>
              <a:ext cx="284004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 rot="7771800">
              <a:off x="567720" y="2190240"/>
              <a:ext cx="181440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椭圆 48"/>
          <p:cNvSpPr/>
          <p:nvPr/>
        </p:nvSpPr>
        <p:spPr>
          <a:xfrm>
            <a:off x="579600" y="2376360"/>
            <a:ext cx="1565280" cy="1554120"/>
          </a:xfrm>
          <a:custGeom>
            <a:avLst/>
            <a:gdLst/>
            <a:ahLst/>
            <a:rect l="l" t="t" r="r" b="b"/>
            <a:pathLst>
              <a:path w="1440160" h="1429374">
                <a:moveTo>
                  <a:pt x="600143" y="0"/>
                </a:moveTo>
                <a:lnTo>
                  <a:pt x="1418911" y="542848"/>
                </a:lnTo>
                <a:cubicBezTo>
                  <a:pt x="1433434" y="595976"/>
                  <a:pt x="1440160" y="651849"/>
                  <a:pt x="1440160" y="709294"/>
                </a:cubicBezTo>
                <a:cubicBezTo>
                  <a:pt x="1440160" y="1106983"/>
                  <a:pt x="1117769" y="1429374"/>
                  <a:pt x="720080" y="1429374"/>
                </a:cubicBezTo>
                <a:cubicBezTo>
                  <a:pt x="322391" y="1429374"/>
                  <a:pt x="0" y="1106983"/>
                  <a:pt x="0" y="709294"/>
                </a:cubicBezTo>
                <a:cubicBezTo>
                  <a:pt x="0" y="352516"/>
                  <a:pt x="259472" y="56341"/>
                  <a:pt x="6001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48"/>
          <p:cNvSpPr/>
          <p:nvPr/>
        </p:nvSpPr>
        <p:spPr>
          <a:xfrm rot="20473800">
            <a:off x="1287360" y="2244600"/>
            <a:ext cx="701640" cy="830520"/>
          </a:xfrm>
          <a:custGeom>
            <a:avLst/>
            <a:gdLst/>
            <a:ahLst/>
            <a:rect l="l" t="t" r="r" b="b"/>
            <a:pathLst>
              <a:path w="865829" h="1022492">
                <a:moveTo>
                  <a:pt x="69377" y="0"/>
                </a:moveTo>
                <a:cubicBezTo>
                  <a:pt x="46542" y="68499"/>
                  <a:pt x="35912" y="141754"/>
                  <a:pt x="35912" y="217490"/>
                </a:cubicBezTo>
                <a:cubicBezTo>
                  <a:pt x="35912" y="654948"/>
                  <a:pt x="390542" y="1009578"/>
                  <a:pt x="828000" y="1009578"/>
                </a:cubicBezTo>
                <a:cubicBezTo>
                  <a:pt x="840698" y="1009578"/>
                  <a:pt x="853325" y="1009279"/>
                  <a:pt x="865829" y="1007668"/>
                </a:cubicBezTo>
                <a:cubicBezTo>
                  <a:pt x="818768" y="1017409"/>
                  <a:pt x="770018" y="1022492"/>
                  <a:pt x="720080" y="1022492"/>
                </a:cubicBezTo>
                <a:cubicBezTo>
                  <a:pt x="322391" y="1022492"/>
                  <a:pt x="0" y="700101"/>
                  <a:pt x="0" y="302412"/>
                </a:cubicBezTo>
                <a:cubicBezTo>
                  <a:pt x="0" y="193949"/>
                  <a:pt x="23981" y="91087"/>
                  <a:pt x="69377" y="0"/>
                </a:cubicBezTo>
                <a:close/>
              </a:path>
            </a:pathLst>
          </a:custGeom>
          <a:solidFill>
            <a:srgbClr val="929e9f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等腰三角形 47"/>
          <p:cNvGrpSpPr/>
          <p:nvPr/>
        </p:nvGrpSpPr>
        <p:grpSpPr>
          <a:xfrm>
            <a:off x="2189160" y="1816200"/>
            <a:ext cx="2833560" cy="2792160"/>
            <a:chOff x="2189160" y="1816200"/>
            <a:chExt cx="2833560" cy="2792160"/>
          </a:xfrm>
        </p:grpSpPr>
        <p:pic>
          <p:nvPicPr>
            <p:cNvPr id="74" name="等腰三角形 47" descr=""/>
            <p:cNvPicPr/>
            <p:nvPr/>
          </p:nvPicPr>
          <p:blipFill>
            <a:blip r:embed="rId2"/>
            <a:stretch/>
          </p:blipFill>
          <p:spPr>
            <a:xfrm>
              <a:off x="2189160" y="1816200"/>
              <a:ext cx="283356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 rot="7771800">
              <a:off x="2698920" y="2140560"/>
              <a:ext cx="18144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48"/>
          <p:cNvSpPr/>
          <p:nvPr/>
        </p:nvSpPr>
        <p:spPr>
          <a:xfrm>
            <a:off x="2711520" y="2328840"/>
            <a:ext cx="1563480" cy="1552680"/>
          </a:xfrm>
          <a:custGeom>
            <a:avLst/>
            <a:gdLst/>
            <a:ahLst/>
            <a:rect l="l" t="t" r="r" b="b"/>
            <a:pathLst>
              <a:path w="1440160" h="1429374">
                <a:moveTo>
                  <a:pt x="600143" y="0"/>
                </a:moveTo>
                <a:lnTo>
                  <a:pt x="1418911" y="542848"/>
                </a:lnTo>
                <a:cubicBezTo>
                  <a:pt x="1433434" y="595976"/>
                  <a:pt x="1440160" y="651849"/>
                  <a:pt x="1440160" y="709294"/>
                </a:cubicBezTo>
                <a:cubicBezTo>
                  <a:pt x="1440160" y="1106983"/>
                  <a:pt x="1117769" y="1429374"/>
                  <a:pt x="720080" y="1429374"/>
                </a:cubicBezTo>
                <a:cubicBezTo>
                  <a:pt x="322391" y="1429374"/>
                  <a:pt x="0" y="1106983"/>
                  <a:pt x="0" y="709294"/>
                </a:cubicBezTo>
                <a:cubicBezTo>
                  <a:pt x="0" y="352516"/>
                  <a:pt x="259472" y="56341"/>
                  <a:pt x="6001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48"/>
          <p:cNvSpPr/>
          <p:nvPr/>
        </p:nvSpPr>
        <p:spPr>
          <a:xfrm rot="20473800">
            <a:off x="3417840" y="2197080"/>
            <a:ext cx="703440" cy="828720"/>
          </a:xfrm>
          <a:custGeom>
            <a:avLst/>
            <a:gdLst/>
            <a:ahLst/>
            <a:rect l="l" t="t" r="r" b="b"/>
            <a:pathLst>
              <a:path w="865829" h="1022492">
                <a:moveTo>
                  <a:pt x="69377" y="0"/>
                </a:moveTo>
                <a:cubicBezTo>
                  <a:pt x="46542" y="68499"/>
                  <a:pt x="35912" y="141754"/>
                  <a:pt x="35912" y="217490"/>
                </a:cubicBezTo>
                <a:cubicBezTo>
                  <a:pt x="35912" y="654948"/>
                  <a:pt x="390542" y="1009578"/>
                  <a:pt x="828000" y="1009578"/>
                </a:cubicBezTo>
                <a:cubicBezTo>
                  <a:pt x="840698" y="1009578"/>
                  <a:pt x="853325" y="1009279"/>
                  <a:pt x="865829" y="1007668"/>
                </a:cubicBezTo>
                <a:cubicBezTo>
                  <a:pt x="818768" y="1017409"/>
                  <a:pt x="770018" y="1022492"/>
                  <a:pt x="720080" y="1022492"/>
                </a:cubicBezTo>
                <a:cubicBezTo>
                  <a:pt x="322391" y="1022492"/>
                  <a:pt x="0" y="700101"/>
                  <a:pt x="0" y="302412"/>
                </a:cubicBezTo>
                <a:cubicBezTo>
                  <a:pt x="0" y="193949"/>
                  <a:pt x="23981" y="91087"/>
                  <a:pt x="69377" y="0"/>
                </a:cubicBezTo>
                <a:close/>
              </a:path>
            </a:pathLst>
          </a:custGeom>
          <a:solidFill>
            <a:srgbClr val="ece455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等腰三角形 47"/>
          <p:cNvGrpSpPr/>
          <p:nvPr/>
        </p:nvGrpSpPr>
        <p:grpSpPr>
          <a:xfrm>
            <a:off x="4340160" y="1792440"/>
            <a:ext cx="2841840" cy="2792160"/>
            <a:chOff x="4340160" y="1792440"/>
            <a:chExt cx="2841840" cy="2792160"/>
          </a:xfrm>
        </p:grpSpPr>
        <p:pic>
          <p:nvPicPr>
            <p:cNvPr id="79" name="等腰三角形 47" descr=""/>
            <p:cNvPicPr/>
            <p:nvPr/>
          </p:nvPicPr>
          <p:blipFill>
            <a:blip r:embed="rId3"/>
            <a:stretch/>
          </p:blipFill>
          <p:spPr>
            <a:xfrm>
              <a:off x="4340160" y="1792440"/>
              <a:ext cx="284184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 rot="7771800">
              <a:off x="4854240" y="2116080"/>
              <a:ext cx="1814760" cy="21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椭圆 48"/>
          <p:cNvSpPr/>
          <p:nvPr/>
        </p:nvSpPr>
        <p:spPr>
          <a:xfrm>
            <a:off x="4865760" y="2301840"/>
            <a:ext cx="1565280" cy="1554120"/>
          </a:xfrm>
          <a:custGeom>
            <a:avLst/>
            <a:gdLst/>
            <a:ahLst/>
            <a:rect l="l" t="t" r="r" b="b"/>
            <a:pathLst>
              <a:path w="1440160" h="1429374">
                <a:moveTo>
                  <a:pt x="600143" y="0"/>
                </a:moveTo>
                <a:lnTo>
                  <a:pt x="1418911" y="542848"/>
                </a:lnTo>
                <a:cubicBezTo>
                  <a:pt x="1433434" y="595976"/>
                  <a:pt x="1440160" y="651849"/>
                  <a:pt x="1440160" y="709294"/>
                </a:cubicBezTo>
                <a:cubicBezTo>
                  <a:pt x="1440160" y="1106983"/>
                  <a:pt x="1117769" y="1429374"/>
                  <a:pt x="720080" y="1429374"/>
                </a:cubicBezTo>
                <a:cubicBezTo>
                  <a:pt x="322391" y="1429374"/>
                  <a:pt x="0" y="1106983"/>
                  <a:pt x="0" y="709294"/>
                </a:cubicBezTo>
                <a:cubicBezTo>
                  <a:pt x="0" y="352516"/>
                  <a:pt x="259472" y="56341"/>
                  <a:pt x="6001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48"/>
          <p:cNvSpPr/>
          <p:nvPr/>
        </p:nvSpPr>
        <p:spPr>
          <a:xfrm rot="20473800">
            <a:off x="5573880" y="2170080"/>
            <a:ext cx="701640" cy="830160"/>
          </a:xfrm>
          <a:custGeom>
            <a:avLst/>
            <a:gdLst/>
            <a:ahLst/>
            <a:rect l="l" t="t" r="r" b="b"/>
            <a:pathLst>
              <a:path w="865829" h="1022492">
                <a:moveTo>
                  <a:pt x="69377" y="0"/>
                </a:moveTo>
                <a:cubicBezTo>
                  <a:pt x="46542" y="68499"/>
                  <a:pt x="35912" y="141754"/>
                  <a:pt x="35912" y="217490"/>
                </a:cubicBezTo>
                <a:cubicBezTo>
                  <a:pt x="35912" y="654948"/>
                  <a:pt x="390542" y="1009578"/>
                  <a:pt x="828000" y="1009578"/>
                </a:cubicBezTo>
                <a:cubicBezTo>
                  <a:pt x="840698" y="1009578"/>
                  <a:pt x="853325" y="1009279"/>
                  <a:pt x="865829" y="1007668"/>
                </a:cubicBezTo>
                <a:cubicBezTo>
                  <a:pt x="818768" y="1017409"/>
                  <a:pt x="770018" y="1022492"/>
                  <a:pt x="720080" y="1022492"/>
                </a:cubicBezTo>
                <a:cubicBezTo>
                  <a:pt x="322391" y="1022492"/>
                  <a:pt x="0" y="700101"/>
                  <a:pt x="0" y="302412"/>
                </a:cubicBezTo>
                <a:cubicBezTo>
                  <a:pt x="0" y="193949"/>
                  <a:pt x="23981" y="91087"/>
                  <a:pt x="69377" y="0"/>
                </a:cubicBezTo>
                <a:close/>
              </a:path>
            </a:pathLst>
          </a:custGeom>
          <a:solidFill>
            <a:srgbClr val="929e9f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等腰三角形 47"/>
          <p:cNvGrpSpPr/>
          <p:nvPr/>
        </p:nvGrpSpPr>
        <p:grpSpPr>
          <a:xfrm>
            <a:off x="6473880" y="1743120"/>
            <a:ext cx="2835360" cy="2792520"/>
            <a:chOff x="6473880" y="1743120"/>
            <a:chExt cx="2835360" cy="2792520"/>
          </a:xfrm>
        </p:grpSpPr>
        <p:pic>
          <p:nvPicPr>
            <p:cNvPr id="84" name="等腰三角形 47" descr=""/>
            <p:cNvPicPr/>
            <p:nvPr/>
          </p:nvPicPr>
          <p:blipFill>
            <a:blip r:embed="rId4"/>
            <a:stretch/>
          </p:blipFill>
          <p:spPr>
            <a:xfrm>
              <a:off x="6473880" y="1743120"/>
              <a:ext cx="283536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rot="7771800">
              <a:off x="6985440" y="2066040"/>
              <a:ext cx="18144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椭圆 48"/>
          <p:cNvSpPr/>
          <p:nvPr/>
        </p:nvSpPr>
        <p:spPr>
          <a:xfrm>
            <a:off x="6997680" y="2254320"/>
            <a:ext cx="1563840" cy="1552680"/>
          </a:xfrm>
          <a:custGeom>
            <a:avLst/>
            <a:gdLst/>
            <a:ahLst/>
            <a:rect l="l" t="t" r="r" b="b"/>
            <a:pathLst>
              <a:path w="1440160" h="1429374">
                <a:moveTo>
                  <a:pt x="600143" y="0"/>
                </a:moveTo>
                <a:lnTo>
                  <a:pt x="1418911" y="542848"/>
                </a:lnTo>
                <a:cubicBezTo>
                  <a:pt x="1433434" y="595976"/>
                  <a:pt x="1440160" y="651849"/>
                  <a:pt x="1440160" y="709294"/>
                </a:cubicBezTo>
                <a:cubicBezTo>
                  <a:pt x="1440160" y="1106983"/>
                  <a:pt x="1117769" y="1429374"/>
                  <a:pt x="720080" y="1429374"/>
                </a:cubicBezTo>
                <a:cubicBezTo>
                  <a:pt x="322391" y="1429374"/>
                  <a:pt x="0" y="1106983"/>
                  <a:pt x="0" y="709294"/>
                </a:cubicBezTo>
                <a:cubicBezTo>
                  <a:pt x="0" y="352516"/>
                  <a:pt x="259472" y="56341"/>
                  <a:pt x="60014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48"/>
          <p:cNvSpPr/>
          <p:nvPr/>
        </p:nvSpPr>
        <p:spPr>
          <a:xfrm rot="20473800">
            <a:off x="7704000" y="2122560"/>
            <a:ext cx="703440" cy="828720"/>
          </a:xfrm>
          <a:custGeom>
            <a:avLst/>
            <a:gdLst/>
            <a:ahLst/>
            <a:rect l="l" t="t" r="r" b="b"/>
            <a:pathLst>
              <a:path w="865829" h="1022492">
                <a:moveTo>
                  <a:pt x="69377" y="0"/>
                </a:moveTo>
                <a:cubicBezTo>
                  <a:pt x="46542" y="68499"/>
                  <a:pt x="35912" y="141754"/>
                  <a:pt x="35912" y="217490"/>
                </a:cubicBezTo>
                <a:cubicBezTo>
                  <a:pt x="35912" y="654948"/>
                  <a:pt x="390542" y="1009578"/>
                  <a:pt x="828000" y="1009578"/>
                </a:cubicBezTo>
                <a:cubicBezTo>
                  <a:pt x="840698" y="1009578"/>
                  <a:pt x="853325" y="1009279"/>
                  <a:pt x="865829" y="1007668"/>
                </a:cubicBezTo>
                <a:cubicBezTo>
                  <a:pt x="818768" y="1017409"/>
                  <a:pt x="770018" y="1022492"/>
                  <a:pt x="720080" y="1022492"/>
                </a:cubicBezTo>
                <a:cubicBezTo>
                  <a:pt x="322391" y="1022492"/>
                  <a:pt x="0" y="700101"/>
                  <a:pt x="0" y="302412"/>
                </a:cubicBezTo>
                <a:cubicBezTo>
                  <a:pt x="0" y="193949"/>
                  <a:pt x="23981" y="91087"/>
                  <a:pt x="69377" y="0"/>
                </a:cubicBezTo>
                <a:close/>
              </a:path>
            </a:pathLst>
          </a:custGeom>
          <a:solidFill>
            <a:srgbClr val="ece455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85464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299772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51408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7283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6"/>
          <p:cNvSpPr/>
          <p:nvPr/>
        </p:nvSpPr>
        <p:spPr>
          <a:xfrm>
            <a:off x="3376440" y="2219400"/>
            <a:ext cx="2365560" cy="2363760"/>
          </a:xfrm>
          <a:prstGeom prst="ellips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3259080" y="2898720"/>
            <a:ext cx="2643120" cy="1005120"/>
          </a:xfrm>
          <a:prstGeom prst="rect">
            <a:avLst/>
          </a:prstGeom>
          <a:solidFill>
            <a:srgbClr val="ece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3154320" y="3297240"/>
            <a:ext cx="209520" cy="20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9"/>
          <p:cNvSpPr/>
          <p:nvPr/>
        </p:nvSpPr>
        <p:spPr>
          <a:xfrm>
            <a:off x="5797440" y="3297240"/>
            <a:ext cx="209520" cy="20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4070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18561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39992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>
            <a:off x="62852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 rot="16200000">
            <a:off x="3182760" y="2923920"/>
            <a:ext cx="2643120" cy="1004760"/>
          </a:xfrm>
          <a:prstGeom prst="rect">
            <a:avLst/>
          </a:prstGeom>
          <a:solidFill>
            <a:srgbClr val="ece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 rot="16200000">
            <a:off x="4399560" y="4644000"/>
            <a:ext cx="209880" cy="20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 rot="16200000">
            <a:off x="4399560" y="2000880"/>
            <a:ext cx="209520" cy="20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六边形 6" descr=""/>
          <p:cNvPicPr/>
          <p:nvPr/>
        </p:nvPicPr>
        <p:blipFill>
          <a:blip r:embed="rId1"/>
          <a:stretch/>
        </p:blipFill>
        <p:spPr>
          <a:xfrm>
            <a:off x="4157640" y="4730760"/>
            <a:ext cx="1481040" cy="1298520"/>
          </a:xfrm>
          <a:prstGeom prst="rect">
            <a:avLst/>
          </a:prstGeom>
          <a:ln w="0">
            <a:noFill/>
          </a:ln>
        </p:spPr>
      </p:pic>
      <p:pic>
        <p:nvPicPr>
          <p:cNvPr id="114" name="六边形 7" descr=""/>
          <p:cNvPicPr/>
          <p:nvPr/>
        </p:nvPicPr>
        <p:blipFill>
          <a:blip r:embed="rId2"/>
          <a:stretch/>
        </p:blipFill>
        <p:spPr>
          <a:xfrm>
            <a:off x="3090960" y="4164120"/>
            <a:ext cx="1481040" cy="1298520"/>
          </a:xfrm>
          <a:prstGeom prst="rect">
            <a:avLst/>
          </a:prstGeom>
          <a:ln w="0">
            <a:noFill/>
          </a:ln>
        </p:spPr>
      </p:pic>
      <p:pic>
        <p:nvPicPr>
          <p:cNvPr id="115" name="六边形 8" descr=""/>
          <p:cNvPicPr/>
          <p:nvPr/>
        </p:nvPicPr>
        <p:blipFill>
          <a:blip r:embed="rId3"/>
          <a:stretch/>
        </p:blipFill>
        <p:spPr>
          <a:xfrm>
            <a:off x="3078000" y="4084560"/>
            <a:ext cx="1481400" cy="1298520"/>
          </a:xfrm>
          <a:prstGeom prst="rect">
            <a:avLst/>
          </a:prstGeom>
          <a:ln w="0">
            <a:noFill/>
          </a:ln>
        </p:spPr>
      </p:pic>
      <p:pic>
        <p:nvPicPr>
          <p:cNvPr id="116" name="六边形 9" descr=""/>
          <p:cNvPicPr/>
          <p:nvPr/>
        </p:nvPicPr>
        <p:blipFill>
          <a:blip r:embed="rId4"/>
          <a:stretch/>
        </p:blipFill>
        <p:spPr>
          <a:xfrm>
            <a:off x="5205240" y="4151160"/>
            <a:ext cx="1487520" cy="1298880"/>
          </a:xfrm>
          <a:prstGeom prst="rect">
            <a:avLst/>
          </a:prstGeom>
          <a:ln w="0">
            <a:noFill/>
          </a:ln>
        </p:spPr>
      </p:pic>
      <p:pic>
        <p:nvPicPr>
          <p:cNvPr id="117" name="六边形 10" descr=""/>
          <p:cNvPicPr/>
          <p:nvPr/>
        </p:nvPicPr>
        <p:blipFill>
          <a:blip r:embed="rId5"/>
          <a:stretch/>
        </p:blipFill>
        <p:spPr>
          <a:xfrm>
            <a:off x="5194440" y="4071960"/>
            <a:ext cx="1481040" cy="1298520"/>
          </a:xfrm>
          <a:prstGeom prst="rect">
            <a:avLst/>
          </a:prstGeom>
          <a:ln w="0">
            <a:noFill/>
          </a:ln>
        </p:spPr>
      </p:pic>
      <p:pic>
        <p:nvPicPr>
          <p:cNvPr id="118" name="六边形 11" descr=""/>
          <p:cNvPicPr/>
          <p:nvPr/>
        </p:nvPicPr>
        <p:blipFill>
          <a:blip r:embed="rId6"/>
          <a:stretch/>
        </p:blipFill>
        <p:spPr>
          <a:xfrm>
            <a:off x="4145040" y="4651200"/>
            <a:ext cx="1481040" cy="1298880"/>
          </a:xfrm>
          <a:prstGeom prst="rect">
            <a:avLst/>
          </a:prstGeom>
          <a:ln w="0">
            <a:noFill/>
          </a:ln>
        </p:spPr>
      </p:pic>
      <p:pic>
        <p:nvPicPr>
          <p:cNvPr id="119" name="矩形 12" descr=""/>
          <p:cNvPicPr/>
          <p:nvPr/>
        </p:nvPicPr>
        <p:blipFill>
          <a:blip r:embed="rId7"/>
          <a:stretch/>
        </p:blipFill>
        <p:spPr>
          <a:xfrm>
            <a:off x="1773360" y="1335240"/>
            <a:ext cx="2189160" cy="1725480"/>
          </a:xfrm>
          <a:prstGeom prst="rect">
            <a:avLst/>
          </a:prstGeom>
          <a:ln w="0">
            <a:noFill/>
          </a:ln>
        </p:spPr>
      </p:pic>
      <p:pic>
        <p:nvPicPr>
          <p:cNvPr id="120" name="矩形 13" descr=""/>
          <p:cNvPicPr/>
          <p:nvPr/>
        </p:nvPicPr>
        <p:blipFill>
          <a:blip r:embed="rId8"/>
          <a:stretch/>
        </p:blipFill>
        <p:spPr>
          <a:xfrm>
            <a:off x="3840120" y="1335240"/>
            <a:ext cx="2189160" cy="1725480"/>
          </a:xfrm>
          <a:prstGeom prst="rect">
            <a:avLst/>
          </a:prstGeom>
          <a:ln w="0">
            <a:noFill/>
          </a:ln>
        </p:spPr>
      </p:pic>
      <p:pic>
        <p:nvPicPr>
          <p:cNvPr id="121" name="矩形 14" descr=""/>
          <p:cNvPicPr/>
          <p:nvPr/>
        </p:nvPicPr>
        <p:blipFill>
          <a:blip r:embed="rId9"/>
          <a:stretch/>
        </p:blipFill>
        <p:spPr>
          <a:xfrm>
            <a:off x="5907240" y="1335240"/>
            <a:ext cx="2189160" cy="1725480"/>
          </a:xfrm>
          <a:prstGeom prst="rect">
            <a:avLst/>
          </a:prstGeom>
          <a:ln w="0">
            <a:noFill/>
          </a:ln>
        </p:spPr>
      </p:pic>
      <p:pic>
        <p:nvPicPr>
          <p:cNvPr id="122" name="矩形 15" descr=""/>
          <p:cNvPicPr/>
          <p:nvPr/>
        </p:nvPicPr>
        <p:blipFill>
          <a:blip r:embed="rId10"/>
          <a:stretch/>
        </p:blipFill>
        <p:spPr>
          <a:xfrm>
            <a:off x="1871640" y="1414440"/>
            <a:ext cx="1994040" cy="1573200"/>
          </a:xfrm>
          <a:prstGeom prst="rect">
            <a:avLst/>
          </a:prstGeom>
          <a:ln w="0">
            <a:noFill/>
          </a:ln>
        </p:spPr>
      </p:pic>
      <p:pic>
        <p:nvPicPr>
          <p:cNvPr id="123" name="矩形 16" descr=""/>
          <p:cNvPicPr/>
          <p:nvPr/>
        </p:nvPicPr>
        <p:blipFill>
          <a:blip r:embed="rId11"/>
          <a:stretch/>
        </p:blipFill>
        <p:spPr>
          <a:xfrm>
            <a:off x="3938760" y="1414440"/>
            <a:ext cx="1992240" cy="1573200"/>
          </a:xfrm>
          <a:prstGeom prst="rect">
            <a:avLst/>
          </a:prstGeom>
          <a:ln w="0">
            <a:noFill/>
          </a:ln>
        </p:spPr>
      </p:pic>
      <p:pic>
        <p:nvPicPr>
          <p:cNvPr id="124" name="矩形 17" descr=""/>
          <p:cNvPicPr/>
          <p:nvPr/>
        </p:nvPicPr>
        <p:blipFill>
          <a:blip r:embed="rId12"/>
          <a:stretch/>
        </p:blipFill>
        <p:spPr>
          <a:xfrm>
            <a:off x="6004080" y="1414440"/>
            <a:ext cx="1987560" cy="15732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3"/>
          <p:cNvSpPr/>
          <p:nvPr/>
        </p:nvSpPr>
        <p:spPr>
          <a:xfrm>
            <a:off x="3301920" y="449892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4363920" y="5057640"/>
            <a:ext cx="10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5411880" y="44784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21"/>
          <p:cNvSpPr/>
          <p:nvPr/>
        </p:nvSpPr>
        <p:spPr>
          <a:xfrm>
            <a:off x="2751120" y="3009960"/>
            <a:ext cx="405000" cy="1738080"/>
          </a:xfrm>
          <a:custGeom>
            <a:avLst/>
            <a:gdLst/>
            <a:ahLst/>
            <a:rect l="l" t="t" r="r" b="b"/>
            <a:pathLst>
              <a:path w="404949" h="1737360">
                <a:moveTo>
                  <a:pt x="404949" y="1737360"/>
                </a:moveTo>
                <a:lnTo>
                  <a:pt x="0" y="173736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bfbfbf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22"/>
          <p:cNvSpPr/>
          <p:nvPr/>
        </p:nvSpPr>
        <p:spPr>
          <a:xfrm flipH="1">
            <a:off x="6614280" y="3024360"/>
            <a:ext cx="405000" cy="1738080"/>
          </a:xfrm>
          <a:custGeom>
            <a:avLst/>
            <a:gdLst/>
            <a:ahLst/>
            <a:rect l="l" t="t" r="r" b="b"/>
            <a:pathLst>
              <a:path w="404949" h="1737360">
                <a:moveTo>
                  <a:pt x="404949" y="1737360"/>
                </a:moveTo>
                <a:lnTo>
                  <a:pt x="0" y="173736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bfbfbf"/>
            </a:solidFill>
            <a:prstDash val="sys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3"/>
          <p:cNvSpPr/>
          <p:nvPr/>
        </p:nvSpPr>
        <p:spPr>
          <a:xfrm flipV="1">
            <a:off x="4894200" y="2964960"/>
            <a:ext cx="0" cy="1730520"/>
          </a:xfrm>
          <a:prstGeom prst="line">
            <a:avLst/>
          </a:prstGeom>
          <a:ln w="25560">
            <a:solidFill>
              <a:srgbClr val="bfbfb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6498000" y="195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4426560" y="195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2354760" y="195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泪滴形 6"/>
          <p:cNvSpPr/>
          <p:nvPr/>
        </p:nvSpPr>
        <p:spPr>
          <a:xfrm>
            <a:off x="4881600" y="1214280"/>
            <a:ext cx="2160720" cy="2160720"/>
          </a:xfrm>
          <a:custGeom>
            <a:avLst/>
            <a:gdLst/>
            <a:ahLst/>
            <a:rect l="l" t="t" r="r" b="b"/>
            <a:pathLst>
              <a:path w="2160587" h="2160587">
                <a:moveTo>
                  <a:pt x="0" y="1080294"/>
                </a:moveTo>
                <a:cubicBezTo>
                  <a:pt x="0" y="483664"/>
                  <a:pt x="483664" y="0"/>
                  <a:pt x="1080294" y="0"/>
                </a:cubicBezTo>
                <a:lnTo>
                  <a:pt x="2160587" y="0"/>
                </a:lnTo>
                <a:lnTo>
                  <a:pt x="2160587" y="1080294"/>
                </a:lnTo>
                <a:cubicBezTo>
                  <a:pt x="2160587" y="1676924"/>
                  <a:pt x="1676923" y="2160588"/>
                  <a:pt x="1080293" y="2160588"/>
                </a:cubicBezTo>
                <a:cubicBezTo>
                  <a:pt x="483663" y="2160588"/>
                  <a:pt x="-1" y="1676924"/>
                  <a:pt x="-1" y="1080294"/>
                </a:cubicBezTo>
                <a:lnTo>
                  <a:pt x="0" y="1080294"/>
                </a:lnTo>
                <a:close/>
              </a:path>
            </a:pathLst>
          </a:custGeom>
          <a:solidFill>
            <a:srgbClr val="7c5422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泪滴形 7"/>
          <p:cNvSpPr/>
          <p:nvPr/>
        </p:nvSpPr>
        <p:spPr>
          <a:xfrm flipH="1">
            <a:off x="2428920" y="1214280"/>
            <a:ext cx="2160720" cy="2160720"/>
          </a:xfrm>
          <a:custGeom>
            <a:avLst/>
            <a:gdLst/>
            <a:ahLst/>
            <a:rect l="l" t="t" r="r" b="b"/>
            <a:pathLst>
              <a:path w="2160588" h="2160587">
                <a:moveTo>
                  <a:pt x="0" y="1080294"/>
                </a:moveTo>
                <a:cubicBezTo>
                  <a:pt x="0" y="483664"/>
                  <a:pt x="483664" y="0"/>
                  <a:pt x="1080294" y="0"/>
                </a:cubicBezTo>
                <a:lnTo>
                  <a:pt x="2160588" y="0"/>
                </a:lnTo>
                <a:lnTo>
                  <a:pt x="2160588" y="1080294"/>
                </a:lnTo>
                <a:cubicBezTo>
                  <a:pt x="2160588" y="1676924"/>
                  <a:pt x="1676924" y="2160588"/>
                  <a:pt x="1080294" y="2160588"/>
                </a:cubicBezTo>
                <a:cubicBezTo>
                  <a:pt x="483664" y="2160588"/>
                  <a:pt x="0" y="1676924"/>
                  <a:pt x="0" y="1080294"/>
                </a:cubicBezTo>
                <a:close/>
              </a:path>
            </a:pathLst>
          </a:custGeom>
          <a:solidFill>
            <a:srgbClr val="ece455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泪滴形 8"/>
          <p:cNvSpPr/>
          <p:nvPr/>
        </p:nvSpPr>
        <p:spPr>
          <a:xfrm flipV="1">
            <a:off x="4881600" y="3645720"/>
            <a:ext cx="2160720" cy="2158920"/>
          </a:xfrm>
          <a:custGeom>
            <a:avLst/>
            <a:gdLst/>
            <a:ahLst/>
            <a:rect l="l" t="t" r="r" b="b"/>
            <a:pathLst>
              <a:path w="2160587" h="2159000">
                <a:moveTo>
                  <a:pt x="0" y="1079500"/>
                </a:moveTo>
                <a:cubicBezTo>
                  <a:pt x="0" y="483309"/>
                  <a:pt x="483664" y="0"/>
                  <a:pt x="1080294" y="0"/>
                </a:cubicBezTo>
                <a:lnTo>
                  <a:pt x="2160587" y="0"/>
                </a:lnTo>
                <a:lnTo>
                  <a:pt x="2160587" y="1079500"/>
                </a:lnTo>
                <a:cubicBezTo>
                  <a:pt x="2160587" y="1675691"/>
                  <a:pt x="1676923" y="2159000"/>
                  <a:pt x="1080293" y="2159000"/>
                </a:cubicBezTo>
                <a:cubicBezTo>
                  <a:pt x="483663" y="2159000"/>
                  <a:pt x="-1" y="1675691"/>
                  <a:pt x="-1" y="1079500"/>
                </a:cubicBezTo>
                <a:lnTo>
                  <a:pt x="0" y="1079500"/>
                </a:lnTo>
                <a:close/>
              </a:path>
            </a:pathLst>
          </a:custGeom>
          <a:solidFill>
            <a:srgbClr val="ece455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泪滴形 9"/>
          <p:cNvSpPr/>
          <p:nvPr/>
        </p:nvSpPr>
        <p:spPr>
          <a:xfrm flipH="1" flipV="1">
            <a:off x="2428920" y="3645720"/>
            <a:ext cx="2160720" cy="2158920"/>
          </a:xfrm>
          <a:custGeom>
            <a:avLst/>
            <a:gdLst/>
            <a:ahLst/>
            <a:rect l="l" t="t" r="r" b="b"/>
            <a:pathLst>
              <a:path w="2160588" h="2159000">
                <a:moveTo>
                  <a:pt x="0" y="1079500"/>
                </a:moveTo>
                <a:cubicBezTo>
                  <a:pt x="0" y="483309"/>
                  <a:pt x="483664" y="0"/>
                  <a:pt x="1080294" y="0"/>
                </a:cubicBezTo>
                <a:lnTo>
                  <a:pt x="2160588" y="0"/>
                </a:lnTo>
                <a:lnTo>
                  <a:pt x="2160588" y="1079500"/>
                </a:lnTo>
                <a:cubicBezTo>
                  <a:pt x="2160588" y="1675691"/>
                  <a:pt x="1676924" y="2159000"/>
                  <a:pt x="1080294" y="2159000"/>
                </a:cubicBezTo>
                <a:cubicBezTo>
                  <a:pt x="483664" y="2159000"/>
                  <a:pt x="0" y="1675691"/>
                  <a:pt x="0" y="1079500"/>
                </a:cubicBezTo>
                <a:close/>
              </a:path>
            </a:pathLst>
          </a:custGeom>
          <a:solidFill>
            <a:srgbClr val="7c5422"/>
          </a:solidFill>
          <a:ln w="28440">
            <a:solidFill>
              <a:srgbClr val="ffffff"/>
            </a:solidFill>
            <a:round/>
          </a:ln>
          <a:effectLst>
            <a:outerShdw dist="254049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29977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5497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2854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1"/>
          <p:cNvSpPr/>
          <p:nvPr/>
        </p:nvSpPr>
        <p:spPr>
          <a:xfrm>
            <a:off x="3786120" y="1643040"/>
            <a:ext cx="3578400" cy="1057320"/>
          </a:xfrm>
          <a:prstGeom prst="rect">
            <a:avLst/>
          </a:prstGeom>
          <a:solidFill>
            <a:srgbClr val="7c5422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9"/>
          <p:cNvSpPr/>
          <p:nvPr/>
        </p:nvSpPr>
        <p:spPr>
          <a:xfrm>
            <a:off x="2182680" y="1643040"/>
            <a:ext cx="1764000" cy="1057320"/>
          </a:xfrm>
          <a:custGeom>
            <a:avLst/>
            <a:gdLst>
              <a:gd name="textAreaLeft" fmla="*/ 0 w 1764000"/>
              <a:gd name="textAreaRight" fmla="*/ 1764360 w 176400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801608" h="1080120">
                <a:moveTo>
                  <a:pt x="566538" y="144016"/>
                </a:moveTo>
                <a:cubicBezTo>
                  <a:pt x="347809" y="144016"/>
                  <a:pt x="170494" y="321331"/>
                  <a:pt x="170494" y="540060"/>
                </a:cubicBezTo>
                <a:cubicBezTo>
                  <a:pt x="170494" y="758789"/>
                  <a:pt x="347809" y="936104"/>
                  <a:pt x="566538" y="936104"/>
                </a:cubicBezTo>
                <a:cubicBezTo>
                  <a:pt x="785267" y="936104"/>
                  <a:pt x="962582" y="758789"/>
                  <a:pt x="962582" y="540060"/>
                </a:cubicBezTo>
                <a:cubicBezTo>
                  <a:pt x="962582" y="321331"/>
                  <a:pt x="785267" y="144016"/>
                  <a:pt x="566538" y="144016"/>
                </a:cubicBezTo>
                <a:close/>
                <a:moveTo>
                  <a:pt x="0" y="0"/>
                </a:moveTo>
                <a:lnTo>
                  <a:pt x="1649800" y="0"/>
                </a:lnTo>
                <a:lnTo>
                  <a:pt x="1649800" y="376201"/>
                </a:lnTo>
                <a:lnTo>
                  <a:pt x="1801608" y="550380"/>
                </a:lnTo>
                <a:lnTo>
                  <a:pt x="1649800" y="703920"/>
                </a:lnTo>
                <a:lnTo>
                  <a:pt x="1649800" y="1080120"/>
                </a:lnTo>
                <a:lnTo>
                  <a:pt x="0" y="1080120"/>
                </a:lnTo>
                <a:lnTo>
                  <a:pt x="0" y="0"/>
                </a:lnTo>
                <a:close/>
              </a:path>
            </a:pathLst>
          </a:custGeom>
          <a:solidFill>
            <a:srgbClr val="ece455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3"/>
          <p:cNvSpPr/>
          <p:nvPr/>
        </p:nvSpPr>
        <p:spPr>
          <a:xfrm>
            <a:off x="5286240" y="1865160"/>
            <a:ext cx="27000" cy="6145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50000">
                <a:srgbClr val="f2f2f2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2"/>
          <p:cNvSpPr/>
          <p:nvPr/>
        </p:nvSpPr>
        <p:spPr>
          <a:xfrm>
            <a:off x="3946680" y="2006640"/>
            <a:ext cx="13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opperplate Gothic Bold"/>
                <a:ea typeface="微软雅黑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54"/>
          <p:cNvSpPr/>
          <p:nvPr/>
        </p:nvSpPr>
        <p:spPr>
          <a:xfrm>
            <a:off x="3786120" y="2800440"/>
            <a:ext cx="3578400" cy="1057320"/>
          </a:xfrm>
          <a:prstGeom prst="rect">
            <a:avLst/>
          </a:prstGeom>
          <a:solidFill>
            <a:srgbClr val="7c5422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9"/>
          <p:cNvSpPr/>
          <p:nvPr/>
        </p:nvSpPr>
        <p:spPr>
          <a:xfrm>
            <a:off x="2182680" y="2800440"/>
            <a:ext cx="1764000" cy="1057320"/>
          </a:xfrm>
          <a:custGeom>
            <a:avLst/>
            <a:gdLst>
              <a:gd name="textAreaLeft" fmla="*/ 0 w 1764000"/>
              <a:gd name="textAreaRight" fmla="*/ 1764360 w 176400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801608" h="1080120">
                <a:moveTo>
                  <a:pt x="566538" y="144016"/>
                </a:moveTo>
                <a:cubicBezTo>
                  <a:pt x="347809" y="144016"/>
                  <a:pt x="170494" y="321331"/>
                  <a:pt x="170494" y="540060"/>
                </a:cubicBezTo>
                <a:cubicBezTo>
                  <a:pt x="170494" y="758789"/>
                  <a:pt x="347809" y="936104"/>
                  <a:pt x="566538" y="936104"/>
                </a:cubicBezTo>
                <a:cubicBezTo>
                  <a:pt x="785267" y="936104"/>
                  <a:pt x="962582" y="758789"/>
                  <a:pt x="962582" y="540060"/>
                </a:cubicBezTo>
                <a:cubicBezTo>
                  <a:pt x="962582" y="321331"/>
                  <a:pt x="785267" y="144016"/>
                  <a:pt x="566538" y="144016"/>
                </a:cubicBezTo>
                <a:close/>
                <a:moveTo>
                  <a:pt x="0" y="0"/>
                </a:moveTo>
                <a:lnTo>
                  <a:pt x="1649800" y="0"/>
                </a:lnTo>
                <a:lnTo>
                  <a:pt x="1649800" y="376201"/>
                </a:lnTo>
                <a:lnTo>
                  <a:pt x="1801608" y="550380"/>
                </a:lnTo>
                <a:lnTo>
                  <a:pt x="1649800" y="703920"/>
                </a:lnTo>
                <a:lnTo>
                  <a:pt x="1649800" y="1080120"/>
                </a:lnTo>
                <a:lnTo>
                  <a:pt x="0" y="1080120"/>
                </a:lnTo>
                <a:lnTo>
                  <a:pt x="0" y="0"/>
                </a:lnTo>
                <a:close/>
              </a:path>
            </a:pathLst>
          </a:custGeom>
          <a:solidFill>
            <a:srgbClr val="ece455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56"/>
          <p:cNvSpPr/>
          <p:nvPr/>
        </p:nvSpPr>
        <p:spPr>
          <a:xfrm>
            <a:off x="5286240" y="3021120"/>
            <a:ext cx="27000" cy="61596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50000">
                <a:srgbClr val="f2f2f2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1"/>
          <p:cNvSpPr/>
          <p:nvPr/>
        </p:nvSpPr>
        <p:spPr>
          <a:xfrm>
            <a:off x="3946680" y="3164040"/>
            <a:ext cx="13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opperplate Gothic Bold"/>
                <a:ea typeface="微软雅黑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7"/>
          <p:cNvSpPr/>
          <p:nvPr/>
        </p:nvSpPr>
        <p:spPr>
          <a:xfrm>
            <a:off x="3786120" y="3957480"/>
            <a:ext cx="3578400" cy="1057320"/>
          </a:xfrm>
          <a:prstGeom prst="rect">
            <a:avLst/>
          </a:prstGeom>
          <a:solidFill>
            <a:srgbClr val="7c5422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9"/>
          <p:cNvSpPr/>
          <p:nvPr/>
        </p:nvSpPr>
        <p:spPr>
          <a:xfrm>
            <a:off x="2182680" y="3957480"/>
            <a:ext cx="1764000" cy="1057320"/>
          </a:xfrm>
          <a:custGeom>
            <a:avLst/>
            <a:gdLst>
              <a:gd name="textAreaLeft" fmla="*/ 0 w 1764000"/>
              <a:gd name="textAreaRight" fmla="*/ 1764360 w 176400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801608" h="1080120">
                <a:moveTo>
                  <a:pt x="566538" y="144016"/>
                </a:moveTo>
                <a:cubicBezTo>
                  <a:pt x="347809" y="144016"/>
                  <a:pt x="170494" y="321331"/>
                  <a:pt x="170494" y="540060"/>
                </a:cubicBezTo>
                <a:cubicBezTo>
                  <a:pt x="170494" y="758789"/>
                  <a:pt x="347809" y="936104"/>
                  <a:pt x="566538" y="936104"/>
                </a:cubicBezTo>
                <a:cubicBezTo>
                  <a:pt x="785267" y="936104"/>
                  <a:pt x="962582" y="758789"/>
                  <a:pt x="962582" y="540060"/>
                </a:cubicBezTo>
                <a:cubicBezTo>
                  <a:pt x="962582" y="321331"/>
                  <a:pt x="785267" y="144016"/>
                  <a:pt x="566538" y="144016"/>
                </a:cubicBezTo>
                <a:close/>
                <a:moveTo>
                  <a:pt x="0" y="0"/>
                </a:moveTo>
                <a:lnTo>
                  <a:pt x="1649800" y="0"/>
                </a:lnTo>
                <a:lnTo>
                  <a:pt x="1649800" y="376201"/>
                </a:lnTo>
                <a:lnTo>
                  <a:pt x="1801608" y="550380"/>
                </a:lnTo>
                <a:lnTo>
                  <a:pt x="1649800" y="703920"/>
                </a:lnTo>
                <a:lnTo>
                  <a:pt x="1649800" y="1080120"/>
                </a:lnTo>
                <a:lnTo>
                  <a:pt x="0" y="1080120"/>
                </a:lnTo>
                <a:lnTo>
                  <a:pt x="0" y="0"/>
                </a:lnTo>
                <a:close/>
              </a:path>
            </a:pathLst>
          </a:custGeom>
          <a:solidFill>
            <a:srgbClr val="ece455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9"/>
          <p:cNvSpPr/>
          <p:nvPr/>
        </p:nvSpPr>
        <p:spPr>
          <a:xfrm>
            <a:off x="5286240" y="4178160"/>
            <a:ext cx="27000" cy="61452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50000">
                <a:srgbClr val="f2f2f2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0"/>
          <p:cNvSpPr/>
          <p:nvPr/>
        </p:nvSpPr>
        <p:spPr>
          <a:xfrm>
            <a:off x="3946680" y="4319640"/>
            <a:ext cx="13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opperplate Gothic Bold"/>
                <a:ea typeface="微软雅黑"/>
              </a:rPr>
              <a:t>请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2"/>
          <p:cNvSpPr/>
          <p:nvPr/>
        </p:nvSpPr>
        <p:spPr>
          <a:xfrm>
            <a:off x="5752080" y="200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3"/>
          <p:cNvSpPr/>
          <p:nvPr/>
        </p:nvSpPr>
        <p:spPr>
          <a:xfrm>
            <a:off x="5823360" y="422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5752080" y="314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63440" y="63086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6355080" y="131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3"/>
          <p:cNvSpPr/>
          <p:nvPr/>
        </p:nvSpPr>
        <p:spPr>
          <a:xfrm>
            <a:off x="6283800" y="495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1926000" y="153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1711800" y="4888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MH_Title_1"/>
          <p:cNvSpPr/>
          <p:nvPr/>
        </p:nvSpPr>
        <p:spPr>
          <a:xfrm>
            <a:off x="3571920" y="2255760"/>
            <a:ext cx="2160720" cy="2157480"/>
          </a:xfrm>
          <a:prstGeom prst="octagon">
            <a:avLst>
              <a:gd name="adj" fmla="val 29287"/>
            </a:avLst>
          </a:prstGeom>
          <a:solidFill>
            <a:srgbClr val="ece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MH_SubTitle_2"/>
          <p:cNvSpPr/>
          <p:nvPr/>
        </p:nvSpPr>
        <p:spPr>
          <a:xfrm>
            <a:off x="4187880" y="1244520"/>
            <a:ext cx="931680" cy="935280"/>
          </a:xfrm>
          <a:prstGeom prst="rect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MH_SubTitle_6"/>
          <p:cNvSpPr/>
          <p:nvPr/>
        </p:nvSpPr>
        <p:spPr>
          <a:xfrm>
            <a:off x="4187880" y="4494240"/>
            <a:ext cx="931680" cy="934920"/>
          </a:xfrm>
          <a:prstGeom prst="rect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H_SubTitle_4"/>
          <p:cNvSpPr/>
          <p:nvPr/>
        </p:nvSpPr>
        <p:spPr>
          <a:xfrm>
            <a:off x="5851440" y="2892600"/>
            <a:ext cx="935280" cy="934920"/>
          </a:xfrm>
          <a:prstGeom prst="rect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MH_SubTitle_5"/>
          <p:cNvSpPr/>
          <p:nvPr/>
        </p:nvSpPr>
        <p:spPr>
          <a:xfrm rot="18900000">
            <a:off x="5343480" y="4033440"/>
            <a:ext cx="933480" cy="932040"/>
          </a:xfrm>
          <a:prstGeom prst="rect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31"/>
          <p:cNvSpPr/>
          <p:nvPr/>
        </p:nvSpPr>
        <p:spPr>
          <a:xfrm rot="2752200">
            <a:off x="5355720" y="1706400"/>
            <a:ext cx="947520" cy="950760"/>
          </a:xfrm>
          <a:prstGeom prst="pi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幼圆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任意多边形 30"/>
          <p:cNvSpPr/>
          <p:nvPr/>
        </p:nvSpPr>
        <p:spPr>
          <a:xfrm rot="2752200">
            <a:off x="3016080" y="4028760"/>
            <a:ext cx="950760" cy="951120"/>
          </a:xfrm>
          <a:prstGeom prst="pi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幼圆"/>
                <a:ea typeface="微软雅黑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MH_SubTitle_4"/>
          <p:cNvSpPr/>
          <p:nvPr/>
        </p:nvSpPr>
        <p:spPr>
          <a:xfrm flipH="1">
            <a:off x="2521800" y="2892600"/>
            <a:ext cx="933480" cy="934920"/>
          </a:xfrm>
          <a:prstGeom prst="rect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31"/>
          <p:cNvSpPr/>
          <p:nvPr/>
        </p:nvSpPr>
        <p:spPr>
          <a:xfrm flipH="1" rot="18847800">
            <a:off x="3005280" y="1706400"/>
            <a:ext cx="947520" cy="951480"/>
          </a:xfrm>
          <a:prstGeom prst="pi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幼圆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角三角形 6"/>
          <p:cNvSpPr/>
          <p:nvPr/>
        </p:nvSpPr>
        <p:spPr>
          <a:xfrm flipH="1">
            <a:off x="403920" y="1862280"/>
            <a:ext cx="327240" cy="315720"/>
          </a:xfrm>
          <a:prstGeom prst="rtTriangl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7"/>
          <p:cNvSpPr/>
          <p:nvPr/>
        </p:nvSpPr>
        <p:spPr>
          <a:xfrm rot="5400000">
            <a:off x="411480" y="2178720"/>
            <a:ext cx="2749680" cy="2106720"/>
          </a:xfrm>
          <a:prstGeom prst="rect">
            <a:avLst/>
          </a:prstGeom>
          <a:solidFill>
            <a:srgbClr val="7c5422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角三角形 8"/>
          <p:cNvSpPr/>
          <p:nvPr/>
        </p:nvSpPr>
        <p:spPr>
          <a:xfrm flipH="1" flipV="1">
            <a:off x="403920" y="4286160"/>
            <a:ext cx="327240" cy="316080"/>
          </a:xfrm>
          <a:prstGeom prst="rtTriangl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角三角形 9"/>
          <p:cNvSpPr/>
          <p:nvPr/>
        </p:nvSpPr>
        <p:spPr>
          <a:xfrm>
            <a:off x="2840040" y="1862280"/>
            <a:ext cx="326880" cy="315720"/>
          </a:xfrm>
          <a:prstGeom prst="rtTriangl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角三角形 10"/>
          <p:cNvSpPr/>
          <p:nvPr/>
        </p:nvSpPr>
        <p:spPr>
          <a:xfrm flipV="1">
            <a:off x="2840040" y="4286160"/>
            <a:ext cx="326880" cy="316080"/>
          </a:xfrm>
          <a:prstGeom prst="rtTriangl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角三角形 11"/>
          <p:cNvSpPr/>
          <p:nvPr/>
        </p:nvSpPr>
        <p:spPr>
          <a:xfrm flipH="1">
            <a:off x="3166200" y="1862280"/>
            <a:ext cx="327240" cy="315720"/>
          </a:xfrm>
          <a:prstGeom prst="rtTriangle">
            <a:avLst/>
          </a:prstGeom>
          <a:solidFill>
            <a:srgbClr val="ece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2"/>
          <p:cNvSpPr/>
          <p:nvPr/>
        </p:nvSpPr>
        <p:spPr>
          <a:xfrm rot="5400000">
            <a:off x="3174120" y="2178720"/>
            <a:ext cx="2749680" cy="2106720"/>
          </a:xfrm>
          <a:prstGeom prst="rect">
            <a:avLst/>
          </a:prstGeom>
          <a:solidFill>
            <a:srgbClr val="ece455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角三角形 13"/>
          <p:cNvSpPr/>
          <p:nvPr/>
        </p:nvSpPr>
        <p:spPr>
          <a:xfrm flipH="1" flipV="1">
            <a:off x="3166200" y="4286160"/>
            <a:ext cx="327240" cy="316080"/>
          </a:xfrm>
          <a:prstGeom prst="rtTriangle">
            <a:avLst/>
          </a:prstGeom>
          <a:solidFill>
            <a:srgbClr val="ece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角三角形 14"/>
          <p:cNvSpPr/>
          <p:nvPr/>
        </p:nvSpPr>
        <p:spPr>
          <a:xfrm>
            <a:off x="5602320" y="1862280"/>
            <a:ext cx="326880" cy="315720"/>
          </a:xfrm>
          <a:prstGeom prst="rtTriangle">
            <a:avLst/>
          </a:prstGeom>
          <a:solidFill>
            <a:srgbClr val="ece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角三角形 15"/>
          <p:cNvSpPr/>
          <p:nvPr/>
        </p:nvSpPr>
        <p:spPr>
          <a:xfrm flipV="1">
            <a:off x="5602320" y="4286160"/>
            <a:ext cx="326880" cy="316080"/>
          </a:xfrm>
          <a:prstGeom prst="rtTriangle">
            <a:avLst/>
          </a:prstGeom>
          <a:solidFill>
            <a:srgbClr val="ece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角三角形 16"/>
          <p:cNvSpPr/>
          <p:nvPr/>
        </p:nvSpPr>
        <p:spPr>
          <a:xfrm flipH="1">
            <a:off x="5881680" y="1862280"/>
            <a:ext cx="326880" cy="315720"/>
          </a:xfrm>
          <a:prstGeom prst="rtTriangl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7"/>
          <p:cNvSpPr/>
          <p:nvPr/>
        </p:nvSpPr>
        <p:spPr>
          <a:xfrm rot="5400000">
            <a:off x="5888880" y="2178720"/>
            <a:ext cx="2749680" cy="2106720"/>
          </a:xfrm>
          <a:prstGeom prst="rect">
            <a:avLst/>
          </a:prstGeom>
          <a:solidFill>
            <a:srgbClr val="7c5422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角三角形 18"/>
          <p:cNvSpPr/>
          <p:nvPr/>
        </p:nvSpPr>
        <p:spPr>
          <a:xfrm flipH="1" flipV="1">
            <a:off x="5881680" y="4286160"/>
            <a:ext cx="326880" cy="316080"/>
          </a:xfrm>
          <a:prstGeom prst="rtTriangl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角三角形 19"/>
          <p:cNvSpPr/>
          <p:nvPr/>
        </p:nvSpPr>
        <p:spPr>
          <a:xfrm>
            <a:off x="8317080" y="1862280"/>
            <a:ext cx="326880" cy="315720"/>
          </a:xfrm>
          <a:prstGeom prst="rtTriangl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角三角形 20"/>
          <p:cNvSpPr/>
          <p:nvPr/>
        </p:nvSpPr>
        <p:spPr>
          <a:xfrm flipV="1">
            <a:off x="8317080" y="4286160"/>
            <a:ext cx="326880" cy="316080"/>
          </a:xfrm>
          <a:prstGeom prst="rtTriangle">
            <a:avLst/>
          </a:prstGeom>
          <a:solidFill>
            <a:srgbClr val="7c54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3"/>
          <p:cNvSpPr/>
          <p:nvPr/>
        </p:nvSpPr>
        <p:spPr>
          <a:xfrm>
            <a:off x="6855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4"/>
          <p:cNvSpPr/>
          <p:nvPr/>
        </p:nvSpPr>
        <p:spPr>
          <a:xfrm>
            <a:off x="4142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5"/>
          <p:cNvSpPr/>
          <p:nvPr/>
        </p:nvSpPr>
        <p:spPr>
          <a:xfrm>
            <a:off x="12848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王玉清</cp:lastModifiedBy>
  <dcterms:modified xsi:type="dcterms:W3CDTF">2016-03-05T09:15:40Z</dcterms:modified>
  <cp:revision>285</cp:revision>
  <dc:subject/>
  <dc:title>www.pptbz.com</dc:title>
</cp:coreProperties>
</file>