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D8B7-7C80-4B00-A80F-326F545B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ABC-710B-4F05-B782-962FD955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B17B0-E4F6-40E5-B1CA-F784FB98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D7399-0C9F-462C-B6B1-8DA66341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41CA6-BD3C-450B-BD63-658AC241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D7D6F-9A8C-4115-9941-FA1F96ED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AC14C-ACA7-44F9-A961-C0BBA076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5F03B-BBB3-4773-A928-AF7461F7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7DCEC-C62C-4A42-BBFB-06C4F8CF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1AD64-3795-4CF7-9C9C-C5ED64EF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DBF75-C513-48FB-836D-636727F2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AC8-ED99-40AA-B150-E1991C09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22C7-C55A-4A95-9A15-696C47A9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57E2-933D-4D15-BE6C-361EEF78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5DD9-70CD-483F-A5F6-63C089F7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38EB-FE28-4C85-9F18-FBB6566C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24EA-CD0A-44E2-97EE-3794407E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BB12-2B88-4BB0-9577-1D695671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A3DA-BBD3-4853-A80E-2B8934A4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875C-1B51-4ED9-A858-AAEEC6B8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017-9BCD-4B76-87A0-CC9614C5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6B3A-4679-476D-85F4-F13CA5E7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4914-8EE0-470F-9564-D92F59A5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C071-2242-4B30-A5E5-1E9C1BE7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FC79-A7A2-4EB6-98B1-482EC694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A518-A8C7-4A90-B3C2-2A5896FA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6E2A7-10E8-4C66-B475-50774F24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2BEC4-6217-4AEE-AF93-55DA19E6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104BC-0E8A-484F-8569-78B2A624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DC03B-2F23-4014-92EF-F49C5578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AED19-B3DE-4977-BCA1-4B37CC77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9C0-1C6A-48C9-A4DC-958AFBA2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C6FCC-4303-43C3-A188-CE834ED1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F0A13-D1CA-4018-8B6D-DF12544F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8FAC1-133B-4A75-8451-EFE340A8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C5A6D-4858-42C3-9A95-50E97B8E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6BD7D-C125-4E06-86EB-69223D89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4D314-ADA8-41B7-AC72-02B5598A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C7AE6-5DD4-46B0-8D0A-DD43A22F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64C6E-AE77-4CD0-982B-B0675046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EE193-97C6-4399-9BE7-0773CEFA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4A167-5303-44EC-8551-BB2673FE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35C4-3257-4395-AD14-9AD6127F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0F287-AD49-4CBB-B2E9-166557BB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FFCA4-827F-4D7E-9326-583CE950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F915F-791B-4C65-9D08-7E1D5C8D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6B9E4-3635-430A-B885-6D8D9398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0234F-3D5C-436C-A2D3-E2219E6C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49550-66A9-4292-955C-7E4ACDB0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3D609-E2FB-4FD4-A90F-5DB621A0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91A14-D427-4DB9-8FFF-ECE5F69C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5099B-9ABE-4347-A5DA-43DF9208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99C30-9DF0-41F8-9338-82A7A9BE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915-0D01-4E77-8DD4-C1444565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A8D9C-682E-4161-8029-91CEE82E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451C4-5C33-4E4F-BF69-8A1D7008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E07B9-1E5C-4261-AB8C-7B2CF5CB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DEAFC-629A-4B67-9459-BFF36C9E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F7EDD-B847-4B1D-A01E-F040D3A0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AE4AD-3EBE-4AA5-9D91-93B947EB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7B9E4-E9E1-437A-8138-5AF23BAF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368C0-2B8B-402D-86CF-0BFB8427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FA93F-2B0D-48D6-BD89-EB583855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DE517-551B-4E87-B36A-02A118FE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9182-E38D-4F1D-AC6B-ECC2AC20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B3FE1-2432-47C4-AED4-CBBA0A2C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9EC8D-AF72-480A-89E1-AB1B83C5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200E0-FE57-44A4-ACBF-4A6B0CB3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D53A7-6E17-460D-BDFA-E0867EC1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ACD20-A5A6-4CA1-A838-13D78327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0B768-19AC-4ED8-901D-6A315D66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5373C-809E-4891-AE88-FF28C993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4517E-4B2A-45F7-A928-FD46C611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BE2D5-4969-41D8-BA3D-01417693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C5DAF-06BE-4221-A159-274ABA03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F7FD-D0CC-4AFA-B80C-BB013922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E358B-2C1E-48C3-8187-7897363B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D8098-1602-4592-9D26-FE74A4A3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081AE-D910-4920-B53F-576C34A3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3677D-298B-4D23-AC37-4129E666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43C6D-6A19-4BF6-B9EF-40979EE5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B2BB6-ADDC-427D-970D-775B44F8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ECC0F-9C1B-4CC7-9DD4-82156683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A6270-BE7C-4249-B22C-E6558D8E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79A0C-D042-43CA-90D7-A7A3D463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C6368-5CF1-47BB-9F8B-FBB607AF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CC7-3CB4-4A00-B30F-2D5766FC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86F4B-81F1-4E18-8E46-0625D4C5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C3229-F672-4820-90A5-EFE3C056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5EF57-0279-4501-930A-9ADC6027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1DF0A-0C6E-4694-A6C2-63B3CE86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29E3C-04B4-408E-B98A-E4AA6171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88C44-503C-4EA8-A403-722CD40F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84994-3E62-4EA4-8D0E-6DA8D203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0475C-18B8-4C85-9A64-BA59F4C6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1679E-099A-411E-9C60-A7C355CD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16355-94B5-4D88-83DE-01D0A6A9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34E-DBE2-4CF2-8214-4C77054B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97CE5-D69E-433D-A89A-74FBDB20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B6A2E-1854-45EB-8BE4-AB3FB278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DD587-85AF-4FCF-87FA-F0EF3E30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5A66E-3483-4DCC-8B42-1CA3E6A0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438D5-AFB1-4B3A-9DC3-84AC7F17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04572-7A00-4A97-8551-244F031B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716D2-2E0A-4C9E-9DF2-C61822C6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F1778-C512-48FE-BD35-D38A9890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99C8E-117D-4DF0-83BC-C2D377B4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2BB4E-E81A-4407-8E95-4A68A9F2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61544" r="0" b="26247"/>
          <a:stretch/>
        </p:blipFill>
        <p:spPr>
          <a:xfrm>
            <a:off x="0" y="0"/>
            <a:ext cx="9140040" cy="8362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-47160" y="821880"/>
            <a:ext cx="9229320" cy="158400"/>
          </a:xfrm>
          <a:prstGeom prst="rect">
            <a:avLst/>
          </a:prstGeom>
          <a:ln w="0">
            <a:noFill/>
          </a:ln>
        </p:spPr>
      </p:pic>
      <p:pic>
        <p:nvPicPr>
          <p:cNvPr id="2" name="图片 8" descr=""/>
          <p:cNvPicPr/>
          <p:nvPr/>
        </p:nvPicPr>
        <p:blipFill>
          <a:blip r:embed="rId4"/>
          <a:srcRect l="0" t="61544" r="0" b="0"/>
          <a:stretch/>
        </p:blipFill>
        <p:spPr>
          <a:xfrm>
            <a:off x="0" y="4221000"/>
            <a:ext cx="9140040" cy="2636640"/>
          </a:xfrm>
          <a:prstGeom prst="rect">
            <a:avLst/>
          </a:prstGeom>
          <a:ln w="0">
            <a:noFill/>
          </a:ln>
        </p:spPr>
      </p:pic>
      <p:pic>
        <p:nvPicPr>
          <p:cNvPr id="3" name="图片 6" descr=""/>
          <p:cNvPicPr/>
          <p:nvPr/>
        </p:nvPicPr>
        <p:blipFill>
          <a:blip r:embed="rId5"/>
          <a:srcRect l="0" t="17776" r="0" b="20668"/>
          <a:stretch/>
        </p:blipFill>
        <p:spPr>
          <a:xfrm>
            <a:off x="2880" y="0"/>
            <a:ext cx="9137880" cy="42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DB466E-CE48-4444-A67E-E7FBE1EA2A5A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6"/>
          <a:stretch/>
        </p:blipFill>
        <p:spPr>
          <a:xfrm>
            <a:off x="-42840" y="4209120"/>
            <a:ext cx="9229320" cy="1584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4728240"/>
            <a:ext cx="822924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148" strike="noStrike">
                <a:solidFill>
                  <a:srgbClr val="f8f8f8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6" descr=""/>
          <p:cNvPicPr/>
          <p:nvPr/>
        </p:nvPicPr>
        <p:blipFill>
          <a:blip r:embed="rId2"/>
          <a:srcRect l="0" t="61544" r="0" b="26247"/>
          <a:stretch/>
        </p:blipFill>
        <p:spPr>
          <a:xfrm>
            <a:off x="0" y="0"/>
            <a:ext cx="9140040" cy="836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>
            <a:off x="-47160" y="821880"/>
            <a:ext cx="9229320" cy="158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4037BC-AF94-4F5A-8D31-849AD74BA540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图片 6" descr=""/>
          <p:cNvPicPr/>
          <p:nvPr/>
        </p:nvPicPr>
        <p:blipFill>
          <a:blip r:embed="rId4"/>
          <a:srcRect l="0" t="61544" r="0" b="26247"/>
          <a:stretch/>
        </p:blipFill>
        <p:spPr>
          <a:xfrm>
            <a:off x="0" y="0"/>
            <a:ext cx="9140040" cy="83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5"/>
          <a:stretch/>
        </p:blipFill>
        <p:spPr>
          <a:xfrm>
            <a:off x="-47160" y="821880"/>
            <a:ext cx="9229320" cy="158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title"/>
          </p:nvPr>
        </p:nvSpPr>
        <p:spPr>
          <a:xfrm>
            <a:off x="45288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148" strike="noStrike">
                <a:solidFill>
                  <a:srgbClr val="f8f8f8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6" descr=""/>
          <p:cNvPicPr/>
          <p:nvPr/>
        </p:nvPicPr>
        <p:blipFill>
          <a:blip r:embed="rId2"/>
          <a:srcRect l="0" t="61544" r="0" b="26247"/>
          <a:stretch/>
        </p:blipFill>
        <p:spPr>
          <a:xfrm>
            <a:off x="0" y="0"/>
            <a:ext cx="9140040" cy="83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-47160" y="821880"/>
            <a:ext cx="9229320" cy="1584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6" descr=""/>
          <p:cNvPicPr/>
          <p:nvPr/>
        </p:nvPicPr>
        <p:blipFill>
          <a:blip r:embed="rId4"/>
          <a:srcRect l="0" t="17776" r="0" b="20668"/>
          <a:stretch/>
        </p:blipFill>
        <p:spPr>
          <a:xfrm>
            <a:off x="2880" y="0"/>
            <a:ext cx="9137880" cy="4220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797000"/>
            <a:ext cx="77720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d5d5d"/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9CCE9E-12C7-43CF-9021-FA12A359B1D9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5"/>
          <a:srcRect l="2583" t="0" r="2602" b="0"/>
          <a:stretch/>
        </p:blipFill>
        <p:spPr>
          <a:xfrm>
            <a:off x="0" y="4115880"/>
            <a:ext cx="9143640" cy="2487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6" descr=""/>
          <p:cNvPicPr/>
          <p:nvPr/>
        </p:nvPicPr>
        <p:blipFill>
          <a:blip r:embed="rId2"/>
          <a:srcRect l="0" t="61544" r="0" b="26247"/>
          <a:stretch/>
        </p:blipFill>
        <p:spPr>
          <a:xfrm>
            <a:off x="0" y="0"/>
            <a:ext cx="9140040" cy="836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-47160" y="821880"/>
            <a:ext cx="9229320" cy="1584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1AF261-5ACB-46CE-88A4-2099F41DA448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图片 8" descr=""/>
          <p:cNvPicPr/>
          <p:nvPr/>
        </p:nvPicPr>
        <p:blipFill>
          <a:blip r:embed="rId4"/>
          <a:srcRect l="11648" t="17802" r="19051" b="56844"/>
          <a:stretch/>
        </p:blipFill>
        <p:spPr>
          <a:xfrm>
            <a:off x="0" y="0"/>
            <a:ext cx="3047760" cy="8362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9" descr=""/>
          <p:cNvPicPr/>
          <p:nvPr/>
        </p:nvPicPr>
        <p:blipFill>
          <a:blip r:embed="rId5"/>
          <a:srcRect l="75668" t="17802" r="208" b="56844"/>
          <a:stretch/>
        </p:blipFill>
        <p:spPr>
          <a:xfrm>
            <a:off x="2816280" y="0"/>
            <a:ext cx="2691360" cy="836280"/>
          </a:xfrm>
          <a:prstGeom prst="rect">
            <a:avLst/>
          </a:prstGeom>
          <a:ln w="0">
            <a:noFill/>
          </a:ln>
        </p:spPr>
      </p:pic>
      <p:sp>
        <p:nvSpPr>
          <p:cNvPr id="144" name="矩形 10"/>
          <p:cNvSpPr/>
          <p:nvPr/>
        </p:nvSpPr>
        <p:spPr>
          <a:xfrm>
            <a:off x="2483640" y="0"/>
            <a:ext cx="6660000" cy="836280"/>
          </a:xfrm>
          <a:prstGeom prst="rect">
            <a:avLst/>
          </a:prstGeom>
          <a:gradFill rotWithShape="0">
            <a:gsLst>
              <a:gs pos="57000">
                <a:srgbClr val="002a46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6"/>
          <a:stretch/>
        </p:blipFill>
        <p:spPr>
          <a:xfrm>
            <a:off x="-47160" y="821880"/>
            <a:ext cx="9229320" cy="158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5"/>
          <p:cNvSpPr>
            <a:spLocks noGrp="1"/>
          </p:cNvSpPr>
          <p:nvPr>
            <p:ph type="title"/>
          </p:nvPr>
        </p:nvSpPr>
        <p:spPr>
          <a:xfrm>
            <a:off x="45288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148" strike="noStrike">
                <a:solidFill>
                  <a:srgbClr val="f8f8f8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6" descr=""/>
          <p:cNvPicPr/>
          <p:nvPr/>
        </p:nvPicPr>
        <p:blipFill>
          <a:blip r:embed="rId2"/>
          <a:srcRect l="0" t="61544" r="0" b="26247"/>
          <a:stretch/>
        </p:blipFill>
        <p:spPr>
          <a:xfrm>
            <a:off x="0" y="0"/>
            <a:ext cx="9140040" cy="836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3"/>
          <a:stretch/>
        </p:blipFill>
        <p:spPr>
          <a:xfrm>
            <a:off x="-47160" y="821880"/>
            <a:ext cx="9229320" cy="15840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6" descr=""/>
          <p:cNvPicPr/>
          <p:nvPr/>
        </p:nvPicPr>
        <p:blipFill>
          <a:blip r:embed="rId4"/>
          <a:srcRect l="24908" t="21209" r="5791" b="17235"/>
          <a:stretch/>
        </p:blipFill>
        <p:spPr>
          <a:xfrm>
            <a:off x="0" y="0"/>
            <a:ext cx="9140760" cy="6093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8B47D1-E4AD-4481-9C02-A0819427134A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0" y="4221000"/>
            <a:ext cx="9140760" cy="2636640"/>
          </a:xfrm>
          <a:prstGeom prst="rect">
            <a:avLst/>
          </a:prstGeom>
          <a:gradFill rotWithShape="0">
            <a:gsLst>
              <a:gs pos="50000">
                <a:srgbClr val="ffffff"/>
              </a:gs>
              <a:gs pos="100000">
                <a:srgbClr val="ffffff">
                  <a:alpha val="20000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90" name="矩形 8"/>
          <p:cNvSpPr/>
          <p:nvPr/>
        </p:nvSpPr>
        <p:spPr>
          <a:xfrm>
            <a:off x="0" y="4221000"/>
            <a:ext cx="9140760" cy="26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5"/>
          <a:srcRect l="2583" t="0" r="2602" b="0"/>
          <a:stretch/>
        </p:blipFill>
        <p:spPr>
          <a:xfrm>
            <a:off x="0" y="4115880"/>
            <a:ext cx="9143640" cy="2487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4"/>
          <p:cNvSpPr>
            <a:spLocks noGrp="1"/>
          </p:cNvSpPr>
          <p:nvPr>
            <p:ph type="title"/>
          </p:nvPr>
        </p:nvSpPr>
        <p:spPr>
          <a:xfrm>
            <a:off x="685800" y="4797000"/>
            <a:ext cx="77720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007272"/>
                </a:solidFill>
                <a:latin typeface="黑体"/>
                <a:ea typeface="黑体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6" descr=""/>
          <p:cNvPicPr/>
          <p:nvPr/>
        </p:nvPicPr>
        <p:blipFill>
          <a:blip r:embed="rId2"/>
          <a:srcRect l="0" t="61544" r="0" b="26247"/>
          <a:stretch/>
        </p:blipFill>
        <p:spPr>
          <a:xfrm>
            <a:off x="0" y="0"/>
            <a:ext cx="9140040" cy="836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-47160" y="821880"/>
            <a:ext cx="9229320" cy="1584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11" descr=""/>
          <p:cNvPicPr/>
          <p:nvPr/>
        </p:nvPicPr>
        <p:blipFill>
          <a:blip r:embed="rId4"/>
          <a:srcRect l="-38" t="77235" r="38" b="0"/>
          <a:stretch/>
        </p:blipFill>
        <p:spPr>
          <a:xfrm>
            <a:off x="2880" y="0"/>
            <a:ext cx="9137880" cy="15602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E3914E-41B3-4D54-8B75-5A7A96D756E5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title"/>
          </p:nvPr>
        </p:nvSpPr>
        <p:spPr>
          <a:xfrm>
            <a:off x="45288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148" strike="noStrike">
                <a:solidFill>
                  <a:srgbClr val="f8f8f8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矩形 6"/>
          <p:cNvSpPr/>
          <p:nvPr/>
        </p:nvSpPr>
        <p:spPr>
          <a:xfrm>
            <a:off x="0" y="404640"/>
            <a:ext cx="9140760" cy="1371600"/>
          </a:xfrm>
          <a:prstGeom prst="rect">
            <a:avLst/>
          </a:prstGeom>
          <a:gradFill rotWithShape="0">
            <a:gsLst>
              <a:gs pos="4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片 6" descr=""/>
          <p:cNvPicPr/>
          <p:nvPr/>
        </p:nvPicPr>
        <p:blipFill>
          <a:blip r:embed="rId2"/>
          <a:srcRect l="0" t="61544" r="0" b="26247"/>
          <a:stretch/>
        </p:blipFill>
        <p:spPr>
          <a:xfrm>
            <a:off x="0" y="0"/>
            <a:ext cx="9140040" cy="836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-47160" y="821880"/>
            <a:ext cx="9229320" cy="1584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11" descr=""/>
          <p:cNvPicPr/>
          <p:nvPr/>
        </p:nvPicPr>
        <p:blipFill>
          <a:blip r:embed="rId4"/>
          <a:srcRect l="31" t="81099" r="-31" b="6904"/>
          <a:stretch/>
        </p:blipFill>
        <p:spPr>
          <a:xfrm>
            <a:off x="2880" y="0"/>
            <a:ext cx="9137880" cy="8215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9E6290-FF5E-43BE-8C7A-79D672130AA4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title"/>
          </p:nvPr>
        </p:nvSpPr>
        <p:spPr>
          <a:xfrm>
            <a:off x="45288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148" strike="noStrike">
                <a:solidFill>
                  <a:srgbClr val="f8f8f8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直接连接符 12"/>
          <p:cNvCxnSpPr/>
          <p:nvPr/>
        </p:nvCxnSpPr>
        <p:spPr>
          <a:xfrm>
            <a:off x="0" y="821880"/>
            <a:ext cx="9144360" cy="360"/>
          </a:xfrm>
          <a:prstGeom prst="straightConnector1">
            <a:avLst/>
          </a:prstGeom>
          <a:ln w="57150">
            <a:solidFill>
              <a:srgbClr val="4bc5b9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6" descr=""/>
          <p:cNvPicPr/>
          <p:nvPr/>
        </p:nvPicPr>
        <p:blipFill>
          <a:blip r:embed="rId2"/>
          <a:srcRect l="0" t="61544" r="0" b="26247"/>
          <a:stretch/>
        </p:blipFill>
        <p:spPr>
          <a:xfrm>
            <a:off x="0" y="0"/>
            <a:ext cx="9140040" cy="836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"/>
          <p:cNvPicPr/>
          <p:nvPr/>
        </p:nvPicPr>
        <p:blipFill>
          <a:blip r:embed="rId3"/>
          <a:stretch/>
        </p:blipFill>
        <p:spPr>
          <a:xfrm>
            <a:off x="-47160" y="821880"/>
            <a:ext cx="9229320" cy="158400"/>
          </a:xfrm>
          <a:prstGeom prst="rect">
            <a:avLst/>
          </a:prstGeom>
          <a:ln w="0">
            <a:noFill/>
          </a:ln>
        </p:spPr>
      </p:pic>
      <p:pic>
        <p:nvPicPr>
          <p:cNvPr id="322" name="图片 8" descr=""/>
          <p:cNvPicPr/>
          <p:nvPr/>
        </p:nvPicPr>
        <p:blipFill>
          <a:blip r:embed="rId4"/>
          <a:srcRect l="-38" t="6" r="38" b="0"/>
          <a:stretch/>
        </p:blipFill>
        <p:spPr>
          <a:xfrm>
            <a:off x="0" y="0"/>
            <a:ext cx="9140040" cy="6857640"/>
          </a:xfrm>
          <a:prstGeom prst="rect">
            <a:avLst/>
          </a:prstGeom>
          <a:ln w="0">
            <a:noFill/>
          </a:ln>
        </p:spPr>
      </p:pic>
      <p:sp>
        <p:nvSpPr>
          <p:cNvPr id="323" name="矩形 6"/>
          <p:cNvSpPr/>
          <p:nvPr/>
        </p:nvSpPr>
        <p:spPr>
          <a:xfrm>
            <a:off x="467640" y="1052640"/>
            <a:ext cx="8672760" cy="580500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innerShdw blurRad="88900" dir="13500000" dist="76200">
              <a:srgbClr val="000000">
                <a:alpha val="8000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85FE27-FEEC-4FD6-A989-395166210C1D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title"/>
          </p:nvPr>
        </p:nvSpPr>
        <p:spPr>
          <a:xfrm>
            <a:off x="45288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148" strike="noStrike">
                <a:solidFill>
                  <a:srgbClr val="f8f8f8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图片 6" descr=""/>
          <p:cNvPicPr/>
          <p:nvPr/>
        </p:nvPicPr>
        <p:blipFill>
          <a:blip r:embed="rId2"/>
          <a:srcRect l="0" t="61544" r="0" b="26247"/>
          <a:stretch/>
        </p:blipFill>
        <p:spPr>
          <a:xfrm>
            <a:off x="0" y="0"/>
            <a:ext cx="9140040" cy="8362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3"/>
          <a:stretch/>
        </p:blipFill>
        <p:spPr>
          <a:xfrm>
            <a:off x="-47160" y="821880"/>
            <a:ext cx="9229320" cy="15840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6" descr=""/>
          <p:cNvPicPr/>
          <p:nvPr/>
        </p:nvPicPr>
        <p:blipFill>
          <a:blip r:embed="rId4"/>
          <a:srcRect l="-31" t="5465" r="31" b="5465"/>
          <a:stretch/>
        </p:blipFill>
        <p:spPr>
          <a:xfrm>
            <a:off x="0" y="0"/>
            <a:ext cx="9140760" cy="610776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0" y="2277000"/>
            <a:ext cx="9140760" cy="4580640"/>
          </a:xfrm>
          <a:prstGeom prst="rect">
            <a:avLst/>
          </a:prstGeom>
          <a:gradFill rotWithShape="0">
            <a:gsLst>
              <a:gs pos="52000">
                <a:srgbClr val="ffffff">
                  <a:alpha val="0"/>
                </a:srgbClr>
              </a:gs>
              <a:gs pos="100000">
                <a:srgbClr val="ffffff">
                  <a:alpha val="89019"/>
                </a:srgbClr>
              </a:gs>
            </a:gsLst>
            <a:lin ang="81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69" name="矩形 7"/>
          <p:cNvSpPr/>
          <p:nvPr/>
        </p:nvSpPr>
        <p:spPr>
          <a:xfrm>
            <a:off x="0" y="2565000"/>
            <a:ext cx="9140760" cy="4292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d5d5d"/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8b8b8b"/>
                </a:solidFill>
                <a:latin typeface="Times New Roman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F1548E-1C07-49AC-B6A4-97257E252E66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728240"/>
            <a:ext cx="868644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148" strike="noStrike">
                <a:solidFill>
                  <a:srgbClr val="f8f8f8"/>
                </a:solidFill>
                <a:latin typeface="Impact"/>
              </a:rPr>
              <a:t>大桥通用</a:t>
            </a:r>
            <a:r>
              <a:rPr b="1" lang="en-US" sz="4000" spc="148" strike="noStrike">
                <a:solidFill>
                  <a:srgbClr val="f8f8f8"/>
                </a:solidFill>
                <a:latin typeface="Impact"/>
              </a:rPr>
              <a:t>PPT</a:t>
            </a:r>
            <a:r>
              <a:rPr b="1" lang="zh-CN" sz="4000" spc="148" strike="noStrike">
                <a:solidFill>
                  <a:srgbClr val="f8f8f8"/>
                </a:solidFill>
                <a:latin typeface="Impact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67640" y="5661360"/>
            <a:ext cx="6400440" cy="5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f2f2f2"/>
              </a:solidFill>
              <a:latin typeface="Times New Roman"/>
            </a:endParaRPr>
          </a:p>
        </p:txBody>
      </p:sp>
      <p:sp>
        <p:nvSpPr>
          <p:cNvPr id="41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288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148" strike="noStrike">
                <a:solidFill>
                  <a:srgbClr val="f8f8f8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铁臂跨洋模板是果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工作室出品的标准化系列模板之一。版面设计中遵循黄金分割比例设置标题区域的位置，以直线和整齐的方形板块划分页面。标题字体选取微软雅黑体，正文字体选用宋体。本模板以轩昂、开阔的铁桥为背景，一图多用，适合于商务、城市规划、广告、交通等诸多领域的演示使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797000"/>
            <a:ext cx="77720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d5d5d"/>
                </a:solidFill>
                <a:latin typeface="Impact"/>
              </a:rPr>
              <a:t>铁臂跨洋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3640" y="5733360"/>
            <a:ext cx="6400440" cy="5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果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作室出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本模板的主题色选用了系统自带的“凤舞九天”主题。可结合主题色灵活地设置图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45288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148" strike="noStrike">
                <a:solidFill>
                  <a:srgbClr val="f8f8f8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971640" y="2349000"/>
            <a:ext cx="575640" cy="791640"/>
          </a:xfrm>
          <a:prstGeom prst="rect">
            <a:avLst/>
          </a:prstGeom>
          <a:gradFill rotWithShape="0">
            <a:gsLst>
              <a:gs pos="80000">
                <a:srgbClr val="0000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dk1"/>
          </a:lnRef>
          <a:fillRef idx="3">
            <a:schemeClr val="dk1"/>
          </a:fillRef>
          <a:effectRef idx="3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21" name="矩形 6"/>
          <p:cNvSpPr/>
          <p:nvPr/>
        </p:nvSpPr>
        <p:spPr>
          <a:xfrm>
            <a:off x="1765800" y="2349000"/>
            <a:ext cx="575640" cy="791640"/>
          </a:xfrm>
          <a:prstGeom prst="rect">
            <a:avLst/>
          </a:prstGeom>
          <a:gradFill rotWithShape="0">
            <a:gsLst>
              <a:gs pos="0">
                <a:srgbClr val="3b5e1b"/>
              </a:gs>
              <a:gs pos="100000">
                <a:srgbClr val="4d7a2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22" name="矩形 7"/>
          <p:cNvSpPr/>
          <p:nvPr/>
        </p:nvSpPr>
        <p:spPr>
          <a:xfrm>
            <a:off x="2555640" y="2353680"/>
            <a:ext cx="575640" cy="791640"/>
          </a:xfrm>
          <a:prstGeom prst="rect">
            <a:avLst/>
          </a:prstGeom>
          <a:gradFill rotWithShape="0">
            <a:gsLst>
              <a:gs pos="0">
                <a:srgbClr val="117051"/>
              </a:gs>
              <a:gs pos="100000">
                <a:srgbClr val="16916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23" name="矩形 8"/>
          <p:cNvSpPr/>
          <p:nvPr/>
        </p:nvSpPr>
        <p:spPr>
          <a:xfrm>
            <a:off x="3348000" y="2353680"/>
            <a:ext cx="575640" cy="791640"/>
          </a:xfrm>
          <a:prstGeom prst="rect">
            <a:avLst/>
          </a:prstGeom>
          <a:gradFill rotWithShape="0">
            <a:gsLst>
              <a:gs pos="0">
                <a:srgbClr val="179c38"/>
              </a:gs>
              <a:gs pos="100000">
                <a:srgbClr val="1dcb4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24" name="矩形 9"/>
          <p:cNvSpPr/>
          <p:nvPr/>
        </p:nvSpPr>
        <p:spPr>
          <a:xfrm>
            <a:off x="4140000" y="2353680"/>
            <a:ext cx="575640" cy="791640"/>
          </a:xfrm>
          <a:prstGeom prst="rect">
            <a:avLst/>
          </a:prstGeom>
          <a:gradFill rotWithShape="0">
            <a:gsLst>
              <a:gs pos="0">
                <a:srgbClr val="29a095"/>
              </a:gs>
              <a:gs pos="100000">
                <a:srgbClr val="36d0c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25" name="矩形 10"/>
          <p:cNvSpPr/>
          <p:nvPr/>
        </p:nvSpPr>
        <p:spPr>
          <a:xfrm>
            <a:off x="4932000" y="2353680"/>
            <a:ext cx="575640" cy="791640"/>
          </a:xfrm>
          <a:prstGeom prst="rect">
            <a:avLst/>
          </a:prstGeom>
          <a:gradFill rotWithShape="0">
            <a:gsLst>
              <a:gs pos="0">
                <a:srgbClr val="1343a7"/>
              </a:gs>
              <a:gs pos="100000">
                <a:srgbClr val="1957d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26" name="矩形 11"/>
          <p:cNvSpPr/>
          <p:nvPr/>
        </p:nvSpPr>
        <p:spPr>
          <a:xfrm>
            <a:off x="5724000" y="2349000"/>
            <a:ext cx="575640" cy="791640"/>
          </a:xfrm>
          <a:prstGeom prst="rect">
            <a:avLst/>
          </a:prstGeom>
          <a:gradFill rotWithShape="0">
            <a:gsLst>
              <a:gs pos="0">
                <a:srgbClr val="33008c"/>
              </a:gs>
              <a:gs pos="100000">
                <a:srgbClr val="4300b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27" name="标题 3"/>
          <p:cNvSpPr/>
          <p:nvPr/>
        </p:nvSpPr>
        <p:spPr>
          <a:xfrm>
            <a:off x="817200" y="3394440"/>
            <a:ext cx="822924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</a:rPr>
              <a:t>标题文本（微软雅黑，</a:t>
            </a:r>
            <a:r>
              <a:rPr b="1" lang="en-US" sz="3200" spc="-1" strike="noStrike">
                <a:solidFill>
                  <a:srgbClr val="000000"/>
                </a:solidFill>
                <a:latin typeface="Impact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Impact"/>
              </a:rPr>
              <a:t>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内容占位符 4"/>
          <p:cNvSpPr/>
          <p:nvPr/>
        </p:nvSpPr>
        <p:spPr>
          <a:xfrm>
            <a:off x="817200" y="4253760"/>
            <a:ext cx="8229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正文文本（宋体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号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4797000"/>
            <a:ext cx="77720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007272"/>
                </a:solidFill>
                <a:latin typeface="黑体"/>
                <a:ea typeface="黑体"/>
              </a:rPr>
              <a:t>铁臂跨洋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683640" y="5733360"/>
            <a:ext cx="6400440" cy="5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果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工作室出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288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148" strike="noStrike">
                <a:solidFill>
                  <a:srgbClr val="f8f8f8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45288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148" strike="noStrike">
                <a:solidFill>
                  <a:srgbClr val="f8f8f8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683640" y="1196640"/>
            <a:ext cx="800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b4b4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452880" y="0"/>
            <a:ext cx="82292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148" strike="noStrike">
                <a:solidFill>
                  <a:srgbClr val="f8f8f8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8b8b8b"/>
                </a:solidFill>
                <a:latin typeface="Times New Roman"/>
              </a:rPr>
              <a:t>此处添加副标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d5d5d"/>
                </a:solidFill>
                <a:latin typeface="Impact"/>
              </a:rPr>
              <a:t>铁臂跨洋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凤舞九天">
      <a:dk1>
        <a:srgbClr val="000000"/>
      </a:dk1>
      <a:lt1>
        <a:srgbClr val="ffffff"/>
      </a:lt1>
      <a:dk2>
        <a:srgbClr val="004646"/>
      </a:dk2>
      <a:lt2>
        <a:srgbClr val="e1f0ff"/>
      </a:lt2>
      <a:accent1>
        <a:srgbClr val="50742f"/>
      </a:accent1>
      <a:accent2>
        <a:srgbClr val="268868"/>
      </a:accent2>
      <a:accent3>
        <a:srgbClr val="33bd56"/>
      </a:accent3>
      <a:accent4>
        <a:srgbClr val="4bc5b9"/>
      </a:accent4>
      <a:accent5>
        <a:srgbClr val="3163ca"/>
      </a:accent5>
      <a:accent6>
        <a:srgbClr val="4b14aa"/>
      </a:accent6>
      <a:hlink>
        <a:srgbClr val="d9be02"/>
      </a:hlink>
      <a:folHlink>
        <a:srgbClr val="f90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凤舞九天">
      <a:dk1>
        <a:srgbClr val="000000"/>
      </a:dk1>
      <a:lt1>
        <a:srgbClr val="ffffff"/>
      </a:lt1>
      <a:dk2>
        <a:srgbClr val="004646"/>
      </a:dk2>
      <a:lt2>
        <a:srgbClr val="e1f0ff"/>
      </a:lt2>
      <a:accent1>
        <a:srgbClr val="50742f"/>
      </a:accent1>
      <a:accent2>
        <a:srgbClr val="268868"/>
      </a:accent2>
      <a:accent3>
        <a:srgbClr val="33bd56"/>
      </a:accent3>
      <a:accent4>
        <a:srgbClr val="4bc5b9"/>
      </a:accent4>
      <a:accent5>
        <a:srgbClr val="3163ca"/>
      </a:accent5>
      <a:accent6>
        <a:srgbClr val="4b14aa"/>
      </a:accent6>
      <a:hlink>
        <a:srgbClr val="d9be02"/>
      </a:hlink>
      <a:folHlink>
        <a:srgbClr val="f90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凤舞九天">
      <a:dk1>
        <a:srgbClr val="000000"/>
      </a:dk1>
      <a:lt1>
        <a:srgbClr val="ffffff"/>
      </a:lt1>
      <a:dk2>
        <a:srgbClr val="004646"/>
      </a:dk2>
      <a:lt2>
        <a:srgbClr val="e1f0ff"/>
      </a:lt2>
      <a:accent1>
        <a:srgbClr val="50742f"/>
      </a:accent1>
      <a:accent2>
        <a:srgbClr val="268868"/>
      </a:accent2>
      <a:accent3>
        <a:srgbClr val="33bd56"/>
      </a:accent3>
      <a:accent4>
        <a:srgbClr val="4bc5b9"/>
      </a:accent4>
      <a:accent5>
        <a:srgbClr val="3163ca"/>
      </a:accent5>
      <a:accent6>
        <a:srgbClr val="4b14aa"/>
      </a:accent6>
      <a:hlink>
        <a:srgbClr val="d9be02"/>
      </a:hlink>
      <a:folHlink>
        <a:srgbClr val="f90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​​">
  <a:themeElements>
    <a:clrScheme name="凤舞九天">
      <a:dk1>
        <a:srgbClr val="000000"/>
      </a:dk1>
      <a:lt1>
        <a:srgbClr val="ffffff"/>
      </a:lt1>
      <a:dk2>
        <a:srgbClr val="004646"/>
      </a:dk2>
      <a:lt2>
        <a:srgbClr val="e1f0ff"/>
      </a:lt2>
      <a:accent1>
        <a:srgbClr val="50742f"/>
      </a:accent1>
      <a:accent2>
        <a:srgbClr val="268868"/>
      </a:accent2>
      <a:accent3>
        <a:srgbClr val="33bd56"/>
      </a:accent3>
      <a:accent4>
        <a:srgbClr val="4bc5b9"/>
      </a:accent4>
      <a:accent5>
        <a:srgbClr val="3163ca"/>
      </a:accent5>
      <a:accent6>
        <a:srgbClr val="4b14aa"/>
      </a:accent6>
      <a:hlink>
        <a:srgbClr val="d9be02"/>
      </a:hlink>
      <a:folHlink>
        <a:srgbClr val="f90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​​">
  <a:themeElements>
    <a:clrScheme name="凤舞九天">
      <a:dk1>
        <a:srgbClr val="000000"/>
      </a:dk1>
      <a:lt1>
        <a:srgbClr val="ffffff"/>
      </a:lt1>
      <a:dk2>
        <a:srgbClr val="004646"/>
      </a:dk2>
      <a:lt2>
        <a:srgbClr val="e1f0ff"/>
      </a:lt2>
      <a:accent1>
        <a:srgbClr val="50742f"/>
      </a:accent1>
      <a:accent2>
        <a:srgbClr val="268868"/>
      </a:accent2>
      <a:accent3>
        <a:srgbClr val="33bd56"/>
      </a:accent3>
      <a:accent4>
        <a:srgbClr val="4bc5b9"/>
      </a:accent4>
      <a:accent5>
        <a:srgbClr val="3163ca"/>
      </a:accent5>
      <a:accent6>
        <a:srgbClr val="4b14aa"/>
      </a:accent6>
      <a:hlink>
        <a:srgbClr val="d9be02"/>
      </a:hlink>
      <a:folHlink>
        <a:srgbClr val="f90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​​">
  <a:themeElements>
    <a:clrScheme name="凤舞九天">
      <a:dk1>
        <a:srgbClr val="000000"/>
      </a:dk1>
      <a:lt1>
        <a:srgbClr val="ffffff"/>
      </a:lt1>
      <a:dk2>
        <a:srgbClr val="004646"/>
      </a:dk2>
      <a:lt2>
        <a:srgbClr val="e1f0ff"/>
      </a:lt2>
      <a:accent1>
        <a:srgbClr val="50742f"/>
      </a:accent1>
      <a:accent2>
        <a:srgbClr val="268868"/>
      </a:accent2>
      <a:accent3>
        <a:srgbClr val="33bd56"/>
      </a:accent3>
      <a:accent4>
        <a:srgbClr val="4bc5b9"/>
      </a:accent4>
      <a:accent5>
        <a:srgbClr val="3163ca"/>
      </a:accent5>
      <a:accent6>
        <a:srgbClr val="4b14aa"/>
      </a:accent6>
      <a:hlink>
        <a:srgbClr val="d9be02"/>
      </a:hlink>
      <a:folHlink>
        <a:srgbClr val="f90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主题​​">
  <a:themeElements>
    <a:clrScheme name="凤舞九天">
      <a:dk1>
        <a:srgbClr val="000000"/>
      </a:dk1>
      <a:lt1>
        <a:srgbClr val="ffffff"/>
      </a:lt1>
      <a:dk2>
        <a:srgbClr val="004646"/>
      </a:dk2>
      <a:lt2>
        <a:srgbClr val="e1f0ff"/>
      </a:lt2>
      <a:accent1>
        <a:srgbClr val="50742f"/>
      </a:accent1>
      <a:accent2>
        <a:srgbClr val="268868"/>
      </a:accent2>
      <a:accent3>
        <a:srgbClr val="33bd56"/>
      </a:accent3>
      <a:accent4>
        <a:srgbClr val="4bc5b9"/>
      </a:accent4>
      <a:accent5>
        <a:srgbClr val="3163ca"/>
      </a:accent5>
      <a:accent6>
        <a:srgbClr val="4b14aa"/>
      </a:accent6>
      <a:hlink>
        <a:srgbClr val="d9be02"/>
      </a:hlink>
      <a:folHlink>
        <a:srgbClr val="f90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主题​​">
  <a:themeElements>
    <a:clrScheme name="凤舞九天">
      <a:dk1>
        <a:srgbClr val="000000"/>
      </a:dk1>
      <a:lt1>
        <a:srgbClr val="ffffff"/>
      </a:lt1>
      <a:dk2>
        <a:srgbClr val="004646"/>
      </a:dk2>
      <a:lt2>
        <a:srgbClr val="e1f0ff"/>
      </a:lt2>
      <a:accent1>
        <a:srgbClr val="50742f"/>
      </a:accent1>
      <a:accent2>
        <a:srgbClr val="268868"/>
      </a:accent2>
      <a:accent3>
        <a:srgbClr val="33bd56"/>
      </a:accent3>
      <a:accent4>
        <a:srgbClr val="4bc5b9"/>
      </a:accent4>
      <a:accent5>
        <a:srgbClr val="3163ca"/>
      </a:accent5>
      <a:accent6>
        <a:srgbClr val="4b14aa"/>
      </a:accent6>
      <a:hlink>
        <a:srgbClr val="d9be02"/>
      </a:hlink>
      <a:folHlink>
        <a:srgbClr val="f90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主题​​">
  <a:themeElements>
    <a:clrScheme name="凤舞九天">
      <a:dk1>
        <a:srgbClr val="000000"/>
      </a:dk1>
      <a:lt1>
        <a:srgbClr val="ffffff"/>
      </a:lt1>
      <a:dk2>
        <a:srgbClr val="004646"/>
      </a:dk2>
      <a:lt2>
        <a:srgbClr val="e1f0ff"/>
      </a:lt2>
      <a:accent1>
        <a:srgbClr val="50742f"/>
      </a:accent1>
      <a:accent2>
        <a:srgbClr val="268868"/>
      </a:accent2>
      <a:accent3>
        <a:srgbClr val="33bd56"/>
      </a:accent3>
      <a:accent4>
        <a:srgbClr val="4bc5b9"/>
      </a:accent4>
      <a:accent5>
        <a:srgbClr val="3163ca"/>
      </a:accent5>
      <a:accent6>
        <a:srgbClr val="4b14aa"/>
      </a:accent6>
      <a:hlink>
        <a:srgbClr val="d9be02"/>
      </a:hlink>
      <a:folHlink>
        <a:srgbClr val="f900f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  <Words>227</Words>
  <Paragraphs>31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2-07-04T14:36:16Z</dcterms:created>
  <dc:creator>果因PPT工作室;lenovo</dc:creator>
  <dc:description/>
  <cp:keywords>XS-普屏 4：3 SC-深青色 BG-浅色 DH-静态</cp:keywords>
  <dc:language>en-US</dc:language>
  <cp:lastModifiedBy>王玉清</cp:lastModifiedBy>
  <dcterms:modified xsi:type="dcterms:W3CDTF">2016-02-25T02:46:00Z</dcterms:modified>
  <cp:revision>18</cp:revision>
  <dc:subject>TP-商务公关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9</vt:r8>
  </property>
</Properties>
</file>