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9D97-43EE-44BB-AA3E-BCF0C832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F26D-D40A-42FE-B866-C998D772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9D9-8731-4360-BE52-03A893A8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2C3-F47A-4F2D-8F61-4D079388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820C-DAEB-4D69-B9CF-E46026DE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CCF9-C693-4BC7-849C-53B041D9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9A41-B0E8-4E6B-93B6-C0D8AFB1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B950-110A-4405-B1AA-BB96E073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7771-8B04-48CB-BFA5-D1D56176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9CE1-574C-4E6B-A6A7-77CD7DC3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7F92-AA41-40ED-AFEB-86CDA399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2C1-AAAD-40E4-9F64-0C03455C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35AA-E484-43CA-A5DD-46C76DD4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092E-2CAE-453A-A4B4-B1434A15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97E7-C780-43FB-9122-1EDD5EDA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C779-F2DD-4213-8215-40C5CC89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C241-96B1-457A-97F3-2958DCE9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6FC5-3A5E-494C-BA69-1FC3DE0D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819F-FD7A-4403-AEB3-4104BBA8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F1E6-B5AE-4429-B7A4-351E7E9C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77D-C65C-47ED-A9F6-DBAA6D43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E10-E87E-4EC1-8999-2052CAB2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DF8B-7A2F-4743-8165-81B017C7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989-C265-4977-AAF5-A47E8974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c06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4F891A-D1E3-4E2D-B8E6-E033A50330A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c06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c06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c06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c06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c06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c06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C58678-5420-483A-95C3-E668DAC9B37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4191120"/>
            <a:ext cx="7086240" cy="129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c0600"/>
                </a:solidFill>
                <a:latin typeface="Adobe Caslon Pro"/>
                <a:ea typeface="Adobe Heiti Std R"/>
              </a:rPr>
              <a:t>电视墙通用</a:t>
            </a:r>
            <a:r>
              <a:rPr b="0" lang="en-US" sz="4000" spc="-1" strike="noStrike">
                <a:solidFill>
                  <a:srgbClr val="0c0600"/>
                </a:solidFill>
                <a:latin typeface="Adobe Caslon Pro"/>
                <a:ea typeface="Adobe Heiti Std R"/>
              </a:rPr>
              <a:t>PPT</a:t>
            </a:r>
            <a:r>
              <a:rPr b="0" lang="zh-CN" sz="4000" spc="-1" strike="noStrike">
                <a:solidFill>
                  <a:srgbClr val="0c0600"/>
                </a:solidFill>
                <a:latin typeface="Adobe Caslon Pro"/>
                <a:ea typeface="Adobe Heiti Std R"/>
              </a:rPr>
              <a:t>模板免费下载</a:t>
            </a:r>
            <a:endParaRPr b="0" lang="en-US" sz="40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5943600"/>
            <a:ext cx="38858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dobe Caslon Pro"/>
                <a:ea typeface="Adobe Heiti Std R"/>
              </a:rPr>
              <a:t>Company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c06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c06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c06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33800" y="152280"/>
            <a:ext cx="58676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b0f0"/>
                </a:solidFill>
                <a:latin typeface="Adobe Heiti Std R"/>
                <a:ea typeface="Adobe Heiti Std R"/>
              </a:rPr>
              <a:t>Text Slide</a:t>
            </a:r>
            <a:endParaRPr b="0" lang="en-US" sz="3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116160" y="1295280"/>
            <a:ext cx="5867640" cy="51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46712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c0600"/>
                </a:solidFill>
                <a:latin typeface="Adobe Heiti Std R"/>
                <a:ea typeface="Adobe Heiti Std R"/>
              </a:rPr>
              <a:t>Print Slide</a:t>
            </a:r>
            <a:endParaRPr b="0" lang="en-US" sz="3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2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46712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c0600"/>
                </a:solidFill>
                <a:latin typeface="Adobe Caslon Pro"/>
              </a:rPr>
              <a:t>MyTemplatesShop</a:t>
            </a:r>
            <a:endParaRPr b="0" lang="en-US" sz="3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2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c0600"/>
                </a:solidFill>
                <a:latin typeface="Adobe Caslon Pro"/>
              </a:rPr>
              <a:t>Feel free to use this PowerPoint template and background for your personal use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c0600"/>
                </a:solidFill>
                <a:latin typeface="Adobe Caslon Pro"/>
              </a:rPr>
              <a:t>More templates, graphics and charts are available at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0035">
  <a:themeElements>
    <a:clrScheme name="Custom 111">
      <a:dk1>
        <a:srgbClr val="0c0600"/>
      </a:dk1>
      <a:lt1>
        <a:srgbClr val="ffffff"/>
      </a:lt1>
      <a:dk2>
        <a:srgbClr val="03b0b9"/>
      </a:dk2>
      <a:lt2>
        <a:srgbClr val="7bdefd"/>
      </a:lt2>
      <a:accent1>
        <a:srgbClr val="9cbcc4"/>
      </a:accent1>
      <a:accent2>
        <a:srgbClr val="dce9ec"/>
      </a:accent2>
      <a:accent3>
        <a:srgbClr val="9aa5a8"/>
      </a:accent3>
      <a:accent4>
        <a:srgbClr val="005658"/>
      </a:accent4>
      <a:accent5>
        <a:srgbClr val="14cece"/>
      </a:accent5>
      <a:accent6>
        <a:srgbClr val="ecf6f8"/>
      </a:accent6>
      <a:hlink>
        <a:srgbClr val="ff0000"/>
      </a:hlink>
      <a:folHlink>
        <a:srgbClr val="00515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0035">
  <a:themeElements>
    <a:clrScheme name="Custom 111">
      <a:dk1>
        <a:srgbClr val="0c0600"/>
      </a:dk1>
      <a:lt1>
        <a:srgbClr val="ffffff"/>
      </a:lt1>
      <a:dk2>
        <a:srgbClr val="03b0b9"/>
      </a:dk2>
      <a:lt2>
        <a:srgbClr val="7bdefd"/>
      </a:lt2>
      <a:accent1>
        <a:srgbClr val="9cbcc4"/>
      </a:accent1>
      <a:accent2>
        <a:srgbClr val="dce9ec"/>
      </a:accent2>
      <a:accent3>
        <a:srgbClr val="9aa5a8"/>
      </a:accent3>
      <a:accent4>
        <a:srgbClr val="005658"/>
      </a:accent4>
      <a:accent5>
        <a:srgbClr val="14cece"/>
      </a:accent5>
      <a:accent6>
        <a:srgbClr val="ecf6f8"/>
      </a:accent6>
      <a:hlink>
        <a:srgbClr val="ff0000"/>
      </a:hlink>
      <a:folHlink>
        <a:srgbClr val="00515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  <Words>122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5:17:16Z</dcterms:created>
  <dc:creator>Admin</dc:creator>
  <dc:description/>
  <dc:language>en-US</dc:language>
  <cp:lastModifiedBy>王玉清</cp:lastModifiedBy>
  <dcterms:modified xsi:type="dcterms:W3CDTF">2016-02-24T04:05:54Z</dcterms:modified>
  <cp:revision>2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