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hdphoto1.wdp" ContentType="image/vnd.ms-photo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0B5-38E6-4A7C-B065-63BAF02C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110-0275-4ACC-BACE-E6AFD5DC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06A8-D847-4C8E-B8DD-3937F910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1916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104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728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1916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104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0F14-7BEC-43B9-A101-09580CCB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5141-F9FD-446F-9B93-3EE513C2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D330-A21C-4B69-8822-BE5EFB0F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73A7-74DE-4568-A989-15BEDF1C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1692-4DC4-4D3D-975E-1E1FC319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4038-6C37-4775-8440-5F928753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87640" y="205920"/>
            <a:ext cx="749880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3E16-F171-440D-B25B-3049FE6C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619D-3622-4A81-81DE-1DD50BC2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7A7D-A9C2-4CDC-B1C6-8FBF8F60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BC65-C4BD-4EBB-9972-7C07678B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9DA7-076E-4A6E-962C-75DB81BC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F39F-88F4-4388-84B5-E07EB8F5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6CF0-F296-434F-B557-C2BFEC72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1916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104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728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1916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104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8886-AD3E-43C0-A160-672EF48D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1BDDE-56C7-4469-A9AC-8FDA9BF2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31DA3-15E4-45EE-8E2F-BF60CCB7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1568E-088B-47D6-8E45-8B89CFB7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73A5A-74A8-4771-ACC8-4B166702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F6BE0-2635-4730-9F3E-2ADE79B9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6AA-518E-47D9-BBC3-A6E5EF21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187640" y="205920"/>
            <a:ext cx="749880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AA9C1-74EF-4DD6-B971-75BE43B8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2080D-D7FC-461F-A184-FF1C78BC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8DB0D-F0CB-4F85-98C6-CD18583D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D3C9D-EE2B-4814-9278-59FB110D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174FB-539E-4C47-9E13-47782D9C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4FCA6-3796-4384-899A-C33411F8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71916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5104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18728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71916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25104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65B96-90D4-4477-9BC2-52E33466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1350E-29F7-435F-9F99-56DBFA8C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2D0A6-08BA-4DA9-AEF6-9DC7D6EB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95280-D4B0-441E-AF88-94136A4F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B5E-37E1-4D19-9E47-A3BA0278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4EF44-93F4-4611-B816-4EDCB662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50488-5B3E-41FC-8712-B4C7689E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187640" y="205920"/>
            <a:ext cx="749880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E5A5C-6988-4620-B6F3-94994107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E3ED9-219E-44D6-AB7F-0C08A920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DF281-3A4E-40A9-A76F-4C5AF024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5FBB5-B1EB-49AC-BF01-9C9603BF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2749B-8C50-4A3D-AC9C-76939E89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A8F25-8667-4DC4-A70A-C8863BF7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71916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5104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18728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71916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25104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69147-F94C-4D62-BF47-44646F55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1873A-A298-485E-BE20-FA590D2F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5B94-0AB3-4366-95E5-11C3CA2B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E932D-DBE6-4C7E-BD13-3AB8A112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DF95E-6EBA-4202-8E96-26AF00F9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C204B-B640-48DC-A0D5-D2DE5653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7C285-CB73-4BBB-BB7B-3F372F32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187640" y="205920"/>
            <a:ext cx="749880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A0222-1493-45E8-87A5-62D7AAD1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51A5B-18A2-4F51-A8F6-F19A5339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2D894-1E33-478A-BB57-A17FC049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EDDCD-600C-454E-99B7-7A8F51E7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97295-9CC4-4CE3-86FB-7F55353E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5514E-1987-49A8-9DC4-854DDE13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7640" y="205920"/>
            <a:ext cx="749880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05C-8F74-4F6E-96E2-9F20242B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71916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5104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18728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71916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5104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D9D7C-9200-4D50-9A2D-778462C8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97032-1EC7-492A-BDC1-634D6D4D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8E0E0-385F-425A-ABE2-36A95BFA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A8435-A47E-4CBB-945B-1875A763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784F8-38FC-49FB-B1EE-75561D46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7BCE3-E5DA-4F6D-948A-31C1B505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187640" y="205920"/>
            <a:ext cx="749880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44BA2-09A2-41C7-8C1C-8C55B7B3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47FE3-DC84-4BCC-83FE-F9A52180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4453A-95C8-4B9B-855A-F0507617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D8844-EC51-4BB8-B74E-F24D04DB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1BA5-41C3-4FFA-B9E0-BAA16F1C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F2D24-9E24-4AB5-BBF4-EF62CE22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6E818-03D7-4479-961D-C7E51570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71916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5104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18728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71916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25104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1E961-D0FC-4F79-9DD0-2537635B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692AF-9297-46BB-865E-44FD437A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54C22-1869-499F-84D2-78FD54FD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00C86-7708-4717-9011-4DB07FCA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B22D9-1171-4AC4-865E-A0B837D0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1BEE1-CD29-4F0A-8309-7AD0B469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187640" y="205920"/>
            <a:ext cx="749880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FD2D3-441B-4A33-9891-3132B4D9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B31BE-2EF2-4512-8F33-E9BDC0B4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1130-63D8-458F-902A-AE5CC317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240FE-DE48-4763-8A29-0EF8E325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18177-66B8-41FD-9D8C-CEF4BD52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AC29F-AE27-43F4-A025-2EEA8855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8D420-6C2E-4047-890D-C43E4D4F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71916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5104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18728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71916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25104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9C6C7-C9F7-4991-92B5-4F59D14C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1718B-5FB4-48C6-8F3F-6F524061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68DB7-BBFB-42D4-89EE-298CC669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14A1F-E94D-4F4E-A3AD-F3D868E0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12BE4-2449-409E-8067-7CD8C572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486B4-758C-4855-9054-3F0FE708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521-4D76-4B0B-972F-5DC311F6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187640" y="205920"/>
            <a:ext cx="749880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6EB4F-87D6-47FF-8388-B1CADAE2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ED8AD-5080-4983-AB6A-F8D857EF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35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12061-CC9F-4D09-8F27-A15727EA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7FBFA-C071-46EB-90A3-1F91EDF1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187280" y="2974320"/>
            <a:ext cx="7488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7D837-B2C4-404D-B334-F6D0AB27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24520" y="113184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18728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024520" y="2974320"/>
            <a:ext cx="365400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0D1A9-B704-41EC-ACD5-F1ECC887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71916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1040" y="113184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18728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71916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1040" y="2974320"/>
            <a:ext cx="2410920" cy="16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AB7B5-6EE3-49E4-97EE-6BCDD1E0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0" r="0" b="30131"/>
          <a:stretch/>
        </p:blipFill>
        <p:spPr>
          <a:xfrm>
            <a:off x="0" y="1549800"/>
            <a:ext cx="9143640" cy="359316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"/>
          <p:cNvPicPr/>
          <p:nvPr/>
        </p:nvPicPr>
        <p:blipFill>
          <a:blip r:embed="rId3"/>
          <a:srcRect l="0" t="0" r="0" b="85550"/>
          <a:stretch/>
        </p:blipFill>
        <p:spPr>
          <a:xfrm>
            <a:off x="2520" y="0"/>
            <a:ext cx="9143640" cy="2292480"/>
          </a:xfrm>
          <a:prstGeom prst="rect">
            <a:avLst/>
          </a:prstGeom>
          <a:ln w="0">
            <a:noFill/>
          </a:ln>
        </p:spPr>
      </p:pic>
      <p:sp>
        <p:nvSpPr>
          <p:cNvPr id="2" name="圆角矩形 8"/>
          <p:cNvSpPr/>
          <p:nvPr/>
        </p:nvSpPr>
        <p:spPr>
          <a:xfrm>
            <a:off x="290160" y="771480"/>
            <a:ext cx="8568720" cy="4176000"/>
          </a:xfrm>
          <a:prstGeom prst="roundRect">
            <a:avLst>
              <a:gd name="adj" fmla="val 4046"/>
            </a:avLst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0000">
                  <a:alpha val="80000"/>
                </a:srgbClr>
              </a:gs>
            </a:gsLst>
            <a:lin ang="16200000"/>
          </a:gradFill>
          <a:ln>
            <a:solidFill>
              <a:srgbClr val="f2f2f2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3" name="图片 6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4" name="矩形 7"/>
          <p:cNvSpPr/>
          <p:nvPr/>
        </p:nvSpPr>
        <p:spPr>
          <a:xfrm>
            <a:off x="0" y="3363840"/>
            <a:ext cx="9143640" cy="1779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5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cxnSp>
        <p:nvCxnSpPr>
          <p:cNvPr id="5" name="直接连接符 9"/>
          <p:cNvCxnSpPr/>
          <p:nvPr/>
        </p:nvCxnSpPr>
        <p:spPr>
          <a:xfrm>
            <a:off x="0" y="3795840"/>
            <a:ext cx="9144360" cy="360"/>
          </a:xfrm>
          <a:prstGeom prst="straightConnector1">
            <a:avLst/>
          </a:prstGeom>
          <a:ln w="38100">
            <a:solidFill>
              <a:srgbClr val="f2f2f2"/>
            </a:solidFill>
            <a:round/>
          </a:ln>
        </p:spPr>
      </p:cxnSp>
      <p:sp>
        <p:nvSpPr>
          <p:cNvPr id="6" name="矩形 15"/>
          <p:cNvSpPr/>
          <p:nvPr/>
        </p:nvSpPr>
        <p:spPr>
          <a:xfrm>
            <a:off x="647640" y="3844080"/>
            <a:ext cx="7848360" cy="752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bfbfb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colorTemperature colorTemp="7200"/>
                    </a14:imgEffect>
                  </a14:imgLayer>
                </a14:imgProps>
              </a:ext>
            </a:extLst>
          </a:blip>
          <a:srcRect l="0" t="49850" r="0" b="0"/>
          <a:stretch/>
        </p:blipFill>
        <p:spPr>
          <a:xfrm>
            <a:off x="944640" y="3867840"/>
            <a:ext cx="7254360" cy="306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795840"/>
            <a:ext cx="77720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cfb"/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93779D-585C-4845-9335-C4C3D37ACF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6" descr=""/>
          <p:cNvPicPr/>
          <p:nvPr/>
        </p:nvPicPr>
        <p:blipFill>
          <a:blip r:embed="rId2"/>
          <a:srcRect l="0" t="0" r="0" b="30131"/>
          <a:stretch/>
        </p:blipFill>
        <p:spPr>
          <a:xfrm>
            <a:off x="0" y="1549800"/>
            <a:ext cx="9143640" cy="35931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7" descr=""/>
          <p:cNvPicPr/>
          <p:nvPr/>
        </p:nvPicPr>
        <p:blipFill>
          <a:blip r:embed="rId3"/>
          <a:srcRect l="0" t="0" r="0" b="85550"/>
          <a:stretch/>
        </p:blipFill>
        <p:spPr>
          <a:xfrm>
            <a:off x="2520" y="0"/>
            <a:ext cx="9143640" cy="2292480"/>
          </a:xfrm>
          <a:prstGeom prst="rect">
            <a:avLst/>
          </a:prstGeom>
          <a:ln w="0">
            <a:noFill/>
          </a:ln>
        </p:spPr>
      </p:pic>
      <p:sp>
        <p:nvSpPr>
          <p:cNvPr id="51" name="圆角矩形 8"/>
          <p:cNvSpPr/>
          <p:nvPr/>
        </p:nvSpPr>
        <p:spPr>
          <a:xfrm>
            <a:off x="290160" y="771480"/>
            <a:ext cx="8568720" cy="4176000"/>
          </a:xfrm>
          <a:prstGeom prst="roundRect">
            <a:avLst>
              <a:gd name="adj" fmla="val 4046"/>
            </a:avLst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0000">
                  <a:alpha val="80000"/>
                </a:srgbClr>
              </a:gs>
            </a:gsLst>
            <a:lin ang="16200000"/>
          </a:gradFill>
          <a:ln>
            <a:solidFill>
              <a:srgbClr val="f2f2f2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cfb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单击此处编辑母版文本样式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第二级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•"/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第三级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Font typeface="Arial"/>
              <a:buChar char="–"/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第四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Font typeface="Arial"/>
              <a:buChar char="»"/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第五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B947D8-CED7-4210-9F7F-C8EAC704CF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6" descr=""/>
          <p:cNvPicPr/>
          <p:nvPr/>
        </p:nvPicPr>
        <p:blipFill>
          <a:blip r:embed="rId2"/>
          <a:srcRect l="0" t="0" r="0" b="30131"/>
          <a:stretch/>
        </p:blipFill>
        <p:spPr>
          <a:xfrm>
            <a:off x="0" y="1549800"/>
            <a:ext cx="9143640" cy="35931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7" descr=""/>
          <p:cNvPicPr/>
          <p:nvPr/>
        </p:nvPicPr>
        <p:blipFill>
          <a:blip r:embed="rId3"/>
          <a:srcRect l="0" t="0" r="0" b="85550"/>
          <a:stretch/>
        </p:blipFill>
        <p:spPr>
          <a:xfrm>
            <a:off x="2520" y="0"/>
            <a:ext cx="9143640" cy="2292480"/>
          </a:xfrm>
          <a:prstGeom prst="rect">
            <a:avLst/>
          </a:prstGeom>
          <a:ln w="0">
            <a:noFill/>
          </a:ln>
        </p:spPr>
      </p:pic>
      <p:sp>
        <p:nvSpPr>
          <p:cNvPr id="95" name="圆角矩形 8" hidden="1"/>
          <p:cNvSpPr/>
          <p:nvPr/>
        </p:nvSpPr>
        <p:spPr>
          <a:xfrm>
            <a:off x="290160" y="771480"/>
            <a:ext cx="8568720" cy="4176000"/>
          </a:xfrm>
          <a:prstGeom prst="roundRect">
            <a:avLst>
              <a:gd name="adj" fmla="val 4046"/>
            </a:avLst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0000">
                  <a:alpha val="80000"/>
                </a:srgbClr>
              </a:gs>
            </a:gsLst>
            <a:lin ang="16200000"/>
          </a:gradFill>
          <a:ln>
            <a:solidFill>
              <a:srgbClr val="f2f2f2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96" name="图片 5" descr=""/>
          <p:cNvPicPr/>
          <p:nvPr/>
        </p:nvPicPr>
        <p:blipFill>
          <a:blip r:embed="rId4"/>
          <a:srcRect l="0" t="0" r="0" b="30131"/>
          <a:stretch/>
        </p:blipFill>
        <p:spPr>
          <a:xfrm>
            <a:off x="0" y="1549800"/>
            <a:ext cx="9143640" cy="35931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6" descr=""/>
          <p:cNvPicPr/>
          <p:nvPr/>
        </p:nvPicPr>
        <p:blipFill>
          <a:blip r:embed="rId5"/>
          <a:srcRect l="0" t="0" r="0" b="85550"/>
          <a:stretch/>
        </p:blipFill>
        <p:spPr>
          <a:xfrm>
            <a:off x="2520" y="0"/>
            <a:ext cx="9143640" cy="2292480"/>
          </a:xfrm>
          <a:prstGeom prst="rect">
            <a:avLst/>
          </a:prstGeom>
          <a:ln w="0">
            <a:noFill/>
          </a:ln>
        </p:spPr>
      </p:pic>
      <p:sp>
        <p:nvSpPr>
          <p:cNvPr id="98" name="矩形 7"/>
          <p:cNvSpPr/>
          <p:nvPr/>
        </p:nvSpPr>
        <p:spPr>
          <a:xfrm>
            <a:off x="2520" y="0"/>
            <a:ext cx="9141120" cy="514332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90196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849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cfb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9FCA12-F8A9-49A4-A9AE-0C87F1900C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647640" y="866880"/>
            <a:ext cx="7848360" cy="62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bfbfb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6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colorTemperature colorTemp="7200"/>
                    </a14:imgEffect>
                  </a14:imgLayer>
                </a14:imgProps>
              </a:ext>
            </a:extLst>
          </a:blip>
          <a:srcRect l="0" t="49850" r="0" b="0"/>
          <a:stretch/>
        </p:blipFill>
        <p:spPr>
          <a:xfrm>
            <a:off x="944640" y="891000"/>
            <a:ext cx="7254360" cy="2552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68360" y="1019160"/>
            <a:ext cx="8206920" cy="36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7"/>
              </a:buBlip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单击此处编辑母版文本样式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第二级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•"/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第三级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Font typeface="Arial"/>
              <a:buChar char="–"/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第四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Font typeface="Arial"/>
              <a:buChar char="»"/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第五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6" descr=""/>
          <p:cNvPicPr/>
          <p:nvPr/>
        </p:nvPicPr>
        <p:blipFill>
          <a:blip r:embed="rId2"/>
          <a:srcRect l="0" t="0" r="0" b="30131"/>
          <a:stretch/>
        </p:blipFill>
        <p:spPr>
          <a:xfrm>
            <a:off x="0" y="1549800"/>
            <a:ext cx="9143640" cy="359316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7" descr=""/>
          <p:cNvPicPr/>
          <p:nvPr/>
        </p:nvPicPr>
        <p:blipFill>
          <a:blip r:embed="rId3"/>
          <a:srcRect l="0" t="0" r="0" b="85550"/>
          <a:stretch/>
        </p:blipFill>
        <p:spPr>
          <a:xfrm>
            <a:off x="2520" y="0"/>
            <a:ext cx="9143640" cy="2292480"/>
          </a:xfrm>
          <a:prstGeom prst="rect">
            <a:avLst/>
          </a:prstGeom>
          <a:ln w="0">
            <a:noFill/>
          </a:ln>
        </p:spPr>
      </p:pic>
      <p:sp>
        <p:nvSpPr>
          <p:cNvPr id="144" name="圆角矩形 8" hidden="1"/>
          <p:cNvSpPr/>
          <p:nvPr/>
        </p:nvSpPr>
        <p:spPr>
          <a:xfrm>
            <a:off x="290160" y="771480"/>
            <a:ext cx="8568720" cy="4176000"/>
          </a:xfrm>
          <a:prstGeom prst="roundRect">
            <a:avLst>
              <a:gd name="adj" fmla="val 4046"/>
            </a:avLst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0000">
                  <a:alpha val="80000"/>
                </a:srgbClr>
              </a:gs>
            </a:gsLst>
            <a:lin ang="16200000"/>
          </a:gradFill>
          <a:ln>
            <a:solidFill>
              <a:srgbClr val="f2f2f2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145" name="图片 6" descr=""/>
          <p:cNvPicPr/>
          <p:nvPr/>
        </p:nvPicPr>
        <p:blipFill>
          <a:blip r:embed="rId4"/>
          <a:srcRect l="38211" t="29035" r="18487" b="27666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46" name="矩形 7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solidFill>
            <a:srgbClr val="000000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147" name="图片 5" descr=""/>
          <p:cNvPicPr/>
          <p:nvPr/>
        </p:nvPicPr>
        <p:blipFill>
          <a:blip r:embed="rId5"/>
          <a:srcRect l="25765" t="0" r="65991" b="0"/>
          <a:stretch/>
        </p:blipFill>
        <p:spPr>
          <a:xfrm>
            <a:off x="179640" y="0"/>
            <a:ext cx="752760" cy="5143320"/>
          </a:xfrm>
          <a:prstGeom prst="rect">
            <a:avLst/>
          </a:prstGeom>
          <a:ln w="0">
            <a:noFill/>
          </a:ln>
          <a:effectLst>
            <a:innerShdw blurRad="63500" dir="10800000" dist="50800">
              <a:srgbClr val="000000">
                <a:alpha val="75000"/>
              </a:srgbClr>
            </a:innerShdw>
          </a:effectLst>
        </p:spPr>
      </p:pic>
      <p:cxnSp>
        <p:nvCxnSpPr>
          <p:cNvPr id="148" name="直接连接符 9"/>
          <p:cNvCxnSpPr/>
          <p:nvPr/>
        </p:nvCxnSpPr>
        <p:spPr>
          <a:xfrm>
            <a:off x="0" y="915480"/>
            <a:ext cx="8964720" cy="360"/>
          </a:xfrm>
          <a:prstGeom prst="straightConnector1">
            <a:avLst/>
          </a:prstGeom>
          <a:ln w="38100">
            <a:solidFill>
              <a:srgbClr val="ffdabf">
                <a:alpha val="50000"/>
              </a:srgbClr>
            </a:solidFill>
            <a:round/>
          </a:ln>
        </p:spPr>
      </p:cxn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2400" y="58320"/>
            <a:ext cx="77540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cfb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11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12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91B192-34AD-452B-AB99-C5449E965E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body"/>
          </p:nvPr>
        </p:nvSpPr>
        <p:spPr>
          <a:xfrm>
            <a:off x="932040" y="987480"/>
            <a:ext cx="7743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6"/>
              </a:buBlip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单击此处编辑母版文本样式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第二级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•"/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第三级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Font typeface="Arial"/>
              <a:buChar char="–"/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第四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Font typeface="Arial"/>
              <a:buChar char="»"/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第五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6" descr=""/>
          <p:cNvPicPr/>
          <p:nvPr/>
        </p:nvPicPr>
        <p:blipFill>
          <a:blip r:embed="rId2"/>
          <a:srcRect l="0" t="0" r="0" b="30131"/>
          <a:stretch/>
        </p:blipFill>
        <p:spPr>
          <a:xfrm>
            <a:off x="0" y="1549800"/>
            <a:ext cx="9143640" cy="359316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7" descr=""/>
          <p:cNvPicPr/>
          <p:nvPr/>
        </p:nvPicPr>
        <p:blipFill>
          <a:blip r:embed="rId3"/>
          <a:srcRect l="0" t="0" r="0" b="85550"/>
          <a:stretch/>
        </p:blipFill>
        <p:spPr>
          <a:xfrm>
            <a:off x="2520" y="0"/>
            <a:ext cx="9143640" cy="2292480"/>
          </a:xfrm>
          <a:prstGeom prst="rect">
            <a:avLst/>
          </a:prstGeom>
          <a:ln w="0">
            <a:noFill/>
          </a:ln>
        </p:spPr>
      </p:pic>
      <p:sp>
        <p:nvSpPr>
          <p:cNvPr id="192" name="圆角矩形 8" hidden="1"/>
          <p:cNvSpPr/>
          <p:nvPr/>
        </p:nvSpPr>
        <p:spPr>
          <a:xfrm>
            <a:off x="290160" y="771480"/>
            <a:ext cx="8568720" cy="4176000"/>
          </a:xfrm>
          <a:prstGeom prst="roundRect">
            <a:avLst>
              <a:gd name="adj" fmla="val 4046"/>
            </a:avLst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0000">
                  <a:alpha val="80000"/>
                </a:srgbClr>
              </a:gs>
            </a:gsLst>
            <a:lin ang="16200000"/>
          </a:gradFill>
          <a:ln>
            <a:solidFill>
              <a:srgbClr val="f2f2f2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193" name="图片 5" descr=""/>
          <p:cNvPicPr/>
          <p:nvPr/>
        </p:nvPicPr>
        <p:blipFill>
          <a:blip r:embed="rId4"/>
          <a:srcRect l="0" t="0" r="0" b="30131"/>
          <a:stretch/>
        </p:blipFill>
        <p:spPr>
          <a:xfrm>
            <a:off x="0" y="1549800"/>
            <a:ext cx="9143640" cy="359316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6" descr=""/>
          <p:cNvPicPr/>
          <p:nvPr/>
        </p:nvPicPr>
        <p:blipFill>
          <a:blip r:embed="rId5"/>
          <a:srcRect l="0" t="0" r="0" b="85550"/>
          <a:stretch/>
        </p:blipFill>
        <p:spPr>
          <a:xfrm>
            <a:off x="2520" y="0"/>
            <a:ext cx="9143640" cy="2292480"/>
          </a:xfrm>
          <a:prstGeom prst="rect">
            <a:avLst/>
          </a:prstGeom>
          <a:ln w="0">
            <a:noFill/>
          </a:ln>
        </p:spPr>
      </p:pic>
      <p:sp>
        <p:nvSpPr>
          <p:cNvPr id="195" name="矩形 7"/>
          <p:cNvSpPr/>
          <p:nvPr/>
        </p:nvSpPr>
        <p:spPr>
          <a:xfrm>
            <a:off x="2520" y="0"/>
            <a:ext cx="9141120" cy="5142960"/>
          </a:xfrm>
          <a:prstGeom prst="rect">
            <a:avLst/>
          </a:prstGeom>
          <a:gradFill rotWithShape="0">
            <a:gsLst>
              <a:gs pos="60000">
                <a:srgbClr val="000000"/>
              </a:gs>
              <a:gs pos="100000">
                <a:srgbClr val="000000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cfb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ftr" idx="14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5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152866-4E31-49A4-A992-2073D0EBAA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body"/>
          </p:nvPr>
        </p:nvSpPr>
        <p:spPr>
          <a:xfrm>
            <a:off x="468360" y="1146240"/>
            <a:ext cx="8206920" cy="35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6"/>
              </a:buBlip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单击此处编辑母版文本样式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第二级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•"/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第三级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Font typeface="Arial"/>
              <a:buChar char="–"/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第四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Font typeface="Arial"/>
              <a:buChar char="»"/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第五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6" descr=""/>
          <p:cNvPicPr/>
          <p:nvPr/>
        </p:nvPicPr>
        <p:blipFill>
          <a:blip r:embed="rId2"/>
          <a:srcRect l="0" t="0" r="0" b="30131"/>
          <a:stretch/>
        </p:blipFill>
        <p:spPr>
          <a:xfrm>
            <a:off x="0" y="1549800"/>
            <a:ext cx="9143640" cy="359316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7" descr=""/>
          <p:cNvPicPr/>
          <p:nvPr/>
        </p:nvPicPr>
        <p:blipFill>
          <a:blip r:embed="rId3"/>
          <a:srcRect l="0" t="0" r="0" b="85550"/>
          <a:stretch/>
        </p:blipFill>
        <p:spPr>
          <a:xfrm>
            <a:off x="2520" y="0"/>
            <a:ext cx="9143640" cy="2292480"/>
          </a:xfrm>
          <a:prstGeom prst="rect">
            <a:avLst/>
          </a:prstGeom>
          <a:ln w="0">
            <a:noFill/>
          </a:ln>
        </p:spPr>
      </p:pic>
      <p:sp>
        <p:nvSpPr>
          <p:cNvPr id="239" name="圆角矩形 8" hidden="1"/>
          <p:cNvSpPr/>
          <p:nvPr/>
        </p:nvSpPr>
        <p:spPr>
          <a:xfrm>
            <a:off x="290160" y="771480"/>
            <a:ext cx="8568720" cy="4176000"/>
          </a:xfrm>
          <a:prstGeom prst="roundRect">
            <a:avLst>
              <a:gd name="adj" fmla="val 4046"/>
            </a:avLst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0000">
                  <a:alpha val="80000"/>
                </a:srgbClr>
              </a:gs>
            </a:gsLst>
            <a:lin ang="16200000"/>
          </a:gradFill>
          <a:ln>
            <a:solidFill>
              <a:srgbClr val="f2f2f2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40" name="矩形 10"/>
          <p:cNvSpPr/>
          <p:nvPr/>
        </p:nvSpPr>
        <p:spPr>
          <a:xfrm>
            <a:off x="0" y="3593520"/>
            <a:ext cx="9143640" cy="1549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innerShdw blurRad="63500" dir="16200000" dist="50800">
              <a:schemeClr val="bg1">
                <a:alpha val="50000"/>
              </a:scheme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241" name="图片 5" descr=""/>
          <p:cNvPicPr/>
          <p:nvPr/>
        </p:nvPicPr>
        <p:blipFill>
          <a:blip r:embed="rId4"/>
          <a:srcRect l="0" t="0" r="0" b="30131"/>
          <a:stretch/>
        </p:blipFill>
        <p:spPr>
          <a:xfrm>
            <a:off x="0" y="0"/>
            <a:ext cx="9143640" cy="35931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6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cfb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6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7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8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033E00-52C6-4689-9A51-DD42B6D245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5"/>
          <a:srcRect l="1612" t="0" r="1631" b="0"/>
          <a:stretch/>
        </p:blipFill>
        <p:spPr>
          <a:xfrm>
            <a:off x="0" y="3489480"/>
            <a:ext cx="9143640" cy="2077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图片 6" descr=""/>
          <p:cNvPicPr/>
          <p:nvPr/>
        </p:nvPicPr>
        <p:blipFill>
          <a:blip r:embed="rId2"/>
          <a:srcRect l="0" t="0" r="0" b="30131"/>
          <a:stretch/>
        </p:blipFill>
        <p:spPr>
          <a:xfrm>
            <a:off x="0" y="1549800"/>
            <a:ext cx="9143640" cy="359316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7" descr=""/>
          <p:cNvPicPr/>
          <p:nvPr/>
        </p:nvPicPr>
        <p:blipFill>
          <a:blip r:embed="rId3"/>
          <a:srcRect l="0" t="0" r="0" b="85550"/>
          <a:stretch/>
        </p:blipFill>
        <p:spPr>
          <a:xfrm>
            <a:off x="2520" y="0"/>
            <a:ext cx="9143640" cy="2292480"/>
          </a:xfrm>
          <a:prstGeom prst="rect">
            <a:avLst/>
          </a:prstGeom>
          <a:ln w="0">
            <a:noFill/>
          </a:ln>
        </p:spPr>
      </p:pic>
      <p:sp>
        <p:nvSpPr>
          <p:cNvPr id="286" name="圆角矩形 8" hidden="1"/>
          <p:cNvSpPr/>
          <p:nvPr/>
        </p:nvSpPr>
        <p:spPr>
          <a:xfrm>
            <a:off x="290160" y="771480"/>
            <a:ext cx="8568720" cy="4176000"/>
          </a:xfrm>
          <a:prstGeom prst="roundRect">
            <a:avLst>
              <a:gd name="adj" fmla="val 4046"/>
            </a:avLst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0000">
                  <a:alpha val="80000"/>
                </a:srgbClr>
              </a:gs>
            </a:gsLst>
            <a:lin ang="16200000"/>
          </a:gradFill>
          <a:ln>
            <a:solidFill>
              <a:srgbClr val="f2f2f2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287" name="图片 5" descr=""/>
          <p:cNvPicPr/>
          <p:nvPr/>
        </p:nvPicPr>
        <p:blipFill>
          <a:blip r:embed="rId4"/>
          <a:srcRect l="0" t="34931" r="0" b="49994"/>
          <a:stretch/>
        </p:blipFill>
        <p:spPr>
          <a:xfrm>
            <a:off x="0" y="0"/>
            <a:ext cx="9143640" cy="7747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9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20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21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7E708F-9BDE-42E2-926F-CE873BFE4A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矩形 6"/>
          <p:cNvSpPr/>
          <p:nvPr/>
        </p:nvSpPr>
        <p:spPr>
          <a:xfrm>
            <a:off x="0" y="0"/>
            <a:ext cx="9143640" cy="774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70196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cfb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5"/>
          <a:srcRect l="1612" t="0" r="1631" b="0"/>
          <a:stretch/>
        </p:blipFill>
        <p:spPr>
          <a:xfrm>
            <a:off x="0" y="671040"/>
            <a:ext cx="9143640" cy="2077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5"/>
          <p:cNvSpPr>
            <a:spLocks noGrp="1"/>
          </p:cNvSpPr>
          <p:nvPr>
            <p:ph type="body"/>
          </p:nvPr>
        </p:nvSpPr>
        <p:spPr>
          <a:xfrm>
            <a:off x="468360" y="879480"/>
            <a:ext cx="8206920" cy="37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6"/>
              </a:buBlip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–"/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»"/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图片 6" descr=""/>
          <p:cNvPicPr/>
          <p:nvPr/>
        </p:nvPicPr>
        <p:blipFill>
          <a:blip r:embed="rId2"/>
          <a:srcRect l="0" t="0" r="0" b="30131"/>
          <a:stretch/>
        </p:blipFill>
        <p:spPr>
          <a:xfrm>
            <a:off x="0" y="1549800"/>
            <a:ext cx="9143640" cy="359316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7" descr=""/>
          <p:cNvPicPr/>
          <p:nvPr/>
        </p:nvPicPr>
        <p:blipFill>
          <a:blip r:embed="rId3"/>
          <a:srcRect l="0" t="0" r="0" b="85550"/>
          <a:stretch/>
        </p:blipFill>
        <p:spPr>
          <a:xfrm>
            <a:off x="2520" y="0"/>
            <a:ext cx="9143640" cy="2292480"/>
          </a:xfrm>
          <a:prstGeom prst="rect">
            <a:avLst/>
          </a:prstGeom>
          <a:ln w="0">
            <a:noFill/>
          </a:ln>
        </p:spPr>
      </p:pic>
      <p:sp>
        <p:nvSpPr>
          <p:cNvPr id="333" name="圆角矩形 8" hidden="1"/>
          <p:cNvSpPr/>
          <p:nvPr/>
        </p:nvSpPr>
        <p:spPr>
          <a:xfrm>
            <a:off x="290160" y="771480"/>
            <a:ext cx="8568720" cy="4176000"/>
          </a:xfrm>
          <a:prstGeom prst="roundRect">
            <a:avLst>
              <a:gd name="adj" fmla="val 4046"/>
            </a:avLst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0000">
                  <a:alpha val="80000"/>
                </a:srgbClr>
              </a:gs>
            </a:gsLst>
            <a:lin ang="16200000"/>
          </a:gradFill>
          <a:ln>
            <a:solidFill>
              <a:srgbClr val="f2f2f2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dt" idx="22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ftr" idx="23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4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D7D58D-6044-40B3-98B1-28A3578597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图片 5" descr=""/>
          <p:cNvPicPr/>
          <p:nvPr/>
        </p:nvPicPr>
        <p:blipFill>
          <a:blip r:embed="rId4"/>
          <a:srcRect l="80290" t="0" r="9848" b="30131"/>
          <a:stretch/>
        </p:blipFill>
        <p:spPr>
          <a:xfrm>
            <a:off x="0" y="1549800"/>
            <a:ext cx="900360" cy="3593160"/>
          </a:xfrm>
          <a:prstGeom prst="rect">
            <a:avLst/>
          </a:prstGeom>
          <a:ln w="0">
            <a:noFill/>
          </a:ln>
        </p:spPr>
      </p:pic>
      <p:sp>
        <p:nvSpPr>
          <p:cNvPr id="339" name="矩形 6"/>
          <p:cNvSpPr/>
          <p:nvPr/>
        </p:nvSpPr>
        <p:spPr>
          <a:xfrm>
            <a:off x="0" y="0"/>
            <a:ext cx="886680" cy="5143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ecdf">
                  <a:alpha val="0"/>
                </a:srgbClr>
              </a:gs>
            </a:gsLst>
            <a:lin ang="5400000"/>
          </a:gradFill>
          <a:ln>
            <a:noFill/>
          </a:ln>
          <a:effectLst>
            <a:innerShdw blurRad="635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5"/>
          <a:srcRect l="43969" t="0" r="1631" b="0"/>
          <a:stretch/>
        </p:blipFill>
        <p:spPr>
          <a:xfrm rot="16200000">
            <a:off x="-1683360" y="2469240"/>
            <a:ext cx="5140800" cy="2077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6"/>
              </a:buBlip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–"/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»"/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795840"/>
            <a:ext cx="77720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cfb"/>
                </a:solidFill>
                <a:latin typeface="Impact"/>
              </a:rPr>
              <a:t>都市夜光通用</a:t>
            </a:r>
            <a:r>
              <a:rPr b="1" lang="en-US" sz="4000" spc="-1" strike="noStrike">
                <a:solidFill>
                  <a:srgbClr val="fffcfb"/>
                </a:solidFill>
                <a:latin typeface="Impact"/>
              </a:rPr>
              <a:t>PPT</a:t>
            </a:r>
            <a:r>
              <a:rPr b="1" lang="zh-CN" sz="4000" spc="-1" strike="noStrike">
                <a:solidFill>
                  <a:srgbClr val="fffcfb"/>
                </a:solidFill>
                <a:latin typeface="Impact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4608360"/>
            <a:ext cx="640044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矩形 12"/>
          <p:cNvSpPr/>
          <p:nvPr/>
        </p:nvSpPr>
        <p:spPr>
          <a:xfrm>
            <a:off x="209160" y="48715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cfb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35480"/>
            <a:ext cx="8229240" cy="295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849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cfb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360" y="1019160"/>
            <a:ext cx="8206920" cy="36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"/>
              </a:buBlip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3"/>
              </a:buBlip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32400" y="58320"/>
            <a:ext cx="77540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cfb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32040" y="987480"/>
            <a:ext cx="7743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"/>
              </a:buBlip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3"/>
              </a:buBlip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3200" spc="-1" strike="noStrike">
              <a:solidFill>
                <a:srgbClr val="fffcfb"/>
              </a:solidFill>
              <a:latin typeface="Impact"/>
            </a:endParaRPr>
          </a:p>
        </p:txBody>
      </p:sp>
      <p:sp>
        <p:nvSpPr>
          <p:cNvPr id="388" name="圆角矩形 1"/>
          <p:cNvSpPr/>
          <p:nvPr/>
        </p:nvSpPr>
        <p:spPr>
          <a:xfrm>
            <a:off x="1121400" y="843480"/>
            <a:ext cx="1007640" cy="35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ebebe"/>
              </a:gs>
              <a:gs pos="100000">
                <a:srgbClr val="f7f7f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dk1"/>
          </a:lnRef>
          <a:fillRef idx="3">
            <a:schemeClr val="dk1"/>
          </a:fillRef>
          <a:effectRef idx="3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89" name="圆角矩形 4"/>
          <p:cNvSpPr/>
          <p:nvPr/>
        </p:nvSpPr>
        <p:spPr>
          <a:xfrm>
            <a:off x="1113480" y="1389600"/>
            <a:ext cx="1007640" cy="35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7c0c"/>
              </a:gs>
              <a:gs pos="100000">
                <a:srgbClr val="ffa015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90" name="圆角矩形 5"/>
          <p:cNvSpPr/>
          <p:nvPr/>
        </p:nvSpPr>
        <p:spPr>
          <a:xfrm>
            <a:off x="1109520" y="1896480"/>
            <a:ext cx="1007640" cy="35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54530"/>
              </a:gs>
              <a:gs pos="100000">
                <a:srgbClr val="ac5a3e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91" name="圆角矩形 6"/>
          <p:cNvSpPr/>
          <p:nvPr/>
        </p:nvSpPr>
        <p:spPr>
          <a:xfrm>
            <a:off x="1121400" y="2391840"/>
            <a:ext cx="1007640" cy="35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6359"/>
              </a:gs>
              <a:gs pos="100000">
                <a:srgbClr val="b78174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92" name="圆角矩形 7"/>
          <p:cNvSpPr/>
          <p:nvPr/>
        </p:nvSpPr>
        <p:spPr>
          <a:xfrm>
            <a:off x="1121400" y="3939840"/>
            <a:ext cx="1007640" cy="35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1570d"/>
              </a:gs>
              <a:gs pos="100000">
                <a:srgbClr val="d1711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93" name="圆角矩形 8"/>
          <p:cNvSpPr/>
          <p:nvPr/>
        </p:nvSpPr>
        <p:spPr>
          <a:xfrm>
            <a:off x="1121400" y="3435840"/>
            <a:ext cx="1007640" cy="35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d7151"/>
              </a:gs>
              <a:gs pos="100000">
                <a:srgbClr val="a1936a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94" name="圆角矩形 9"/>
          <p:cNvSpPr/>
          <p:nvPr/>
        </p:nvSpPr>
        <p:spPr>
          <a:xfrm>
            <a:off x="1121400" y="2931840"/>
            <a:ext cx="1007640" cy="35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7147"/>
              </a:gs>
              <a:gs pos="100000">
                <a:srgbClr val="c8935d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2627640" y="846360"/>
            <a:ext cx="5688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本模板使用的配色为系统自带的“跋涉”主题，与背景图片中的都市夜景相配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图表和形状的绘制可以更多的采用三维效果，增强与背景的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539640" y="480852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ad1f1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6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cfb"/>
                </a:solidFill>
                <a:latin typeface="Impact"/>
              </a:rPr>
              <a:t>都市夜光模板（标准版式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cfb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360" y="879480"/>
            <a:ext cx="8206920" cy="37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"/>
              </a:buBlip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3"/>
              </a:buBlip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87640" y="205920"/>
            <a:ext cx="749880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7280" y="1131840"/>
            <a:ext cx="7488000" cy="35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"/>
              </a:buBlip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本页的标题可置于页面上方并使用横向文字，也可以改为亮色置于左边黑色标题带内使用纵向文字。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自定义 6">
      <a:dk1>
        <a:srgbClr val="ffffff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自定义 6">
      <a:dk1>
        <a:srgbClr val="ffffff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自定义 6">
      <a:dk1>
        <a:srgbClr val="ffffff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​​">
  <a:themeElements>
    <a:clrScheme name="自定义 6">
      <a:dk1>
        <a:srgbClr val="ffffff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​​">
  <a:themeElements>
    <a:clrScheme name="自定义 6">
      <a:dk1>
        <a:srgbClr val="ffffff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​​">
  <a:themeElements>
    <a:clrScheme name="自定义 6">
      <a:dk1>
        <a:srgbClr val="ffffff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主题​​">
  <a:themeElements>
    <a:clrScheme name="自定义 6">
      <a:dk1>
        <a:srgbClr val="ffffff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主题​​">
  <a:themeElements>
    <a:clrScheme name="自定义 6">
      <a:dk1>
        <a:srgbClr val="ffffff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  <Words>145</Words>
  <Paragraphs>23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2-06-27T07:36:29Z</dcterms:created>
  <dc:creator>果因PPT工作室</dc:creator>
  <dc:description/>
  <cp:keywords>XS-普屏 4：3 SC-多彩色 BG-浅色 DH-静态</cp:keywords>
  <dc:language>en-US</dc:language>
  <cp:lastModifiedBy>王玉清</cp:lastModifiedBy>
  <dcterms:modified xsi:type="dcterms:W3CDTF">2016-02-24T04:00:56Z</dcterms:modified>
  <cp:revision>22</cp:revision>
  <dc:subject>TP-地产物业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8</vt:r8>
  </property>
</Properties>
</file>