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8C78-7CC8-4FFA-BD09-FEF9E47F2A1C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9A6F-5B90-4577-9FEA-D465304750D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0E4517-DB34-4636-BB7B-E0DC8AA0104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B1AE-A2ED-4618-86A4-4E5E0225CB8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22032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22032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29FA1FF3-A747-4312-ABBE-9BA41BBC098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3640" y="116028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63640" y="2195640"/>
            <a:ext cx="751032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-187200" y="299556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底纹灰色质感简约商务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王玉清</cp:lastModifiedBy>
  <dcterms:modified xsi:type="dcterms:W3CDTF">2016-03-02T10:31:29Z</dcterms:modified>
  <cp:revision>75</cp:revision>
  <dc:subject/>
  <dc:title>PowerPoint Template</dc:title>
</cp:coreProperties>
</file>