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75E75D-DBA1-46C2-B0F7-9205817CE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有感觉吧：原创图片，文字很有层次感，色调比较协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蓝色背景、橙色强调、白色为辅助，文字和图形构成一个整体，是靠颜色和那个线条来实现的，同时文字靠近图案对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大家注意那些半透明的圆了吗？那就是为了让画面丰富加的纹理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70C474-033E-4726-864D-CA9261B203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C50-77D1-4BA5-995B-79BDF8E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FB1-26D2-4C6B-B7A9-7266512F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526-AF20-4005-958D-149D8A83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6BA-805C-4890-9A0B-E49A66BB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619-657D-400E-9262-FCAC32C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6B3-E704-4C3E-9FE9-09EEAC5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EC4-3DC7-47A5-ABBF-2232CBF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136-E50B-492F-8835-90BC0FB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0CA-309B-4D62-8754-D954C11C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FCB-6C89-4043-ADD7-337AB94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3AF-0039-46E3-87D9-6F2834B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545-E342-44F9-BBBA-3EC16B2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87B67-3AF0-4E1B-96EA-B195A1FF70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36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ic-hzrb.hangzhou.com.cn/0/10/77/73/10777357_637346.jpg"/>
          <p:cNvPicPr/>
          <p:nvPr/>
        </p:nvPicPr>
        <p:blipFill>
          <a:blip r:embed="rId1"/>
          <a:stretch/>
        </p:blipFill>
        <p:spPr>
          <a:xfrm>
            <a:off x="-3599280" y="685800"/>
            <a:ext cx="8882280" cy="6164280"/>
          </a:xfrm>
          <a:prstGeom prst="rect">
            <a:avLst/>
          </a:prstGeom>
          <a:ln w="60325">
            <a:noFill/>
          </a:ln>
        </p:spPr>
      </p:pic>
      <p:pic>
        <p:nvPicPr>
          <p:cNvPr id="46" name="图片 1" descr="QQ图片20140721000323"/>
          <p:cNvPicPr/>
          <p:nvPr/>
        </p:nvPicPr>
        <p:blipFill>
          <a:blip r:embed="rId2"/>
          <a:stretch/>
        </p:blipFill>
        <p:spPr>
          <a:xfrm>
            <a:off x="715320" y="736812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弧形 1041"/>
          <p:cNvSpPr/>
          <p:nvPr/>
        </p:nvSpPr>
        <p:spPr>
          <a:xfrm>
            <a:off x="2448720" y="3412800"/>
            <a:ext cx="9175680" cy="4422960"/>
          </a:xfrm>
          <a:prstGeom prst="arc">
            <a:avLst>
              <a:gd name="adj1" fmla="val 13333695"/>
              <a:gd name="adj2" fmla="val 21122709"/>
            </a:avLst>
          </a:prstGeom>
          <a:noFill/>
          <a:ln w="34925">
            <a:solidFill>
              <a:srgbClr val="ffcb16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9"/>
          <p:cNvGrpSpPr/>
          <p:nvPr/>
        </p:nvGrpSpPr>
        <p:grpSpPr>
          <a:xfrm>
            <a:off x="0" y="0"/>
            <a:ext cx="12218400" cy="7835760"/>
            <a:chOff x="0" y="0"/>
            <a:chExt cx="12218400" cy="7835760"/>
          </a:xfrm>
        </p:grpSpPr>
        <p:sp>
          <p:nvSpPr>
            <p:cNvPr id="49" name="任意多边形 12"/>
            <p:cNvSpPr/>
            <p:nvPr/>
          </p:nvSpPr>
          <p:spPr>
            <a:xfrm>
              <a:off x="9690120" y="444600"/>
              <a:ext cx="998280" cy="115668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156680"/>
                <a:gd name="textAreaBottom" fmla="*/ 1157040 h 1156680"/>
              </a:gdLst>
              <a:ahLst/>
              <a:rect l="textAreaLeft" t="textAreaTop" r="textAreaRight" b="textAreaBottom"/>
              <a:pathLst>
                <a:path w="748964" h="867802">
                  <a:moveTo>
                    <a:pt x="374482" y="0"/>
                  </a:moveTo>
                  <a:cubicBezTo>
                    <a:pt x="581303" y="0"/>
                    <a:pt x="748964" y="167661"/>
                    <a:pt x="748964" y="374482"/>
                  </a:cubicBezTo>
                  <a:cubicBezTo>
                    <a:pt x="748964" y="581303"/>
                    <a:pt x="581303" y="748964"/>
                    <a:pt x="374482" y="748964"/>
                  </a:cubicBezTo>
                  <a:lnTo>
                    <a:pt x="305228" y="741983"/>
                  </a:lnTo>
                  <a:lnTo>
                    <a:pt x="111934" y="867802"/>
                  </a:lnTo>
                  <a:lnTo>
                    <a:pt x="97989" y="625107"/>
                  </a:lnTo>
                  <a:lnTo>
                    <a:pt x="63956" y="583859"/>
                  </a:lnTo>
                  <a:cubicBezTo>
                    <a:pt x="23578" y="524091"/>
                    <a:pt x="0" y="452040"/>
                    <a:pt x="0" y="374482"/>
                  </a:cubicBezTo>
                  <a:cubicBezTo>
                    <a:pt x="0" y="167661"/>
                    <a:pt x="167661" y="0"/>
                    <a:pt x="374482" y="0"/>
                  </a:cubicBezTo>
                  <a:close/>
                </a:path>
              </a:pathLst>
            </a:custGeom>
            <a:solidFill>
              <a:srgbClr val="4c3293">
                <a:alpha val="9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矩形 2"/>
            <p:cNvSpPr/>
            <p:nvPr/>
          </p:nvSpPr>
          <p:spPr>
            <a:xfrm>
              <a:off x="26640" y="0"/>
              <a:ext cx="12191760" cy="888480"/>
            </a:xfrm>
            <a:prstGeom prst="rect">
              <a:avLst/>
            </a:prstGeom>
            <a:solidFill>
              <a:srgbClr val="211346">
                <a:alpha val="7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等腰三角形 4"/>
            <p:cNvSpPr/>
            <p:nvPr/>
          </p:nvSpPr>
          <p:spPr>
            <a:xfrm>
              <a:off x="2520" y="0"/>
              <a:ext cx="10691640" cy="6857640"/>
            </a:xfrm>
            <a:custGeom>
              <a:avLst/>
              <a:gdLst>
                <a:gd name="textAreaLeft" fmla="*/ 0 w 10691640"/>
                <a:gd name="textAreaRight" fmla="*/ 10692000 w 1069164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8019047" h="5143500">
                  <a:moveTo>
                    <a:pt x="18047" y="5143500"/>
                  </a:moveTo>
                  <a:cubicBezTo>
                    <a:pt x="12031" y="3429000"/>
                    <a:pt x="6016" y="1714500"/>
                    <a:pt x="0" y="0"/>
                  </a:cubicBezTo>
                  <a:lnTo>
                    <a:pt x="8019047" y="5143500"/>
                  </a:lnTo>
                  <a:lnTo>
                    <a:pt x="18047" y="5143500"/>
                  </a:lnTo>
                  <a:close/>
                </a:path>
              </a:pathLst>
            </a:custGeom>
            <a:solidFill>
              <a:srgbClr val="331c6e">
                <a:alpha val="4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任意多边形 15"/>
            <p:cNvSpPr/>
            <p:nvPr/>
          </p:nvSpPr>
          <p:spPr>
            <a:xfrm>
              <a:off x="221400" y="5571720"/>
              <a:ext cx="1614960" cy="886320"/>
            </a:xfrm>
            <a:custGeom>
              <a:avLst/>
              <a:gdLst>
                <a:gd name="textAreaLeft" fmla="*/ 0 w 1614960"/>
                <a:gd name="textAreaRight" fmla="*/ 1615320 w 161496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748964" h="867802">
                  <a:moveTo>
                    <a:pt x="374482" y="0"/>
                  </a:moveTo>
                  <a:cubicBezTo>
                    <a:pt x="581303" y="0"/>
                    <a:pt x="748964" y="167661"/>
                    <a:pt x="748964" y="374482"/>
                  </a:cubicBezTo>
                  <a:cubicBezTo>
                    <a:pt x="748964" y="581303"/>
                    <a:pt x="581303" y="748964"/>
                    <a:pt x="374482" y="748964"/>
                  </a:cubicBezTo>
                  <a:lnTo>
                    <a:pt x="305228" y="741983"/>
                  </a:lnTo>
                  <a:lnTo>
                    <a:pt x="111934" y="867802"/>
                  </a:lnTo>
                  <a:lnTo>
                    <a:pt x="97989" y="625107"/>
                  </a:lnTo>
                  <a:lnTo>
                    <a:pt x="63956" y="583859"/>
                  </a:lnTo>
                  <a:cubicBezTo>
                    <a:pt x="23578" y="524091"/>
                    <a:pt x="0" y="452040"/>
                    <a:pt x="0" y="374482"/>
                  </a:cubicBezTo>
                  <a:cubicBezTo>
                    <a:pt x="0" y="167661"/>
                    <a:pt x="167661" y="0"/>
                    <a:pt x="374482" y="0"/>
                  </a:cubicBezTo>
                  <a:close/>
                </a:path>
              </a:pathLst>
            </a:custGeom>
            <a:solidFill>
              <a:srgbClr val="594689">
                <a:alpha val="7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矩形 3"/>
            <p:cNvSpPr/>
            <p:nvPr/>
          </p:nvSpPr>
          <p:spPr>
            <a:xfrm>
              <a:off x="0" y="5765760"/>
              <a:ext cx="12191760" cy="1091880"/>
            </a:xfrm>
            <a:prstGeom prst="rect">
              <a:avLst/>
            </a:prstGeom>
            <a:solidFill>
              <a:srgbClr val="271454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" name="椭圆 7"/>
            <p:cNvSpPr/>
            <p:nvPr/>
          </p:nvSpPr>
          <p:spPr>
            <a:xfrm>
              <a:off x="5513040" y="5765760"/>
              <a:ext cx="692280" cy="692280"/>
            </a:xfrm>
            <a:prstGeom prst="ellipse">
              <a:avLst/>
            </a:prstGeom>
            <a:solidFill>
              <a:srgbClr val="402b7a">
                <a:alpha val="9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椭圆 5"/>
            <p:cNvSpPr/>
            <p:nvPr/>
          </p:nvSpPr>
          <p:spPr>
            <a:xfrm>
              <a:off x="5513040" y="862200"/>
              <a:ext cx="331200" cy="331200"/>
            </a:xfrm>
            <a:prstGeom prst="ellipse">
              <a:avLst/>
            </a:prstGeom>
            <a:solidFill>
              <a:srgbClr val="4c3293">
                <a:alpha val="9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" name="椭圆 6"/>
            <p:cNvSpPr/>
            <p:nvPr/>
          </p:nvSpPr>
          <p:spPr>
            <a:xfrm>
              <a:off x="10071720" y="4134960"/>
              <a:ext cx="590400" cy="590400"/>
            </a:xfrm>
            <a:prstGeom prst="ellipse">
              <a:avLst/>
            </a:prstGeom>
            <a:solidFill>
              <a:srgbClr val="4c3293">
                <a:alpha val="9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椭圆 8"/>
            <p:cNvSpPr/>
            <p:nvPr/>
          </p:nvSpPr>
          <p:spPr>
            <a:xfrm>
              <a:off x="7443360" y="3319920"/>
              <a:ext cx="515160" cy="515160"/>
            </a:xfrm>
            <a:prstGeom prst="ellipse">
              <a:avLst/>
            </a:prstGeom>
            <a:solidFill>
              <a:srgbClr val="4c3293">
                <a:alpha val="9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等腰三角形 10"/>
            <p:cNvSpPr/>
            <p:nvPr/>
          </p:nvSpPr>
          <p:spPr>
            <a:xfrm rot="20767200">
              <a:off x="9316440" y="2126160"/>
              <a:ext cx="741240" cy="575640"/>
            </a:xfrm>
            <a:prstGeom prst="triangle">
              <a:avLst>
                <a:gd name="adj" fmla="val 50000"/>
              </a:avLst>
            </a:prstGeom>
            <a:solidFill>
              <a:srgbClr val="3a1f80">
                <a:alpha val="8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等腰三角形 13"/>
            <p:cNvSpPr/>
            <p:nvPr/>
          </p:nvSpPr>
          <p:spPr>
            <a:xfrm rot="20767200">
              <a:off x="3392280" y="5172840"/>
              <a:ext cx="741240" cy="57564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矩形 14"/>
            <p:cNvSpPr/>
            <p:nvPr/>
          </p:nvSpPr>
          <p:spPr>
            <a:xfrm rot="1175400">
              <a:off x="4458600" y="1628280"/>
              <a:ext cx="507600" cy="661680"/>
            </a:xfrm>
            <a:prstGeom prst="rect">
              <a:avLst/>
            </a:prstGeom>
            <a:solidFill>
              <a:srgbClr val="594689">
                <a:alpha val="7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" name="组合 18"/>
            <p:cNvGrpSpPr/>
            <p:nvPr/>
          </p:nvGrpSpPr>
          <p:grpSpPr>
            <a:xfrm>
              <a:off x="5979600" y="873720"/>
              <a:ext cx="3845160" cy="988560"/>
              <a:chOff x="5979600" y="873720"/>
              <a:chExt cx="3845160" cy="988560"/>
            </a:xfrm>
          </p:grpSpPr>
          <p:sp>
            <p:nvSpPr>
              <p:cNvPr id="62" name="文本框 16"/>
              <p:cNvSpPr/>
              <p:nvPr/>
            </p:nvSpPr>
            <p:spPr>
              <a:xfrm>
                <a:off x="5979600" y="879120"/>
                <a:ext cx="3845160" cy="9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270" spc="-1" strike="noStrike">
                    <a:solidFill>
                      <a:srgbClr val="ffcb16"/>
                    </a:solidFill>
                    <a:latin typeface="Estrangelo Edessa"/>
                  </a:rPr>
                  <a:t>FI</a:t>
                </a:r>
                <a:r>
                  <a:rPr b="0" lang="en-US" sz="5860" spc="-1" strike="noStrike">
                    <a:solidFill>
                      <a:srgbClr val="ffcb16"/>
                    </a:solidFill>
                    <a:latin typeface="Estrangelo Edessa"/>
                  </a:rPr>
                  <a:t>x</a:t>
                </a:r>
                <a:r>
                  <a:rPr b="0" lang="en-US" sz="4270" spc="-1" strike="noStrike">
                    <a:solidFill>
                      <a:srgbClr val="ffcb16"/>
                    </a:solidFill>
                    <a:latin typeface="Estrangelo Edessa"/>
                  </a:rPr>
                  <a:t>  </a:t>
                </a:r>
                <a:r>
                  <a:rPr b="0" lang="en-US" sz="5330" spc="-1" strike="noStrike">
                    <a:solidFill>
                      <a:srgbClr val="ffcb16"/>
                    </a:solidFill>
                    <a:latin typeface="Estrangelo Edessa"/>
                  </a:rPr>
                  <a:t>  </a:t>
                </a:r>
                <a:r>
                  <a:rPr b="0" lang="en-US" sz="4270" spc="-1" strike="noStrike">
                    <a:solidFill>
                      <a:srgbClr val="ffcb16"/>
                    </a:solidFill>
                    <a:latin typeface="Estrangelo Edessa"/>
                  </a:rPr>
                  <a:t>OUR</a:t>
                </a:r>
                <a:endParaRPr b="0" lang="en-US" sz="427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矩形 17"/>
              <p:cNvSpPr/>
              <p:nvPr/>
            </p:nvSpPr>
            <p:spPr>
              <a:xfrm>
                <a:off x="6891480" y="873720"/>
                <a:ext cx="4906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800" spc="-1" strike="noStrike">
                    <a:solidFill>
                      <a:srgbClr val="ffcb16"/>
                    </a:solidFill>
                    <a:latin typeface="Estrangelo Edessa"/>
                  </a:rPr>
                  <a:t>y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文本框 19"/>
            <p:cNvSpPr/>
            <p:nvPr/>
          </p:nvSpPr>
          <p:spPr>
            <a:xfrm>
              <a:off x="5919480" y="1600200"/>
              <a:ext cx="45396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fffe"/>
                  </a:solidFill>
                  <a:latin typeface="Estrangelo Edessa"/>
                  <a:ea typeface="DFPLiJinHeiW8-GB5"/>
                </a:rPr>
                <a:t>REALLY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0"/>
            <p:cNvSpPr/>
            <p:nvPr/>
          </p:nvSpPr>
          <p:spPr>
            <a:xfrm>
              <a:off x="5948640" y="2609640"/>
              <a:ext cx="34840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solidFill>
                    <a:srgbClr val="ffcb16"/>
                  </a:solidFill>
                  <a:latin typeface="Arial"/>
                </a:rPr>
                <a:t>BAD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2"/>
            <p:cNvSpPr/>
            <p:nvPr/>
          </p:nvSpPr>
          <p:spPr>
            <a:xfrm>
              <a:off x="6073200" y="4877280"/>
              <a:ext cx="5577480" cy="4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30" spc="-1" strike="noStrike">
                  <a:solidFill>
                    <a:srgbClr val="fffffe"/>
                  </a:solidFill>
                  <a:latin typeface="DFPPiPiW5-B5"/>
                  <a:ea typeface="DFPPiPiW5-B5"/>
                </a:rPr>
                <a:t>based on the ebook by SETH GODN</a:t>
              </a:r>
              <a:endParaRPr b="0" lang="en-US" sz="213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连接符 24"/>
            <p:cNvCxnSpPr/>
            <p:nvPr/>
          </p:nvCxnSpPr>
          <p:spPr>
            <a:xfrm>
              <a:off x="1484640" y="2914200"/>
              <a:ext cx="443160" cy="837000"/>
            </a:xfrm>
            <a:prstGeom prst="straightConnector1">
              <a:avLst/>
            </a:prstGeom>
            <a:ln w="19050">
              <a:solidFill>
                <a:srgbClr val="ffcb16"/>
              </a:solidFill>
            </a:ln>
          </p:spPr>
        </p:cxnSp>
        <p:sp>
          <p:nvSpPr>
            <p:cNvPr id="68" name="椭圆 1027"/>
            <p:cNvSpPr/>
            <p:nvPr/>
          </p:nvSpPr>
          <p:spPr>
            <a:xfrm rot="20820000">
              <a:off x="1888920" y="3699720"/>
              <a:ext cx="60480" cy="101160"/>
            </a:xfrm>
            <a:prstGeom prst="ellipse">
              <a:avLst/>
            </a:prstGeom>
            <a:solidFill>
              <a:srgbClr val="ffcb1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69" name="直接连接符 1029"/>
            <p:cNvCxnSpPr/>
            <p:nvPr/>
          </p:nvCxnSpPr>
          <p:spPr>
            <a:xfrm>
              <a:off x="1932480" y="3794400"/>
              <a:ext cx="151200" cy="33120"/>
            </a:xfrm>
            <a:prstGeom prst="straightConnector1">
              <a:avLst/>
            </a:prstGeom>
            <a:ln w="12700">
              <a:solidFill>
                <a:srgbClr val="ffcb16"/>
              </a:solidFill>
            </a:ln>
          </p:spPr>
        </p:cxnSp>
        <p:sp>
          <p:nvSpPr>
            <p:cNvPr id="70" name="弧形 1030"/>
            <p:cNvSpPr/>
            <p:nvPr/>
          </p:nvSpPr>
          <p:spPr>
            <a:xfrm rot="13545600">
              <a:off x="1973520" y="3753000"/>
              <a:ext cx="567360" cy="383760"/>
            </a:xfrm>
            <a:prstGeom prst="arc">
              <a:avLst>
                <a:gd name="adj1" fmla="val 19472156"/>
                <a:gd name="adj2" fmla="val 0"/>
              </a:avLst>
            </a:prstGeom>
            <a:noFill/>
            <a:ln w="15875">
              <a:solidFill>
                <a:srgbClr val="ffcb16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 1031"/>
            <p:cNvSpPr/>
            <p:nvPr/>
          </p:nvSpPr>
          <p:spPr>
            <a:xfrm>
              <a:off x="2064600" y="3783600"/>
              <a:ext cx="60480" cy="97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5719" h="73276">
                  <a:moveTo>
                    <a:pt x="0" y="19392"/>
                  </a:moveTo>
                  <a:cubicBezTo>
                    <a:pt x="0" y="15184"/>
                    <a:pt x="10907" y="6775"/>
                    <a:pt x="15115" y="6775"/>
                  </a:cubicBezTo>
                  <a:lnTo>
                    <a:pt x="28106" y="1778"/>
                  </a:lnTo>
                  <a:cubicBezTo>
                    <a:pt x="32314" y="1778"/>
                    <a:pt x="35725" y="-2305"/>
                    <a:pt x="35725" y="1903"/>
                  </a:cubicBezTo>
                  <a:lnTo>
                    <a:pt x="45719" y="49871"/>
                  </a:lnTo>
                  <a:cubicBezTo>
                    <a:pt x="45719" y="54079"/>
                    <a:pt x="39809" y="59989"/>
                    <a:pt x="35601" y="59989"/>
                  </a:cubicBezTo>
                  <a:cubicBezTo>
                    <a:pt x="25441" y="59989"/>
                    <a:pt x="15281" y="64986"/>
                    <a:pt x="5121" y="64986"/>
                  </a:cubicBezTo>
                  <a:cubicBezTo>
                    <a:pt x="913" y="64986"/>
                    <a:pt x="0" y="76564"/>
                    <a:pt x="0" y="72356"/>
                  </a:cubicBezTo>
                  <a:lnTo>
                    <a:pt x="0" y="19392"/>
                  </a:lnTo>
                  <a:close/>
                </a:path>
              </a:pathLst>
            </a:custGeom>
            <a:solidFill>
              <a:srgbClr val="ffcb1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椭圆 1033"/>
            <p:cNvSpPr/>
            <p:nvPr/>
          </p:nvSpPr>
          <p:spPr>
            <a:xfrm>
              <a:off x="2045160" y="3409920"/>
              <a:ext cx="927360" cy="817200"/>
            </a:xfrm>
            <a:prstGeom prst="ellipse">
              <a:avLst/>
            </a:prstGeom>
            <a:noFill/>
            <a:ln w="25400">
              <a:solidFill>
                <a:srgbClr val="ffcb1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椭圆 44"/>
            <p:cNvSpPr/>
            <p:nvPr/>
          </p:nvSpPr>
          <p:spPr>
            <a:xfrm>
              <a:off x="3407760" y="3393720"/>
              <a:ext cx="951840" cy="871920"/>
            </a:xfrm>
            <a:prstGeom prst="ellipse">
              <a:avLst/>
            </a:prstGeom>
            <a:noFill/>
            <a:ln w="25400">
              <a:solidFill>
                <a:srgbClr val="ffcb1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弧形 1035"/>
            <p:cNvSpPr/>
            <p:nvPr/>
          </p:nvSpPr>
          <p:spPr>
            <a:xfrm>
              <a:off x="2864520" y="3700440"/>
              <a:ext cx="606240" cy="1663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stroke="0" w="454965" h="125013">
                  <a:moveTo>
                    <a:pt x="0" y="89329"/>
                  </a:moveTo>
                  <a:cubicBezTo>
                    <a:pt x="5224" y="39227"/>
                    <a:pt x="103006" y="-198"/>
                    <a:pt x="221556" y="0"/>
                  </a:cubicBezTo>
                  <a:cubicBezTo>
                    <a:pt x="343214" y="203"/>
                    <a:pt x="441583" y="41981"/>
                    <a:pt x="441583" y="93446"/>
                  </a:cubicBezTo>
                  <a:lnTo>
                    <a:pt x="220684" y="93447"/>
                  </a:lnTo>
                  <a:lnTo>
                    <a:pt x="0" y="89329"/>
                  </a:lnTo>
                  <a:close/>
                </a:path>
                <a:path fill="none" w="454965" h="125013">
                  <a:moveTo>
                    <a:pt x="13382" y="125013"/>
                  </a:moveTo>
                  <a:cubicBezTo>
                    <a:pt x="18606" y="74911"/>
                    <a:pt x="103006" y="-198"/>
                    <a:pt x="221556" y="0"/>
                  </a:cubicBezTo>
                  <a:cubicBezTo>
                    <a:pt x="343214" y="203"/>
                    <a:pt x="454965" y="50902"/>
                    <a:pt x="454965" y="102367"/>
                  </a:cubicBezTo>
                </a:path>
              </a:pathLst>
            </a:custGeom>
            <a:noFill/>
            <a:ln w="25400">
              <a:solidFill>
                <a:srgbClr val="ffcb16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1031"/>
            <p:cNvSpPr/>
            <p:nvPr/>
          </p:nvSpPr>
          <p:spPr>
            <a:xfrm>
              <a:off x="4263120" y="3768120"/>
              <a:ext cx="60480" cy="97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5719" h="73276">
                  <a:moveTo>
                    <a:pt x="0" y="19392"/>
                  </a:moveTo>
                  <a:cubicBezTo>
                    <a:pt x="0" y="15184"/>
                    <a:pt x="10907" y="6775"/>
                    <a:pt x="15115" y="6775"/>
                  </a:cubicBezTo>
                  <a:lnTo>
                    <a:pt x="28106" y="1778"/>
                  </a:lnTo>
                  <a:cubicBezTo>
                    <a:pt x="32314" y="1778"/>
                    <a:pt x="35725" y="-2305"/>
                    <a:pt x="35725" y="1903"/>
                  </a:cubicBezTo>
                  <a:lnTo>
                    <a:pt x="45719" y="49871"/>
                  </a:lnTo>
                  <a:cubicBezTo>
                    <a:pt x="45719" y="54079"/>
                    <a:pt x="39809" y="59989"/>
                    <a:pt x="35601" y="59989"/>
                  </a:cubicBezTo>
                  <a:cubicBezTo>
                    <a:pt x="25441" y="59989"/>
                    <a:pt x="15281" y="64986"/>
                    <a:pt x="5121" y="64986"/>
                  </a:cubicBezTo>
                  <a:cubicBezTo>
                    <a:pt x="913" y="64986"/>
                    <a:pt x="0" y="76564"/>
                    <a:pt x="0" y="72356"/>
                  </a:cubicBezTo>
                  <a:lnTo>
                    <a:pt x="0" y="19392"/>
                  </a:lnTo>
                  <a:close/>
                </a:path>
              </a:pathLst>
            </a:custGeom>
            <a:solidFill>
              <a:srgbClr val="ffcb1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" name="弧形 48"/>
            <p:cNvSpPr/>
            <p:nvPr/>
          </p:nvSpPr>
          <p:spPr>
            <a:xfrm rot="706800">
              <a:off x="3851280" y="3647880"/>
              <a:ext cx="567360" cy="383760"/>
            </a:xfrm>
            <a:prstGeom prst="arc">
              <a:avLst>
                <a:gd name="adj1" fmla="val 19472156"/>
                <a:gd name="adj2" fmla="val 0"/>
              </a:avLst>
            </a:prstGeom>
            <a:noFill/>
            <a:ln w="15875">
              <a:solidFill>
                <a:srgbClr val="ffcb16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直接连接符 49"/>
            <p:cNvCxnSpPr/>
            <p:nvPr/>
          </p:nvCxnSpPr>
          <p:spPr>
            <a:xfrm flipV="1">
              <a:off x="4305600" y="3783600"/>
              <a:ext cx="119160" cy="26280"/>
            </a:xfrm>
            <a:prstGeom prst="straightConnector1">
              <a:avLst/>
            </a:prstGeom>
            <a:ln w="19050">
              <a:solidFill>
                <a:srgbClr val="ffcb16"/>
              </a:solidFill>
            </a:ln>
          </p:spPr>
        </p:cxnSp>
        <p:cxnSp>
          <p:nvCxnSpPr>
            <p:cNvPr id="78" name="直接连接符 51"/>
            <p:cNvCxnSpPr/>
            <p:nvPr/>
          </p:nvCxnSpPr>
          <p:spPr>
            <a:xfrm flipH="1">
              <a:off x="4451040" y="3029760"/>
              <a:ext cx="410400" cy="767160"/>
            </a:xfrm>
            <a:prstGeom prst="straightConnector1">
              <a:avLst/>
            </a:prstGeom>
            <a:ln w="19050">
              <a:solidFill>
                <a:srgbClr val="ffcb16"/>
              </a:solidFill>
            </a:ln>
          </p:spPr>
        </p:cxnSp>
        <p:sp>
          <p:nvSpPr>
            <p:cNvPr id="79" name="椭圆 55"/>
            <p:cNvSpPr/>
            <p:nvPr/>
          </p:nvSpPr>
          <p:spPr>
            <a:xfrm rot="2220000">
              <a:off x="4425120" y="3719880"/>
              <a:ext cx="60480" cy="101160"/>
            </a:xfrm>
            <a:prstGeom prst="ellipse">
              <a:avLst/>
            </a:prstGeom>
            <a:solidFill>
              <a:srgbClr val="ffcb1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椭圆 1042"/>
            <p:cNvSpPr/>
            <p:nvPr/>
          </p:nvSpPr>
          <p:spPr>
            <a:xfrm>
              <a:off x="4761720" y="3587760"/>
              <a:ext cx="201960" cy="183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51641" h="138039">
                  <a:moveTo>
                    <a:pt x="397" y="80141"/>
                  </a:moveTo>
                  <a:cubicBezTo>
                    <a:pt x="3402" y="57291"/>
                    <a:pt x="29103" y="0"/>
                    <a:pt x="70868" y="0"/>
                  </a:cubicBezTo>
                  <a:cubicBezTo>
                    <a:pt x="112633" y="0"/>
                    <a:pt x="151641" y="10274"/>
                    <a:pt x="151641" y="80141"/>
                  </a:cubicBezTo>
                  <a:cubicBezTo>
                    <a:pt x="151641" y="150008"/>
                    <a:pt x="94602" y="137100"/>
                    <a:pt x="52837" y="137100"/>
                  </a:cubicBezTo>
                  <a:cubicBezTo>
                    <a:pt x="11072" y="137100"/>
                    <a:pt x="-2608" y="102991"/>
                    <a:pt x="397" y="80141"/>
                  </a:cubicBezTo>
                  <a:close/>
                </a:path>
              </a:pathLst>
            </a:custGeom>
            <a:solidFill>
              <a:srgbClr val="ffcb16">
                <a:alpha val="99000"/>
              </a:srgbClr>
            </a:solidFill>
            <a:ln>
              <a:solidFill>
                <a:srgbClr val="ffcb1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81" name="直接箭头连接符 1044"/>
            <p:cNvCxnSpPr>
              <a:stCxn id="47" idx="2"/>
            </p:cNvCxnSpPr>
            <p:nvPr/>
          </p:nvCxnSpPr>
          <p:spPr>
            <a:xfrm flipH="1" flipV="1" rot="5400000">
              <a:off x="7335000" y="4804200"/>
              <a:ext cx="2733480" cy="3330720"/>
            </a:xfrm>
            <a:prstGeom prst="curvedConnector3">
              <a:avLst>
                <a:gd name="adj1" fmla="val 104267"/>
              </a:avLst>
            </a:prstGeom>
            <a:ln w="41275">
              <a:solidFill>
                <a:srgbClr val="ffcb16"/>
              </a:solidFill>
              <a:tailEnd len="med" type="triangle" w="med"/>
            </a:ln>
          </p:spPr>
        </p:cxnSp>
        <p:sp>
          <p:nvSpPr>
            <p:cNvPr id="82" name="文本框 21"/>
            <p:cNvSpPr/>
            <p:nvPr/>
          </p:nvSpPr>
          <p:spPr>
            <a:xfrm>
              <a:off x="5979600" y="3951360"/>
              <a:ext cx="528300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860" spc="-1" strike="noStrike">
                  <a:solidFill>
                    <a:srgbClr val="fffffe"/>
                  </a:solidFill>
                  <a:latin typeface="Calibri"/>
                </a:rPr>
                <a:t>POWERPOINT</a:t>
              </a:r>
              <a:endParaRPr b="0" lang="en-US" sz="58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11"/>
          <p:cNvSpPr/>
          <p:nvPr/>
        </p:nvSpPr>
        <p:spPr>
          <a:xfrm>
            <a:off x="5895000" y="7290000"/>
            <a:ext cx="6150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40720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晚间欣赏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Fix your really bad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3"/>
          <p:cNvSpPr/>
          <p:nvPr/>
        </p:nvSpPr>
        <p:spPr>
          <a:xfrm>
            <a:off x="3678480" y="20268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封面色彩设计之紫色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07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6:15:57Z</dcterms:created>
  <dc:creator>V41</dc:creator>
  <dc:description/>
  <dc:language>en-US</dc:language>
  <cp:lastModifiedBy>王玉清</cp:lastModifiedBy>
  <dcterms:modified xsi:type="dcterms:W3CDTF">2016-02-23T02:58:3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</vt:r8>
  </property>
</Properties>
</file>