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63B-EFB6-42A8-9E05-B1115E4A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4560" y="391716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CA8-60EE-4E31-91B8-2466154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A26-C769-499B-85C5-1779325F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844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268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456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844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268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432-23BC-4576-8BC8-FF954461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1DEF-E900-4C9A-B272-9D334517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AD15-368A-44D8-BA52-316F76B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6CA-AEB0-4DF7-8B3A-0A9BC400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F9A5-70BB-4EF4-A13C-0FCEB7A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D1CE-D8E4-41C1-AE95-A329082D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8200" y="304920"/>
            <a:ext cx="654984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2AD1-1DF0-48A0-842A-BCF500D2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7141-2FC6-4677-B847-B0AFBE4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3C1-CE9B-4EA9-9F72-F61557EB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0472-8D52-4F95-9E38-E13D13CD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32B-D54A-49DA-8AC5-3942D4EC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44560" y="391716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05BE-C649-4151-8D77-BCCBB170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8BC6-9C9D-478A-B54A-AABDD587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4844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52892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4456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4844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917160"/>
            <a:ext cx="2479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2103-ADF1-4885-A732-70955AF4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F42-A629-466A-8C95-C24DB860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557-992D-4F26-95E7-7C3AD020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5C4-7169-402F-93AE-4A4B2CB0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8200" y="304920"/>
            <a:ext cx="654984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00B-E6A7-4A4A-9CB9-D42FA2A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F82-4284-4B9C-B11D-58BC949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1716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F42-13A4-4E92-8A4E-E3CFA103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528920"/>
            <a:ext cx="37580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4560" y="3917160"/>
            <a:ext cx="7701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DBB-2C64-4470-9FF6-211F0037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2322-1699-49CA-BC1E-1ED3A9031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2600" y="2857680"/>
            <a:ext cx="773748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A9D-331A-45E2-B3F5-CE0F76833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2600" y="2857680"/>
            <a:ext cx="773748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77000" y="549360"/>
            <a:ext cx="373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股本分析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產業預測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預測產業未來的發展與趨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產業的競爭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政府的政策法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產業的結構性改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7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影響產業競爭的五個因素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38200" y="2517840"/>
            <a:ext cx="6477120" cy="2879640"/>
            <a:chOff x="1438200" y="2517840"/>
            <a:chExt cx="6477120" cy="2879640"/>
          </a:xfrm>
        </p:grpSpPr>
        <p:sp>
          <p:nvSpPr>
            <p:cNvPr id="152" name=""/>
            <p:cNvSpPr/>
            <p:nvPr/>
          </p:nvSpPr>
          <p:spPr>
            <a:xfrm>
              <a:off x="3957480" y="2517840"/>
              <a:ext cx="1440000" cy="539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潛在加入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38200" y="3238560"/>
              <a:ext cx="539640" cy="1440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供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應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75320" y="3238560"/>
              <a:ext cx="540000" cy="1440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買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方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7480" y="4857840"/>
              <a:ext cx="1440000" cy="539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替代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3957840"/>
              <a:ext cx="14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議價能力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77840" y="3957840"/>
              <a:ext cx="14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議價能力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97480" y="3057480"/>
              <a:ext cx="14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威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97480" y="4318200"/>
              <a:ext cx="14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 Narrow"/>
                  <a:ea typeface="DFKai-SB"/>
                </a:rPr>
                <a:t>威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17840" y="3598920"/>
              <a:ext cx="2519280" cy="719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產業競爭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現有競爭者的威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1" name=""/>
            <p:cNvCxnSpPr>
              <a:stCxn id="152" idx="2"/>
              <a:endCxn id="160" idx="0"/>
            </p:cNvCxnSpPr>
            <p:nvPr/>
          </p:nvCxnSpPr>
          <p:spPr>
            <a:xfrm>
              <a:off x="4677840" y="3057480"/>
              <a:ext cx="1080" cy="54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5" idx="0"/>
              <a:endCxn id="160" idx="2"/>
            </p:cNvCxnSpPr>
            <p:nvPr/>
          </p:nvCxnSpPr>
          <p:spPr>
            <a:xfrm flipV="1">
              <a:off x="4677840" y="4317480"/>
              <a:ext cx="1080" cy="54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63" name=""/>
            <p:cNvCxnSpPr>
              <a:stCxn id="153" idx="3"/>
              <a:endCxn id="160" idx="1"/>
            </p:cNvCxnSpPr>
            <p:nvPr/>
          </p:nvCxnSpPr>
          <p:spPr>
            <a:xfrm>
              <a:off x="1977840" y="3958920"/>
              <a:ext cx="14403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1"/>
              <a:endCxn id="160" idx="3"/>
            </p:cNvCxnSpPr>
            <p:nvPr/>
          </p:nvCxnSpPr>
          <p:spPr>
            <a:xfrm flipH="1">
              <a:off x="5936400" y="3958920"/>
              <a:ext cx="1438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公司分析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財務報表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的財務比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財務報表分析的限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財務報表分析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資產負債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在某一時點，顯示公司所有資產、負債及股東權益這三大類財務資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損益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將企業在某一期間的營運收支作一整理，以瞭解會計利潤的大小，是屬於流量的觀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58680" y="2571840"/>
          <a:ext cx="7480440" cy="283536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1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變現力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A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流動比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反映企業之短期性資產支付短期債務的可能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B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速動比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與流動比率類似，但對於變現速度的要求更高，更能反映企業的短期償債能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608200" y="3147840"/>
                <a:ext cx="11019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負債總額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股東權益總額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608200" y="4317840"/>
                <a:ext cx="16956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平均總資產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股東權益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（續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58680" y="1949400"/>
          <a:ext cx="7480440" cy="402444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2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負債管理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A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負債比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表現企業的負債融資使用程度；愈大，財務風險愈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B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負債對權益比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表示債券資金占權益資金的比重；愈大，還本付息壓力愈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C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權益乘數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表示權益資金所支應的資產總額倍數；愈大，表示負債程度愈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608200" y="2698920"/>
                <a:ext cx="1698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I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利息費用總額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57480" y="3868560"/>
                <a:ext cx="15271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I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折舊費用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利息費用總額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517840" y="5037120"/>
            <a:ext cx="1752480" cy="66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</a:t>
            </a: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（續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58680" y="2544840"/>
          <a:ext cx="7480440" cy="283536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2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負債管理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D.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賺得利息倍數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企業償債能力的指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標；愈高，還本付息的能力愈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E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現金涵蓋比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企業償債能力的指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標；愈高，還本付息的能力愈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147840" y="3238560"/>
                <a:ext cx="18036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銷貨成本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存貨水準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57480" y="4497480"/>
                <a:ext cx="1649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天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存貨周轉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</a:t>
            </a: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（續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58680" y="2176560"/>
          <a:ext cx="7480440" cy="356688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3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資產管理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A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存貨周轉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表示企業在當期會計年度的銷貨水準下存貨的「進出」次數；愈高，保有的存貨量愈少，但發生缺貨的機率較高。為存貨銷售速度的指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B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存貨周轉天數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存貨留置在倉庫的平均期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78200" y="3508200"/>
                <a:ext cx="1492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天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應收帳款周轉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57480" y="5037120"/>
                <a:ext cx="148896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淨銷貨收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淨固定資產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</a:t>
            </a: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（續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58680" y="1542960"/>
          <a:ext cx="7480440" cy="484812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3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資產管理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C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應收帳款周轉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企業在當期會計年度的銷貨水準下，應收帳款「從產生到收現」的平均次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數；為現金回收速度的指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D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平均收現期間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為應收帳款的平均收現期間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E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固定資產周轉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為單位淨固定資產可以創造多少的銷貨收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F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總資產周轉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為單位資產可以創造多少的銷貨收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147840" y="3957480"/>
                <a:ext cx="1684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淨銷貨收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總資產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327480" y="4859280"/>
                <a:ext cx="161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淨銷貨收入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應收帳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057480" y="5667480"/>
                <a:ext cx="1555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稅後淨利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淨銷貨收入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327480" y="2608200"/>
                <a:ext cx="18032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稅後淨利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股東權益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8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常用的比率分析指標</a:t>
            </a:r>
            <a:br>
              <a:rPr sz="3600"/>
            </a:b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（續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58680" y="2143080"/>
          <a:ext cx="7480440" cy="3657600"/>
        </p:xfrm>
        <a:graphic>
          <a:graphicData uri="http://schemas.openxmlformats.org/drawingml/2006/table">
            <a:tbl>
              <a:tblPr/>
              <a:tblGrid>
                <a:gridCol w="4502160"/>
                <a:gridCol w="2978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(4)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獲利能力比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A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銷貨利潤邊際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企業平均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元的銷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貨收入裡賺到了多少「稅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後淨利」；愈高，代表成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本佔銷貨收入的比例愈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B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股東權益報酬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企業平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元的股東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權益賺得的「稅後淨利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C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總資產報酬率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衡量企業平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元的資產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DFKai-SB"/>
                        </a:rPr>
                        <a:t>賺得的「稅後淨利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57480" y="3057480"/>
                <a:ext cx="19494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稅後淨利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平均總資產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327480" y="4227480"/>
            <a:ext cx="2092320" cy="668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57480" y="5037120"/>
            <a:ext cx="1976400" cy="674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本章大綱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節 基本分析的觀念與架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節 市場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節 產業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節 公司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78200" y="3957480"/>
            <a:ext cx="3297240" cy="1798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財務報表分析的限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會計數字無法反映實際價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會計方法的選擇影響比較效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多角化投資的影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貨膨脹的影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標竿選擇的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會計數字的品質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使用规范说明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5D28-E6D4-4F19-A56F-C305D1A113E3}" type="slidenum">
              <a:t>21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基本分析的觀念與架構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影響股價變動的因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分析的架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1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影響股價變動的因素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79640" y="1619280"/>
            <a:ext cx="7196040" cy="4498920"/>
            <a:chOff x="1079640" y="1619280"/>
            <a:chExt cx="7196040" cy="4498920"/>
          </a:xfrm>
        </p:grpSpPr>
        <p:sp>
          <p:nvSpPr>
            <p:cNvPr id="92" name=""/>
            <p:cNvSpPr/>
            <p:nvPr/>
          </p:nvSpPr>
          <p:spPr>
            <a:xfrm>
              <a:off x="3598920" y="1619280"/>
              <a:ext cx="2158920" cy="53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股價的變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8920" y="2338560"/>
              <a:ext cx="2158920" cy="539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供需關係的變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8920" y="3057480"/>
              <a:ext cx="2158920" cy="540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利多與利空因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" name=""/>
            <p:cNvCxnSpPr>
              <a:stCxn id="94" idx="0"/>
              <a:endCxn id="93" idx="2"/>
            </p:cNvCxnSpPr>
            <p:nvPr/>
          </p:nvCxnSpPr>
          <p:spPr>
            <a:xfrm flipV="1">
              <a:off x="4678200" y="2877840"/>
              <a:ext cx="1080" cy="18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3" idx="0"/>
              <a:endCxn id="92" idx="2"/>
            </p:cNvCxnSpPr>
            <p:nvPr/>
          </p:nvCxnSpPr>
          <p:spPr>
            <a:xfrm flipV="1">
              <a:off x="4678200" y="215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3598920" y="3778200"/>
              <a:ext cx="2158920" cy="540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經濟因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79640" y="3778200"/>
              <a:ext cx="2158920" cy="540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非經濟因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16760" y="3778200"/>
              <a:ext cx="2158920" cy="540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市場內部因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" name=""/>
            <p:cNvCxnSpPr>
              <a:stCxn id="97" idx="0"/>
              <a:endCxn id="94" idx="2"/>
            </p:cNvCxnSpPr>
            <p:nvPr/>
          </p:nvCxnSpPr>
          <p:spPr>
            <a:xfrm flipV="1">
              <a:off x="4678200" y="3597120"/>
              <a:ext cx="1080" cy="18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" name=""/>
            <p:cNvSpPr/>
            <p:nvPr/>
          </p:nvSpPr>
          <p:spPr>
            <a:xfrm>
              <a:off x="125892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內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政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1784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戰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820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天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災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56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9748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素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6" name=""/>
            <p:cNvCxnSpPr>
              <a:stCxn id="101" idx="0"/>
            </p:cNvCxnSpPr>
            <p:nvPr/>
          </p:nvCxnSpPr>
          <p:spPr>
            <a:xfrm flipH="1" flipV="1" rot="5400000">
              <a:off x="2063520" y="3861720"/>
              <a:ext cx="183240" cy="1440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7" name=""/>
            <p:cNvCxnSpPr>
              <a:stCxn id="105" idx="0"/>
            </p:cNvCxnSpPr>
            <p:nvPr/>
          </p:nvCxnSpPr>
          <p:spPr>
            <a:xfrm flipV="1">
              <a:off x="287784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" name=""/>
            <p:cNvCxnSpPr>
              <a:stCxn id="103" idx="0"/>
              <a:endCxn id="98" idx="2"/>
            </p:cNvCxnSpPr>
            <p:nvPr/>
          </p:nvCxnSpPr>
          <p:spPr>
            <a:xfrm flipV="1">
              <a:off x="2158920" y="4317480"/>
              <a:ext cx="108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9" name=""/>
            <p:cNvCxnSpPr>
              <a:stCxn id="102" idx="0"/>
            </p:cNvCxnSpPr>
            <p:nvPr/>
          </p:nvCxnSpPr>
          <p:spPr>
            <a:xfrm flipH="1" flipV="1">
              <a:off x="179820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4" idx="0"/>
            </p:cNvCxnSpPr>
            <p:nvPr/>
          </p:nvCxnSpPr>
          <p:spPr>
            <a:xfrm flipH="1" flipV="1">
              <a:off x="251892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" name=""/>
            <p:cNvSpPr/>
            <p:nvPr/>
          </p:nvSpPr>
          <p:spPr>
            <a:xfrm>
              <a:off x="413892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內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外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748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產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情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況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5784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公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司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4" name=""/>
            <p:cNvCxnSpPr>
              <a:stCxn id="112" idx="0"/>
              <a:endCxn id="97" idx="2"/>
            </p:cNvCxnSpPr>
            <p:nvPr/>
          </p:nvCxnSpPr>
          <p:spPr>
            <a:xfrm flipV="1">
              <a:off x="4678200" y="4317480"/>
              <a:ext cx="108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1" idx="0"/>
            </p:cNvCxnSpPr>
            <p:nvPr/>
          </p:nvCxnSpPr>
          <p:spPr>
            <a:xfrm flipH="1" flipV="1" rot="5400000">
              <a:off x="4584600" y="4223880"/>
              <a:ext cx="180000" cy="720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13" idx="0"/>
            </p:cNvCxnSpPr>
            <p:nvPr/>
          </p:nvCxnSpPr>
          <p:spPr>
            <a:xfrm flipH="1" flipV="1">
              <a:off x="503820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7" name=""/>
            <p:cNvSpPr/>
            <p:nvPr/>
          </p:nvSpPr>
          <p:spPr>
            <a:xfrm>
              <a:off x="629784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5640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用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676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規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7712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令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制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6040" y="4678560"/>
              <a:ext cx="360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為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7" idx="0"/>
            </p:cNvCxnSpPr>
            <p:nvPr/>
          </p:nvCxnSpPr>
          <p:spPr>
            <a:xfrm flipH="1" flipV="1" rot="5400000">
              <a:off x="7103880" y="3863520"/>
              <a:ext cx="180000" cy="1440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3" name=""/>
            <p:cNvCxnSpPr>
              <a:stCxn id="121" idx="0"/>
            </p:cNvCxnSpPr>
            <p:nvPr/>
          </p:nvCxnSpPr>
          <p:spPr>
            <a:xfrm flipV="1">
              <a:off x="791676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18" idx="0"/>
            </p:cNvCxnSpPr>
            <p:nvPr/>
          </p:nvCxnSpPr>
          <p:spPr>
            <a:xfrm flipV="1">
              <a:off x="683712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19" idx="0"/>
              <a:endCxn id="99" idx="2"/>
            </p:cNvCxnSpPr>
            <p:nvPr/>
          </p:nvCxnSpPr>
          <p:spPr>
            <a:xfrm flipH="1" flipV="1">
              <a:off x="7196040" y="4317480"/>
              <a:ext cx="216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stCxn id="120" idx="0"/>
            </p:cNvCxnSpPr>
            <p:nvPr/>
          </p:nvCxnSpPr>
          <p:spPr>
            <a:xfrm flipH="1" flipV="1">
              <a:off x="7557480" y="4498200"/>
              <a:ext cx="1080" cy="18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>
              <a:stCxn id="98" idx="0"/>
              <a:endCxn id="94" idx="1"/>
            </p:cNvCxnSpPr>
            <p:nvPr/>
          </p:nvCxnSpPr>
          <p:spPr>
            <a:xfrm flipH="1" flipV="1" rot="5400000">
              <a:off x="2648520" y="2827800"/>
              <a:ext cx="451440" cy="1440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99" idx="0"/>
              <a:endCxn id="94" idx="3"/>
            </p:cNvCxnSpPr>
            <p:nvPr/>
          </p:nvCxnSpPr>
          <p:spPr>
            <a:xfrm flipV="1" rot="16200000">
              <a:off x="6251400" y="2832840"/>
              <a:ext cx="451440" cy="14392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圖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7-2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基本分析的架構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79640" y="1619280"/>
            <a:ext cx="7362720" cy="4497480"/>
            <a:chOff x="1079640" y="1619280"/>
            <a:chExt cx="7362720" cy="4497480"/>
          </a:xfrm>
        </p:grpSpPr>
        <p:sp>
          <p:nvSpPr>
            <p:cNvPr id="131" name=""/>
            <p:cNvSpPr/>
            <p:nvPr/>
          </p:nvSpPr>
          <p:spPr>
            <a:xfrm>
              <a:off x="2733840" y="2968560"/>
              <a:ext cx="4048200" cy="1440000"/>
            </a:xfrm>
            <a:prstGeom prst="flowChartMerg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公司分析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（下游廠商）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0960" y="2293920"/>
              <a:ext cx="5676840" cy="674640"/>
            </a:xfrm>
            <a:custGeom>
              <a:avLst/>
              <a:gdLst>
                <a:gd name="textAreaLeft" fmla="*/ 914760 w 5676840"/>
                <a:gd name="textAreaRight" fmla="*/ 4762080 w 5676840"/>
                <a:gd name="textAreaTop" fmla="*/ 108720 h 674640"/>
                <a:gd name="textAreaBottom" fmla="*/ 56592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483" y="21600"/>
                  </a:lnTo>
                  <a:lnTo>
                    <a:pt x="311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產業分析（如資訊產業）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9640" y="1619280"/>
              <a:ext cx="7362720" cy="674640"/>
            </a:xfrm>
            <a:custGeom>
              <a:avLst/>
              <a:gdLst>
                <a:gd name="textAreaLeft" fmla="*/ 1067040 w 7362720"/>
                <a:gd name="textAreaRight" fmla="*/ 6295680 w 7362720"/>
                <a:gd name="textAreaTop" fmla="*/ 97560 h 674640"/>
                <a:gd name="textAreaBottom" fmla="*/ 57708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114" y="21600"/>
                  </a:lnTo>
                  <a:lnTo>
                    <a:pt x="248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市場分析（如台灣市場）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/>
            <p:nvPr/>
          </p:nvCxnSpPr>
          <p:spPr>
            <a:xfrm>
              <a:off x="4767120" y="2111040"/>
              <a:ext cx="108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/>
            <p:nvPr/>
          </p:nvCxnSpPr>
          <p:spPr>
            <a:xfrm>
              <a:off x="4767120" y="2787480"/>
              <a:ext cx="108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3508560" y="4497480"/>
              <a:ext cx="25192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選出值得投資的股票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（如宏碁股票）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8560" y="5576760"/>
              <a:ext cx="251928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DFKai-SB"/>
                </a:rPr>
                <a:t>以技術分析掌握進場時機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6" idx="2"/>
              <a:endCxn id="137" idx="0"/>
            </p:cNvCxnSpPr>
            <p:nvPr/>
          </p:nvCxnSpPr>
          <p:spPr>
            <a:xfrm>
              <a:off x="4768560" y="5216040"/>
              <a:ext cx="1080" cy="36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市場分析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景氣對策訊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景氣動向指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價指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匯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貨幣供給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產業分析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產業的生命週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產業景氣循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產業預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產業的生命週期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草創時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ioneering Stag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擴張時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ansion S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熟時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turing S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衰退時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lining St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656400" y="2878200"/>
            <a:ext cx="188280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8200" y="304920"/>
            <a:ext cx="6549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產業景氣循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44560" y="1528920"/>
            <a:ext cx="770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產業對於總體經濟景氣變化的敏感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長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防禦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環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7:43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3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