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63FD2-9C0E-4176-89D8-F053374D1F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9933A-8476-4F26-9891-3519D69EDA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C13C4-8939-4D3F-A08C-94249AD34E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BD4681-0F31-4325-BDE4-7CDB3E96045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9672A-E4A5-490E-A649-E8344EB21B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C02B9-E4F5-4EF5-B851-7F4102B97B0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62036-2F72-4049-9A02-4399829507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1823F-819B-47AD-B312-05D59A9674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776C1-2570-423D-9E39-4C512F8A51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253FD-7124-46E4-93A1-4D2D93A6A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9F2D3-6E63-4A5F-874F-A178CFC6A2F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FA8EA-9B70-436F-891D-ECB37B3A50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2FC05-4B49-4A44-90BB-7B60446181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D85EC-42D2-4E28-AC79-5546175A50D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0CC2F-0C47-4452-82F0-3EDC05994C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972A9-9852-4686-B7F2-1C8D547BA6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A8C33-B277-42CE-BD3C-C55BA1BD7F8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0E854-ABF4-43CC-BB69-911F3B7609F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A6151-23FC-46D5-8348-B9AF471ECF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25685-138F-44E9-97AE-A617CEB89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237BA-ACA0-43F7-9F1E-9F79CD29C1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EB91-FA36-448D-B6B7-AF2A351A1F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1A92-59E0-49CE-936B-8D73D19450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E21B-C13C-4F73-833B-659986A376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18F7-4925-47E8-98C6-F0493F1759A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E2AB-67EC-42AB-B25A-30275F5030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3134-0B7F-4860-A773-97134CC1625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C02F-C489-4B65-957B-22DF196B979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149E-4D3D-4FF8-B256-CA855844B93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F374-A2D2-4BE4-B843-1CD4D29C0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4E57-2BBE-4632-9CAB-46BF324EF2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E21CC-16C8-4114-AFB4-8CC32DE2F0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7719-25CF-4F7C-9288-4086BBA544C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C6C32-7A14-4265-A1B8-7B6F49BD48A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4E41F-434B-47AF-9F37-CC20CA9B09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C07C3-B4F0-4AD7-B165-FE10FBA0EBF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53F10-2F11-4A34-9B98-E8A3A7C58ED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AFBB6-DA4C-4AB7-AABC-20C4C1A825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A0227-8C15-4FDB-A3FC-AC0FD2C0E9D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7B187-491B-46DC-A7FE-0D130276D8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09A50-39C3-42C3-B9B2-C8C1408D70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CDA50-E7C3-47E7-9B7D-22824D61E6F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EADD7-F8CE-44B8-90C0-F8E01C0E8A6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C4186-16C4-48A7-8B2C-64F309A074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E7EFC-4C82-4871-91AB-1FF9EBCCD0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F2EBA-659A-477A-93BF-4377067213D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583E6-7EDB-4E69-9E10-4E738BAC8DA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8A88B-DE7C-416F-B6BE-CCC74AE70A3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BEE47-32BE-4E40-BCE4-B7C7706C860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7B6A6-6C68-4BF0-AE57-C18FC9F4C0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98143-39E6-45D0-8E47-41945827464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E9FE0-CF52-4016-8298-D9DDBFA3C99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98616-34CF-4C73-B547-323FBB2F787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605BA-9605-44D0-A987-E99B583D1C9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90C86-9CC7-4AD9-817E-51F826C942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A2926-A82A-466E-B6D2-B17FFAAC5F7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2FD5A-9102-4F83-A82E-2958FBE667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3CEA-BFCA-4EA6-AB8D-2A49406A59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E0C3-FD59-447A-B1F9-9BB9DD7C94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67E8-2FBE-422E-8986-3276A9DC7E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1DE8-B7DC-4139-8513-890AC30B31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94C4-407E-420B-BEC5-DC83CCFDE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E520-04F6-492F-A729-8294B1D45E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C979-CA39-4971-84EC-46E360010A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5987-C84A-4253-9379-36F92E56F7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C936-3900-4577-AA4D-A979B035EE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14D8-555D-4791-AA13-747953A732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E029-A002-4EF4-9ED3-8ECCC93067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DA7E-6A2F-4A73-86E3-5276C28F65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8834-7FBC-4643-8B64-8528E81A69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9F6B-84CA-4176-A968-EB50EE2FF0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3D7B-8022-427E-860F-CDF8FA549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BAEF-02FB-4194-93F2-DA1C2D39EF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20C2-8BEB-4988-89AE-86DAA2534D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E3D7-F770-4706-8F2E-7006ABA347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1AD6-1AFA-415C-BFE7-BD59C97294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1480-FE45-432C-AD52-E932587143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A987-AF49-490A-9070-F307B21402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1E55-EA33-4C10-A38A-091F3CC260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C50E-3EB0-4908-8609-80DC36204C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D301-5095-457C-8C8D-0BD3533148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EC6-062F-45CC-AF82-17D02DC8E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BC8-CC55-4A24-8F4F-7B650F404E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093-1C1A-4531-8724-51D0AA42D8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B42-0320-4D6C-AD30-7E5EC536ED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B5B-FCD2-4A28-B7EC-7CF6E0D2B51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FDB-6F55-48FC-A3D3-D3F9D014BC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CFE-EB12-4EEE-A42B-ACB7ACCD6C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211-B988-406E-BE66-A2E7EBB98F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025-3634-48E7-BFBA-D068AFE53C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1C4-D81D-4067-8FCC-870454BBEC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04A-2AB8-4A56-A863-4D7547A45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C54-6460-437B-A4AC-C7B829C745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2F72F-A40C-4A8E-B66D-06EECDED07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3ADC7-8207-4BFC-85E8-D045D25D53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9E94B-5CF2-4F47-9867-296596E802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0A582-2E78-4085-B3D3-E01D27AD41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91C05-88EA-45AD-A86A-AEB14C8F32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B6696-C29C-4C7D-8460-E654575A95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44343-248A-447D-9653-0512D93F66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18DB3-82B0-4C32-A406-EB0ABFC6E35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BA777-2694-4715-AB43-063C53DE0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56047-90C9-42E3-BE09-4CC426FE4B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506E1-9E4B-41D2-822A-A925894CEA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B0F3C-ADB3-468E-B5A2-8078334F0A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6C828-AE75-45DB-8B9E-5AEB0D44B4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13FC-8A02-47D4-97BC-78FBE4891D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9A08C-E7B6-4536-906A-A660927414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B2F38-7D47-435D-953A-1C0EE71C20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62172-00C9-4123-A691-D20C885057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097BE-AE66-423D-8065-4276317F41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31FA6-F0F2-45B4-BBD7-E32FF616E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90F7D-D278-41BE-A84C-1EA8E155F6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61590-5ADD-4096-8F86-69E1786455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E534C-10FE-4A96-A664-8C3D3C1B82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E671-7DE9-443F-9DC5-F886719A4FD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7A91C-2563-44F6-B490-1E3EA80D8D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D4C-0345-4D77-98C0-E9400F20C4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031A-C21E-4DDE-B948-2090EEC641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0F1D-48F8-4A8F-B735-56F2608587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9275-5B9D-4900-B5FE-C00ACA8B266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1384-7507-498B-AFD6-7358786B1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4E06-0AD5-4B50-B9DD-03CD856E390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113F-16EC-45FD-89A7-0661C5A850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6AD1-FE60-4D95-B49B-FAEBF281E0F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5612-44C3-42EB-813E-617850B0EAA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9D1-679A-487D-8B91-9CF2E9D9717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F970-15B4-4E33-A70D-EC221D3F914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9C24-4C1B-4B5D-BA63-06C8B8E400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E4C1C-F635-4291-8184-A209B30037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74379-E4BD-4701-92D7-45841ED4F4B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A585C-68FE-47A9-A54E-14A9FC0E6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8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466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473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sldNum" idx="8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F52-4E1A-4493-88E3-B13A49B77C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517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3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524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sldNum" idx="9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DE75-5260-417D-8704-9B81849ED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568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4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575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6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7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8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9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0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sldNum" idx="10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456E-9582-4E9B-ACFF-661E83747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619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25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626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7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8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9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0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1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sldNum" idx="11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6A4C-8367-4DC5-BA34-D74427632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3" descr="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Freeform 24"/>
          <p:cNvSpPr/>
          <p:nvPr/>
        </p:nvSpPr>
        <p:spPr>
          <a:xfrm>
            <a:off x="-17640" y="3429000"/>
            <a:ext cx="9172800" cy="172728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Freeform 25"/>
          <p:cNvSpPr/>
          <p:nvPr/>
        </p:nvSpPr>
        <p:spPr>
          <a:xfrm>
            <a:off x="-19080" y="1168560"/>
            <a:ext cx="9163080" cy="2965320"/>
          </a:xfrm>
          <a:custGeom>
            <a:avLst/>
            <a:gdLst/>
            <a:ahLst/>
            <a:rect l="l" t="t" r="r" b="b"/>
            <a:pathLst>
              <a:path w="5790" h="1868">
                <a:moveTo>
                  <a:pt x="12" y="50"/>
                </a:moveTo>
                <a:lnTo>
                  <a:pt x="1632" y="44"/>
                </a:lnTo>
                <a:lnTo>
                  <a:pt x="1632" y="0"/>
                </a:lnTo>
                <a:lnTo>
                  <a:pt x="5790" y="0"/>
                </a:lnTo>
                <a:lnTo>
                  <a:pt x="5790" y="1820"/>
                </a:lnTo>
                <a:lnTo>
                  <a:pt x="4194" y="1820"/>
                </a:lnTo>
                <a:lnTo>
                  <a:pt x="4194" y="1868"/>
                </a:lnTo>
                <a:lnTo>
                  <a:pt x="0" y="1856"/>
                </a:lnTo>
                <a:lnTo>
                  <a:pt x="12" y="50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-7920" y="1844640"/>
            <a:ext cx="9151920" cy="157176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Group 27"/>
          <p:cNvGrpSpPr/>
          <p:nvPr/>
        </p:nvGrpSpPr>
        <p:grpSpPr>
          <a:xfrm>
            <a:off x="895320" y="-6480"/>
            <a:ext cx="7327800" cy="6864480"/>
            <a:chOff x="895320" y="-6480"/>
            <a:chExt cx="7327800" cy="6864480"/>
          </a:xfrm>
        </p:grpSpPr>
        <p:sp>
          <p:nvSpPr>
            <p:cNvPr id="55" name="Line 28"/>
            <p:cNvSpPr/>
            <p:nvPr/>
          </p:nvSpPr>
          <p:spPr>
            <a:xfrm>
              <a:off x="8953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Line 29"/>
            <p:cNvSpPr/>
            <p:nvPr/>
          </p:nvSpPr>
          <p:spPr>
            <a:xfrm>
              <a:off x="2577960" y="-324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>
              <a:off x="66326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>
              <a:off x="70135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>
              <a:off x="73184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>
              <a:off x="82231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" name="Line 34"/>
          <p:cNvSpPr/>
          <p:nvPr/>
        </p:nvSpPr>
        <p:spPr>
          <a:xfrm>
            <a:off x="0" y="3108240"/>
            <a:ext cx="9144000" cy="0"/>
          </a:xfrm>
          <a:prstGeom prst="line">
            <a:avLst/>
          </a:prstGeom>
          <a:ln w="9360">
            <a:solidFill>
              <a:srgbClr val="dddddd">
                <a:alpha val="7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Line 35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Group 36"/>
          <p:cNvGrpSpPr/>
          <p:nvPr/>
        </p:nvGrpSpPr>
        <p:grpSpPr>
          <a:xfrm>
            <a:off x="0" y="-39600"/>
            <a:ext cx="9144000" cy="4068720"/>
            <a:chOff x="0" y="-39600"/>
            <a:chExt cx="9144000" cy="4068720"/>
          </a:xfrm>
        </p:grpSpPr>
        <p:sp>
          <p:nvSpPr>
            <p:cNvPr id="64" name="Oval 37"/>
            <p:cNvSpPr/>
            <p:nvPr/>
          </p:nvSpPr>
          <p:spPr>
            <a:xfrm>
              <a:off x="1085760" y="3032280"/>
              <a:ext cx="978120" cy="9777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Oval 38"/>
            <p:cNvSpPr/>
            <p:nvPr/>
          </p:nvSpPr>
          <p:spPr>
            <a:xfrm>
              <a:off x="1816200" y="1203480"/>
              <a:ext cx="2793960" cy="27939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0" y="-360"/>
              <a:ext cx="7456320" cy="40100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Arc 40"/>
            <p:cNvSpPr/>
            <p:nvPr/>
          </p:nvSpPr>
          <p:spPr>
            <a:xfrm>
              <a:off x="4324320" y="-39600"/>
              <a:ext cx="4811760" cy="4019400"/>
            </a:xfrm>
            <a:custGeom>
              <a:avLst/>
              <a:gdLst/>
              <a:ahLst/>
              <a:rect l="l" t="t" r="r" b="b"/>
              <a:pathLst>
                <a:path fill="none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</a:path>
                <a:path stroke="0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  <a:lnTo>
                    <a:pt x="21600" y="7652"/>
                  </a:lnTo>
                  <a:lnTo>
                    <a:pt x="35010" y="2458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>
              <a:off x="0" y="40100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Oval 42"/>
            <p:cNvSpPr/>
            <p:nvPr/>
          </p:nvSpPr>
          <p:spPr>
            <a:xfrm>
              <a:off x="619200" y="3505320"/>
              <a:ext cx="523800" cy="5238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116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1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2A52-80C4-4234-9066-50DACE1829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167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sldNum" idx="2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2FD-9116-47A1-B264-E4AC09DE5D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7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218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sldNum" idx="3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E72F-C572-4D09-8C28-5FBA6033F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269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3B8-04DB-4CB3-ADDA-546BA818E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313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9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320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sldNum" idx="5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4A94-2DC9-459A-BB1D-AD567A667C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371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sldNum" idx="6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F002-43AA-4860-BDEE-57E97EBDB8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415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422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sldNum" idx="7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87AB-C396-4553-BA36-479F94408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2"/>
          <p:cNvSpPr/>
          <p:nvPr/>
        </p:nvSpPr>
        <p:spPr>
          <a:xfrm>
            <a:off x="3997080" y="3429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4.0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16000" y="2112480"/>
            <a:ext cx="75470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国外经典绿色风格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1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7:31:07Z</dcterms:created>
  <dc:creator>ARTCOM PT</dc:creator>
  <dc:description>본 디자인은 ARTCOM PT연구소에 저작권이 있습니다. </dc:description>
  <dc:language>en-US</dc:language>
  <cp:lastModifiedBy>王玉清</cp:lastModifiedBy>
  <dcterms:modified xsi:type="dcterms:W3CDTF">2016-02-21T05:01:31Z</dcterms:modified>
  <cp:revision>20</cp:revision>
  <dc:subject/>
  <dc:title>슬라이드 1</dc:title>
</cp:coreProperties>
</file>