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041-9C3E-4608-97F8-8E855DD0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670-91AF-4F46-91D0-8669FD8A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F3D-68EB-4B44-B74A-25741FAE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694-7D52-4DA2-8B43-35126F25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770C-1165-4F29-9D3B-4050B460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6E63-AF49-41E4-B69E-DD72306E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1159-A421-453B-8FD6-CC2A61FB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C7B6-7F30-4CCF-9467-CD0757E8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EC67-3E3D-4CD0-B820-34090D14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469F-7B7A-4961-ABA8-3D5813F5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762D-CBFD-432D-B715-8EA14122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DEA-2A98-464C-AE00-9BB42851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08B4-6E5D-4E49-A19D-9059B3E4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F6C4-6558-4E82-B3B6-F66C266C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ACC5-3195-44A3-8EA8-3547123F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5129-EF3B-40B2-B779-EB5360B8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F5DF-A7DD-43AA-B07A-2FB85B1E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6561-1D34-46C8-9544-A523C676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492CA-BEFA-48DD-B350-A5F355DC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0853-E526-41BA-AD17-EAE8EAC2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EB64B-4138-46B1-B062-50BB6279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CD4B-3A97-4E9E-87EC-4836A94F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6AE-34D7-4A4D-90C2-5E5092E4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9B2C6-3216-4968-8C14-EF45ED1D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68FA5-C849-4466-B47A-31A6D622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8247-C045-4DCD-8722-297B9861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604B9-F0B9-4023-BC06-2E9450EA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71FAC-19E0-42D6-8C1F-FB35A025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70EEE-C826-41B2-ADF1-B0C6CDC6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C871B-4E2C-4A97-A1E9-0F926E13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FC21E-5877-4402-8F34-076F6624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C2390-B386-4A59-9B73-48EBA9F6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7D0BE-B7DA-4B12-979C-40C2E022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30A-E055-476D-85B1-FB86829F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E845F-0C10-4A53-B4FB-AD1EF8B1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EBBBF-7CDC-42BA-8480-FD4CED1B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9A644-60A1-425D-A5D3-C89517A5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1EE24-EF0D-4C6F-840D-264EAEF2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59E97-8862-4230-A416-61014A00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646A9-DD15-43E8-9FF2-31362B28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EF526-B932-4A6E-A264-03296EAC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5E426-98EF-4EA4-9D6D-E4825E23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2E60F-13CF-46AA-8D81-BEE7ACF8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AC6DB-2BA2-4B15-BA0D-0DAC6AE6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B9D-8A0C-4CC1-8C9D-AF53A887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A4A5C-21DF-4A18-B58F-2CFF74FD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1205A-DEDE-4DEA-A825-9FC1384D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146E7-C9CD-42DB-84ED-8704A06F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2A96F-169C-4128-A438-3E2C8ECD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40ABF-614B-4CB6-B8A2-545ABBA9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3464F-9F90-46D1-9E97-0BD66008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0971C-D179-4E0B-AB88-19546284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87847-6574-4B21-8B01-A4DB6574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64183-B7CA-4FF5-8A8B-76ED7543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5A429-2211-4435-B448-2E0AD618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093-BA5B-4201-86D3-1E349036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768D1-3E1B-4F09-82CE-5A979A11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0C7-5506-48DA-81FB-A0E68FD6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A44-8FFE-4315-A240-0A40D13A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3BD-7D7C-4E57-8262-D5B02305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45C8-E13A-4AF0-93D6-F5F0976C1C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1671480"/>
            <a:ext cx="9144000" cy="3472200"/>
          </a:xfrm>
          <a:prstGeom prst="rect">
            <a:avLst/>
          </a:prstGeom>
          <a:solidFill>
            <a:srgbClr val="f57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椭圆 7"/>
          <p:cNvSpPr/>
          <p:nvPr/>
        </p:nvSpPr>
        <p:spPr>
          <a:xfrm>
            <a:off x="431640" y="1762200"/>
            <a:ext cx="719280" cy="7189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520560" y="1851120"/>
            <a:ext cx="473040" cy="4712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椭圆 9"/>
          <p:cNvSpPr/>
          <p:nvPr/>
        </p:nvSpPr>
        <p:spPr>
          <a:xfrm>
            <a:off x="880920" y="1941480"/>
            <a:ext cx="630360" cy="63036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10"/>
          <p:cNvSpPr/>
          <p:nvPr/>
        </p:nvSpPr>
        <p:spPr>
          <a:xfrm>
            <a:off x="993600" y="2052720"/>
            <a:ext cx="408240" cy="4078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椭圆 11"/>
          <p:cNvSpPr/>
          <p:nvPr/>
        </p:nvSpPr>
        <p:spPr>
          <a:xfrm>
            <a:off x="-68400" y="-515880"/>
            <a:ext cx="1979640" cy="197964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2"/>
          <p:cNvSpPr/>
          <p:nvPr/>
        </p:nvSpPr>
        <p:spPr>
          <a:xfrm>
            <a:off x="196920" y="-250920"/>
            <a:ext cx="1449360" cy="14511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3"/>
          <p:cNvSpPr/>
          <p:nvPr/>
        </p:nvSpPr>
        <p:spPr>
          <a:xfrm>
            <a:off x="-28440" y="2257560"/>
            <a:ext cx="1228680" cy="12286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4"/>
          <p:cNvSpPr/>
          <p:nvPr/>
        </p:nvSpPr>
        <p:spPr>
          <a:xfrm>
            <a:off x="71280" y="2376360"/>
            <a:ext cx="974880" cy="9734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5"/>
          <p:cNvSpPr/>
          <p:nvPr/>
        </p:nvSpPr>
        <p:spPr>
          <a:xfrm>
            <a:off x="1962000" y="1851120"/>
            <a:ext cx="1258920" cy="126036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6"/>
          <p:cNvSpPr/>
          <p:nvPr/>
        </p:nvSpPr>
        <p:spPr>
          <a:xfrm>
            <a:off x="-198360" y="3406680"/>
            <a:ext cx="1260360" cy="12607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7"/>
          <p:cNvSpPr/>
          <p:nvPr/>
        </p:nvSpPr>
        <p:spPr>
          <a:xfrm>
            <a:off x="162000" y="1401840"/>
            <a:ext cx="718920" cy="7189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椭圆 18"/>
          <p:cNvSpPr/>
          <p:nvPr/>
        </p:nvSpPr>
        <p:spPr>
          <a:xfrm>
            <a:off x="1046160" y="2687760"/>
            <a:ext cx="719280" cy="7189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椭圆 19"/>
          <p:cNvSpPr/>
          <p:nvPr/>
        </p:nvSpPr>
        <p:spPr>
          <a:xfrm>
            <a:off x="1692360" y="411120"/>
            <a:ext cx="718920" cy="7207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20"/>
          <p:cNvSpPr/>
          <p:nvPr/>
        </p:nvSpPr>
        <p:spPr>
          <a:xfrm>
            <a:off x="1241280" y="3186000"/>
            <a:ext cx="809640" cy="80964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21"/>
          <p:cNvSpPr/>
          <p:nvPr/>
        </p:nvSpPr>
        <p:spPr>
          <a:xfrm>
            <a:off x="1184400" y="771480"/>
            <a:ext cx="630000" cy="63036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22"/>
          <p:cNvSpPr/>
          <p:nvPr/>
        </p:nvSpPr>
        <p:spPr>
          <a:xfrm>
            <a:off x="71280" y="326880"/>
            <a:ext cx="314640" cy="3160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椭圆 23"/>
          <p:cNvSpPr/>
          <p:nvPr/>
        </p:nvSpPr>
        <p:spPr>
          <a:xfrm>
            <a:off x="1488960" y="1536840"/>
            <a:ext cx="314280" cy="3142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24"/>
          <p:cNvSpPr/>
          <p:nvPr/>
        </p:nvSpPr>
        <p:spPr>
          <a:xfrm>
            <a:off x="-58680" y="3548160"/>
            <a:ext cx="979560" cy="979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椭圆 25"/>
          <p:cNvSpPr/>
          <p:nvPr/>
        </p:nvSpPr>
        <p:spPr>
          <a:xfrm>
            <a:off x="555480" y="3327480"/>
            <a:ext cx="316080" cy="3157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26"/>
          <p:cNvSpPr/>
          <p:nvPr/>
        </p:nvSpPr>
        <p:spPr>
          <a:xfrm>
            <a:off x="71280" y="4497480"/>
            <a:ext cx="720720" cy="7207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椭圆 27"/>
          <p:cNvSpPr/>
          <p:nvPr/>
        </p:nvSpPr>
        <p:spPr>
          <a:xfrm>
            <a:off x="-85680" y="4857840"/>
            <a:ext cx="314280" cy="3142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28"/>
          <p:cNvSpPr/>
          <p:nvPr/>
        </p:nvSpPr>
        <p:spPr>
          <a:xfrm>
            <a:off x="92160" y="3643200"/>
            <a:ext cx="718920" cy="7192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椭圆 29"/>
          <p:cNvSpPr/>
          <p:nvPr/>
        </p:nvSpPr>
        <p:spPr>
          <a:xfrm>
            <a:off x="2073240" y="1941480"/>
            <a:ext cx="1058760" cy="1058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30"/>
          <p:cNvSpPr/>
          <p:nvPr/>
        </p:nvSpPr>
        <p:spPr>
          <a:xfrm>
            <a:off x="1401840" y="2843280"/>
            <a:ext cx="685800" cy="6858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椭圆 31"/>
          <p:cNvSpPr/>
          <p:nvPr/>
        </p:nvSpPr>
        <p:spPr>
          <a:xfrm>
            <a:off x="290520" y="4756320"/>
            <a:ext cx="260280" cy="2584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椭圆 32"/>
          <p:cNvSpPr/>
          <p:nvPr/>
        </p:nvSpPr>
        <p:spPr>
          <a:xfrm>
            <a:off x="1787400" y="507960"/>
            <a:ext cx="528840" cy="5270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33"/>
          <p:cNvSpPr/>
          <p:nvPr/>
        </p:nvSpPr>
        <p:spPr>
          <a:xfrm>
            <a:off x="1893960" y="614520"/>
            <a:ext cx="315720" cy="3142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椭圆 34"/>
          <p:cNvSpPr/>
          <p:nvPr/>
        </p:nvSpPr>
        <p:spPr>
          <a:xfrm>
            <a:off x="264960" y="1514520"/>
            <a:ext cx="528840" cy="5270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椭圆 35"/>
          <p:cNvSpPr/>
          <p:nvPr/>
        </p:nvSpPr>
        <p:spPr>
          <a:xfrm>
            <a:off x="384120" y="1627200"/>
            <a:ext cx="316080" cy="3142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36"/>
          <p:cNvSpPr/>
          <p:nvPr/>
        </p:nvSpPr>
        <p:spPr>
          <a:xfrm>
            <a:off x="250920" y="2571840"/>
            <a:ext cx="598320" cy="5983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37"/>
          <p:cNvSpPr/>
          <p:nvPr/>
        </p:nvSpPr>
        <p:spPr>
          <a:xfrm>
            <a:off x="1352520" y="3349800"/>
            <a:ext cx="541440" cy="5428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38"/>
          <p:cNvSpPr/>
          <p:nvPr/>
        </p:nvSpPr>
        <p:spPr>
          <a:xfrm>
            <a:off x="1488960" y="2922480"/>
            <a:ext cx="525600" cy="52704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39"/>
          <p:cNvSpPr/>
          <p:nvPr/>
        </p:nvSpPr>
        <p:spPr>
          <a:xfrm>
            <a:off x="2252520" y="2120760"/>
            <a:ext cx="677880" cy="6796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40"/>
          <p:cNvSpPr/>
          <p:nvPr/>
        </p:nvSpPr>
        <p:spPr>
          <a:xfrm>
            <a:off x="2104920" y="2776680"/>
            <a:ext cx="584280" cy="5839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41"/>
          <p:cNvSpPr/>
          <p:nvPr/>
        </p:nvSpPr>
        <p:spPr>
          <a:xfrm flipH="1" flipV="1">
            <a:off x="-23760" y="4950000"/>
            <a:ext cx="156960" cy="1569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BD2D-CA51-4E84-B8CB-697C9A82EA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6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solidFill>
            <a:srgbClr val="f57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7"/>
          <p:cNvSpPr/>
          <p:nvPr/>
        </p:nvSpPr>
        <p:spPr>
          <a:xfrm rot="2399400">
            <a:off x="2061720" y="412560"/>
            <a:ext cx="216000" cy="21564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椭圆 8"/>
          <p:cNvSpPr/>
          <p:nvPr/>
        </p:nvSpPr>
        <p:spPr>
          <a:xfrm rot="2399400">
            <a:off x="2097000" y="453600"/>
            <a:ext cx="141480" cy="139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9"/>
          <p:cNvSpPr/>
          <p:nvPr/>
        </p:nvSpPr>
        <p:spPr>
          <a:xfrm rot="2399400">
            <a:off x="717120" y="55440"/>
            <a:ext cx="189000" cy="1890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椭圆 10"/>
          <p:cNvSpPr/>
          <p:nvPr/>
        </p:nvSpPr>
        <p:spPr>
          <a:xfrm rot="2399400">
            <a:off x="750600" y="88920"/>
            <a:ext cx="122040" cy="1238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椭圆 11"/>
          <p:cNvSpPr/>
          <p:nvPr/>
        </p:nvSpPr>
        <p:spPr>
          <a:xfrm rot="2399400">
            <a:off x="1574280" y="0"/>
            <a:ext cx="592200" cy="5922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椭圆 12"/>
          <p:cNvSpPr/>
          <p:nvPr/>
        </p:nvSpPr>
        <p:spPr>
          <a:xfrm rot="2399400">
            <a:off x="369720" y="-9000"/>
            <a:ext cx="368640" cy="3664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椭圆 13"/>
          <p:cNvSpPr/>
          <p:nvPr/>
        </p:nvSpPr>
        <p:spPr>
          <a:xfrm rot="2399400">
            <a:off x="403200" y="20520"/>
            <a:ext cx="291960" cy="2923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椭圆 14"/>
          <p:cNvSpPr/>
          <p:nvPr/>
        </p:nvSpPr>
        <p:spPr>
          <a:xfrm rot="2399400">
            <a:off x="900000" y="282600"/>
            <a:ext cx="376200" cy="3762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椭圆 15"/>
          <p:cNvSpPr/>
          <p:nvPr/>
        </p:nvSpPr>
        <p:spPr>
          <a:xfrm rot="2399400">
            <a:off x="104400" y="223920"/>
            <a:ext cx="378000" cy="3762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椭圆 16"/>
          <p:cNvSpPr/>
          <p:nvPr/>
        </p:nvSpPr>
        <p:spPr>
          <a:xfrm rot="2399400">
            <a:off x="1303200" y="456840"/>
            <a:ext cx="216000" cy="2160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17"/>
          <p:cNvSpPr/>
          <p:nvPr/>
        </p:nvSpPr>
        <p:spPr>
          <a:xfrm rot="2399400">
            <a:off x="600120" y="264960"/>
            <a:ext cx="216000" cy="21456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椭圆 18"/>
          <p:cNvSpPr/>
          <p:nvPr/>
        </p:nvSpPr>
        <p:spPr>
          <a:xfrm rot="2399400">
            <a:off x="1224000" y="128160"/>
            <a:ext cx="216000" cy="2160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椭圆 19"/>
          <p:cNvSpPr/>
          <p:nvPr/>
        </p:nvSpPr>
        <p:spPr>
          <a:xfrm rot="2399400">
            <a:off x="536040" y="422280"/>
            <a:ext cx="243000" cy="2412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椭圆 20"/>
          <p:cNvSpPr/>
          <p:nvPr/>
        </p:nvSpPr>
        <p:spPr>
          <a:xfrm rot="2399400">
            <a:off x="1671120" y="503280"/>
            <a:ext cx="189000" cy="1890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椭圆 21"/>
          <p:cNvSpPr/>
          <p:nvPr/>
        </p:nvSpPr>
        <p:spPr>
          <a:xfrm rot="2399400">
            <a:off x="1542600" y="167760"/>
            <a:ext cx="93600" cy="954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椭圆 22"/>
          <p:cNvSpPr/>
          <p:nvPr/>
        </p:nvSpPr>
        <p:spPr>
          <a:xfrm rot="2399400">
            <a:off x="2400120" y="556920"/>
            <a:ext cx="93600" cy="9504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椭圆 23"/>
          <p:cNvSpPr/>
          <p:nvPr/>
        </p:nvSpPr>
        <p:spPr>
          <a:xfrm rot="2399400">
            <a:off x="147600" y="264600"/>
            <a:ext cx="293760" cy="293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椭圆 24"/>
          <p:cNvSpPr/>
          <p:nvPr/>
        </p:nvSpPr>
        <p:spPr>
          <a:xfrm rot="2399400">
            <a:off x="417240" y="291960"/>
            <a:ext cx="93600" cy="9396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椭圆 25"/>
          <p:cNvSpPr/>
          <p:nvPr/>
        </p:nvSpPr>
        <p:spPr>
          <a:xfrm rot="2399400">
            <a:off x="28440" y="491760"/>
            <a:ext cx="216000" cy="2160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椭圆 26"/>
          <p:cNvSpPr/>
          <p:nvPr/>
        </p:nvSpPr>
        <p:spPr>
          <a:xfrm rot="2399400">
            <a:off x="-23760" y="518760"/>
            <a:ext cx="93600" cy="954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椭圆 27"/>
          <p:cNvSpPr/>
          <p:nvPr/>
        </p:nvSpPr>
        <p:spPr>
          <a:xfrm rot="2399400">
            <a:off x="196920" y="299520"/>
            <a:ext cx="216000" cy="2160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椭圆 28"/>
          <p:cNvSpPr/>
          <p:nvPr/>
        </p:nvSpPr>
        <p:spPr>
          <a:xfrm rot="2399400">
            <a:off x="934560" y="311040"/>
            <a:ext cx="316080" cy="317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椭圆 29"/>
          <p:cNvSpPr/>
          <p:nvPr/>
        </p:nvSpPr>
        <p:spPr>
          <a:xfrm rot="2399400">
            <a:off x="655200" y="366840"/>
            <a:ext cx="204840" cy="2048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椭圆 30"/>
          <p:cNvSpPr/>
          <p:nvPr/>
        </p:nvSpPr>
        <p:spPr>
          <a:xfrm rot="2399400">
            <a:off x="88920" y="565200"/>
            <a:ext cx="77760" cy="77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椭圆 31"/>
          <p:cNvSpPr/>
          <p:nvPr/>
        </p:nvSpPr>
        <p:spPr>
          <a:xfrm rot="2399400">
            <a:off x="1872720" y="552600"/>
            <a:ext cx="158760" cy="158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椭圆 32"/>
          <p:cNvSpPr/>
          <p:nvPr/>
        </p:nvSpPr>
        <p:spPr>
          <a:xfrm rot="2399400">
            <a:off x="1905120" y="583920"/>
            <a:ext cx="95040" cy="9504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椭圆 33"/>
          <p:cNvSpPr/>
          <p:nvPr/>
        </p:nvSpPr>
        <p:spPr>
          <a:xfrm rot="2399400">
            <a:off x="1331640" y="490320"/>
            <a:ext cx="156960" cy="158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椭圆 34"/>
          <p:cNvSpPr/>
          <p:nvPr/>
        </p:nvSpPr>
        <p:spPr>
          <a:xfrm rot="2399400">
            <a:off x="1364760" y="527040"/>
            <a:ext cx="93960" cy="9360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椭圆 35"/>
          <p:cNvSpPr/>
          <p:nvPr/>
        </p:nvSpPr>
        <p:spPr>
          <a:xfrm rot="2399400">
            <a:off x="455400" y="77400"/>
            <a:ext cx="179280" cy="1792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椭圆 36"/>
          <p:cNvSpPr/>
          <p:nvPr/>
        </p:nvSpPr>
        <p:spPr>
          <a:xfrm rot="2399400">
            <a:off x="566280" y="463320"/>
            <a:ext cx="162000" cy="1634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椭圆 37"/>
          <p:cNvSpPr/>
          <p:nvPr/>
        </p:nvSpPr>
        <p:spPr>
          <a:xfrm rot="2399400">
            <a:off x="680760" y="392040"/>
            <a:ext cx="156960" cy="1573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椭圆 38"/>
          <p:cNvSpPr/>
          <p:nvPr/>
        </p:nvSpPr>
        <p:spPr>
          <a:xfrm rot="2399400">
            <a:off x="990360" y="363600"/>
            <a:ext cx="203040" cy="20304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椭圆 39"/>
          <p:cNvSpPr/>
          <p:nvPr/>
        </p:nvSpPr>
        <p:spPr>
          <a:xfrm rot="2399400">
            <a:off x="842760" y="479520"/>
            <a:ext cx="174600" cy="17604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椭圆 40"/>
          <p:cNvSpPr/>
          <p:nvPr/>
        </p:nvSpPr>
        <p:spPr>
          <a:xfrm flipH="1" flipV="1" rot="2399400">
            <a:off x="-6840" y="542160"/>
            <a:ext cx="47880" cy="478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656E-7759-4F5C-AAA4-624E92A3A8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椭圆 6"/>
          <p:cNvSpPr/>
          <p:nvPr/>
        </p:nvSpPr>
        <p:spPr>
          <a:xfrm>
            <a:off x="1181160" y="258840"/>
            <a:ext cx="314280" cy="31428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组合 7"/>
          <p:cNvGrpSpPr/>
          <p:nvPr/>
        </p:nvGrpSpPr>
        <p:grpSpPr>
          <a:xfrm>
            <a:off x="512640" y="-514440"/>
            <a:ext cx="825480" cy="827280"/>
            <a:chOff x="512640" y="-514440"/>
            <a:chExt cx="825480" cy="827280"/>
          </a:xfrm>
        </p:grpSpPr>
        <p:sp>
          <p:nvSpPr>
            <p:cNvPr id="196" name="椭圆 8"/>
            <p:cNvSpPr/>
            <p:nvPr/>
          </p:nvSpPr>
          <p:spPr>
            <a:xfrm>
              <a:off x="512640" y="-514440"/>
              <a:ext cx="825480" cy="82728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椭圆 9"/>
            <p:cNvSpPr/>
            <p:nvPr/>
          </p:nvSpPr>
          <p:spPr>
            <a:xfrm>
              <a:off x="604440" y="-422280"/>
              <a:ext cx="641520" cy="643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椭圆 10"/>
            <p:cNvSpPr/>
            <p:nvPr/>
          </p:nvSpPr>
          <p:spPr>
            <a:xfrm>
              <a:off x="703080" y="-360000"/>
              <a:ext cx="471600" cy="47304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11"/>
          <p:cNvGrpSpPr/>
          <p:nvPr/>
        </p:nvGrpSpPr>
        <p:grpSpPr>
          <a:xfrm>
            <a:off x="-368280" y="-47520"/>
            <a:ext cx="650880" cy="650880"/>
            <a:chOff x="-368280" y="-47520"/>
            <a:chExt cx="650880" cy="650880"/>
          </a:xfrm>
        </p:grpSpPr>
        <p:sp>
          <p:nvSpPr>
            <p:cNvPr id="200" name="椭圆 12"/>
            <p:cNvSpPr/>
            <p:nvPr/>
          </p:nvSpPr>
          <p:spPr>
            <a:xfrm>
              <a:off x="-368280" y="-47520"/>
              <a:ext cx="650880" cy="65088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椭圆 13"/>
            <p:cNvSpPr/>
            <p:nvPr/>
          </p:nvSpPr>
          <p:spPr>
            <a:xfrm>
              <a:off x="-169560" y="185760"/>
              <a:ext cx="235080" cy="235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组合 14"/>
          <p:cNvGrpSpPr/>
          <p:nvPr/>
        </p:nvGrpSpPr>
        <p:grpSpPr>
          <a:xfrm>
            <a:off x="-85680" y="-3240"/>
            <a:ext cx="1228680" cy="1228680"/>
            <a:chOff x="-85680" y="-3240"/>
            <a:chExt cx="1228680" cy="1228680"/>
          </a:xfrm>
        </p:grpSpPr>
        <p:sp>
          <p:nvSpPr>
            <p:cNvPr id="203" name="椭圆 15"/>
            <p:cNvSpPr/>
            <p:nvPr/>
          </p:nvSpPr>
          <p:spPr>
            <a:xfrm>
              <a:off x="-85680" y="-3240"/>
              <a:ext cx="1228680" cy="122868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椭圆 16"/>
            <p:cNvSpPr/>
            <p:nvPr/>
          </p:nvSpPr>
          <p:spPr>
            <a:xfrm>
              <a:off x="14040" y="115560"/>
              <a:ext cx="974880" cy="9748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椭圆 17"/>
            <p:cNvSpPr/>
            <p:nvPr/>
          </p:nvSpPr>
          <p:spPr>
            <a:xfrm>
              <a:off x="193680" y="311040"/>
              <a:ext cx="598320" cy="60012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组合 18"/>
          <p:cNvGrpSpPr/>
          <p:nvPr/>
        </p:nvGrpSpPr>
        <p:grpSpPr>
          <a:xfrm>
            <a:off x="1163520" y="611280"/>
            <a:ext cx="314280" cy="315720"/>
            <a:chOff x="1163520" y="611280"/>
            <a:chExt cx="314280" cy="315720"/>
          </a:xfrm>
        </p:grpSpPr>
        <p:sp>
          <p:nvSpPr>
            <p:cNvPr id="207" name="椭圆 19"/>
            <p:cNvSpPr/>
            <p:nvPr/>
          </p:nvSpPr>
          <p:spPr>
            <a:xfrm>
              <a:off x="1163520" y="611280"/>
              <a:ext cx="314280" cy="31572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0"/>
            <p:cNvSpPr/>
            <p:nvPr/>
          </p:nvSpPr>
          <p:spPr>
            <a:xfrm flipH="1" flipV="1">
              <a:off x="1224720" y="702360"/>
              <a:ext cx="157320" cy="1587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TextBox 21"/>
          <p:cNvSpPr/>
          <p:nvPr/>
        </p:nvSpPr>
        <p:spPr>
          <a:xfrm>
            <a:off x="1495440" y="185760"/>
            <a:ext cx="11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760d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6D63-8BE0-495E-8A15-038CD5DF88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6"/>
          <p:cNvSpPr/>
          <p:nvPr/>
        </p:nvSpPr>
        <p:spPr>
          <a:xfrm>
            <a:off x="14400" y="771480"/>
            <a:ext cx="9144000" cy="3471840"/>
          </a:xfrm>
          <a:prstGeom prst="rect">
            <a:avLst/>
          </a:prstGeom>
          <a:solidFill>
            <a:srgbClr val="f57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椭圆 7"/>
          <p:cNvSpPr/>
          <p:nvPr/>
        </p:nvSpPr>
        <p:spPr>
          <a:xfrm>
            <a:off x="8467560" y="3830760"/>
            <a:ext cx="316080" cy="315720"/>
          </a:xfrm>
          <a:prstGeom prst="ellipse">
            <a:avLst/>
          </a:prstGeom>
          <a:solidFill>
            <a:srgbClr val="f5760d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组合 8"/>
          <p:cNvGrpSpPr/>
          <p:nvPr/>
        </p:nvGrpSpPr>
        <p:grpSpPr>
          <a:xfrm>
            <a:off x="7128000" y="3392640"/>
            <a:ext cx="650880" cy="650880"/>
            <a:chOff x="7128000" y="3392640"/>
            <a:chExt cx="650880" cy="650880"/>
          </a:xfrm>
        </p:grpSpPr>
        <p:sp>
          <p:nvSpPr>
            <p:cNvPr id="254" name="椭圆 9"/>
            <p:cNvSpPr/>
            <p:nvPr/>
          </p:nvSpPr>
          <p:spPr>
            <a:xfrm>
              <a:off x="7128000" y="3392640"/>
              <a:ext cx="650880" cy="65088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椭圆 10"/>
            <p:cNvSpPr/>
            <p:nvPr/>
          </p:nvSpPr>
          <p:spPr>
            <a:xfrm>
              <a:off x="7326360" y="3625920"/>
              <a:ext cx="235080" cy="235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组合 11"/>
          <p:cNvGrpSpPr/>
          <p:nvPr/>
        </p:nvGrpSpPr>
        <p:grpSpPr>
          <a:xfrm>
            <a:off x="7410600" y="3568680"/>
            <a:ext cx="1228680" cy="1228680"/>
            <a:chOff x="7410600" y="3568680"/>
            <a:chExt cx="1228680" cy="1228680"/>
          </a:xfrm>
        </p:grpSpPr>
        <p:sp>
          <p:nvSpPr>
            <p:cNvPr id="257" name="椭圆 12"/>
            <p:cNvSpPr/>
            <p:nvPr/>
          </p:nvSpPr>
          <p:spPr>
            <a:xfrm>
              <a:off x="7410600" y="3568680"/>
              <a:ext cx="1228680" cy="122868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椭圆 13"/>
            <p:cNvSpPr/>
            <p:nvPr/>
          </p:nvSpPr>
          <p:spPr>
            <a:xfrm>
              <a:off x="7510320" y="3687480"/>
              <a:ext cx="974880" cy="9748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椭圆 14"/>
            <p:cNvSpPr/>
            <p:nvPr/>
          </p:nvSpPr>
          <p:spPr>
            <a:xfrm>
              <a:off x="7689960" y="3882960"/>
              <a:ext cx="598320" cy="60012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5"/>
          <p:cNvGrpSpPr/>
          <p:nvPr/>
        </p:nvGrpSpPr>
        <p:grpSpPr>
          <a:xfrm>
            <a:off x="8659800" y="4183200"/>
            <a:ext cx="314280" cy="315720"/>
            <a:chOff x="8659800" y="4183200"/>
            <a:chExt cx="314280" cy="315720"/>
          </a:xfrm>
        </p:grpSpPr>
        <p:sp>
          <p:nvSpPr>
            <p:cNvPr id="261" name="椭圆 16"/>
            <p:cNvSpPr/>
            <p:nvPr/>
          </p:nvSpPr>
          <p:spPr>
            <a:xfrm>
              <a:off x="8659800" y="4183200"/>
              <a:ext cx="314280" cy="31572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椭圆 17"/>
            <p:cNvSpPr/>
            <p:nvPr/>
          </p:nvSpPr>
          <p:spPr>
            <a:xfrm flipH="1" flipV="1">
              <a:off x="8721000" y="4274280"/>
              <a:ext cx="157320" cy="1587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18"/>
          <p:cNvGrpSpPr/>
          <p:nvPr/>
        </p:nvGrpSpPr>
        <p:grpSpPr>
          <a:xfrm>
            <a:off x="8194680" y="2987640"/>
            <a:ext cx="622440" cy="622440"/>
            <a:chOff x="8194680" y="2987640"/>
            <a:chExt cx="622440" cy="622440"/>
          </a:xfrm>
        </p:grpSpPr>
        <p:sp>
          <p:nvSpPr>
            <p:cNvPr id="264" name="椭圆 19"/>
            <p:cNvSpPr/>
            <p:nvPr/>
          </p:nvSpPr>
          <p:spPr>
            <a:xfrm>
              <a:off x="8194680" y="2987640"/>
              <a:ext cx="622440" cy="62244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椭圆 20"/>
            <p:cNvSpPr/>
            <p:nvPr/>
          </p:nvSpPr>
          <p:spPr>
            <a:xfrm>
              <a:off x="8245440" y="3047760"/>
              <a:ext cx="493920" cy="4939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椭圆 21"/>
            <p:cNvSpPr/>
            <p:nvPr/>
          </p:nvSpPr>
          <p:spPr>
            <a:xfrm>
              <a:off x="8335800" y="3147840"/>
              <a:ext cx="303120" cy="30168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C664-D3BA-417F-A755-FA3CEC8F84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9"/>
          <p:cNvSpPr/>
          <p:nvPr/>
        </p:nvSpPr>
        <p:spPr>
          <a:xfrm>
            <a:off x="2592360" y="1671480"/>
            <a:ext cx="641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隶书简体(视频)"/>
                <a:ea typeface="方正隶书简体(视频)"/>
              </a:rPr>
              <a:t>黄白圈通用</a:t>
            </a:r>
            <a:r>
              <a:rPr b="0" lang="en-US" sz="4000" spc="-1" strike="noStrike">
                <a:solidFill>
                  <a:srgbClr val="ffffff"/>
                </a:solidFill>
                <a:latin typeface="方正隶书简体(视频)"/>
                <a:ea typeface="方正隶书简体(视频)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隶书简体(视频)"/>
                <a:ea typeface="方正隶书简体(视频)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40"/>
          <p:cNvSpPr/>
          <p:nvPr/>
        </p:nvSpPr>
        <p:spPr>
          <a:xfrm>
            <a:off x="6699240" y="257976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副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12"/>
          <p:cNvSpPr/>
          <p:nvPr/>
        </p:nvSpPr>
        <p:spPr>
          <a:xfrm>
            <a:off x="547560" y="4732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组合 3"/>
          <p:cNvGrpSpPr/>
          <p:nvPr/>
        </p:nvGrpSpPr>
        <p:grpSpPr>
          <a:xfrm>
            <a:off x="1990800" y="1220760"/>
            <a:ext cx="846000" cy="847800"/>
            <a:chOff x="1990800" y="1220760"/>
            <a:chExt cx="846000" cy="847800"/>
          </a:xfrm>
        </p:grpSpPr>
        <p:sp>
          <p:nvSpPr>
            <p:cNvPr id="312" name="椭圆 1"/>
            <p:cNvSpPr/>
            <p:nvPr/>
          </p:nvSpPr>
          <p:spPr>
            <a:xfrm>
              <a:off x="1990800" y="1220760"/>
              <a:ext cx="846000" cy="84780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TextBox 2"/>
            <p:cNvSpPr/>
            <p:nvPr/>
          </p:nvSpPr>
          <p:spPr>
            <a:xfrm>
              <a:off x="2124720" y="1375920"/>
              <a:ext cx="57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组合 10"/>
          <p:cNvGrpSpPr/>
          <p:nvPr/>
        </p:nvGrpSpPr>
        <p:grpSpPr>
          <a:xfrm>
            <a:off x="-2535120" y="1274760"/>
            <a:ext cx="9897840" cy="758880"/>
            <a:chOff x="-2535120" y="1274760"/>
            <a:chExt cx="9897840" cy="758880"/>
          </a:xfrm>
        </p:grpSpPr>
        <p:grpSp>
          <p:nvGrpSpPr>
            <p:cNvPr id="315" name="组合 7"/>
            <p:cNvGrpSpPr/>
            <p:nvPr/>
          </p:nvGrpSpPr>
          <p:grpSpPr>
            <a:xfrm>
              <a:off x="2862720" y="1274760"/>
              <a:ext cx="4500000" cy="734760"/>
              <a:chOff x="2862720" y="1274760"/>
              <a:chExt cx="4500000" cy="734760"/>
            </a:xfrm>
          </p:grpSpPr>
          <p:sp>
            <p:nvSpPr>
              <p:cNvPr id="316" name="圆角矩形 4"/>
              <p:cNvSpPr/>
              <p:nvPr/>
            </p:nvSpPr>
            <p:spPr>
              <a:xfrm>
                <a:off x="2862720" y="1274760"/>
                <a:ext cx="4500000" cy="734760"/>
              </a:xfrm>
              <a:prstGeom prst="roundRect">
                <a:avLst>
                  <a:gd name="adj" fmla="val 50000"/>
                </a:avLst>
              </a:prstGeom>
              <a:solidFill>
                <a:srgbClr val="f576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圆角矩形 5"/>
              <p:cNvSpPr/>
              <p:nvPr/>
            </p:nvSpPr>
            <p:spPr>
              <a:xfrm>
                <a:off x="3152880" y="1373040"/>
                <a:ext cx="3871440" cy="5382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TextBox 6"/>
              <p:cNvSpPr/>
              <p:nvPr/>
            </p:nvSpPr>
            <p:spPr>
              <a:xfrm>
                <a:off x="3153960" y="1373400"/>
                <a:ext cx="3870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方正隶书简体(视频)"/>
                    <a:ea typeface="方正隶书简体(视频)"/>
                  </a:rPr>
                  <a:t>标题一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圆角矩形 9"/>
            <p:cNvSpPr/>
            <p:nvPr/>
          </p:nvSpPr>
          <p:spPr>
            <a:xfrm>
              <a:off x="-2535120" y="1298520"/>
              <a:ext cx="4500360" cy="73512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合 27"/>
          <p:cNvGrpSpPr/>
          <p:nvPr/>
        </p:nvGrpSpPr>
        <p:grpSpPr>
          <a:xfrm>
            <a:off x="1990800" y="2378160"/>
            <a:ext cx="846000" cy="847800"/>
            <a:chOff x="1990800" y="2378160"/>
            <a:chExt cx="846000" cy="847800"/>
          </a:xfrm>
        </p:grpSpPr>
        <p:sp>
          <p:nvSpPr>
            <p:cNvPr id="321" name="椭圆 28"/>
            <p:cNvSpPr/>
            <p:nvPr/>
          </p:nvSpPr>
          <p:spPr>
            <a:xfrm>
              <a:off x="1990800" y="2378160"/>
              <a:ext cx="846000" cy="84780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TextBox 29"/>
            <p:cNvSpPr/>
            <p:nvPr/>
          </p:nvSpPr>
          <p:spPr>
            <a:xfrm>
              <a:off x="2124720" y="2533320"/>
              <a:ext cx="57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组合 30"/>
          <p:cNvGrpSpPr/>
          <p:nvPr/>
        </p:nvGrpSpPr>
        <p:grpSpPr>
          <a:xfrm>
            <a:off x="1990800" y="3549600"/>
            <a:ext cx="846000" cy="846360"/>
            <a:chOff x="1990800" y="3549600"/>
            <a:chExt cx="846000" cy="846360"/>
          </a:xfrm>
        </p:grpSpPr>
        <p:sp>
          <p:nvSpPr>
            <p:cNvPr id="324" name="椭圆 31"/>
            <p:cNvSpPr/>
            <p:nvPr/>
          </p:nvSpPr>
          <p:spPr>
            <a:xfrm>
              <a:off x="1990800" y="3549600"/>
              <a:ext cx="846000" cy="846360"/>
            </a:xfrm>
            <a:prstGeom prst="ellipse">
              <a:avLst/>
            </a:prstGeom>
            <a:solidFill>
              <a:srgbClr val="f5760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TextBox 32"/>
            <p:cNvSpPr/>
            <p:nvPr/>
          </p:nvSpPr>
          <p:spPr>
            <a:xfrm>
              <a:off x="2124720" y="3704400"/>
              <a:ext cx="57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6" name="组合 33"/>
          <p:cNvGrpSpPr/>
          <p:nvPr/>
        </p:nvGrpSpPr>
        <p:grpSpPr>
          <a:xfrm>
            <a:off x="-2538360" y="2422440"/>
            <a:ext cx="9897840" cy="758880"/>
            <a:chOff x="-2538360" y="2422440"/>
            <a:chExt cx="9897840" cy="758880"/>
          </a:xfrm>
        </p:grpSpPr>
        <p:grpSp>
          <p:nvGrpSpPr>
            <p:cNvPr id="327" name="组合 34"/>
            <p:cNvGrpSpPr/>
            <p:nvPr/>
          </p:nvGrpSpPr>
          <p:grpSpPr>
            <a:xfrm>
              <a:off x="2859480" y="2422440"/>
              <a:ext cx="4500000" cy="734760"/>
              <a:chOff x="2859480" y="2422440"/>
              <a:chExt cx="4500000" cy="734760"/>
            </a:xfrm>
          </p:grpSpPr>
          <p:sp>
            <p:nvSpPr>
              <p:cNvPr id="328" name="圆角矩形 36"/>
              <p:cNvSpPr/>
              <p:nvPr/>
            </p:nvSpPr>
            <p:spPr>
              <a:xfrm>
                <a:off x="2859480" y="2422440"/>
                <a:ext cx="4500000" cy="734760"/>
              </a:xfrm>
              <a:prstGeom prst="roundRect">
                <a:avLst>
                  <a:gd name="adj" fmla="val 50000"/>
                </a:avLst>
              </a:prstGeom>
              <a:solidFill>
                <a:srgbClr val="f576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圆角矩形 37"/>
              <p:cNvSpPr/>
              <p:nvPr/>
            </p:nvSpPr>
            <p:spPr>
              <a:xfrm>
                <a:off x="3149640" y="2520720"/>
                <a:ext cx="3871440" cy="5382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TextBox 38"/>
              <p:cNvSpPr/>
              <p:nvPr/>
            </p:nvSpPr>
            <p:spPr>
              <a:xfrm>
                <a:off x="3150720" y="2521080"/>
                <a:ext cx="3870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方正隶书简体(视频)"/>
                    <a:ea typeface="方正隶书简体(视频)"/>
                  </a:rPr>
                  <a:t>标题二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1" name="圆角矩形 35"/>
            <p:cNvSpPr/>
            <p:nvPr/>
          </p:nvSpPr>
          <p:spPr>
            <a:xfrm>
              <a:off x="-2538360" y="2446200"/>
              <a:ext cx="4500360" cy="73512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39"/>
          <p:cNvGrpSpPr/>
          <p:nvPr/>
        </p:nvGrpSpPr>
        <p:grpSpPr>
          <a:xfrm>
            <a:off x="-2536920" y="3618000"/>
            <a:ext cx="9899640" cy="757080"/>
            <a:chOff x="-2536920" y="3618000"/>
            <a:chExt cx="9899640" cy="757080"/>
          </a:xfrm>
        </p:grpSpPr>
        <p:grpSp>
          <p:nvGrpSpPr>
            <p:cNvPr id="333" name="组合 40"/>
            <p:cNvGrpSpPr/>
            <p:nvPr/>
          </p:nvGrpSpPr>
          <p:grpSpPr>
            <a:xfrm>
              <a:off x="2861640" y="3618000"/>
              <a:ext cx="4501080" cy="733320"/>
              <a:chOff x="2861640" y="3618000"/>
              <a:chExt cx="4501080" cy="733320"/>
            </a:xfrm>
          </p:grpSpPr>
          <p:sp>
            <p:nvSpPr>
              <p:cNvPr id="334" name="圆角矩形 42"/>
              <p:cNvSpPr/>
              <p:nvPr/>
            </p:nvSpPr>
            <p:spPr>
              <a:xfrm>
                <a:off x="2861640" y="3618000"/>
                <a:ext cx="4501080" cy="733320"/>
              </a:xfrm>
              <a:prstGeom prst="roundRect">
                <a:avLst>
                  <a:gd name="adj" fmla="val 50000"/>
                </a:avLst>
              </a:prstGeom>
              <a:solidFill>
                <a:srgbClr val="f576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圆角矩形 43"/>
              <p:cNvSpPr/>
              <p:nvPr/>
            </p:nvSpPr>
            <p:spPr>
              <a:xfrm>
                <a:off x="3152160" y="3716280"/>
                <a:ext cx="3872520" cy="536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TextBox 44"/>
              <p:cNvSpPr/>
              <p:nvPr/>
            </p:nvSpPr>
            <p:spPr>
              <a:xfrm>
                <a:off x="3152160" y="3716640"/>
                <a:ext cx="387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方正隶书简体(视频)"/>
                    <a:ea typeface="方正隶书简体(视频)"/>
                  </a:rPr>
                  <a:t>标题三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7" name="圆角矩形 41"/>
            <p:cNvSpPr/>
            <p:nvPr/>
          </p:nvSpPr>
          <p:spPr>
            <a:xfrm>
              <a:off x="-2536920" y="3641760"/>
              <a:ext cx="4500720" cy="73332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0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9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75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 repeatCount="100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7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 repeatCount="1000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75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9"/>
          <p:cNvSpPr/>
          <p:nvPr/>
        </p:nvSpPr>
        <p:spPr>
          <a:xfrm>
            <a:off x="2951280" y="44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隶书简体(视频)"/>
                <a:ea typeface="方正隶书简体(视频)"/>
              </a:rPr>
              <a:t>单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42"/>
          <p:cNvSpPr/>
          <p:nvPr/>
        </p:nvSpPr>
        <p:spPr>
          <a:xfrm>
            <a:off x="708120" y="1147680"/>
            <a:ext cx="78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心才是硬道理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38" descr=""/>
          <p:cNvPicPr/>
          <p:nvPr/>
        </p:nvPicPr>
        <p:blipFill>
          <a:blip r:embed="rId1"/>
          <a:stretch/>
        </p:blipFill>
        <p:spPr>
          <a:xfrm rot="20929200">
            <a:off x="1417320" y="1899720"/>
            <a:ext cx="2508120" cy="158940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41" name="TextBox 39"/>
          <p:cNvSpPr/>
          <p:nvPr/>
        </p:nvSpPr>
        <p:spPr>
          <a:xfrm rot="20910600">
            <a:off x="4080960" y="229068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4:27:32Z</dcterms:created>
  <dc:creator>微软中国</dc:creator>
  <dc:description/>
  <dc:language>en-US</dc:language>
  <cp:lastModifiedBy>王玉清</cp:lastModifiedBy>
  <dcterms:modified xsi:type="dcterms:W3CDTF">2016-02-25T02:40:06Z</dcterms:modified>
  <cp:revision>9</cp:revision>
  <dc:subject/>
  <dc:title>PowerPoint 演示文稿</dc:title>
</cp:coreProperties>
</file>