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54E-CEF9-4D7E-A194-66C562CC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348-4B73-492D-8149-329151D6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632B9-7D79-423B-AE0F-D30A6C0B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34E47-2B73-4BE9-BABC-3728DE95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DF848-BBE7-4E80-BA75-AA6BFA08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55839-F593-4B57-B28E-F65C96BD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A8E52-1908-4A40-97D6-2B6505B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BD24E-6FBA-4BC0-8C33-74645551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2D900-B7A6-4761-B69C-EBD67B6E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4986B-4C9C-40B5-B1FA-F3EAF85A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16596-854A-4FE4-BB1B-E1727537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DFE62-CD84-4F50-9FBA-1BC991B0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F3E-6B7C-41BC-A07B-97B6D9ED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D073F-E083-4001-8A54-CD41A4C8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B727A-3DA0-4095-8C19-06A75D86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C76AE-1AFF-4B7C-B561-9229B724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5549E-C5EC-49DA-93DE-5570DE7F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2B300-D68A-4C14-958A-F2D1EDDC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2F30B-9C06-4FE0-94B6-63E3F195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AC165-86AE-474E-AD01-8F7A1C5F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1B2D5-39D0-4438-8223-9477AED2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2E4B4-005A-4B85-A6E1-D501C0B4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97849-E139-441C-B849-E48B0BF5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A56-3DEF-4FAA-AA6B-E4A65CE7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C2373-AA58-40E0-9F70-464E37AD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AC78E-2FE5-4327-A017-F930F231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68CB3-E061-40B9-977B-30211FCB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47894-85A0-419F-8DD2-F44CCE4E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3C1E4-E002-43B6-A4A3-9A906B1E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ADF9F-A41D-4C0F-A25C-3D2E69E1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C856F-1B08-4DCB-A485-58208343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C0564-F743-4815-A6DD-D51DE72D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E44D9-58F9-45CB-B3BE-D2A57F61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E83D3-A483-4A0A-A329-14FEEAA7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B345-E8BB-4F1F-B420-7D7B0CD8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53482-DBD9-4E4B-9E9C-8F8387CC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E58EF-19A1-40DF-8628-E5446FF5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B5E97-4B11-4D17-8C4F-3A78B274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965E4-3C78-4852-A75E-A6743A33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8266E-B178-4C59-9725-DC4D497E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B772A-13EB-4868-B219-C19DA54D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BD250-A24C-48D9-B5F0-000374E7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54921-28FC-47E5-BB7B-C070949F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1668B-7664-4AC6-9CBD-5C753F32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4B8B9-3D06-4F0E-B29C-CB4F513F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B083-C488-459C-9450-5CB84894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72C1E-C880-46C4-9492-039A3EA7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9557E-B309-406A-AADE-B3A77DE4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387B1-EF4F-4000-8B0B-DCEEAF87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245DB-4313-40AF-96A5-4DDC1649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9C7BD-EE83-49A3-914D-952E3294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B9944-B166-4390-957E-304F8F96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1DAE9-9B49-480B-BC2C-A229695A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59575-562E-4952-B9A2-215C9F36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73540-B411-4A68-A041-6F2245DD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43BAD-5938-4E5D-8205-6284B487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B30E-E50A-4A30-9546-01AB51A1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F2E74-3F27-4D68-9474-ACAE1E94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C4338-C2A1-4F72-AD45-3B52DA7E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0F184-6012-411C-8AC3-1EA18886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1FAEA-B1DE-448B-8631-D70F89C7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2FBD7-53B3-44F3-A7F1-37F7F209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63BD9-EA13-48FF-93A7-7D01F6C9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CE5A4-11DA-447D-927F-D6B676AE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D75D-B9DB-492E-9C06-F67AC986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86BE-6CA5-4DC3-AF0E-54000211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878C-7913-49D2-B53F-51975096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7BFE-24B9-426F-AEE3-7357B7ED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F9A-0747-4037-93F6-35CE9AAC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A626-FE7A-4B0C-ABCC-B1CF8E09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8817-780E-465D-BBA0-C2127338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7273-DA4E-43C0-B5B8-9E3FD220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5109-8D9B-4FA2-B7FB-3CE1E8CB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E50F-690E-475C-93DC-06E9BC30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D6394-60F5-43D8-A571-320855FB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DF84-1410-4AB5-A385-79B80BCF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8FA97-81FB-4ECC-AD10-37F66824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C430-9A99-4B15-8A9A-3E8556F6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0276-5A0B-4701-8486-FE74C073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0EA-4662-4700-B17F-68CD08C6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7495-53B7-4A82-8D26-8E17E07D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56712-4C2E-4154-B2E8-E92BF2BC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A2EF-9360-4ADC-B79D-6CA3C274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5C0E-7622-4D92-A257-D1439D59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0A2D9-23BF-4602-9B61-6FDD77D0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30B5-3F7D-4D65-90C3-DAE7FBC9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5FBE-8F8C-4197-A514-7C73F03E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026EE-3333-4A11-937D-6167AA0E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9467A-16CD-4B9A-A532-917BF923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DF9B3-580E-4E80-A5D8-71CB9819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8A9-10C4-4CFD-8370-C8B66431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AE42-99DD-4C1C-A7E3-0881FA21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5F2AD-E89A-4BC3-AA3A-4FA9B207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76B4B-B601-493C-9E06-D559AC74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8AF4E-9675-49DF-887F-7AA2FA86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885A5-5895-42AB-8B95-895F9CF5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2F81F-B72B-4740-AB49-A6721BB8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DDFBA-4897-47B0-A058-0F4C186A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A832A-741A-43B2-8167-F60362BE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435D-775B-492D-8BC4-03546F36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09F63-3286-4AD6-A2E9-3DFA1965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8C3-4C5B-4429-8F8D-E4B766DE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A4CB0-2EA8-4B2E-964D-7983FEF4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FA013-D3EE-4DF8-BE6B-0FB7498A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7442B-1305-4A36-B491-A5FD977A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12090-EAB8-4D82-ABE7-E2E69854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75D84-9C74-4414-AE76-6A95E0FB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10F45-63FF-4AB6-A7BB-3C6A3513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AE704-DE8F-4448-884D-F939EAFC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00B7D-6B10-434F-AC50-729C39E0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BADBA-A7D1-418E-80A7-070937AD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1984B-0D47-405C-AE01-CA97DA34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129-2F07-4E8E-AA6B-8CCE0317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6C179-5AD0-441E-8565-E3BF4B01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A20A4-6819-47C8-927D-E44311E6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A28B1-3712-46F6-A134-C296B04B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09915-C7ED-471B-A374-0A89513C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E2CC4-ED49-4A5E-80DE-1214F062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518CC-80B6-4486-9544-CCBE62E5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A03D6-3FBE-4A83-B684-F4F8BBE4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9B9AF-9715-473E-9F1D-49AA496B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495E0-3C6A-4070-B612-30B2C427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D5BB7-A899-49B7-99AF-9009B5C3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FE7-0DFB-4697-8065-A76D9D3C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F9038-9666-4B7E-9150-FDE62FFC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41619-7325-4241-8EE9-06CC34F3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8961A-9D1F-42A7-BC4F-4D9C2A28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DA987-7718-4EB2-B19F-E411317B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34D9F-3363-407F-ADC9-7FAEBC4D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50729-CA3C-42D9-9797-7DB59645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C8BD6-87AD-4A10-919A-C06F384F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9BA89-6431-4568-9B01-18C542E5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F408E-9A40-4ACF-8C35-689DB733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2073B-3C15-449C-BEAC-ECC051E6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795-FFE6-4E6F-B57D-7DECA3B0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7E7D4-8E7B-4405-90B5-EE891BFB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B7F14-7BC0-4425-BB87-5A9EAEE9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B4D03-F4F4-41D4-9577-5876DEE9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E7939-D438-4EA9-86EA-909AF979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05489-FE13-415C-81C3-ABE63E98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07EFC-ABB9-4C37-B955-54F5CA06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3E21B-C3FF-49AE-9B7F-E371FE50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8D623-919B-4C7F-B6EA-1E1B8DF7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5ED1C-AD18-4FEA-8B9B-9CF35571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A773F-2F24-4660-B3E4-BF408B93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12F-0EF0-4E6D-AC27-8BB23FC8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44951-8E0E-4B76-953C-A932FE0F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71A22-FECA-46C3-BC88-D3EB4BBE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0416D-49C1-4BF7-9349-0299DA48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70D68-663C-4A7F-9CA8-03A0C55D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6C27D-062C-451B-B51A-4693CF3A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9A932-D9AE-4E49-B1C8-CBD82275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094B4-5206-4EE5-96DD-00F4C534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376ED-4E30-4591-8425-B0CDCCAF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D10E5-86F6-4EBE-842D-A4ED1A14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B69CA-B5F9-4BC1-A8D5-5415A40A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0FAA-5871-488B-A233-80EF9094AF0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6628-FCDD-431D-81C2-FD1A6CEDE6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6145-F20A-4551-A44D-1C10B58466E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D997-C582-487E-A75E-A5FFB658DD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E527-527B-46C5-BF29-8DB07B0B25E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6B94-8B2E-4669-A890-8151205D2C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3219-5AB6-457F-BEF6-D8127C49F26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9E4C-365E-4D36-A551-D156C82D3D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9D1F-060D-45CA-A10A-8C9073E970C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439C-0A65-48CE-BCB8-FD4037A502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4DEA-60E0-4DC0-91DA-71BBB15C4A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612D-3863-47D9-A8FB-1625C0ECB7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A9FC-C236-4A0C-BCFA-0690861848B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4EFA-31C4-4DDA-9C92-CF8406AB65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C4AD-017A-46B5-8877-DCD894F8E2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5C82-0826-4744-AD44-ED291469BD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006B-CC48-4AA1-878B-CB5037CFD2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7A57-8C9C-4450-A089-62BB9C7151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6936-35CE-493F-84CF-522567B0B36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D19F-CF18-4E4E-9226-C245212E22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6753-5EEA-4406-874F-F4514FD98D6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0FE6-D019-4024-9292-EA8BA16FD9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C056-235D-4C40-9C0F-DE874C9B445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B6FB-1D5F-4A6E-9A08-1829424FC0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18BB-98B7-4F6C-8902-9B00F68703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BF76-A8BD-4725-8719-A74B0E0A25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rcRect l="13575" t="9752" r="16476" b="15029"/>
          <a:stretch/>
        </p:blipFill>
        <p:spPr>
          <a:xfrm>
            <a:off x="-4680" y="-12600"/>
            <a:ext cx="9180360" cy="6870600"/>
          </a:xfrm>
          <a:prstGeom prst="rect">
            <a:avLst/>
          </a:prstGeom>
          <a:ln w="0">
            <a:noFill/>
          </a:ln>
        </p:spPr>
      </p:pic>
      <p:sp>
        <p:nvSpPr>
          <p:cNvPr id="534" name="TextBox 4"/>
          <p:cNvSpPr/>
          <p:nvPr/>
        </p:nvSpPr>
        <p:spPr>
          <a:xfrm>
            <a:off x="466560" y="476280"/>
            <a:ext cx="208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6"/>
          <p:cNvSpPr/>
          <p:nvPr/>
        </p:nvSpPr>
        <p:spPr>
          <a:xfrm>
            <a:off x="5616720" y="3422520"/>
            <a:ext cx="26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矩形 5" descr=""/>
          <p:cNvPicPr/>
          <p:nvPr/>
        </p:nvPicPr>
        <p:blipFill>
          <a:blip r:embed="rId2"/>
          <a:stretch/>
        </p:blipFill>
        <p:spPr>
          <a:xfrm>
            <a:off x="2041560" y="901800"/>
            <a:ext cx="6950160" cy="5157720"/>
          </a:xfrm>
          <a:prstGeom prst="rect">
            <a:avLst/>
          </a:prstGeom>
          <a:ln w="0">
            <a:noFill/>
          </a:ln>
        </p:spPr>
      </p:pic>
      <p:sp>
        <p:nvSpPr>
          <p:cNvPr id="537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"/>
          <p:cNvPicPr/>
          <p:nvPr/>
        </p:nvPicPr>
        <p:blipFill>
          <a:blip r:embed="rId2"/>
          <a:srcRect l="0" t="0" r="36927" b="24689"/>
          <a:stretch/>
        </p:blipFill>
        <p:spPr>
          <a:xfrm>
            <a:off x="7373880" y="522288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"/>
          <p:cNvPicPr/>
          <p:nvPr/>
        </p:nvPicPr>
        <p:blipFill>
          <a:blip r:embed="rId3"/>
          <a:srcRect l="36927" t="24689" r="0" b="0"/>
          <a:stretch/>
        </p:blipFill>
        <p:spPr>
          <a:xfrm>
            <a:off x="-14400" y="-1440"/>
            <a:ext cx="1782720" cy="1633320"/>
          </a:xfrm>
          <a:prstGeom prst="rect">
            <a:avLst/>
          </a:prstGeom>
          <a:ln w="0">
            <a:noFill/>
          </a:ln>
        </p:spPr>
      </p:pic>
      <p:grpSp>
        <p:nvGrpSpPr>
          <p:cNvPr id="541" name="Group 5"/>
          <p:cNvGrpSpPr/>
          <p:nvPr/>
        </p:nvGrpSpPr>
        <p:grpSpPr>
          <a:xfrm>
            <a:off x="2843280" y="2411280"/>
            <a:ext cx="3816360" cy="513000"/>
            <a:chOff x="2843280" y="2411280"/>
            <a:chExt cx="3816360" cy="513000"/>
          </a:xfrm>
        </p:grpSpPr>
        <p:grpSp>
          <p:nvGrpSpPr>
            <p:cNvPr id="542" name="Group 6"/>
            <p:cNvGrpSpPr/>
            <p:nvPr/>
          </p:nvGrpSpPr>
          <p:grpSpPr>
            <a:xfrm>
              <a:off x="2843280" y="2492280"/>
              <a:ext cx="3816360" cy="432000"/>
              <a:chOff x="2843280" y="2492280"/>
              <a:chExt cx="3816360" cy="432000"/>
            </a:xfrm>
          </p:grpSpPr>
          <p:sp>
            <p:nvSpPr>
              <p:cNvPr id="543" name="矩形 3"/>
              <p:cNvSpPr/>
              <p:nvPr/>
            </p:nvSpPr>
            <p:spPr>
              <a:xfrm>
                <a:off x="2843280" y="2492280"/>
                <a:ext cx="3816360" cy="43200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4" name="Picture 2" descr=""/>
              <p:cNvPicPr/>
              <p:nvPr/>
            </p:nvPicPr>
            <p:blipFill>
              <a:blip r:embed="rId4"/>
              <a:srcRect l="0" t="20491" r="36927" b="24689"/>
              <a:stretch/>
            </p:blipFill>
            <p:spPr>
              <a:xfrm rot="10800000">
                <a:off x="2843280" y="2492280"/>
                <a:ext cx="936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TextBox 5"/>
              <p:cNvSpPr/>
              <p:nvPr/>
            </p:nvSpPr>
            <p:spPr>
              <a:xfrm>
                <a:off x="3779280" y="252360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TextBox 7"/>
            <p:cNvSpPr/>
            <p:nvPr/>
          </p:nvSpPr>
          <p:spPr>
            <a:xfrm>
              <a:off x="2843280" y="24112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1"/>
          <p:cNvGrpSpPr/>
          <p:nvPr/>
        </p:nvGrpSpPr>
        <p:grpSpPr>
          <a:xfrm>
            <a:off x="2843280" y="3954600"/>
            <a:ext cx="3816360" cy="512640"/>
            <a:chOff x="2843280" y="3954600"/>
            <a:chExt cx="3816360" cy="512640"/>
          </a:xfrm>
        </p:grpSpPr>
        <p:grpSp>
          <p:nvGrpSpPr>
            <p:cNvPr id="548" name="Group 12"/>
            <p:cNvGrpSpPr/>
            <p:nvPr/>
          </p:nvGrpSpPr>
          <p:grpSpPr>
            <a:xfrm>
              <a:off x="2843280" y="4035240"/>
              <a:ext cx="3816360" cy="432000"/>
              <a:chOff x="2843280" y="4035240"/>
              <a:chExt cx="3816360" cy="432000"/>
            </a:xfrm>
          </p:grpSpPr>
          <p:sp>
            <p:nvSpPr>
              <p:cNvPr id="549" name="矩形 13"/>
              <p:cNvSpPr/>
              <p:nvPr/>
            </p:nvSpPr>
            <p:spPr>
              <a:xfrm>
                <a:off x="2843280" y="4035600"/>
                <a:ext cx="3816360" cy="43164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0" name="Picture 2" descr=""/>
              <p:cNvPicPr/>
              <p:nvPr/>
            </p:nvPicPr>
            <p:blipFill>
              <a:blip r:embed="rId5"/>
              <a:srcRect l="0" t="20491" r="36927" b="24689"/>
              <a:stretch/>
            </p:blipFill>
            <p:spPr>
              <a:xfrm rot="10800000">
                <a:off x="2843280" y="4035240"/>
                <a:ext cx="936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TextBox 15"/>
              <p:cNvSpPr/>
              <p:nvPr/>
            </p:nvSpPr>
            <p:spPr>
              <a:xfrm>
                <a:off x="3779280" y="406692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Box 12"/>
            <p:cNvSpPr/>
            <p:nvPr/>
          </p:nvSpPr>
          <p:spPr>
            <a:xfrm>
              <a:off x="2843280" y="39546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7"/>
          <p:cNvGrpSpPr/>
          <p:nvPr/>
        </p:nvGrpSpPr>
        <p:grpSpPr>
          <a:xfrm>
            <a:off x="2843280" y="3182760"/>
            <a:ext cx="3816360" cy="513000"/>
            <a:chOff x="2843280" y="3182760"/>
            <a:chExt cx="3816360" cy="513000"/>
          </a:xfrm>
        </p:grpSpPr>
        <p:grpSp>
          <p:nvGrpSpPr>
            <p:cNvPr id="554" name="Group 18"/>
            <p:cNvGrpSpPr/>
            <p:nvPr/>
          </p:nvGrpSpPr>
          <p:grpSpPr>
            <a:xfrm>
              <a:off x="2843280" y="3263760"/>
              <a:ext cx="3816360" cy="432000"/>
              <a:chOff x="2843280" y="3263760"/>
              <a:chExt cx="3816360" cy="432000"/>
            </a:xfrm>
          </p:grpSpPr>
          <p:sp>
            <p:nvSpPr>
              <p:cNvPr id="555" name="矩形 19"/>
              <p:cNvSpPr/>
              <p:nvPr/>
            </p:nvSpPr>
            <p:spPr>
              <a:xfrm>
                <a:off x="2843280" y="3263760"/>
                <a:ext cx="3816360" cy="43200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6" name="Picture 2" descr=""/>
              <p:cNvPicPr/>
              <p:nvPr/>
            </p:nvPicPr>
            <p:blipFill>
              <a:blip r:embed="rId6"/>
              <a:srcRect l="0" t="20491" r="36927" b="24689"/>
              <a:stretch/>
            </p:blipFill>
            <p:spPr>
              <a:xfrm rot="10800000">
                <a:off x="2843280" y="3263760"/>
                <a:ext cx="936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TextBox 21"/>
              <p:cNvSpPr/>
              <p:nvPr/>
            </p:nvSpPr>
            <p:spPr>
              <a:xfrm>
                <a:off x="3779280" y="329508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TextBox 18"/>
            <p:cNvSpPr/>
            <p:nvPr/>
          </p:nvSpPr>
          <p:spPr>
            <a:xfrm>
              <a:off x="2843280" y="31827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23"/>
          <p:cNvGrpSpPr/>
          <p:nvPr/>
        </p:nvGrpSpPr>
        <p:grpSpPr>
          <a:xfrm>
            <a:off x="2843280" y="4724280"/>
            <a:ext cx="3816360" cy="514440"/>
            <a:chOff x="2843280" y="4724280"/>
            <a:chExt cx="3816360" cy="514440"/>
          </a:xfrm>
        </p:grpSpPr>
        <p:grpSp>
          <p:nvGrpSpPr>
            <p:cNvPr id="560" name="Group 24"/>
            <p:cNvGrpSpPr/>
            <p:nvPr/>
          </p:nvGrpSpPr>
          <p:grpSpPr>
            <a:xfrm>
              <a:off x="2843280" y="4805280"/>
              <a:ext cx="3816360" cy="433440"/>
              <a:chOff x="2843280" y="4805280"/>
              <a:chExt cx="3816360" cy="433440"/>
            </a:xfrm>
          </p:grpSpPr>
          <p:sp>
            <p:nvSpPr>
              <p:cNvPr id="561" name="矩形 25"/>
              <p:cNvSpPr/>
              <p:nvPr/>
            </p:nvSpPr>
            <p:spPr>
              <a:xfrm>
                <a:off x="2843280" y="4805640"/>
                <a:ext cx="3816360" cy="43308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2" name="Picture 2" descr=""/>
              <p:cNvPicPr/>
              <p:nvPr/>
            </p:nvPicPr>
            <p:blipFill>
              <a:blip r:embed="rId7"/>
              <a:srcRect l="0" t="20491" r="36927" b="24689"/>
              <a:stretch/>
            </p:blipFill>
            <p:spPr>
              <a:xfrm rot="10800000">
                <a:off x="2843280" y="4805280"/>
                <a:ext cx="936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Box 27"/>
              <p:cNvSpPr/>
              <p:nvPr/>
            </p:nvSpPr>
            <p:spPr>
              <a:xfrm>
                <a:off x="3779280" y="483696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TextBox 24"/>
            <p:cNvSpPr/>
            <p:nvPr/>
          </p:nvSpPr>
          <p:spPr>
            <a:xfrm>
              <a:off x="2843280" y="47242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Box 9"/>
          <p:cNvSpPr/>
          <p:nvPr/>
        </p:nvSpPr>
        <p:spPr>
          <a:xfrm>
            <a:off x="880920" y="73512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7f00"/>
                </a:solidFill>
                <a:latin typeface="微软雅黑"/>
                <a:ea typeface="微软雅黑"/>
              </a:rPr>
              <a:t>目录｜</a:t>
            </a:r>
            <a:r>
              <a:rPr b="0" lang="en-US" sz="2400" spc="-1" strike="noStrike">
                <a:solidFill>
                  <a:srgbClr val="ff7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直接连接符 29"/>
          <p:cNvSpPr/>
          <p:nvPr/>
        </p:nvSpPr>
        <p:spPr>
          <a:xfrm>
            <a:off x="108000" y="1298520"/>
            <a:ext cx="4319640" cy="0"/>
          </a:xfrm>
          <a:prstGeom prst="line">
            <a:avLst/>
          </a:prstGeom>
          <a:ln w="936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" descr=""/>
          <p:cNvPicPr/>
          <p:nvPr/>
        </p:nvPicPr>
        <p:blipFill>
          <a:blip r:embed="rId2"/>
          <a:srcRect l="0" t="0" r="36927" b="24689"/>
          <a:stretch/>
        </p:blipFill>
        <p:spPr>
          <a:xfrm>
            <a:off x="7373880" y="522288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3"/>
          <a:srcRect l="36927" t="24689" r="0" b="0"/>
          <a:stretch/>
        </p:blipFill>
        <p:spPr>
          <a:xfrm>
            <a:off x="-14400" y="-1440"/>
            <a:ext cx="1782720" cy="163332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1:41:00Z</dcterms:created>
  <dc:creator>ppt宝藏</dc:creator>
  <dc:description/>
  <cp:keywords/>
  <dc:language>en-US</dc:language>
  <cp:lastModifiedBy>a</cp:lastModifiedBy>
  <cp:lastPrinted>1899-12-30T00:00:00Z</cp:lastPrinted>
  <dcterms:modified xsi:type="dcterms:W3CDTF">2015-07-25T12:29:53Z</dcterms:modified>
  <cp:revision>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