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862c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60862c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2B7C-3710-4226-AFCC-6DD11DDEF29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51A7-A4D0-458E-9E9C-E227C8A9803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B80F-F4DF-41C4-95F2-8662A472644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8090-EF51-41AC-A506-6B7CFEF1404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94F2-DDFB-4A8A-91CE-68C49844A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862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3F62-E411-4AE4-B43D-47809662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862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08C0-BA1B-4AC3-9132-C9731141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862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226D-9C01-4241-AAAC-8A6348FA9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535F-3A49-4F3D-86FA-1D1D7B8E3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862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9ABE-DB8C-41D3-B018-2E9AEE41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862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4FCF-78C0-434C-8AC6-5B7389AD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862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AE39-8D4A-4A47-84F6-8EF3258C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862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F9E3-F15E-4691-8D45-2FB0F4D0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7437-B7D8-4A2E-B94B-11FA0FDE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862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F281-C3E7-41B6-9CD3-1F79739D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862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19AF-5EB1-478F-B0C6-FB187443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862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AA43-0570-4BDC-A355-1261AB74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862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8937-7318-4E9B-9428-F5D50E37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862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CB33-6BE9-4A12-BC72-30A3105D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862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CDFC-0ADA-425D-AAC2-8B3D0EC16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862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08E8-90D6-428F-B209-76463280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862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9C24-2B4A-40FA-A0E2-6B9B9392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862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2503-604B-4935-9920-731E239A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862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D762-9882-4F86-A44F-7C714144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CEBD-23B3-4FBF-8EEF-A53DAE38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862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4D57-A5DB-420E-81C1-30FB064E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862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CA97-A614-4F86-9929-CE020C51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862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BEED-0054-4D17-BC5A-D2B9620D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b8d98a">
                  <a:alpha val="85098"/>
                </a:srgbClr>
              </a:gs>
              <a:gs pos="100000">
                <a:srgbClr val="b8d98a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862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0862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0FCC-F00B-4619-97CF-0DD8EACB21FE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44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b8d98a">
                  <a:alpha val="85098"/>
                </a:srgbClr>
              </a:gs>
              <a:gs pos="100000">
                <a:srgbClr val="b8d98a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0" descr="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-12600" y="5373720"/>
            <a:ext cx="8569080" cy="1484280"/>
          </a:xfrm>
          <a:prstGeom prst="rect">
            <a:avLst/>
          </a:prstGeom>
          <a:gradFill rotWithShape="0">
            <a:gsLst>
              <a:gs pos="0">
                <a:srgbClr val="b8d98a">
                  <a:alpha val="60000"/>
                </a:srgbClr>
              </a:gs>
              <a:gs pos="100000">
                <a:srgbClr val="b8d98a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862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0862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9E9E-BD70-47D1-8B32-B0DA75D091F5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5489640"/>
            <a:ext cx="841392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0862c"/>
                </a:solidFill>
                <a:latin typeface="Arial"/>
                <a:ea typeface="宋体"/>
              </a:rPr>
              <a:t>蝴蝶采花自然通用</a:t>
            </a:r>
            <a:r>
              <a:rPr b="1" lang="en-US" sz="4000" spc="-1" strike="noStrike">
                <a:solidFill>
                  <a:srgbClr val="60862c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60862c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60862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81000" y="621180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0862c"/>
                </a:solidFill>
                <a:latin typeface="Arial"/>
              </a:rPr>
              <a:t>Your name and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0862c"/>
                </a:solidFill>
                <a:latin typeface="Arial"/>
                <a:ea typeface="宋体"/>
              </a:rPr>
              <a:t>Example Bullet Point Slide</a:t>
            </a:r>
            <a:endParaRPr b="0" lang="en-US" sz="3200" spc="-1" strike="noStrike">
              <a:solidFill>
                <a:srgbClr val="60862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06440" y="1663560"/>
            <a:ext cx="82296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ub Bul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862c"/>
                </a:solidFill>
                <a:latin typeface="Arial"/>
                <a:ea typeface="宋体"/>
              </a:rPr>
              <a:t>Sample Chart</a:t>
            </a:r>
            <a:endParaRPr b="0" lang="en-US" sz="3200" spc="-1" strike="noStrike">
              <a:solidFill>
                <a:srgbClr val="60862c"/>
              </a:solidFill>
              <a:latin typeface="Arial"/>
            </a:endParaRPr>
          </a:p>
        </p:txBody>
      </p:sp>
      <p:pic>
        <p:nvPicPr>
          <p:cNvPr id="101" name="Content Placeholder 3" descr=""/>
          <p:cNvPicPr/>
          <p:nvPr/>
        </p:nvPicPr>
        <p:blipFill>
          <a:blip r:embed="rId1"/>
          <a:stretch/>
        </p:blipFill>
        <p:spPr>
          <a:xfrm>
            <a:off x="901800" y="1790640"/>
            <a:ext cx="734040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0862c"/>
                </a:solidFill>
                <a:latin typeface="Arial"/>
                <a:ea typeface="宋体"/>
              </a:rPr>
              <a:t>Colour scheme</a:t>
            </a:r>
            <a:endParaRPr b="0" lang="en-US" sz="3200" spc="-1" strike="noStrike">
              <a:solidFill>
                <a:srgbClr val="60862c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571920" y="2863800"/>
            <a:ext cx="826920" cy="61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4648320" y="2863800"/>
            <a:ext cx="82692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2519280" y="4478400"/>
            <a:ext cx="827280" cy="611280"/>
          </a:xfrm>
          <a:prstGeom prst="rect">
            <a:avLst/>
          </a:prstGeom>
          <a:solidFill>
            <a:srgbClr val="b8d9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587760" y="4478400"/>
            <a:ext cx="826920" cy="611280"/>
          </a:xfrm>
          <a:prstGeom prst="rect">
            <a:avLst/>
          </a:prstGeom>
          <a:solidFill>
            <a:srgbClr val="6ba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4656240" y="4478400"/>
            <a:ext cx="826920" cy="611280"/>
          </a:xfrm>
          <a:prstGeom prst="rect">
            <a:avLst/>
          </a:prstGeom>
          <a:solidFill>
            <a:srgbClr val="0b6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5726160" y="4478400"/>
            <a:ext cx="826920" cy="611280"/>
          </a:xfrm>
          <a:prstGeom prst="rect">
            <a:avLst/>
          </a:prstGeom>
          <a:solidFill>
            <a:srgbClr val="237d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5708520" y="2863800"/>
            <a:ext cx="827280" cy="61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503440" y="2863800"/>
            <a:ext cx="82728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2285640" y="222408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603960" y="2101680"/>
            <a:ext cx="7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ext &amp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Lin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4553640" y="22240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Shado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5834520" y="2101680"/>
            <a:ext cx="5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2661840" y="383868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Fil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3609360" y="383868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Acc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4543560" y="371628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Accent &amp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5624640" y="371484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Follow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0862c"/>
                </a:solidFill>
                <a:latin typeface="Arial"/>
                <a:ea typeface="宋体"/>
              </a:rPr>
              <a:t>Picture slide</a:t>
            </a:r>
            <a:endParaRPr b="0" lang="en-US" sz="3200" spc="-1" strike="noStrike">
              <a:solidFill>
                <a:srgbClr val="60862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2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Bullet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Bulle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IMG_9271"/>
          <p:cNvPicPr/>
          <p:nvPr/>
        </p:nvPicPr>
        <p:blipFill>
          <a:blip r:embed="rId1"/>
          <a:stretch/>
        </p:blipFill>
        <p:spPr>
          <a:xfrm>
            <a:off x="5256360" y="2205000"/>
            <a:ext cx="3097080" cy="3853080"/>
          </a:xfrm>
          <a:prstGeom prst="rect">
            <a:avLst/>
          </a:prstGeom>
          <a:ln w="57240">
            <a:solidFill>
              <a:srgbClr val="b8d98a"/>
            </a:solidFill>
            <a:miter/>
          </a:ln>
        </p:spPr>
      </p:pic>
      <p:sp>
        <p:nvSpPr>
          <p:cNvPr id="122" name="Text Box 6"/>
          <p:cNvSpPr/>
          <p:nvPr/>
        </p:nvSpPr>
        <p:spPr>
          <a:xfrm>
            <a:off x="250920" y="63612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0b6de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jontypearce</dc:creator>
  <dc:description/>
  <dc:language>en-US</dc:language>
  <cp:lastModifiedBy>王玉清</cp:lastModifiedBy>
  <dcterms:modified xsi:type="dcterms:W3CDTF">2016-03-02T10:29:20Z</dcterms:modified>
  <cp:revision>9</cp:revision>
  <dc:subject/>
  <dc:title>Butterfly on Flowers PowerPoint Presentation</dc:title>
</cp:coreProperties>
</file>