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DEF-8F90-4337-87F1-BC3F205D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D06-C2C1-442D-8330-135A53FC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C96-B1E6-4B97-AF7D-DA0D7FB5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A14-B314-45BB-90F3-02ACDC33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E47-59CE-4719-BE20-CEB5E231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7C13-D865-4041-90CD-116DD5D0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338B-4602-44BB-BA70-D8A7A2B2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9085-8865-4685-AA8B-3D89B4C4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1D58-A170-4183-97D5-ED2CC775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4EA4-9F44-48ED-AA2E-F8A05E00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375-A25D-4709-8A1D-42D8246B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2B68-DF27-4E7A-8400-ABB83F75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468E-E4B3-40B7-9A4D-75EF0C362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1badb"/>
              </a:gs>
              <a:gs pos="100000">
                <a:srgbClr val="2556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0" y="2514600"/>
            <a:ext cx="9144000" cy="0"/>
          </a:xfrm>
          <a:prstGeom prst="line">
            <a:avLst/>
          </a:prstGeom>
          <a:ln w="165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65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1447920" y="0"/>
            <a:ext cx="0" cy="6858000"/>
          </a:xfrm>
          <a:prstGeom prst="line">
            <a:avLst/>
          </a:prstGeom>
          <a:ln w="165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2438280" y="0"/>
            <a:ext cx="0" cy="6858000"/>
          </a:xfrm>
          <a:prstGeom prst="line">
            <a:avLst/>
          </a:prstGeom>
          <a:ln w="165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a5f697ee5124e8082df5349b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47" name="矩形 12"/>
          <p:cNvSpPr/>
          <p:nvPr/>
        </p:nvSpPr>
        <p:spPr>
          <a:xfrm>
            <a:off x="1923120" y="65232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蝴蝶飞舞水墨动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3.33333E-006 L 0 -0.32223 E">
                                      <p:cBhvr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-3.33333E-006 L 0 0.41111 E">
                                      <p:cBhvr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0 L 0.7 0 E">
                                      <p:cBhvr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0 L -0.125 0 E">
                                      <p:cBhvr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6T07:17:2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