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FD42-76F6-4F27-9F38-E1C33462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C8C6-B408-41D4-8386-5D823ACD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61363-CF97-4496-9B59-65EA3E98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A00BB-1BC2-45A8-BA7B-5E9B00FC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48FFA-5828-4C6C-A3E5-96AEB8B5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2BE24-A876-4DAB-B9E1-0A4CA6D7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1A096-0417-46CD-A427-64AD9CF2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6681F-3324-4A2A-9CA2-EE1103A8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02940-66BB-4150-BFF3-BF590F19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67788-5665-461C-8448-B3C3CBB7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DA355-346A-4902-857B-034285C2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D1B35-E765-4234-9CE7-33275740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F490-FECC-47C6-B838-55FF5885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6A6A7-7A47-4EDF-B1D0-D436EF22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8B05D-43B3-439A-9C2E-36DB4750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942C8-DB60-40C2-8A36-9DA4C6F7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E307E-5042-45D0-B1C5-677313BE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7ED59-47CE-4371-A19D-0685061F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818BA-5559-45CF-BA28-D5B47D8D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79633-7941-43A1-95AC-3021279C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5C741-9EB2-48C7-AC54-7342CD0B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DB103-B9AE-4D7F-BEE1-F59C96E4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FDA6B-569F-4261-972E-9BC0CD0F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6578-98B0-4B3A-9EEC-82DBE182F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3B47D-AEBE-469D-9322-B3919131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0B7EC-3060-4532-9777-4D7ED83C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03708-75F0-4B16-A40A-1D99EE1C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26146-ABB8-4B6B-9C15-F1D19FC9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2F012-8603-4A3A-9419-A46B242D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CE0A5-85A4-46EF-B1F3-3BDE467B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3A784-85B3-4FDE-94D3-45D28199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EB521-A060-4EBB-9FCC-C4122CBF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76264-0B85-4D1C-B2B3-DF90E742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C64E8-E87D-4915-863B-D4546419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FBD2-429B-45E5-911F-EE4D3C87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531BE-B61F-4ECE-89C1-B6B557D2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2694C-F25C-438F-88EF-EA459253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1F310-6702-4494-B72A-FF11C583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82D12-C16F-4934-AF45-C3E378A3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A0E12-635F-499F-AA5B-1F506429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C7E0C-F531-42FA-A8EF-EE629CAC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B680D-9300-48E5-92B6-1D6C5188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3E223-03D5-41AF-917A-FE878195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97641-B39A-456B-AE04-46A9EAC9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96967-B43A-4C12-B212-4DB4DBF3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F1A6-BF11-4CC7-A364-D5BDD165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7FAE7-E18E-45E9-A144-E15DE476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F1A3B-4E15-44F7-B713-71B96A1C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BB246-E83C-485F-86CD-0FFB65B0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9FA0F-6C98-4D14-94BA-761A4DE1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AB283-F15B-4BE5-8D6C-98835DC5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E9E27E-B1F5-4330-A57E-2B1FA53C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2A82E7-F2F3-4AA7-A717-39CB53C1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78D313-E218-423B-9238-03D58528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3CA309-98FF-4558-8D95-266A58FD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3B4A91-95B2-4F9F-8CFB-EA0AA7C4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E1B2-F34E-4FB5-B129-B2D00427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BF4EB9-CAA4-40D6-A3DA-4CB6BC58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7E7D50-CA22-456C-A8D2-378334FE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76B30D-2431-4238-BBD4-432C8E15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51730-C73C-42AE-BF0A-23C92965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F1DFBF-DDB7-4574-957E-FF58A77A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5E4DCB-DD4D-4C4E-A3E4-96870A98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B56BCE-5448-461D-AD11-B6DBDC5C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EFAC-878B-49CC-A1FF-6927FE72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ACFB-2972-4F17-98A0-73A370D3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F440-A0EE-4110-AF1B-0C1265E0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9BA6-B5EA-46A3-9F9B-B3671364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E647-5DD3-46DD-A7A9-FA360553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2FEA-80A0-46DF-B3F0-CA68D36C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1070-E698-46B8-AD9D-2E905FB3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AA52-FD97-4E6E-9886-02501074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BECB-C883-4F71-9B4F-2487D7BD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3DDC-F1D4-4A1F-AC51-0D7573E6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B0D35-0721-485D-8119-11F479D7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58169-1E7E-41AC-A6EF-C7B58FA3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20B6D-6D7A-4CA3-AA4F-13615B67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CC00A-5CF0-4789-AE71-B9209209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BAD3D-9512-4AE2-8141-6C42A1F5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FAA4-147A-46FE-A9F4-B38DA65E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695B0-E847-4B37-BE01-15948DE2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A672F-CC26-4F36-9957-0D300D28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62871-CCC3-4B02-AE10-7C323DEA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B3A54-B1A7-473A-8949-4AF3E2B3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AF185-5FC7-4CC4-80C5-FD2A1EF3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11505-3D67-4CB4-93F0-6BBF3923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5704C-8231-417A-9755-BE72CC5C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54F8F-1EE3-4D71-89A1-C2AE7DB4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EF49E-486E-4E5C-866B-4653413B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E9CFD-5674-4F5F-805E-4769FDA5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B022-5A69-44C6-BDB5-C0E18456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9C9A3-3F97-4176-A6DE-C3351685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517B9-34BB-4EF3-B71E-E2EAED7E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365FD-4CC5-4A29-AE86-78F51938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589FB-94C2-4E5B-B0B2-78A04ED9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3351D-BB49-4DB2-9A31-0850BC7C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15313-FD85-4AE4-AE0D-BF2EE63E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CA1B7-00B5-4DE9-B639-0BB6EFA1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6BD4D-3D93-4726-80F9-446458BF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A1CD0-7C8D-4058-BE28-EEAC2CBC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35FAB-843A-4462-A592-1778300F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8FBA-67B3-40B9-8BC4-6CD58F7F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8F7E7-4682-41C0-BEF3-60B9196D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4D3FD-69BA-40E8-9BAB-3C05E1E0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DC2FA-3204-4B14-87E3-8851DADF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34AA9-EA12-4552-A61D-8B5A85B2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B7DA0-F0E5-4F03-A2B0-E77D3F7E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204B9-1789-4C16-A6D0-CF3B8E33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A0588-8780-4F9C-B96D-010513AA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4BF8F-9FFE-4F19-9D37-74B8BB97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465A3-6830-429A-92BE-6DD6414A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FD322-51A5-4DFF-9E0A-9FFDE933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F943-32A8-401E-AFC7-06999AAE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73547-20EE-4D44-BAED-1372003D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DEF64-55B3-46E3-9317-23A577FB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DF20B-0A88-4B9C-86A7-ECCF20FF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85240-8F9A-46F4-B575-945C4718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B6B06-830A-4905-AC04-0B0CA55D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28A73-7AC8-4429-B54E-D69574D1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69E9A-4992-4D4D-A905-8B699337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74C29-7BB1-49A1-B512-1C296A7E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6D88C-A4A2-4415-B556-307EF782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5F6FA-37FF-4DC9-B033-2A5C2A96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CA8F-146F-45B7-927B-FFB921E0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AD1C9-4680-49A1-8F1F-BAC0DC7A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8DDFF-59E3-4C09-BAB9-E46F5B6A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944C2-292C-4857-9775-39F09743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3FE3C-1BA6-4DEA-9B33-7FD683CF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9ABF5-0E5D-4C92-90DA-4E2E8679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DC4D5-2F17-4DF3-B75D-0AA19C02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422AD-836E-4A8D-99E5-D69D7505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735E7-EE65-485F-83B1-BD99F7EF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A5C18-EC57-4802-BA37-E4BD1C17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BEC7C-D1F6-4620-BC29-09C36F38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C512-A253-4D9C-A95B-B1918090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8C5B3-2D5C-4124-865C-D105818E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20506-25E7-4B1F-82D6-E7419767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7B462-ACCA-4F2C-B096-8D6B53E3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50A32-FBDF-43FC-983E-F162719F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B416D-E4F2-4E6B-AE77-3E6C203B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EC76A-ADED-40BD-A578-25809D37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0D1A1-A687-4E50-81B7-2B474C9E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4095F-00A1-4EB5-B8D3-DF4ECDCA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D1F74-714F-45FD-8434-AE3D5B6F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6E87E-591E-4261-8246-989E9B38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AC89-3F65-4683-A78D-A6D51E4D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FD1D9-9D0E-4C3C-A3E1-CAA2A2E8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3B4A5-6FC8-4FB5-8AA3-60B74F1E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CFFDE-E673-4976-860A-D7326543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7BDAC-1B78-40CB-B4B7-6E950DF4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CA5BC-C92D-459C-BD4F-664847AF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E86AB-A2F7-4216-AD44-19E763B1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88B31-CFED-4D17-87CF-93B7D143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AD283-8235-4C4D-83BD-DFCE9E8D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13FCF-B8C0-4E13-9E10-18608541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BFD43-1E09-4EC8-85E7-C287271D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FE80-0EDA-41E8-88D0-FE40B06A61F7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C451-DE67-4D95-82A8-B11FF7FC9F9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F7A4-0DD7-4770-92BA-323CD2C02EDF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0D58-F1F3-4E63-AE48-D6F469CE255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D70C-9CF6-478E-8056-7951EAC83745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F95C-9EA4-4D46-A646-735EF485328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574A-9655-48AC-BA7A-E1161A73BF3E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1594-2A50-468C-81A1-311A3CD03FB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DB1A-294E-4D2E-AF43-770E04898923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1A72-8FB0-4D2A-B617-5CCD88789FF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83EE-573D-412D-AEFE-52BD2BF68C4D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13BC-8735-405E-B93A-6BE8E03208E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05ED-1A52-48E0-8719-A91396CE3715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187E-190B-4952-AD1C-C1AE7285442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D828-E5F1-4E2F-80F6-6D4F97172FE2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13D6-55BE-4711-820A-56A41E81C68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E7DA-1BAD-4B00-AB76-DA15DCC66E0E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6D7C-98B7-4B57-AF8E-3948C89ADCD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DEA9-B51D-4C51-91A6-7F7A487426F4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603A-C932-4ED3-A488-B0D57862049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8D4A-D7A3-400B-B408-9DEC182323CB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68FD-9B6D-43D0-8E70-B6631658366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900C-9CA3-485A-91B3-F61D62F6B858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E370-765E-4ACD-AC66-027F6965E73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DE1C-F73F-4798-8EC3-D66E9332377F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B09E-78A7-4269-90E0-46D6516DDF9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hyperlink" Target="http://www.eeppt.com/" TargetMode="External"/><Relationship Id="rId7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hangeul.naver.com/font" TargetMode="External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직사각형 6"/>
          <p:cNvSpPr/>
          <p:nvPr/>
        </p:nvSpPr>
        <p:spPr>
          <a:xfrm>
            <a:off x="424440" y="3146400"/>
            <a:ext cx="8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나눔고딕"/>
              </a:rPr>
              <a:t>소속 </a:t>
            </a:r>
            <a:r>
              <a:rPr b="1" lang="en-US" sz="1200" spc="-1" strike="noStrike">
                <a:solidFill>
                  <a:srgbClr val="000000"/>
                </a:solidFill>
                <a:latin typeface="나눔고딕"/>
              </a:rPr>
              <a:t>/ </a:t>
            </a:r>
            <a:r>
              <a:rPr b="1" lang="zh-CN" sz="1200" spc="-1" strike="noStrike">
                <a:solidFill>
                  <a:srgbClr val="000000"/>
                </a:solidFill>
                <a:latin typeface="나눔고딕"/>
              </a:rPr>
              <a:t>작성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선 연결선 9"/>
          <p:cNvSpPr/>
          <p:nvPr/>
        </p:nvSpPr>
        <p:spPr>
          <a:xfrm flipH="1">
            <a:off x="431280" y="554040"/>
            <a:ext cx="1357560" cy="0"/>
          </a:xfrm>
          <a:prstGeom prst="line">
            <a:avLst/>
          </a:prstGeom>
          <a:ln w="3816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선 연결선 10"/>
          <p:cNvSpPr/>
          <p:nvPr/>
        </p:nvSpPr>
        <p:spPr>
          <a:xfrm flipH="1" flipV="1">
            <a:off x="431280" y="3071880"/>
            <a:ext cx="1320840" cy="1440"/>
          </a:xfrm>
          <a:prstGeom prst="line">
            <a:avLst/>
          </a:prstGeom>
          <a:ln w="1260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19"/>
          <p:cNvSpPr/>
          <p:nvPr/>
        </p:nvSpPr>
        <p:spPr>
          <a:xfrm>
            <a:off x="6900120" y="6345360"/>
            <a:ext cx="160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나눔고딕"/>
              </a:rPr>
              <a:t>이 문서는 나눔글꼴로 작성되었습니다</a:t>
            </a:r>
            <a:r>
              <a:rPr b="0" lang="en-US" sz="800" spc="-1" strike="noStrike">
                <a:solidFill>
                  <a:srgbClr val="7f7f7f"/>
                </a:solidFill>
                <a:latin typeface="나눔고딕"/>
              </a:rPr>
              <a:t>.  </a:t>
            </a:r>
            <a:r>
              <a:rPr b="0" lang="zh-CN" sz="800" spc="-1" strike="noStrike" u="sng">
                <a:solidFill>
                  <a:srgbClr val="f2f2f2"/>
                </a:solidFill>
                <a:uFillTx/>
                <a:latin typeface="나눔고딕"/>
              </a:rPr>
              <a:t>설치하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9018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나눔고딕"/>
              </a:rPr>
              <a:t>韩国简约通用</a:t>
            </a:r>
            <a:r>
              <a:rPr b="1" lang="en-US" sz="4000" spc="-1" strike="noStrike">
                <a:solidFill>
                  <a:srgbClr val="ffffff"/>
                </a:solidFill>
                <a:latin typeface="나눔고딕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나눔고딕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3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직사각형 1"/>
          <p:cNvSpPr/>
          <p:nvPr/>
        </p:nvSpPr>
        <p:spPr>
          <a:xfrm>
            <a:off x="8534880" y="6337440"/>
            <a:ext cx="24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나눔고딕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다이어그램 1"/>
          <p:cNvSpPr/>
          <p:nvPr/>
        </p:nvSpPr>
        <p:spPr>
          <a:xfrm>
            <a:off x="2238480" y="1917720"/>
            <a:ext cx="5933880" cy="379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직사각형 2"/>
          <p:cNvSpPr/>
          <p:nvPr/>
        </p:nvSpPr>
        <p:spPr>
          <a:xfrm>
            <a:off x="342360" y="37800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873c"/>
                </a:solidFill>
                <a:latin typeface="나눔고딕 ExtraBold"/>
                <a:ea typeface="나눔고딕 ExtraBold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3"/>
          <p:cNvSpPr/>
          <p:nvPr/>
        </p:nvSpPr>
        <p:spPr>
          <a:xfrm>
            <a:off x="2128680" y="1336680"/>
            <a:ext cx="39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d8623"/>
                </a:solidFill>
                <a:latin typeface="나눔고딕"/>
              </a:rPr>
              <a:t>Smart Art</a:t>
            </a:r>
            <a:r>
              <a:rPr b="1" lang="zh-CN" sz="1200" spc="-1" strike="noStrike">
                <a:solidFill>
                  <a:srgbClr val="fd8623"/>
                </a:solidFill>
                <a:latin typeface="나눔고딕"/>
              </a:rPr>
              <a:t>를 이용한 다이어그램 예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2" descr=""/>
          <p:cNvPicPr/>
          <p:nvPr/>
        </p:nvPicPr>
        <p:blipFill>
          <a:blip r:embed="rId1"/>
          <a:stretch/>
        </p:blipFill>
        <p:spPr>
          <a:xfrm>
            <a:off x="423720" y="6324480"/>
            <a:ext cx="1231920" cy="254160"/>
          </a:xfrm>
          <a:prstGeom prst="rect">
            <a:avLst/>
          </a:prstGeom>
          <a:ln w="0">
            <a:noFill/>
          </a:ln>
        </p:spPr>
      </p:pic>
      <p:sp>
        <p:nvSpPr>
          <p:cNvPr id="623" name="직선 연결선 5"/>
          <p:cNvSpPr/>
          <p:nvPr/>
        </p:nvSpPr>
        <p:spPr>
          <a:xfrm flipH="1">
            <a:off x="431280" y="330120"/>
            <a:ext cx="1357560" cy="0"/>
          </a:xfrm>
          <a:prstGeom prst="line">
            <a:avLst/>
          </a:prstGeom>
          <a:ln w="3816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직선 연결선 6"/>
          <p:cNvSpPr/>
          <p:nvPr/>
        </p:nvSpPr>
        <p:spPr>
          <a:xfrm flipH="1" flipV="1">
            <a:off x="431280" y="1415520"/>
            <a:ext cx="1320840" cy="1800"/>
          </a:xfrm>
          <a:prstGeom prst="line">
            <a:avLst/>
          </a:prstGeom>
          <a:ln w="1260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142720" y="236160"/>
            <a:ext cx="659916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나눔고딕"/>
              </a:rPr>
              <a:t>페이지 제목</a:t>
            </a:r>
            <a:endParaRPr b="0" lang="en-US" sz="2400" spc="-1" strike="noStrike">
              <a:solidFill>
                <a:srgbClr val="ffffff"/>
              </a:solidFill>
              <a:latin typeface="나눔고딕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직사각형 1"/>
          <p:cNvSpPr/>
          <p:nvPr/>
        </p:nvSpPr>
        <p:spPr>
          <a:xfrm>
            <a:off x="8534880" y="6337440"/>
            <a:ext cx="24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나눔고딕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타원 4"/>
          <p:cNvSpPr/>
          <p:nvPr/>
        </p:nvSpPr>
        <p:spPr>
          <a:xfrm>
            <a:off x="6429240" y="3335400"/>
            <a:ext cx="135252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17640" bIns="17640" anchor="ctr">
            <a:norm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내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타원 4"/>
          <p:cNvSpPr/>
          <p:nvPr/>
        </p:nvSpPr>
        <p:spPr>
          <a:xfrm>
            <a:off x="3144960" y="2514600"/>
            <a:ext cx="8287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17640" bIns="17640" anchor="ctr">
            <a:norm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내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195640" y="2924280"/>
            <a:ext cx="617400" cy="219528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2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314960" y="2844720"/>
            <a:ext cx="617400" cy="21938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5580000" y="2924280"/>
            <a:ext cx="617760" cy="21952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" descr=""/>
          <p:cNvPicPr/>
          <p:nvPr/>
        </p:nvPicPr>
        <p:blipFill>
          <a:blip r:embed="rId4">
            <a:lum bright="10000"/>
          </a:blip>
          <a:stretch/>
        </p:blipFill>
        <p:spPr>
          <a:xfrm>
            <a:off x="7843680" y="2844720"/>
            <a:ext cx="617760" cy="2193840"/>
          </a:xfrm>
          <a:prstGeom prst="rect">
            <a:avLst/>
          </a:prstGeom>
          <a:ln w="0">
            <a:noFill/>
          </a:ln>
        </p:spPr>
      </p:pic>
      <p:grpSp>
        <p:nvGrpSpPr>
          <p:cNvPr id="633" name="Group 9"/>
          <p:cNvGrpSpPr/>
          <p:nvPr/>
        </p:nvGrpSpPr>
        <p:grpSpPr>
          <a:xfrm>
            <a:off x="6048360" y="2992320"/>
            <a:ext cx="1979640" cy="1979640"/>
            <a:chOff x="6048360" y="2992320"/>
            <a:chExt cx="1979640" cy="1979640"/>
          </a:xfrm>
        </p:grpSpPr>
        <p:sp>
          <p:nvSpPr>
            <p:cNvPr id="634" name="타원 8"/>
            <p:cNvSpPr/>
            <p:nvPr/>
          </p:nvSpPr>
          <p:spPr>
            <a:xfrm>
              <a:off x="6048360" y="2992320"/>
              <a:ext cx="1979640" cy="1979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타원 4"/>
            <p:cNvSpPr/>
            <p:nvPr/>
          </p:nvSpPr>
          <p:spPr>
            <a:xfrm>
              <a:off x="6584760" y="3575520"/>
              <a:ext cx="85896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Arial"/>
                  <a:ea typeface="宋体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직사각형 10"/>
          <p:cNvSpPr/>
          <p:nvPr/>
        </p:nvSpPr>
        <p:spPr>
          <a:xfrm>
            <a:off x="342360" y="37800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873c"/>
                </a:solidFill>
                <a:latin typeface="나눔고딕 ExtraBold"/>
                <a:ea typeface="나눔고딕 ExtraBold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11"/>
          <p:cNvSpPr/>
          <p:nvPr/>
        </p:nvSpPr>
        <p:spPr>
          <a:xfrm>
            <a:off x="2128680" y="1336680"/>
            <a:ext cx="39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d8623"/>
                </a:solidFill>
                <a:latin typeface="나눔고딕"/>
              </a:rPr>
              <a:t>Smart Art</a:t>
            </a:r>
            <a:r>
              <a:rPr b="1" lang="zh-CN" sz="1200" spc="-1" strike="noStrike">
                <a:solidFill>
                  <a:srgbClr val="fd8623"/>
                </a:solidFill>
                <a:latin typeface="나눔고딕"/>
              </a:rPr>
              <a:t>를 이용한 다이어그램 예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2" descr=""/>
          <p:cNvPicPr/>
          <p:nvPr/>
        </p:nvPicPr>
        <p:blipFill>
          <a:blip r:embed="rId5"/>
          <a:stretch/>
        </p:blipFill>
        <p:spPr>
          <a:xfrm>
            <a:off x="423720" y="6324480"/>
            <a:ext cx="1231920" cy="254160"/>
          </a:xfrm>
          <a:prstGeom prst="rect">
            <a:avLst/>
          </a:prstGeom>
          <a:ln w="0">
            <a:noFill/>
          </a:ln>
        </p:spPr>
      </p:pic>
      <p:grpSp>
        <p:nvGrpSpPr>
          <p:cNvPr id="639" name="Group 15"/>
          <p:cNvGrpSpPr/>
          <p:nvPr/>
        </p:nvGrpSpPr>
        <p:grpSpPr>
          <a:xfrm>
            <a:off x="2971800" y="4476600"/>
            <a:ext cx="1174680" cy="1173240"/>
            <a:chOff x="2971800" y="4476600"/>
            <a:chExt cx="1174680" cy="1173240"/>
          </a:xfrm>
        </p:grpSpPr>
        <p:sp>
          <p:nvSpPr>
            <p:cNvPr id="640" name="타원 14"/>
            <p:cNvSpPr/>
            <p:nvPr/>
          </p:nvSpPr>
          <p:spPr>
            <a:xfrm>
              <a:off x="2971800" y="4476600"/>
              <a:ext cx="1174680" cy="11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타원 4"/>
            <p:cNvSpPr/>
            <p:nvPr/>
          </p:nvSpPr>
          <p:spPr>
            <a:xfrm>
              <a:off x="3143880" y="4648320"/>
              <a:ext cx="83052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595959"/>
                  </a:solidFill>
                  <a:latin typeface="Arial"/>
                  <a:ea typeface="宋体"/>
                </a:rPr>
                <a:t>내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직선 연결선 16"/>
          <p:cNvSpPr/>
          <p:nvPr/>
        </p:nvSpPr>
        <p:spPr>
          <a:xfrm flipH="1">
            <a:off x="431280" y="330120"/>
            <a:ext cx="1357560" cy="0"/>
          </a:xfrm>
          <a:prstGeom prst="line">
            <a:avLst/>
          </a:prstGeom>
          <a:ln w="3816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선 연결선 17"/>
          <p:cNvSpPr/>
          <p:nvPr/>
        </p:nvSpPr>
        <p:spPr>
          <a:xfrm flipH="1" flipV="1">
            <a:off x="431280" y="1415520"/>
            <a:ext cx="1320840" cy="1800"/>
          </a:xfrm>
          <a:prstGeom prst="line">
            <a:avLst/>
          </a:prstGeom>
          <a:ln w="1260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20"/>
          <p:cNvGrpSpPr/>
          <p:nvPr/>
        </p:nvGrpSpPr>
        <p:grpSpPr>
          <a:xfrm>
            <a:off x="2971800" y="2320920"/>
            <a:ext cx="1174680" cy="1173240"/>
            <a:chOff x="2971800" y="2320920"/>
            <a:chExt cx="1174680" cy="1173240"/>
          </a:xfrm>
        </p:grpSpPr>
        <p:sp>
          <p:nvSpPr>
            <p:cNvPr id="645" name="타원 19"/>
            <p:cNvSpPr/>
            <p:nvPr/>
          </p:nvSpPr>
          <p:spPr>
            <a:xfrm>
              <a:off x="2971800" y="2320920"/>
              <a:ext cx="1174680" cy="11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타원 4"/>
            <p:cNvSpPr/>
            <p:nvPr/>
          </p:nvSpPr>
          <p:spPr>
            <a:xfrm>
              <a:off x="3143880" y="2492640"/>
              <a:ext cx="83052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595959"/>
                  </a:solidFill>
                  <a:latin typeface="Arial"/>
                  <a:ea typeface="宋体"/>
                </a:rPr>
                <a:t>내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136240" y="222120"/>
            <a:ext cx="6605640" cy="9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나눔고딕"/>
              </a:rPr>
              <a:t>페이지 제목</a:t>
            </a:r>
            <a:endParaRPr b="0" lang="en-US" sz="2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648" name="Text Box 9"/>
          <p:cNvSpPr/>
          <p:nvPr/>
        </p:nvSpPr>
        <p:spPr>
          <a:xfrm>
            <a:off x="182520" y="65419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2f2f2"/>
                </a:solidFill>
                <a:uFillTx/>
                <a:latin typeface="Arial"/>
                <a:ea typeface="宋体"/>
                <a:hlinkClick r:id="rId6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직사각형 1"/>
          <p:cNvSpPr/>
          <p:nvPr/>
        </p:nvSpPr>
        <p:spPr>
          <a:xfrm>
            <a:off x="8534880" y="6337440"/>
            <a:ext cx="24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나눔고딕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타원 1"/>
          <p:cNvSpPr/>
          <p:nvPr/>
        </p:nvSpPr>
        <p:spPr>
          <a:xfrm>
            <a:off x="2644920" y="2174760"/>
            <a:ext cx="3838320" cy="3838680"/>
          </a:xfrm>
          <a:prstGeom prst="ellipse">
            <a:avLst/>
          </a:prstGeom>
          <a:noFill/>
          <a:ln w="648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Group 4"/>
          <p:cNvGrpSpPr/>
          <p:nvPr/>
        </p:nvGrpSpPr>
        <p:grpSpPr>
          <a:xfrm>
            <a:off x="2771640" y="2327400"/>
            <a:ext cx="885960" cy="885600"/>
            <a:chOff x="2771640" y="2327400"/>
            <a:chExt cx="885960" cy="885600"/>
          </a:xfrm>
        </p:grpSpPr>
        <p:sp>
          <p:nvSpPr>
            <p:cNvPr id="652" name="타원 3"/>
            <p:cNvSpPr/>
            <p:nvPr/>
          </p:nvSpPr>
          <p:spPr>
            <a:xfrm>
              <a:off x="2817000" y="2372760"/>
              <a:ext cx="795240" cy="79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타원 4"/>
            <p:cNvSpPr/>
            <p:nvPr/>
          </p:nvSpPr>
          <p:spPr>
            <a:xfrm>
              <a:off x="2771640" y="2327400"/>
              <a:ext cx="88596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37021"/>
                  </a:solidFill>
                  <a:latin typeface="Arial"/>
                  <a:ea typeface="宋体"/>
                </a:rPr>
                <a:t>내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Group 7"/>
          <p:cNvGrpSpPr/>
          <p:nvPr/>
        </p:nvGrpSpPr>
        <p:grpSpPr>
          <a:xfrm>
            <a:off x="2771640" y="4905360"/>
            <a:ext cx="885960" cy="885960"/>
            <a:chOff x="2771640" y="4905360"/>
            <a:chExt cx="885960" cy="885960"/>
          </a:xfrm>
        </p:grpSpPr>
        <p:sp>
          <p:nvSpPr>
            <p:cNvPr id="655" name="타원 6"/>
            <p:cNvSpPr/>
            <p:nvPr/>
          </p:nvSpPr>
          <p:spPr>
            <a:xfrm>
              <a:off x="2817000" y="4950720"/>
              <a:ext cx="795240" cy="79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타원 4"/>
            <p:cNvSpPr/>
            <p:nvPr/>
          </p:nvSpPr>
          <p:spPr>
            <a:xfrm>
              <a:off x="2771640" y="4905360"/>
              <a:ext cx="8859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37021"/>
                  </a:solidFill>
                  <a:latin typeface="Arial"/>
                  <a:ea typeface="宋体"/>
                </a:rPr>
                <a:t>내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Group 10"/>
          <p:cNvGrpSpPr/>
          <p:nvPr/>
        </p:nvGrpSpPr>
        <p:grpSpPr>
          <a:xfrm>
            <a:off x="5486400" y="2327400"/>
            <a:ext cx="885960" cy="885600"/>
            <a:chOff x="5486400" y="2327400"/>
            <a:chExt cx="885960" cy="885600"/>
          </a:xfrm>
        </p:grpSpPr>
        <p:sp>
          <p:nvSpPr>
            <p:cNvPr id="658" name="타원 9"/>
            <p:cNvSpPr/>
            <p:nvPr/>
          </p:nvSpPr>
          <p:spPr>
            <a:xfrm>
              <a:off x="5531760" y="2372760"/>
              <a:ext cx="795240" cy="79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타원 4"/>
            <p:cNvSpPr/>
            <p:nvPr/>
          </p:nvSpPr>
          <p:spPr>
            <a:xfrm>
              <a:off x="5486400" y="2327400"/>
              <a:ext cx="88596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37021"/>
                  </a:solidFill>
                  <a:latin typeface="Arial"/>
                  <a:ea typeface="宋体"/>
                </a:rPr>
                <a:t>내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Group 13"/>
          <p:cNvGrpSpPr/>
          <p:nvPr/>
        </p:nvGrpSpPr>
        <p:grpSpPr>
          <a:xfrm>
            <a:off x="5486400" y="4905360"/>
            <a:ext cx="885960" cy="885960"/>
            <a:chOff x="5486400" y="4905360"/>
            <a:chExt cx="885960" cy="885960"/>
          </a:xfrm>
        </p:grpSpPr>
        <p:sp>
          <p:nvSpPr>
            <p:cNvPr id="661" name="타원 12"/>
            <p:cNvSpPr/>
            <p:nvPr/>
          </p:nvSpPr>
          <p:spPr>
            <a:xfrm>
              <a:off x="5531760" y="4950720"/>
              <a:ext cx="795240" cy="79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타원 4"/>
            <p:cNvSpPr/>
            <p:nvPr/>
          </p:nvSpPr>
          <p:spPr>
            <a:xfrm>
              <a:off x="5486400" y="4905360"/>
              <a:ext cx="8859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37021"/>
                  </a:solidFill>
                  <a:latin typeface="Arial"/>
                  <a:ea typeface="宋体"/>
                </a:rPr>
                <a:t>내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3" name="Picture 2" descr=""/>
          <p:cNvPicPr/>
          <p:nvPr/>
        </p:nvPicPr>
        <p:blipFill>
          <a:blip r:embed="rId1"/>
          <a:stretch/>
        </p:blipFill>
        <p:spPr>
          <a:xfrm>
            <a:off x="3767040" y="3191040"/>
            <a:ext cx="1646280" cy="19875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2" descr=""/>
          <p:cNvPicPr/>
          <p:nvPr/>
        </p:nvPicPr>
        <p:blipFill>
          <a:blip r:embed="rId2"/>
          <a:stretch/>
        </p:blipFill>
        <p:spPr>
          <a:xfrm>
            <a:off x="423720" y="6324480"/>
            <a:ext cx="1231920" cy="254160"/>
          </a:xfrm>
          <a:prstGeom prst="rect">
            <a:avLst/>
          </a:prstGeom>
          <a:ln w="0">
            <a:noFill/>
          </a:ln>
        </p:spPr>
      </p:pic>
      <p:sp>
        <p:nvSpPr>
          <p:cNvPr id="665" name="직사각형 16"/>
          <p:cNvSpPr/>
          <p:nvPr/>
        </p:nvSpPr>
        <p:spPr>
          <a:xfrm>
            <a:off x="342360" y="37800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873c"/>
                </a:solidFill>
                <a:latin typeface="나눔고딕 ExtraBold"/>
                <a:ea typeface="나눔고딕 ExtraBold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17"/>
          <p:cNvSpPr/>
          <p:nvPr/>
        </p:nvSpPr>
        <p:spPr>
          <a:xfrm>
            <a:off x="2128680" y="1336680"/>
            <a:ext cx="39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d8623"/>
                </a:solidFill>
                <a:latin typeface="나눔고딕"/>
              </a:rPr>
              <a:t>Smart Art</a:t>
            </a:r>
            <a:r>
              <a:rPr b="1" lang="zh-CN" sz="1200" spc="-1" strike="noStrike">
                <a:solidFill>
                  <a:srgbClr val="fd8623"/>
                </a:solidFill>
                <a:latin typeface="나눔고딕"/>
              </a:rPr>
              <a:t>를 이용한 다이어그램 예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직선 연결선 18"/>
          <p:cNvSpPr/>
          <p:nvPr/>
        </p:nvSpPr>
        <p:spPr>
          <a:xfrm flipH="1">
            <a:off x="431280" y="330120"/>
            <a:ext cx="1357560" cy="0"/>
          </a:xfrm>
          <a:prstGeom prst="line">
            <a:avLst/>
          </a:prstGeom>
          <a:ln w="3816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직선 연결선 19"/>
          <p:cNvSpPr/>
          <p:nvPr/>
        </p:nvSpPr>
        <p:spPr>
          <a:xfrm flipH="1" flipV="1">
            <a:off x="431280" y="1415520"/>
            <a:ext cx="1320840" cy="1800"/>
          </a:xfrm>
          <a:prstGeom prst="line">
            <a:avLst/>
          </a:prstGeom>
          <a:ln w="1260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134800" y="236520"/>
            <a:ext cx="6607080" cy="10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나눔고딕"/>
              </a:rPr>
              <a:t>페이지 제목</a:t>
            </a:r>
            <a:endParaRPr b="0" lang="en-US" sz="2400" spc="-1" strike="noStrike">
              <a:solidFill>
                <a:srgbClr val="ffffff"/>
              </a:solidFill>
              <a:latin typeface="나눔고딕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직사각형 1"/>
          <p:cNvSpPr/>
          <p:nvPr/>
        </p:nvSpPr>
        <p:spPr>
          <a:xfrm>
            <a:off x="8534880" y="6337440"/>
            <a:ext cx="24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나눔고딕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2" descr=""/>
          <p:cNvPicPr/>
          <p:nvPr/>
        </p:nvPicPr>
        <p:blipFill>
          <a:blip r:embed="rId1"/>
          <a:stretch/>
        </p:blipFill>
        <p:spPr>
          <a:xfrm>
            <a:off x="423720" y="6324480"/>
            <a:ext cx="1231920" cy="254160"/>
          </a:xfrm>
          <a:prstGeom prst="rect">
            <a:avLst/>
          </a:prstGeom>
          <a:ln w="0">
            <a:noFill/>
          </a:ln>
        </p:spPr>
      </p:pic>
      <p:sp>
        <p:nvSpPr>
          <p:cNvPr id="672" name="직사각형 2"/>
          <p:cNvSpPr/>
          <p:nvPr/>
        </p:nvSpPr>
        <p:spPr>
          <a:xfrm>
            <a:off x="342360" y="37800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873c"/>
                </a:solidFill>
                <a:latin typeface="나눔고딕 ExtraBold"/>
                <a:ea typeface="나눔고딕 ExtraBold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차트 3"/>
          <p:cNvSpPr/>
          <p:nvPr/>
        </p:nvSpPr>
        <p:spPr>
          <a:xfrm>
            <a:off x="2116080" y="2565360"/>
            <a:ext cx="620100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직선 연결선 4"/>
          <p:cNvSpPr/>
          <p:nvPr/>
        </p:nvSpPr>
        <p:spPr>
          <a:xfrm flipH="1">
            <a:off x="431280" y="330120"/>
            <a:ext cx="1357560" cy="0"/>
          </a:xfrm>
          <a:prstGeom prst="line">
            <a:avLst/>
          </a:prstGeom>
          <a:ln w="3816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직선 연결선 5"/>
          <p:cNvSpPr/>
          <p:nvPr/>
        </p:nvSpPr>
        <p:spPr>
          <a:xfrm flipH="1" flipV="1">
            <a:off x="431280" y="1415520"/>
            <a:ext cx="1320840" cy="1800"/>
          </a:xfrm>
          <a:prstGeom prst="line">
            <a:avLst/>
          </a:prstGeom>
          <a:ln w="1260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7"/>
          <p:cNvSpPr/>
          <p:nvPr/>
        </p:nvSpPr>
        <p:spPr>
          <a:xfrm>
            <a:off x="2128680" y="1336680"/>
            <a:ext cx="39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d8623"/>
                </a:solidFill>
                <a:latin typeface="나눔고딕"/>
              </a:rPr>
              <a:t>차트 예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8"/>
          <p:cNvSpPr/>
          <p:nvPr/>
        </p:nvSpPr>
        <p:spPr>
          <a:xfrm>
            <a:off x="2116080" y="1628640"/>
            <a:ext cx="6188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abf8e"/>
                </a:solidFill>
                <a:latin typeface="나눔고딕"/>
              </a:rPr>
              <a:t>삽입 </a:t>
            </a:r>
            <a:r>
              <a:rPr b="0" lang="en-US" sz="1100" spc="-1" strike="noStrike">
                <a:solidFill>
                  <a:srgbClr val="fabf8e"/>
                </a:solidFill>
                <a:latin typeface="나눔고딕"/>
              </a:rPr>
              <a:t>&gt; </a:t>
            </a:r>
            <a:r>
              <a:rPr b="0" lang="zh-CN" sz="1100" spc="-1" strike="noStrike">
                <a:solidFill>
                  <a:srgbClr val="fabf8e"/>
                </a:solidFill>
                <a:latin typeface="나눔고딕"/>
              </a:rPr>
              <a:t>차트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</a:rPr>
              <a:t>를 이용하여 다양한 차트형태를 구현할 수 있습니다</a:t>
            </a:r>
            <a:r>
              <a:rPr b="0" lang="en-US" sz="1100" spc="-1" strike="noStrike">
                <a:solidFill>
                  <a:srgbClr val="ffffff"/>
                </a:solidFill>
                <a:latin typeface="나눔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나눔고딕"/>
              </a:rPr>
              <a:t>표를 선택한 상태에서 오른클릭을 한 뒤</a:t>
            </a:r>
            <a:r>
              <a:rPr b="0" lang="en-US" sz="1100" spc="-1" strike="noStrike">
                <a:solidFill>
                  <a:srgbClr val="ffffff"/>
                </a:solidFill>
                <a:latin typeface="나눔고딕"/>
              </a:rPr>
              <a:t>, </a:t>
            </a:r>
            <a:r>
              <a:rPr b="0" lang="zh-CN" sz="1100" spc="-1" strike="noStrike">
                <a:solidFill>
                  <a:srgbClr val="fabf8e"/>
                </a:solidFill>
                <a:latin typeface="나눔고딕"/>
              </a:rPr>
              <a:t>데이터 편집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</a:rPr>
              <a:t>을 클릭하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나눔고딕"/>
              </a:rPr>
              <a:t>실제 내용과 수치를 편집해 사용할 수 있습니다</a:t>
            </a:r>
            <a:r>
              <a:rPr b="0" lang="en-US" sz="1100" spc="-1" strike="noStrike">
                <a:solidFill>
                  <a:srgbClr val="ffffff"/>
                </a:solidFill>
                <a:latin typeface="나눔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136240" y="236160"/>
            <a:ext cx="6605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나눔고딕"/>
              </a:rPr>
              <a:t>페이지 제목</a:t>
            </a:r>
            <a:endParaRPr b="0" lang="en-US" sz="2400" spc="-1" strike="noStrike">
              <a:solidFill>
                <a:srgbClr val="ffffff"/>
              </a:solidFill>
              <a:latin typeface="나눔고딕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직사각형 1"/>
          <p:cNvSpPr/>
          <p:nvPr/>
        </p:nvSpPr>
        <p:spPr>
          <a:xfrm>
            <a:off x="8534880" y="6337440"/>
            <a:ext cx="24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나눔고딕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2" descr=""/>
          <p:cNvPicPr/>
          <p:nvPr/>
        </p:nvPicPr>
        <p:blipFill>
          <a:blip r:embed="rId1"/>
          <a:stretch/>
        </p:blipFill>
        <p:spPr>
          <a:xfrm>
            <a:off x="423720" y="6324480"/>
            <a:ext cx="1231920" cy="254160"/>
          </a:xfrm>
          <a:prstGeom prst="rect">
            <a:avLst/>
          </a:prstGeom>
          <a:ln w="0">
            <a:noFill/>
          </a:ln>
        </p:spPr>
      </p:pic>
      <p:sp>
        <p:nvSpPr>
          <p:cNvPr id="681" name="직사각형 2"/>
          <p:cNvSpPr/>
          <p:nvPr/>
        </p:nvSpPr>
        <p:spPr>
          <a:xfrm>
            <a:off x="342360" y="37800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873c"/>
                </a:solidFill>
                <a:latin typeface="나눔고딕 ExtraBold"/>
                <a:ea typeface="나눔고딕 ExtraBold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직선 연결선 3"/>
          <p:cNvSpPr/>
          <p:nvPr/>
        </p:nvSpPr>
        <p:spPr>
          <a:xfrm flipH="1">
            <a:off x="431280" y="330120"/>
            <a:ext cx="1357560" cy="0"/>
          </a:xfrm>
          <a:prstGeom prst="line">
            <a:avLst/>
          </a:prstGeom>
          <a:ln w="3816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직선 연결선 4"/>
          <p:cNvSpPr/>
          <p:nvPr/>
        </p:nvSpPr>
        <p:spPr>
          <a:xfrm flipH="1" flipV="1">
            <a:off x="431280" y="1417680"/>
            <a:ext cx="1320840" cy="1440"/>
          </a:xfrm>
          <a:prstGeom prst="line">
            <a:avLst/>
          </a:prstGeom>
          <a:ln w="1260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차트 5"/>
          <p:cNvSpPr/>
          <p:nvPr/>
        </p:nvSpPr>
        <p:spPr>
          <a:xfrm>
            <a:off x="2050920" y="2060640"/>
            <a:ext cx="648180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7"/>
          <p:cNvSpPr/>
          <p:nvPr/>
        </p:nvSpPr>
        <p:spPr>
          <a:xfrm>
            <a:off x="2128680" y="1336680"/>
            <a:ext cx="39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d8623"/>
                </a:solidFill>
                <a:latin typeface="나눔고딕"/>
              </a:rPr>
              <a:t>차트 예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139840" y="23760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나눔고딕"/>
              </a:rPr>
              <a:t>페이지 제목</a:t>
            </a:r>
            <a:endParaRPr b="0" lang="en-US" sz="2400" spc="-1" strike="noStrike">
              <a:solidFill>
                <a:srgbClr val="ffffff"/>
              </a:solidFill>
              <a:latin typeface="나눔고딕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직사각형 1"/>
          <p:cNvSpPr/>
          <p:nvPr/>
        </p:nvSpPr>
        <p:spPr>
          <a:xfrm>
            <a:off x="8534880" y="6337440"/>
            <a:ext cx="24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나눔고딕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2" descr=""/>
          <p:cNvPicPr/>
          <p:nvPr/>
        </p:nvPicPr>
        <p:blipFill>
          <a:blip r:embed="rId1"/>
          <a:stretch/>
        </p:blipFill>
        <p:spPr>
          <a:xfrm>
            <a:off x="423720" y="6324480"/>
            <a:ext cx="1231920" cy="254160"/>
          </a:xfrm>
          <a:prstGeom prst="rect">
            <a:avLst/>
          </a:prstGeom>
          <a:ln w="0">
            <a:noFill/>
          </a:ln>
        </p:spPr>
      </p:pic>
      <p:sp>
        <p:nvSpPr>
          <p:cNvPr id="689" name="직사각형 2"/>
          <p:cNvSpPr/>
          <p:nvPr/>
        </p:nvSpPr>
        <p:spPr>
          <a:xfrm>
            <a:off x="342360" y="37800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873c"/>
                </a:solidFill>
                <a:latin typeface="나눔고딕 ExtraBold"/>
                <a:ea typeface="나눔고딕 ExtraBold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3"/>
          <p:cNvSpPr/>
          <p:nvPr/>
        </p:nvSpPr>
        <p:spPr>
          <a:xfrm>
            <a:off x="2128680" y="1336680"/>
            <a:ext cx="39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873c"/>
                </a:solidFill>
                <a:latin typeface="나눔고딕"/>
              </a:rPr>
              <a:t>Smart Art</a:t>
            </a:r>
            <a:r>
              <a:rPr b="1" lang="zh-CN" sz="1200" spc="-1" strike="noStrike">
                <a:solidFill>
                  <a:srgbClr val="ff873c"/>
                </a:solidFill>
                <a:latin typeface="나눔고딕"/>
              </a:rPr>
              <a:t>를 이용한 다이어그램 예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차트 4"/>
          <p:cNvSpPr/>
          <p:nvPr/>
        </p:nvSpPr>
        <p:spPr>
          <a:xfrm>
            <a:off x="1692360" y="1989000"/>
            <a:ext cx="5316480" cy="439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직선 연결선 6"/>
          <p:cNvSpPr/>
          <p:nvPr/>
        </p:nvSpPr>
        <p:spPr>
          <a:xfrm flipH="1">
            <a:off x="431280" y="330120"/>
            <a:ext cx="1357560" cy="0"/>
          </a:xfrm>
          <a:prstGeom prst="line">
            <a:avLst/>
          </a:prstGeom>
          <a:ln w="3816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직선 연결선 7"/>
          <p:cNvSpPr/>
          <p:nvPr/>
        </p:nvSpPr>
        <p:spPr>
          <a:xfrm flipH="1" flipV="1">
            <a:off x="431280" y="1415520"/>
            <a:ext cx="1320840" cy="1800"/>
          </a:xfrm>
          <a:prstGeom prst="line">
            <a:avLst/>
          </a:prstGeom>
          <a:ln w="1260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38400" y="221760"/>
            <a:ext cx="6603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나눔고딕"/>
              </a:rPr>
              <a:t>글로벌 비즈니스</a:t>
            </a:r>
            <a:endParaRPr b="0" lang="en-US" sz="2400" spc="-1" strike="noStrike">
              <a:solidFill>
                <a:srgbClr val="ffffff"/>
              </a:solidFill>
              <a:latin typeface="나눔고딕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423720" y="6324480"/>
            <a:ext cx="1231920" cy="254160"/>
          </a:xfrm>
          <a:prstGeom prst="rect">
            <a:avLst/>
          </a:prstGeom>
          <a:ln w="0">
            <a:noFill/>
          </a:ln>
        </p:spPr>
      </p:pic>
      <p:sp>
        <p:nvSpPr>
          <p:cNvPr id="696" name="직선 연결선 6"/>
          <p:cNvSpPr/>
          <p:nvPr/>
        </p:nvSpPr>
        <p:spPr>
          <a:xfrm flipH="1">
            <a:off x="431280" y="1419120"/>
            <a:ext cx="1320840" cy="0"/>
          </a:xfrm>
          <a:prstGeom prst="line">
            <a:avLst/>
          </a:prstGeom>
          <a:ln w="1260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직사각형 4"/>
          <p:cNvSpPr/>
          <p:nvPr/>
        </p:nvSpPr>
        <p:spPr>
          <a:xfrm>
            <a:off x="6900120" y="6345360"/>
            <a:ext cx="16048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나눔고딕"/>
              </a:rPr>
              <a:t>이 문서는 나눔글꼴로 작성되었습니다</a:t>
            </a:r>
            <a:r>
              <a:rPr b="0" lang="en-US" sz="800" spc="-1" strike="noStrike">
                <a:solidFill>
                  <a:srgbClr val="7f7f7f"/>
                </a:solidFill>
                <a:latin typeface="나눔고딕"/>
              </a:rPr>
              <a:t>.  </a:t>
            </a:r>
            <a:r>
              <a:rPr b="0" lang="zh-CN" sz="800" spc="-1" strike="noStrike" u="sng">
                <a:solidFill>
                  <a:srgbClr val="f2f2f2"/>
                </a:solidFill>
                <a:uFillTx/>
                <a:latin typeface="나눔고딕"/>
                <a:hlinkClick r:id="rId2"/>
              </a:rPr>
              <a:t>설치하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088720" y="1240920"/>
            <a:ext cx="6653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ff"/>
                </a:solidFill>
                <a:latin typeface="나눔고딕"/>
              </a:rPr>
              <a:t>감사합니다</a:t>
            </a:r>
            <a:endParaRPr b="0" lang="en-US" sz="4200" spc="-1" strike="noStrike">
              <a:solidFill>
                <a:srgbClr val="ffffff"/>
              </a:solidFill>
              <a:latin typeface="나눔고딕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직선 연결선 7"/>
          <p:cNvSpPr/>
          <p:nvPr/>
        </p:nvSpPr>
        <p:spPr>
          <a:xfrm flipH="1">
            <a:off x="431280" y="1413000"/>
            <a:ext cx="1320840" cy="0"/>
          </a:xfrm>
          <a:prstGeom prst="line">
            <a:avLst/>
          </a:prstGeom>
          <a:ln w="1260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직사각형 4"/>
          <p:cNvSpPr/>
          <p:nvPr/>
        </p:nvSpPr>
        <p:spPr>
          <a:xfrm>
            <a:off x="2240640" y="6337440"/>
            <a:ext cx="55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문서의 제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124000" y="1211400"/>
            <a:ext cx="66247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나눔고딕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나눔고딕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나눔고딕"/>
              </a:rPr>
              <a:t>꼭지제목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나눔고딕"/>
              </a:rPr>
              <a:t>2  </a:t>
            </a:r>
            <a:r>
              <a:rPr b="0" lang="zh-CN" sz="2400" spc="-1" strike="noStrike">
                <a:solidFill>
                  <a:srgbClr val="ffffff"/>
                </a:solidFill>
                <a:latin typeface="나눔고딕"/>
              </a:rPr>
              <a:t>꼭지제목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나눔고딕"/>
              </a:rPr>
              <a:t>3  </a:t>
            </a:r>
            <a:r>
              <a:rPr b="0" lang="zh-CN" sz="2400" spc="-1" strike="noStrike">
                <a:solidFill>
                  <a:srgbClr val="ffffff"/>
                </a:solidFill>
                <a:latin typeface="나눔고딕"/>
              </a:rPr>
              <a:t>꼭지제목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나눔고딕"/>
              </a:rPr>
              <a:t>4  </a:t>
            </a:r>
            <a:r>
              <a:rPr b="0" lang="zh-CN" sz="2400" spc="-1" strike="noStrike">
                <a:solidFill>
                  <a:srgbClr val="ffffff"/>
                </a:solidFill>
                <a:latin typeface="나눔고딕"/>
              </a:rPr>
              <a:t>꼭지제목</a:t>
            </a:r>
            <a:endParaRPr b="0" lang="en-US" sz="2400" spc="-1" strike="noStrike">
              <a:solidFill>
                <a:srgbClr val="ffffff"/>
              </a:solidFill>
              <a:latin typeface="나눔고딕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선 연결선 7"/>
          <p:cNvSpPr/>
          <p:nvPr/>
        </p:nvSpPr>
        <p:spPr>
          <a:xfrm flipH="1">
            <a:off x="431280" y="1413000"/>
            <a:ext cx="1320840" cy="0"/>
          </a:xfrm>
          <a:prstGeom prst="line">
            <a:avLst/>
          </a:prstGeom>
          <a:ln w="1260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직사각형 4"/>
          <p:cNvSpPr/>
          <p:nvPr/>
        </p:nvSpPr>
        <p:spPr>
          <a:xfrm>
            <a:off x="2240640" y="6337440"/>
            <a:ext cx="55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나눔고딕"/>
              </a:rPr>
              <a:t>문서의 제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084400" y="907920"/>
            <a:ext cx="5440320" cy="20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나눔고딕"/>
              </a:rPr>
              <a:t>꼭지 제목</a:t>
            </a:r>
            <a:br>
              <a:rPr sz="4200"/>
            </a:br>
            <a:r>
              <a:rPr b="0" lang="zh-CN" sz="4200" spc="-1" strike="noStrike">
                <a:solidFill>
                  <a:srgbClr val="ffffff"/>
                </a:solidFill>
                <a:latin typeface="나눔고딕"/>
              </a:rPr>
              <a:t>나눔고딕 </a:t>
            </a:r>
            <a:r>
              <a:rPr b="0" lang="en-US" sz="4200" spc="-1" strike="noStrike">
                <a:solidFill>
                  <a:srgbClr val="ffffff"/>
                </a:solidFill>
                <a:latin typeface="나눔고딕"/>
              </a:rPr>
              <a:t>R, 42pt</a:t>
            </a:r>
            <a:r>
              <a:rPr b="0" lang="zh-CN" sz="4200" spc="-1" strike="noStrike">
                <a:solidFill>
                  <a:srgbClr val="ffffff"/>
                </a:solidFill>
                <a:latin typeface="나눔고딕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45" name="TextBox 1"/>
          <p:cNvSpPr/>
          <p:nvPr/>
        </p:nvSpPr>
        <p:spPr>
          <a:xfrm>
            <a:off x="1139400" y="443700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2f2f2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직사각형 1"/>
          <p:cNvSpPr/>
          <p:nvPr/>
        </p:nvSpPr>
        <p:spPr>
          <a:xfrm>
            <a:off x="8534880" y="6337440"/>
            <a:ext cx="24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나눔고딕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423720" y="6324480"/>
            <a:ext cx="1231920" cy="254160"/>
          </a:xfrm>
          <a:prstGeom prst="rect">
            <a:avLst/>
          </a:prstGeom>
          <a:ln w="0">
            <a:noFill/>
          </a:ln>
        </p:spPr>
      </p:pic>
      <p:sp>
        <p:nvSpPr>
          <p:cNvPr id="548" name="직사각형 3"/>
          <p:cNvSpPr/>
          <p:nvPr/>
        </p:nvSpPr>
        <p:spPr>
          <a:xfrm>
            <a:off x="342360" y="37800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873c"/>
                </a:solidFill>
                <a:latin typeface="나눔고딕 ExtraBold"/>
                <a:ea typeface="나눔고딕 ExtraBold"/>
              </a:rPr>
              <a:t>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직선 연결선 4"/>
          <p:cNvSpPr/>
          <p:nvPr/>
        </p:nvSpPr>
        <p:spPr>
          <a:xfrm flipH="1">
            <a:off x="431280" y="330120"/>
            <a:ext cx="1357560" cy="0"/>
          </a:xfrm>
          <a:prstGeom prst="line">
            <a:avLst/>
          </a:prstGeom>
          <a:ln w="3816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직선 연결선 5"/>
          <p:cNvSpPr/>
          <p:nvPr/>
        </p:nvSpPr>
        <p:spPr>
          <a:xfrm flipH="1">
            <a:off x="431280" y="1420920"/>
            <a:ext cx="1320840" cy="0"/>
          </a:xfrm>
          <a:prstGeom prst="line">
            <a:avLst/>
          </a:prstGeom>
          <a:ln w="1260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6"/>
          <p:cNvSpPr/>
          <p:nvPr/>
        </p:nvSpPr>
        <p:spPr>
          <a:xfrm>
            <a:off x="2124000" y="1339920"/>
            <a:ext cx="39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873c"/>
                </a:solidFill>
                <a:latin typeface="나눔고딕"/>
              </a:rPr>
              <a:t>1  </a:t>
            </a:r>
            <a:r>
              <a:rPr b="1" lang="zh-CN" sz="1200" spc="-1" strike="noStrike">
                <a:solidFill>
                  <a:srgbClr val="ff873c"/>
                </a:solidFill>
                <a:latin typeface="나눔고딕"/>
              </a:rPr>
              <a:t>내용 제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7"/>
          <p:cNvSpPr/>
          <p:nvPr/>
        </p:nvSpPr>
        <p:spPr>
          <a:xfrm>
            <a:off x="2273400" y="1704960"/>
            <a:ext cx="51782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나눔고딕"/>
              </a:rPr>
              <a:t>내용 요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상세 내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상세 내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8"/>
          <p:cNvSpPr/>
          <p:nvPr/>
        </p:nvSpPr>
        <p:spPr>
          <a:xfrm>
            <a:off x="2273400" y="2492280"/>
            <a:ext cx="6188040" cy="22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나눔고딕"/>
              </a:rPr>
              <a:t>상세 가이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4000"/>
              </a:lnSpc>
              <a:buClr>
                <a:srgbClr val="fabf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abf8e"/>
                </a:solidFill>
                <a:latin typeface="나눔고딕"/>
              </a:rPr>
              <a:t>본문 내용의 글꼴 크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     </a:t>
            </a: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화면에서의 가독성을 고려하여 최소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10pt</a:t>
            </a: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로 권장합니다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. (</a:t>
            </a: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현재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12p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     </a:t>
            </a: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캡션으로 사용하는 경우 등 상황에 따라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10pt </a:t>
            </a: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미만으로 사용하실 수 있습니다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4000"/>
              </a:lnSpc>
              <a:buClr>
                <a:srgbClr val="fabf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abf8e"/>
                </a:solidFill>
                <a:latin typeface="나눔고딕"/>
              </a:rPr>
              <a:t>본문 내용의 줄간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1.15</a:t>
            </a: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배를 권장합니다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4000"/>
              </a:lnSpc>
              <a:buClr>
                <a:srgbClr val="fabf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abf8e"/>
                </a:solidFill>
                <a:latin typeface="나눔고딕"/>
              </a:rPr>
              <a:t>본문 내용의 글자간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     </a:t>
            </a: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좁게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0.2pt</a:t>
            </a:r>
            <a:r>
              <a:rPr b="0" lang="zh-CN" sz="1200" spc="-1" strike="noStrike">
                <a:solidFill>
                  <a:srgbClr val="000000"/>
                </a:solidFill>
                <a:latin typeface="나눔고딕"/>
              </a:rPr>
              <a:t>를 권장합니다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47760" y="212760"/>
            <a:ext cx="242424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나눔고딕"/>
              </a:rPr>
              <a:t>페이지 제목</a:t>
            </a:r>
            <a:endParaRPr b="0" lang="en-US" sz="2400" spc="-1" strike="noStrike">
              <a:solidFill>
                <a:srgbClr val="ffffff"/>
              </a:solidFill>
              <a:latin typeface="나눔고딕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직사각형 1"/>
          <p:cNvSpPr/>
          <p:nvPr/>
        </p:nvSpPr>
        <p:spPr>
          <a:xfrm>
            <a:off x="8534880" y="6337440"/>
            <a:ext cx="24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나눔고딕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423720" y="6324480"/>
            <a:ext cx="1231920" cy="254160"/>
          </a:xfrm>
          <a:prstGeom prst="rect">
            <a:avLst/>
          </a:prstGeom>
          <a:ln w="0">
            <a:noFill/>
          </a:ln>
        </p:spPr>
      </p:pic>
      <p:sp>
        <p:nvSpPr>
          <p:cNvPr id="557" name="직사각형 2"/>
          <p:cNvSpPr/>
          <p:nvPr/>
        </p:nvSpPr>
        <p:spPr>
          <a:xfrm>
            <a:off x="342360" y="37800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873c"/>
                </a:solidFill>
                <a:latin typeface="나눔고딕 ExtraBold"/>
                <a:ea typeface="나눔고딕 ExtraBold"/>
              </a:rPr>
              <a:t>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직선 연결선 3"/>
          <p:cNvSpPr/>
          <p:nvPr/>
        </p:nvSpPr>
        <p:spPr>
          <a:xfrm flipH="1">
            <a:off x="431280" y="330120"/>
            <a:ext cx="1357560" cy="0"/>
          </a:xfrm>
          <a:prstGeom prst="line">
            <a:avLst/>
          </a:prstGeom>
          <a:ln w="3816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직선 연결선 4"/>
          <p:cNvSpPr/>
          <p:nvPr/>
        </p:nvSpPr>
        <p:spPr>
          <a:xfrm flipH="1">
            <a:off x="431280" y="1420920"/>
            <a:ext cx="1320840" cy="0"/>
          </a:xfrm>
          <a:prstGeom prst="line">
            <a:avLst/>
          </a:prstGeom>
          <a:ln w="1260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직사각형 6"/>
          <p:cNvSpPr/>
          <p:nvPr/>
        </p:nvSpPr>
        <p:spPr>
          <a:xfrm>
            <a:off x="2116080" y="1339920"/>
            <a:ext cx="8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d8623"/>
                </a:solidFill>
                <a:latin typeface="나눔고딕"/>
              </a:rPr>
              <a:t>표</a:t>
            </a:r>
            <a:r>
              <a:rPr b="1" lang="en-US" sz="1200" spc="-1" strike="noStrike">
                <a:solidFill>
                  <a:srgbClr val="fd8623"/>
                </a:solidFill>
                <a:latin typeface="나눔고딕"/>
              </a:rPr>
              <a:t>  </a:t>
            </a:r>
            <a:r>
              <a:rPr b="1" lang="zh-CN" sz="1200" spc="-1" strike="noStrike">
                <a:solidFill>
                  <a:srgbClr val="fd8623"/>
                </a:solidFill>
                <a:latin typeface="나눔고딕"/>
              </a:rPr>
              <a:t>예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7"/>
          <p:cNvSpPr/>
          <p:nvPr/>
        </p:nvSpPr>
        <p:spPr>
          <a:xfrm>
            <a:off x="2116080" y="1628640"/>
            <a:ext cx="618804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나눔고딕"/>
              </a:rPr>
              <a:t>표 안에 내용을 넣을 경우</a:t>
            </a:r>
            <a:r>
              <a:rPr b="0" lang="en-US" sz="1100" spc="-1" strike="noStrike">
                <a:solidFill>
                  <a:srgbClr val="000000"/>
                </a:solidFill>
                <a:latin typeface="나눔고딕"/>
              </a:rPr>
              <a:t>, </a:t>
            </a:r>
            <a:r>
              <a:rPr b="0" lang="zh-CN" sz="1100" spc="-1" strike="noStrike">
                <a:solidFill>
                  <a:srgbClr val="000000"/>
                </a:solidFill>
                <a:latin typeface="나눔고딕"/>
              </a:rPr>
              <a:t>좌측정렬을 권장합니다</a:t>
            </a:r>
            <a:r>
              <a:rPr b="0" lang="en-US" sz="11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직사각형 8"/>
          <p:cNvSpPr/>
          <p:nvPr/>
        </p:nvSpPr>
        <p:spPr>
          <a:xfrm>
            <a:off x="2178000" y="2228760"/>
            <a:ext cx="44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나눔고딕"/>
              </a:rPr>
              <a:t>표 제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2176560" y="2565360"/>
          <a:ext cx="6265800" cy="2211480"/>
        </p:xfrm>
        <a:graphic>
          <a:graphicData uri="http://schemas.openxmlformats.org/drawingml/2006/table">
            <a:tbl>
              <a:tblPr/>
              <a:tblGrid>
                <a:gridCol w="1252440"/>
                <a:gridCol w="1252440"/>
                <a:gridCol w="1255680"/>
                <a:gridCol w="1252800"/>
                <a:gridCol w="1252440"/>
              </a:tblGrid>
              <a:tr h="320760">
                <a:tc>
                  <a:txBody>
                    <a:bodyPr lIns="36000" rIns="90000" tIns="720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873c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720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나눔고딕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873c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720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873c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720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나눔고딕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873c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720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873c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</a:tr>
              <a:tr h="270000"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나눔고딕"/>
                        </a:rPr>
                        <a:t>세부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나눔고딕"/>
                        </a:rPr>
                        <a:t>세부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</a:tr>
              <a:tr h="269640"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나눔고딕"/>
                        </a:rPr>
                        <a:t>세부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나눔고딕"/>
                        </a:rPr>
                        <a:t>세부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</a:tr>
              <a:tr h="271440"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나눔고딕"/>
                        </a:rPr>
                        <a:t>세부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나눔고딕"/>
                        </a:rPr>
                        <a:t>세부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</a:tr>
              <a:tr h="270000"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나눔고딕"/>
                        </a:rPr>
                        <a:t>세부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나눔고딕"/>
                        </a:rPr>
                        <a:t>세부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</a:tr>
              <a:tr h="270000"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나눔고딕"/>
                        </a:rPr>
                        <a:t>세부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나눔고딕"/>
                        </a:rPr>
                        <a:t>세부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</a:tr>
              <a:tr h="269640"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나눔고딕"/>
                        </a:rPr>
                        <a:t>세부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나눔고딕"/>
                        </a:rPr>
                        <a:t>세부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1440">
                      <a:solidFill>
                        <a:srgbClr val="a5a5a5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</a:tr>
              <a:tr h="270000"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나눔고딕"/>
                        </a:rPr>
                        <a:t>세부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나눔고딕"/>
                        </a:rPr>
                        <a:t>세부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873c"/>
                          </a:solidFill>
                          <a:latin typeface="나눔고딕"/>
                        </a:rPr>
                        <a:t>항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a5a5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1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142720" y="225360"/>
            <a:ext cx="659916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나눔고딕"/>
              </a:rPr>
              <a:t>페이지 제목</a:t>
            </a:r>
            <a:endParaRPr b="0" lang="en-US" sz="2400" spc="-1" strike="noStrike">
              <a:solidFill>
                <a:srgbClr val="ffffff"/>
              </a:solidFill>
              <a:latin typeface="나눔고딕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182520" y="65419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2f2f2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직사각형 1"/>
          <p:cNvSpPr/>
          <p:nvPr/>
        </p:nvSpPr>
        <p:spPr>
          <a:xfrm>
            <a:off x="8534880" y="6337440"/>
            <a:ext cx="24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나눔고딕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타원 1"/>
          <p:cNvSpPr/>
          <p:nvPr/>
        </p:nvSpPr>
        <p:spPr>
          <a:xfrm>
            <a:off x="2238480" y="4822920"/>
            <a:ext cx="1144440" cy="1146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타원 2"/>
          <p:cNvSpPr/>
          <p:nvPr/>
        </p:nvSpPr>
        <p:spPr>
          <a:xfrm>
            <a:off x="3587760" y="4822920"/>
            <a:ext cx="1144440" cy="1146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타원 3"/>
          <p:cNvSpPr/>
          <p:nvPr/>
        </p:nvSpPr>
        <p:spPr>
          <a:xfrm>
            <a:off x="4898880" y="4822920"/>
            <a:ext cx="1144800" cy="1146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직사각형 4"/>
          <p:cNvSpPr/>
          <p:nvPr/>
        </p:nvSpPr>
        <p:spPr>
          <a:xfrm>
            <a:off x="2235240" y="2797200"/>
            <a:ext cx="1082520" cy="108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5"/>
          <p:cNvSpPr/>
          <p:nvPr/>
        </p:nvSpPr>
        <p:spPr>
          <a:xfrm>
            <a:off x="2136600" y="2351160"/>
            <a:ext cx="255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나눔고딕"/>
              </a:rPr>
              <a:t>큐브형 ㅣ 그림자 효과 </a:t>
            </a:r>
            <a:r>
              <a:rPr b="1" lang="en-US" sz="1000" spc="-1" strike="noStrike">
                <a:solidFill>
                  <a:srgbClr val="000000"/>
                </a:solidFill>
                <a:latin typeface="나눔고딕"/>
              </a:rPr>
              <a:t>+ </a:t>
            </a:r>
            <a:r>
              <a:rPr b="1" lang="zh-CN" sz="1000" spc="-1" strike="noStrike">
                <a:solidFill>
                  <a:srgbClr val="000000"/>
                </a:solidFill>
                <a:latin typeface="나눔고딕"/>
              </a:rPr>
              <a:t>반사효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6"/>
          <p:cNvSpPr/>
          <p:nvPr/>
        </p:nvSpPr>
        <p:spPr>
          <a:xfrm>
            <a:off x="2136600" y="4410000"/>
            <a:ext cx="255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나눔고딕"/>
              </a:rPr>
              <a:t>원형ㅣ그림자 효과 </a:t>
            </a:r>
            <a:r>
              <a:rPr b="1" lang="en-US" sz="1000" spc="-1" strike="noStrike">
                <a:solidFill>
                  <a:srgbClr val="000000"/>
                </a:solidFill>
                <a:latin typeface="나눔고딕"/>
              </a:rPr>
              <a:t>+ </a:t>
            </a:r>
            <a:r>
              <a:rPr b="1" lang="zh-CN" sz="1000" spc="-1" strike="noStrike">
                <a:solidFill>
                  <a:srgbClr val="000000"/>
                </a:solidFill>
                <a:latin typeface="나눔고딕"/>
              </a:rPr>
              <a:t>반사효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직사각형 7"/>
          <p:cNvSpPr/>
          <p:nvPr/>
        </p:nvSpPr>
        <p:spPr>
          <a:xfrm>
            <a:off x="3579840" y="2797200"/>
            <a:ext cx="1082520" cy="108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직사각형 8"/>
          <p:cNvSpPr/>
          <p:nvPr/>
        </p:nvSpPr>
        <p:spPr>
          <a:xfrm>
            <a:off x="4929120" y="2797200"/>
            <a:ext cx="1082880" cy="108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423720" y="6324480"/>
            <a:ext cx="1231920" cy="254160"/>
          </a:xfrm>
          <a:prstGeom prst="rect">
            <a:avLst/>
          </a:prstGeom>
          <a:ln w="0">
            <a:noFill/>
          </a:ln>
        </p:spPr>
      </p:pic>
      <p:sp>
        <p:nvSpPr>
          <p:cNvPr id="576" name="직사각형 10"/>
          <p:cNvSpPr/>
          <p:nvPr/>
        </p:nvSpPr>
        <p:spPr>
          <a:xfrm>
            <a:off x="342360" y="37800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873c"/>
                </a:solidFill>
                <a:latin typeface="나눔고딕 ExtraBold"/>
                <a:ea typeface="나눔고딕 ExtraBold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직선 연결선 11"/>
          <p:cNvSpPr/>
          <p:nvPr/>
        </p:nvSpPr>
        <p:spPr>
          <a:xfrm flipH="1">
            <a:off x="431280" y="330120"/>
            <a:ext cx="1357560" cy="0"/>
          </a:xfrm>
          <a:prstGeom prst="line">
            <a:avLst/>
          </a:prstGeom>
          <a:ln w="3816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직선 연결선 12"/>
          <p:cNvSpPr/>
          <p:nvPr/>
        </p:nvSpPr>
        <p:spPr>
          <a:xfrm flipH="1" flipV="1">
            <a:off x="431280" y="1415520"/>
            <a:ext cx="1320840" cy="1800"/>
          </a:xfrm>
          <a:prstGeom prst="line">
            <a:avLst/>
          </a:prstGeom>
          <a:ln w="1260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직사각형 13"/>
          <p:cNvSpPr/>
          <p:nvPr/>
        </p:nvSpPr>
        <p:spPr>
          <a:xfrm>
            <a:off x="2116080" y="1339920"/>
            <a:ext cx="8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d8623"/>
                </a:solidFill>
                <a:latin typeface="나눔고딕"/>
              </a:rPr>
              <a:t>도형</a:t>
            </a:r>
            <a:r>
              <a:rPr b="1" lang="en-US" sz="1200" spc="-1" strike="noStrike">
                <a:solidFill>
                  <a:srgbClr val="fd8623"/>
                </a:solidFill>
                <a:latin typeface="나눔고딕"/>
              </a:rPr>
              <a:t>  </a:t>
            </a:r>
            <a:r>
              <a:rPr b="1" lang="zh-CN" sz="1200" spc="-1" strike="noStrike">
                <a:solidFill>
                  <a:srgbClr val="fd8623"/>
                </a:solidFill>
                <a:latin typeface="나눔고딕"/>
              </a:rPr>
              <a:t>예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14"/>
          <p:cNvSpPr/>
          <p:nvPr/>
        </p:nvSpPr>
        <p:spPr>
          <a:xfrm>
            <a:off x="2116080" y="1628640"/>
            <a:ext cx="618804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나눔고딕"/>
              </a:rPr>
              <a:t>도형 안에 내용을 넣을 경우</a:t>
            </a:r>
            <a:r>
              <a:rPr b="0" lang="en-US" sz="1100" spc="-1" strike="noStrike">
                <a:solidFill>
                  <a:srgbClr val="000000"/>
                </a:solidFill>
                <a:latin typeface="나눔고딕"/>
              </a:rPr>
              <a:t>, </a:t>
            </a:r>
            <a:r>
              <a:rPr b="0" lang="zh-CN" sz="1100" spc="-1" strike="noStrike">
                <a:solidFill>
                  <a:srgbClr val="000000"/>
                </a:solidFill>
                <a:latin typeface="나눔고딕"/>
              </a:rPr>
              <a:t>상하좌우 중앙정렬을 권장합니다</a:t>
            </a:r>
            <a:r>
              <a:rPr b="0" lang="en-US" sz="11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152800" y="237960"/>
            <a:ext cx="6589440" cy="10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나눔고딕"/>
              </a:rPr>
              <a:t>페이지 제목</a:t>
            </a:r>
            <a:endParaRPr b="0" lang="en-US" sz="2400" spc="-1" strike="noStrike">
              <a:solidFill>
                <a:srgbClr val="ffffff"/>
              </a:solidFill>
              <a:latin typeface="나눔고딕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직사각형 1"/>
          <p:cNvSpPr/>
          <p:nvPr/>
        </p:nvSpPr>
        <p:spPr>
          <a:xfrm>
            <a:off x="8534880" y="6337440"/>
            <a:ext cx="24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나눔고딕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1"/>
          <p:cNvSpPr/>
          <p:nvPr/>
        </p:nvSpPr>
        <p:spPr>
          <a:xfrm>
            <a:off x="2136600" y="2349360"/>
            <a:ext cx="255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나눔고딕"/>
              </a:rPr>
              <a:t>큐브형 ㅣ 그림자 효과 </a:t>
            </a:r>
            <a:r>
              <a:rPr b="1" lang="en-US" sz="1000" spc="-1" strike="noStrike">
                <a:solidFill>
                  <a:srgbClr val="000000"/>
                </a:solidFill>
                <a:latin typeface="나눔고딕"/>
              </a:rPr>
              <a:t>+ </a:t>
            </a:r>
            <a:r>
              <a:rPr b="1" lang="zh-CN" sz="1000" spc="-1" strike="noStrike">
                <a:solidFill>
                  <a:srgbClr val="000000"/>
                </a:solidFill>
                <a:latin typeface="나눔고딕"/>
              </a:rPr>
              <a:t>반사효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2"/>
          <p:cNvSpPr/>
          <p:nvPr/>
        </p:nvSpPr>
        <p:spPr>
          <a:xfrm>
            <a:off x="2136600" y="4408560"/>
            <a:ext cx="255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나눔고딕"/>
              </a:rPr>
              <a:t>원형ㅣ그림자 효과 </a:t>
            </a:r>
            <a:r>
              <a:rPr b="1" lang="en-US" sz="1000" spc="-1" strike="noStrike">
                <a:solidFill>
                  <a:srgbClr val="000000"/>
                </a:solidFill>
                <a:latin typeface="나눔고딕"/>
              </a:rPr>
              <a:t>+ </a:t>
            </a:r>
            <a:r>
              <a:rPr b="1" lang="zh-CN" sz="1000" spc="-1" strike="noStrike">
                <a:solidFill>
                  <a:srgbClr val="000000"/>
                </a:solidFill>
                <a:latin typeface="나눔고딕"/>
              </a:rPr>
              <a:t>반사효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423720" y="6324480"/>
            <a:ext cx="1231920" cy="254160"/>
          </a:xfrm>
          <a:prstGeom prst="rect">
            <a:avLst/>
          </a:prstGeom>
          <a:ln w="0">
            <a:noFill/>
          </a:ln>
        </p:spPr>
      </p:pic>
      <p:sp>
        <p:nvSpPr>
          <p:cNvPr id="586" name="직사각형 4"/>
          <p:cNvSpPr/>
          <p:nvPr/>
        </p:nvSpPr>
        <p:spPr>
          <a:xfrm>
            <a:off x="342360" y="37800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873c"/>
                </a:solidFill>
                <a:latin typeface="나눔고딕 ExtraBold"/>
                <a:ea typeface="나눔고딕 ExtraBold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타원 5"/>
          <p:cNvSpPr/>
          <p:nvPr/>
        </p:nvSpPr>
        <p:spPr>
          <a:xfrm>
            <a:off x="2238480" y="4815000"/>
            <a:ext cx="1144440" cy="1144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타원 6"/>
          <p:cNvSpPr/>
          <p:nvPr/>
        </p:nvSpPr>
        <p:spPr>
          <a:xfrm>
            <a:off x="3568680" y="4815000"/>
            <a:ext cx="1144440" cy="1144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직사각형 7"/>
          <p:cNvSpPr/>
          <p:nvPr/>
        </p:nvSpPr>
        <p:spPr>
          <a:xfrm>
            <a:off x="2238480" y="2795760"/>
            <a:ext cx="1082520" cy="108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8"/>
          <p:cNvSpPr/>
          <p:nvPr/>
        </p:nvSpPr>
        <p:spPr>
          <a:xfrm>
            <a:off x="3584520" y="2795760"/>
            <a:ext cx="1082880" cy="108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9"/>
          <p:cNvSpPr/>
          <p:nvPr/>
        </p:nvSpPr>
        <p:spPr>
          <a:xfrm>
            <a:off x="4932360" y="2795760"/>
            <a:ext cx="1082520" cy="108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타원 10"/>
          <p:cNvSpPr/>
          <p:nvPr/>
        </p:nvSpPr>
        <p:spPr>
          <a:xfrm>
            <a:off x="4898880" y="4815000"/>
            <a:ext cx="1144800" cy="1144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선 연결선 11"/>
          <p:cNvSpPr/>
          <p:nvPr/>
        </p:nvSpPr>
        <p:spPr>
          <a:xfrm flipH="1">
            <a:off x="431280" y="330120"/>
            <a:ext cx="1357560" cy="0"/>
          </a:xfrm>
          <a:prstGeom prst="line">
            <a:avLst/>
          </a:prstGeom>
          <a:ln w="3816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선 연결선 12"/>
          <p:cNvSpPr/>
          <p:nvPr/>
        </p:nvSpPr>
        <p:spPr>
          <a:xfrm flipH="1" flipV="1">
            <a:off x="431280" y="1415520"/>
            <a:ext cx="1320840" cy="1800"/>
          </a:xfrm>
          <a:prstGeom prst="line">
            <a:avLst/>
          </a:prstGeom>
          <a:ln w="1260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13"/>
          <p:cNvSpPr/>
          <p:nvPr/>
        </p:nvSpPr>
        <p:spPr>
          <a:xfrm>
            <a:off x="2116080" y="1339920"/>
            <a:ext cx="94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d8623"/>
                </a:solidFill>
                <a:latin typeface="나눔고딕"/>
              </a:rPr>
              <a:t>도형  예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14"/>
          <p:cNvSpPr/>
          <p:nvPr/>
        </p:nvSpPr>
        <p:spPr>
          <a:xfrm>
            <a:off x="2116080" y="1628640"/>
            <a:ext cx="61880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abf8e"/>
                </a:solidFill>
                <a:latin typeface="나눔고딕"/>
              </a:rPr>
              <a:t>삽입 </a:t>
            </a:r>
            <a:r>
              <a:rPr b="0" lang="en-US" sz="1100" spc="-1" strike="noStrike">
                <a:solidFill>
                  <a:srgbClr val="fabf8e"/>
                </a:solidFill>
                <a:latin typeface="나눔고딕"/>
              </a:rPr>
              <a:t>&gt; </a:t>
            </a:r>
            <a:r>
              <a:rPr b="0" lang="zh-CN" sz="1100" spc="-1" strike="noStrike">
                <a:solidFill>
                  <a:srgbClr val="fabf8e"/>
                </a:solidFill>
                <a:latin typeface="나눔고딕"/>
              </a:rPr>
              <a:t>도형 </a:t>
            </a:r>
            <a:r>
              <a:rPr b="0" lang="zh-CN" sz="1100" spc="-1" strike="noStrike">
                <a:solidFill>
                  <a:srgbClr val="000000"/>
                </a:solidFill>
                <a:latin typeface="나눔고딕"/>
              </a:rPr>
              <a:t>또는 </a:t>
            </a:r>
            <a:r>
              <a:rPr b="0" lang="en-US" sz="1100" spc="-1" strike="noStrike">
                <a:solidFill>
                  <a:srgbClr val="fabf8e"/>
                </a:solidFill>
                <a:latin typeface="나눔고딕"/>
              </a:rPr>
              <a:t>SmartArt</a:t>
            </a:r>
            <a:r>
              <a:rPr b="0" lang="zh-CN" sz="1100" spc="-1" strike="noStrike">
                <a:solidFill>
                  <a:srgbClr val="000000"/>
                </a:solidFill>
                <a:latin typeface="나눔고딕"/>
              </a:rPr>
              <a:t>를 이용하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나눔고딕"/>
              </a:rPr>
              <a:t>다양한 도형 및 다이어그램을 구현할 수 있습니다</a:t>
            </a:r>
            <a:r>
              <a:rPr b="0" lang="en-US" sz="11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155680" y="237600"/>
            <a:ext cx="6586560" cy="8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나눔고딕"/>
              </a:rPr>
              <a:t>페이지 제목</a:t>
            </a:r>
            <a:endParaRPr b="0" lang="en-US" sz="2400" spc="-1" strike="noStrike">
              <a:solidFill>
                <a:srgbClr val="ffffff"/>
              </a:solidFill>
              <a:latin typeface="나눔고딕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직사각형 1"/>
          <p:cNvSpPr/>
          <p:nvPr/>
        </p:nvSpPr>
        <p:spPr>
          <a:xfrm>
            <a:off x="8534880" y="6337440"/>
            <a:ext cx="24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나눔고딕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3"/>
          <p:cNvGrpSpPr/>
          <p:nvPr/>
        </p:nvGrpSpPr>
        <p:grpSpPr>
          <a:xfrm>
            <a:off x="1835280" y="2301840"/>
            <a:ext cx="7137360" cy="3287880"/>
            <a:chOff x="1835280" y="2301840"/>
            <a:chExt cx="7137360" cy="3287880"/>
          </a:xfrm>
        </p:grpSpPr>
        <p:sp>
          <p:nvSpPr>
            <p:cNvPr id="600" name="다이어그램 2"/>
            <p:cNvSpPr/>
            <p:nvPr/>
          </p:nvSpPr>
          <p:spPr>
            <a:xfrm>
              <a:off x="1835280" y="2301840"/>
              <a:ext cx="4932360" cy="328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다이어그램 3"/>
            <p:cNvSpPr/>
            <p:nvPr/>
          </p:nvSpPr>
          <p:spPr>
            <a:xfrm>
              <a:off x="5220360" y="2992680"/>
              <a:ext cx="3752280" cy="250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직사각형 4"/>
          <p:cNvSpPr/>
          <p:nvPr/>
        </p:nvSpPr>
        <p:spPr>
          <a:xfrm>
            <a:off x="342360" y="37800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873c"/>
                </a:solidFill>
                <a:latin typeface="나눔고딕 ExtraBold"/>
                <a:ea typeface="나눔고딕 ExtraBold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423720" y="6324480"/>
            <a:ext cx="1231920" cy="254160"/>
          </a:xfrm>
          <a:prstGeom prst="rect">
            <a:avLst/>
          </a:prstGeom>
          <a:ln w="0">
            <a:noFill/>
          </a:ln>
        </p:spPr>
      </p:pic>
      <p:sp>
        <p:nvSpPr>
          <p:cNvPr id="604" name="직선 연결선 6"/>
          <p:cNvSpPr/>
          <p:nvPr/>
        </p:nvSpPr>
        <p:spPr>
          <a:xfrm flipH="1">
            <a:off x="431280" y="330120"/>
            <a:ext cx="1357560" cy="0"/>
          </a:xfrm>
          <a:prstGeom prst="line">
            <a:avLst/>
          </a:prstGeom>
          <a:ln w="3816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직선 연결선 7"/>
          <p:cNvSpPr/>
          <p:nvPr/>
        </p:nvSpPr>
        <p:spPr>
          <a:xfrm flipH="1" flipV="1">
            <a:off x="431280" y="1415520"/>
            <a:ext cx="1320840" cy="1800"/>
          </a:xfrm>
          <a:prstGeom prst="line">
            <a:avLst/>
          </a:prstGeom>
          <a:ln w="1260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9"/>
          <p:cNvSpPr/>
          <p:nvPr/>
        </p:nvSpPr>
        <p:spPr>
          <a:xfrm>
            <a:off x="2128680" y="1336680"/>
            <a:ext cx="39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d8623"/>
                </a:solidFill>
                <a:latin typeface="나눔고딕"/>
              </a:rPr>
              <a:t>Smart Art</a:t>
            </a:r>
            <a:r>
              <a:rPr b="1" lang="zh-CN" sz="1200" spc="-1" strike="noStrike">
                <a:solidFill>
                  <a:srgbClr val="fd8623"/>
                </a:solidFill>
                <a:latin typeface="나눔고딕"/>
              </a:rPr>
              <a:t>를 이용한 다이어그램 예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10"/>
          <p:cNvSpPr/>
          <p:nvPr/>
        </p:nvSpPr>
        <p:spPr>
          <a:xfrm>
            <a:off x="2116080" y="1628640"/>
            <a:ext cx="61880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abf8e"/>
                </a:solidFill>
                <a:latin typeface="나눔고딕"/>
              </a:rPr>
              <a:t>삽입 </a:t>
            </a:r>
            <a:r>
              <a:rPr b="0" lang="en-US" sz="1100" spc="-1" strike="noStrike">
                <a:solidFill>
                  <a:srgbClr val="fabf8e"/>
                </a:solidFill>
                <a:latin typeface="나눔고딕"/>
              </a:rPr>
              <a:t>&gt; </a:t>
            </a:r>
            <a:r>
              <a:rPr b="0" lang="zh-CN" sz="1100" spc="-1" strike="noStrike">
                <a:solidFill>
                  <a:srgbClr val="fabf8e"/>
                </a:solidFill>
                <a:latin typeface="나눔고딕"/>
              </a:rPr>
              <a:t>도형 </a:t>
            </a:r>
            <a:r>
              <a:rPr b="0" lang="zh-CN" sz="1100" spc="-1" strike="noStrike">
                <a:solidFill>
                  <a:srgbClr val="000000"/>
                </a:solidFill>
                <a:latin typeface="나눔고딕"/>
              </a:rPr>
              <a:t>또는 </a:t>
            </a:r>
            <a:r>
              <a:rPr b="0" lang="en-US" sz="1100" spc="-1" strike="noStrike">
                <a:solidFill>
                  <a:srgbClr val="fabf8e"/>
                </a:solidFill>
                <a:latin typeface="나눔고딕"/>
              </a:rPr>
              <a:t>SmartArt</a:t>
            </a:r>
            <a:r>
              <a:rPr b="0" lang="zh-CN" sz="1100" spc="-1" strike="noStrike">
                <a:solidFill>
                  <a:srgbClr val="000000"/>
                </a:solidFill>
                <a:latin typeface="나눔고딕"/>
              </a:rPr>
              <a:t>를 이용하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나눔고딕"/>
              </a:rPr>
              <a:t>다양한 도형 및 다이어그램을 구현할 수 있습니다</a:t>
            </a:r>
            <a:r>
              <a:rPr b="0" lang="en-US" sz="1100" spc="-1" strike="noStrike">
                <a:solidFill>
                  <a:srgbClr val="000000"/>
                </a:solidFill>
                <a:latin typeface="나눔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143080" y="225000"/>
            <a:ext cx="6562800" cy="11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나눔고딕"/>
              </a:rPr>
              <a:t>페이지 제목</a:t>
            </a:r>
            <a:endParaRPr b="0" lang="en-US" sz="2400" spc="-1" strike="noStrike">
              <a:solidFill>
                <a:srgbClr val="ffffff"/>
              </a:solidFill>
              <a:latin typeface="나눔고딕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직사각형 1"/>
          <p:cNvSpPr/>
          <p:nvPr/>
        </p:nvSpPr>
        <p:spPr>
          <a:xfrm>
            <a:off x="8534880" y="6337440"/>
            <a:ext cx="24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나눔고딕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1"/>
          <p:cNvSpPr/>
          <p:nvPr/>
        </p:nvSpPr>
        <p:spPr>
          <a:xfrm>
            <a:off x="2128680" y="1336680"/>
            <a:ext cx="39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d8623"/>
                </a:solidFill>
                <a:latin typeface="나눔고딕"/>
              </a:rPr>
              <a:t>Smart Art</a:t>
            </a:r>
            <a:r>
              <a:rPr b="1" lang="zh-CN" sz="1200" spc="-1" strike="noStrike">
                <a:solidFill>
                  <a:srgbClr val="fd8623"/>
                </a:solidFill>
                <a:latin typeface="나눔고딕"/>
              </a:rPr>
              <a:t>를 이용한 다이어그램 예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직사각형 2"/>
          <p:cNvSpPr/>
          <p:nvPr/>
        </p:nvSpPr>
        <p:spPr>
          <a:xfrm>
            <a:off x="342360" y="37800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873c"/>
                </a:solidFill>
                <a:latin typeface="나눔고딕 ExtraBold"/>
                <a:ea typeface="나눔고딕 ExtraBold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다이어그램 3"/>
          <p:cNvSpPr/>
          <p:nvPr/>
        </p:nvSpPr>
        <p:spPr>
          <a:xfrm>
            <a:off x="1835280" y="2301840"/>
            <a:ext cx="4930560" cy="328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다이어그램 4"/>
          <p:cNvSpPr/>
          <p:nvPr/>
        </p:nvSpPr>
        <p:spPr>
          <a:xfrm>
            <a:off x="5219640" y="2992320"/>
            <a:ext cx="3753000" cy="25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423720" y="6324480"/>
            <a:ext cx="1231920" cy="254160"/>
          </a:xfrm>
          <a:prstGeom prst="rect">
            <a:avLst/>
          </a:prstGeom>
          <a:ln w="0">
            <a:noFill/>
          </a:ln>
        </p:spPr>
      </p:pic>
      <p:sp>
        <p:nvSpPr>
          <p:cNvPr id="615" name="직선 연결선 6"/>
          <p:cNvSpPr/>
          <p:nvPr/>
        </p:nvSpPr>
        <p:spPr>
          <a:xfrm flipH="1">
            <a:off x="431280" y="330120"/>
            <a:ext cx="1357560" cy="0"/>
          </a:xfrm>
          <a:prstGeom prst="line">
            <a:avLst/>
          </a:prstGeom>
          <a:ln w="3816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직선 연결선 7"/>
          <p:cNvSpPr/>
          <p:nvPr/>
        </p:nvSpPr>
        <p:spPr>
          <a:xfrm flipH="1" flipV="1">
            <a:off x="431280" y="1415520"/>
            <a:ext cx="1320840" cy="1800"/>
          </a:xfrm>
          <a:prstGeom prst="line">
            <a:avLst/>
          </a:prstGeom>
          <a:ln w="12600">
            <a:solidFill>
              <a:srgbClr val="ff87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145960" y="232920"/>
            <a:ext cx="287172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나눔고딕"/>
              </a:rPr>
              <a:t>페이지 제목</a:t>
            </a:r>
            <a:endParaRPr b="0" lang="en-US" sz="2400" spc="-1" strike="noStrike">
              <a:solidFill>
                <a:srgbClr val="ffffff"/>
              </a:solidFill>
              <a:latin typeface="나눔고딕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07:24:00Z</dcterms:created>
  <dc:creator>네이버 한글캠페인</dc:creator>
  <dc:description/>
  <dc:language>en-US</dc:language>
  <cp:lastModifiedBy>王玉清</cp:lastModifiedBy>
  <cp:lastPrinted>1899-12-30T00:00:00Z</cp:lastPrinted>
  <dcterms:modified xsi:type="dcterms:W3CDTF">2016-02-24T03:22:14Z</dcterms:modified>
  <cp:revision>11</cp:revision>
  <dc:subject/>
  <dc:title>슬라이드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