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F35-3F9F-4A0B-8219-D415984C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EAE8-B639-4D07-933A-52008E60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87A-B5A6-4108-B0D1-D6C885C6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F39-33AC-4003-9283-4644176A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491-2D62-4795-AC27-E389FF2D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CDDA-8B8E-4B24-B3E1-4235ADE4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D58F-CA89-4809-9E8B-E9B1BDF1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498-77C1-4BC1-9A7A-DA7C3672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A58-11C4-480B-8400-3F15D3F5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B9F9-A120-4243-BBBA-70A549AF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245-8370-4DC2-B6F5-96C38434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06E-2C8C-40C8-8226-DE4F20DE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"/>
          <p:cNvPicPr/>
          <p:nvPr/>
        </p:nvPicPr>
        <p:blipFill>
          <a:blip r:embed="rId3"/>
          <a:stretch/>
        </p:blipFill>
        <p:spPr>
          <a:xfrm>
            <a:off x="5580000" y="0"/>
            <a:ext cx="3048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1C38-168D-4F13-8031-17ADB0D3E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3"/>
          <p:cNvPicPr/>
          <p:nvPr/>
        </p:nvPicPr>
        <p:blipFill>
          <a:blip r:embed="rId4"/>
          <a:stretch/>
        </p:blipFill>
        <p:spPr>
          <a:xfrm>
            <a:off x="5724360" y="4649760"/>
            <a:ext cx="2943360" cy="220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247840" y="62064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红色光点动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2:25:06Z</dcterms:created>
  <dc:creator>MC SYSTEM</dc:creator>
  <dc:description/>
  <dc:language>en-US</dc:language>
  <cp:lastModifiedBy>王玉清</cp:lastModifiedBy>
  <dcterms:modified xsi:type="dcterms:W3CDTF">2016-02-16T09:09:12Z</dcterms:modified>
  <cp:revision>7</cp:revision>
  <dc:subject/>
  <dc:title>幻灯片 1</dc:title>
</cp:coreProperties>
</file>