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69850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n IBM Proof of Technolo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7889fb"/>
                </a:solidFill>
                <a:latin typeface="Tahoma"/>
              </a:rPr>
              <a:t>Click to move the slide</a:t>
            </a: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2"/>
          </p:nvPr>
        </p:nvSpPr>
        <p:spPr>
          <a:xfrm>
            <a:off x="0" y="8805600"/>
            <a:ext cx="535464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iscovering the value of IBM Workplace Forms - Technical Over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3"/>
          </p:nvPr>
        </p:nvSpPr>
        <p:spPr>
          <a:xfrm>
            <a:off x="5510160" y="8805600"/>
            <a:ext cx="1473120" cy="463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69B399C-43D6-4960-B939-D875FFED21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6985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n IBM Proof of Technolo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8805960"/>
            <a:ext cx="5354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iscovering the value of IBM Workplace Forms - Technical Over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5510160" y="8805960"/>
            <a:ext cx="1473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8650157-9E53-4702-9E02-24B8B44750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0" y="0"/>
            <a:ext cx="69850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n IBM Proof of Technolo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8805960"/>
            <a:ext cx="53546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iscovering the value of IBM Workplace Forms - Technical Overview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510160" y="8805960"/>
            <a:ext cx="147312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A327505-A858-4B78-895F-D027F3321CF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78361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8040" y="3913920"/>
            <a:ext cx="78361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348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8040" y="391392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3480" y="391392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7280" y="153504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6880" y="153504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8040" y="391392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7280" y="391392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6880" y="391392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4C27D-20FE-416B-93F3-D8C524195A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98040" y="1535040"/>
            <a:ext cx="78361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D7DE6-FEBF-4CF3-8A32-54DA44EF2A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78361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03415-0150-406D-B629-50742A2455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38239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3480" y="1535040"/>
            <a:ext cx="38239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BA1A-3C0E-481D-B86A-83E2DB947C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DEC1-CF5C-44FD-85C1-E32DE6301F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9360" y="495360"/>
            <a:ext cx="8170920" cy="22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4155A-5D04-417A-B684-3E327CF98D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3480" y="1535040"/>
            <a:ext cx="38239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98040" y="391392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83C8D-6260-41F8-9536-590B51EAFE0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8040" y="1535040"/>
            <a:ext cx="7836120" cy="45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624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38239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348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3480" y="391392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461D7-85D0-494B-8A4F-72BC66EA13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348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98040" y="3913920"/>
            <a:ext cx="78361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4FE90-BEB6-4C0A-A93F-224BB44470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78361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8040" y="3913920"/>
            <a:ext cx="78361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1E487-328E-44B1-AAC1-7A9491227F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348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8040" y="391392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3480" y="391392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603AC-AC4C-43FC-87B8-5356485819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47280" y="153504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6880" y="153504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98040" y="391392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47280" y="391392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6880" y="3913920"/>
            <a:ext cx="252288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4FFA2-D763-4AEB-833E-1F323140C3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78361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38239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3480" y="1535040"/>
            <a:ext cx="38239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9360" y="495360"/>
            <a:ext cx="8170920" cy="229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3480" y="1535040"/>
            <a:ext cx="38239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8040" y="391392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38239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348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3480" y="391392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3480" y="1535040"/>
            <a:ext cx="38239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8040" y="3913920"/>
            <a:ext cx="783612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1644480"/>
            <a:ext cx="9145440" cy="35672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486a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5164200"/>
            <a:ext cx="9144000" cy="1690560"/>
          </a:xfrm>
          <a:prstGeom prst="rect">
            <a:avLst/>
          </a:prstGeom>
          <a:solidFill>
            <a:srgbClr val="486a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0600" y="2494080"/>
            <a:ext cx="79516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7889fb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pic>
        <p:nvPicPr>
          <p:cNvPr id="4" name="Picture 10" descr=""/>
          <p:cNvPicPr/>
          <p:nvPr/>
        </p:nvPicPr>
        <p:blipFill>
          <a:blip r:embed="rId3"/>
          <a:stretch/>
        </p:blipFill>
        <p:spPr>
          <a:xfrm>
            <a:off x="0" y="5143680"/>
            <a:ext cx="9144000" cy="45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6480000"/>
            <a:ext cx="9145440" cy="382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9145440" cy="382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7889fb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7889f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98040" y="1535040"/>
            <a:ext cx="78361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2000"/>
              </a:lnSpc>
              <a:spcBef>
                <a:spcPts val="624"/>
              </a:spcBef>
              <a:buClr>
                <a:srgbClr val="486ac1"/>
              </a:buClr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14200">
              <a:lnSpc>
                <a:spcPct val="102000"/>
              </a:lnSpc>
              <a:spcBef>
                <a:spcPts val="624"/>
              </a:spcBef>
              <a:buClr>
                <a:srgbClr val="486ac1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7560" indent="-173160">
              <a:lnSpc>
                <a:spcPct val="102000"/>
              </a:lnSpc>
              <a:spcBef>
                <a:spcPts val="624"/>
              </a:spcBef>
              <a:buClr>
                <a:srgbClr val="486ac1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39720" indent="-168120">
              <a:lnSpc>
                <a:spcPct val="102000"/>
              </a:lnSpc>
              <a:spcBef>
                <a:spcPts val="624"/>
              </a:spcBef>
              <a:buClr>
                <a:srgbClr val="486ac1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01960" indent="-173160">
              <a:lnSpc>
                <a:spcPct val="102000"/>
              </a:lnSpc>
              <a:spcBef>
                <a:spcPts val="624"/>
              </a:spcBef>
              <a:buClr>
                <a:srgbClr val="486ac1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01960" indent="-173160">
              <a:lnSpc>
                <a:spcPct val="102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01960" indent="-173160">
              <a:lnSpc>
                <a:spcPct val="102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1"/>
          </p:nvPr>
        </p:nvSpPr>
        <p:spPr>
          <a:xfrm>
            <a:off x="154080" y="6498720"/>
            <a:ext cx="10015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963C1-32B8-449D-98C6-78E2D03396FD}" type="slidenum"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9"/>
          <p:cNvSpPr/>
          <p:nvPr/>
        </p:nvSpPr>
        <p:spPr>
          <a:xfrm>
            <a:off x="324000" y="2109960"/>
            <a:ext cx="883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Rectangle 22"/>
          <p:cNvSpPr/>
          <p:nvPr/>
        </p:nvSpPr>
        <p:spPr>
          <a:xfrm>
            <a:off x="719280" y="6129360"/>
            <a:ext cx="313200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301760" y="1755720"/>
            <a:ext cx="613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227160">
              <a:spcBef>
                <a:spcPts val="349"/>
              </a:spcBef>
              <a:spcAft>
                <a:spcPts val="33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宋体"/>
              </a:rPr>
              <a:t>IBM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经典通用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矩形 12"/>
          <p:cNvSpPr/>
          <p:nvPr/>
        </p:nvSpPr>
        <p:spPr>
          <a:xfrm>
            <a:off x="179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灯片编号占位符 3"/>
          <p:cNvSpPr/>
          <p:nvPr/>
        </p:nvSpPr>
        <p:spPr>
          <a:xfrm>
            <a:off x="154080" y="6499080"/>
            <a:ext cx="1001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CAC5E-800B-4A3B-B540-209356DC4DE3}" type="slidenum"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69360" y="495360"/>
            <a:ext cx="8170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7889fb"/>
              </a:solidFill>
              <a:latin typeface="Tahoma"/>
              <a:ea typeface="宋体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8040" y="1535040"/>
            <a:ext cx="78361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624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1T13:49:37Z</dcterms:created>
  <dc:creator>Roger Best</dc:creator>
  <dc:description/>
  <dc:language>en-US</dc:language>
  <cp:lastModifiedBy>王玉清</cp:lastModifiedBy>
  <dcterms:modified xsi:type="dcterms:W3CDTF">2016-02-21T04:55:00Z</dcterms:modified>
  <cp:revision>126</cp:revision>
  <dc:subject/>
  <dc:title>Slide 1</dc:title>
</cp:coreProperties>
</file>