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794-FC20-435D-93B5-124AC030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501-91B3-4AAA-BB81-604E7A9F0FB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0172-723A-4AB4-900C-39DC03CED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23CE-2820-4CDF-A2EF-87F50709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859F-5F7F-4F18-B491-F09F7CF8F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16A3-CEB4-4ED5-BC2A-341E94F89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430C-E660-42F8-8CFB-663162E19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854D-5D24-4663-96C5-92E4A4050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4881-F099-46FB-888C-37AB7A30B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4AEC-BC35-45A2-AB1F-14FACD99A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5E30-C64A-484D-A153-1B4139D39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D6C3-5F39-4BF0-9030-9287FF4B3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8EF6-A323-47E9-BDDA-A5EA17B35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7226-61B9-47BA-B624-C8B7698DA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AE3A478-6144-42DA-9148-C24DB1D1B080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9000" y="286740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1"/>
            <a:stretch/>
          </p:blipFill>
          <p:spPr>
            <a:xfrm>
              <a:off x="3636000" y="148608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2">
              <a:grayscl/>
              <a:lum bright="-12000"/>
            </a:blip>
            <a:stretch/>
          </p:blipFill>
          <p:spPr>
            <a:xfrm>
              <a:off x="1332000" y="1544400"/>
              <a:ext cx="172836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3"/>
            <p:cNvSpPr/>
            <p:nvPr/>
          </p:nvSpPr>
          <p:spPr>
            <a:xfrm>
              <a:off x="334872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4" descr="bg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68000" y="2257200"/>
            <a:ext cx="84135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LOVEYOU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c1f00"/>
                </a:solidFill>
                <a:latin typeface="Arial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A97B63D-F016-4A11-8363-A4ABCCDB56E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4B13782-F485-4EA5-BB20-494E983AA4A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679320" y="1319040"/>
          <a:ext cx="876960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319040"/>
                    <a:ext cx="876960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bg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王玉清</cp:lastModifiedBy>
  <dcterms:modified xsi:type="dcterms:W3CDTF">2016-02-20T04:36:17Z</dcterms:modified>
  <cp:revision>168</cp:revision>
  <dc:subject/>
  <dc:title>PowerPoint Template</dc:title>
</cp:coreProperties>
</file>