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push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F64-C7DA-4B85-AA6E-7EE169CF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902-AEA0-49A4-A29F-D181950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F61-40D7-4737-BE90-77EC8FFC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BB4-023B-4929-BB29-3327B492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28F-BBDF-4981-B4A2-FD16932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24A-AE1B-437F-B31F-2512A8FA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CF5-8EC5-4B85-915E-4D609E4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BCA-AE1D-44A2-8A66-8FA55722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A08-098D-41E4-B527-8145FDC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4A2-902D-4AFA-83A3-925186B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E92-EC5D-4722-AE05-505BEAE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7A5-DEF0-45AC-840B-A0074E4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D8B-567C-4832-8EC9-02B26E07ADF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093-1EF5-4EDD-8170-B6D00108A7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3"/>
          <p:cNvSpPr/>
          <p:nvPr/>
        </p:nvSpPr>
        <p:spPr>
          <a:xfrm>
            <a:off x="1177920" y="1916280"/>
            <a:ext cx="6634080" cy="3319200"/>
          </a:xfrm>
          <a:prstGeom prst="pie">
            <a:avLst/>
          </a:prstGeom>
          <a:solidFill>
            <a:srgbClr val="7f7f7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7"/>
          <p:cNvSpPr/>
          <p:nvPr/>
        </p:nvSpPr>
        <p:spPr>
          <a:xfrm>
            <a:off x="1211400" y="3240000"/>
            <a:ext cx="664920" cy="9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97"/>
          <p:cNvSpPr/>
          <p:nvPr/>
        </p:nvSpPr>
        <p:spPr>
          <a:xfrm>
            <a:off x="1944720" y="3129120"/>
            <a:ext cx="727200" cy="112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97"/>
          <p:cNvSpPr/>
          <p:nvPr/>
        </p:nvSpPr>
        <p:spPr>
          <a:xfrm>
            <a:off x="2747880" y="2970360"/>
            <a:ext cx="776520" cy="140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7"/>
          <p:cNvSpPr/>
          <p:nvPr/>
        </p:nvSpPr>
        <p:spPr>
          <a:xfrm>
            <a:off x="3600360" y="2714760"/>
            <a:ext cx="1279440" cy="183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97"/>
          <p:cNvSpPr/>
          <p:nvPr/>
        </p:nvSpPr>
        <p:spPr>
          <a:xfrm>
            <a:off x="5065560" y="2446200"/>
            <a:ext cx="2627640" cy="231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5806800" y="3168720"/>
            <a:ext cx="1162080" cy="912960"/>
            <a:chOff x="5806800" y="3168720"/>
            <a:chExt cx="1162080" cy="912960"/>
          </a:xfrm>
        </p:grpSpPr>
        <p:sp>
          <p:nvSpPr>
            <p:cNvPr id="50" name="TextBox 11"/>
            <p:cNvSpPr/>
            <p:nvPr/>
          </p:nvSpPr>
          <p:spPr>
            <a:xfrm flipH="1">
              <a:off x="5821920" y="36226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flipH="1">
              <a:off x="5806440" y="31687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直接连接符 12"/>
          <p:cNvSpPr/>
          <p:nvPr/>
        </p:nvSpPr>
        <p:spPr>
          <a:xfrm>
            <a:off x="3137040" y="256860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3687480" y="3174840"/>
            <a:ext cx="1162080" cy="912240"/>
            <a:chOff x="3687480" y="3174840"/>
            <a:chExt cx="1162080" cy="912240"/>
          </a:xfrm>
        </p:grpSpPr>
        <p:sp>
          <p:nvSpPr>
            <p:cNvPr id="54" name="TextBox 11"/>
            <p:cNvSpPr/>
            <p:nvPr/>
          </p:nvSpPr>
          <p:spPr>
            <a:xfrm flipH="1">
              <a:off x="3702600" y="36280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flipH="1">
              <a:off x="3687120" y="3174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直接连接符 16"/>
          <p:cNvSpPr/>
          <p:nvPr/>
        </p:nvSpPr>
        <p:spPr>
          <a:xfrm>
            <a:off x="2308320" y="3808440"/>
            <a:ext cx="0" cy="77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>
            <a:off x="1544760" y="2781360"/>
            <a:ext cx="144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979560" y="2251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2587680" y="2101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 flipH="1">
            <a:off x="1727280" y="4621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5556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剪裁过的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2DF-317A-423A-9584-0DFA98618439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6:04Z</dcterms:modified>
  <cp:revision>1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