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51DF5-09C6-4429-87D1-2B16E248D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7777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55280" y="3569760"/>
            <a:ext cx="7777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2039B-47EA-49FB-8301-4CEE32E0E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379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0480" y="1125360"/>
            <a:ext cx="379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5280" y="3569760"/>
            <a:ext cx="379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0480" y="3569760"/>
            <a:ext cx="379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A345-DC0A-4E7B-8F78-14C2CE1FB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2503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84720" y="1125360"/>
            <a:ext cx="2503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125360"/>
            <a:ext cx="2503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55280" y="3569760"/>
            <a:ext cx="2503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84720" y="3569760"/>
            <a:ext cx="2503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569760"/>
            <a:ext cx="2503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E0790-290C-4169-9F61-4FFC0F4F6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B2CE4-09F8-4B9E-9262-C6F9667A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55280" y="1125360"/>
            <a:ext cx="77770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00B4C-5EF6-42EF-9F0E-47589797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7777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F3F44-3B82-4B07-B804-48E7E906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3795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0480" y="1125360"/>
            <a:ext cx="3795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D19AF-F1D1-4D69-91D0-230ECADD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A4F2F-126C-4B7F-95FA-6CB21456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53388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2DF00-59F3-464B-98AE-06F4D345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379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0480" y="1125360"/>
            <a:ext cx="3795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280" y="3569760"/>
            <a:ext cx="379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02AA1-48BA-4311-804F-1AAA726F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55280" y="1125360"/>
            <a:ext cx="77770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13B49-9CF7-4417-82E3-D1E937448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3795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0480" y="1125360"/>
            <a:ext cx="379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40480" y="3569760"/>
            <a:ext cx="379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D4986-7747-438B-942F-617A706B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379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40480" y="1125360"/>
            <a:ext cx="379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5280" y="3569760"/>
            <a:ext cx="7777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223AA-8176-402E-8D07-7D5883D2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7777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55280" y="3569760"/>
            <a:ext cx="7777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75C7B-7DE7-432C-A319-D4D0A731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379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40480" y="1125360"/>
            <a:ext cx="379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55280" y="3569760"/>
            <a:ext cx="379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40480" y="3569760"/>
            <a:ext cx="379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110CC-7415-4D42-B283-FC20AF25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2503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84720" y="1125360"/>
            <a:ext cx="2503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14160" y="1125360"/>
            <a:ext cx="2503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755280" y="3569760"/>
            <a:ext cx="2503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84720" y="3569760"/>
            <a:ext cx="2503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14160" y="3569760"/>
            <a:ext cx="2503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CC83B-873B-43A9-9AB8-871663AE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7777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90028-538B-4045-85FC-A9C570166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3795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0480" y="1125360"/>
            <a:ext cx="3795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E0B12-683C-4674-849F-E6D222355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4B1BC-FA36-4599-90ED-4180520FD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53388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FC446-898C-451A-835E-29DA71A0C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379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0480" y="1125360"/>
            <a:ext cx="3795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280" y="3569760"/>
            <a:ext cx="379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8E511-4CC3-40A9-926E-1CAD8F3A6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3795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0480" y="1125360"/>
            <a:ext cx="379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0480" y="3569760"/>
            <a:ext cx="379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3F0E3-DB4D-4786-9C68-A7326156E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379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0480" y="1125360"/>
            <a:ext cx="379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280" y="3569760"/>
            <a:ext cx="7777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41C0-9CB7-43D1-BEFD-401EA460B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许三多"/>
          <p:cNvPicPr/>
          <p:nvPr/>
        </p:nvPicPr>
        <p:blipFill>
          <a:blip r:embed="rId2"/>
          <a:stretch/>
        </p:blipFill>
        <p:spPr>
          <a:xfrm>
            <a:off x="0" y="4784760"/>
            <a:ext cx="3276720" cy="2073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5f5f5f">
                  <a:alpha val="60392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1" descr="34307"/>
          <p:cNvPicPr/>
          <p:nvPr/>
        </p:nvPicPr>
        <p:blipFill>
          <a:blip r:embed="rId3"/>
          <a:srcRect l="0" t="28373" r="0" b="20635"/>
          <a:stretch/>
        </p:blipFill>
        <p:spPr>
          <a:xfrm>
            <a:off x="7596360" y="44280"/>
            <a:ext cx="1269720" cy="64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55280" y="1125360"/>
            <a:ext cx="7777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997B-73AB-4958-9A71-C655267C9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0" y="765000"/>
            <a:ext cx="9144000" cy="71640"/>
          </a:xfrm>
          <a:prstGeom prst="rect">
            <a:avLst/>
          </a:prstGeom>
          <a:gradFill rotWithShape="0">
            <a:gsLst>
              <a:gs pos="0">
                <a:srgbClr val="ff9900">
                  <a:alpha val="60392"/>
                </a:srgbClr>
              </a:gs>
              <a:gs pos="100000">
                <a:srgbClr val="ff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3348000" y="5013360"/>
            <a:ext cx="216000" cy="216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042920" y="4221000"/>
            <a:ext cx="14436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1258920" y="450864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1474920" y="465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826920" y="4508640"/>
            <a:ext cx="14472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611280" y="465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1042920" y="4581360"/>
            <a:ext cx="14436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1042920" y="4869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1187280" y="5157720"/>
            <a:ext cx="14472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898560" y="515772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754200" y="537372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1332000" y="537372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4" descr="fad98833a2d8f1f71b4cff0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685800" cy="676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5280" y="1125360"/>
            <a:ext cx="7777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6AA6-9042-48B2-B8C1-6021BA4B3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"/>
          <p:cNvSpPr/>
          <p:nvPr/>
        </p:nvSpPr>
        <p:spPr>
          <a:xfrm>
            <a:off x="1715760" y="170028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经典的士兵突击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53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7777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6c153ced896ced5d79f0556d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03:01:20Z</dcterms:created>
  <dc:creator>夏雷鸣</dc:creator>
  <dc:description/>
  <dc:language>en-US</dc:language>
  <cp:lastModifiedBy>王玉清</cp:lastModifiedBy>
  <dcterms:modified xsi:type="dcterms:W3CDTF">2016-02-21T04:57:50Z</dcterms:modified>
  <cp:revision>13</cp:revision>
  <dc:subject/>
  <dc:title>幻灯片 1</dc:title>
</cp:coreProperties>
</file>