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6D8-8324-4D92-ACE9-539EFE39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78D-577D-413B-B45E-6C45CB46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10F-E0DB-4094-803D-CC426A52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04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548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060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04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548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59B-F4BB-441C-B9C4-2D890699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3092-E4EF-4D85-AABB-48CA3C7D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AC55-E489-49DD-AF77-67283722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7CEC-0121-47C3-B0B6-1C5880EE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9369-351C-42E9-87CA-A22ECCB4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DD66-3548-44B5-B6D7-7FEF33A1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5560" y="282960"/>
            <a:ext cx="6778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8B46-59C4-4C66-96B1-50D25064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FA54-57A5-45A4-967E-65DF3073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41B-91F1-4415-9441-0A31FD13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FAC2-A54D-49DD-8BC7-62060951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8D3E-7124-48BB-9067-082E1188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A1F9-D8A7-439C-AD8A-68314441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9C58-8933-4E34-A153-1ADD210F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04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5548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060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04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5548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2762-FB75-4650-96D1-96327EA8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913A-7906-495B-9429-2E4A2623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2A6C5-A44B-4692-9EA9-4FF877AE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800B-1ED7-4853-A835-52A1BE3E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5819E-FB5D-4D54-B06E-A91BCA6D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EF24-8CFF-429F-97D8-8329DF72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1DD-41FF-4EDD-96F2-C6CE352D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560" y="282960"/>
            <a:ext cx="6778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8F0AE-B486-4ABE-8717-AA8CA658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9B6B-9DED-47CC-A442-CF2AF4E3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42F1-A2F5-4616-91E3-3F1394D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96BE-71BB-4D06-A9F3-DAA1AE5E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E764-833B-464B-8FDC-90E61CE6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7DAE-54C2-4623-A2C9-0A1EFC12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7304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5548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060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7304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5548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0DBD-17FA-4C94-B2DE-CC937D93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870A8-EBAF-428A-81CD-D7FD4A75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F58EC-F294-481D-BE70-48CE7831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0F78-0E2F-42BC-AE74-BDD43C99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42E-1CD0-4A26-B0DA-09EEB3EC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6877F-E153-4BD0-A6A2-F4E19CAF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4F3F-9EAA-411E-8FC2-17342D31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825560" y="282960"/>
            <a:ext cx="6778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91A5E-F9F4-43C4-B475-27ED2BFC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C409-4FB2-427A-B269-AB6557C5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5EEA-F1CA-41A4-AE4C-EE08BBEE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EA9B6-59C0-48C6-BF5A-5A6B95A7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AD0F9-5F9B-43AB-AB3A-6C24FDF8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68FC-8A09-4227-A472-89D12D4D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7304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55480" y="10569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060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7304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55480" y="30272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A1545-2E5A-4F39-935E-C5329C6F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3EF-FB03-4F0F-810D-0FC90EBC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5560" y="282960"/>
            <a:ext cx="6778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67A-624A-4139-90E2-DC3F5B33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1EB-36D1-4293-A80F-C4C4E16C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7640" y="30272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7F7-138C-4A39-B977-54E343A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7640" y="10569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0600" y="30272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299-09A8-4D95-8DE9-620B502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  <a:ea typeface="굴림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04520"/>
            <a:ext cx="289512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04520"/>
            <a:ext cx="2133360" cy="39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AB4ED2-6D6D-4088-8FE7-EFDC340BADFE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C:\Users\admin\Downloads\给力色彩\乌夜啼收藏 (26).jpg"/>
          <p:cNvPicPr/>
          <p:nvPr/>
        </p:nvPicPr>
        <p:blipFill>
          <a:blip r:embed="rId2"/>
          <a:stretch/>
        </p:blipFill>
        <p:spPr>
          <a:xfrm>
            <a:off x="0" y="0"/>
            <a:ext cx="9143640" cy="487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AD2D70-B402-469A-BCD1-74B9B6E2276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9143640" cy="5714640"/>
          </a:xfrm>
          <a:prstGeom prst="rect">
            <a:avLst/>
          </a:prstGeom>
          <a:gradFill rotWithShape="0">
            <a:gsLst>
              <a:gs pos="0">
                <a:srgbClr val="1e3064"/>
              </a:gs>
              <a:gs pos="100000">
                <a:srgbClr val="7697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 baseline="-25000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16BE66-A985-43E6-9294-7F209EE05C7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360"/>
            <a:ext cx="9143640" cy="5714280"/>
          </a:xfrm>
          <a:prstGeom prst="rect">
            <a:avLst/>
          </a:prstGeom>
          <a:gradFill rotWithShape="0">
            <a:gsLst>
              <a:gs pos="0">
                <a:srgbClr val="1e3064"/>
              </a:gs>
              <a:gs pos="100000">
                <a:srgbClr val="7697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 baseline="-25000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5652000" y="0"/>
            <a:ext cx="3491640" cy="5691960"/>
          </a:xfrm>
          <a:prstGeom prst="rect">
            <a:avLst/>
          </a:prstGeom>
          <a:gradFill rotWithShape="0">
            <a:gsLst>
              <a:gs pos="0">
                <a:srgbClr val="171f35"/>
              </a:gs>
              <a:gs pos="100000">
                <a:srgbClr val="344b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 baseline="-25000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0" y="0"/>
            <a:ext cx="9153000" cy="5399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5560" y="282960"/>
            <a:ext cx="677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90600" y="105696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16f7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716f70"/>
                </a:solidFill>
                <a:latin typeface="Franklin Gothic Medium"/>
              </a:rPr>
              <a:t>单击此处编辑母版文本样式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716f7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716f70"/>
                </a:solidFill>
                <a:latin typeface="Franklin Gothic Medium"/>
              </a:rPr>
              <a:t>第二级</a:t>
            </a:r>
            <a:endParaRPr b="0" lang="en-US" sz="24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716f7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716f70"/>
                </a:solidFill>
                <a:latin typeface="Franklin Gothic Medium"/>
              </a:rPr>
              <a:t>第三级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716f7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716f70"/>
                </a:solidFill>
                <a:latin typeface="Franklin Gothic Medium"/>
              </a:rPr>
              <a:t>第四级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16f7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716f70"/>
                </a:solidFill>
                <a:latin typeface="Franklin Gothic Medium"/>
              </a:rPr>
              <a:t>第五级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7200" y="4658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4658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3080" y="4658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DA186C-E220-4BF2-991D-D1AA3810F263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0c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8"/>
          <p:cNvSpPr/>
          <p:nvPr/>
        </p:nvSpPr>
        <p:spPr>
          <a:xfrm>
            <a:off x="899640" y="1563120"/>
            <a:ext cx="74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简单蓝色商务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流程图: 终止 19"/>
          <p:cNvSpPr/>
          <p:nvPr/>
        </p:nvSpPr>
        <p:spPr>
          <a:xfrm>
            <a:off x="1763640" y="2281320"/>
            <a:ext cx="5616360" cy="71640"/>
          </a:xfrm>
          <a:prstGeom prst="flowChartTerminator">
            <a:avLst/>
          </a:prstGeom>
          <a:gradFill rotWithShape="0">
            <a:gsLst>
              <a:gs pos="0">
                <a:srgbClr val="87abad"/>
              </a:gs>
              <a:gs pos="100000">
                <a:srgbClr val="afdee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굴림"/>
              <a:ea typeface="굴림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2123640" y="3793680"/>
            <a:ext cx="4968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935640" y="4996800"/>
            <a:ext cx="1691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 cap="all">
                <a:solidFill>
                  <a:srgbClr val="ffffff"/>
                </a:solidFill>
                <a:latin typeface="华文楷体"/>
                <a:ea typeface="华文楷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922320" y="5284800"/>
            <a:ext cx="17049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 cap="all">
                <a:solidFill>
                  <a:srgbClr val="ffffff"/>
                </a:solidFill>
                <a:latin typeface="宋体"/>
                <a:ea typeface="宋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5161680"/>
            <a:ext cx="863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 cap="all">
                <a:solidFill>
                  <a:srgbClr val="ffffff"/>
                </a:solidFill>
                <a:latin typeface="华文楷体"/>
                <a:ea typeface="华文楷体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388800" y="44726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2051640" y="2713320"/>
            <a:ext cx="2016000" cy="516240"/>
          </a:xfrm>
          <a:prstGeom prst="rect">
            <a:avLst/>
          </a:prstGeom>
          <a:solidFill>
            <a:schemeClr val="bg1">
              <a:lumMod val="7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应用与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直接连接符 2"/>
          <p:cNvCxnSpPr/>
          <p:nvPr/>
        </p:nvCxnSpPr>
        <p:spPr>
          <a:xfrm>
            <a:off x="1863000" y="1763640"/>
            <a:ext cx="360" cy="179280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cxnSp>
        <p:nvCxnSpPr>
          <p:cNvPr id="275" name="直接连接符 3"/>
          <p:cNvCxnSpPr/>
          <p:nvPr/>
        </p:nvCxnSpPr>
        <p:spPr>
          <a:xfrm>
            <a:off x="1115280" y="2511360"/>
            <a:ext cx="2383200" cy="36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sp>
        <p:nvSpPr>
          <p:cNvPr id="276" name="TextBox 4"/>
          <p:cNvSpPr/>
          <p:nvPr/>
        </p:nvSpPr>
        <p:spPr>
          <a:xfrm>
            <a:off x="971640" y="625320"/>
            <a:ext cx="748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C:\Users\admin\Downloads\商务图片\锐普内部商务PPT图片26 (1).jpg"/>
          <p:cNvPicPr/>
          <p:nvPr/>
        </p:nvPicPr>
        <p:blipFill>
          <a:blip r:embed="rId1"/>
          <a:stretch/>
        </p:blipFill>
        <p:spPr>
          <a:xfrm>
            <a:off x="5148000" y="1921320"/>
            <a:ext cx="2808000" cy="2949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78" name="矩形 12"/>
          <p:cNvSpPr/>
          <p:nvPr/>
        </p:nvSpPr>
        <p:spPr>
          <a:xfrm>
            <a:off x="369720" y="5273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椭圆 19"/>
          <p:cNvSpPr/>
          <p:nvPr/>
        </p:nvSpPr>
        <p:spPr>
          <a:xfrm>
            <a:off x="3708000" y="2281320"/>
            <a:ext cx="2016000" cy="2016000"/>
          </a:xfrm>
          <a:prstGeom prst="ellipse">
            <a:avLst/>
          </a:prstGeom>
          <a:noFill/>
          <a:ln w="635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0" name="椭圆 10"/>
          <p:cNvSpPr/>
          <p:nvPr/>
        </p:nvSpPr>
        <p:spPr>
          <a:xfrm>
            <a:off x="6788160" y="3480120"/>
            <a:ext cx="863640" cy="863640"/>
          </a:xfrm>
          <a:prstGeom prst="ellipse">
            <a:avLst/>
          </a:prstGeom>
          <a:solidFill>
            <a:schemeClr val="bg1">
              <a:lumMod val="75000"/>
            </a:schemeClr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1" name="椭圆 9"/>
          <p:cNvSpPr/>
          <p:nvPr/>
        </p:nvSpPr>
        <p:spPr>
          <a:xfrm>
            <a:off x="6788160" y="2390400"/>
            <a:ext cx="863640" cy="863640"/>
          </a:xfrm>
          <a:prstGeom prst="ellipse">
            <a:avLst/>
          </a:prstGeom>
          <a:solidFill>
            <a:schemeClr val="bg1">
              <a:lumMod val="75000"/>
            </a:schemeClr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6750360" y="271332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8"/>
          <p:cNvSpPr/>
          <p:nvPr/>
        </p:nvSpPr>
        <p:spPr>
          <a:xfrm>
            <a:off x="6741720" y="3793680"/>
            <a:ext cx="98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11"/>
          <p:cNvSpPr/>
          <p:nvPr/>
        </p:nvSpPr>
        <p:spPr>
          <a:xfrm>
            <a:off x="5022360" y="2785320"/>
            <a:ext cx="1079640" cy="1079640"/>
          </a:xfrm>
          <a:prstGeom prst="ellipse">
            <a:avLst/>
          </a:prstGeom>
          <a:solidFill>
            <a:schemeClr val="bg1">
              <a:lumMod val="75000"/>
            </a:schemeClr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cxnSp>
        <p:nvCxnSpPr>
          <p:cNvPr id="285" name="直接连接符 12"/>
          <p:cNvCxnSpPr/>
          <p:nvPr/>
        </p:nvCxnSpPr>
        <p:spPr>
          <a:xfrm flipV="1">
            <a:off x="6032520" y="2842920"/>
            <a:ext cx="754560" cy="26352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oval" w="med"/>
          </a:ln>
        </p:spPr>
      </p:cxnSp>
      <p:cxnSp>
        <p:nvCxnSpPr>
          <p:cNvPr id="286" name="直接连接符 13"/>
          <p:cNvCxnSpPr/>
          <p:nvPr/>
        </p:nvCxnSpPr>
        <p:spPr>
          <a:xfrm>
            <a:off x="6030360" y="3548160"/>
            <a:ext cx="766080" cy="31248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oval" w="med"/>
          </a:ln>
        </p:spPr>
      </p:cxnSp>
      <p:sp>
        <p:nvSpPr>
          <p:cNvPr id="287" name="矩形 6"/>
          <p:cNvSpPr/>
          <p:nvPr/>
        </p:nvSpPr>
        <p:spPr>
          <a:xfrm>
            <a:off x="5940000" y="1057320"/>
            <a:ext cx="265896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xxxxxxxxxxxx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7"/>
          <p:cNvSpPr/>
          <p:nvPr/>
        </p:nvSpPr>
        <p:spPr>
          <a:xfrm>
            <a:off x="6228360" y="4513680"/>
            <a:ext cx="26640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5156640" y="3217680"/>
            <a:ext cx="1068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17"/>
          <p:cNvSpPr/>
          <p:nvPr/>
        </p:nvSpPr>
        <p:spPr>
          <a:xfrm>
            <a:off x="1619640" y="2281320"/>
            <a:ext cx="863640" cy="863640"/>
          </a:xfrm>
          <a:prstGeom prst="ellipse">
            <a:avLst/>
          </a:prstGeom>
          <a:solidFill>
            <a:srgbClr val="0070c0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1" name="椭圆 18"/>
          <p:cNvSpPr/>
          <p:nvPr/>
        </p:nvSpPr>
        <p:spPr>
          <a:xfrm>
            <a:off x="1632960" y="3381120"/>
            <a:ext cx="863640" cy="863640"/>
          </a:xfrm>
          <a:prstGeom prst="ellipse">
            <a:avLst/>
          </a:prstGeom>
          <a:solidFill>
            <a:srgbClr val="0070c0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2" name="椭圆 20"/>
          <p:cNvSpPr/>
          <p:nvPr/>
        </p:nvSpPr>
        <p:spPr>
          <a:xfrm>
            <a:off x="3168000" y="2749320"/>
            <a:ext cx="1079640" cy="1079640"/>
          </a:xfrm>
          <a:prstGeom prst="ellipse">
            <a:avLst/>
          </a:prstGeom>
          <a:solidFill>
            <a:srgbClr val="0070c0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cxnSp>
        <p:nvCxnSpPr>
          <p:cNvPr id="293" name="直接连接符 21"/>
          <p:cNvCxnSpPr/>
          <p:nvPr/>
        </p:nvCxnSpPr>
        <p:spPr>
          <a:xfrm flipH="1" flipV="1">
            <a:off x="2502360" y="2818440"/>
            <a:ext cx="677160" cy="28872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oval" w="med"/>
          </a:ln>
        </p:spPr>
      </p:cxnSp>
      <p:cxnSp>
        <p:nvCxnSpPr>
          <p:cNvPr id="294" name="直接连接符 22"/>
          <p:cNvCxnSpPr/>
          <p:nvPr/>
        </p:nvCxnSpPr>
        <p:spPr>
          <a:xfrm flipH="1">
            <a:off x="2496600" y="3506760"/>
            <a:ext cx="707400" cy="30636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oval" w="med"/>
          </a:ln>
        </p:spPr>
      </p:cxnSp>
      <p:sp>
        <p:nvSpPr>
          <p:cNvPr id="295" name="矩形 23"/>
          <p:cNvSpPr/>
          <p:nvPr/>
        </p:nvSpPr>
        <p:spPr>
          <a:xfrm>
            <a:off x="3340440" y="3145680"/>
            <a:ext cx="906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24"/>
          <p:cNvSpPr/>
          <p:nvPr/>
        </p:nvSpPr>
        <p:spPr>
          <a:xfrm>
            <a:off x="1688400" y="3721680"/>
            <a:ext cx="5835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5"/>
          <p:cNvSpPr/>
          <p:nvPr/>
        </p:nvSpPr>
        <p:spPr>
          <a:xfrm>
            <a:off x="1800720" y="2641320"/>
            <a:ext cx="5835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4"/>
          <p:cNvSpPr/>
          <p:nvPr/>
        </p:nvSpPr>
        <p:spPr>
          <a:xfrm>
            <a:off x="683640" y="985320"/>
            <a:ext cx="252000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xxxxxxxxxxxx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5"/>
          <p:cNvSpPr/>
          <p:nvPr/>
        </p:nvSpPr>
        <p:spPr>
          <a:xfrm>
            <a:off x="755640" y="4369680"/>
            <a:ext cx="26640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29"/>
          <p:cNvGrpSpPr/>
          <p:nvPr/>
        </p:nvGrpSpPr>
        <p:grpSpPr>
          <a:xfrm>
            <a:off x="2771640" y="267840"/>
            <a:ext cx="3744000" cy="443880"/>
            <a:chOff x="2771640" y="267840"/>
            <a:chExt cx="3744000" cy="443880"/>
          </a:xfrm>
        </p:grpSpPr>
        <p:sp>
          <p:nvSpPr>
            <p:cNvPr id="301" name="Rectangle 8"/>
            <p:cNvSpPr/>
            <p:nvPr/>
          </p:nvSpPr>
          <p:spPr>
            <a:xfrm>
              <a:off x="2887920" y="440640"/>
              <a:ext cx="3528000" cy="271080"/>
            </a:xfrm>
            <a:custGeom>
              <a:avLst/>
              <a:gdLst>
                <a:gd name="textAreaLeft" fmla="*/ 0 w 3528000"/>
                <a:gd name="textAreaRight" fmla="*/ 3528360 w 352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lumMod val="75000"/>
                <a:alpha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31"/>
            <p:cNvSpPr/>
            <p:nvPr/>
          </p:nvSpPr>
          <p:spPr>
            <a:xfrm>
              <a:off x="2771640" y="267840"/>
              <a:ext cx="3744000" cy="332640"/>
            </a:xfrm>
            <a:prstGeom prst="rect">
              <a:avLst/>
            </a:prstGeom>
            <a:solidFill>
              <a:schemeClr val="bg2">
                <a:lumMod val="50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xxxxx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7"/>
          <p:cNvSpPr/>
          <p:nvPr/>
        </p:nvSpPr>
        <p:spPr>
          <a:xfrm rot="19760400">
            <a:off x="-722520" y="413280"/>
            <a:ext cx="3166920" cy="36360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2">
                    <a:lumMod val="50000"/>
                  </a:schemeClr>
                </a:solidFill>
                <a:latin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直接连接符 2"/>
          <p:cNvCxnSpPr/>
          <p:nvPr/>
        </p:nvCxnSpPr>
        <p:spPr>
          <a:xfrm>
            <a:off x="971280" y="1561320"/>
            <a:ext cx="3456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305" name="直接连接符 4"/>
          <p:cNvCxnSpPr/>
          <p:nvPr/>
        </p:nvCxnSpPr>
        <p:spPr>
          <a:xfrm>
            <a:off x="1043280" y="2353320"/>
            <a:ext cx="3456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306" name="直接连接符 5"/>
          <p:cNvCxnSpPr/>
          <p:nvPr/>
        </p:nvCxnSpPr>
        <p:spPr>
          <a:xfrm>
            <a:off x="1043280" y="3433320"/>
            <a:ext cx="3456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307" name="直接连接符 6"/>
          <p:cNvCxnSpPr/>
          <p:nvPr/>
        </p:nvCxnSpPr>
        <p:spPr>
          <a:xfrm>
            <a:off x="1043280" y="4585680"/>
            <a:ext cx="3456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6516360" y="2353320"/>
            <a:ext cx="2160000" cy="516240"/>
          </a:xfrm>
          <a:prstGeom prst="rect">
            <a:avLst/>
          </a:prstGeom>
          <a:solidFill>
            <a:schemeClr val="bg1">
              <a:lumMod val="7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终端与套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连接符 2"/>
          <p:cNvCxnSpPr/>
          <p:nvPr/>
        </p:nvCxnSpPr>
        <p:spPr>
          <a:xfrm>
            <a:off x="6327360" y="1403640"/>
            <a:ext cx="360" cy="179280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cxnSp>
        <p:nvCxnSpPr>
          <p:cNvPr id="310" name="直接连接符 3"/>
          <p:cNvCxnSpPr/>
          <p:nvPr/>
        </p:nvCxnSpPr>
        <p:spPr>
          <a:xfrm>
            <a:off x="5580000" y="2151000"/>
            <a:ext cx="2382840" cy="36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sp>
        <p:nvSpPr>
          <p:cNvPr id="311" name="TextBox 4"/>
          <p:cNvSpPr/>
          <p:nvPr/>
        </p:nvSpPr>
        <p:spPr>
          <a:xfrm>
            <a:off x="5220000" y="569520"/>
            <a:ext cx="748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Users\admin\Downloads\商务图片\锐普内部商务PPT图片26 (40).jpg"/>
          <p:cNvPicPr/>
          <p:nvPr/>
        </p:nvPicPr>
        <p:blipFill>
          <a:blip r:embed="rId1"/>
          <a:stretch/>
        </p:blipFill>
        <p:spPr>
          <a:xfrm>
            <a:off x="1259640" y="2569320"/>
            <a:ext cx="3312000" cy="248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1"/>
          <p:cNvSpPr/>
          <p:nvPr/>
        </p:nvSpPr>
        <p:spPr>
          <a:xfrm rot="19760400">
            <a:off x="-956160" y="329400"/>
            <a:ext cx="3166920" cy="36360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"/>
          <p:cNvSpPr/>
          <p:nvPr/>
        </p:nvSpPr>
        <p:spPr>
          <a:xfrm>
            <a:off x="1115640" y="1345320"/>
            <a:ext cx="45716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2699640" y="3505680"/>
            <a:ext cx="554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直接连接符 4"/>
          <p:cNvCxnSpPr/>
          <p:nvPr/>
        </p:nvCxnSpPr>
        <p:spPr>
          <a:xfrm flipH="1">
            <a:off x="35280" y="3710880"/>
            <a:ext cx="151452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</a:ln>
        </p:spPr>
      </p:cxnSp>
      <p:cxnSp>
        <p:nvCxnSpPr>
          <p:cNvPr id="317" name="直接连接符 5"/>
          <p:cNvCxnSpPr/>
          <p:nvPr/>
        </p:nvCxnSpPr>
        <p:spPr>
          <a:xfrm flipV="1">
            <a:off x="1547640" y="1345320"/>
            <a:ext cx="5902920" cy="2365920"/>
          </a:xfrm>
          <a:prstGeom prst="straightConnector1">
            <a:avLst/>
          </a:prstGeom>
          <a:ln>
            <a:solidFill>
              <a:srgbClr val="ffffff"/>
            </a:solidFill>
            <a:round/>
            <a:tailEnd len="med" type="oval" w="med"/>
          </a:ln>
        </p:spPr>
      </p:cxnSp>
      <p:sp>
        <p:nvSpPr>
          <p:cNvPr id="318" name="椭圆 6"/>
          <p:cNvSpPr/>
          <p:nvPr/>
        </p:nvSpPr>
        <p:spPr>
          <a:xfrm>
            <a:off x="467640" y="1057320"/>
            <a:ext cx="575640" cy="50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9" name="矩形 7"/>
          <p:cNvSpPr/>
          <p:nvPr/>
        </p:nvSpPr>
        <p:spPr>
          <a:xfrm>
            <a:off x="623880" y="1129320"/>
            <a:ext cx="33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8"/>
          <p:cNvSpPr/>
          <p:nvPr/>
        </p:nvSpPr>
        <p:spPr>
          <a:xfrm>
            <a:off x="3852000" y="2929680"/>
            <a:ext cx="575640" cy="50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1" name="矩形 9"/>
          <p:cNvSpPr/>
          <p:nvPr/>
        </p:nvSpPr>
        <p:spPr>
          <a:xfrm>
            <a:off x="3947040" y="3001680"/>
            <a:ext cx="45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0c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3" descr="C:\Users\admin\Downloads\给力色彩\乌夜啼收藏 (27).jpg"/>
          <p:cNvPicPr/>
          <p:nvPr/>
        </p:nvPicPr>
        <p:blipFill>
          <a:blip r:embed="rId1"/>
          <a:stretch/>
        </p:blipFill>
        <p:spPr>
          <a:xfrm>
            <a:off x="0" y="0"/>
            <a:ext cx="9143640" cy="49453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59"/>
          <p:cNvSpPr/>
          <p:nvPr/>
        </p:nvSpPr>
        <p:spPr>
          <a:xfrm>
            <a:off x="1907640" y="1273320"/>
            <a:ext cx="588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Space Age"/>
              </a:rPr>
              <a:t>谢  谢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16"/>
          <p:cNvSpPr/>
          <p:nvPr/>
        </p:nvSpPr>
        <p:spPr>
          <a:xfrm>
            <a:off x="2123640" y="3793680"/>
            <a:ext cx="4968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xxxxxxxxxxx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935640" y="4996800"/>
            <a:ext cx="1691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 cap="all">
                <a:solidFill>
                  <a:srgbClr val="ffffff"/>
                </a:solidFill>
                <a:latin typeface="华文楷体"/>
                <a:ea typeface="华文楷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922320" y="5284800"/>
            <a:ext cx="17049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281"/>
              </a:spcBef>
            </a:pPr>
            <a:r>
              <a:rPr b="1" lang="en-US" sz="1400" spc="-1" strike="noStrike" cap="all">
                <a:solidFill>
                  <a:srgbClr val="ffffff"/>
                </a:solidFill>
                <a:latin typeface="宋体"/>
                <a:ea typeface="宋体"/>
              </a:rPr>
              <a:t>XXXXXXX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0" y="5161680"/>
            <a:ext cx="863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 cap="all">
                <a:solidFill>
                  <a:srgbClr val="ffffff"/>
                </a:solidFill>
                <a:latin typeface="华文楷体"/>
                <a:ea typeface="华文楷体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弧形 1"/>
          <p:cNvSpPr/>
          <p:nvPr/>
        </p:nvSpPr>
        <p:spPr>
          <a:xfrm>
            <a:off x="2648880" y="1295640"/>
            <a:ext cx="3909240" cy="3909240"/>
          </a:xfrm>
          <a:prstGeom prst="arc">
            <a:avLst>
              <a:gd name="adj1" fmla="val 16976675"/>
              <a:gd name="adj2" fmla="val 9872826"/>
            </a:avLst>
          </a:prstGeom>
          <a:noFill/>
          <a:ln>
            <a:solidFill>
              <a:srgbClr val="ffffff">
                <a:lumMod val="95000"/>
              </a:srgbClr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"/>
          <p:cNvSpPr/>
          <p:nvPr/>
        </p:nvSpPr>
        <p:spPr>
          <a:xfrm>
            <a:off x="3348000" y="2303640"/>
            <a:ext cx="2376000" cy="2016000"/>
          </a:xfrm>
          <a:prstGeom prst="rect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178" name="直接连接符 3"/>
          <p:cNvCxnSpPr/>
          <p:nvPr/>
        </p:nvCxnSpPr>
        <p:spPr>
          <a:xfrm>
            <a:off x="3347640" y="1007280"/>
            <a:ext cx="360" cy="367308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179" name="直接连接符 4"/>
          <p:cNvCxnSpPr/>
          <p:nvPr/>
        </p:nvCxnSpPr>
        <p:spPr>
          <a:xfrm>
            <a:off x="5724000" y="2015640"/>
            <a:ext cx="360" cy="360072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180" name="直接连接符 5"/>
          <p:cNvCxnSpPr/>
          <p:nvPr/>
        </p:nvCxnSpPr>
        <p:spPr>
          <a:xfrm>
            <a:off x="1835640" y="2303640"/>
            <a:ext cx="424872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181" name="直接连接符 6"/>
          <p:cNvCxnSpPr/>
          <p:nvPr/>
        </p:nvCxnSpPr>
        <p:spPr>
          <a:xfrm>
            <a:off x="3059640" y="4319640"/>
            <a:ext cx="446472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182" name="椭圆 7"/>
          <p:cNvSpPr/>
          <p:nvPr/>
        </p:nvSpPr>
        <p:spPr>
          <a:xfrm>
            <a:off x="3924000" y="896760"/>
            <a:ext cx="1223640" cy="122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3" name="椭圆 8"/>
          <p:cNvSpPr/>
          <p:nvPr/>
        </p:nvSpPr>
        <p:spPr>
          <a:xfrm>
            <a:off x="5940000" y="2699640"/>
            <a:ext cx="1223640" cy="122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4" name="椭圆 9"/>
          <p:cNvSpPr/>
          <p:nvPr/>
        </p:nvSpPr>
        <p:spPr>
          <a:xfrm>
            <a:off x="3924000" y="4441680"/>
            <a:ext cx="1223640" cy="122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5" name="椭圆 10"/>
          <p:cNvSpPr/>
          <p:nvPr/>
        </p:nvSpPr>
        <p:spPr>
          <a:xfrm>
            <a:off x="1967040" y="2699640"/>
            <a:ext cx="1223640" cy="1223640"/>
          </a:xfrm>
          <a:prstGeom prst="ellipse">
            <a:avLst/>
          </a:prstGeom>
          <a:solidFill>
            <a:srgbClr val="dddddd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022480" y="1508760"/>
            <a:ext cx="115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3708000" y="1295640"/>
            <a:ext cx="165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幼圆"/>
                <a:ea typeface="幼圆"/>
              </a:rPr>
              <a:t>系统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5944320" y="3160800"/>
            <a:ext cx="1257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幼圆"/>
                <a:ea typeface="幼圆"/>
              </a:rPr>
              <a:t>功能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3852000" y="4896000"/>
            <a:ext cx="143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1600" spc="-1" strike="noStrike">
                <a:solidFill>
                  <a:srgbClr val="000000"/>
                </a:solidFill>
                <a:latin typeface="幼圆"/>
                <a:ea typeface="幼圆"/>
              </a:rPr>
              <a:t>应用与分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1811520" y="3096000"/>
            <a:ext cx="1536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4.</a:t>
            </a:r>
            <a:r>
              <a:rPr b="1" lang="zh-CN" sz="1600" spc="-1" strike="noStrike">
                <a:solidFill>
                  <a:srgbClr val="000000"/>
                </a:solidFill>
                <a:latin typeface="幼圆"/>
                <a:ea typeface="幼圆"/>
              </a:rPr>
              <a:t>终端与套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3614760" y="3015000"/>
            <a:ext cx="1887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幼圆"/>
                <a:ea typeface="幼圆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1691640" y="2771640"/>
            <a:ext cx="1656000" cy="516240"/>
          </a:xfrm>
          <a:prstGeom prst="rect">
            <a:avLst/>
          </a:prstGeom>
          <a:solidFill>
            <a:schemeClr val="bg1">
              <a:lumMod val="7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系统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直接连接符 2"/>
          <p:cNvCxnSpPr/>
          <p:nvPr/>
        </p:nvCxnSpPr>
        <p:spPr>
          <a:xfrm>
            <a:off x="1502640" y="1821960"/>
            <a:ext cx="360" cy="179244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cxnSp>
        <p:nvCxnSpPr>
          <p:cNvPr id="194" name="直接连接符 3"/>
          <p:cNvCxnSpPr/>
          <p:nvPr/>
        </p:nvCxnSpPr>
        <p:spPr>
          <a:xfrm>
            <a:off x="755280" y="2569320"/>
            <a:ext cx="2383200" cy="36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sp>
        <p:nvSpPr>
          <p:cNvPr id="195" name="TextBox 4"/>
          <p:cNvSpPr/>
          <p:nvPr/>
        </p:nvSpPr>
        <p:spPr>
          <a:xfrm>
            <a:off x="755640" y="755280"/>
            <a:ext cx="748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admin\Downloads\新建文件夹\8772d2cab6b5d49fc8176860.jpg"/>
          <p:cNvPicPr/>
          <p:nvPr/>
        </p:nvPicPr>
        <p:blipFill>
          <a:blip r:embed="rId1"/>
          <a:stretch/>
        </p:blipFill>
        <p:spPr>
          <a:xfrm>
            <a:off x="4572000" y="2209320"/>
            <a:ext cx="3506760" cy="2335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"/>
          <p:cNvSpPr/>
          <p:nvPr/>
        </p:nvSpPr>
        <p:spPr>
          <a:xfrm rot="19760400">
            <a:off x="-722520" y="428760"/>
            <a:ext cx="3166920" cy="3326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900200" y="3044880"/>
            <a:ext cx="781920" cy="141480"/>
          </a:xfrm>
          <a:custGeom>
            <a:avLst/>
            <a:gdLst>
              <a:gd name="textAreaLeft" fmla="*/ 0 w 781920"/>
              <a:gd name="textAreaRight" fmla="*/ 782280 w 7819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chemeClr val="bg1">
              <a:lumMod val="85000"/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733320" y="1291680"/>
            <a:ext cx="781920" cy="141480"/>
          </a:xfrm>
          <a:custGeom>
            <a:avLst/>
            <a:gdLst>
              <a:gd name="textAreaLeft" fmla="*/ 0 w 781920"/>
              <a:gd name="textAreaRight" fmla="*/ 782280 w 7819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093568" h="271442">
                <a:moveTo>
                  <a:pt x="0" y="0"/>
                </a:moveTo>
                <a:lnTo>
                  <a:pt x="3093568" y="0"/>
                </a:lnTo>
                <a:lnTo>
                  <a:pt x="3093568" y="271442"/>
                </a:lnTo>
                <a:cubicBezTo>
                  <a:pt x="1777407" y="81360"/>
                  <a:pt x="1788744" y="3494"/>
                  <a:pt x="0" y="271442"/>
                </a:cubicBezTo>
                <a:lnTo>
                  <a:pt x="0" y="0"/>
                </a:lnTo>
                <a:close/>
              </a:path>
            </a:pathLst>
          </a:custGeom>
          <a:solidFill>
            <a:schemeClr val="bg1">
              <a:lumMod val="75000"/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10"/>
          <p:cNvGrpSpPr/>
          <p:nvPr/>
        </p:nvGrpSpPr>
        <p:grpSpPr>
          <a:xfrm>
            <a:off x="1116360" y="1337040"/>
            <a:ext cx="4879800" cy="2259720"/>
            <a:chOff x="1116360" y="1337040"/>
            <a:chExt cx="4879800" cy="2259720"/>
          </a:xfrm>
        </p:grpSpPr>
        <p:sp>
          <p:nvSpPr>
            <p:cNvPr id="201" name="弧形 11"/>
            <p:cNvSpPr/>
            <p:nvPr/>
          </p:nvSpPr>
          <p:spPr>
            <a:xfrm>
              <a:off x="1116360" y="2507400"/>
              <a:ext cx="1089360" cy="1089360"/>
            </a:xfrm>
            <a:prstGeom prst="arc">
              <a:avLst>
                <a:gd name="adj1" fmla="val 5495561"/>
                <a:gd name="adj2" fmla="val 10800000"/>
              </a:avLst>
            </a:prstGeom>
            <a:noFill/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2" name="直接连接符 12"/>
            <p:cNvCxnSpPr>
              <a:endCxn id="201" idx="2"/>
            </p:cNvCxnSpPr>
            <p:nvPr/>
          </p:nvCxnSpPr>
          <p:spPr>
            <a:xfrm>
              <a:off x="1116360" y="1337040"/>
              <a:ext cx="360" cy="171540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</p:cxnSp>
        <p:cxnSp>
          <p:nvCxnSpPr>
            <p:cNvPr id="203" name="直接连接符 13"/>
            <p:cNvCxnSpPr>
              <a:stCxn id="201" idx="0"/>
            </p:cNvCxnSpPr>
            <p:nvPr/>
          </p:nvCxnSpPr>
          <p:spPr>
            <a:xfrm>
              <a:off x="1645920" y="3596760"/>
              <a:ext cx="435060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</p:cxnSp>
      </p:grpSp>
      <p:grpSp>
        <p:nvGrpSpPr>
          <p:cNvPr id="204" name="组合 14"/>
          <p:cNvGrpSpPr/>
          <p:nvPr/>
        </p:nvGrpSpPr>
        <p:grpSpPr>
          <a:xfrm>
            <a:off x="3420360" y="3117960"/>
            <a:ext cx="4879800" cy="2259720"/>
            <a:chOff x="3420360" y="3117960"/>
            <a:chExt cx="4879800" cy="2259720"/>
          </a:xfrm>
        </p:grpSpPr>
        <p:sp>
          <p:nvSpPr>
            <p:cNvPr id="205" name="弧形 15"/>
            <p:cNvSpPr/>
            <p:nvPr/>
          </p:nvSpPr>
          <p:spPr>
            <a:xfrm flipH="1">
              <a:off x="7210800" y="4287960"/>
              <a:ext cx="1089360" cy="1089360"/>
            </a:xfrm>
            <a:prstGeom prst="arc">
              <a:avLst>
                <a:gd name="adj1" fmla="val 5495561"/>
                <a:gd name="adj2" fmla="val 10800000"/>
              </a:avLst>
            </a:prstGeom>
            <a:noFill/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6" name="直接连接符 16"/>
            <p:cNvCxnSpPr>
              <a:endCxn id="205" idx="2"/>
            </p:cNvCxnSpPr>
            <p:nvPr/>
          </p:nvCxnSpPr>
          <p:spPr>
            <a:xfrm>
              <a:off x="8300160" y="3117960"/>
              <a:ext cx="360" cy="171504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</p:cxnSp>
        <p:cxnSp>
          <p:nvCxnSpPr>
            <p:cNvPr id="207" name="直接连接符 17"/>
            <p:cNvCxnSpPr>
              <a:stCxn id="205" idx="0"/>
            </p:cNvCxnSpPr>
            <p:nvPr/>
          </p:nvCxnSpPr>
          <p:spPr>
            <a:xfrm flipH="1">
              <a:off x="3420360" y="5377320"/>
              <a:ext cx="4350600" cy="72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prstDash val="dash"/>
              <a:round/>
            </a:ln>
          </p:spPr>
        </p:cxnSp>
      </p:grpSp>
      <p:sp>
        <p:nvSpPr>
          <p:cNvPr id="208" name="矩形 18"/>
          <p:cNvSpPr/>
          <p:nvPr/>
        </p:nvSpPr>
        <p:spPr>
          <a:xfrm>
            <a:off x="676440" y="1057320"/>
            <a:ext cx="895680" cy="3074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7852680" y="2810160"/>
            <a:ext cx="895680" cy="3074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幼圆"/>
              <a:ea typeface="幼圆"/>
            </a:endParaRPr>
          </a:p>
        </p:txBody>
      </p:sp>
      <p:cxnSp>
        <p:nvCxnSpPr>
          <p:cNvPr id="210" name="直接连接符 5"/>
          <p:cNvCxnSpPr/>
          <p:nvPr/>
        </p:nvCxnSpPr>
        <p:spPr>
          <a:xfrm>
            <a:off x="2339640" y="141732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211" name="直接连接符 20"/>
          <p:cNvCxnSpPr/>
          <p:nvPr/>
        </p:nvCxnSpPr>
        <p:spPr>
          <a:xfrm>
            <a:off x="2339640" y="206532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212" name="直接连接符 21"/>
          <p:cNvCxnSpPr/>
          <p:nvPr/>
        </p:nvCxnSpPr>
        <p:spPr>
          <a:xfrm>
            <a:off x="2339640" y="285732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213" name="直接连接符 22"/>
          <p:cNvCxnSpPr/>
          <p:nvPr/>
        </p:nvCxnSpPr>
        <p:spPr>
          <a:xfrm>
            <a:off x="3923640" y="379332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214" name="直接连接符 23"/>
          <p:cNvCxnSpPr/>
          <p:nvPr/>
        </p:nvCxnSpPr>
        <p:spPr>
          <a:xfrm>
            <a:off x="3923640" y="444132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215" name="直接连接符 24"/>
          <p:cNvCxnSpPr/>
          <p:nvPr/>
        </p:nvCxnSpPr>
        <p:spPr>
          <a:xfrm>
            <a:off x="3923640" y="5233680"/>
            <a:ext cx="3312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6588360" y="2193120"/>
            <a:ext cx="1656000" cy="516240"/>
          </a:xfrm>
          <a:prstGeom prst="rect">
            <a:avLst/>
          </a:prstGeom>
          <a:solidFill>
            <a:schemeClr val="bg1">
              <a:lumMod val="7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功能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直接连接符 2"/>
          <p:cNvCxnSpPr/>
          <p:nvPr/>
        </p:nvCxnSpPr>
        <p:spPr>
          <a:xfrm>
            <a:off x="6399360" y="1243440"/>
            <a:ext cx="360" cy="179280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cxnSp>
        <p:nvCxnSpPr>
          <p:cNvPr id="218" name="直接连接符 3"/>
          <p:cNvCxnSpPr/>
          <p:nvPr/>
        </p:nvCxnSpPr>
        <p:spPr>
          <a:xfrm>
            <a:off x="5652000" y="1990800"/>
            <a:ext cx="2382840" cy="360"/>
          </a:xfrm>
          <a:prstGeom prst="straightConnector1">
            <a:avLst/>
          </a:prstGeom>
          <a:ln w="3175">
            <a:solidFill>
              <a:srgbClr val="dddddd"/>
            </a:solidFill>
            <a:round/>
          </a:ln>
        </p:spPr>
      </p:cxnSp>
      <p:sp>
        <p:nvSpPr>
          <p:cNvPr id="219" name="TextBox 4"/>
          <p:cNvSpPr/>
          <p:nvPr/>
        </p:nvSpPr>
        <p:spPr>
          <a:xfrm>
            <a:off x="5292000" y="409320"/>
            <a:ext cx="748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969696"/>
                </a:solidFill>
                <a:latin typeface="Serif Black"/>
                <a:ea typeface="DFKai-SB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icture 7"/>
          <p:cNvSpPr/>
          <p:nvPr/>
        </p:nvSpPr>
        <p:spPr>
          <a:xfrm>
            <a:off x="1475640" y="2425320"/>
            <a:ext cx="3633840" cy="2550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圆角矩形 29"/>
          <p:cNvSpPr/>
          <p:nvPr/>
        </p:nvSpPr>
        <p:spPr>
          <a:xfrm>
            <a:off x="827640" y="769320"/>
            <a:ext cx="4248000" cy="151164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圆角矩形 28"/>
          <p:cNvSpPr/>
          <p:nvPr/>
        </p:nvSpPr>
        <p:spPr>
          <a:xfrm>
            <a:off x="395640" y="2713320"/>
            <a:ext cx="5040360" cy="2664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2268720" y="6360840"/>
            <a:ext cx="1944360" cy="43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柄提示、语音播报提示或手机提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0"/>
          <p:cNvSpPr/>
          <p:nvPr/>
        </p:nvSpPr>
        <p:spPr>
          <a:xfrm rot="19760400">
            <a:off x="-722520" y="428760"/>
            <a:ext cx="3166920" cy="3326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系统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直接连接符 31"/>
          <p:cNvCxnSpPr/>
          <p:nvPr/>
        </p:nvCxnSpPr>
        <p:spPr>
          <a:xfrm>
            <a:off x="2843640" y="2281320"/>
            <a:ext cx="360" cy="432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sp>
        <p:nvSpPr>
          <p:cNvPr id="226" name="圆角矩形 34"/>
          <p:cNvSpPr/>
          <p:nvPr/>
        </p:nvSpPr>
        <p:spPr>
          <a:xfrm rot="5400000">
            <a:off x="4716000" y="1776960"/>
            <a:ext cx="4824000" cy="2664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27" name="直接连接符 35"/>
          <p:cNvCxnSpPr/>
          <p:nvPr/>
        </p:nvCxnSpPr>
        <p:spPr>
          <a:xfrm flipH="1">
            <a:off x="5076000" y="1489320"/>
            <a:ext cx="72036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28" name="直接连接符 38"/>
          <p:cNvCxnSpPr/>
          <p:nvPr/>
        </p:nvCxnSpPr>
        <p:spPr>
          <a:xfrm flipH="1">
            <a:off x="8460360" y="3001320"/>
            <a:ext cx="82872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29" name="直接连接符 2"/>
          <p:cNvCxnSpPr/>
          <p:nvPr/>
        </p:nvCxnSpPr>
        <p:spPr>
          <a:xfrm>
            <a:off x="1331640" y="1056960"/>
            <a:ext cx="3096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0" name="直接连接符 12"/>
          <p:cNvCxnSpPr/>
          <p:nvPr/>
        </p:nvCxnSpPr>
        <p:spPr>
          <a:xfrm>
            <a:off x="1331640" y="1561320"/>
            <a:ext cx="3096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1" name="直接连接符 14"/>
          <p:cNvCxnSpPr/>
          <p:nvPr/>
        </p:nvCxnSpPr>
        <p:spPr>
          <a:xfrm>
            <a:off x="1403640" y="1993320"/>
            <a:ext cx="3096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2" name="直接连接符 15"/>
          <p:cNvCxnSpPr/>
          <p:nvPr/>
        </p:nvCxnSpPr>
        <p:spPr>
          <a:xfrm>
            <a:off x="971280" y="3217320"/>
            <a:ext cx="3817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3" name="直接连接符 16"/>
          <p:cNvCxnSpPr/>
          <p:nvPr/>
        </p:nvCxnSpPr>
        <p:spPr>
          <a:xfrm>
            <a:off x="971280" y="3721320"/>
            <a:ext cx="3817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4" name="直接连接符 17"/>
          <p:cNvCxnSpPr/>
          <p:nvPr/>
        </p:nvCxnSpPr>
        <p:spPr>
          <a:xfrm>
            <a:off x="1043280" y="4153320"/>
            <a:ext cx="3745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5" name="直接连接符 32"/>
          <p:cNvCxnSpPr/>
          <p:nvPr/>
        </p:nvCxnSpPr>
        <p:spPr>
          <a:xfrm>
            <a:off x="1043280" y="4657680"/>
            <a:ext cx="3745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236" name="直接连接符 33"/>
          <p:cNvCxnSpPr/>
          <p:nvPr/>
        </p:nvCxnSpPr>
        <p:spPr>
          <a:xfrm>
            <a:off x="1187280" y="5161680"/>
            <a:ext cx="3745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圆角矩形 19"/>
          <p:cNvSpPr/>
          <p:nvPr/>
        </p:nvSpPr>
        <p:spPr>
          <a:xfrm rot="5400000">
            <a:off x="4500360" y="768960"/>
            <a:ext cx="4032000" cy="4608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圆角矩形 9"/>
          <p:cNvSpPr/>
          <p:nvPr/>
        </p:nvSpPr>
        <p:spPr>
          <a:xfrm rot="5400000">
            <a:off x="-540000" y="1704960"/>
            <a:ext cx="4824000" cy="2664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矩形 1"/>
          <p:cNvSpPr/>
          <p:nvPr/>
        </p:nvSpPr>
        <p:spPr>
          <a:xfrm rot="19760400">
            <a:off x="-722520" y="428760"/>
            <a:ext cx="3166920" cy="3326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系统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连接符 20"/>
          <p:cNvCxnSpPr/>
          <p:nvPr/>
        </p:nvCxnSpPr>
        <p:spPr>
          <a:xfrm flipH="1">
            <a:off x="3203640" y="2569320"/>
            <a:ext cx="100836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41" name="直接连接符 23"/>
          <p:cNvCxnSpPr/>
          <p:nvPr/>
        </p:nvCxnSpPr>
        <p:spPr>
          <a:xfrm flipH="1">
            <a:off x="8855640" y="2137320"/>
            <a:ext cx="82908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42" name="直接连接符 24"/>
          <p:cNvCxnSpPr/>
          <p:nvPr/>
        </p:nvCxnSpPr>
        <p:spPr>
          <a:xfrm flipH="1">
            <a:off x="-324360" y="3001320"/>
            <a:ext cx="82872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圆角矩形 53"/>
          <p:cNvSpPr/>
          <p:nvPr/>
        </p:nvSpPr>
        <p:spPr>
          <a:xfrm rot="5400000">
            <a:off x="6234840" y="2922840"/>
            <a:ext cx="2002680" cy="3456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圆角矩形 44"/>
          <p:cNvSpPr/>
          <p:nvPr/>
        </p:nvSpPr>
        <p:spPr>
          <a:xfrm rot="5400000">
            <a:off x="5904360" y="444960"/>
            <a:ext cx="2736000" cy="309600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圆角矩形 35"/>
          <p:cNvSpPr/>
          <p:nvPr/>
        </p:nvSpPr>
        <p:spPr>
          <a:xfrm rot="5400000">
            <a:off x="575640" y="372960"/>
            <a:ext cx="4464000" cy="5112360"/>
          </a:xfrm>
          <a:prstGeom prst="roundRect">
            <a:avLst>
              <a:gd name="adj" fmla="val 16667"/>
            </a:avLst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8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矩形 36"/>
          <p:cNvSpPr/>
          <p:nvPr/>
        </p:nvSpPr>
        <p:spPr>
          <a:xfrm rot="19760400">
            <a:off x="-722520" y="428760"/>
            <a:ext cx="3166920" cy="3326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系统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直接连接符 56"/>
          <p:cNvCxnSpPr/>
          <p:nvPr/>
        </p:nvCxnSpPr>
        <p:spPr>
          <a:xfrm flipH="1">
            <a:off x="5364000" y="1849320"/>
            <a:ext cx="36036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48" name="直接连接符 63"/>
          <p:cNvCxnSpPr/>
          <p:nvPr/>
        </p:nvCxnSpPr>
        <p:spPr>
          <a:xfrm flipH="1">
            <a:off x="-612360" y="2137320"/>
            <a:ext cx="82872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49" name="直接连接符 64"/>
          <p:cNvCxnSpPr/>
          <p:nvPr/>
        </p:nvCxnSpPr>
        <p:spPr>
          <a:xfrm flipH="1">
            <a:off x="8820360" y="2857320"/>
            <a:ext cx="100836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5"/>
          <p:cNvGrpSpPr/>
          <p:nvPr/>
        </p:nvGrpSpPr>
        <p:grpSpPr>
          <a:xfrm>
            <a:off x="2999160" y="1849320"/>
            <a:ext cx="1143360" cy="1585440"/>
            <a:chOff x="2999160" y="1849320"/>
            <a:chExt cx="1143360" cy="1585440"/>
          </a:xfrm>
        </p:grpSpPr>
        <p:sp>
          <p:nvSpPr>
            <p:cNvPr id="251" name="椭圆 6"/>
            <p:cNvSpPr/>
            <p:nvPr/>
          </p:nvSpPr>
          <p:spPr>
            <a:xfrm>
              <a:off x="3060000" y="2352240"/>
              <a:ext cx="1082520" cy="1082520"/>
            </a:xfrm>
            <a:prstGeom prst="ellipse">
              <a:avLst/>
            </a:prstGeom>
            <a:solidFill>
              <a:srgbClr val="dddddd"/>
            </a:solidFill>
            <a:ln w="635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sp>
          <p:nvSpPr>
            <p:cNvPr id="252" name="矩形 10"/>
            <p:cNvSpPr/>
            <p:nvPr/>
          </p:nvSpPr>
          <p:spPr>
            <a:xfrm>
              <a:off x="2999160" y="1849320"/>
              <a:ext cx="1072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矩形 3"/>
          <p:cNvSpPr/>
          <p:nvPr/>
        </p:nvSpPr>
        <p:spPr>
          <a:xfrm>
            <a:off x="3132000" y="2785320"/>
            <a:ext cx="1151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1"/>
          <p:cNvGrpSpPr/>
          <p:nvPr/>
        </p:nvGrpSpPr>
        <p:grpSpPr>
          <a:xfrm>
            <a:off x="528120" y="2137320"/>
            <a:ext cx="1784160" cy="2300760"/>
            <a:chOff x="528120" y="2137320"/>
            <a:chExt cx="1784160" cy="2300760"/>
          </a:xfrm>
        </p:grpSpPr>
        <p:sp>
          <p:nvSpPr>
            <p:cNvPr id="255" name="椭圆 12"/>
            <p:cNvSpPr/>
            <p:nvPr/>
          </p:nvSpPr>
          <p:spPr>
            <a:xfrm>
              <a:off x="528120" y="2653920"/>
              <a:ext cx="1784160" cy="1784160"/>
            </a:xfrm>
            <a:prstGeom prst="ellipse">
              <a:avLst/>
            </a:prstGeom>
            <a:solidFill>
              <a:srgbClr val="dddddd"/>
            </a:solidFill>
            <a:ln w="635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sp>
          <p:nvSpPr>
            <p:cNvPr id="256" name="矩形 16"/>
            <p:cNvSpPr/>
            <p:nvPr/>
          </p:nvSpPr>
          <p:spPr>
            <a:xfrm>
              <a:off x="827640" y="2137320"/>
              <a:ext cx="14230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70c0"/>
                </a:solidFill>
                <a:latin typeface="Calibri"/>
              </a:endParaRPr>
            </a:p>
          </p:txBody>
        </p:sp>
      </p:grpSp>
      <p:sp>
        <p:nvSpPr>
          <p:cNvPr id="257" name="矩形 1"/>
          <p:cNvSpPr/>
          <p:nvPr/>
        </p:nvSpPr>
        <p:spPr>
          <a:xfrm rot="19760400">
            <a:off x="-722520" y="428760"/>
            <a:ext cx="3166920" cy="332640"/>
          </a:xfrm>
          <a:prstGeom prst="rect">
            <a:avLst/>
          </a:prstGeom>
          <a:solidFill>
            <a:schemeClr val="bg2">
              <a:lumMod val="50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系统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7"/>
          <p:cNvGrpSpPr/>
          <p:nvPr/>
        </p:nvGrpSpPr>
        <p:grpSpPr>
          <a:xfrm>
            <a:off x="6156000" y="2209320"/>
            <a:ext cx="2363400" cy="2787120"/>
            <a:chOff x="6156000" y="2209320"/>
            <a:chExt cx="2363400" cy="2787120"/>
          </a:xfrm>
        </p:grpSpPr>
        <p:sp>
          <p:nvSpPr>
            <p:cNvPr id="259" name="椭圆 18"/>
            <p:cNvSpPr/>
            <p:nvPr/>
          </p:nvSpPr>
          <p:spPr>
            <a:xfrm>
              <a:off x="6156000" y="2633040"/>
              <a:ext cx="2363400" cy="2363400"/>
            </a:xfrm>
            <a:prstGeom prst="ellipse">
              <a:avLst/>
            </a:prstGeom>
            <a:solidFill>
              <a:srgbClr val="dddddd"/>
            </a:solidFill>
            <a:ln w="635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sp>
          <p:nvSpPr>
            <p:cNvPr id="260" name="矩形 26"/>
            <p:cNvSpPr/>
            <p:nvPr/>
          </p:nvSpPr>
          <p:spPr>
            <a:xfrm>
              <a:off x="6681600" y="2209320"/>
              <a:ext cx="1072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8"/>
          <p:cNvGrpSpPr/>
          <p:nvPr/>
        </p:nvGrpSpPr>
        <p:grpSpPr>
          <a:xfrm>
            <a:off x="902160" y="2281320"/>
            <a:ext cx="4664520" cy="3227400"/>
            <a:chOff x="902160" y="2281320"/>
            <a:chExt cx="4664520" cy="3227400"/>
          </a:xfrm>
        </p:grpSpPr>
        <p:sp>
          <p:nvSpPr>
            <p:cNvPr id="262" name="椭圆 29"/>
            <p:cNvSpPr/>
            <p:nvPr/>
          </p:nvSpPr>
          <p:spPr>
            <a:xfrm>
              <a:off x="3881160" y="3823200"/>
              <a:ext cx="1685520" cy="1685520"/>
            </a:xfrm>
            <a:prstGeom prst="ellipse">
              <a:avLst/>
            </a:prstGeom>
            <a:solidFill>
              <a:srgbClr val="dddddd"/>
            </a:solidFill>
            <a:ln w="635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sp>
          <p:nvSpPr>
            <p:cNvPr id="263" name="矩形 30"/>
            <p:cNvSpPr/>
            <p:nvPr/>
          </p:nvSpPr>
          <p:spPr>
            <a:xfrm>
              <a:off x="902160" y="2281320"/>
              <a:ext cx="874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矩形 32"/>
          <p:cNvSpPr/>
          <p:nvPr/>
        </p:nvSpPr>
        <p:spPr>
          <a:xfrm>
            <a:off x="6372360" y="3289680"/>
            <a:ext cx="20880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33"/>
          <p:cNvSpPr/>
          <p:nvPr/>
        </p:nvSpPr>
        <p:spPr>
          <a:xfrm>
            <a:off x="4214520" y="3505680"/>
            <a:ext cx="87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34"/>
          <p:cNvSpPr/>
          <p:nvPr/>
        </p:nvSpPr>
        <p:spPr>
          <a:xfrm>
            <a:off x="827640" y="3433680"/>
            <a:ext cx="194400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18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"/>
          <p:cNvSpPr/>
          <p:nvPr/>
        </p:nvSpPr>
        <p:spPr>
          <a:xfrm>
            <a:off x="3924000" y="4369680"/>
            <a:ext cx="172800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直接连接符 37"/>
          <p:cNvCxnSpPr/>
          <p:nvPr/>
        </p:nvCxnSpPr>
        <p:spPr>
          <a:xfrm flipH="1">
            <a:off x="-108360" y="2857320"/>
            <a:ext cx="1008000" cy="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69" name="直接连接符 38"/>
          <p:cNvCxnSpPr>
            <a:endCxn id="255" idx="6"/>
          </p:cNvCxnSpPr>
          <p:nvPr/>
        </p:nvCxnSpPr>
        <p:spPr>
          <a:xfrm flipH="1">
            <a:off x="2312280" y="3145320"/>
            <a:ext cx="819720" cy="40104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70" name="直接连接符 40"/>
          <p:cNvCxnSpPr>
            <a:stCxn id="265" idx="2"/>
          </p:cNvCxnSpPr>
          <p:nvPr/>
        </p:nvCxnSpPr>
        <p:spPr>
          <a:xfrm flipH="1" flipV="1">
            <a:off x="4139640" y="3001320"/>
            <a:ext cx="512640" cy="87372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71" name="直接连接符 42"/>
          <p:cNvCxnSpPr/>
          <p:nvPr/>
        </p:nvCxnSpPr>
        <p:spPr>
          <a:xfrm flipV="1">
            <a:off x="4795920" y="3361320"/>
            <a:ext cx="1432440" cy="50436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  <p:cxnSp>
        <p:nvCxnSpPr>
          <p:cNvPr id="272" name="直接连接符 47"/>
          <p:cNvCxnSpPr/>
          <p:nvPr/>
        </p:nvCxnSpPr>
        <p:spPr>
          <a:xfrm flipH="1">
            <a:off x="8505000" y="3073320"/>
            <a:ext cx="819720" cy="401040"/>
          </a:xfrm>
          <a:prstGeom prst="straightConnector1">
            <a:avLst/>
          </a:prstGeom>
          <a:ln w="6350">
            <a:solidFill>
              <a:srgbClr val="ffffff"/>
            </a:solidFill>
            <a:round/>
            <a:headEnd len="med" type="oval" w="med"/>
            <a:tailEnd len="med" type="oval" w="med"/>
          </a:ln>
        </p:spPr>
      </p:cxnSp>
    </p:spTree>
  </p:cSld>
  <p:transition spd="slow">
    <p:push dir="r"/>
  </p:transition>
</p:sld>
</file>

<file path=ppt/theme/theme1.xml><?xml version="1.0" encoding="utf-8"?>
<a:theme xmlns:a="http://schemas.openxmlformats.org/drawingml/2006/main" name="1_기본 디자인">
  <a:themeElements>
    <a:clrScheme name="기본 디자인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演示文稿1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  <Words>109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8:18:18Z</dcterms:created>
  <dc:creator>ppt宝藏</dc:creator>
  <dc:description/>
  <dc:language>en-US</dc:language>
  <cp:lastModifiedBy>a</cp:lastModifiedBy>
  <dcterms:modified xsi:type="dcterms:W3CDTF">2015-07-25T12:35:53Z</dcterms:modified>
  <cp:revision>35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15</vt:r8>
  </property>
</Properties>
</file>