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8491-D9FE-47DE-89E7-A2A22A53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7BF3-A66B-43B2-8291-DF251E2D8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3923-8E04-4736-94C6-5D6102FF0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E2CE-1FF4-4AEC-95A6-FE1EFAD0C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D207-2EDC-4179-8F96-5F0306A43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1FA9-A1E7-43F8-B22D-20F9D3EC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C23B-D4A7-49AB-8C6C-4DFA6B5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7B5D8-A00E-46CD-A8E8-C2C738A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59E9E-8D59-43B8-9D29-D019A7F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0927C-7F96-4DD0-A65B-EA1A649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C620-35EE-47F6-8FC8-66D250928C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949A2-AEEA-4992-BAED-94CEF08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832BE-AE7E-4715-99A3-801B3A2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587CC-3068-42EA-86BC-AE81DB0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E99DE-5CC7-4F39-A292-ECD539B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5C94-3163-46B0-A0D8-FE0E266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7DC84-BFF1-4023-925A-B283FA04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5BAB2-7558-43BA-95F5-5E3BC0C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C3B44-E03B-4912-8FB1-6E66A43D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D21B0-A956-4A9E-9148-1391FDB1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7A996-9A1C-4945-91DC-D8E310D4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2DF6-6E2D-44CE-A173-3946517751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9301A-6E69-4D23-BD40-861DBBE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308B9-55F2-4D3B-A98B-B9A2E03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081B4-D9A1-4AF4-8155-5D3B582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485AC-304B-4CD4-A627-2606748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188BF-8C80-4912-A8B6-CE379DE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47B287-F6C5-41A1-A024-643DA8E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127D9-B775-4EB1-98F7-C8E9A3F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9FC14-6FBB-4CB0-9C45-49D57B38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2F99C-AC74-4F6D-9942-0B9658A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CA618-7E38-46E9-B31C-5CB0C702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5DC4-BCA7-4618-850D-8FB9D2D930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991DF-1F40-4643-B367-9F92831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B1030-EA9D-4B08-A899-CE449BA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3AA85-3300-4738-AD5C-646AA91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10B0A-1CFA-408C-8393-A4BEA38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34292-7ABE-4A74-A93F-CAAABCB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B46563-8F2A-4DFD-A9A6-7607BBF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EAAB5-21DC-43B3-806D-6E0A85B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8064B-1A66-4BAA-98A7-545E3FF0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43032-94FA-4A2D-90B3-A57E3FD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D93BC-2298-49E5-B614-538FD02B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4533-B4EC-438F-8374-3ADB2B3AC4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E39C0-B926-4725-BF3F-3AADAB21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ECACC-BC52-4933-B67A-08B31666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1E4DB-A41F-45C5-A4F0-186C207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9F9CA-EF1A-49A5-BDBD-7F480AB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AEE3A-B807-4DE6-A87D-551DAD4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63D250-5BC5-4911-AD4E-2C2E37B7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6F880-46D7-4B4F-8457-8F6994C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EF8D2-D94D-4D35-A890-3C734DB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479CE-0C86-492C-9D95-5342338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D7397-05B7-4896-9020-9BE8512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8181-82C4-4EDF-9DF9-4BAE878296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3A537-C28A-4D62-BD92-32800B6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7F6C85-18A1-4279-99E3-CFBB4830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99A31-B625-4D73-8862-E904BF8B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3386-96F1-4DDC-B9D1-FD789101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8C18-F42B-4D5A-8597-A5CE541C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A9E0-9623-4DDB-892E-A7B2E045F21C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42" name="Line 32"/>
          <p:cNvSpPr/>
          <p:nvPr/>
        </p:nvSpPr>
        <p:spPr>
          <a:xfrm>
            <a:off x="2627280" y="5786280"/>
            <a:ext cx="6050160" cy="0"/>
          </a:xfrm>
          <a:prstGeom prst="line">
            <a:avLst/>
          </a:prstGeom>
          <a:ln w="9360">
            <a:solidFill>
              <a:srgbClr val="507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9F3-3BAE-4DD2-AA08-9514F2382C5D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5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6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7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B3ED-A487-4987-A9DE-9852BB2CC5F3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8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9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0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20B-BC09-428B-9DBF-5D03048087EA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40000"/>
              </a:srgbClr>
            </a:outerShdw>
          </a:effectLst>
        </p:spPr>
      </p:pic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3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DC11-2725-4768-8DBB-F883B518F86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椭圆 3"/>
          <p:cNvGrpSpPr/>
          <p:nvPr/>
        </p:nvGrpSpPr>
        <p:grpSpPr>
          <a:xfrm>
            <a:off x="3511440" y="5321160"/>
            <a:ext cx="390600" cy="293760"/>
            <a:chOff x="3511440" y="5321160"/>
            <a:chExt cx="390600" cy="293760"/>
          </a:xfrm>
        </p:grpSpPr>
        <p:pic>
          <p:nvPicPr>
            <p:cNvPr id="254" name="椭圆 3" descr=""/>
            <p:cNvPicPr/>
            <p:nvPr/>
          </p:nvPicPr>
          <p:blipFill>
            <a:blip r:embed="rId1"/>
            <a:stretch/>
          </p:blipFill>
          <p:spPr>
            <a:xfrm>
              <a:off x="3511440" y="5321160"/>
              <a:ext cx="3906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666960" y="535140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6" name="椭圆 4"/>
          <p:cNvGrpSpPr/>
          <p:nvPr/>
        </p:nvGrpSpPr>
        <p:grpSpPr>
          <a:xfrm>
            <a:off x="4059360" y="5321160"/>
            <a:ext cx="390240" cy="293760"/>
            <a:chOff x="4059360" y="5321160"/>
            <a:chExt cx="390240" cy="293760"/>
          </a:xfrm>
        </p:grpSpPr>
        <p:pic>
          <p:nvPicPr>
            <p:cNvPr id="257" name="椭圆 4" descr=""/>
            <p:cNvPicPr/>
            <p:nvPr/>
          </p:nvPicPr>
          <p:blipFill>
            <a:blip r:embed="rId2"/>
            <a:stretch/>
          </p:blipFill>
          <p:spPr>
            <a:xfrm>
              <a:off x="4059360" y="5321160"/>
              <a:ext cx="39024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214880" y="535140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9" name="椭圆 5"/>
          <p:cNvGrpSpPr/>
          <p:nvPr/>
        </p:nvGrpSpPr>
        <p:grpSpPr>
          <a:xfrm>
            <a:off x="4608360" y="5321160"/>
            <a:ext cx="390600" cy="293760"/>
            <a:chOff x="4608360" y="5321160"/>
            <a:chExt cx="390600" cy="293760"/>
          </a:xfrm>
        </p:grpSpPr>
        <p:pic>
          <p:nvPicPr>
            <p:cNvPr id="260" name="椭圆 5" descr=""/>
            <p:cNvPicPr/>
            <p:nvPr/>
          </p:nvPicPr>
          <p:blipFill>
            <a:blip r:embed="rId3"/>
            <a:stretch/>
          </p:blipFill>
          <p:spPr>
            <a:xfrm>
              <a:off x="4608360" y="5321160"/>
              <a:ext cx="3906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764240" y="535140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1960920" y="1700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经典绿色通用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71480" y="50461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071960" y="5796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959aad"/>
              </a:solidFill>
              <a:latin typeface="Verdana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2133720" y="2081160"/>
            <a:ext cx="4724280" cy="685800"/>
            <a:chOff x="2133720" y="2081160"/>
            <a:chExt cx="4724280" cy="685800"/>
          </a:xfrm>
        </p:grpSpPr>
        <p:sp>
          <p:nvSpPr>
            <p:cNvPr id="269" name="AutoShape 5"/>
            <p:cNvSpPr/>
            <p:nvPr/>
          </p:nvSpPr>
          <p:spPr>
            <a:xfrm>
              <a:off x="2514600" y="22003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>
              <a:off x="2133720" y="208116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1" name="Text Box 7"/>
            <p:cNvSpPr/>
            <p:nvPr/>
          </p:nvSpPr>
          <p:spPr>
            <a:xfrm>
              <a:off x="2743200" y="22557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2289600" y="217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2133720" y="2919240"/>
            <a:ext cx="4724280" cy="685800"/>
            <a:chOff x="2133720" y="2919240"/>
            <a:chExt cx="4724280" cy="685800"/>
          </a:xfrm>
        </p:grpSpPr>
        <p:sp>
          <p:nvSpPr>
            <p:cNvPr id="274" name="AutoShape 10"/>
            <p:cNvSpPr/>
            <p:nvPr/>
          </p:nvSpPr>
          <p:spPr>
            <a:xfrm>
              <a:off x="2514600" y="3038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AutoShape 11"/>
            <p:cNvSpPr/>
            <p:nvPr/>
          </p:nvSpPr>
          <p:spPr>
            <a:xfrm>
              <a:off x="2133720" y="291924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2743200" y="30938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2289600" y="3017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8" name="Group 14"/>
          <p:cNvGrpSpPr/>
          <p:nvPr/>
        </p:nvGrpSpPr>
        <p:grpSpPr>
          <a:xfrm>
            <a:off x="2133720" y="3757680"/>
            <a:ext cx="4724280" cy="685800"/>
            <a:chOff x="2133720" y="3757680"/>
            <a:chExt cx="4724280" cy="685800"/>
          </a:xfrm>
        </p:grpSpPr>
        <p:sp>
          <p:nvSpPr>
            <p:cNvPr id="279" name="AutoShape 15"/>
            <p:cNvSpPr/>
            <p:nvPr/>
          </p:nvSpPr>
          <p:spPr>
            <a:xfrm>
              <a:off x="2514600" y="387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d7e9e2"/>
                </a:gs>
                <a:gs pos="100000">
                  <a:srgbClr val="44987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0" name="AutoShape 16"/>
            <p:cNvSpPr/>
            <p:nvPr/>
          </p:nvSpPr>
          <p:spPr>
            <a:xfrm>
              <a:off x="2133720" y="3757680"/>
              <a:ext cx="685800" cy="685800"/>
            </a:xfrm>
            <a:prstGeom prst="diamond">
              <a:avLst/>
            </a:prstGeom>
            <a:solidFill>
              <a:srgbClr val="44987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Text Box 17"/>
            <p:cNvSpPr/>
            <p:nvPr/>
          </p:nvSpPr>
          <p:spPr>
            <a:xfrm>
              <a:off x="2743200" y="393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2" name="Text Box 18"/>
            <p:cNvSpPr/>
            <p:nvPr/>
          </p:nvSpPr>
          <p:spPr>
            <a:xfrm>
              <a:off x="2289600" y="3856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3" name="Group 19"/>
          <p:cNvGrpSpPr/>
          <p:nvPr/>
        </p:nvGrpSpPr>
        <p:grpSpPr>
          <a:xfrm>
            <a:off x="2133720" y="4672080"/>
            <a:ext cx="4724280" cy="685800"/>
            <a:chOff x="2133720" y="4672080"/>
            <a:chExt cx="4724280" cy="685800"/>
          </a:xfrm>
        </p:grpSpPr>
        <p:sp>
          <p:nvSpPr>
            <p:cNvPr id="284" name="AutoShape 20"/>
            <p:cNvSpPr/>
            <p:nvPr/>
          </p:nvSpPr>
          <p:spPr>
            <a:xfrm>
              <a:off x="2514600" y="4791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AutoShape 21"/>
            <p:cNvSpPr/>
            <p:nvPr/>
          </p:nvSpPr>
          <p:spPr>
            <a:xfrm>
              <a:off x="2133720" y="46720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Text Box 22"/>
            <p:cNvSpPr/>
            <p:nvPr/>
          </p:nvSpPr>
          <p:spPr>
            <a:xfrm>
              <a:off x="2743200" y="4846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2289600" y="4770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8" name="矩形 45"/>
          <p:cNvSpPr/>
          <p:nvPr/>
        </p:nvSpPr>
        <p:spPr>
          <a:xfrm>
            <a:off x="0" y="928800"/>
            <a:ext cx="4929120" cy="71280"/>
          </a:xfrm>
          <a:prstGeom prst="rect">
            <a:avLst/>
          </a:prstGeom>
          <a:gradFill rotWithShape="0">
            <a:gsLst>
              <a:gs pos="0">
                <a:srgbClr val="697f86"/>
              </a:gs>
              <a:gs pos="100000">
                <a:srgbClr val="b6db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grpSp>
        <p:nvGrpSpPr>
          <p:cNvPr id="291" name="椭圆 3"/>
          <p:cNvGrpSpPr/>
          <p:nvPr/>
        </p:nvGrpSpPr>
        <p:grpSpPr>
          <a:xfrm>
            <a:off x="8448840" y="5145120"/>
            <a:ext cx="390240" cy="291960"/>
            <a:chOff x="8448840" y="5145120"/>
            <a:chExt cx="390240" cy="291960"/>
          </a:xfrm>
        </p:grpSpPr>
        <p:pic>
          <p:nvPicPr>
            <p:cNvPr id="292" name="椭圆 3" descr=""/>
            <p:cNvPicPr/>
            <p:nvPr/>
          </p:nvPicPr>
          <p:blipFill>
            <a:blip r:embed="rId1"/>
            <a:stretch/>
          </p:blipFill>
          <p:spPr>
            <a:xfrm>
              <a:off x="8448840" y="5145120"/>
              <a:ext cx="3902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604360" y="51753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4" name="椭圆 4"/>
          <p:cNvGrpSpPr/>
          <p:nvPr/>
        </p:nvGrpSpPr>
        <p:grpSpPr>
          <a:xfrm>
            <a:off x="8448840" y="5572080"/>
            <a:ext cx="390240" cy="292320"/>
            <a:chOff x="8448840" y="5572080"/>
            <a:chExt cx="390240" cy="292320"/>
          </a:xfrm>
        </p:grpSpPr>
        <p:pic>
          <p:nvPicPr>
            <p:cNvPr id="295" name="椭圆 4" descr=""/>
            <p:cNvPicPr/>
            <p:nvPr/>
          </p:nvPicPr>
          <p:blipFill>
            <a:blip r:embed="rId2"/>
            <a:stretch/>
          </p:blipFill>
          <p:spPr>
            <a:xfrm>
              <a:off x="8448840" y="5572080"/>
              <a:ext cx="3902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604360" y="560376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7" name="椭圆 5"/>
          <p:cNvGrpSpPr/>
          <p:nvPr/>
        </p:nvGrpSpPr>
        <p:grpSpPr>
          <a:xfrm>
            <a:off x="8442360" y="5999040"/>
            <a:ext cx="396720" cy="298440"/>
            <a:chOff x="8442360" y="5999040"/>
            <a:chExt cx="396720" cy="298440"/>
          </a:xfrm>
        </p:grpSpPr>
        <p:pic>
          <p:nvPicPr>
            <p:cNvPr id="298" name="椭圆 5" descr=""/>
            <p:cNvPicPr/>
            <p:nvPr/>
          </p:nvPicPr>
          <p:blipFill>
            <a:blip r:embed="rId3"/>
            <a:stretch/>
          </p:blipFill>
          <p:spPr>
            <a:xfrm>
              <a:off x="8442360" y="5999040"/>
              <a:ext cx="3967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604360" y="6032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01" name="Group 24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302" name="Group 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303" name="AutoShape 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04" name="Group 5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305" name="AutoShape 6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f608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7"/>
                <p:cNvSpPr/>
                <p:nvPr/>
              </p:nvSpPr>
              <p:spPr>
                <a:xfrm>
                  <a:off x="1869840" y="1702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bfe3"/>
                    </a:gs>
                    <a:gs pos="50000">
                      <a:srgbClr val="438acb">
                        <a:alpha val="0"/>
                      </a:srgbClr>
                    </a:gs>
                    <a:gs pos="100000">
                      <a:srgbClr val="99bfe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7" name="Text Box 8"/>
                <p:cNvSpPr/>
                <p:nvPr/>
              </p:nvSpPr>
              <p:spPr>
                <a:xfrm>
                  <a:off x="191772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9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0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310" name="AutoShape 11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11" name="Group 12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312" name="AutoShape 13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49d"/>
                    </a:gs>
                    <a:gs pos="100000">
                      <a:srgbClr val="44987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4"/>
                <p:cNvSpPr/>
                <p:nvPr/>
              </p:nvSpPr>
              <p:spPr>
                <a:xfrm>
                  <a:off x="1869840" y="317448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0d3c6"/>
                    </a:gs>
                    <a:gs pos="100000">
                      <a:srgbClr val="44987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14" name="Text Box 15"/>
                <p:cNvSpPr/>
                <p:nvPr/>
              </p:nvSpPr>
              <p:spPr>
                <a:xfrm>
                  <a:off x="1917720" y="33894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16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317" name="AutoShape 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18" name="Group 19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319" name="AutoShape 20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8c8cd"/>
                    </a:gs>
                    <a:gs pos="100000">
                      <a:srgbClr val="90a8b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1"/>
                <p:cNvSpPr/>
                <p:nvPr/>
              </p:nvSpPr>
              <p:spPr>
                <a:xfrm>
                  <a:off x="1869840" y="4645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9d5d9"/>
                    </a:gs>
                    <a:gs pos="100000">
                      <a:srgbClr val="90a8b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2"/>
                <p:cNvSpPr/>
                <p:nvPr/>
              </p:nvSpPr>
              <p:spPr>
                <a:xfrm>
                  <a:off x="191772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23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24" name="Group 32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325" name="AutoShape 3"/>
            <p:cNvSpPr/>
            <p:nvPr/>
          </p:nvSpPr>
          <p:spPr>
            <a:xfrm>
              <a:off x="2129400" y="2441880"/>
              <a:ext cx="5072760" cy="24750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6" name="AutoShape 4"/>
            <p:cNvSpPr/>
            <p:nvPr/>
          </p:nvSpPr>
          <p:spPr>
            <a:xfrm>
              <a:off x="1918440" y="1752480"/>
              <a:ext cx="53146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87bda8"/>
                </a:gs>
                <a:gs pos="100000">
                  <a:srgbClr val="44987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Text Box 5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8" name="Group 6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329" name="Group 7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330" name="Group 8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331" name="Oval 9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10"/>
                  <p:cNvSpPr/>
                  <p:nvPr/>
                </p:nvSpPr>
                <p:spPr>
                  <a:xfrm>
                    <a:off x="1375200" y="4161600"/>
                    <a:ext cx="1051560" cy="514440"/>
                  </a:xfrm>
                  <a:custGeom>
                    <a:avLst/>
                    <a:gdLst>
                      <a:gd name="textAreaLeft" fmla="*/ 0 w 1051560"/>
                      <a:gd name="textAreaRight" fmla="*/ 1051920 w 1051560"/>
                      <a:gd name="textAreaTop" fmla="*/ 0 h 514440"/>
                      <a:gd name="textAreaBottom" fmla="*/ 514800 h 5144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Text Box 11"/>
                <p:cNvSpPr/>
                <p:nvPr/>
              </p:nvSpPr>
              <p:spPr>
                <a:xfrm>
                  <a:off x="1317240" y="48268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12"/>
              <p:cNvSpPr/>
              <p:nvPr/>
            </p:nvSpPr>
            <p:spPr>
              <a:xfrm>
                <a:off x="1359000" y="5577840"/>
                <a:ext cx="110844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336" name="Group 14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337" name="Group 15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338" name="Oval 16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7"/>
                  <p:cNvSpPr/>
                  <p:nvPr/>
                </p:nvSpPr>
                <p:spPr>
                  <a:xfrm>
                    <a:off x="6762240" y="4115160"/>
                    <a:ext cx="1078560" cy="519480"/>
                  </a:xfrm>
                  <a:custGeom>
                    <a:avLst/>
                    <a:gdLst>
                      <a:gd name="textAreaLeft" fmla="*/ 0 w 1078560"/>
                      <a:gd name="textAreaRight" fmla="*/ 1078920 w 1078560"/>
                      <a:gd name="textAreaTop" fmla="*/ 0 h 519480"/>
                      <a:gd name="textAreaBottom" fmla="*/ 519840 h 5194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Text Box 18"/>
                <p:cNvSpPr/>
                <p:nvPr/>
              </p:nvSpPr>
              <p:spPr>
                <a:xfrm>
                  <a:off x="6682320" y="473724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Oval 19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0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343" name="Group 21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344" name="Oval 22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3"/>
                <p:cNvSpPr/>
                <p:nvPr/>
              </p:nvSpPr>
              <p:spPr>
                <a:xfrm>
                  <a:off x="3127680" y="4159080"/>
                  <a:ext cx="107748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4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7" name="Oval 25"/>
              <p:cNvSpPr/>
              <p:nvPr/>
            </p:nvSpPr>
            <p:spPr>
              <a:xfrm>
                <a:off x="2967120" y="5577840"/>
                <a:ext cx="133632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6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349" name="Group 27"/>
              <p:cNvGrpSpPr/>
              <p:nvPr/>
            </p:nvGrpSpPr>
            <p:grpSpPr>
              <a:xfrm>
                <a:off x="4854600" y="4092480"/>
                <a:ext cx="1397880" cy="1368000"/>
                <a:chOff x="4854600" y="4092480"/>
                <a:chExt cx="1397880" cy="1368000"/>
              </a:xfrm>
            </p:grpSpPr>
            <p:sp>
              <p:nvSpPr>
                <p:cNvPr id="350" name="Oval 28"/>
                <p:cNvSpPr/>
                <p:nvPr/>
              </p:nvSpPr>
              <p:spPr>
                <a:xfrm>
                  <a:off x="4854600" y="4092480"/>
                  <a:ext cx="1397880" cy="136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24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9"/>
                <p:cNvSpPr/>
                <p:nvPr/>
              </p:nvSpPr>
              <p:spPr>
                <a:xfrm>
                  <a:off x="5014440" y="4114080"/>
                  <a:ext cx="1077480" cy="514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 Box 30"/>
              <p:cNvSpPr/>
              <p:nvPr/>
            </p:nvSpPr>
            <p:spPr>
              <a:xfrm>
                <a:off x="4924440" y="47520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3" name="Oval 31"/>
              <p:cNvSpPr/>
              <p:nvPr/>
            </p:nvSpPr>
            <p:spPr>
              <a:xfrm>
                <a:off x="4854600" y="5536440"/>
                <a:ext cx="1336320" cy="4424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矩形 1" descr=""/>
          <p:cNvPicPr/>
          <p:nvPr/>
        </p:nvPicPr>
        <p:blipFill>
          <a:blip r:embed="rId1"/>
          <a:stretch/>
        </p:blipFill>
        <p:spPr>
          <a:xfrm>
            <a:off x="4932360" y="2646360"/>
            <a:ext cx="3247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符号</dc:creator>
  <dc:description/>
  <dc:language>en-US</dc:language>
  <cp:lastModifiedBy>王玉清</cp:lastModifiedBy>
  <dcterms:modified xsi:type="dcterms:W3CDTF">2016-02-21T04:50:18Z</dcterms:modified>
  <cp:revision>17</cp:revision>
  <dc:subject/>
  <dc:title>10月工作总结</dc:title>
</cp:coreProperties>
</file>