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0f2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"/>
          <p:cNvGrpSpPr/>
          <p:nvPr/>
        </p:nvGrpSpPr>
        <p:grpSpPr>
          <a:xfrm>
            <a:off x="0" y="790560"/>
            <a:ext cx="9144000" cy="5143680"/>
            <a:chOff x="0" y="790560"/>
            <a:chExt cx="9144000" cy="5143680"/>
          </a:xfrm>
        </p:grpSpPr>
        <p:grpSp>
          <p:nvGrpSpPr>
            <p:cNvPr id="75" name="Rectangle 11"/>
            <p:cNvGrpSpPr/>
            <p:nvPr/>
          </p:nvGrpSpPr>
          <p:grpSpPr>
            <a:xfrm>
              <a:off x="0" y="790560"/>
              <a:ext cx="9144000" cy="3575520"/>
              <a:chOff x="0" y="790560"/>
              <a:chExt cx="9144000" cy="3575520"/>
            </a:xfrm>
          </p:grpSpPr>
          <p:pic>
            <p:nvPicPr>
              <p:cNvPr id="76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92360"/>
                <a:ext cx="9144000" cy="357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0" y="790560"/>
                <a:ext cx="9144000" cy="357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Rectangle 12"/>
            <p:cNvGrpSpPr/>
            <p:nvPr/>
          </p:nvGrpSpPr>
          <p:grpSpPr>
            <a:xfrm>
              <a:off x="0" y="4366080"/>
              <a:ext cx="9144000" cy="1568160"/>
              <a:chOff x="0" y="4366080"/>
              <a:chExt cx="9144000" cy="1568160"/>
            </a:xfrm>
          </p:grpSpPr>
          <p:pic>
            <p:nvPicPr>
              <p:cNvPr id="79" name="Rectangl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368240"/>
                <a:ext cx="9144000" cy="15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0" y="4366080"/>
                <a:ext cx="9144000" cy="15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5480" y="255240"/>
            <a:ext cx="8017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0f2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60e18"/>
              </a:gs>
              <a:gs pos="50000">
                <a:srgbClr val="1f497d"/>
              </a:gs>
              <a:gs pos="100000">
                <a:srgbClr val="060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-58680"/>
            <a:ext cx="9144000" cy="5143320"/>
            <a:chOff x="0" y="-58680"/>
            <a:chExt cx="9144000" cy="5143320"/>
          </a:xfrm>
        </p:grpSpPr>
        <p:grpSp>
          <p:nvGrpSpPr>
            <p:cNvPr id="157" name="Rectangle 3"/>
            <p:cNvGrpSpPr/>
            <p:nvPr/>
          </p:nvGrpSpPr>
          <p:grpSpPr>
            <a:xfrm>
              <a:off x="0" y="-58680"/>
              <a:ext cx="9144000" cy="3571560"/>
              <a:chOff x="0" y="-58680"/>
              <a:chExt cx="9144000" cy="3571560"/>
            </a:xfrm>
          </p:grpSpPr>
          <p:pic>
            <p:nvPicPr>
              <p:cNvPr id="158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58680"/>
                <a:ext cx="9144000" cy="356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0" y="-56160"/>
                <a:ext cx="9144000" cy="35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0" name="Rectangle 4"/>
            <p:cNvGrpSpPr/>
            <p:nvPr/>
          </p:nvGrpSpPr>
          <p:grpSpPr>
            <a:xfrm>
              <a:off x="0" y="3512520"/>
              <a:ext cx="9144000" cy="1572120"/>
              <a:chOff x="0" y="3512520"/>
              <a:chExt cx="9144000" cy="1572120"/>
            </a:xfrm>
          </p:grpSpPr>
          <p:pic>
            <p:nvPicPr>
              <p:cNvPr id="161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512520"/>
                <a:ext cx="9144000" cy="15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0" y="3514320"/>
                <a:ext cx="9144000" cy="157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5480" y="255240"/>
            <a:ext cx="8017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8"/>
          <p:cNvSpPr/>
          <p:nvPr/>
        </p:nvSpPr>
        <p:spPr>
          <a:xfrm>
            <a:off x="1555920" y="423864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    </a:t>
            </a:r>
            <a:r>
              <a:rPr b="0" lang="en-US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0" y="1500120"/>
            <a:ext cx="9144000" cy="3810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e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3" descr="franja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franja"/>
          <p:cNvPicPr/>
          <p:nvPr/>
        </p:nvPicPr>
        <p:blipFill>
          <a:blip r:embed="rId2"/>
          <a:stretch/>
        </p:blipFill>
        <p:spPr>
          <a:xfrm>
            <a:off x="0" y="525780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0"/>
          <p:cNvSpPr/>
          <p:nvPr/>
        </p:nvSpPr>
        <p:spPr>
          <a:xfrm>
            <a:off x="831960" y="2108160"/>
            <a:ext cx="83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商务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153"/>
          <p:cNvSpPr/>
          <p:nvPr/>
        </p:nvSpPr>
        <p:spPr>
          <a:xfrm>
            <a:off x="0" y="0"/>
            <a:ext cx="9150480" cy="68626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6862680"/>
              <a:gd name="textAreaBottom" fmla="*/ 6863040 h 6862680"/>
            </a:gdLst>
            <a:ahLst/>
            <a:rect l="textAreaLeft" t="textAreaTop" r="textAreaRight" b="textAreaBottom"/>
            <a:pathLst>
              <a:path w="5764" h="4323">
                <a:moveTo>
                  <a:pt x="0" y="4306"/>
                </a:moveTo>
                <a:lnTo>
                  <a:pt x="721" y="4306"/>
                </a:lnTo>
                <a:lnTo>
                  <a:pt x="1441" y="4306"/>
                </a:lnTo>
                <a:lnTo>
                  <a:pt x="2162" y="4306"/>
                </a:lnTo>
                <a:lnTo>
                  <a:pt x="2882" y="4306"/>
                </a:lnTo>
                <a:lnTo>
                  <a:pt x="3603" y="4306"/>
                </a:lnTo>
                <a:lnTo>
                  <a:pt x="4323" y="4306"/>
                </a:lnTo>
                <a:lnTo>
                  <a:pt x="5044" y="4306"/>
                </a:lnTo>
                <a:lnTo>
                  <a:pt x="5764" y="4306"/>
                </a:lnTo>
                <a:lnTo>
                  <a:pt x="5764" y="4323"/>
                </a:lnTo>
                <a:lnTo>
                  <a:pt x="5044" y="4323"/>
                </a:lnTo>
                <a:lnTo>
                  <a:pt x="4323" y="4323"/>
                </a:lnTo>
                <a:lnTo>
                  <a:pt x="3603" y="4323"/>
                </a:lnTo>
                <a:lnTo>
                  <a:pt x="2882" y="4323"/>
                </a:lnTo>
                <a:lnTo>
                  <a:pt x="2162" y="4323"/>
                </a:lnTo>
                <a:lnTo>
                  <a:pt x="1441" y="4323"/>
                </a:lnTo>
                <a:lnTo>
                  <a:pt x="721" y="4323"/>
                </a:lnTo>
                <a:lnTo>
                  <a:pt x="0" y="4323"/>
                </a:lnTo>
                <a:lnTo>
                  <a:pt x="0" y="4306"/>
                </a:lnTo>
                <a:close/>
                <a:moveTo>
                  <a:pt x="0" y="4290"/>
                </a:moveTo>
                <a:lnTo>
                  <a:pt x="0" y="4273"/>
                </a:lnTo>
                <a:lnTo>
                  <a:pt x="721" y="4273"/>
                </a:lnTo>
                <a:lnTo>
                  <a:pt x="1441" y="4273"/>
                </a:lnTo>
                <a:lnTo>
                  <a:pt x="2162" y="4273"/>
                </a:lnTo>
                <a:lnTo>
                  <a:pt x="2882" y="4273"/>
                </a:lnTo>
                <a:lnTo>
                  <a:pt x="3603" y="4273"/>
                </a:lnTo>
                <a:lnTo>
                  <a:pt x="4323" y="4273"/>
                </a:lnTo>
                <a:lnTo>
                  <a:pt x="5044" y="4273"/>
                </a:lnTo>
                <a:lnTo>
                  <a:pt x="5764" y="4273"/>
                </a:lnTo>
                <a:lnTo>
                  <a:pt x="5764" y="4290"/>
                </a:lnTo>
                <a:lnTo>
                  <a:pt x="5044" y="4290"/>
                </a:lnTo>
                <a:lnTo>
                  <a:pt x="4323" y="4290"/>
                </a:lnTo>
                <a:lnTo>
                  <a:pt x="3603" y="4290"/>
                </a:lnTo>
                <a:lnTo>
                  <a:pt x="2882" y="4290"/>
                </a:lnTo>
                <a:lnTo>
                  <a:pt x="2162" y="4290"/>
                </a:lnTo>
                <a:lnTo>
                  <a:pt x="1441" y="4290"/>
                </a:lnTo>
                <a:lnTo>
                  <a:pt x="721" y="4290"/>
                </a:lnTo>
                <a:lnTo>
                  <a:pt x="0" y="4290"/>
                </a:lnTo>
                <a:close/>
                <a:moveTo>
                  <a:pt x="0" y="4257"/>
                </a:moveTo>
                <a:lnTo>
                  <a:pt x="0" y="4240"/>
                </a:lnTo>
                <a:lnTo>
                  <a:pt x="721" y="4240"/>
                </a:lnTo>
                <a:lnTo>
                  <a:pt x="1441" y="4240"/>
                </a:lnTo>
                <a:lnTo>
                  <a:pt x="2162" y="4240"/>
                </a:lnTo>
                <a:lnTo>
                  <a:pt x="2882" y="4240"/>
                </a:lnTo>
                <a:lnTo>
                  <a:pt x="3603" y="4240"/>
                </a:lnTo>
                <a:lnTo>
                  <a:pt x="4323" y="4240"/>
                </a:lnTo>
                <a:lnTo>
                  <a:pt x="5044" y="4240"/>
                </a:lnTo>
                <a:lnTo>
                  <a:pt x="5764" y="4240"/>
                </a:lnTo>
                <a:lnTo>
                  <a:pt x="5764" y="4257"/>
                </a:lnTo>
                <a:lnTo>
                  <a:pt x="5044" y="4257"/>
                </a:lnTo>
                <a:lnTo>
                  <a:pt x="4323" y="4257"/>
                </a:lnTo>
                <a:lnTo>
                  <a:pt x="3603" y="4257"/>
                </a:lnTo>
                <a:lnTo>
                  <a:pt x="2882" y="4257"/>
                </a:lnTo>
                <a:lnTo>
                  <a:pt x="2162" y="4257"/>
                </a:lnTo>
                <a:lnTo>
                  <a:pt x="1441" y="4257"/>
                </a:lnTo>
                <a:lnTo>
                  <a:pt x="721" y="4257"/>
                </a:lnTo>
                <a:lnTo>
                  <a:pt x="0" y="4257"/>
                </a:lnTo>
                <a:close/>
                <a:moveTo>
                  <a:pt x="0" y="4224"/>
                </a:moveTo>
                <a:lnTo>
                  <a:pt x="0" y="4208"/>
                </a:lnTo>
                <a:lnTo>
                  <a:pt x="721" y="4208"/>
                </a:lnTo>
                <a:lnTo>
                  <a:pt x="1441" y="4208"/>
                </a:lnTo>
                <a:lnTo>
                  <a:pt x="2162" y="4208"/>
                </a:lnTo>
                <a:lnTo>
                  <a:pt x="2882" y="4208"/>
                </a:lnTo>
                <a:lnTo>
                  <a:pt x="3603" y="4208"/>
                </a:lnTo>
                <a:lnTo>
                  <a:pt x="4323" y="4208"/>
                </a:lnTo>
                <a:lnTo>
                  <a:pt x="5044" y="4208"/>
                </a:lnTo>
                <a:lnTo>
                  <a:pt x="5764" y="4208"/>
                </a:lnTo>
                <a:lnTo>
                  <a:pt x="5764" y="4224"/>
                </a:lnTo>
                <a:lnTo>
                  <a:pt x="5044" y="4224"/>
                </a:lnTo>
                <a:lnTo>
                  <a:pt x="4323" y="4224"/>
                </a:lnTo>
                <a:lnTo>
                  <a:pt x="3603" y="4224"/>
                </a:lnTo>
                <a:lnTo>
                  <a:pt x="2882" y="4224"/>
                </a:lnTo>
                <a:lnTo>
                  <a:pt x="2162" y="4224"/>
                </a:lnTo>
                <a:lnTo>
                  <a:pt x="1441" y="4224"/>
                </a:lnTo>
                <a:lnTo>
                  <a:pt x="721" y="4224"/>
                </a:lnTo>
                <a:lnTo>
                  <a:pt x="0" y="4224"/>
                </a:lnTo>
                <a:close/>
                <a:moveTo>
                  <a:pt x="0" y="4192"/>
                </a:moveTo>
                <a:lnTo>
                  <a:pt x="0" y="4175"/>
                </a:lnTo>
                <a:lnTo>
                  <a:pt x="721" y="4175"/>
                </a:lnTo>
                <a:lnTo>
                  <a:pt x="1441" y="4175"/>
                </a:lnTo>
                <a:lnTo>
                  <a:pt x="2162" y="4175"/>
                </a:lnTo>
                <a:lnTo>
                  <a:pt x="2882" y="4175"/>
                </a:lnTo>
                <a:lnTo>
                  <a:pt x="3603" y="4175"/>
                </a:lnTo>
                <a:lnTo>
                  <a:pt x="4323" y="4175"/>
                </a:lnTo>
                <a:lnTo>
                  <a:pt x="5044" y="4175"/>
                </a:lnTo>
                <a:lnTo>
                  <a:pt x="5764" y="4175"/>
                </a:lnTo>
                <a:lnTo>
                  <a:pt x="5764" y="4192"/>
                </a:lnTo>
                <a:lnTo>
                  <a:pt x="5044" y="4192"/>
                </a:lnTo>
                <a:lnTo>
                  <a:pt x="4323" y="4192"/>
                </a:lnTo>
                <a:lnTo>
                  <a:pt x="3603" y="4192"/>
                </a:lnTo>
                <a:lnTo>
                  <a:pt x="2882" y="4192"/>
                </a:lnTo>
                <a:lnTo>
                  <a:pt x="2162" y="4192"/>
                </a:lnTo>
                <a:lnTo>
                  <a:pt x="1441" y="4192"/>
                </a:lnTo>
                <a:lnTo>
                  <a:pt x="721" y="4192"/>
                </a:lnTo>
                <a:lnTo>
                  <a:pt x="0" y="4192"/>
                </a:lnTo>
                <a:close/>
                <a:moveTo>
                  <a:pt x="0" y="4159"/>
                </a:moveTo>
                <a:lnTo>
                  <a:pt x="0" y="4142"/>
                </a:lnTo>
                <a:lnTo>
                  <a:pt x="721" y="4142"/>
                </a:lnTo>
                <a:lnTo>
                  <a:pt x="1441" y="4142"/>
                </a:lnTo>
                <a:lnTo>
                  <a:pt x="2162" y="4142"/>
                </a:lnTo>
                <a:lnTo>
                  <a:pt x="2882" y="4142"/>
                </a:lnTo>
                <a:lnTo>
                  <a:pt x="3603" y="4142"/>
                </a:lnTo>
                <a:lnTo>
                  <a:pt x="4323" y="4142"/>
                </a:lnTo>
                <a:lnTo>
                  <a:pt x="5044" y="4142"/>
                </a:lnTo>
                <a:lnTo>
                  <a:pt x="5764" y="4142"/>
                </a:lnTo>
                <a:lnTo>
                  <a:pt x="5764" y="4159"/>
                </a:lnTo>
                <a:lnTo>
                  <a:pt x="5044" y="4159"/>
                </a:lnTo>
                <a:lnTo>
                  <a:pt x="4323" y="4159"/>
                </a:lnTo>
                <a:lnTo>
                  <a:pt x="3603" y="4159"/>
                </a:lnTo>
                <a:lnTo>
                  <a:pt x="2882" y="4159"/>
                </a:lnTo>
                <a:lnTo>
                  <a:pt x="2162" y="4159"/>
                </a:lnTo>
                <a:lnTo>
                  <a:pt x="1441" y="4159"/>
                </a:lnTo>
                <a:lnTo>
                  <a:pt x="721" y="4159"/>
                </a:lnTo>
                <a:lnTo>
                  <a:pt x="0" y="4159"/>
                </a:lnTo>
                <a:close/>
                <a:moveTo>
                  <a:pt x="0" y="4126"/>
                </a:moveTo>
                <a:lnTo>
                  <a:pt x="0" y="4109"/>
                </a:lnTo>
                <a:lnTo>
                  <a:pt x="721" y="4109"/>
                </a:lnTo>
                <a:lnTo>
                  <a:pt x="1441" y="4109"/>
                </a:lnTo>
                <a:lnTo>
                  <a:pt x="2162" y="4109"/>
                </a:lnTo>
                <a:lnTo>
                  <a:pt x="2882" y="4109"/>
                </a:lnTo>
                <a:lnTo>
                  <a:pt x="3603" y="4109"/>
                </a:lnTo>
                <a:lnTo>
                  <a:pt x="4323" y="4109"/>
                </a:lnTo>
                <a:lnTo>
                  <a:pt x="5044" y="4109"/>
                </a:lnTo>
                <a:lnTo>
                  <a:pt x="5764" y="4109"/>
                </a:lnTo>
                <a:lnTo>
                  <a:pt x="5764" y="4126"/>
                </a:lnTo>
                <a:lnTo>
                  <a:pt x="5044" y="4126"/>
                </a:lnTo>
                <a:lnTo>
                  <a:pt x="4323" y="4126"/>
                </a:lnTo>
                <a:lnTo>
                  <a:pt x="3603" y="4126"/>
                </a:lnTo>
                <a:lnTo>
                  <a:pt x="2882" y="4126"/>
                </a:lnTo>
                <a:lnTo>
                  <a:pt x="2162" y="4126"/>
                </a:lnTo>
                <a:lnTo>
                  <a:pt x="1441" y="4126"/>
                </a:lnTo>
                <a:lnTo>
                  <a:pt x="721" y="4126"/>
                </a:lnTo>
                <a:lnTo>
                  <a:pt x="0" y="4126"/>
                </a:lnTo>
                <a:close/>
                <a:moveTo>
                  <a:pt x="0" y="4093"/>
                </a:moveTo>
                <a:lnTo>
                  <a:pt x="0" y="4076"/>
                </a:lnTo>
                <a:lnTo>
                  <a:pt x="721" y="4076"/>
                </a:lnTo>
                <a:lnTo>
                  <a:pt x="1441" y="4076"/>
                </a:lnTo>
                <a:lnTo>
                  <a:pt x="2162" y="4076"/>
                </a:lnTo>
                <a:lnTo>
                  <a:pt x="2882" y="4076"/>
                </a:lnTo>
                <a:lnTo>
                  <a:pt x="3603" y="4076"/>
                </a:lnTo>
                <a:lnTo>
                  <a:pt x="4323" y="4076"/>
                </a:lnTo>
                <a:lnTo>
                  <a:pt x="5044" y="4076"/>
                </a:lnTo>
                <a:lnTo>
                  <a:pt x="5764" y="4076"/>
                </a:lnTo>
                <a:lnTo>
                  <a:pt x="5764" y="4093"/>
                </a:lnTo>
                <a:lnTo>
                  <a:pt x="5044" y="4093"/>
                </a:lnTo>
                <a:lnTo>
                  <a:pt x="4323" y="4093"/>
                </a:lnTo>
                <a:lnTo>
                  <a:pt x="3603" y="4093"/>
                </a:lnTo>
                <a:lnTo>
                  <a:pt x="2882" y="4093"/>
                </a:lnTo>
                <a:lnTo>
                  <a:pt x="2162" y="4093"/>
                </a:lnTo>
                <a:lnTo>
                  <a:pt x="1441" y="4093"/>
                </a:lnTo>
                <a:lnTo>
                  <a:pt x="721" y="4093"/>
                </a:lnTo>
                <a:lnTo>
                  <a:pt x="0" y="4093"/>
                </a:lnTo>
                <a:close/>
                <a:moveTo>
                  <a:pt x="0" y="4060"/>
                </a:moveTo>
                <a:lnTo>
                  <a:pt x="0" y="4043"/>
                </a:lnTo>
                <a:lnTo>
                  <a:pt x="721" y="4043"/>
                </a:lnTo>
                <a:lnTo>
                  <a:pt x="1441" y="4043"/>
                </a:lnTo>
                <a:lnTo>
                  <a:pt x="2162" y="4043"/>
                </a:lnTo>
                <a:lnTo>
                  <a:pt x="2882" y="4043"/>
                </a:lnTo>
                <a:lnTo>
                  <a:pt x="3603" y="4043"/>
                </a:lnTo>
                <a:lnTo>
                  <a:pt x="4323" y="4043"/>
                </a:lnTo>
                <a:lnTo>
                  <a:pt x="5044" y="4043"/>
                </a:lnTo>
                <a:lnTo>
                  <a:pt x="5764" y="4043"/>
                </a:lnTo>
                <a:lnTo>
                  <a:pt x="5764" y="4060"/>
                </a:lnTo>
                <a:lnTo>
                  <a:pt x="5044" y="4060"/>
                </a:lnTo>
                <a:lnTo>
                  <a:pt x="4323" y="4060"/>
                </a:lnTo>
                <a:lnTo>
                  <a:pt x="3603" y="4060"/>
                </a:lnTo>
                <a:lnTo>
                  <a:pt x="2882" y="4060"/>
                </a:lnTo>
                <a:lnTo>
                  <a:pt x="2162" y="4060"/>
                </a:lnTo>
                <a:lnTo>
                  <a:pt x="1441" y="4060"/>
                </a:lnTo>
                <a:lnTo>
                  <a:pt x="721" y="4060"/>
                </a:lnTo>
                <a:lnTo>
                  <a:pt x="0" y="4060"/>
                </a:lnTo>
                <a:close/>
                <a:moveTo>
                  <a:pt x="0" y="4027"/>
                </a:moveTo>
                <a:lnTo>
                  <a:pt x="0" y="4011"/>
                </a:lnTo>
                <a:lnTo>
                  <a:pt x="721" y="4011"/>
                </a:lnTo>
                <a:lnTo>
                  <a:pt x="1441" y="4011"/>
                </a:lnTo>
                <a:lnTo>
                  <a:pt x="2162" y="4011"/>
                </a:lnTo>
                <a:lnTo>
                  <a:pt x="2882" y="4011"/>
                </a:lnTo>
                <a:lnTo>
                  <a:pt x="3603" y="4011"/>
                </a:lnTo>
                <a:lnTo>
                  <a:pt x="4323" y="4011"/>
                </a:lnTo>
                <a:lnTo>
                  <a:pt x="5044" y="4011"/>
                </a:lnTo>
                <a:lnTo>
                  <a:pt x="5764" y="4011"/>
                </a:lnTo>
                <a:lnTo>
                  <a:pt x="5764" y="4027"/>
                </a:lnTo>
                <a:lnTo>
                  <a:pt x="5044" y="4027"/>
                </a:lnTo>
                <a:lnTo>
                  <a:pt x="4323" y="4027"/>
                </a:lnTo>
                <a:lnTo>
                  <a:pt x="3603" y="4027"/>
                </a:lnTo>
                <a:lnTo>
                  <a:pt x="2882" y="4027"/>
                </a:lnTo>
                <a:lnTo>
                  <a:pt x="2162" y="4027"/>
                </a:lnTo>
                <a:lnTo>
                  <a:pt x="1441" y="4027"/>
                </a:lnTo>
                <a:lnTo>
                  <a:pt x="721" y="4027"/>
                </a:lnTo>
                <a:lnTo>
                  <a:pt x="0" y="4027"/>
                </a:lnTo>
                <a:close/>
                <a:moveTo>
                  <a:pt x="0" y="3994"/>
                </a:moveTo>
                <a:lnTo>
                  <a:pt x="0" y="3978"/>
                </a:lnTo>
                <a:lnTo>
                  <a:pt x="721" y="3978"/>
                </a:lnTo>
                <a:lnTo>
                  <a:pt x="1441" y="3978"/>
                </a:lnTo>
                <a:lnTo>
                  <a:pt x="2162" y="3978"/>
                </a:lnTo>
                <a:lnTo>
                  <a:pt x="2882" y="3978"/>
                </a:lnTo>
                <a:lnTo>
                  <a:pt x="3603" y="3978"/>
                </a:lnTo>
                <a:lnTo>
                  <a:pt x="4323" y="3978"/>
                </a:lnTo>
                <a:lnTo>
                  <a:pt x="5044" y="3978"/>
                </a:lnTo>
                <a:lnTo>
                  <a:pt x="5764" y="3978"/>
                </a:lnTo>
                <a:lnTo>
                  <a:pt x="5764" y="3994"/>
                </a:lnTo>
                <a:lnTo>
                  <a:pt x="5044" y="3994"/>
                </a:lnTo>
                <a:lnTo>
                  <a:pt x="4323" y="3994"/>
                </a:lnTo>
                <a:lnTo>
                  <a:pt x="3603" y="3994"/>
                </a:lnTo>
                <a:lnTo>
                  <a:pt x="2882" y="3994"/>
                </a:lnTo>
                <a:lnTo>
                  <a:pt x="2162" y="3994"/>
                </a:lnTo>
                <a:lnTo>
                  <a:pt x="1441" y="3994"/>
                </a:lnTo>
                <a:lnTo>
                  <a:pt x="721" y="3994"/>
                </a:lnTo>
                <a:lnTo>
                  <a:pt x="0" y="3994"/>
                </a:lnTo>
                <a:close/>
                <a:moveTo>
                  <a:pt x="0" y="3962"/>
                </a:moveTo>
                <a:lnTo>
                  <a:pt x="0" y="3945"/>
                </a:lnTo>
                <a:lnTo>
                  <a:pt x="721" y="3945"/>
                </a:lnTo>
                <a:lnTo>
                  <a:pt x="1441" y="3945"/>
                </a:lnTo>
                <a:lnTo>
                  <a:pt x="2162" y="3945"/>
                </a:lnTo>
                <a:lnTo>
                  <a:pt x="2882" y="3945"/>
                </a:lnTo>
                <a:lnTo>
                  <a:pt x="3603" y="3945"/>
                </a:lnTo>
                <a:lnTo>
                  <a:pt x="4323" y="3945"/>
                </a:lnTo>
                <a:lnTo>
                  <a:pt x="5044" y="3945"/>
                </a:lnTo>
                <a:lnTo>
                  <a:pt x="5764" y="3945"/>
                </a:lnTo>
                <a:lnTo>
                  <a:pt x="5764" y="3962"/>
                </a:lnTo>
                <a:lnTo>
                  <a:pt x="5044" y="3962"/>
                </a:lnTo>
                <a:lnTo>
                  <a:pt x="4323" y="3962"/>
                </a:lnTo>
                <a:lnTo>
                  <a:pt x="3603" y="3962"/>
                </a:lnTo>
                <a:lnTo>
                  <a:pt x="2882" y="3962"/>
                </a:lnTo>
                <a:lnTo>
                  <a:pt x="2162" y="3962"/>
                </a:lnTo>
                <a:lnTo>
                  <a:pt x="1441" y="3962"/>
                </a:lnTo>
                <a:lnTo>
                  <a:pt x="721" y="3962"/>
                </a:lnTo>
                <a:lnTo>
                  <a:pt x="0" y="3962"/>
                </a:lnTo>
                <a:close/>
                <a:moveTo>
                  <a:pt x="0" y="3929"/>
                </a:moveTo>
                <a:lnTo>
                  <a:pt x="0" y="3912"/>
                </a:lnTo>
                <a:lnTo>
                  <a:pt x="721" y="3912"/>
                </a:lnTo>
                <a:lnTo>
                  <a:pt x="1441" y="3912"/>
                </a:lnTo>
                <a:lnTo>
                  <a:pt x="2162" y="3912"/>
                </a:lnTo>
                <a:lnTo>
                  <a:pt x="2882" y="3912"/>
                </a:lnTo>
                <a:lnTo>
                  <a:pt x="3603" y="3912"/>
                </a:lnTo>
                <a:lnTo>
                  <a:pt x="4323" y="3912"/>
                </a:lnTo>
                <a:lnTo>
                  <a:pt x="5044" y="3912"/>
                </a:lnTo>
                <a:lnTo>
                  <a:pt x="5764" y="3912"/>
                </a:lnTo>
                <a:lnTo>
                  <a:pt x="5764" y="3929"/>
                </a:lnTo>
                <a:lnTo>
                  <a:pt x="5044" y="3929"/>
                </a:lnTo>
                <a:lnTo>
                  <a:pt x="4323" y="3929"/>
                </a:lnTo>
                <a:lnTo>
                  <a:pt x="3603" y="3929"/>
                </a:lnTo>
                <a:lnTo>
                  <a:pt x="2882" y="3929"/>
                </a:lnTo>
                <a:lnTo>
                  <a:pt x="2162" y="3929"/>
                </a:lnTo>
                <a:lnTo>
                  <a:pt x="1441" y="3929"/>
                </a:lnTo>
                <a:lnTo>
                  <a:pt x="721" y="3929"/>
                </a:lnTo>
                <a:lnTo>
                  <a:pt x="0" y="3929"/>
                </a:lnTo>
                <a:close/>
                <a:moveTo>
                  <a:pt x="0" y="3896"/>
                </a:moveTo>
                <a:lnTo>
                  <a:pt x="0" y="3879"/>
                </a:lnTo>
                <a:lnTo>
                  <a:pt x="721" y="3879"/>
                </a:lnTo>
                <a:lnTo>
                  <a:pt x="1441" y="3879"/>
                </a:lnTo>
                <a:lnTo>
                  <a:pt x="2162" y="3879"/>
                </a:lnTo>
                <a:lnTo>
                  <a:pt x="2882" y="3879"/>
                </a:lnTo>
                <a:lnTo>
                  <a:pt x="3603" y="3879"/>
                </a:lnTo>
                <a:lnTo>
                  <a:pt x="4323" y="3879"/>
                </a:lnTo>
                <a:lnTo>
                  <a:pt x="5044" y="3879"/>
                </a:lnTo>
                <a:lnTo>
                  <a:pt x="5764" y="3879"/>
                </a:lnTo>
                <a:lnTo>
                  <a:pt x="5764" y="3896"/>
                </a:lnTo>
                <a:lnTo>
                  <a:pt x="5044" y="3896"/>
                </a:lnTo>
                <a:lnTo>
                  <a:pt x="4323" y="3896"/>
                </a:lnTo>
                <a:lnTo>
                  <a:pt x="3603" y="3896"/>
                </a:lnTo>
                <a:lnTo>
                  <a:pt x="2882" y="3896"/>
                </a:lnTo>
                <a:lnTo>
                  <a:pt x="2162" y="3896"/>
                </a:lnTo>
                <a:lnTo>
                  <a:pt x="1441" y="3896"/>
                </a:lnTo>
                <a:lnTo>
                  <a:pt x="721" y="3896"/>
                </a:lnTo>
                <a:lnTo>
                  <a:pt x="0" y="3896"/>
                </a:lnTo>
                <a:close/>
                <a:moveTo>
                  <a:pt x="0" y="3863"/>
                </a:moveTo>
                <a:lnTo>
                  <a:pt x="0" y="3846"/>
                </a:lnTo>
                <a:lnTo>
                  <a:pt x="721" y="3846"/>
                </a:lnTo>
                <a:lnTo>
                  <a:pt x="1441" y="3846"/>
                </a:lnTo>
                <a:lnTo>
                  <a:pt x="2162" y="3846"/>
                </a:lnTo>
                <a:lnTo>
                  <a:pt x="2882" y="3846"/>
                </a:lnTo>
                <a:lnTo>
                  <a:pt x="3603" y="3846"/>
                </a:lnTo>
                <a:lnTo>
                  <a:pt x="4323" y="3846"/>
                </a:lnTo>
                <a:lnTo>
                  <a:pt x="5044" y="3846"/>
                </a:lnTo>
                <a:lnTo>
                  <a:pt x="5764" y="3846"/>
                </a:lnTo>
                <a:lnTo>
                  <a:pt x="5764" y="3863"/>
                </a:lnTo>
                <a:lnTo>
                  <a:pt x="5044" y="3863"/>
                </a:lnTo>
                <a:lnTo>
                  <a:pt x="4323" y="3863"/>
                </a:lnTo>
                <a:lnTo>
                  <a:pt x="3603" y="3863"/>
                </a:lnTo>
                <a:lnTo>
                  <a:pt x="2882" y="3863"/>
                </a:lnTo>
                <a:lnTo>
                  <a:pt x="2162" y="3863"/>
                </a:lnTo>
                <a:lnTo>
                  <a:pt x="1441" y="3863"/>
                </a:lnTo>
                <a:lnTo>
                  <a:pt x="721" y="3863"/>
                </a:lnTo>
                <a:lnTo>
                  <a:pt x="0" y="3863"/>
                </a:lnTo>
                <a:close/>
                <a:moveTo>
                  <a:pt x="0" y="3830"/>
                </a:moveTo>
                <a:lnTo>
                  <a:pt x="0" y="3813"/>
                </a:lnTo>
                <a:lnTo>
                  <a:pt x="721" y="3813"/>
                </a:lnTo>
                <a:lnTo>
                  <a:pt x="1441" y="3813"/>
                </a:lnTo>
                <a:lnTo>
                  <a:pt x="2162" y="3813"/>
                </a:lnTo>
                <a:lnTo>
                  <a:pt x="2882" y="3813"/>
                </a:lnTo>
                <a:lnTo>
                  <a:pt x="3603" y="3813"/>
                </a:lnTo>
                <a:lnTo>
                  <a:pt x="4323" y="3813"/>
                </a:lnTo>
                <a:lnTo>
                  <a:pt x="5044" y="3813"/>
                </a:lnTo>
                <a:lnTo>
                  <a:pt x="5764" y="3813"/>
                </a:lnTo>
                <a:lnTo>
                  <a:pt x="5764" y="3830"/>
                </a:lnTo>
                <a:lnTo>
                  <a:pt x="5044" y="3830"/>
                </a:lnTo>
                <a:lnTo>
                  <a:pt x="4323" y="3830"/>
                </a:lnTo>
                <a:lnTo>
                  <a:pt x="3603" y="3830"/>
                </a:lnTo>
                <a:lnTo>
                  <a:pt x="2882" y="3830"/>
                </a:lnTo>
                <a:lnTo>
                  <a:pt x="2162" y="3830"/>
                </a:lnTo>
                <a:lnTo>
                  <a:pt x="1441" y="3830"/>
                </a:lnTo>
                <a:lnTo>
                  <a:pt x="721" y="3830"/>
                </a:lnTo>
                <a:lnTo>
                  <a:pt x="0" y="3830"/>
                </a:lnTo>
                <a:close/>
                <a:moveTo>
                  <a:pt x="0" y="3797"/>
                </a:moveTo>
                <a:lnTo>
                  <a:pt x="0" y="3781"/>
                </a:lnTo>
                <a:lnTo>
                  <a:pt x="721" y="3781"/>
                </a:lnTo>
                <a:lnTo>
                  <a:pt x="1441" y="3781"/>
                </a:lnTo>
                <a:lnTo>
                  <a:pt x="2162" y="3781"/>
                </a:lnTo>
                <a:lnTo>
                  <a:pt x="2882" y="3781"/>
                </a:lnTo>
                <a:lnTo>
                  <a:pt x="3603" y="3781"/>
                </a:lnTo>
                <a:lnTo>
                  <a:pt x="4323" y="3781"/>
                </a:lnTo>
                <a:lnTo>
                  <a:pt x="5044" y="3781"/>
                </a:lnTo>
                <a:lnTo>
                  <a:pt x="5764" y="3781"/>
                </a:lnTo>
                <a:lnTo>
                  <a:pt x="5764" y="3797"/>
                </a:lnTo>
                <a:lnTo>
                  <a:pt x="5044" y="3797"/>
                </a:lnTo>
                <a:lnTo>
                  <a:pt x="4323" y="3797"/>
                </a:lnTo>
                <a:lnTo>
                  <a:pt x="3603" y="3797"/>
                </a:lnTo>
                <a:lnTo>
                  <a:pt x="2882" y="3797"/>
                </a:lnTo>
                <a:lnTo>
                  <a:pt x="2162" y="3797"/>
                </a:lnTo>
                <a:lnTo>
                  <a:pt x="1441" y="3797"/>
                </a:lnTo>
                <a:lnTo>
                  <a:pt x="721" y="3797"/>
                </a:lnTo>
                <a:lnTo>
                  <a:pt x="0" y="3797"/>
                </a:lnTo>
                <a:close/>
                <a:moveTo>
                  <a:pt x="0" y="3765"/>
                </a:moveTo>
                <a:lnTo>
                  <a:pt x="0" y="3748"/>
                </a:lnTo>
                <a:lnTo>
                  <a:pt x="721" y="3748"/>
                </a:lnTo>
                <a:lnTo>
                  <a:pt x="1441" y="3748"/>
                </a:lnTo>
                <a:lnTo>
                  <a:pt x="2162" y="3748"/>
                </a:lnTo>
                <a:lnTo>
                  <a:pt x="2882" y="3748"/>
                </a:lnTo>
                <a:lnTo>
                  <a:pt x="3603" y="3748"/>
                </a:lnTo>
                <a:lnTo>
                  <a:pt x="4323" y="3748"/>
                </a:lnTo>
                <a:lnTo>
                  <a:pt x="5044" y="3748"/>
                </a:lnTo>
                <a:lnTo>
                  <a:pt x="5764" y="3748"/>
                </a:lnTo>
                <a:lnTo>
                  <a:pt x="5764" y="3765"/>
                </a:lnTo>
                <a:lnTo>
                  <a:pt x="5044" y="3765"/>
                </a:lnTo>
                <a:lnTo>
                  <a:pt x="4323" y="3765"/>
                </a:lnTo>
                <a:lnTo>
                  <a:pt x="3603" y="3765"/>
                </a:lnTo>
                <a:lnTo>
                  <a:pt x="2882" y="3765"/>
                </a:lnTo>
                <a:lnTo>
                  <a:pt x="2162" y="3765"/>
                </a:lnTo>
                <a:lnTo>
                  <a:pt x="1441" y="3765"/>
                </a:lnTo>
                <a:lnTo>
                  <a:pt x="721" y="3765"/>
                </a:lnTo>
                <a:lnTo>
                  <a:pt x="0" y="3765"/>
                </a:lnTo>
                <a:close/>
                <a:moveTo>
                  <a:pt x="0" y="3732"/>
                </a:moveTo>
                <a:lnTo>
                  <a:pt x="0" y="3715"/>
                </a:lnTo>
                <a:lnTo>
                  <a:pt x="721" y="3715"/>
                </a:lnTo>
                <a:lnTo>
                  <a:pt x="1441" y="3715"/>
                </a:lnTo>
                <a:lnTo>
                  <a:pt x="2162" y="3715"/>
                </a:lnTo>
                <a:lnTo>
                  <a:pt x="2882" y="3715"/>
                </a:lnTo>
                <a:lnTo>
                  <a:pt x="3603" y="3715"/>
                </a:lnTo>
                <a:lnTo>
                  <a:pt x="4323" y="3715"/>
                </a:lnTo>
                <a:lnTo>
                  <a:pt x="5044" y="3715"/>
                </a:lnTo>
                <a:lnTo>
                  <a:pt x="5764" y="3715"/>
                </a:lnTo>
                <a:lnTo>
                  <a:pt x="5764" y="3732"/>
                </a:lnTo>
                <a:lnTo>
                  <a:pt x="5044" y="3732"/>
                </a:lnTo>
                <a:lnTo>
                  <a:pt x="4323" y="3732"/>
                </a:lnTo>
                <a:lnTo>
                  <a:pt x="3603" y="3732"/>
                </a:lnTo>
                <a:lnTo>
                  <a:pt x="2882" y="3732"/>
                </a:lnTo>
                <a:lnTo>
                  <a:pt x="2162" y="3732"/>
                </a:lnTo>
                <a:lnTo>
                  <a:pt x="1441" y="3732"/>
                </a:lnTo>
                <a:lnTo>
                  <a:pt x="721" y="3732"/>
                </a:lnTo>
                <a:lnTo>
                  <a:pt x="0" y="3732"/>
                </a:lnTo>
                <a:close/>
                <a:moveTo>
                  <a:pt x="0" y="3699"/>
                </a:moveTo>
                <a:lnTo>
                  <a:pt x="0" y="3682"/>
                </a:lnTo>
                <a:lnTo>
                  <a:pt x="721" y="3682"/>
                </a:lnTo>
                <a:lnTo>
                  <a:pt x="1441" y="3682"/>
                </a:lnTo>
                <a:lnTo>
                  <a:pt x="2162" y="3682"/>
                </a:lnTo>
                <a:lnTo>
                  <a:pt x="2882" y="3682"/>
                </a:lnTo>
                <a:lnTo>
                  <a:pt x="3603" y="3682"/>
                </a:lnTo>
                <a:lnTo>
                  <a:pt x="4323" y="3682"/>
                </a:lnTo>
                <a:lnTo>
                  <a:pt x="5044" y="3682"/>
                </a:lnTo>
                <a:lnTo>
                  <a:pt x="5764" y="3682"/>
                </a:lnTo>
                <a:lnTo>
                  <a:pt x="5764" y="3699"/>
                </a:lnTo>
                <a:lnTo>
                  <a:pt x="5044" y="3699"/>
                </a:lnTo>
                <a:lnTo>
                  <a:pt x="4323" y="3699"/>
                </a:lnTo>
                <a:lnTo>
                  <a:pt x="3603" y="3699"/>
                </a:lnTo>
                <a:lnTo>
                  <a:pt x="2882" y="3699"/>
                </a:lnTo>
                <a:lnTo>
                  <a:pt x="2162" y="3699"/>
                </a:lnTo>
                <a:lnTo>
                  <a:pt x="1441" y="3699"/>
                </a:lnTo>
                <a:lnTo>
                  <a:pt x="721" y="3699"/>
                </a:lnTo>
                <a:lnTo>
                  <a:pt x="0" y="3699"/>
                </a:lnTo>
                <a:close/>
                <a:moveTo>
                  <a:pt x="0" y="3666"/>
                </a:moveTo>
                <a:lnTo>
                  <a:pt x="0" y="3649"/>
                </a:lnTo>
                <a:lnTo>
                  <a:pt x="721" y="3649"/>
                </a:lnTo>
                <a:lnTo>
                  <a:pt x="1441" y="3649"/>
                </a:lnTo>
                <a:lnTo>
                  <a:pt x="2162" y="3649"/>
                </a:lnTo>
                <a:lnTo>
                  <a:pt x="2882" y="3649"/>
                </a:lnTo>
                <a:lnTo>
                  <a:pt x="3603" y="3649"/>
                </a:lnTo>
                <a:lnTo>
                  <a:pt x="4323" y="3649"/>
                </a:lnTo>
                <a:lnTo>
                  <a:pt x="5044" y="3649"/>
                </a:lnTo>
                <a:lnTo>
                  <a:pt x="5764" y="3649"/>
                </a:lnTo>
                <a:lnTo>
                  <a:pt x="5764" y="3666"/>
                </a:lnTo>
                <a:lnTo>
                  <a:pt x="5044" y="3666"/>
                </a:lnTo>
                <a:lnTo>
                  <a:pt x="4323" y="3666"/>
                </a:lnTo>
                <a:lnTo>
                  <a:pt x="3603" y="3666"/>
                </a:lnTo>
                <a:lnTo>
                  <a:pt x="2882" y="3666"/>
                </a:lnTo>
                <a:lnTo>
                  <a:pt x="2162" y="3666"/>
                </a:lnTo>
                <a:lnTo>
                  <a:pt x="1441" y="3666"/>
                </a:lnTo>
                <a:lnTo>
                  <a:pt x="721" y="3666"/>
                </a:lnTo>
                <a:lnTo>
                  <a:pt x="0" y="3666"/>
                </a:lnTo>
                <a:close/>
                <a:moveTo>
                  <a:pt x="0" y="3633"/>
                </a:moveTo>
                <a:lnTo>
                  <a:pt x="0" y="3616"/>
                </a:lnTo>
                <a:lnTo>
                  <a:pt x="721" y="3616"/>
                </a:lnTo>
                <a:lnTo>
                  <a:pt x="1441" y="3616"/>
                </a:lnTo>
                <a:lnTo>
                  <a:pt x="2162" y="3616"/>
                </a:lnTo>
                <a:lnTo>
                  <a:pt x="2882" y="3616"/>
                </a:lnTo>
                <a:lnTo>
                  <a:pt x="3603" y="3616"/>
                </a:lnTo>
                <a:lnTo>
                  <a:pt x="4323" y="3616"/>
                </a:lnTo>
                <a:lnTo>
                  <a:pt x="5044" y="3616"/>
                </a:lnTo>
                <a:lnTo>
                  <a:pt x="5764" y="3616"/>
                </a:lnTo>
                <a:lnTo>
                  <a:pt x="5764" y="3633"/>
                </a:lnTo>
                <a:lnTo>
                  <a:pt x="5044" y="3633"/>
                </a:lnTo>
                <a:lnTo>
                  <a:pt x="4323" y="3633"/>
                </a:lnTo>
                <a:lnTo>
                  <a:pt x="3603" y="3633"/>
                </a:lnTo>
                <a:lnTo>
                  <a:pt x="2882" y="3633"/>
                </a:lnTo>
                <a:lnTo>
                  <a:pt x="2162" y="3633"/>
                </a:lnTo>
                <a:lnTo>
                  <a:pt x="1441" y="3633"/>
                </a:lnTo>
                <a:lnTo>
                  <a:pt x="721" y="3633"/>
                </a:lnTo>
                <a:lnTo>
                  <a:pt x="0" y="3633"/>
                </a:lnTo>
                <a:close/>
                <a:moveTo>
                  <a:pt x="0" y="3599"/>
                </a:moveTo>
                <a:lnTo>
                  <a:pt x="0" y="3583"/>
                </a:lnTo>
                <a:lnTo>
                  <a:pt x="721" y="3583"/>
                </a:lnTo>
                <a:lnTo>
                  <a:pt x="1441" y="3583"/>
                </a:lnTo>
                <a:lnTo>
                  <a:pt x="2162" y="3583"/>
                </a:lnTo>
                <a:lnTo>
                  <a:pt x="2882" y="3583"/>
                </a:lnTo>
                <a:lnTo>
                  <a:pt x="3603" y="3583"/>
                </a:lnTo>
                <a:lnTo>
                  <a:pt x="4323" y="3583"/>
                </a:lnTo>
                <a:lnTo>
                  <a:pt x="5044" y="3583"/>
                </a:lnTo>
                <a:lnTo>
                  <a:pt x="5764" y="3583"/>
                </a:lnTo>
                <a:lnTo>
                  <a:pt x="5764" y="3599"/>
                </a:lnTo>
                <a:lnTo>
                  <a:pt x="5044" y="3599"/>
                </a:lnTo>
                <a:lnTo>
                  <a:pt x="4323" y="3599"/>
                </a:lnTo>
                <a:lnTo>
                  <a:pt x="3603" y="3599"/>
                </a:lnTo>
                <a:lnTo>
                  <a:pt x="2882" y="3599"/>
                </a:lnTo>
                <a:lnTo>
                  <a:pt x="2162" y="3599"/>
                </a:lnTo>
                <a:lnTo>
                  <a:pt x="1441" y="3599"/>
                </a:lnTo>
                <a:lnTo>
                  <a:pt x="721" y="3599"/>
                </a:lnTo>
                <a:lnTo>
                  <a:pt x="0" y="3599"/>
                </a:lnTo>
                <a:close/>
                <a:moveTo>
                  <a:pt x="0" y="3566"/>
                </a:moveTo>
                <a:lnTo>
                  <a:pt x="0" y="3550"/>
                </a:lnTo>
                <a:lnTo>
                  <a:pt x="721" y="3550"/>
                </a:lnTo>
                <a:lnTo>
                  <a:pt x="1441" y="3550"/>
                </a:lnTo>
                <a:lnTo>
                  <a:pt x="2162" y="3550"/>
                </a:lnTo>
                <a:lnTo>
                  <a:pt x="2882" y="3550"/>
                </a:lnTo>
                <a:lnTo>
                  <a:pt x="3603" y="3550"/>
                </a:lnTo>
                <a:lnTo>
                  <a:pt x="4323" y="3550"/>
                </a:lnTo>
                <a:lnTo>
                  <a:pt x="5044" y="3550"/>
                </a:lnTo>
                <a:lnTo>
                  <a:pt x="5764" y="3550"/>
                </a:lnTo>
                <a:lnTo>
                  <a:pt x="5764" y="3566"/>
                </a:lnTo>
                <a:lnTo>
                  <a:pt x="5044" y="3566"/>
                </a:lnTo>
                <a:lnTo>
                  <a:pt x="4323" y="3566"/>
                </a:lnTo>
                <a:lnTo>
                  <a:pt x="3603" y="3566"/>
                </a:lnTo>
                <a:lnTo>
                  <a:pt x="2882" y="3566"/>
                </a:lnTo>
                <a:lnTo>
                  <a:pt x="2162" y="3566"/>
                </a:lnTo>
                <a:lnTo>
                  <a:pt x="1441" y="3566"/>
                </a:lnTo>
                <a:lnTo>
                  <a:pt x="721" y="3566"/>
                </a:lnTo>
                <a:lnTo>
                  <a:pt x="0" y="3566"/>
                </a:lnTo>
                <a:close/>
                <a:moveTo>
                  <a:pt x="0" y="3534"/>
                </a:moveTo>
                <a:lnTo>
                  <a:pt x="0" y="3517"/>
                </a:lnTo>
                <a:lnTo>
                  <a:pt x="721" y="3517"/>
                </a:lnTo>
                <a:lnTo>
                  <a:pt x="1441" y="3517"/>
                </a:lnTo>
                <a:lnTo>
                  <a:pt x="2162" y="3517"/>
                </a:lnTo>
                <a:lnTo>
                  <a:pt x="2882" y="3517"/>
                </a:lnTo>
                <a:lnTo>
                  <a:pt x="3603" y="3517"/>
                </a:lnTo>
                <a:lnTo>
                  <a:pt x="4323" y="3517"/>
                </a:lnTo>
                <a:lnTo>
                  <a:pt x="5044" y="3517"/>
                </a:lnTo>
                <a:lnTo>
                  <a:pt x="5764" y="3517"/>
                </a:lnTo>
                <a:lnTo>
                  <a:pt x="5764" y="3534"/>
                </a:lnTo>
                <a:lnTo>
                  <a:pt x="5044" y="3534"/>
                </a:lnTo>
                <a:lnTo>
                  <a:pt x="4323" y="3534"/>
                </a:lnTo>
                <a:lnTo>
                  <a:pt x="3603" y="3534"/>
                </a:lnTo>
                <a:lnTo>
                  <a:pt x="2882" y="3534"/>
                </a:lnTo>
                <a:lnTo>
                  <a:pt x="2162" y="3534"/>
                </a:lnTo>
                <a:lnTo>
                  <a:pt x="1441" y="3534"/>
                </a:lnTo>
                <a:lnTo>
                  <a:pt x="721" y="3534"/>
                </a:lnTo>
                <a:lnTo>
                  <a:pt x="0" y="3534"/>
                </a:lnTo>
                <a:close/>
                <a:moveTo>
                  <a:pt x="0" y="3501"/>
                </a:moveTo>
                <a:lnTo>
                  <a:pt x="0" y="3484"/>
                </a:lnTo>
                <a:lnTo>
                  <a:pt x="721" y="3484"/>
                </a:lnTo>
                <a:lnTo>
                  <a:pt x="1441" y="3484"/>
                </a:lnTo>
                <a:lnTo>
                  <a:pt x="2162" y="3484"/>
                </a:lnTo>
                <a:lnTo>
                  <a:pt x="2882" y="3484"/>
                </a:lnTo>
                <a:lnTo>
                  <a:pt x="3603" y="3484"/>
                </a:lnTo>
                <a:lnTo>
                  <a:pt x="4323" y="3484"/>
                </a:lnTo>
                <a:lnTo>
                  <a:pt x="5044" y="3484"/>
                </a:lnTo>
                <a:lnTo>
                  <a:pt x="5764" y="3484"/>
                </a:lnTo>
                <a:lnTo>
                  <a:pt x="5764" y="3501"/>
                </a:lnTo>
                <a:lnTo>
                  <a:pt x="5044" y="3501"/>
                </a:lnTo>
                <a:lnTo>
                  <a:pt x="4323" y="3501"/>
                </a:lnTo>
                <a:lnTo>
                  <a:pt x="3603" y="3501"/>
                </a:lnTo>
                <a:lnTo>
                  <a:pt x="2882" y="3501"/>
                </a:lnTo>
                <a:lnTo>
                  <a:pt x="2162" y="3501"/>
                </a:lnTo>
                <a:lnTo>
                  <a:pt x="1441" y="3501"/>
                </a:lnTo>
                <a:lnTo>
                  <a:pt x="721" y="3501"/>
                </a:lnTo>
                <a:lnTo>
                  <a:pt x="0" y="3501"/>
                </a:lnTo>
                <a:close/>
                <a:moveTo>
                  <a:pt x="0" y="3468"/>
                </a:moveTo>
                <a:lnTo>
                  <a:pt x="0" y="3451"/>
                </a:lnTo>
                <a:lnTo>
                  <a:pt x="721" y="3451"/>
                </a:lnTo>
                <a:lnTo>
                  <a:pt x="1441" y="3451"/>
                </a:lnTo>
                <a:lnTo>
                  <a:pt x="2162" y="3451"/>
                </a:lnTo>
                <a:lnTo>
                  <a:pt x="2882" y="3451"/>
                </a:lnTo>
                <a:lnTo>
                  <a:pt x="3603" y="3451"/>
                </a:lnTo>
                <a:lnTo>
                  <a:pt x="4323" y="3451"/>
                </a:lnTo>
                <a:lnTo>
                  <a:pt x="5044" y="3451"/>
                </a:lnTo>
                <a:lnTo>
                  <a:pt x="5764" y="3451"/>
                </a:lnTo>
                <a:lnTo>
                  <a:pt x="5764" y="3468"/>
                </a:lnTo>
                <a:lnTo>
                  <a:pt x="5044" y="3468"/>
                </a:lnTo>
                <a:lnTo>
                  <a:pt x="4323" y="3468"/>
                </a:lnTo>
                <a:lnTo>
                  <a:pt x="3603" y="3468"/>
                </a:lnTo>
                <a:lnTo>
                  <a:pt x="2882" y="3468"/>
                </a:lnTo>
                <a:lnTo>
                  <a:pt x="2162" y="3468"/>
                </a:lnTo>
                <a:lnTo>
                  <a:pt x="1441" y="3468"/>
                </a:lnTo>
                <a:lnTo>
                  <a:pt x="721" y="3468"/>
                </a:lnTo>
                <a:lnTo>
                  <a:pt x="0" y="3468"/>
                </a:lnTo>
                <a:close/>
                <a:moveTo>
                  <a:pt x="0" y="3435"/>
                </a:moveTo>
                <a:lnTo>
                  <a:pt x="0" y="3418"/>
                </a:lnTo>
                <a:lnTo>
                  <a:pt x="721" y="3418"/>
                </a:lnTo>
                <a:lnTo>
                  <a:pt x="1441" y="3418"/>
                </a:lnTo>
                <a:lnTo>
                  <a:pt x="2162" y="3418"/>
                </a:lnTo>
                <a:lnTo>
                  <a:pt x="2882" y="3418"/>
                </a:lnTo>
                <a:lnTo>
                  <a:pt x="3603" y="3418"/>
                </a:lnTo>
                <a:lnTo>
                  <a:pt x="4323" y="3418"/>
                </a:lnTo>
                <a:lnTo>
                  <a:pt x="5044" y="3418"/>
                </a:lnTo>
                <a:lnTo>
                  <a:pt x="5764" y="3418"/>
                </a:lnTo>
                <a:lnTo>
                  <a:pt x="5764" y="3435"/>
                </a:lnTo>
                <a:lnTo>
                  <a:pt x="5044" y="3435"/>
                </a:lnTo>
                <a:lnTo>
                  <a:pt x="4323" y="3435"/>
                </a:lnTo>
                <a:lnTo>
                  <a:pt x="3603" y="3435"/>
                </a:lnTo>
                <a:lnTo>
                  <a:pt x="2882" y="3435"/>
                </a:lnTo>
                <a:lnTo>
                  <a:pt x="2162" y="3435"/>
                </a:lnTo>
                <a:lnTo>
                  <a:pt x="1441" y="3435"/>
                </a:lnTo>
                <a:lnTo>
                  <a:pt x="721" y="3435"/>
                </a:lnTo>
                <a:lnTo>
                  <a:pt x="0" y="3435"/>
                </a:lnTo>
                <a:close/>
                <a:moveTo>
                  <a:pt x="0" y="3402"/>
                </a:moveTo>
                <a:lnTo>
                  <a:pt x="0" y="3385"/>
                </a:lnTo>
                <a:lnTo>
                  <a:pt x="721" y="3385"/>
                </a:lnTo>
                <a:lnTo>
                  <a:pt x="1441" y="3385"/>
                </a:lnTo>
                <a:lnTo>
                  <a:pt x="2162" y="3385"/>
                </a:lnTo>
                <a:lnTo>
                  <a:pt x="2882" y="3385"/>
                </a:lnTo>
                <a:lnTo>
                  <a:pt x="3603" y="3385"/>
                </a:lnTo>
                <a:lnTo>
                  <a:pt x="4323" y="3385"/>
                </a:lnTo>
                <a:lnTo>
                  <a:pt x="5044" y="3385"/>
                </a:lnTo>
                <a:lnTo>
                  <a:pt x="5764" y="3385"/>
                </a:lnTo>
                <a:lnTo>
                  <a:pt x="5764" y="3402"/>
                </a:lnTo>
                <a:lnTo>
                  <a:pt x="5044" y="3402"/>
                </a:lnTo>
                <a:lnTo>
                  <a:pt x="4323" y="3402"/>
                </a:lnTo>
                <a:lnTo>
                  <a:pt x="3603" y="3402"/>
                </a:lnTo>
                <a:lnTo>
                  <a:pt x="2882" y="3402"/>
                </a:lnTo>
                <a:lnTo>
                  <a:pt x="2162" y="3402"/>
                </a:lnTo>
                <a:lnTo>
                  <a:pt x="1441" y="3402"/>
                </a:lnTo>
                <a:lnTo>
                  <a:pt x="721" y="3402"/>
                </a:lnTo>
                <a:lnTo>
                  <a:pt x="0" y="3402"/>
                </a:lnTo>
                <a:close/>
                <a:moveTo>
                  <a:pt x="0" y="3369"/>
                </a:moveTo>
                <a:lnTo>
                  <a:pt x="0" y="3353"/>
                </a:lnTo>
                <a:lnTo>
                  <a:pt x="721" y="3353"/>
                </a:lnTo>
                <a:lnTo>
                  <a:pt x="1441" y="3353"/>
                </a:lnTo>
                <a:lnTo>
                  <a:pt x="2162" y="3353"/>
                </a:lnTo>
                <a:lnTo>
                  <a:pt x="2882" y="3353"/>
                </a:lnTo>
                <a:lnTo>
                  <a:pt x="3603" y="3353"/>
                </a:lnTo>
                <a:lnTo>
                  <a:pt x="4323" y="3353"/>
                </a:lnTo>
                <a:lnTo>
                  <a:pt x="5044" y="3353"/>
                </a:lnTo>
                <a:lnTo>
                  <a:pt x="5764" y="3353"/>
                </a:lnTo>
                <a:lnTo>
                  <a:pt x="5764" y="3369"/>
                </a:lnTo>
                <a:lnTo>
                  <a:pt x="5044" y="3369"/>
                </a:lnTo>
                <a:lnTo>
                  <a:pt x="4323" y="3369"/>
                </a:lnTo>
                <a:lnTo>
                  <a:pt x="3603" y="3369"/>
                </a:lnTo>
                <a:lnTo>
                  <a:pt x="2882" y="3369"/>
                </a:lnTo>
                <a:lnTo>
                  <a:pt x="2162" y="3369"/>
                </a:lnTo>
                <a:lnTo>
                  <a:pt x="1441" y="3369"/>
                </a:lnTo>
                <a:lnTo>
                  <a:pt x="721" y="3369"/>
                </a:lnTo>
                <a:lnTo>
                  <a:pt x="0" y="3369"/>
                </a:lnTo>
                <a:close/>
                <a:moveTo>
                  <a:pt x="0" y="3337"/>
                </a:moveTo>
                <a:lnTo>
                  <a:pt x="0" y="3320"/>
                </a:lnTo>
                <a:lnTo>
                  <a:pt x="721" y="3320"/>
                </a:lnTo>
                <a:lnTo>
                  <a:pt x="1441" y="3320"/>
                </a:lnTo>
                <a:lnTo>
                  <a:pt x="2162" y="3320"/>
                </a:lnTo>
                <a:lnTo>
                  <a:pt x="2882" y="3320"/>
                </a:lnTo>
                <a:lnTo>
                  <a:pt x="3603" y="3320"/>
                </a:lnTo>
                <a:lnTo>
                  <a:pt x="4323" y="3320"/>
                </a:lnTo>
                <a:lnTo>
                  <a:pt x="5044" y="3320"/>
                </a:lnTo>
                <a:lnTo>
                  <a:pt x="5764" y="3320"/>
                </a:lnTo>
                <a:lnTo>
                  <a:pt x="5764" y="3337"/>
                </a:lnTo>
                <a:lnTo>
                  <a:pt x="5044" y="3337"/>
                </a:lnTo>
                <a:lnTo>
                  <a:pt x="4323" y="3337"/>
                </a:lnTo>
                <a:lnTo>
                  <a:pt x="3603" y="3337"/>
                </a:lnTo>
                <a:lnTo>
                  <a:pt x="2882" y="3337"/>
                </a:lnTo>
                <a:lnTo>
                  <a:pt x="2162" y="3337"/>
                </a:lnTo>
                <a:lnTo>
                  <a:pt x="1441" y="3337"/>
                </a:lnTo>
                <a:lnTo>
                  <a:pt x="721" y="3337"/>
                </a:lnTo>
                <a:lnTo>
                  <a:pt x="0" y="3337"/>
                </a:lnTo>
                <a:close/>
                <a:moveTo>
                  <a:pt x="0" y="3304"/>
                </a:moveTo>
                <a:lnTo>
                  <a:pt x="0" y="3287"/>
                </a:lnTo>
                <a:lnTo>
                  <a:pt x="721" y="3287"/>
                </a:lnTo>
                <a:lnTo>
                  <a:pt x="1441" y="3287"/>
                </a:lnTo>
                <a:lnTo>
                  <a:pt x="2162" y="3287"/>
                </a:lnTo>
                <a:lnTo>
                  <a:pt x="2882" y="3287"/>
                </a:lnTo>
                <a:lnTo>
                  <a:pt x="3603" y="3287"/>
                </a:lnTo>
                <a:lnTo>
                  <a:pt x="4323" y="3287"/>
                </a:lnTo>
                <a:lnTo>
                  <a:pt x="5044" y="3287"/>
                </a:lnTo>
                <a:lnTo>
                  <a:pt x="5764" y="3287"/>
                </a:lnTo>
                <a:lnTo>
                  <a:pt x="5764" y="3304"/>
                </a:lnTo>
                <a:lnTo>
                  <a:pt x="5044" y="3304"/>
                </a:lnTo>
                <a:lnTo>
                  <a:pt x="4323" y="3304"/>
                </a:lnTo>
                <a:lnTo>
                  <a:pt x="3603" y="3304"/>
                </a:lnTo>
                <a:lnTo>
                  <a:pt x="2882" y="3304"/>
                </a:lnTo>
                <a:lnTo>
                  <a:pt x="2162" y="3304"/>
                </a:lnTo>
                <a:lnTo>
                  <a:pt x="1441" y="3304"/>
                </a:lnTo>
                <a:lnTo>
                  <a:pt x="721" y="3304"/>
                </a:lnTo>
                <a:lnTo>
                  <a:pt x="0" y="3304"/>
                </a:lnTo>
                <a:close/>
                <a:moveTo>
                  <a:pt x="0" y="3271"/>
                </a:moveTo>
                <a:lnTo>
                  <a:pt x="0" y="3254"/>
                </a:lnTo>
                <a:lnTo>
                  <a:pt x="721" y="3254"/>
                </a:lnTo>
                <a:lnTo>
                  <a:pt x="1441" y="3254"/>
                </a:lnTo>
                <a:lnTo>
                  <a:pt x="2162" y="3254"/>
                </a:lnTo>
                <a:lnTo>
                  <a:pt x="2882" y="3254"/>
                </a:lnTo>
                <a:lnTo>
                  <a:pt x="3603" y="3254"/>
                </a:lnTo>
                <a:lnTo>
                  <a:pt x="4323" y="3254"/>
                </a:lnTo>
                <a:lnTo>
                  <a:pt x="5044" y="3254"/>
                </a:lnTo>
                <a:lnTo>
                  <a:pt x="5764" y="3254"/>
                </a:lnTo>
                <a:lnTo>
                  <a:pt x="5764" y="3271"/>
                </a:lnTo>
                <a:lnTo>
                  <a:pt x="5044" y="3271"/>
                </a:lnTo>
                <a:lnTo>
                  <a:pt x="4323" y="3271"/>
                </a:lnTo>
                <a:lnTo>
                  <a:pt x="3603" y="3271"/>
                </a:lnTo>
                <a:lnTo>
                  <a:pt x="2882" y="3271"/>
                </a:lnTo>
                <a:lnTo>
                  <a:pt x="2162" y="3271"/>
                </a:lnTo>
                <a:lnTo>
                  <a:pt x="1441" y="3271"/>
                </a:lnTo>
                <a:lnTo>
                  <a:pt x="721" y="3271"/>
                </a:lnTo>
                <a:lnTo>
                  <a:pt x="0" y="3271"/>
                </a:lnTo>
                <a:close/>
                <a:moveTo>
                  <a:pt x="0" y="3238"/>
                </a:moveTo>
                <a:lnTo>
                  <a:pt x="0" y="3221"/>
                </a:lnTo>
                <a:lnTo>
                  <a:pt x="721" y="3221"/>
                </a:lnTo>
                <a:lnTo>
                  <a:pt x="1441" y="3221"/>
                </a:lnTo>
                <a:lnTo>
                  <a:pt x="2162" y="3221"/>
                </a:lnTo>
                <a:lnTo>
                  <a:pt x="2882" y="3221"/>
                </a:lnTo>
                <a:lnTo>
                  <a:pt x="3603" y="3221"/>
                </a:lnTo>
                <a:lnTo>
                  <a:pt x="4323" y="3221"/>
                </a:lnTo>
                <a:lnTo>
                  <a:pt x="5044" y="3221"/>
                </a:lnTo>
                <a:lnTo>
                  <a:pt x="5764" y="3221"/>
                </a:lnTo>
                <a:lnTo>
                  <a:pt x="5764" y="3238"/>
                </a:lnTo>
                <a:lnTo>
                  <a:pt x="5044" y="3238"/>
                </a:lnTo>
                <a:lnTo>
                  <a:pt x="4323" y="3238"/>
                </a:lnTo>
                <a:lnTo>
                  <a:pt x="3603" y="3238"/>
                </a:lnTo>
                <a:lnTo>
                  <a:pt x="2882" y="3238"/>
                </a:lnTo>
                <a:lnTo>
                  <a:pt x="2162" y="3238"/>
                </a:lnTo>
                <a:lnTo>
                  <a:pt x="1441" y="3238"/>
                </a:lnTo>
                <a:lnTo>
                  <a:pt x="721" y="3238"/>
                </a:lnTo>
                <a:lnTo>
                  <a:pt x="0" y="3238"/>
                </a:lnTo>
                <a:close/>
                <a:moveTo>
                  <a:pt x="0" y="3205"/>
                </a:moveTo>
                <a:lnTo>
                  <a:pt x="0" y="3188"/>
                </a:lnTo>
                <a:lnTo>
                  <a:pt x="721" y="3188"/>
                </a:lnTo>
                <a:lnTo>
                  <a:pt x="1441" y="3188"/>
                </a:lnTo>
                <a:lnTo>
                  <a:pt x="2162" y="3188"/>
                </a:lnTo>
                <a:lnTo>
                  <a:pt x="2882" y="3188"/>
                </a:lnTo>
                <a:lnTo>
                  <a:pt x="3603" y="3188"/>
                </a:lnTo>
                <a:lnTo>
                  <a:pt x="4323" y="3188"/>
                </a:lnTo>
                <a:lnTo>
                  <a:pt x="5044" y="3188"/>
                </a:lnTo>
                <a:lnTo>
                  <a:pt x="5764" y="3188"/>
                </a:lnTo>
                <a:lnTo>
                  <a:pt x="5764" y="3205"/>
                </a:lnTo>
                <a:lnTo>
                  <a:pt x="5044" y="3205"/>
                </a:lnTo>
                <a:lnTo>
                  <a:pt x="4323" y="3205"/>
                </a:lnTo>
                <a:lnTo>
                  <a:pt x="3603" y="3205"/>
                </a:lnTo>
                <a:lnTo>
                  <a:pt x="2882" y="3205"/>
                </a:lnTo>
                <a:lnTo>
                  <a:pt x="2162" y="3205"/>
                </a:lnTo>
                <a:lnTo>
                  <a:pt x="1441" y="3205"/>
                </a:lnTo>
                <a:lnTo>
                  <a:pt x="721" y="3205"/>
                </a:lnTo>
                <a:lnTo>
                  <a:pt x="0" y="3205"/>
                </a:lnTo>
                <a:close/>
                <a:moveTo>
                  <a:pt x="0" y="3172"/>
                </a:moveTo>
                <a:lnTo>
                  <a:pt x="0" y="3155"/>
                </a:lnTo>
                <a:lnTo>
                  <a:pt x="721" y="3155"/>
                </a:lnTo>
                <a:lnTo>
                  <a:pt x="1441" y="3155"/>
                </a:lnTo>
                <a:lnTo>
                  <a:pt x="2162" y="3155"/>
                </a:lnTo>
                <a:lnTo>
                  <a:pt x="2882" y="3155"/>
                </a:lnTo>
                <a:lnTo>
                  <a:pt x="3603" y="3155"/>
                </a:lnTo>
                <a:lnTo>
                  <a:pt x="4323" y="3155"/>
                </a:lnTo>
                <a:lnTo>
                  <a:pt x="5044" y="3155"/>
                </a:lnTo>
                <a:lnTo>
                  <a:pt x="5764" y="3155"/>
                </a:lnTo>
                <a:lnTo>
                  <a:pt x="5764" y="3172"/>
                </a:lnTo>
                <a:lnTo>
                  <a:pt x="5044" y="3172"/>
                </a:lnTo>
                <a:lnTo>
                  <a:pt x="4323" y="3172"/>
                </a:lnTo>
                <a:lnTo>
                  <a:pt x="3603" y="3172"/>
                </a:lnTo>
                <a:lnTo>
                  <a:pt x="2882" y="3172"/>
                </a:lnTo>
                <a:lnTo>
                  <a:pt x="2162" y="3172"/>
                </a:lnTo>
                <a:lnTo>
                  <a:pt x="1441" y="3172"/>
                </a:lnTo>
                <a:lnTo>
                  <a:pt x="721" y="3172"/>
                </a:lnTo>
                <a:lnTo>
                  <a:pt x="0" y="3172"/>
                </a:lnTo>
                <a:close/>
                <a:moveTo>
                  <a:pt x="0" y="3139"/>
                </a:moveTo>
                <a:lnTo>
                  <a:pt x="0" y="3123"/>
                </a:lnTo>
                <a:lnTo>
                  <a:pt x="721" y="3123"/>
                </a:lnTo>
                <a:lnTo>
                  <a:pt x="1441" y="3123"/>
                </a:lnTo>
                <a:lnTo>
                  <a:pt x="2162" y="3123"/>
                </a:lnTo>
                <a:lnTo>
                  <a:pt x="2882" y="3123"/>
                </a:lnTo>
                <a:lnTo>
                  <a:pt x="3603" y="3123"/>
                </a:lnTo>
                <a:lnTo>
                  <a:pt x="4323" y="3123"/>
                </a:lnTo>
                <a:lnTo>
                  <a:pt x="5044" y="3123"/>
                </a:lnTo>
                <a:lnTo>
                  <a:pt x="5764" y="3123"/>
                </a:lnTo>
                <a:lnTo>
                  <a:pt x="5764" y="3139"/>
                </a:lnTo>
                <a:lnTo>
                  <a:pt x="5044" y="3139"/>
                </a:lnTo>
                <a:lnTo>
                  <a:pt x="4323" y="3139"/>
                </a:lnTo>
                <a:lnTo>
                  <a:pt x="3603" y="3139"/>
                </a:lnTo>
                <a:lnTo>
                  <a:pt x="2882" y="3139"/>
                </a:lnTo>
                <a:lnTo>
                  <a:pt x="2162" y="3139"/>
                </a:lnTo>
                <a:lnTo>
                  <a:pt x="1441" y="3139"/>
                </a:lnTo>
                <a:lnTo>
                  <a:pt x="721" y="3139"/>
                </a:lnTo>
                <a:lnTo>
                  <a:pt x="0" y="3139"/>
                </a:lnTo>
                <a:close/>
                <a:moveTo>
                  <a:pt x="0" y="3107"/>
                </a:moveTo>
                <a:lnTo>
                  <a:pt x="0" y="3090"/>
                </a:lnTo>
                <a:lnTo>
                  <a:pt x="721" y="3090"/>
                </a:lnTo>
                <a:lnTo>
                  <a:pt x="1441" y="3090"/>
                </a:lnTo>
                <a:lnTo>
                  <a:pt x="2162" y="3090"/>
                </a:lnTo>
                <a:lnTo>
                  <a:pt x="2882" y="3090"/>
                </a:lnTo>
                <a:lnTo>
                  <a:pt x="3603" y="3090"/>
                </a:lnTo>
                <a:lnTo>
                  <a:pt x="4323" y="3090"/>
                </a:lnTo>
                <a:lnTo>
                  <a:pt x="5044" y="3090"/>
                </a:lnTo>
                <a:lnTo>
                  <a:pt x="5764" y="3090"/>
                </a:lnTo>
                <a:lnTo>
                  <a:pt x="5764" y="3107"/>
                </a:lnTo>
                <a:lnTo>
                  <a:pt x="5044" y="3107"/>
                </a:lnTo>
                <a:lnTo>
                  <a:pt x="4323" y="3107"/>
                </a:lnTo>
                <a:lnTo>
                  <a:pt x="3603" y="3107"/>
                </a:lnTo>
                <a:lnTo>
                  <a:pt x="2882" y="3107"/>
                </a:lnTo>
                <a:lnTo>
                  <a:pt x="2162" y="3107"/>
                </a:lnTo>
                <a:lnTo>
                  <a:pt x="1441" y="3107"/>
                </a:lnTo>
                <a:lnTo>
                  <a:pt x="721" y="3107"/>
                </a:lnTo>
                <a:lnTo>
                  <a:pt x="0" y="3107"/>
                </a:lnTo>
                <a:close/>
                <a:moveTo>
                  <a:pt x="0" y="3074"/>
                </a:moveTo>
                <a:lnTo>
                  <a:pt x="0" y="3057"/>
                </a:lnTo>
                <a:lnTo>
                  <a:pt x="721" y="3057"/>
                </a:lnTo>
                <a:lnTo>
                  <a:pt x="1441" y="3057"/>
                </a:lnTo>
                <a:lnTo>
                  <a:pt x="2162" y="3057"/>
                </a:lnTo>
                <a:lnTo>
                  <a:pt x="2882" y="3057"/>
                </a:lnTo>
                <a:lnTo>
                  <a:pt x="3603" y="3057"/>
                </a:lnTo>
                <a:lnTo>
                  <a:pt x="4323" y="3057"/>
                </a:lnTo>
                <a:lnTo>
                  <a:pt x="5044" y="3057"/>
                </a:lnTo>
                <a:lnTo>
                  <a:pt x="5764" y="3057"/>
                </a:lnTo>
                <a:lnTo>
                  <a:pt x="5764" y="3074"/>
                </a:lnTo>
                <a:lnTo>
                  <a:pt x="5044" y="3074"/>
                </a:lnTo>
                <a:lnTo>
                  <a:pt x="4323" y="3074"/>
                </a:lnTo>
                <a:lnTo>
                  <a:pt x="3603" y="3074"/>
                </a:lnTo>
                <a:lnTo>
                  <a:pt x="2882" y="3074"/>
                </a:lnTo>
                <a:lnTo>
                  <a:pt x="2162" y="3074"/>
                </a:lnTo>
                <a:lnTo>
                  <a:pt x="1441" y="3074"/>
                </a:lnTo>
                <a:lnTo>
                  <a:pt x="721" y="3074"/>
                </a:lnTo>
                <a:lnTo>
                  <a:pt x="0" y="3074"/>
                </a:lnTo>
                <a:close/>
                <a:moveTo>
                  <a:pt x="0" y="3041"/>
                </a:moveTo>
                <a:lnTo>
                  <a:pt x="0" y="3024"/>
                </a:lnTo>
                <a:lnTo>
                  <a:pt x="721" y="3024"/>
                </a:lnTo>
                <a:lnTo>
                  <a:pt x="1441" y="3024"/>
                </a:lnTo>
                <a:lnTo>
                  <a:pt x="2162" y="3024"/>
                </a:lnTo>
                <a:lnTo>
                  <a:pt x="2882" y="3024"/>
                </a:lnTo>
                <a:lnTo>
                  <a:pt x="3603" y="3024"/>
                </a:lnTo>
                <a:lnTo>
                  <a:pt x="4323" y="3024"/>
                </a:lnTo>
                <a:lnTo>
                  <a:pt x="5044" y="3024"/>
                </a:lnTo>
                <a:lnTo>
                  <a:pt x="5764" y="3024"/>
                </a:lnTo>
                <a:lnTo>
                  <a:pt x="5764" y="3041"/>
                </a:lnTo>
                <a:lnTo>
                  <a:pt x="5044" y="3041"/>
                </a:lnTo>
                <a:lnTo>
                  <a:pt x="4323" y="3041"/>
                </a:lnTo>
                <a:lnTo>
                  <a:pt x="3603" y="3041"/>
                </a:lnTo>
                <a:lnTo>
                  <a:pt x="2882" y="3041"/>
                </a:lnTo>
                <a:lnTo>
                  <a:pt x="2162" y="3041"/>
                </a:lnTo>
                <a:lnTo>
                  <a:pt x="1441" y="3041"/>
                </a:lnTo>
                <a:lnTo>
                  <a:pt x="721" y="3041"/>
                </a:lnTo>
                <a:lnTo>
                  <a:pt x="0" y="3041"/>
                </a:lnTo>
                <a:close/>
                <a:moveTo>
                  <a:pt x="0" y="3008"/>
                </a:moveTo>
                <a:lnTo>
                  <a:pt x="0" y="2991"/>
                </a:lnTo>
                <a:lnTo>
                  <a:pt x="721" y="2991"/>
                </a:lnTo>
                <a:lnTo>
                  <a:pt x="1441" y="2991"/>
                </a:lnTo>
                <a:lnTo>
                  <a:pt x="2162" y="2991"/>
                </a:lnTo>
                <a:lnTo>
                  <a:pt x="2882" y="2991"/>
                </a:lnTo>
                <a:lnTo>
                  <a:pt x="3603" y="2991"/>
                </a:lnTo>
                <a:lnTo>
                  <a:pt x="4323" y="2991"/>
                </a:lnTo>
                <a:lnTo>
                  <a:pt x="5044" y="2991"/>
                </a:lnTo>
                <a:lnTo>
                  <a:pt x="5764" y="2991"/>
                </a:lnTo>
                <a:lnTo>
                  <a:pt x="5764" y="3008"/>
                </a:lnTo>
                <a:lnTo>
                  <a:pt x="5044" y="3008"/>
                </a:lnTo>
                <a:lnTo>
                  <a:pt x="4323" y="3008"/>
                </a:lnTo>
                <a:lnTo>
                  <a:pt x="3603" y="3008"/>
                </a:lnTo>
                <a:lnTo>
                  <a:pt x="2882" y="3008"/>
                </a:lnTo>
                <a:lnTo>
                  <a:pt x="2162" y="3008"/>
                </a:lnTo>
                <a:lnTo>
                  <a:pt x="1441" y="3008"/>
                </a:lnTo>
                <a:lnTo>
                  <a:pt x="721" y="3008"/>
                </a:lnTo>
                <a:lnTo>
                  <a:pt x="0" y="3008"/>
                </a:lnTo>
                <a:close/>
                <a:moveTo>
                  <a:pt x="0" y="2975"/>
                </a:moveTo>
                <a:lnTo>
                  <a:pt x="0" y="2958"/>
                </a:lnTo>
                <a:lnTo>
                  <a:pt x="721" y="2958"/>
                </a:lnTo>
                <a:lnTo>
                  <a:pt x="1441" y="2958"/>
                </a:lnTo>
                <a:lnTo>
                  <a:pt x="2162" y="2958"/>
                </a:lnTo>
                <a:lnTo>
                  <a:pt x="2882" y="2958"/>
                </a:lnTo>
                <a:lnTo>
                  <a:pt x="3603" y="2958"/>
                </a:lnTo>
                <a:lnTo>
                  <a:pt x="4323" y="2958"/>
                </a:lnTo>
                <a:lnTo>
                  <a:pt x="5044" y="2958"/>
                </a:lnTo>
                <a:lnTo>
                  <a:pt x="5764" y="2958"/>
                </a:lnTo>
                <a:lnTo>
                  <a:pt x="5764" y="2975"/>
                </a:lnTo>
                <a:lnTo>
                  <a:pt x="5044" y="2975"/>
                </a:lnTo>
                <a:lnTo>
                  <a:pt x="4323" y="2975"/>
                </a:lnTo>
                <a:lnTo>
                  <a:pt x="3603" y="2975"/>
                </a:lnTo>
                <a:lnTo>
                  <a:pt x="2882" y="2975"/>
                </a:lnTo>
                <a:lnTo>
                  <a:pt x="2162" y="2975"/>
                </a:lnTo>
                <a:lnTo>
                  <a:pt x="1441" y="2975"/>
                </a:lnTo>
                <a:lnTo>
                  <a:pt x="721" y="2975"/>
                </a:lnTo>
                <a:lnTo>
                  <a:pt x="0" y="2975"/>
                </a:lnTo>
                <a:close/>
                <a:moveTo>
                  <a:pt x="0" y="2942"/>
                </a:moveTo>
                <a:lnTo>
                  <a:pt x="0" y="2926"/>
                </a:lnTo>
                <a:lnTo>
                  <a:pt x="721" y="2926"/>
                </a:lnTo>
                <a:lnTo>
                  <a:pt x="1441" y="2926"/>
                </a:lnTo>
                <a:lnTo>
                  <a:pt x="2162" y="2926"/>
                </a:lnTo>
                <a:lnTo>
                  <a:pt x="2882" y="2926"/>
                </a:lnTo>
                <a:lnTo>
                  <a:pt x="3603" y="2926"/>
                </a:lnTo>
                <a:lnTo>
                  <a:pt x="4323" y="2926"/>
                </a:lnTo>
                <a:lnTo>
                  <a:pt x="5044" y="2926"/>
                </a:lnTo>
                <a:lnTo>
                  <a:pt x="5764" y="2926"/>
                </a:lnTo>
                <a:lnTo>
                  <a:pt x="5764" y="2942"/>
                </a:lnTo>
                <a:lnTo>
                  <a:pt x="5044" y="2942"/>
                </a:lnTo>
                <a:lnTo>
                  <a:pt x="4323" y="2942"/>
                </a:lnTo>
                <a:lnTo>
                  <a:pt x="3603" y="2942"/>
                </a:lnTo>
                <a:lnTo>
                  <a:pt x="2882" y="2942"/>
                </a:lnTo>
                <a:lnTo>
                  <a:pt x="2162" y="2942"/>
                </a:lnTo>
                <a:lnTo>
                  <a:pt x="1441" y="2942"/>
                </a:lnTo>
                <a:lnTo>
                  <a:pt x="721" y="2942"/>
                </a:lnTo>
                <a:lnTo>
                  <a:pt x="0" y="2942"/>
                </a:lnTo>
                <a:close/>
                <a:moveTo>
                  <a:pt x="0" y="2909"/>
                </a:moveTo>
                <a:lnTo>
                  <a:pt x="0" y="2893"/>
                </a:lnTo>
                <a:lnTo>
                  <a:pt x="721" y="2893"/>
                </a:lnTo>
                <a:lnTo>
                  <a:pt x="1441" y="2893"/>
                </a:lnTo>
                <a:lnTo>
                  <a:pt x="2162" y="2893"/>
                </a:lnTo>
                <a:lnTo>
                  <a:pt x="2882" y="2893"/>
                </a:lnTo>
                <a:lnTo>
                  <a:pt x="3603" y="2893"/>
                </a:lnTo>
                <a:lnTo>
                  <a:pt x="4323" y="2893"/>
                </a:lnTo>
                <a:lnTo>
                  <a:pt x="5044" y="2893"/>
                </a:lnTo>
                <a:lnTo>
                  <a:pt x="5764" y="2893"/>
                </a:lnTo>
                <a:lnTo>
                  <a:pt x="5764" y="2909"/>
                </a:lnTo>
                <a:lnTo>
                  <a:pt x="5044" y="2909"/>
                </a:lnTo>
                <a:lnTo>
                  <a:pt x="4323" y="2909"/>
                </a:lnTo>
                <a:lnTo>
                  <a:pt x="3603" y="2909"/>
                </a:lnTo>
                <a:lnTo>
                  <a:pt x="2882" y="2909"/>
                </a:lnTo>
                <a:lnTo>
                  <a:pt x="2162" y="2909"/>
                </a:lnTo>
                <a:lnTo>
                  <a:pt x="1441" y="2909"/>
                </a:lnTo>
                <a:lnTo>
                  <a:pt x="721" y="2909"/>
                </a:lnTo>
                <a:lnTo>
                  <a:pt x="0" y="2909"/>
                </a:lnTo>
                <a:close/>
                <a:moveTo>
                  <a:pt x="0" y="2877"/>
                </a:moveTo>
                <a:lnTo>
                  <a:pt x="0" y="2860"/>
                </a:lnTo>
                <a:lnTo>
                  <a:pt x="721" y="2860"/>
                </a:lnTo>
                <a:lnTo>
                  <a:pt x="1441" y="2860"/>
                </a:lnTo>
                <a:lnTo>
                  <a:pt x="2162" y="2860"/>
                </a:lnTo>
                <a:lnTo>
                  <a:pt x="2882" y="2860"/>
                </a:lnTo>
                <a:lnTo>
                  <a:pt x="3603" y="2860"/>
                </a:lnTo>
                <a:lnTo>
                  <a:pt x="4323" y="2860"/>
                </a:lnTo>
                <a:lnTo>
                  <a:pt x="5044" y="2860"/>
                </a:lnTo>
                <a:lnTo>
                  <a:pt x="5764" y="2860"/>
                </a:lnTo>
                <a:lnTo>
                  <a:pt x="5764" y="2877"/>
                </a:lnTo>
                <a:lnTo>
                  <a:pt x="5044" y="2877"/>
                </a:lnTo>
                <a:lnTo>
                  <a:pt x="4323" y="2877"/>
                </a:lnTo>
                <a:lnTo>
                  <a:pt x="3603" y="2877"/>
                </a:lnTo>
                <a:lnTo>
                  <a:pt x="2882" y="2877"/>
                </a:lnTo>
                <a:lnTo>
                  <a:pt x="2162" y="2877"/>
                </a:lnTo>
                <a:lnTo>
                  <a:pt x="1441" y="2877"/>
                </a:lnTo>
                <a:lnTo>
                  <a:pt x="721" y="2877"/>
                </a:lnTo>
                <a:lnTo>
                  <a:pt x="0" y="2877"/>
                </a:lnTo>
                <a:close/>
                <a:moveTo>
                  <a:pt x="0" y="2844"/>
                </a:moveTo>
                <a:lnTo>
                  <a:pt x="0" y="2827"/>
                </a:lnTo>
                <a:lnTo>
                  <a:pt x="721" y="2827"/>
                </a:lnTo>
                <a:lnTo>
                  <a:pt x="1441" y="2827"/>
                </a:lnTo>
                <a:lnTo>
                  <a:pt x="2162" y="2827"/>
                </a:lnTo>
                <a:lnTo>
                  <a:pt x="2882" y="2827"/>
                </a:lnTo>
                <a:lnTo>
                  <a:pt x="3603" y="2827"/>
                </a:lnTo>
                <a:lnTo>
                  <a:pt x="4323" y="2827"/>
                </a:lnTo>
                <a:lnTo>
                  <a:pt x="5044" y="2827"/>
                </a:lnTo>
                <a:lnTo>
                  <a:pt x="5764" y="2827"/>
                </a:lnTo>
                <a:lnTo>
                  <a:pt x="5764" y="2844"/>
                </a:lnTo>
                <a:lnTo>
                  <a:pt x="5044" y="2844"/>
                </a:lnTo>
                <a:lnTo>
                  <a:pt x="4323" y="2844"/>
                </a:lnTo>
                <a:lnTo>
                  <a:pt x="3603" y="2844"/>
                </a:lnTo>
                <a:lnTo>
                  <a:pt x="2882" y="2844"/>
                </a:lnTo>
                <a:lnTo>
                  <a:pt x="2162" y="2844"/>
                </a:lnTo>
                <a:lnTo>
                  <a:pt x="1441" y="2844"/>
                </a:lnTo>
                <a:lnTo>
                  <a:pt x="721" y="2844"/>
                </a:lnTo>
                <a:lnTo>
                  <a:pt x="0" y="2844"/>
                </a:lnTo>
                <a:close/>
                <a:moveTo>
                  <a:pt x="0" y="2811"/>
                </a:moveTo>
                <a:lnTo>
                  <a:pt x="0" y="2794"/>
                </a:lnTo>
                <a:lnTo>
                  <a:pt x="721" y="2794"/>
                </a:lnTo>
                <a:lnTo>
                  <a:pt x="1441" y="2794"/>
                </a:lnTo>
                <a:lnTo>
                  <a:pt x="2162" y="2794"/>
                </a:lnTo>
                <a:lnTo>
                  <a:pt x="2882" y="2794"/>
                </a:lnTo>
                <a:lnTo>
                  <a:pt x="3603" y="2794"/>
                </a:lnTo>
                <a:lnTo>
                  <a:pt x="4323" y="2794"/>
                </a:lnTo>
                <a:lnTo>
                  <a:pt x="5044" y="2794"/>
                </a:lnTo>
                <a:lnTo>
                  <a:pt x="5764" y="2794"/>
                </a:lnTo>
                <a:lnTo>
                  <a:pt x="5764" y="2811"/>
                </a:lnTo>
                <a:lnTo>
                  <a:pt x="5044" y="2811"/>
                </a:lnTo>
                <a:lnTo>
                  <a:pt x="4323" y="2811"/>
                </a:lnTo>
                <a:lnTo>
                  <a:pt x="3603" y="2811"/>
                </a:lnTo>
                <a:lnTo>
                  <a:pt x="2882" y="2811"/>
                </a:lnTo>
                <a:lnTo>
                  <a:pt x="2162" y="2811"/>
                </a:lnTo>
                <a:lnTo>
                  <a:pt x="1441" y="2811"/>
                </a:lnTo>
                <a:lnTo>
                  <a:pt x="721" y="2811"/>
                </a:lnTo>
                <a:lnTo>
                  <a:pt x="0" y="2811"/>
                </a:lnTo>
                <a:close/>
                <a:moveTo>
                  <a:pt x="0" y="2778"/>
                </a:moveTo>
                <a:lnTo>
                  <a:pt x="0" y="2761"/>
                </a:lnTo>
                <a:lnTo>
                  <a:pt x="721" y="2761"/>
                </a:lnTo>
                <a:lnTo>
                  <a:pt x="1441" y="2761"/>
                </a:lnTo>
                <a:lnTo>
                  <a:pt x="2162" y="2761"/>
                </a:lnTo>
                <a:lnTo>
                  <a:pt x="2882" y="2761"/>
                </a:lnTo>
                <a:lnTo>
                  <a:pt x="3603" y="2761"/>
                </a:lnTo>
                <a:lnTo>
                  <a:pt x="4323" y="2761"/>
                </a:lnTo>
                <a:lnTo>
                  <a:pt x="5044" y="2761"/>
                </a:lnTo>
                <a:lnTo>
                  <a:pt x="5764" y="2761"/>
                </a:lnTo>
                <a:lnTo>
                  <a:pt x="5764" y="2778"/>
                </a:lnTo>
                <a:lnTo>
                  <a:pt x="5044" y="2778"/>
                </a:lnTo>
                <a:lnTo>
                  <a:pt x="4323" y="2778"/>
                </a:lnTo>
                <a:lnTo>
                  <a:pt x="3603" y="2778"/>
                </a:lnTo>
                <a:lnTo>
                  <a:pt x="2882" y="2778"/>
                </a:lnTo>
                <a:lnTo>
                  <a:pt x="2162" y="2778"/>
                </a:lnTo>
                <a:lnTo>
                  <a:pt x="1441" y="2778"/>
                </a:lnTo>
                <a:lnTo>
                  <a:pt x="721" y="2778"/>
                </a:lnTo>
                <a:lnTo>
                  <a:pt x="0" y="2778"/>
                </a:lnTo>
                <a:close/>
                <a:moveTo>
                  <a:pt x="0" y="2745"/>
                </a:moveTo>
                <a:lnTo>
                  <a:pt x="0" y="2728"/>
                </a:lnTo>
                <a:lnTo>
                  <a:pt x="721" y="2728"/>
                </a:lnTo>
                <a:lnTo>
                  <a:pt x="1441" y="2728"/>
                </a:lnTo>
                <a:lnTo>
                  <a:pt x="2162" y="2728"/>
                </a:lnTo>
                <a:lnTo>
                  <a:pt x="2882" y="2728"/>
                </a:lnTo>
                <a:lnTo>
                  <a:pt x="3603" y="2728"/>
                </a:lnTo>
                <a:lnTo>
                  <a:pt x="4323" y="2728"/>
                </a:lnTo>
                <a:lnTo>
                  <a:pt x="5044" y="2728"/>
                </a:lnTo>
                <a:lnTo>
                  <a:pt x="5764" y="2728"/>
                </a:lnTo>
                <a:lnTo>
                  <a:pt x="5764" y="2745"/>
                </a:lnTo>
                <a:lnTo>
                  <a:pt x="5044" y="2745"/>
                </a:lnTo>
                <a:lnTo>
                  <a:pt x="4323" y="2745"/>
                </a:lnTo>
                <a:lnTo>
                  <a:pt x="3603" y="2745"/>
                </a:lnTo>
                <a:lnTo>
                  <a:pt x="2882" y="2745"/>
                </a:lnTo>
                <a:lnTo>
                  <a:pt x="2162" y="2745"/>
                </a:lnTo>
                <a:lnTo>
                  <a:pt x="1441" y="2745"/>
                </a:lnTo>
                <a:lnTo>
                  <a:pt x="721" y="2745"/>
                </a:lnTo>
                <a:lnTo>
                  <a:pt x="0" y="2745"/>
                </a:lnTo>
                <a:close/>
                <a:moveTo>
                  <a:pt x="0" y="2712"/>
                </a:moveTo>
                <a:lnTo>
                  <a:pt x="0" y="2696"/>
                </a:lnTo>
                <a:lnTo>
                  <a:pt x="721" y="2696"/>
                </a:lnTo>
                <a:lnTo>
                  <a:pt x="1441" y="2696"/>
                </a:lnTo>
                <a:lnTo>
                  <a:pt x="2162" y="2696"/>
                </a:lnTo>
                <a:lnTo>
                  <a:pt x="2882" y="2696"/>
                </a:lnTo>
                <a:lnTo>
                  <a:pt x="3603" y="2696"/>
                </a:lnTo>
                <a:lnTo>
                  <a:pt x="4323" y="2696"/>
                </a:lnTo>
                <a:lnTo>
                  <a:pt x="5044" y="2696"/>
                </a:lnTo>
                <a:lnTo>
                  <a:pt x="5764" y="2696"/>
                </a:lnTo>
                <a:lnTo>
                  <a:pt x="5764" y="2712"/>
                </a:lnTo>
                <a:lnTo>
                  <a:pt x="5044" y="2712"/>
                </a:lnTo>
                <a:lnTo>
                  <a:pt x="4323" y="2712"/>
                </a:lnTo>
                <a:lnTo>
                  <a:pt x="3603" y="2712"/>
                </a:lnTo>
                <a:lnTo>
                  <a:pt x="2882" y="2712"/>
                </a:lnTo>
                <a:lnTo>
                  <a:pt x="2162" y="2712"/>
                </a:lnTo>
                <a:lnTo>
                  <a:pt x="1441" y="2712"/>
                </a:lnTo>
                <a:lnTo>
                  <a:pt x="721" y="2712"/>
                </a:lnTo>
                <a:lnTo>
                  <a:pt x="0" y="2712"/>
                </a:lnTo>
                <a:close/>
                <a:moveTo>
                  <a:pt x="0" y="2680"/>
                </a:moveTo>
                <a:lnTo>
                  <a:pt x="0" y="2663"/>
                </a:lnTo>
                <a:lnTo>
                  <a:pt x="721" y="2663"/>
                </a:lnTo>
                <a:lnTo>
                  <a:pt x="1441" y="2663"/>
                </a:lnTo>
                <a:lnTo>
                  <a:pt x="2162" y="2663"/>
                </a:lnTo>
                <a:lnTo>
                  <a:pt x="2882" y="2663"/>
                </a:lnTo>
                <a:lnTo>
                  <a:pt x="3603" y="2663"/>
                </a:lnTo>
                <a:lnTo>
                  <a:pt x="4323" y="2663"/>
                </a:lnTo>
                <a:lnTo>
                  <a:pt x="5044" y="2663"/>
                </a:lnTo>
                <a:lnTo>
                  <a:pt x="5764" y="2663"/>
                </a:lnTo>
                <a:lnTo>
                  <a:pt x="5764" y="2680"/>
                </a:lnTo>
                <a:lnTo>
                  <a:pt x="5044" y="2680"/>
                </a:lnTo>
                <a:lnTo>
                  <a:pt x="4323" y="2680"/>
                </a:lnTo>
                <a:lnTo>
                  <a:pt x="3603" y="2680"/>
                </a:lnTo>
                <a:lnTo>
                  <a:pt x="2882" y="2680"/>
                </a:lnTo>
                <a:lnTo>
                  <a:pt x="2162" y="2680"/>
                </a:lnTo>
                <a:lnTo>
                  <a:pt x="1441" y="2680"/>
                </a:lnTo>
                <a:lnTo>
                  <a:pt x="721" y="2680"/>
                </a:lnTo>
                <a:lnTo>
                  <a:pt x="0" y="2680"/>
                </a:lnTo>
                <a:close/>
                <a:moveTo>
                  <a:pt x="0" y="2647"/>
                </a:moveTo>
                <a:lnTo>
                  <a:pt x="0" y="2630"/>
                </a:lnTo>
                <a:lnTo>
                  <a:pt x="721" y="2630"/>
                </a:lnTo>
                <a:lnTo>
                  <a:pt x="1441" y="2630"/>
                </a:lnTo>
                <a:lnTo>
                  <a:pt x="2162" y="2630"/>
                </a:lnTo>
                <a:lnTo>
                  <a:pt x="2882" y="2630"/>
                </a:lnTo>
                <a:lnTo>
                  <a:pt x="3603" y="2630"/>
                </a:lnTo>
                <a:lnTo>
                  <a:pt x="4323" y="2630"/>
                </a:lnTo>
                <a:lnTo>
                  <a:pt x="5044" y="2630"/>
                </a:lnTo>
                <a:lnTo>
                  <a:pt x="5764" y="2630"/>
                </a:lnTo>
                <a:lnTo>
                  <a:pt x="5764" y="2647"/>
                </a:lnTo>
                <a:lnTo>
                  <a:pt x="5044" y="2647"/>
                </a:lnTo>
                <a:lnTo>
                  <a:pt x="4323" y="2647"/>
                </a:lnTo>
                <a:lnTo>
                  <a:pt x="3603" y="2647"/>
                </a:lnTo>
                <a:lnTo>
                  <a:pt x="2882" y="2647"/>
                </a:lnTo>
                <a:lnTo>
                  <a:pt x="2162" y="2647"/>
                </a:lnTo>
                <a:lnTo>
                  <a:pt x="1441" y="2647"/>
                </a:lnTo>
                <a:lnTo>
                  <a:pt x="721" y="2647"/>
                </a:lnTo>
                <a:lnTo>
                  <a:pt x="0" y="2647"/>
                </a:lnTo>
                <a:close/>
                <a:moveTo>
                  <a:pt x="0" y="2614"/>
                </a:moveTo>
                <a:lnTo>
                  <a:pt x="0" y="2597"/>
                </a:lnTo>
                <a:lnTo>
                  <a:pt x="721" y="2597"/>
                </a:lnTo>
                <a:lnTo>
                  <a:pt x="1441" y="2597"/>
                </a:lnTo>
                <a:lnTo>
                  <a:pt x="2162" y="2597"/>
                </a:lnTo>
                <a:lnTo>
                  <a:pt x="2882" y="2597"/>
                </a:lnTo>
                <a:lnTo>
                  <a:pt x="3603" y="2597"/>
                </a:lnTo>
                <a:lnTo>
                  <a:pt x="4323" y="2597"/>
                </a:lnTo>
                <a:lnTo>
                  <a:pt x="5044" y="2597"/>
                </a:lnTo>
                <a:lnTo>
                  <a:pt x="5764" y="2597"/>
                </a:lnTo>
                <a:lnTo>
                  <a:pt x="5764" y="2614"/>
                </a:lnTo>
                <a:lnTo>
                  <a:pt x="5044" y="2614"/>
                </a:lnTo>
                <a:lnTo>
                  <a:pt x="4323" y="2614"/>
                </a:lnTo>
                <a:lnTo>
                  <a:pt x="3603" y="2614"/>
                </a:lnTo>
                <a:lnTo>
                  <a:pt x="2882" y="2614"/>
                </a:lnTo>
                <a:lnTo>
                  <a:pt x="2162" y="2614"/>
                </a:lnTo>
                <a:lnTo>
                  <a:pt x="1441" y="2614"/>
                </a:lnTo>
                <a:lnTo>
                  <a:pt x="721" y="2614"/>
                </a:lnTo>
                <a:lnTo>
                  <a:pt x="0" y="2614"/>
                </a:lnTo>
                <a:close/>
                <a:moveTo>
                  <a:pt x="0" y="2581"/>
                </a:moveTo>
                <a:lnTo>
                  <a:pt x="0" y="2564"/>
                </a:lnTo>
                <a:lnTo>
                  <a:pt x="721" y="2564"/>
                </a:lnTo>
                <a:lnTo>
                  <a:pt x="1441" y="2564"/>
                </a:lnTo>
                <a:lnTo>
                  <a:pt x="2162" y="2564"/>
                </a:lnTo>
                <a:lnTo>
                  <a:pt x="2882" y="2564"/>
                </a:lnTo>
                <a:lnTo>
                  <a:pt x="3603" y="2564"/>
                </a:lnTo>
                <a:lnTo>
                  <a:pt x="4323" y="2564"/>
                </a:lnTo>
                <a:lnTo>
                  <a:pt x="5044" y="2564"/>
                </a:lnTo>
                <a:lnTo>
                  <a:pt x="5764" y="2564"/>
                </a:lnTo>
                <a:lnTo>
                  <a:pt x="5764" y="2581"/>
                </a:lnTo>
                <a:lnTo>
                  <a:pt x="5044" y="2581"/>
                </a:lnTo>
                <a:lnTo>
                  <a:pt x="4323" y="2581"/>
                </a:lnTo>
                <a:lnTo>
                  <a:pt x="3603" y="2581"/>
                </a:lnTo>
                <a:lnTo>
                  <a:pt x="2882" y="2581"/>
                </a:lnTo>
                <a:lnTo>
                  <a:pt x="2162" y="2581"/>
                </a:lnTo>
                <a:lnTo>
                  <a:pt x="1441" y="2581"/>
                </a:lnTo>
                <a:lnTo>
                  <a:pt x="721" y="2581"/>
                </a:lnTo>
                <a:lnTo>
                  <a:pt x="0" y="2581"/>
                </a:lnTo>
                <a:close/>
                <a:moveTo>
                  <a:pt x="0" y="2548"/>
                </a:moveTo>
                <a:lnTo>
                  <a:pt x="0" y="2531"/>
                </a:lnTo>
                <a:lnTo>
                  <a:pt x="721" y="2531"/>
                </a:lnTo>
                <a:lnTo>
                  <a:pt x="1441" y="2531"/>
                </a:lnTo>
                <a:lnTo>
                  <a:pt x="2162" y="2531"/>
                </a:lnTo>
                <a:lnTo>
                  <a:pt x="2882" y="2531"/>
                </a:lnTo>
                <a:lnTo>
                  <a:pt x="3603" y="2531"/>
                </a:lnTo>
                <a:lnTo>
                  <a:pt x="4323" y="2531"/>
                </a:lnTo>
                <a:lnTo>
                  <a:pt x="5044" y="2531"/>
                </a:lnTo>
                <a:lnTo>
                  <a:pt x="5764" y="2531"/>
                </a:lnTo>
                <a:lnTo>
                  <a:pt x="5764" y="2548"/>
                </a:lnTo>
                <a:lnTo>
                  <a:pt x="5044" y="2548"/>
                </a:lnTo>
                <a:lnTo>
                  <a:pt x="4323" y="2548"/>
                </a:lnTo>
                <a:lnTo>
                  <a:pt x="3603" y="2548"/>
                </a:lnTo>
                <a:lnTo>
                  <a:pt x="2882" y="2548"/>
                </a:lnTo>
                <a:lnTo>
                  <a:pt x="2162" y="2548"/>
                </a:lnTo>
                <a:lnTo>
                  <a:pt x="1441" y="2548"/>
                </a:lnTo>
                <a:lnTo>
                  <a:pt x="721" y="2548"/>
                </a:lnTo>
                <a:lnTo>
                  <a:pt x="0" y="2548"/>
                </a:lnTo>
                <a:close/>
                <a:moveTo>
                  <a:pt x="0" y="2515"/>
                </a:moveTo>
                <a:lnTo>
                  <a:pt x="0" y="2499"/>
                </a:lnTo>
                <a:lnTo>
                  <a:pt x="721" y="2499"/>
                </a:lnTo>
                <a:lnTo>
                  <a:pt x="1441" y="2499"/>
                </a:lnTo>
                <a:lnTo>
                  <a:pt x="2162" y="2499"/>
                </a:lnTo>
                <a:lnTo>
                  <a:pt x="2882" y="2499"/>
                </a:lnTo>
                <a:lnTo>
                  <a:pt x="3603" y="2499"/>
                </a:lnTo>
                <a:lnTo>
                  <a:pt x="4323" y="2499"/>
                </a:lnTo>
                <a:lnTo>
                  <a:pt x="5044" y="2499"/>
                </a:lnTo>
                <a:lnTo>
                  <a:pt x="5764" y="2499"/>
                </a:lnTo>
                <a:lnTo>
                  <a:pt x="5764" y="2515"/>
                </a:lnTo>
                <a:lnTo>
                  <a:pt x="5044" y="2515"/>
                </a:lnTo>
                <a:lnTo>
                  <a:pt x="4323" y="2515"/>
                </a:lnTo>
                <a:lnTo>
                  <a:pt x="3603" y="2515"/>
                </a:lnTo>
                <a:lnTo>
                  <a:pt x="2882" y="2515"/>
                </a:lnTo>
                <a:lnTo>
                  <a:pt x="2162" y="2515"/>
                </a:lnTo>
                <a:lnTo>
                  <a:pt x="1441" y="2515"/>
                </a:lnTo>
                <a:lnTo>
                  <a:pt x="721" y="2515"/>
                </a:lnTo>
                <a:lnTo>
                  <a:pt x="0" y="2515"/>
                </a:lnTo>
                <a:close/>
                <a:moveTo>
                  <a:pt x="0" y="2482"/>
                </a:moveTo>
                <a:lnTo>
                  <a:pt x="0" y="2466"/>
                </a:lnTo>
                <a:lnTo>
                  <a:pt x="721" y="2466"/>
                </a:lnTo>
                <a:lnTo>
                  <a:pt x="1441" y="2466"/>
                </a:lnTo>
                <a:lnTo>
                  <a:pt x="2162" y="2466"/>
                </a:lnTo>
                <a:lnTo>
                  <a:pt x="2882" y="2466"/>
                </a:lnTo>
                <a:lnTo>
                  <a:pt x="3603" y="2466"/>
                </a:lnTo>
                <a:lnTo>
                  <a:pt x="4323" y="2466"/>
                </a:lnTo>
                <a:lnTo>
                  <a:pt x="5044" y="2466"/>
                </a:lnTo>
                <a:lnTo>
                  <a:pt x="5764" y="2466"/>
                </a:lnTo>
                <a:lnTo>
                  <a:pt x="5764" y="2482"/>
                </a:lnTo>
                <a:lnTo>
                  <a:pt x="5044" y="2482"/>
                </a:lnTo>
                <a:lnTo>
                  <a:pt x="4323" y="2482"/>
                </a:lnTo>
                <a:lnTo>
                  <a:pt x="3603" y="2482"/>
                </a:lnTo>
                <a:lnTo>
                  <a:pt x="2882" y="2482"/>
                </a:lnTo>
                <a:lnTo>
                  <a:pt x="2162" y="2482"/>
                </a:lnTo>
                <a:lnTo>
                  <a:pt x="1441" y="2482"/>
                </a:lnTo>
                <a:lnTo>
                  <a:pt x="721" y="2482"/>
                </a:lnTo>
                <a:lnTo>
                  <a:pt x="0" y="2482"/>
                </a:lnTo>
                <a:close/>
                <a:moveTo>
                  <a:pt x="0" y="2450"/>
                </a:moveTo>
                <a:lnTo>
                  <a:pt x="0" y="2433"/>
                </a:lnTo>
                <a:lnTo>
                  <a:pt x="721" y="2433"/>
                </a:lnTo>
                <a:lnTo>
                  <a:pt x="1441" y="2433"/>
                </a:lnTo>
                <a:lnTo>
                  <a:pt x="2162" y="2433"/>
                </a:lnTo>
                <a:lnTo>
                  <a:pt x="2882" y="2433"/>
                </a:lnTo>
                <a:lnTo>
                  <a:pt x="3603" y="2433"/>
                </a:lnTo>
                <a:lnTo>
                  <a:pt x="4323" y="2433"/>
                </a:lnTo>
                <a:lnTo>
                  <a:pt x="5044" y="2433"/>
                </a:lnTo>
                <a:lnTo>
                  <a:pt x="5764" y="2433"/>
                </a:lnTo>
                <a:lnTo>
                  <a:pt x="5764" y="2450"/>
                </a:lnTo>
                <a:lnTo>
                  <a:pt x="5044" y="2450"/>
                </a:lnTo>
                <a:lnTo>
                  <a:pt x="4323" y="2450"/>
                </a:lnTo>
                <a:lnTo>
                  <a:pt x="3603" y="2450"/>
                </a:lnTo>
                <a:lnTo>
                  <a:pt x="2882" y="2450"/>
                </a:lnTo>
                <a:lnTo>
                  <a:pt x="2162" y="2450"/>
                </a:lnTo>
                <a:lnTo>
                  <a:pt x="1441" y="2450"/>
                </a:lnTo>
                <a:lnTo>
                  <a:pt x="721" y="2450"/>
                </a:lnTo>
                <a:lnTo>
                  <a:pt x="0" y="2450"/>
                </a:lnTo>
                <a:close/>
                <a:moveTo>
                  <a:pt x="0" y="2417"/>
                </a:moveTo>
                <a:lnTo>
                  <a:pt x="0" y="2400"/>
                </a:lnTo>
                <a:lnTo>
                  <a:pt x="721" y="2400"/>
                </a:lnTo>
                <a:lnTo>
                  <a:pt x="1441" y="2400"/>
                </a:lnTo>
                <a:lnTo>
                  <a:pt x="2162" y="2400"/>
                </a:lnTo>
                <a:lnTo>
                  <a:pt x="2882" y="2400"/>
                </a:lnTo>
                <a:lnTo>
                  <a:pt x="3603" y="2400"/>
                </a:lnTo>
                <a:lnTo>
                  <a:pt x="4323" y="2400"/>
                </a:lnTo>
                <a:lnTo>
                  <a:pt x="5044" y="2400"/>
                </a:lnTo>
                <a:lnTo>
                  <a:pt x="5764" y="2400"/>
                </a:lnTo>
                <a:lnTo>
                  <a:pt x="5764" y="2417"/>
                </a:lnTo>
                <a:lnTo>
                  <a:pt x="5044" y="2417"/>
                </a:lnTo>
                <a:lnTo>
                  <a:pt x="4323" y="2417"/>
                </a:lnTo>
                <a:lnTo>
                  <a:pt x="3603" y="2417"/>
                </a:lnTo>
                <a:lnTo>
                  <a:pt x="2882" y="2417"/>
                </a:lnTo>
                <a:lnTo>
                  <a:pt x="2162" y="2417"/>
                </a:lnTo>
                <a:lnTo>
                  <a:pt x="1441" y="2417"/>
                </a:lnTo>
                <a:lnTo>
                  <a:pt x="721" y="2417"/>
                </a:lnTo>
                <a:lnTo>
                  <a:pt x="0" y="2417"/>
                </a:lnTo>
                <a:close/>
                <a:moveTo>
                  <a:pt x="0" y="2384"/>
                </a:moveTo>
                <a:lnTo>
                  <a:pt x="0" y="2367"/>
                </a:lnTo>
                <a:lnTo>
                  <a:pt x="721" y="2367"/>
                </a:lnTo>
                <a:lnTo>
                  <a:pt x="1441" y="2367"/>
                </a:lnTo>
                <a:lnTo>
                  <a:pt x="2162" y="2367"/>
                </a:lnTo>
                <a:lnTo>
                  <a:pt x="2882" y="2367"/>
                </a:lnTo>
                <a:lnTo>
                  <a:pt x="3603" y="2367"/>
                </a:lnTo>
                <a:lnTo>
                  <a:pt x="4323" y="2367"/>
                </a:lnTo>
                <a:lnTo>
                  <a:pt x="5044" y="2367"/>
                </a:lnTo>
                <a:lnTo>
                  <a:pt x="5764" y="2367"/>
                </a:lnTo>
                <a:lnTo>
                  <a:pt x="5764" y="2384"/>
                </a:lnTo>
                <a:lnTo>
                  <a:pt x="5044" y="2384"/>
                </a:lnTo>
                <a:lnTo>
                  <a:pt x="4323" y="2384"/>
                </a:lnTo>
                <a:lnTo>
                  <a:pt x="3603" y="2384"/>
                </a:lnTo>
                <a:lnTo>
                  <a:pt x="2882" y="2384"/>
                </a:lnTo>
                <a:lnTo>
                  <a:pt x="2162" y="2384"/>
                </a:lnTo>
                <a:lnTo>
                  <a:pt x="1441" y="2384"/>
                </a:lnTo>
                <a:lnTo>
                  <a:pt x="721" y="2384"/>
                </a:lnTo>
                <a:lnTo>
                  <a:pt x="0" y="2384"/>
                </a:lnTo>
                <a:close/>
                <a:moveTo>
                  <a:pt x="0" y="2351"/>
                </a:moveTo>
                <a:lnTo>
                  <a:pt x="0" y="2334"/>
                </a:lnTo>
                <a:lnTo>
                  <a:pt x="721" y="2334"/>
                </a:lnTo>
                <a:lnTo>
                  <a:pt x="1441" y="2334"/>
                </a:lnTo>
                <a:lnTo>
                  <a:pt x="2162" y="2334"/>
                </a:lnTo>
                <a:lnTo>
                  <a:pt x="2882" y="2334"/>
                </a:lnTo>
                <a:lnTo>
                  <a:pt x="3603" y="2334"/>
                </a:lnTo>
                <a:lnTo>
                  <a:pt x="4323" y="2334"/>
                </a:lnTo>
                <a:lnTo>
                  <a:pt x="5044" y="2334"/>
                </a:lnTo>
                <a:lnTo>
                  <a:pt x="5764" y="2334"/>
                </a:lnTo>
                <a:lnTo>
                  <a:pt x="5764" y="2351"/>
                </a:lnTo>
                <a:lnTo>
                  <a:pt x="5044" y="2351"/>
                </a:lnTo>
                <a:lnTo>
                  <a:pt x="4323" y="2351"/>
                </a:lnTo>
                <a:lnTo>
                  <a:pt x="3603" y="2351"/>
                </a:lnTo>
                <a:lnTo>
                  <a:pt x="2882" y="2351"/>
                </a:lnTo>
                <a:lnTo>
                  <a:pt x="2162" y="2351"/>
                </a:lnTo>
                <a:lnTo>
                  <a:pt x="1441" y="2351"/>
                </a:lnTo>
                <a:lnTo>
                  <a:pt x="721" y="2351"/>
                </a:lnTo>
                <a:lnTo>
                  <a:pt x="0" y="2351"/>
                </a:lnTo>
                <a:close/>
                <a:moveTo>
                  <a:pt x="0" y="2318"/>
                </a:moveTo>
                <a:lnTo>
                  <a:pt x="0" y="2301"/>
                </a:lnTo>
                <a:lnTo>
                  <a:pt x="721" y="2301"/>
                </a:lnTo>
                <a:lnTo>
                  <a:pt x="1441" y="2301"/>
                </a:lnTo>
                <a:lnTo>
                  <a:pt x="2162" y="2301"/>
                </a:lnTo>
                <a:lnTo>
                  <a:pt x="2882" y="2301"/>
                </a:lnTo>
                <a:lnTo>
                  <a:pt x="3603" y="2301"/>
                </a:lnTo>
                <a:lnTo>
                  <a:pt x="4323" y="2301"/>
                </a:lnTo>
                <a:lnTo>
                  <a:pt x="5044" y="2301"/>
                </a:lnTo>
                <a:lnTo>
                  <a:pt x="5764" y="2301"/>
                </a:lnTo>
                <a:lnTo>
                  <a:pt x="5764" y="2318"/>
                </a:lnTo>
                <a:lnTo>
                  <a:pt x="5044" y="2318"/>
                </a:lnTo>
                <a:lnTo>
                  <a:pt x="4323" y="2318"/>
                </a:lnTo>
                <a:lnTo>
                  <a:pt x="3603" y="2318"/>
                </a:lnTo>
                <a:lnTo>
                  <a:pt x="2882" y="2318"/>
                </a:lnTo>
                <a:lnTo>
                  <a:pt x="2162" y="2318"/>
                </a:lnTo>
                <a:lnTo>
                  <a:pt x="1441" y="2318"/>
                </a:lnTo>
                <a:lnTo>
                  <a:pt x="721" y="2318"/>
                </a:lnTo>
                <a:lnTo>
                  <a:pt x="0" y="2318"/>
                </a:lnTo>
                <a:close/>
                <a:moveTo>
                  <a:pt x="0" y="2285"/>
                </a:moveTo>
                <a:lnTo>
                  <a:pt x="0" y="2269"/>
                </a:lnTo>
                <a:lnTo>
                  <a:pt x="721" y="2269"/>
                </a:lnTo>
                <a:lnTo>
                  <a:pt x="1441" y="2269"/>
                </a:lnTo>
                <a:lnTo>
                  <a:pt x="2162" y="2269"/>
                </a:lnTo>
                <a:lnTo>
                  <a:pt x="2882" y="2269"/>
                </a:lnTo>
                <a:lnTo>
                  <a:pt x="3603" y="2269"/>
                </a:lnTo>
                <a:lnTo>
                  <a:pt x="4323" y="2269"/>
                </a:lnTo>
                <a:lnTo>
                  <a:pt x="5044" y="2269"/>
                </a:lnTo>
                <a:lnTo>
                  <a:pt x="5764" y="2269"/>
                </a:lnTo>
                <a:lnTo>
                  <a:pt x="5764" y="2285"/>
                </a:lnTo>
                <a:lnTo>
                  <a:pt x="5044" y="2285"/>
                </a:lnTo>
                <a:lnTo>
                  <a:pt x="4323" y="2285"/>
                </a:lnTo>
                <a:lnTo>
                  <a:pt x="3603" y="2285"/>
                </a:lnTo>
                <a:lnTo>
                  <a:pt x="2882" y="2285"/>
                </a:lnTo>
                <a:lnTo>
                  <a:pt x="2162" y="2285"/>
                </a:lnTo>
                <a:lnTo>
                  <a:pt x="1441" y="2285"/>
                </a:lnTo>
                <a:lnTo>
                  <a:pt x="721" y="2285"/>
                </a:lnTo>
                <a:lnTo>
                  <a:pt x="0" y="2285"/>
                </a:lnTo>
                <a:close/>
                <a:moveTo>
                  <a:pt x="0" y="2253"/>
                </a:moveTo>
                <a:lnTo>
                  <a:pt x="0" y="2236"/>
                </a:lnTo>
                <a:lnTo>
                  <a:pt x="721" y="2236"/>
                </a:lnTo>
                <a:lnTo>
                  <a:pt x="1441" y="2236"/>
                </a:lnTo>
                <a:lnTo>
                  <a:pt x="2162" y="2236"/>
                </a:lnTo>
                <a:lnTo>
                  <a:pt x="2882" y="2236"/>
                </a:lnTo>
                <a:lnTo>
                  <a:pt x="3603" y="2236"/>
                </a:lnTo>
                <a:lnTo>
                  <a:pt x="4323" y="2236"/>
                </a:lnTo>
                <a:lnTo>
                  <a:pt x="5044" y="2236"/>
                </a:lnTo>
                <a:lnTo>
                  <a:pt x="5764" y="2236"/>
                </a:lnTo>
                <a:lnTo>
                  <a:pt x="5764" y="2253"/>
                </a:lnTo>
                <a:lnTo>
                  <a:pt x="5044" y="2253"/>
                </a:lnTo>
                <a:lnTo>
                  <a:pt x="4323" y="2253"/>
                </a:lnTo>
                <a:lnTo>
                  <a:pt x="3603" y="2253"/>
                </a:lnTo>
                <a:lnTo>
                  <a:pt x="2882" y="2253"/>
                </a:lnTo>
                <a:lnTo>
                  <a:pt x="2162" y="2253"/>
                </a:lnTo>
                <a:lnTo>
                  <a:pt x="1441" y="2253"/>
                </a:lnTo>
                <a:lnTo>
                  <a:pt x="721" y="2253"/>
                </a:lnTo>
                <a:lnTo>
                  <a:pt x="0" y="2253"/>
                </a:lnTo>
                <a:close/>
                <a:moveTo>
                  <a:pt x="0" y="2220"/>
                </a:moveTo>
                <a:lnTo>
                  <a:pt x="0" y="2203"/>
                </a:lnTo>
                <a:lnTo>
                  <a:pt x="721" y="2203"/>
                </a:lnTo>
                <a:lnTo>
                  <a:pt x="1441" y="2203"/>
                </a:lnTo>
                <a:lnTo>
                  <a:pt x="2162" y="2203"/>
                </a:lnTo>
                <a:lnTo>
                  <a:pt x="2882" y="2203"/>
                </a:lnTo>
                <a:lnTo>
                  <a:pt x="3603" y="2203"/>
                </a:lnTo>
                <a:lnTo>
                  <a:pt x="4323" y="2203"/>
                </a:lnTo>
                <a:lnTo>
                  <a:pt x="5044" y="2203"/>
                </a:lnTo>
                <a:lnTo>
                  <a:pt x="5764" y="2203"/>
                </a:lnTo>
                <a:lnTo>
                  <a:pt x="5764" y="2220"/>
                </a:lnTo>
                <a:lnTo>
                  <a:pt x="5044" y="2220"/>
                </a:lnTo>
                <a:lnTo>
                  <a:pt x="4323" y="2220"/>
                </a:lnTo>
                <a:lnTo>
                  <a:pt x="3603" y="2220"/>
                </a:lnTo>
                <a:lnTo>
                  <a:pt x="2882" y="2220"/>
                </a:lnTo>
                <a:lnTo>
                  <a:pt x="2162" y="2220"/>
                </a:lnTo>
                <a:lnTo>
                  <a:pt x="1441" y="2220"/>
                </a:lnTo>
                <a:lnTo>
                  <a:pt x="721" y="2220"/>
                </a:lnTo>
                <a:lnTo>
                  <a:pt x="0" y="2220"/>
                </a:lnTo>
                <a:close/>
                <a:moveTo>
                  <a:pt x="0" y="2187"/>
                </a:moveTo>
                <a:lnTo>
                  <a:pt x="0" y="2170"/>
                </a:lnTo>
                <a:lnTo>
                  <a:pt x="721" y="2170"/>
                </a:lnTo>
                <a:lnTo>
                  <a:pt x="1441" y="2170"/>
                </a:lnTo>
                <a:lnTo>
                  <a:pt x="2162" y="2170"/>
                </a:lnTo>
                <a:lnTo>
                  <a:pt x="2882" y="2170"/>
                </a:lnTo>
                <a:lnTo>
                  <a:pt x="3603" y="2170"/>
                </a:lnTo>
                <a:lnTo>
                  <a:pt x="4323" y="2170"/>
                </a:lnTo>
                <a:lnTo>
                  <a:pt x="5044" y="2170"/>
                </a:lnTo>
                <a:lnTo>
                  <a:pt x="5764" y="2170"/>
                </a:lnTo>
                <a:lnTo>
                  <a:pt x="5764" y="2187"/>
                </a:lnTo>
                <a:lnTo>
                  <a:pt x="5044" y="2187"/>
                </a:lnTo>
                <a:lnTo>
                  <a:pt x="4323" y="2187"/>
                </a:lnTo>
                <a:lnTo>
                  <a:pt x="3603" y="2187"/>
                </a:lnTo>
                <a:lnTo>
                  <a:pt x="2882" y="2187"/>
                </a:lnTo>
                <a:lnTo>
                  <a:pt x="2162" y="2187"/>
                </a:lnTo>
                <a:lnTo>
                  <a:pt x="1441" y="2187"/>
                </a:lnTo>
                <a:lnTo>
                  <a:pt x="721" y="2187"/>
                </a:lnTo>
                <a:lnTo>
                  <a:pt x="0" y="2187"/>
                </a:lnTo>
                <a:close/>
                <a:moveTo>
                  <a:pt x="0" y="2153"/>
                </a:moveTo>
                <a:lnTo>
                  <a:pt x="0" y="2136"/>
                </a:lnTo>
                <a:lnTo>
                  <a:pt x="721" y="2136"/>
                </a:lnTo>
                <a:lnTo>
                  <a:pt x="1441" y="2136"/>
                </a:lnTo>
                <a:lnTo>
                  <a:pt x="2162" y="2136"/>
                </a:lnTo>
                <a:lnTo>
                  <a:pt x="2882" y="2136"/>
                </a:lnTo>
                <a:lnTo>
                  <a:pt x="3603" y="2136"/>
                </a:lnTo>
                <a:lnTo>
                  <a:pt x="4323" y="2136"/>
                </a:lnTo>
                <a:lnTo>
                  <a:pt x="5044" y="2136"/>
                </a:lnTo>
                <a:lnTo>
                  <a:pt x="5764" y="2136"/>
                </a:lnTo>
                <a:lnTo>
                  <a:pt x="5764" y="2153"/>
                </a:lnTo>
                <a:lnTo>
                  <a:pt x="5044" y="2153"/>
                </a:lnTo>
                <a:lnTo>
                  <a:pt x="4323" y="2153"/>
                </a:lnTo>
                <a:lnTo>
                  <a:pt x="3603" y="2153"/>
                </a:lnTo>
                <a:lnTo>
                  <a:pt x="2882" y="2153"/>
                </a:lnTo>
                <a:lnTo>
                  <a:pt x="2162" y="2153"/>
                </a:lnTo>
                <a:lnTo>
                  <a:pt x="1441" y="2153"/>
                </a:lnTo>
                <a:lnTo>
                  <a:pt x="721" y="2153"/>
                </a:lnTo>
                <a:lnTo>
                  <a:pt x="0" y="2153"/>
                </a:lnTo>
                <a:close/>
                <a:moveTo>
                  <a:pt x="0" y="2120"/>
                </a:moveTo>
                <a:lnTo>
                  <a:pt x="0" y="2103"/>
                </a:lnTo>
                <a:lnTo>
                  <a:pt x="721" y="2103"/>
                </a:lnTo>
                <a:lnTo>
                  <a:pt x="1441" y="2103"/>
                </a:lnTo>
                <a:lnTo>
                  <a:pt x="2162" y="2103"/>
                </a:lnTo>
                <a:lnTo>
                  <a:pt x="2882" y="2103"/>
                </a:lnTo>
                <a:lnTo>
                  <a:pt x="3603" y="2103"/>
                </a:lnTo>
                <a:lnTo>
                  <a:pt x="4323" y="2103"/>
                </a:lnTo>
                <a:lnTo>
                  <a:pt x="5044" y="2103"/>
                </a:lnTo>
                <a:lnTo>
                  <a:pt x="5764" y="2103"/>
                </a:lnTo>
                <a:lnTo>
                  <a:pt x="5764" y="2120"/>
                </a:lnTo>
                <a:lnTo>
                  <a:pt x="5044" y="2120"/>
                </a:lnTo>
                <a:lnTo>
                  <a:pt x="4323" y="2120"/>
                </a:lnTo>
                <a:lnTo>
                  <a:pt x="3603" y="2120"/>
                </a:lnTo>
                <a:lnTo>
                  <a:pt x="2882" y="2120"/>
                </a:lnTo>
                <a:lnTo>
                  <a:pt x="2162" y="2120"/>
                </a:lnTo>
                <a:lnTo>
                  <a:pt x="1441" y="2120"/>
                </a:lnTo>
                <a:lnTo>
                  <a:pt x="721" y="2120"/>
                </a:lnTo>
                <a:lnTo>
                  <a:pt x="0" y="2120"/>
                </a:lnTo>
                <a:close/>
                <a:moveTo>
                  <a:pt x="0" y="2087"/>
                </a:moveTo>
                <a:lnTo>
                  <a:pt x="0" y="2070"/>
                </a:lnTo>
                <a:lnTo>
                  <a:pt x="721" y="2070"/>
                </a:lnTo>
                <a:lnTo>
                  <a:pt x="1441" y="2070"/>
                </a:lnTo>
                <a:lnTo>
                  <a:pt x="2162" y="2070"/>
                </a:lnTo>
                <a:lnTo>
                  <a:pt x="2882" y="2070"/>
                </a:lnTo>
                <a:lnTo>
                  <a:pt x="3603" y="2070"/>
                </a:lnTo>
                <a:lnTo>
                  <a:pt x="4323" y="2070"/>
                </a:lnTo>
                <a:lnTo>
                  <a:pt x="5044" y="2070"/>
                </a:lnTo>
                <a:lnTo>
                  <a:pt x="5764" y="2070"/>
                </a:lnTo>
                <a:lnTo>
                  <a:pt x="5764" y="2087"/>
                </a:lnTo>
                <a:lnTo>
                  <a:pt x="5044" y="2087"/>
                </a:lnTo>
                <a:lnTo>
                  <a:pt x="4323" y="2087"/>
                </a:lnTo>
                <a:lnTo>
                  <a:pt x="3603" y="2087"/>
                </a:lnTo>
                <a:lnTo>
                  <a:pt x="2882" y="2087"/>
                </a:lnTo>
                <a:lnTo>
                  <a:pt x="2162" y="2087"/>
                </a:lnTo>
                <a:lnTo>
                  <a:pt x="1441" y="2087"/>
                </a:lnTo>
                <a:lnTo>
                  <a:pt x="721" y="2087"/>
                </a:lnTo>
                <a:lnTo>
                  <a:pt x="0" y="2087"/>
                </a:lnTo>
                <a:close/>
                <a:moveTo>
                  <a:pt x="0" y="2054"/>
                </a:moveTo>
                <a:lnTo>
                  <a:pt x="0" y="2038"/>
                </a:lnTo>
                <a:lnTo>
                  <a:pt x="721" y="2038"/>
                </a:lnTo>
                <a:lnTo>
                  <a:pt x="1441" y="2038"/>
                </a:lnTo>
                <a:lnTo>
                  <a:pt x="2162" y="2038"/>
                </a:lnTo>
                <a:lnTo>
                  <a:pt x="2882" y="2038"/>
                </a:lnTo>
                <a:lnTo>
                  <a:pt x="3603" y="2038"/>
                </a:lnTo>
                <a:lnTo>
                  <a:pt x="4323" y="2038"/>
                </a:lnTo>
                <a:lnTo>
                  <a:pt x="5044" y="2038"/>
                </a:lnTo>
                <a:lnTo>
                  <a:pt x="5764" y="2038"/>
                </a:lnTo>
                <a:lnTo>
                  <a:pt x="5764" y="2054"/>
                </a:lnTo>
                <a:lnTo>
                  <a:pt x="5044" y="2054"/>
                </a:lnTo>
                <a:lnTo>
                  <a:pt x="4323" y="2054"/>
                </a:lnTo>
                <a:lnTo>
                  <a:pt x="3603" y="2054"/>
                </a:lnTo>
                <a:lnTo>
                  <a:pt x="2882" y="2054"/>
                </a:lnTo>
                <a:lnTo>
                  <a:pt x="2162" y="2054"/>
                </a:lnTo>
                <a:lnTo>
                  <a:pt x="1441" y="2054"/>
                </a:lnTo>
                <a:lnTo>
                  <a:pt x="721" y="2054"/>
                </a:lnTo>
                <a:lnTo>
                  <a:pt x="0" y="2054"/>
                </a:lnTo>
                <a:close/>
                <a:moveTo>
                  <a:pt x="0" y="2022"/>
                </a:moveTo>
                <a:lnTo>
                  <a:pt x="0" y="2005"/>
                </a:lnTo>
                <a:lnTo>
                  <a:pt x="721" y="2005"/>
                </a:lnTo>
                <a:lnTo>
                  <a:pt x="1441" y="2005"/>
                </a:lnTo>
                <a:lnTo>
                  <a:pt x="2162" y="2005"/>
                </a:lnTo>
                <a:lnTo>
                  <a:pt x="2882" y="2005"/>
                </a:lnTo>
                <a:lnTo>
                  <a:pt x="3603" y="2005"/>
                </a:lnTo>
                <a:lnTo>
                  <a:pt x="4323" y="2005"/>
                </a:lnTo>
                <a:lnTo>
                  <a:pt x="5044" y="2005"/>
                </a:lnTo>
                <a:lnTo>
                  <a:pt x="5764" y="2005"/>
                </a:lnTo>
                <a:lnTo>
                  <a:pt x="5764" y="2022"/>
                </a:lnTo>
                <a:lnTo>
                  <a:pt x="5044" y="2022"/>
                </a:lnTo>
                <a:lnTo>
                  <a:pt x="4323" y="2022"/>
                </a:lnTo>
                <a:lnTo>
                  <a:pt x="3603" y="2022"/>
                </a:lnTo>
                <a:lnTo>
                  <a:pt x="2882" y="2022"/>
                </a:lnTo>
                <a:lnTo>
                  <a:pt x="2162" y="2022"/>
                </a:lnTo>
                <a:lnTo>
                  <a:pt x="1441" y="2022"/>
                </a:lnTo>
                <a:lnTo>
                  <a:pt x="721" y="2022"/>
                </a:lnTo>
                <a:lnTo>
                  <a:pt x="0" y="2022"/>
                </a:lnTo>
                <a:close/>
                <a:moveTo>
                  <a:pt x="0" y="1989"/>
                </a:moveTo>
                <a:lnTo>
                  <a:pt x="0" y="1972"/>
                </a:lnTo>
                <a:lnTo>
                  <a:pt x="721" y="1972"/>
                </a:lnTo>
                <a:lnTo>
                  <a:pt x="1441" y="1972"/>
                </a:lnTo>
                <a:lnTo>
                  <a:pt x="2162" y="1972"/>
                </a:lnTo>
                <a:lnTo>
                  <a:pt x="2882" y="1972"/>
                </a:lnTo>
                <a:lnTo>
                  <a:pt x="3603" y="1972"/>
                </a:lnTo>
                <a:lnTo>
                  <a:pt x="4323" y="1972"/>
                </a:lnTo>
                <a:lnTo>
                  <a:pt x="5044" y="1972"/>
                </a:lnTo>
                <a:lnTo>
                  <a:pt x="5764" y="1972"/>
                </a:lnTo>
                <a:lnTo>
                  <a:pt x="5764" y="1989"/>
                </a:lnTo>
                <a:lnTo>
                  <a:pt x="5044" y="1989"/>
                </a:lnTo>
                <a:lnTo>
                  <a:pt x="4323" y="1989"/>
                </a:lnTo>
                <a:lnTo>
                  <a:pt x="3603" y="1989"/>
                </a:lnTo>
                <a:lnTo>
                  <a:pt x="2882" y="1989"/>
                </a:lnTo>
                <a:lnTo>
                  <a:pt x="2162" y="1989"/>
                </a:lnTo>
                <a:lnTo>
                  <a:pt x="1441" y="1989"/>
                </a:lnTo>
                <a:lnTo>
                  <a:pt x="721" y="1989"/>
                </a:lnTo>
                <a:lnTo>
                  <a:pt x="0" y="1989"/>
                </a:lnTo>
                <a:close/>
                <a:moveTo>
                  <a:pt x="0" y="1956"/>
                </a:moveTo>
                <a:lnTo>
                  <a:pt x="0" y="1939"/>
                </a:lnTo>
                <a:lnTo>
                  <a:pt x="721" y="1939"/>
                </a:lnTo>
                <a:lnTo>
                  <a:pt x="1441" y="1939"/>
                </a:lnTo>
                <a:lnTo>
                  <a:pt x="2162" y="1939"/>
                </a:lnTo>
                <a:lnTo>
                  <a:pt x="2882" y="1939"/>
                </a:lnTo>
                <a:lnTo>
                  <a:pt x="3603" y="1939"/>
                </a:lnTo>
                <a:lnTo>
                  <a:pt x="4323" y="1939"/>
                </a:lnTo>
                <a:lnTo>
                  <a:pt x="5044" y="1939"/>
                </a:lnTo>
                <a:lnTo>
                  <a:pt x="5764" y="1939"/>
                </a:lnTo>
                <a:lnTo>
                  <a:pt x="5764" y="1956"/>
                </a:lnTo>
                <a:lnTo>
                  <a:pt x="5044" y="1956"/>
                </a:lnTo>
                <a:lnTo>
                  <a:pt x="4323" y="1956"/>
                </a:lnTo>
                <a:lnTo>
                  <a:pt x="3603" y="1956"/>
                </a:lnTo>
                <a:lnTo>
                  <a:pt x="2882" y="1956"/>
                </a:lnTo>
                <a:lnTo>
                  <a:pt x="2162" y="1956"/>
                </a:lnTo>
                <a:lnTo>
                  <a:pt x="1441" y="1956"/>
                </a:lnTo>
                <a:lnTo>
                  <a:pt x="721" y="1956"/>
                </a:lnTo>
                <a:lnTo>
                  <a:pt x="0" y="1956"/>
                </a:lnTo>
                <a:close/>
                <a:moveTo>
                  <a:pt x="0" y="1923"/>
                </a:moveTo>
                <a:lnTo>
                  <a:pt x="0" y="1906"/>
                </a:lnTo>
                <a:lnTo>
                  <a:pt x="721" y="1906"/>
                </a:lnTo>
                <a:lnTo>
                  <a:pt x="1441" y="1906"/>
                </a:lnTo>
                <a:lnTo>
                  <a:pt x="2162" y="1906"/>
                </a:lnTo>
                <a:lnTo>
                  <a:pt x="2882" y="1906"/>
                </a:lnTo>
                <a:lnTo>
                  <a:pt x="3603" y="1906"/>
                </a:lnTo>
                <a:lnTo>
                  <a:pt x="4323" y="1906"/>
                </a:lnTo>
                <a:lnTo>
                  <a:pt x="5044" y="1906"/>
                </a:lnTo>
                <a:lnTo>
                  <a:pt x="5764" y="1906"/>
                </a:lnTo>
                <a:lnTo>
                  <a:pt x="5764" y="1923"/>
                </a:lnTo>
                <a:lnTo>
                  <a:pt x="5044" y="1923"/>
                </a:lnTo>
                <a:lnTo>
                  <a:pt x="4323" y="1923"/>
                </a:lnTo>
                <a:lnTo>
                  <a:pt x="3603" y="1923"/>
                </a:lnTo>
                <a:lnTo>
                  <a:pt x="2882" y="1923"/>
                </a:lnTo>
                <a:lnTo>
                  <a:pt x="2162" y="1923"/>
                </a:lnTo>
                <a:lnTo>
                  <a:pt x="1441" y="1923"/>
                </a:lnTo>
                <a:lnTo>
                  <a:pt x="721" y="1923"/>
                </a:lnTo>
                <a:lnTo>
                  <a:pt x="0" y="1923"/>
                </a:lnTo>
                <a:close/>
                <a:moveTo>
                  <a:pt x="0" y="1890"/>
                </a:moveTo>
                <a:lnTo>
                  <a:pt x="0" y="1873"/>
                </a:lnTo>
                <a:lnTo>
                  <a:pt x="721" y="1873"/>
                </a:lnTo>
                <a:lnTo>
                  <a:pt x="1441" y="1873"/>
                </a:lnTo>
                <a:lnTo>
                  <a:pt x="2162" y="1873"/>
                </a:lnTo>
                <a:lnTo>
                  <a:pt x="2882" y="1873"/>
                </a:lnTo>
                <a:lnTo>
                  <a:pt x="3603" y="1873"/>
                </a:lnTo>
                <a:lnTo>
                  <a:pt x="4323" y="1873"/>
                </a:lnTo>
                <a:lnTo>
                  <a:pt x="5044" y="1873"/>
                </a:lnTo>
                <a:lnTo>
                  <a:pt x="5764" y="1873"/>
                </a:lnTo>
                <a:lnTo>
                  <a:pt x="5764" y="1890"/>
                </a:lnTo>
                <a:lnTo>
                  <a:pt x="5044" y="1890"/>
                </a:lnTo>
                <a:lnTo>
                  <a:pt x="4323" y="1890"/>
                </a:lnTo>
                <a:lnTo>
                  <a:pt x="3603" y="1890"/>
                </a:lnTo>
                <a:lnTo>
                  <a:pt x="2882" y="1890"/>
                </a:lnTo>
                <a:lnTo>
                  <a:pt x="2162" y="1890"/>
                </a:lnTo>
                <a:lnTo>
                  <a:pt x="1441" y="1890"/>
                </a:lnTo>
                <a:lnTo>
                  <a:pt x="721" y="1890"/>
                </a:lnTo>
                <a:lnTo>
                  <a:pt x="0" y="1890"/>
                </a:lnTo>
                <a:close/>
                <a:moveTo>
                  <a:pt x="0" y="1857"/>
                </a:moveTo>
                <a:lnTo>
                  <a:pt x="0" y="1841"/>
                </a:lnTo>
                <a:lnTo>
                  <a:pt x="721" y="1841"/>
                </a:lnTo>
                <a:lnTo>
                  <a:pt x="1441" y="1841"/>
                </a:lnTo>
                <a:lnTo>
                  <a:pt x="2162" y="1841"/>
                </a:lnTo>
                <a:lnTo>
                  <a:pt x="2882" y="1841"/>
                </a:lnTo>
                <a:lnTo>
                  <a:pt x="3603" y="1841"/>
                </a:lnTo>
                <a:lnTo>
                  <a:pt x="4323" y="1841"/>
                </a:lnTo>
                <a:lnTo>
                  <a:pt x="5044" y="1841"/>
                </a:lnTo>
                <a:lnTo>
                  <a:pt x="5764" y="1841"/>
                </a:lnTo>
                <a:lnTo>
                  <a:pt x="5764" y="1857"/>
                </a:lnTo>
                <a:lnTo>
                  <a:pt x="5044" y="1857"/>
                </a:lnTo>
                <a:lnTo>
                  <a:pt x="4323" y="1857"/>
                </a:lnTo>
                <a:lnTo>
                  <a:pt x="3603" y="1857"/>
                </a:lnTo>
                <a:lnTo>
                  <a:pt x="2882" y="1857"/>
                </a:lnTo>
                <a:lnTo>
                  <a:pt x="2162" y="1857"/>
                </a:lnTo>
                <a:lnTo>
                  <a:pt x="1441" y="1857"/>
                </a:lnTo>
                <a:lnTo>
                  <a:pt x="721" y="1857"/>
                </a:lnTo>
                <a:lnTo>
                  <a:pt x="0" y="1857"/>
                </a:lnTo>
                <a:close/>
                <a:moveTo>
                  <a:pt x="0" y="1824"/>
                </a:moveTo>
                <a:lnTo>
                  <a:pt x="0" y="1808"/>
                </a:lnTo>
                <a:lnTo>
                  <a:pt x="721" y="1808"/>
                </a:lnTo>
                <a:lnTo>
                  <a:pt x="1441" y="1808"/>
                </a:lnTo>
                <a:lnTo>
                  <a:pt x="2162" y="1808"/>
                </a:lnTo>
                <a:lnTo>
                  <a:pt x="2882" y="1808"/>
                </a:lnTo>
                <a:lnTo>
                  <a:pt x="3603" y="1808"/>
                </a:lnTo>
                <a:lnTo>
                  <a:pt x="4323" y="1808"/>
                </a:lnTo>
                <a:lnTo>
                  <a:pt x="5044" y="1808"/>
                </a:lnTo>
                <a:lnTo>
                  <a:pt x="5764" y="1808"/>
                </a:lnTo>
                <a:lnTo>
                  <a:pt x="5764" y="1824"/>
                </a:lnTo>
                <a:lnTo>
                  <a:pt x="5044" y="1824"/>
                </a:lnTo>
                <a:lnTo>
                  <a:pt x="4323" y="1824"/>
                </a:lnTo>
                <a:lnTo>
                  <a:pt x="3603" y="1824"/>
                </a:lnTo>
                <a:lnTo>
                  <a:pt x="2882" y="1824"/>
                </a:lnTo>
                <a:lnTo>
                  <a:pt x="2162" y="1824"/>
                </a:lnTo>
                <a:lnTo>
                  <a:pt x="1441" y="1824"/>
                </a:lnTo>
                <a:lnTo>
                  <a:pt x="721" y="1824"/>
                </a:lnTo>
                <a:lnTo>
                  <a:pt x="0" y="1824"/>
                </a:lnTo>
                <a:close/>
                <a:moveTo>
                  <a:pt x="0" y="1792"/>
                </a:moveTo>
                <a:lnTo>
                  <a:pt x="0" y="1775"/>
                </a:lnTo>
                <a:lnTo>
                  <a:pt x="721" y="1775"/>
                </a:lnTo>
                <a:lnTo>
                  <a:pt x="1441" y="1775"/>
                </a:lnTo>
                <a:lnTo>
                  <a:pt x="2162" y="1775"/>
                </a:lnTo>
                <a:lnTo>
                  <a:pt x="2882" y="1775"/>
                </a:lnTo>
                <a:lnTo>
                  <a:pt x="3603" y="1775"/>
                </a:lnTo>
                <a:lnTo>
                  <a:pt x="4323" y="1775"/>
                </a:lnTo>
                <a:lnTo>
                  <a:pt x="5044" y="1775"/>
                </a:lnTo>
                <a:lnTo>
                  <a:pt x="5764" y="1775"/>
                </a:lnTo>
                <a:lnTo>
                  <a:pt x="5764" y="1792"/>
                </a:lnTo>
                <a:lnTo>
                  <a:pt x="5044" y="1792"/>
                </a:lnTo>
                <a:lnTo>
                  <a:pt x="4323" y="1792"/>
                </a:lnTo>
                <a:lnTo>
                  <a:pt x="3603" y="1792"/>
                </a:lnTo>
                <a:lnTo>
                  <a:pt x="2882" y="1792"/>
                </a:lnTo>
                <a:lnTo>
                  <a:pt x="2162" y="1792"/>
                </a:lnTo>
                <a:lnTo>
                  <a:pt x="1441" y="1792"/>
                </a:lnTo>
                <a:lnTo>
                  <a:pt x="721" y="1792"/>
                </a:lnTo>
                <a:lnTo>
                  <a:pt x="0" y="1792"/>
                </a:lnTo>
                <a:close/>
                <a:moveTo>
                  <a:pt x="0" y="1759"/>
                </a:moveTo>
                <a:lnTo>
                  <a:pt x="0" y="1742"/>
                </a:lnTo>
                <a:lnTo>
                  <a:pt x="721" y="1742"/>
                </a:lnTo>
                <a:lnTo>
                  <a:pt x="1441" y="1742"/>
                </a:lnTo>
                <a:lnTo>
                  <a:pt x="2162" y="1742"/>
                </a:lnTo>
                <a:lnTo>
                  <a:pt x="2882" y="1742"/>
                </a:lnTo>
                <a:lnTo>
                  <a:pt x="3603" y="1742"/>
                </a:lnTo>
                <a:lnTo>
                  <a:pt x="4323" y="1742"/>
                </a:lnTo>
                <a:lnTo>
                  <a:pt x="5044" y="1742"/>
                </a:lnTo>
                <a:lnTo>
                  <a:pt x="5764" y="1742"/>
                </a:lnTo>
                <a:lnTo>
                  <a:pt x="5764" y="1759"/>
                </a:lnTo>
                <a:lnTo>
                  <a:pt x="5044" y="1759"/>
                </a:lnTo>
                <a:lnTo>
                  <a:pt x="4323" y="1759"/>
                </a:lnTo>
                <a:lnTo>
                  <a:pt x="3603" y="1759"/>
                </a:lnTo>
                <a:lnTo>
                  <a:pt x="2882" y="1759"/>
                </a:lnTo>
                <a:lnTo>
                  <a:pt x="2162" y="1759"/>
                </a:lnTo>
                <a:lnTo>
                  <a:pt x="1441" y="1759"/>
                </a:lnTo>
                <a:lnTo>
                  <a:pt x="721" y="1759"/>
                </a:lnTo>
                <a:lnTo>
                  <a:pt x="0" y="1759"/>
                </a:lnTo>
                <a:close/>
                <a:moveTo>
                  <a:pt x="0" y="1726"/>
                </a:moveTo>
                <a:lnTo>
                  <a:pt x="0" y="1709"/>
                </a:lnTo>
                <a:lnTo>
                  <a:pt x="721" y="1709"/>
                </a:lnTo>
                <a:lnTo>
                  <a:pt x="1441" y="1709"/>
                </a:lnTo>
                <a:lnTo>
                  <a:pt x="2162" y="1709"/>
                </a:lnTo>
                <a:lnTo>
                  <a:pt x="2882" y="1709"/>
                </a:lnTo>
                <a:lnTo>
                  <a:pt x="3603" y="1709"/>
                </a:lnTo>
                <a:lnTo>
                  <a:pt x="4323" y="1709"/>
                </a:lnTo>
                <a:lnTo>
                  <a:pt x="5044" y="1709"/>
                </a:lnTo>
                <a:lnTo>
                  <a:pt x="5764" y="1709"/>
                </a:lnTo>
                <a:lnTo>
                  <a:pt x="5764" y="1726"/>
                </a:lnTo>
                <a:lnTo>
                  <a:pt x="5044" y="1726"/>
                </a:lnTo>
                <a:lnTo>
                  <a:pt x="4323" y="1726"/>
                </a:lnTo>
                <a:lnTo>
                  <a:pt x="3603" y="1726"/>
                </a:lnTo>
                <a:lnTo>
                  <a:pt x="2882" y="1726"/>
                </a:lnTo>
                <a:lnTo>
                  <a:pt x="2162" y="1726"/>
                </a:lnTo>
                <a:lnTo>
                  <a:pt x="1441" y="1726"/>
                </a:lnTo>
                <a:lnTo>
                  <a:pt x="721" y="1726"/>
                </a:lnTo>
                <a:lnTo>
                  <a:pt x="0" y="1726"/>
                </a:lnTo>
                <a:close/>
                <a:moveTo>
                  <a:pt x="0" y="1693"/>
                </a:moveTo>
                <a:lnTo>
                  <a:pt x="0" y="1676"/>
                </a:lnTo>
                <a:lnTo>
                  <a:pt x="721" y="1676"/>
                </a:lnTo>
                <a:lnTo>
                  <a:pt x="1441" y="1676"/>
                </a:lnTo>
                <a:lnTo>
                  <a:pt x="2162" y="1676"/>
                </a:lnTo>
                <a:lnTo>
                  <a:pt x="2882" y="1676"/>
                </a:lnTo>
                <a:lnTo>
                  <a:pt x="3603" y="1676"/>
                </a:lnTo>
                <a:lnTo>
                  <a:pt x="4323" y="1676"/>
                </a:lnTo>
                <a:lnTo>
                  <a:pt x="5044" y="1676"/>
                </a:lnTo>
                <a:lnTo>
                  <a:pt x="5764" y="1676"/>
                </a:lnTo>
                <a:lnTo>
                  <a:pt x="5764" y="1693"/>
                </a:lnTo>
                <a:lnTo>
                  <a:pt x="5044" y="1693"/>
                </a:lnTo>
                <a:lnTo>
                  <a:pt x="4323" y="1693"/>
                </a:lnTo>
                <a:lnTo>
                  <a:pt x="3603" y="1693"/>
                </a:lnTo>
                <a:lnTo>
                  <a:pt x="2882" y="1693"/>
                </a:lnTo>
                <a:lnTo>
                  <a:pt x="2162" y="1693"/>
                </a:lnTo>
                <a:lnTo>
                  <a:pt x="1441" y="1693"/>
                </a:lnTo>
                <a:lnTo>
                  <a:pt x="721" y="1693"/>
                </a:lnTo>
                <a:lnTo>
                  <a:pt x="0" y="1693"/>
                </a:lnTo>
                <a:close/>
                <a:moveTo>
                  <a:pt x="0" y="1660"/>
                </a:moveTo>
                <a:lnTo>
                  <a:pt x="0" y="1643"/>
                </a:lnTo>
                <a:lnTo>
                  <a:pt x="721" y="1643"/>
                </a:lnTo>
                <a:lnTo>
                  <a:pt x="1441" y="1643"/>
                </a:lnTo>
                <a:lnTo>
                  <a:pt x="2162" y="1643"/>
                </a:lnTo>
                <a:lnTo>
                  <a:pt x="2882" y="1643"/>
                </a:lnTo>
                <a:lnTo>
                  <a:pt x="3603" y="1643"/>
                </a:lnTo>
                <a:lnTo>
                  <a:pt x="4323" y="1643"/>
                </a:lnTo>
                <a:lnTo>
                  <a:pt x="5044" y="1643"/>
                </a:lnTo>
                <a:lnTo>
                  <a:pt x="5764" y="1643"/>
                </a:lnTo>
                <a:lnTo>
                  <a:pt x="5764" y="1660"/>
                </a:lnTo>
                <a:lnTo>
                  <a:pt x="5044" y="1660"/>
                </a:lnTo>
                <a:lnTo>
                  <a:pt x="4323" y="1660"/>
                </a:lnTo>
                <a:lnTo>
                  <a:pt x="3603" y="1660"/>
                </a:lnTo>
                <a:lnTo>
                  <a:pt x="2882" y="1660"/>
                </a:lnTo>
                <a:lnTo>
                  <a:pt x="2162" y="1660"/>
                </a:lnTo>
                <a:lnTo>
                  <a:pt x="1441" y="1660"/>
                </a:lnTo>
                <a:lnTo>
                  <a:pt x="721" y="1660"/>
                </a:lnTo>
                <a:lnTo>
                  <a:pt x="0" y="1660"/>
                </a:lnTo>
                <a:close/>
                <a:moveTo>
                  <a:pt x="0" y="1627"/>
                </a:moveTo>
                <a:lnTo>
                  <a:pt x="0" y="1611"/>
                </a:lnTo>
                <a:lnTo>
                  <a:pt x="721" y="1611"/>
                </a:lnTo>
                <a:lnTo>
                  <a:pt x="1441" y="1611"/>
                </a:lnTo>
                <a:lnTo>
                  <a:pt x="2162" y="1611"/>
                </a:lnTo>
                <a:lnTo>
                  <a:pt x="2882" y="1611"/>
                </a:lnTo>
                <a:lnTo>
                  <a:pt x="3603" y="1611"/>
                </a:lnTo>
                <a:lnTo>
                  <a:pt x="4323" y="1611"/>
                </a:lnTo>
                <a:lnTo>
                  <a:pt x="5044" y="1611"/>
                </a:lnTo>
                <a:lnTo>
                  <a:pt x="5764" y="1611"/>
                </a:lnTo>
                <a:lnTo>
                  <a:pt x="5764" y="1627"/>
                </a:lnTo>
                <a:lnTo>
                  <a:pt x="5044" y="1627"/>
                </a:lnTo>
                <a:lnTo>
                  <a:pt x="4323" y="1627"/>
                </a:lnTo>
                <a:lnTo>
                  <a:pt x="3603" y="1627"/>
                </a:lnTo>
                <a:lnTo>
                  <a:pt x="2882" y="1627"/>
                </a:lnTo>
                <a:lnTo>
                  <a:pt x="2162" y="1627"/>
                </a:lnTo>
                <a:lnTo>
                  <a:pt x="1441" y="1627"/>
                </a:lnTo>
                <a:lnTo>
                  <a:pt x="721" y="1627"/>
                </a:lnTo>
                <a:lnTo>
                  <a:pt x="0" y="1627"/>
                </a:lnTo>
                <a:close/>
                <a:moveTo>
                  <a:pt x="0" y="1595"/>
                </a:moveTo>
                <a:lnTo>
                  <a:pt x="0" y="1578"/>
                </a:lnTo>
                <a:lnTo>
                  <a:pt x="721" y="1578"/>
                </a:lnTo>
                <a:lnTo>
                  <a:pt x="1441" y="1578"/>
                </a:lnTo>
                <a:lnTo>
                  <a:pt x="2162" y="1578"/>
                </a:lnTo>
                <a:lnTo>
                  <a:pt x="2882" y="1578"/>
                </a:lnTo>
                <a:lnTo>
                  <a:pt x="3603" y="1578"/>
                </a:lnTo>
                <a:lnTo>
                  <a:pt x="4323" y="1578"/>
                </a:lnTo>
                <a:lnTo>
                  <a:pt x="5044" y="1578"/>
                </a:lnTo>
                <a:lnTo>
                  <a:pt x="5764" y="1578"/>
                </a:lnTo>
                <a:lnTo>
                  <a:pt x="5764" y="1595"/>
                </a:lnTo>
                <a:lnTo>
                  <a:pt x="5044" y="1595"/>
                </a:lnTo>
                <a:lnTo>
                  <a:pt x="4323" y="1595"/>
                </a:lnTo>
                <a:lnTo>
                  <a:pt x="3603" y="1595"/>
                </a:lnTo>
                <a:lnTo>
                  <a:pt x="2882" y="1595"/>
                </a:lnTo>
                <a:lnTo>
                  <a:pt x="2162" y="1595"/>
                </a:lnTo>
                <a:lnTo>
                  <a:pt x="1441" y="1595"/>
                </a:lnTo>
                <a:lnTo>
                  <a:pt x="721" y="1595"/>
                </a:lnTo>
                <a:lnTo>
                  <a:pt x="0" y="1595"/>
                </a:lnTo>
                <a:close/>
                <a:moveTo>
                  <a:pt x="0" y="1562"/>
                </a:moveTo>
                <a:lnTo>
                  <a:pt x="0" y="1545"/>
                </a:lnTo>
                <a:lnTo>
                  <a:pt x="721" y="1545"/>
                </a:lnTo>
                <a:lnTo>
                  <a:pt x="1441" y="1545"/>
                </a:lnTo>
                <a:lnTo>
                  <a:pt x="2162" y="1545"/>
                </a:lnTo>
                <a:lnTo>
                  <a:pt x="2882" y="1545"/>
                </a:lnTo>
                <a:lnTo>
                  <a:pt x="3603" y="1545"/>
                </a:lnTo>
                <a:lnTo>
                  <a:pt x="4323" y="1545"/>
                </a:lnTo>
                <a:lnTo>
                  <a:pt x="5044" y="1545"/>
                </a:lnTo>
                <a:lnTo>
                  <a:pt x="5764" y="1545"/>
                </a:lnTo>
                <a:lnTo>
                  <a:pt x="5764" y="1562"/>
                </a:lnTo>
                <a:lnTo>
                  <a:pt x="5044" y="1562"/>
                </a:lnTo>
                <a:lnTo>
                  <a:pt x="4323" y="1562"/>
                </a:lnTo>
                <a:lnTo>
                  <a:pt x="3603" y="1562"/>
                </a:lnTo>
                <a:lnTo>
                  <a:pt x="2882" y="1562"/>
                </a:lnTo>
                <a:lnTo>
                  <a:pt x="2162" y="1562"/>
                </a:lnTo>
                <a:lnTo>
                  <a:pt x="1441" y="1562"/>
                </a:lnTo>
                <a:lnTo>
                  <a:pt x="721" y="1562"/>
                </a:lnTo>
                <a:lnTo>
                  <a:pt x="0" y="1562"/>
                </a:lnTo>
                <a:close/>
                <a:moveTo>
                  <a:pt x="0" y="1529"/>
                </a:moveTo>
                <a:lnTo>
                  <a:pt x="0" y="1512"/>
                </a:lnTo>
                <a:lnTo>
                  <a:pt x="721" y="1512"/>
                </a:lnTo>
                <a:lnTo>
                  <a:pt x="1441" y="1512"/>
                </a:lnTo>
                <a:lnTo>
                  <a:pt x="2162" y="1512"/>
                </a:lnTo>
                <a:lnTo>
                  <a:pt x="2882" y="1512"/>
                </a:lnTo>
                <a:lnTo>
                  <a:pt x="3603" y="1512"/>
                </a:lnTo>
                <a:lnTo>
                  <a:pt x="4323" y="1512"/>
                </a:lnTo>
                <a:lnTo>
                  <a:pt x="5044" y="1512"/>
                </a:lnTo>
                <a:lnTo>
                  <a:pt x="5764" y="1512"/>
                </a:lnTo>
                <a:lnTo>
                  <a:pt x="5764" y="1529"/>
                </a:lnTo>
                <a:lnTo>
                  <a:pt x="5044" y="1529"/>
                </a:lnTo>
                <a:lnTo>
                  <a:pt x="4323" y="1529"/>
                </a:lnTo>
                <a:lnTo>
                  <a:pt x="3603" y="1529"/>
                </a:lnTo>
                <a:lnTo>
                  <a:pt x="2882" y="1529"/>
                </a:lnTo>
                <a:lnTo>
                  <a:pt x="2162" y="1529"/>
                </a:lnTo>
                <a:lnTo>
                  <a:pt x="1441" y="1529"/>
                </a:lnTo>
                <a:lnTo>
                  <a:pt x="721" y="1529"/>
                </a:lnTo>
                <a:lnTo>
                  <a:pt x="0" y="1529"/>
                </a:lnTo>
                <a:close/>
                <a:moveTo>
                  <a:pt x="0" y="1496"/>
                </a:moveTo>
                <a:lnTo>
                  <a:pt x="0" y="1479"/>
                </a:lnTo>
                <a:lnTo>
                  <a:pt x="721" y="1479"/>
                </a:lnTo>
                <a:lnTo>
                  <a:pt x="1441" y="1479"/>
                </a:lnTo>
                <a:lnTo>
                  <a:pt x="2162" y="1479"/>
                </a:lnTo>
                <a:lnTo>
                  <a:pt x="2882" y="1479"/>
                </a:lnTo>
                <a:lnTo>
                  <a:pt x="3603" y="1479"/>
                </a:lnTo>
                <a:lnTo>
                  <a:pt x="4323" y="1479"/>
                </a:lnTo>
                <a:lnTo>
                  <a:pt x="5044" y="1479"/>
                </a:lnTo>
                <a:lnTo>
                  <a:pt x="5764" y="1479"/>
                </a:lnTo>
                <a:lnTo>
                  <a:pt x="5764" y="1496"/>
                </a:lnTo>
                <a:lnTo>
                  <a:pt x="5044" y="1496"/>
                </a:lnTo>
                <a:lnTo>
                  <a:pt x="4323" y="1496"/>
                </a:lnTo>
                <a:lnTo>
                  <a:pt x="3603" y="1496"/>
                </a:lnTo>
                <a:lnTo>
                  <a:pt x="2882" y="1496"/>
                </a:lnTo>
                <a:lnTo>
                  <a:pt x="2162" y="1496"/>
                </a:lnTo>
                <a:lnTo>
                  <a:pt x="1441" y="1496"/>
                </a:lnTo>
                <a:lnTo>
                  <a:pt x="721" y="1496"/>
                </a:lnTo>
                <a:lnTo>
                  <a:pt x="0" y="1496"/>
                </a:lnTo>
                <a:close/>
                <a:moveTo>
                  <a:pt x="0" y="1463"/>
                </a:moveTo>
                <a:lnTo>
                  <a:pt x="0" y="1446"/>
                </a:lnTo>
                <a:lnTo>
                  <a:pt x="721" y="1446"/>
                </a:lnTo>
                <a:lnTo>
                  <a:pt x="1441" y="1446"/>
                </a:lnTo>
                <a:lnTo>
                  <a:pt x="2162" y="1446"/>
                </a:lnTo>
                <a:lnTo>
                  <a:pt x="2882" y="1446"/>
                </a:lnTo>
                <a:lnTo>
                  <a:pt x="3603" y="1446"/>
                </a:lnTo>
                <a:lnTo>
                  <a:pt x="4323" y="1446"/>
                </a:lnTo>
                <a:lnTo>
                  <a:pt x="5044" y="1446"/>
                </a:lnTo>
                <a:lnTo>
                  <a:pt x="5764" y="1446"/>
                </a:lnTo>
                <a:lnTo>
                  <a:pt x="5764" y="1463"/>
                </a:lnTo>
                <a:lnTo>
                  <a:pt x="5044" y="1463"/>
                </a:lnTo>
                <a:lnTo>
                  <a:pt x="4323" y="1463"/>
                </a:lnTo>
                <a:lnTo>
                  <a:pt x="3603" y="1463"/>
                </a:lnTo>
                <a:lnTo>
                  <a:pt x="2882" y="1463"/>
                </a:lnTo>
                <a:lnTo>
                  <a:pt x="2162" y="1463"/>
                </a:lnTo>
                <a:lnTo>
                  <a:pt x="1441" y="1463"/>
                </a:lnTo>
                <a:lnTo>
                  <a:pt x="721" y="1463"/>
                </a:lnTo>
                <a:lnTo>
                  <a:pt x="0" y="1463"/>
                </a:lnTo>
                <a:close/>
                <a:moveTo>
                  <a:pt x="0" y="1430"/>
                </a:moveTo>
                <a:lnTo>
                  <a:pt x="0" y="1414"/>
                </a:lnTo>
                <a:lnTo>
                  <a:pt x="721" y="1414"/>
                </a:lnTo>
                <a:lnTo>
                  <a:pt x="1441" y="1414"/>
                </a:lnTo>
                <a:lnTo>
                  <a:pt x="2162" y="1414"/>
                </a:lnTo>
                <a:lnTo>
                  <a:pt x="2882" y="1414"/>
                </a:lnTo>
                <a:lnTo>
                  <a:pt x="3603" y="1414"/>
                </a:lnTo>
                <a:lnTo>
                  <a:pt x="4323" y="1414"/>
                </a:lnTo>
                <a:lnTo>
                  <a:pt x="5044" y="1414"/>
                </a:lnTo>
                <a:lnTo>
                  <a:pt x="5764" y="1414"/>
                </a:lnTo>
                <a:lnTo>
                  <a:pt x="5764" y="1430"/>
                </a:lnTo>
                <a:lnTo>
                  <a:pt x="5044" y="1430"/>
                </a:lnTo>
                <a:lnTo>
                  <a:pt x="4323" y="1430"/>
                </a:lnTo>
                <a:lnTo>
                  <a:pt x="3603" y="1430"/>
                </a:lnTo>
                <a:lnTo>
                  <a:pt x="2882" y="1430"/>
                </a:lnTo>
                <a:lnTo>
                  <a:pt x="2162" y="1430"/>
                </a:lnTo>
                <a:lnTo>
                  <a:pt x="1441" y="1430"/>
                </a:lnTo>
                <a:lnTo>
                  <a:pt x="721" y="1430"/>
                </a:lnTo>
                <a:lnTo>
                  <a:pt x="0" y="1430"/>
                </a:lnTo>
                <a:close/>
                <a:moveTo>
                  <a:pt x="0" y="1397"/>
                </a:moveTo>
                <a:lnTo>
                  <a:pt x="0" y="1381"/>
                </a:lnTo>
                <a:lnTo>
                  <a:pt x="721" y="1381"/>
                </a:lnTo>
                <a:lnTo>
                  <a:pt x="1441" y="1381"/>
                </a:lnTo>
                <a:lnTo>
                  <a:pt x="2162" y="1381"/>
                </a:lnTo>
                <a:lnTo>
                  <a:pt x="2882" y="1381"/>
                </a:lnTo>
                <a:lnTo>
                  <a:pt x="3603" y="1381"/>
                </a:lnTo>
                <a:lnTo>
                  <a:pt x="4323" y="1381"/>
                </a:lnTo>
                <a:lnTo>
                  <a:pt x="5044" y="1381"/>
                </a:lnTo>
                <a:lnTo>
                  <a:pt x="5764" y="1381"/>
                </a:lnTo>
                <a:lnTo>
                  <a:pt x="5764" y="1397"/>
                </a:lnTo>
                <a:lnTo>
                  <a:pt x="5044" y="1397"/>
                </a:lnTo>
                <a:lnTo>
                  <a:pt x="4323" y="1397"/>
                </a:lnTo>
                <a:lnTo>
                  <a:pt x="3603" y="1397"/>
                </a:lnTo>
                <a:lnTo>
                  <a:pt x="2882" y="1397"/>
                </a:lnTo>
                <a:lnTo>
                  <a:pt x="2162" y="1397"/>
                </a:lnTo>
                <a:lnTo>
                  <a:pt x="1441" y="1397"/>
                </a:lnTo>
                <a:lnTo>
                  <a:pt x="721" y="1397"/>
                </a:lnTo>
                <a:lnTo>
                  <a:pt x="0" y="1397"/>
                </a:lnTo>
                <a:close/>
                <a:moveTo>
                  <a:pt x="0" y="1365"/>
                </a:moveTo>
                <a:lnTo>
                  <a:pt x="0" y="1348"/>
                </a:lnTo>
                <a:lnTo>
                  <a:pt x="721" y="1348"/>
                </a:lnTo>
                <a:lnTo>
                  <a:pt x="1441" y="1348"/>
                </a:lnTo>
                <a:lnTo>
                  <a:pt x="2162" y="1348"/>
                </a:lnTo>
                <a:lnTo>
                  <a:pt x="2882" y="1348"/>
                </a:lnTo>
                <a:lnTo>
                  <a:pt x="3603" y="1348"/>
                </a:lnTo>
                <a:lnTo>
                  <a:pt x="4323" y="1348"/>
                </a:lnTo>
                <a:lnTo>
                  <a:pt x="5044" y="1348"/>
                </a:lnTo>
                <a:lnTo>
                  <a:pt x="5764" y="1348"/>
                </a:lnTo>
                <a:lnTo>
                  <a:pt x="5764" y="1365"/>
                </a:lnTo>
                <a:lnTo>
                  <a:pt x="5044" y="1365"/>
                </a:lnTo>
                <a:lnTo>
                  <a:pt x="4323" y="1365"/>
                </a:lnTo>
                <a:lnTo>
                  <a:pt x="3603" y="1365"/>
                </a:lnTo>
                <a:lnTo>
                  <a:pt x="2882" y="1365"/>
                </a:lnTo>
                <a:lnTo>
                  <a:pt x="2162" y="1365"/>
                </a:lnTo>
                <a:lnTo>
                  <a:pt x="1441" y="1365"/>
                </a:lnTo>
                <a:lnTo>
                  <a:pt x="721" y="1365"/>
                </a:lnTo>
                <a:lnTo>
                  <a:pt x="0" y="1365"/>
                </a:lnTo>
                <a:close/>
                <a:moveTo>
                  <a:pt x="0" y="1332"/>
                </a:moveTo>
                <a:lnTo>
                  <a:pt x="0" y="1315"/>
                </a:lnTo>
                <a:lnTo>
                  <a:pt x="721" y="1315"/>
                </a:lnTo>
                <a:lnTo>
                  <a:pt x="1441" y="1315"/>
                </a:lnTo>
                <a:lnTo>
                  <a:pt x="2162" y="1315"/>
                </a:lnTo>
                <a:lnTo>
                  <a:pt x="2882" y="1315"/>
                </a:lnTo>
                <a:lnTo>
                  <a:pt x="3603" y="1315"/>
                </a:lnTo>
                <a:lnTo>
                  <a:pt x="4323" y="1315"/>
                </a:lnTo>
                <a:lnTo>
                  <a:pt x="5044" y="1315"/>
                </a:lnTo>
                <a:lnTo>
                  <a:pt x="5764" y="1315"/>
                </a:lnTo>
                <a:lnTo>
                  <a:pt x="5764" y="1332"/>
                </a:lnTo>
                <a:lnTo>
                  <a:pt x="5044" y="1332"/>
                </a:lnTo>
                <a:lnTo>
                  <a:pt x="4323" y="1332"/>
                </a:lnTo>
                <a:lnTo>
                  <a:pt x="3603" y="1332"/>
                </a:lnTo>
                <a:lnTo>
                  <a:pt x="2882" y="1332"/>
                </a:lnTo>
                <a:lnTo>
                  <a:pt x="2162" y="1332"/>
                </a:lnTo>
                <a:lnTo>
                  <a:pt x="1441" y="1332"/>
                </a:lnTo>
                <a:lnTo>
                  <a:pt x="721" y="1332"/>
                </a:lnTo>
                <a:lnTo>
                  <a:pt x="0" y="1332"/>
                </a:lnTo>
                <a:close/>
                <a:moveTo>
                  <a:pt x="0" y="1299"/>
                </a:moveTo>
                <a:lnTo>
                  <a:pt x="0" y="1282"/>
                </a:lnTo>
                <a:lnTo>
                  <a:pt x="721" y="1282"/>
                </a:lnTo>
                <a:lnTo>
                  <a:pt x="1441" y="1282"/>
                </a:lnTo>
                <a:lnTo>
                  <a:pt x="2162" y="1282"/>
                </a:lnTo>
                <a:lnTo>
                  <a:pt x="2882" y="1282"/>
                </a:lnTo>
                <a:lnTo>
                  <a:pt x="3603" y="1282"/>
                </a:lnTo>
                <a:lnTo>
                  <a:pt x="4323" y="1282"/>
                </a:lnTo>
                <a:lnTo>
                  <a:pt x="5044" y="1282"/>
                </a:lnTo>
                <a:lnTo>
                  <a:pt x="5764" y="1282"/>
                </a:lnTo>
                <a:lnTo>
                  <a:pt x="5764" y="1299"/>
                </a:lnTo>
                <a:lnTo>
                  <a:pt x="5044" y="1299"/>
                </a:lnTo>
                <a:lnTo>
                  <a:pt x="4323" y="1299"/>
                </a:lnTo>
                <a:lnTo>
                  <a:pt x="3603" y="1299"/>
                </a:lnTo>
                <a:lnTo>
                  <a:pt x="2882" y="1299"/>
                </a:lnTo>
                <a:lnTo>
                  <a:pt x="2162" y="1299"/>
                </a:lnTo>
                <a:lnTo>
                  <a:pt x="1441" y="1299"/>
                </a:lnTo>
                <a:lnTo>
                  <a:pt x="721" y="1299"/>
                </a:lnTo>
                <a:lnTo>
                  <a:pt x="0" y="1299"/>
                </a:lnTo>
                <a:close/>
                <a:moveTo>
                  <a:pt x="0" y="1266"/>
                </a:moveTo>
                <a:lnTo>
                  <a:pt x="0" y="1249"/>
                </a:lnTo>
                <a:lnTo>
                  <a:pt x="721" y="1249"/>
                </a:lnTo>
                <a:lnTo>
                  <a:pt x="1441" y="1249"/>
                </a:lnTo>
                <a:lnTo>
                  <a:pt x="2162" y="1249"/>
                </a:lnTo>
                <a:lnTo>
                  <a:pt x="2882" y="1249"/>
                </a:lnTo>
                <a:lnTo>
                  <a:pt x="3603" y="1249"/>
                </a:lnTo>
                <a:lnTo>
                  <a:pt x="4323" y="1249"/>
                </a:lnTo>
                <a:lnTo>
                  <a:pt x="5044" y="1249"/>
                </a:lnTo>
                <a:lnTo>
                  <a:pt x="5764" y="1249"/>
                </a:lnTo>
                <a:lnTo>
                  <a:pt x="5764" y="1266"/>
                </a:lnTo>
                <a:lnTo>
                  <a:pt x="5044" y="1266"/>
                </a:lnTo>
                <a:lnTo>
                  <a:pt x="4323" y="1266"/>
                </a:lnTo>
                <a:lnTo>
                  <a:pt x="3603" y="1266"/>
                </a:lnTo>
                <a:lnTo>
                  <a:pt x="2882" y="1266"/>
                </a:lnTo>
                <a:lnTo>
                  <a:pt x="2162" y="1266"/>
                </a:lnTo>
                <a:lnTo>
                  <a:pt x="1441" y="1266"/>
                </a:lnTo>
                <a:lnTo>
                  <a:pt x="721" y="1266"/>
                </a:lnTo>
                <a:lnTo>
                  <a:pt x="0" y="1266"/>
                </a:lnTo>
                <a:close/>
                <a:moveTo>
                  <a:pt x="0" y="1233"/>
                </a:moveTo>
                <a:lnTo>
                  <a:pt x="0" y="1216"/>
                </a:lnTo>
                <a:lnTo>
                  <a:pt x="721" y="1216"/>
                </a:lnTo>
                <a:lnTo>
                  <a:pt x="1441" y="1216"/>
                </a:lnTo>
                <a:lnTo>
                  <a:pt x="2162" y="1216"/>
                </a:lnTo>
                <a:lnTo>
                  <a:pt x="2882" y="1216"/>
                </a:lnTo>
                <a:lnTo>
                  <a:pt x="3603" y="1216"/>
                </a:lnTo>
                <a:lnTo>
                  <a:pt x="4323" y="1216"/>
                </a:lnTo>
                <a:lnTo>
                  <a:pt x="5044" y="1216"/>
                </a:lnTo>
                <a:lnTo>
                  <a:pt x="5764" y="1216"/>
                </a:lnTo>
                <a:lnTo>
                  <a:pt x="5764" y="1233"/>
                </a:lnTo>
                <a:lnTo>
                  <a:pt x="5044" y="1233"/>
                </a:lnTo>
                <a:lnTo>
                  <a:pt x="4323" y="1233"/>
                </a:lnTo>
                <a:lnTo>
                  <a:pt x="3603" y="1233"/>
                </a:lnTo>
                <a:lnTo>
                  <a:pt x="2882" y="1233"/>
                </a:lnTo>
                <a:lnTo>
                  <a:pt x="2162" y="1233"/>
                </a:lnTo>
                <a:lnTo>
                  <a:pt x="1441" y="1233"/>
                </a:lnTo>
                <a:lnTo>
                  <a:pt x="721" y="1233"/>
                </a:lnTo>
                <a:lnTo>
                  <a:pt x="0" y="1233"/>
                </a:lnTo>
                <a:close/>
                <a:moveTo>
                  <a:pt x="0" y="1200"/>
                </a:moveTo>
                <a:lnTo>
                  <a:pt x="0" y="1184"/>
                </a:lnTo>
                <a:lnTo>
                  <a:pt x="721" y="1184"/>
                </a:lnTo>
                <a:lnTo>
                  <a:pt x="1441" y="1184"/>
                </a:lnTo>
                <a:lnTo>
                  <a:pt x="2162" y="1184"/>
                </a:lnTo>
                <a:lnTo>
                  <a:pt x="2882" y="1184"/>
                </a:lnTo>
                <a:lnTo>
                  <a:pt x="3603" y="1184"/>
                </a:lnTo>
                <a:lnTo>
                  <a:pt x="4323" y="1184"/>
                </a:lnTo>
                <a:lnTo>
                  <a:pt x="5044" y="1184"/>
                </a:lnTo>
                <a:lnTo>
                  <a:pt x="5764" y="1184"/>
                </a:lnTo>
                <a:lnTo>
                  <a:pt x="5764" y="1200"/>
                </a:lnTo>
                <a:lnTo>
                  <a:pt x="5044" y="1200"/>
                </a:lnTo>
                <a:lnTo>
                  <a:pt x="4323" y="1200"/>
                </a:lnTo>
                <a:lnTo>
                  <a:pt x="3603" y="1200"/>
                </a:lnTo>
                <a:lnTo>
                  <a:pt x="2882" y="1200"/>
                </a:lnTo>
                <a:lnTo>
                  <a:pt x="2162" y="1200"/>
                </a:lnTo>
                <a:lnTo>
                  <a:pt x="1441" y="1200"/>
                </a:lnTo>
                <a:lnTo>
                  <a:pt x="721" y="1200"/>
                </a:lnTo>
                <a:lnTo>
                  <a:pt x="0" y="1200"/>
                </a:lnTo>
                <a:close/>
                <a:moveTo>
                  <a:pt x="0" y="1168"/>
                </a:moveTo>
                <a:lnTo>
                  <a:pt x="0" y="1151"/>
                </a:lnTo>
                <a:lnTo>
                  <a:pt x="721" y="1151"/>
                </a:lnTo>
                <a:lnTo>
                  <a:pt x="1441" y="1151"/>
                </a:lnTo>
                <a:lnTo>
                  <a:pt x="2162" y="1151"/>
                </a:lnTo>
                <a:lnTo>
                  <a:pt x="2882" y="1151"/>
                </a:lnTo>
                <a:lnTo>
                  <a:pt x="3603" y="1151"/>
                </a:lnTo>
                <a:lnTo>
                  <a:pt x="4323" y="1151"/>
                </a:lnTo>
                <a:lnTo>
                  <a:pt x="5044" y="1151"/>
                </a:lnTo>
                <a:lnTo>
                  <a:pt x="5764" y="1151"/>
                </a:lnTo>
                <a:lnTo>
                  <a:pt x="5764" y="1168"/>
                </a:lnTo>
                <a:lnTo>
                  <a:pt x="5044" y="1168"/>
                </a:lnTo>
                <a:lnTo>
                  <a:pt x="4323" y="1168"/>
                </a:lnTo>
                <a:lnTo>
                  <a:pt x="3603" y="1168"/>
                </a:lnTo>
                <a:lnTo>
                  <a:pt x="2882" y="1168"/>
                </a:lnTo>
                <a:lnTo>
                  <a:pt x="2162" y="1168"/>
                </a:lnTo>
                <a:lnTo>
                  <a:pt x="1441" y="1168"/>
                </a:lnTo>
                <a:lnTo>
                  <a:pt x="721" y="1168"/>
                </a:lnTo>
                <a:lnTo>
                  <a:pt x="0" y="1168"/>
                </a:lnTo>
                <a:close/>
                <a:moveTo>
                  <a:pt x="0" y="1135"/>
                </a:moveTo>
                <a:lnTo>
                  <a:pt x="0" y="1118"/>
                </a:lnTo>
                <a:lnTo>
                  <a:pt x="721" y="1118"/>
                </a:lnTo>
                <a:lnTo>
                  <a:pt x="1441" y="1118"/>
                </a:lnTo>
                <a:lnTo>
                  <a:pt x="2162" y="1118"/>
                </a:lnTo>
                <a:lnTo>
                  <a:pt x="2882" y="1118"/>
                </a:lnTo>
                <a:lnTo>
                  <a:pt x="3603" y="1118"/>
                </a:lnTo>
                <a:lnTo>
                  <a:pt x="4323" y="1118"/>
                </a:lnTo>
                <a:lnTo>
                  <a:pt x="5044" y="1118"/>
                </a:lnTo>
                <a:lnTo>
                  <a:pt x="5764" y="1118"/>
                </a:lnTo>
                <a:lnTo>
                  <a:pt x="5764" y="1135"/>
                </a:lnTo>
                <a:lnTo>
                  <a:pt x="5044" y="1135"/>
                </a:lnTo>
                <a:lnTo>
                  <a:pt x="4323" y="1135"/>
                </a:lnTo>
                <a:lnTo>
                  <a:pt x="3603" y="1135"/>
                </a:lnTo>
                <a:lnTo>
                  <a:pt x="2882" y="1135"/>
                </a:lnTo>
                <a:lnTo>
                  <a:pt x="2162" y="1135"/>
                </a:lnTo>
                <a:lnTo>
                  <a:pt x="1441" y="1135"/>
                </a:lnTo>
                <a:lnTo>
                  <a:pt x="721" y="1135"/>
                </a:lnTo>
                <a:lnTo>
                  <a:pt x="0" y="1135"/>
                </a:lnTo>
                <a:close/>
                <a:moveTo>
                  <a:pt x="0" y="1102"/>
                </a:moveTo>
                <a:lnTo>
                  <a:pt x="0" y="1085"/>
                </a:lnTo>
                <a:lnTo>
                  <a:pt x="721" y="1085"/>
                </a:lnTo>
                <a:lnTo>
                  <a:pt x="1441" y="1085"/>
                </a:lnTo>
                <a:lnTo>
                  <a:pt x="2162" y="1085"/>
                </a:lnTo>
                <a:lnTo>
                  <a:pt x="2882" y="1085"/>
                </a:lnTo>
                <a:lnTo>
                  <a:pt x="3603" y="1085"/>
                </a:lnTo>
                <a:lnTo>
                  <a:pt x="4323" y="1085"/>
                </a:lnTo>
                <a:lnTo>
                  <a:pt x="5044" y="1085"/>
                </a:lnTo>
                <a:lnTo>
                  <a:pt x="5764" y="1085"/>
                </a:lnTo>
                <a:lnTo>
                  <a:pt x="5764" y="1102"/>
                </a:lnTo>
                <a:lnTo>
                  <a:pt x="5044" y="1102"/>
                </a:lnTo>
                <a:lnTo>
                  <a:pt x="4323" y="1102"/>
                </a:lnTo>
                <a:lnTo>
                  <a:pt x="3603" y="1102"/>
                </a:lnTo>
                <a:lnTo>
                  <a:pt x="2882" y="1102"/>
                </a:lnTo>
                <a:lnTo>
                  <a:pt x="2162" y="1102"/>
                </a:lnTo>
                <a:lnTo>
                  <a:pt x="1441" y="1102"/>
                </a:lnTo>
                <a:lnTo>
                  <a:pt x="721" y="1102"/>
                </a:lnTo>
                <a:lnTo>
                  <a:pt x="0" y="1102"/>
                </a:lnTo>
                <a:close/>
                <a:moveTo>
                  <a:pt x="0" y="1069"/>
                </a:moveTo>
                <a:lnTo>
                  <a:pt x="0" y="1052"/>
                </a:lnTo>
                <a:lnTo>
                  <a:pt x="721" y="1052"/>
                </a:lnTo>
                <a:lnTo>
                  <a:pt x="1441" y="1052"/>
                </a:lnTo>
                <a:lnTo>
                  <a:pt x="2162" y="1052"/>
                </a:lnTo>
                <a:lnTo>
                  <a:pt x="2882" y="1052"/>
                </a:lnTo>
                <a:lnTo>
                  <a:pt x="3603" y="1052"/>
                </a:lnTo>
                <a:lnTo>
                  <a:pt x="4323" y="1052"/>
                </a:lnTo>
                <a:lnTo>
                  <a:pt x="5044" y="1052"/>
                </a:lnTo>
                <a:lnTo>
                  <a:pt x="5764" y="1052"/>
                </a:lnTo>
                <a:lnTo>
                  <a:pt x="5764" y="1069"/>
                </a:lnTo>
                <a:lnTo>
                  <a:pt x="5044" y="1069"/>
                </a:lnTo>
                <a:lnTo>
                  <a:pt x="4323" y="1069"/>
                </a:lnTo>
                <a:lnTo>
                  <a:pt x="3603" y="1069"/>
                </a:lnTo>
                <a:lnTo>
                  <a:pt x="2882" y="1069"/>
                </a:lnTo>
                <a:lnTo>
                  <a:pt x="2162" y="1069"/>
                </a:lnTo>
                <a:lnTo>
                  <a:pt x="1441" y="1069"/>
                </a:lnTo>
                <a:lnTo>
                  <a:pt x="721" y="1069"/>
                </a:lnTo>
                <a:lnTo>
                  <a:pt x="0" y="1069"/>
                </a:lnTo>
                <a:close/>
                <a:moveTo>
                  <a:pt x="0" y="1036"/>
                </a:moveTo>
                <a:lnTo>
                  <a:pt x="0" y="1019"/>
                </a:lnTo>
                <a:lnTo>
                  <a:pt x="721" y="1019"/>
                </a:lnTo>
                <a:lnTo>
                  <a:pt x="1441" y="1019"/>
                </a:lnTo>
                <a:lnTo>
                  <a:pt x="2162" y="1019"/>
                </a:lnTo>
                <a:lnTo>
                  <a:pt x="2882" y="1019"/>
                </a:lnTo>
                <a:lnTo>
                  <a:pt x="3603" y="1019"/>
                </a:lnTo>
                <a:lnTo>
                  <a:pt x="4323" y="1019"/>
                </a:lnTo>
                <a:lnTo>
                  <a:pt x="5044" y="1019"/>
                </a:lnTo>
                <a:lnTo>
                  <a:pt x="5764" y="1019"/>
                </a:lnTo>
                <a:lnTo>
                  <a:pt x="5764" y="1036"/>
                </a:lnTo>
                <a:lnTo>
                  <a:pt x="5044" y="1036"/>
                </a:lnTo>
                <a:lnTo>
                  <a:pt x="4323" y="1036"/>
                </a:lnTo>
                <a:lnTo>
                  <a:pt x="3603" y="1036"/>
                </a:lnTo>
                <a:lnTo>
                  <a:pt x="2882" y="1036"/>
                </a:lnTo>
                <a:lnTo>
                  <a:pt x="2162" y="1036"/>
                </a:lnTo>
                <a:lnTo>
                  <a:pt x="1441" y="1036"/>
                </a:lnTo>
                <a:lnTo>
                  <a:pt x="721" y="1036"/>
                </a:lnTo>
                <a:lnTo>
                  <a:pt x="0" y="1036"/>
                </a:lnTo>
                <a:close/>
                <a:moveTo>
                  <a:pt x="0" y="1003"/>
                </a:moveTo>
                <a:lnTo>
                  <a:pt x="0" y="986"/>
                </a:lnTo>
                <a:lnTo>
                  <a:pt x="721" y="986"/>
                </a:lnTo>
                <a:lnTo>
                  <a:pt x="1441" y="986"/>
                </a:lnTo>
                <a:lnTo>
                  <a:pt x="2162" y="986"/>
                </a:lnTo>
                <a:lnTo>
                  <a:pt x="2882" y="986"/>
                </a:lnTo>
                <a:lnTo>
                  <a:pt x="3603" y="986"/>
                </a:lnTo>
                <a:lnTo>
                  <a:pt x="4323" y="986"/>
                </a:lnTo>
                <a:lnTo>
                  <a:pt x="5044" y="986"/>
                </a:lnTo>
                <a:lnTo>
                  <a:pt x="5764" y="986"/>
                </a:lnTo>
                <a:lnTo>
                  <a:pt x="5764" y="1003"/>
                </a:lnTo>
                <a:lnTo>
                  <a:pt x="5044" y="1003"/>
                </a:lnTo>
                <a:lnTo>
                  <a:pt x="4323" y="1003"/>
                </a:lnTo>
                <a:lnTo>
                  <a:pt x="3603" y="1003"/>
                </a:lnTo>
                <a:lnTo>
                  <a:pt x="2882" y="1003"/>
                </a:lnTo>
                <a:lnTo>
                  <a:pt x="2162" y="1003"/>
                </a:lnTo>
                <a:lnTo>
                  <a:pt x="1441" y="1003"/>
                </a:lnTo>
                <a:lnTo>
                  <a:pt x="721" y="1003"/>
                </a:lnTo>
                <a:lnTo>
                  <a:pt x="0" y="1003"/>
                </a:lnTo>
                <a:close/>
                <a:moveTo>
                  <a:pt x="0" y="970"/>
                </a:moveTo>
                <a:lnTo>
                  <a:pt x="0" y="954"/>
                </a:lnTo>
                <a:lnTo>
                  <a:pt x="721" y="954"/>
                </a:lnTo>
                <a:lnTo>
                  <a:pt x="1441" y="954"/>
                </a:lnTo>
                <a:lnTo>
                  <a:pt x="2162" y="954"/>
                </a:lnTo>
                <a:lnTo>
                  <a:pt x="2882" y="954"/>
                </a:lnTo>
                <a:lnTo>
                  <a:pt x="3603" y="954"/>
                </a:lnTo>
                <a:lnTo>
                  <a:pt x="4323" y="954"/>
                </a:lnTo>
                <a:lnTo>
                  <a:pt x="5044" y="954"/>
                </a:lnTo>
                <a:lnTo>
                  <a:pt x="5764" y="954"/>
                </a:lnTo>
                <a:lnTo>
                  <a:pt x="5764" y="970"/>
                </a:lnTo>
                <a:lnTo>
                  <a:pt x="5044" y="970"/>
                </a:lnTo>
                <a:lnTo>
                  <a:pt x="4323" y="970"/>
                </a:lnTo>
                <a:lnTo>
                  <a:pt x="3603" y="970"/>
                </a:lnTo>
                <a:lnTo>
                  <a:pt x="2882" y="970"/>
                </a:lnTo>
                <a:lnTo>
                  <a:pt x="2162" y="970"/>
                </a:lnTo>
                <a:lnTo>
                  <a:pt x="1441" y="970"/>
                </a:lnTo>
                <a:lnTo>
                  <a:pt x="721" y="970"/>
                </a:lnTo>
                <a:lnTo>
                  <a:pt x="0" y="970"/>
                </a:lnTo>
                <a:close/>
                <a:moveTo>
                  <a:pt x="0" y="938"/>
                </a:moveTo>
                <a:lnTo>
                  <a:pt x="0" y="921"/>
                </a:lnTo>
                <a:lnTo>
                  <a:pt x="721" y="921"/>
                </a:lnTo>
                <a:lnTo>
                  <a:pt x="1441" y="921"/>
                </a:lnTo>
                <a:lnTo>
                  <a:pt x="2162" y="921"/>
                </a:lnTo>
                <a:lnTo>
                  <a:pt x="2882" y="921"/>
                </a:lnTo>
                <a:lnTo>
                  <a:pt x="3603" y="921"/>
                </a:lnTo>
                <a:lnTo>
                  <a:pt x="4323" y="921"/>
                </a:lnTo>
                <a:lnTo>
                  <a:pt x="5044" y="921"/>
                </a:lnTo>
                <a:lnTo>
                  <a:pt x="5764" y="921"/>
                </a:lnTo>
                <a:lnTo>
                  <a:pt x="5764" y="938"/>
                </a:lnTo>
                <a:lnTo>
                  <a:pt x="5044" y="938"/>
                </a:lnTo>
                <a:lnTo>
                  <a:pt x="4323" y="938"/>
                </a:lnTo>
                <a:lnTo>
                  <a:pt x="3603" y="938"/>
                </a:lnTo>
                <a:lnTo>
                  <a:pt x="2882" y="938"/>
                </a:lnTo>
                <a:lnTo>
                  <a:pt x="2162" y="938"/>
                </a:lnTo>
                <a:lnTo>
                  <a:pt x="1441" y="938"/>
                </a:lnTo>
                <a:lnTo>
                  <a:pt x="721" y="938"/>
                </a:lnTo>
                <a:lnTo>
                  <a:pt x="0" y="938"/>
                </a:lnTo>
                <a:close/>
                <a:moveTo>
                  <a:pt x="0" y="905"/>
                </a:moveTo>
                <a:lnTo>
                  <a:pt x="0" y="888"/>
                </a:lnTo>
                <a:lnTo>
                  <a:pt x="721" y="888"/>
                </a:lnTo>
                <a:lnTo>
                  <a:pt x="1441" y="888"/>
                </a:lnTo>
                <a:lnTo>
                  <a:pt x="2162" y="888"/>
                </a:lnTo>
                <a:lnTo>
                  <a:pt x="2882" y="888"/>
                </a:lnTo>
                <a:lnTo>
                  <a:pt x="3603" y="888"/>
                </a:lnTo>
                <a:lnTo>
                  <a:pt x="4323" y="888"/>
                </a:lnTo>
                <a:lnTo>
                  <a:pt x="5044" y="888"/>
                </a:lnTo>
                <a:lnTo>
                  <a:pt x="5764" y="888"/>
                </a:lnTo>
                <a:lnTo>
                  <a:pt x="5764" y="905"/>
                </a:lnTo>
                <a:lnTo>
                  <a:pt x="5044" y="905"/>
                </a:lnTo>
                <a:lnTo>
                  <a:pt x="4323" y="905"/>
                </a:lnTo>
                <a:lnTo>
                  <a:pt x="3603" y="905"/>
                </a:lnTo>
                <a:lnTo>
                  <a:pt x="2882" y="905"/>
                </a:lnTo>
                <a:lnTo>
                  <a:pt x="2162" y="905"/>
                </a:lnTo>
                <a:lnTo>
                  <a:pt x="1441" y="905"/>
                </a:lnTo>
                <a:lnTo>
                  <a:pt x="721" y="905"/>
                </a:lnTo>
                <a:lnTo>
                  <a:pt x="0" y="905"/>
                </a:lnTo>
                <a:close/>
                <a:moveTo>
                  <a:pt x="0" y="872"/>
                </a:moveTo>
                <a:lnTo>
                  <a:pt x="0" y="855"/>
                </a:lnTo>
                <a:lnTo>
                  <a:pt x="721" y="855"/>
                </a:lnTo>
                <a:lnTo>
                  <a:pt x="1441" y="855"/>
                </a:lnTo>
                <a:lnTo>
                  <a:pt x="2162" y="855"/>
                </a:lnTo>
                <a:lnTo>
                  <a:pt x="2882" y="855"/>
                </a:lnTo>
                <a:lnTo>
                  <a:pt x="3603" y="855"/>
                </a:lnTo>
                <a:lnTo>
                  <a:pt x="4323" y="855"/>
                </a:lnTo>
                <a:lnTo>
                  <a:pt x="5044" y="855"/>
                </a:lnTo>
                <a:lnTo>
                  <a:pt x="5764" y="855"/>
                </a:lnTo>
                <a:lnTo>
                  <a:pt x="5764" y="872"/>
                </a:lnTo>
                <a:lnTo>
                  <a:pt x="5044" y="872"/>
                </a:lnTo>
                <a:lnTo>
                  <a:pt x="4323" y="872"/>
                </a:lnTo>
                <a:lnTo>
                  <a:pt x="3603" y="872"/>
                </a:lnTo>
                <a:lnTo>
                  <a:pt x="2882" y="872"/>
                </a:lnTo>
                <a:lnTo>
                  <a:pt x="2162" y="872"/>
                </a:lnTo>
                <a:lnTo>
                  <a:pt x="1441" y="872"/>
                </a:lnTo>
                <a:lnTo>
                  <a:pt x="721" y="872"/>
                </a:lnTo>
                <a:lnTo>
                  <a:pt x="0" y="872"/>
                </a:lnTo>
                <a:close/>
                <a:moveTo>
                  <a:pt x="0" y="839"/>
                </a:moveTo>
                <a:lnTo>
                  <a:pt x="0" y="822"/>
                </a:lnTo>
                <a:lnTo>
                  <a:pt x="721" y="822"/>
                </a:lnTo>
                <a:lnTo>
                  <a:pt x="1441" y="822"/>
                </a:lnTo>
                <a:lnTo>
                  <a:pt x="2162" y="822"/>
                </a:lnTo>
                <a:lnTo>
                  <a:pt x="2882" y="822"/>
                </a:lnTo>
                <a:lnTo>
                  <a:pt x="3603" y="822"/>
                </a:lnTo>
                <a:lnTo>
                  <a:pt x="4323" y="822"/>
                </a:lnTo>
                <a:lnTo>
                  <a:pt x="5044" y="822"/>
                </a:lnTo>
                <a:lnTo>
                  <a:pt x="5764" y="822"/>
                </a:lnTo>
                <a:lnTo>
                  <a:pt x="5764" y="839"/>
                </a:lnTo>
                <a:lnTo>
                  <a:pt x="5044" y="839"/>
                </a:lnTo>
                <a:lnTo>
                  <a:pt x="4323" y="839"/>
                </a:lnTo>
                <a:lnTo>
                  <a:pt x="3603" y="839"/>
                </a:lnTo>
                <a:lnTo>
                  <a:pt x="2882" y="839"/>
                </a:lnTo>
                <a:lnTo>
                  <a:pt x="2162" y="839"/>
                </a:lnTo>
                <a:lnTo>
                  <a:pt x="1441" y="839"/>
                </a:lnTo>
                <a:lnTo>
                  <a:pt x="721" y="839"/>
                </a:lnTo>
                <a:lnTo>
                  <a:pt x="0" y="839"/>
                </a:lnTo>
                <a:close/>
                <a:moveTo>
                  <a:pt x="0" y="806"/>
                </a:moveTo>
                <a:lnTo>
                  <a:pt x="0" y="789"/>
                </a:lnTo>
                <a:lnTo>
                  <a:pt x="721" y="789"/>
                </a:lnTo>
                <a:lnTo>
                  <a:pt x="1441" y="789"/>
                </a:lnTo>
                <a:lnTo>
                  <a:pt x="2162" y="789"/>
                </a:lnTo>
                <a:lnTo>
                  <a:pt x="2882" y="789"/>
                </a:lnTo>
                <a:lnTo>
                  <a:pt x="3603" y="789"/>
                </a:lnTo>
                <a:lnTo>
                  <a:pt x="4323" y="789"/>
                </a:lnTo>
                <a:lnTo>
                  <a:pt x="5044" y="789"/>
                </a:lnTo>
                <a:lnTo>
                  <a:pt x="5764" y="789"/>
                </a:lnTo>
                <a:lnTo>
                  <a:pt x="5764" y="806"/>
                </a:lnTo>
                <a:lnTo>
                  <a:pt x="5044" y="806"/>
                </a:lnTo>
                <a:lnTo>
                  <a:pt x="4323" y="806"/>
                </a:lnTo>
                <a:lnTo>
                  <a:pt x="3603" y="806"/>
                </a:lnTo>
                <a:lnTo>
                  <a:pt x="2882" y="806"/>
                </a:lnTo>
                <a:lnTo>
                  <a:pt x="2162" y="806"/>
                </a:lnTo>
                <a:lnTo>
                  <a:pt x="1441" y="806"/>
                </a:lnTo>
                <a:lnTo>
                  <a:pt x="721" y="806"/>
                </a:lnTo>
                <a:lnTo>
                  <a:pt x="0" y="806"/>
                </a:lnTo>
                <a:close/>
                <a:moveTo>
                  <a:pt x="0" y="773"/>
                </a:moveTo>
                <a:lnTo>
                  <a:pt x="0" y="757"/>
                </a:lnTo>
                <a:lnTo>
                  <a:pt x="721" y="757"/>
                </a:lnTo>
                <a:lnTo>
                  <a:pt x="1441" y="757"/>
                </a:lnTo>
                <a:lnTo>
                  <a:pt x="2162" y="757"/>
                </a:lnTo>
                <a:lnTo>
                  <a:pt x="2882" y="757"/>
                </a:lnTo>
                <a:lnTo>
                  <a:pt x="3603" y="757"/>
                </a:lnTo>
                <a:lnTo>
                  <a:pt x="4323" y="757"/>
                </a:lnTo>
                <a:lnTo>
                  <a:pt x="5044" y="757"/>
                </a:lnTo>
                <a:lnTo>
                  <a:pt x="5764" y="757"/>
                </a:lnTo>
                <a:lnTo>
                  <a:pt x="5764" y="773"/>
                </a:lnTo>
                <a:lnTo>
                  <a:pt x="5044" y="773"/>
                </a:lnTo>
                <a:lnTo>
                  <a:pt x="4323" y="773"/>
                </a:lnTo>
                <a:lnTo>
                  <a:pt x="3603" y="773"/>
                </a:lnTo>
                <a:lnTo>
                  <a:pt x="2882" y="773"/>
                </a:lnTo>
                <a:lnTo>
                  <a:pt x="2162" y="773"/>
                </a:lnTo>
                <a:lnTo>
                  <a:pt x="1441" y="773"/>
                </a:lnTo>
                <a:lnTo>
                  <a:pt x="721" y="773"/>
                </a:lnTo>
                <a:lnTo>
                  <a:pt x="0" y="773"/>
                </a:lnTo>
                <a:close/>
                <a:moveTo>
                  <a:pt x="0" y="741"/>
                </a:moveTo>
                <a:lnTo>
                  <a:pt x="0" y="724"/>
                </a:lnTo>
                <a:lnTo>
                  <a:pt x="721" y="724"/>
                </a:lnTo>
                <a:lnTo>
                  <a:pt x="1441" y="724"/>
                </a:lnTo>
                <a:lnTo>
                  <a:pt x="2162" y="724"/>
                </a:lnTo>
                <a:lnTo>
                  <a:pt x="2882" y="724"/>
                </a:lnTo>
                <a:lnTo>
                  <a:pt x="3603" y="724"/>
                </a:lnTo>
                <a:lnTo>
                  <a:pt x="4323" y="724"/>
                </a:lnTo>
                <a:lnTo>
                  <a:pt x="5044" y="724"/>
                </a:lnTo>
                <a:lnTo>
                  <a:pt x="5764" y="724"/>
                </a:lnTo>
                <a:lnTo>
                  <a:pt x="5764" y="741"/>
                </a:lnTo>
                <a:lnTo>
                  <a:pt x="5044" y="741"/>
                </a:lnTo>
                <a:lnTo>
                  <a:pt x="4323" y="741"/>
                </a:lnTo>
                <a:lnTo>
                  <a:pt x="3603" y="741"/>
                </a:lnTo>
                <a:lnTo>
                  <a:pt x="2882" y="741"/>
                </a:lnTo>
                <a:lnTo>
                  <a:pt x="2162" y="741"/>
                </a:lnTo>
                <a:lnTo>
                  <a:pt x="1441" y="741"/>
                </a:lnTo>
                <a:lnTo>
                  <a:pt x="721" y="741"/>
                </a:lnTo>
                <a:lnTo>
                  <a:pt x="0" y="741"/>
                </a:lnTo>
                <a:close/>
                <a:moveTo>
                  <a:pt x="0" y="707"/>
                </a:moveTo>
                <a:lnTo>
                  <a:pt x="0" y="690"/>
                </a:lnTo>
                <a:lnTo>
                  <a:pt x="721" y="690"/>
                </a:lnTo>
                <a:lnTo>
                  <a:pt x="1441" y="690"/>
                </a:lnTo>
                <a:lnTo>
                  <a:pt x="2162" y="690"/>
                </a:lnTo>
                <a:lnTo>
                  <a:pt x="2882" y="690"/>
                </a:lnTo>
                <a:lnTo>
                  <a:pt x="3603" y="690"/>
                </a:lnTo>
                <a:lnTo>
                  <a:pt x="4323" y="690"/>
                </a:lnTo>
                <a:lnTo>
                  <a:pt x="5044" y="690"/>
                </a:lnTo>
                <a:lnTo>
                  <a:pt x="5764" y="690"/>
                </a:lnTo>
                <a:lnTo>
                  <a:pt x="5764" y="707"/>
                </a:lnTo>
                <a:lnTo>
                  <a:pt x="5044" y="707"/>
                </a:lnTo>
                <a:lnTo>
                  <a:pt x="4323" y="707"/>
                </a:lnTo>
                <a:lnTo>
                  <a:pt x="3603" y="707"/>
                </a:lnTo>
                <a:lnTo>
                  <a:pt x="2882" y="707"/>
                </a:lnTo>
                <a:lnTo>
                  <a:pt x="2162" y="707"/>
                </a:lnTo>
                <a:lnTo>
                  <a:pt x="1441" y="707"/>
                </a:lnTo>
                <a:lnTo>
                  <a:pt x="721" y="707"/>
                </a:lnTo>
                <a:lnTo>
                  <a:pt x="0" y="707"/>
                </a:lnTo>
                <a:close/>
                <a:moveTo>
                  <a:pt x="0" y="674"/>
                </a:moveTo>
                <a:lnTo>
                  <a:pt x="0" y="657"/>
                </a:lnTo>
                <a:lnTo>
                  <a:pt x="721" y="657"/>
                </a:lnTo>
                <a:lnTo>
                  <a:pt x="1441" y="657"/>
                </a:lnTo>
                <a:lnTo>
                  <a:pt x="2162" y="657"/>
                </a:lnTo>
                <a:lnTo>
                  <a:pt x="2882" y="657"/>
                </a:lnTo>
                <a:lnTo>
                  <a:pt x="3603" y="657"/>
                </a:lnTo>
                <a:lnTo>
                  <a:pt x="4323" y="657"/>
                </a:lnTo>
                <a:lnTo>
                  <a:pt x="5044" y="657"/>
                </a:lnTo>
                <a:lnTo>
                  <a:pt x="5764" y="657"/>
                </a:lnTo>
                <a:lnTo>
                  <a:pt x="5764" y="674"/>
                </a:lnTo>
                <a:lnTo>
                  <a:pt x="5044" y="674"/>
                </a:lnTo>
                <a:lnTo>
                  <a:pt x="4323" y="674"/>
                </a:lnTo>
                <a:lnTo>
                  <a:pt x="3603" y="674"/>
                </a:lnTo>
                <a:lnTo>
                  <a:pt x="2882" y="674"/>
                </a:lnTo>
                <a:lnTo>
                  <a:pt x="2162" y="674"/>
                </a:lnTo>
                <a:lnTo>
                  <a:pt x="1441" y="674"/>
                </a:lnTo>
                <a:lnTo>
                  <a:pt x="721" y="674"/>
                </a:lnTo>
                <a:lnTo>
                  <a:pt x="0" y="674"/>
                </a:lnTo>
                <a:close/>
                <a:moveTo>
                  <a:pt x="0" y="641"/>
                </a:moveTo>
                <a:lnTo>
                  <a:pt x="0" y="624"/>
                </a:lnTo>
                <a:lnTo>
                  <a:pt x="721" y="624"/>
                </a:lnTo>
                <a:lnTo>
                  <a:pt x="1441" y="624"/>
                </a:lnTo>
                <a:lnTo>
                  <a:pt x="2162" y="624"/>
                </a:lnTo>
                <a:lnTo>
                  <a:pt x="2882" y="624"/>
                </a:lnTo>
                <a:lnTo>
                  <a:pt x="3603" y="624"/>
                </a:lnTo>
                <a:lnTo>
                  <a:pt x="4323" y="624"/>
                </a:lnTo>
                <a:lnTo>
                  <a:pt x="5044" y="624"/>
                </a:lnTo>
                <a:lnTo>
                  <a:pt x="5764" y="624"/>
                </a:lnTo>
                <a:lnTo>
                  <a:pt x="5764" y="641"/>
                </a:lnTo>
                <a:lnTo>
                  <a:pt x="5044" y="641"/>
                </a:lnTo>
                <a:lnTo>
                  <a:pt x="4323" y="641"/>
                </a:lnTo>
                <a:lnTo>
                  <a:pt x="3603" y="641"/>
                </a:lnTo>
                <a:lnTo>
                  <a:pt x="2882" y="641"/>
                </a:lnTo>
                <a:lnTo>
                  <a:pt x="2162" y="641"/>
                </a:lnTo>
                <a:lnTo>
                  <a:pt x="1441" y="641"/>
                </a:lnTo>
                <a:lnTo>
                  <a:pt x="721" y="641"/>
                </a:lnTo>
                <a:lnTo>
                  <a:pt x="0" y="641"/>
                </a:lnTo>
                <a:close/>
                <a:moveTo>
                  <a:pt x="0" y="608"/>
                </a:moveTo>
                <a:lnTo>
                  <a:pt x="0" y="591"/>
                </a:lnTo>
                <a:lnTo>
                  <a:pt x="721" y="591"/>
                </a:lnTo>
                <a:lnTo>
                  <a:pt x="1441" y="591"/>
                </a:lnTo>
                <a:lnTo>
                  <a:pt x="2162" y="591"/>
                </a:lnTo>
                <a:lnTo>
                  <a:pt x="2882" y="591"/>
                </a:lnTo>
                <a:lnTo>
                  <a:pt x="3603" y="591"/>
                </a:lnTo>
                <a:lnTo>
                  <a:pt x="4323" y="591"/>
                </a:lnTo>
                <a:lnTo>
                  <a:pt x="5044" y="591"/>
                </a:lnTo>
                <a:lnTo>
                  <a:pt x="5764" y="591"/>
                </a:lnTo>
                <a:lnTo>
                  <a:pt x="5764" y="608"/>
                </a:lnTo>
                <a:lnTo>
                  <a:pt x="5044" y="608"/>
                </a:lnTo>
                <a:lnTo>
                  <a:pt x="4323" y="608"/>
                </a:lnTo>
                <a:lnTo>
                  <a:pt x="3603" y="608"/>
                </a:lnTo>
                <a:lnTo>
                  <a:pt x="2882" y="608"/>
                </a:lnTo>
                <a:lnTo>
                  <a:pt x="2162" y="608"/>
                </a:lnTo>
                <a:lnTo>
                  <a:pt x="1441" y="608"/>
                </a:lnTo>
                <a:lnTo>
                  <a:pt x="721" y="608"/>
                </a:lnTo>
                <a:lnTo>
                  <a:pt x="0" y="608"/>
                </a:lnTo>
                <a:close/>
                <a:moveTo>
                  <a:pt x="0" y="575"/>
                </a:moveTo>
                <a:lnTo>
                  <a:pt x="0" y="558"/>
                </a:lnTo>
                <a:lnTo>
                  <a:pt x="721" y="558"/>
                </a:lnTo>
                <a:lnTo>
                  <a:pt x="1441" y="558"/>
                </a:lnTo>
                <a:lnTo>
                  <a:pt x="2162" y="558"/>
                </a:lnTo>
                <a:lnTo>
                  <a:pt x="2882" y="558"/>
                </a:lnTo>
                <a:lnTo>
                  <a:pt x="3603" y="558"/>
                </a:lnTo>
                <a:lnTo>
                  <a:pt x="4323" y="558"/>
                </a:lnTo>
                <a:lnTo>
                  <a:pt x="5044" y="558"/>
                </a:lnTo>
                <a:lnTo>
                  <a:pt x="5764" y="558"/>
                </a:lnTo>
                <a:lnTo>
                  <a:pt x="5764" y="575"/>
                </a:lnTo>
                <a:lnTo>
                  <a:pt x="5044" y="575"/>
                </a:lnTo>
                <a:lnTo>
                  <a:pt x="4323" y="575"/>
                </a:lnTo>
                <a:lnTo>
                  <a:pt x="3603" y="575"/>
                </a:lnTo>
                <a:lnTo>
                  <a:pt x="2882" y="575"/>
                </a:lnTo>
                <a:lnTo>
                  <a:pt x="2162" y="575"/>
                </a:lnTo>
                <a:lnTo>
                  <a:pt x="1441" y="575"/>
                </a:lnTo>
                <a:lnTo>
                  <a:pt x="721" y="575"/>
                </a:lnTo>
                <a:lnTo>
                  <a:pt x="0" y="575"/>
                </a:lnTo>
                <a:close/>
                <a:moveTo>
                  <a:pt x="0" y="542"/>
                </a:moveTo>
                <a:lnTo>
                  <a:pt x="0" y="526"/>
                </a:lnTo>
                <a:lnTo>
                  <a:pt x="721" y="526"/>
                </a:lnTo>
                <a:lnTo>
                  <a:pt x="1441" y="526"/>
                </a:lnTo>
                <a:lnTo>
                  <a:pt x="2162" y="526"/>
                </a:lnTo>
                <a:lnTo>
                  <a:pt x="2882" y="526"/>
                </a:lnTo>
                <a:lnTo>
                  <a:pt x="3603" y="526"/>
                </a:lnTo>
                <a:lnTo>
                  <a:pt x="4323" y="526"/>
                </a:lnTo>
                <a:lnTo>
                  <a:pt x="5044" y="526"/>
                </a:lnTo>
                <a:lnTo>
                  <a:pt x="5764" y="526"/>
                </a:lnTo>
                <a:lnTo>
                  <a:pt x="5764" y="542"/>
                </a:lnTo>
                <a:lnTo>
                  <a:pt x="5044" y="542"/>
                </a:lnTo>
                <a:lnTo>
                  <a:pt x="4323" y="542"/>
                </a:lnTo>
                <a:lnTo>
                  <a:pt x="3603" y="542"/>
                </a:lnTo>
                <a:lnTo>
                  <a:pt x="2882" y="542"/>
                </a:lnTo>
                <a:lnTo>
                  <a:pt x="2162" y="542"/>
                </a:lnTo>
                <a:lnTo>
                  <a:pt x="1441" y="542"/>
                </a:lnTo>
                <a:lnTo>
                  <a:pt x="721" y="542"/>
                </a:lnTo>
                <a:lnTo>
                  <a:pt x="0" y="542"/>
                </a:lnTo>
                <a:close/>
                <a:moveTo>
                  <a:pt x="0" y="510"/>
                </a:moveTo>
                <a:lnTo>
                  <a:pt x="0" y="493"/>
                </a:lnTo>
                <a:lnTo>
                  <a:pt x="721" y="493"/>
                </a:lnTo>
                <a:lnTo>
                  <a:pt x="1441" y="493"/>
                </a:lnTo>
                <a:lnTo>
                  <a:pt x="2162" y="493"/>
                </a:lnTo>
                <a:lnTo>
                  <a:pt x="2882" y="493"/>
                </a:lnTo>
                <a:lnTo>
                  <a:pt x="3603" y="493"/>
                </a:lnTo>
                <a:lnTo>
                  <a:pt x="4323" y="493"/>
                </a:lnTo>
                <a:lnTo>
                  <a:pt x="5044" y="493"/>
                </a:lnTo>
                <a:lnTo>
                  <a:pt x="5764" y="493"/>
                </a:lnTo>
                <a:lnTo>
                  <a:pt x="5764" y="510"/>
                </a:lnTo>
                <a:lnTo>
                  <a:pt x="5044" y="510"/>
                </a:lnTo>
                <a:lnTo>
                  <a:pt x="4323" y="510"/>
                </a:lnTo>
                <a:lnTo>
                  <a:pt x="3603" y="510"/>
                </a:lnTo>
                <a:lnTo>
                  <a:pt x="2882" y="510"/>
                </a:lnTo>
                <a:lnTo>
                  <a:pt x="2162" y="510"/>
                </a:lnTo>
                <a:lnTo>
                  <a:pt x="1441" y="510"/>
                </a:lnTo>
                <a:lnTo>
                  <a:pt x="721" y="510"/>
                </a:lnTo>
                <a:lnTo>
                  <a:pt x="0" y="510"/>
                </a:lnTo>
                <a:close/>
                <a:moveTo>
                  <a:pt x="0" y="477"/>
                </a:moveTo>
                <a:lnTo>
                  <a:pt x="0" y="460"/>
                </a:lnTo>
                <a:lnTo>
                  <a:pt x="721" y="460"/>
                </a:lnTo>
                <a:lnTo>
                  <a:pt x="1441" y="460"/>
                </a:lnTo>
                <a:lnTo>
                  <a:pt x="2162" y="460"/>
                </a:lnTo>
                <a:lnTo>
                  <a:pt x="2882" y="460"/>
                </a:lnTo>
                <a:lnTo>
                  <a:pt x="3603" y="460"/>
                </a:lnTo>
                <a:lnTo>
                  <a:pt x="4323" y="460"/>
                </a:lnTo>
                <a:lnTo>
                  <a:pt x="5044" y="460"/>
                </a:lnTo>
                <a:lnTo>
                  <a:pt x="5764" y="460"/>
                </a:lnTo>
                <a:lnTo>
                  <a:pt x="5764" y="477"/>
                </a:lnTo>
                <a:lnTo>
                  <a:pt x="5044" y="477"/>
                </a:lnTo>
                <a:lnTo>
                  <a:pt x="4323" y="477"/>
                </a:lnTo>
                <a:lnTo>
                  <a:pt x="3603" y="477"/>
                </a:lnTo>
                <a:lnTo>
                  <a:pt x="2882" y="477"/>
                </a:lnTo>
                <a:lnTo>
                  <a:pt x="2162" y="477"/>
                </a:lnTo>
                <a:lnTo>
                  <a:pt x="1441" y="477"/>
                </a:lnTo>
                <a:lnTo>
                  <a:pt x="721" y="477"/>
                </a:lnTo>
                <a:lnTo>
                  <a:pt x="0" y="477"/>
                </a:lnTo>
                <a:close/>
                <a:moveTo>
                  <a:pt x="0" y="444"/>
                </a:moveTo>
                <a:lnTo>
                  <a:pt x="0" y="427"/>
                </a:lnTo>
                <a:lnTo>
                  <a:pt x="721" y="427"/>
                </a:lnTo>
                <a:lnTo>
                  <a:pt x="1441" y="427"/>
                </a:lnTo>
                <a:lnTo>
                  <a:pt x="2162" y="427"/>
                </a:lnTo>
                <a:lnTo>
                  <a:pt x="2882" y="427"/>
                </a:lnTo>
                <a:lnTo>
                  <a:pt x="3603" y="427"/>
                </a:lnTo>
                <a:lnTo>
                  <a:pt x="4323" y="427"/>
                </a:lnTo>
                <a:lnTo>
                  <a:pt x="5044" y="427"/>
                </a:lnTo>
                <a:lnTo>
                  <a:pt x="5764" y="427"/>
                </a:lnTo>
                <a:lnTo>
                  <a:pt x="5764" y="444"/>
                </a:lnTo>
                <a:lnTo>
                  <a:pt x="5044" y="444"/>
                </a:lnTo>
                <a:lnTo>
                  <a:pt x="4323" y="444"/>
                </a:lnTo>
                <a:lnTo>
                  <a:pt x="3603" y="444"/>
                </a:lnTo>
                <a:lnTo>
                  <a:pt x="2882" y="444"/>
                </a:lnTo>
                <a:lnTo>
                  <a:pt x="2162" y="444"/>
                </a:lnTo>
                <a:lnTo>
                  <a:pt x="1441" y="444"/>
                </a:lnTo>
                <a:lnTo>
                  <a:pt x="721" y="444"/>
                </a:lnTo>
                <a:lnTo>
                  <a:pt x="0" y="444"/>
                </a:lnTo>
                <a:close/>
                <a:moveTo>
                  <a:pt x="0" y="411"/>
                </a:moveTo>
                <a:lnTo>
                  <a:pt x="0" y="394"/>
                </a:lnTo>
                <a:lnTo>
                  <a:pt x="721" y="394"/>
                </a:lnTo>
                <a:lnTo>
                  <a:pt x="1441" y="394"/>
                </a:lnTo>
                <a:lnTo>
                  <a:pt x="2162" y="394"/>
                </a:lnTo>
                <a:lnTo>
                  <a:pt x="2882" y="394"/>
                </a:lnTo>
                <a:lnTo>
                  <a:pt x="3603" y="394"/>
                </a:lnTo>
                <a:lnTo>
                  <a:pt x="4323" y="394"/>
                </a:lnTo>
                <a:lnTo>
                  <a:pt x="5044" y="394"/>
                </a:lnTo>
                <a:lnTo>
                  <a:pt x="5764" y="394"/>
                </a:lnTo>
                <a:lnTo>
                  <a:pt x="5764" y="411"/>
                </a:lnTo>
                <a:lnTo>
                  <a:pt x="5044" y="411"/>
                </a:lnTo>
                <a:lnTo>
                  <a:pt x="4323" y="411"/>
                </a:lnTo>
                <a:lnTo>
                  <a:pt x="3603" y="411"/>
                </a:lnTo>
                <a:lnTo>
                  <a:pt x="2882" y="411"/>
                </a:lnTo>
                <a:lnTo>
                  <a:pt x="2162" y="411"/>
                </a:lnTo>
                <a:lnTo>
                  <a:pt x="1441" y="411"/>
                </a:lnTo>
                <a:lnTo>
                  <a:pt x="721" y="411"/>
                </a:lnTo>
                <a:lnTo>
                  <a:pt x="0" y="411"/>
                </a:lnTo>
                <a:close/>
                <a:moveTo>
                  <a:pt x="0" y="378"/>
                </a:moveTo>
                <a:lnTo>
                  <a:pt x="0" y="361"/>
                </a:lnTo>
                <a:lnTo>
                  <a:pt x="721" y="361"/>
                </a:lnTo>
                <a:lnTo>
                  <a:pt x="1441" y="361"/>
                </a:lnTo>
                <a:lnTo>
                  <a:pt x="2162" y="361"/>
                </a:lnTo>
                <a:lnTo>
                  <a:pt x="2882" y="361"/>
                </a:lnTo>
                <a:lnTo>
                  <a:pt x="3603" y="361"/>
                </a:lnTo>
                <a:lnTo>
                  <a:pt x="4323" y="361"/>
                </a:lnTo>
                <a:lnTo>
                  <a:pt x="5044" y="361"/>
                </a:lnTo>
                <a:lnTo>
                  <a:pt x="5764" y="361"/>
                </a:lnTo>
                <a:lnTo>
                  <a:pt x="5764" y="378"/>
                </a:lnTo>
                <a:lnTo>
                  <a:pt x="5044" y="378"/>
                </a:lnTo>
                <a:lnTo>
                  <a:pt x="4323" y="378"/>
                </a:lnTo>
                <a:lnTo>
                  <a:pt x="3603" y="378"/>
                </a:lnTo>
                <a:lnTo>
                  <a:pt x="2882" y="378"/>
                </a:lnTo>
                <a:lnTo>
                  <a:pt x="2162" y="378"/>
                </a:lnTo>
                <a:lnTo>
                  <a:pt x="1441" y="378"/>
                </a:lnTo>
                <a:lnTo>
                  <a:pt x="721" y="378"/>
                </a:lnTo>
                <a:lnTo>
                  <a:pt x="0" y="378"/>
                </a:lnTo>
                <a:close/>
                <a:moveTo>
                  <a:pt x="0" y="345"/>
                </a:moveTo>
                <a:lnTo>
                  <a:pt x="0" y="329"/>
                </a:lnTo>
                <a:lnTo>
                  <a:pt x="721" y="329"/>
                </a:lnTo>
                <a:lnTo>
                  <a:pt x="1441" y="329"/>
                </a:lnTo>
                <a:lnTo>
                  <a:pt x="2162" y="329"/>
                </a:lnTo>
                <a:lnTo>
                  <a:pt x="2882" y="329"/>
                </a:lnTo>
                <a:lnTo>
                  <a:pt x="3603" y="329"/>
                </a:lnTo>
                <a:lnTo>
                  <a:pt x="4323" y="329"/>
                </a:lnTo>
                <a:lnTo>
                  <a:pt x="5044" y="329"/>
                </a:lnTo>
                <a:lnTo>
                  <a:pt x="5764" y="329"/>
                </a:lnTo>
                <a:lnTo>
                  <a:pt x="5764" y="345"/>
                </a:lnTo>
                <a:lnTo>
                  <a:pt x="5044" y="345"/>
                </a:lnTo>
                <a:lnTo>
                  <a:pt x="4323" y="345"/>
                </a:lnTo>
                <a:lnTo>
                  <a:pt x="3603" y="345"/>
                </a:lnTo>
                <a:lnTo>
                  <a:pt x="2882" y="345"/>
                </a:lnTo>
                <a:lnTo>
                  <a:pt x="2162" y="345"/>
                </a:lnTo>
                <a:lnTo>
                  <a:pt x="1441" y="345"/>
                </a:lnTo>
                <a:lnTo>
                  <a:pt x="721" y="345"/>
                </a:lnTo>
                <a:lnTo>
                  <a:pt x="0" y="345"/>
                </a:lnTo>
                <a:close/>
                <a:moveTo>
                  <a:pt x="0" y="312"/>
                </a:moveTo>
                <a:lnTo>
                  <a:pt x="0" y="296"/>
                </a:lnTo>
                <a:lnTo>
                  <a:pt x="721" y="296"/>
                </a:lnTo>
                <a:lnTo>
                  <a:pt x="1441" y="296"/>
                </a:lnTo>
                <a:lnTo>
                  <a:pt x="2162" y="296"/>
                </a:lnTo>
                <a:lnTo>
                  <a:pt x="2882" y="296"/>
                </a:lnTo>
                <a:lnTo>
                  <a:pt x="3603" y="296"/>
                </a:lnTo>
                <a:lnTo>
                  <a:pt x="4323" y="296"/>
                </a:lnTo>
                <a:lnTo>
                  <a:pt x="5044" y="296"/>
                </a:lnTo>
                <a:lnTo>
                  <a:pt x="5764" y="296"/>
                </a:lnTo>
                <a:lnTo>
                  <a:pt x="5764" y="312"/>
                </a:lnTo>
                <a:lnTo>
                  <a:pt x="5044" y="312"/>
                </a:lnTo>
                <a:lnTo>
                  <a:pt x="4323" y="312"/>
                </a:lnTo>
                <a:lnTo>
                  <a:pt x="3603" y="312"/>
                </a:lnTo>
                <a:lnTo>
                  <a:pt x="2882" y="312"/>
                </a:lnTo>
                <a:lnTo>
                  <a:pt x="2162" y="312"/>
                </a:lnTo>
                <a:lnTo>
                  <a:pt x="1441" y="312"/>
                </a:lnTo>
                <a:lnTo>
                  <a:pt x="721" y="312"/>
                </a:lnTo>
                <a:lnTo>
                  <a:pt x="0" y="312"/>
                </a:lnTo>
                <a:close/>
                <a:moveTo>
                  <a:pt x="0" y="280"/>
                </a:moveTo>
                <a:lnTo>
                  <a:pt x="0" y="263"/>
                </a:lnTo>
                <a:lnTo>
                  <a:pt x="721" y="263"/>
                </a:lnTo>
                <a:lnTo>
                  <a:pt x="1441" y="263"/>
                </a:lnTo>
                <a:lnTo>
                  <a:pt x="2162" y="263"/>
                </a:lnTo>
                <a:lnTo>
                  <a:pt x="2882" y="263"/>
                </a:lnTo>
                <a:lnTo>
                  <a:pt x="3603" y="263"/>
                </a:lnTo>
                <a:lnTo>
                  <a:pt x="4323" y="263"/>
                </a:lnTo>
                <a:lnTo>
                  <a:pt x="5044" y="263"/>
                </a:lnTo>
                <a:lnTo>
                  <a:pt x="5764" y="263"/>
                </a:lnTo>
                <a:lnTo>
                  <a:pt x="5764" y="280"/>
                </a:lnTo>
                <a:lnTo>
                  <a:pt x="5044" y="280"/>
                </a:lnTo>
                <a:lnTo>
                  <a:pt x="4323" y="280"/>
                </a:lnTo>
                <a:lnTo>
                  <a:pt x="3603" y="280"/>
                </a:lnTo>
                <a:lnTo>
                  <a:pt x="2882" y="280"/>
                </a:lnTo>
                <a:lnTo>
                  <a:pt x="2162" y="280"/>
                </a:lnTo>
                <a:lnTo>
                  <a:pt x="1441" y="280"/>
                </a:lnTo>
                <a:lnTo>
                  <a:pt x="721" y="280"/>
                </a:lnTo>
                <a:lnTo>
                  <a:pt x="0" y="280"/>
                </a:lnTo>
                <a:close/>
                <a:moveTo>
                  <a:pt x="0" y="247"/>
                </a:moveTo>
                <a:lnTo>
                  <a:pt x="0" y="230"/>
                </a:lnTo>
                <a:lnTo>
                  <a:pt x="721" y="230"/>
                </a:lnTo>
                <a:lnTo>
                  <a:pt x="1441" y="230"/>
                </a:lnTo>
                <a:lnTo>
                  <a:pt x="2162" y="230"/>
                </a:lnTo>
                <a:lnTo>
                  <a:pt x="2882" y="230"/>
                </a:lnTo>
                <a:lnTo>
                  <a:pt x="3603" y="230"/>
                </a:lnTo>
                <a:lnTo>
                  <a:pt x="4323" y="230"/>
                </a:lnTo>
                <a:lnTo>
                  <a:pt x="5044" y="230"/>
                </a:lnTo>
                <a:lnTo>
                  <a:pt x="5764" y="230"/>
                </a:lnTo>
                <a:lnTo>
                  <a:pt x="5764" y="247"/>
                </a:lnTo>
                <a:lnTo>
                  <a:pt x="5044" y="247"/>
                </a:lnTo>
                <a:lnTo>
                  <a:pt x="4323" y="247"/>
                </a:lnTo>
                <a:lnTo>
                  <a:pt x="3603" y="247"/>
                </a:lnTo>
                <a:lnTo>
                  <a:pt x="2882" y="247"/>
                </a:lnTo>
                <a:lnTo>
                  <a:pt x="2162" y="247"/>
                </a:lnTo>
                <a:lnTo>
                  <a:pt x="1441" y="247"/>
                </a:lnTo>
                <a:lnTo>
                  <a:pt x="721" y="247"/>
                </a:lnTo>
                <a:lnTo>
                  <a:pt x="0" y="247"/>
                </a:lnTo>
                <a:close/>
                <a:moveTo>
                  <a:pt x="0" y="214"/>
                </a:moveTo>
                <a:lnTo>
                  <a:pt x="0" y="197"/>
                </a:lnTo>
                <a:lnTo>
                  <a:pt x="721" y="197"/>
                </a:lnTo>
                <a:lnTo>
                  <a:pt x="1441" y="197"/>
                </a:lnTo>
                <a:lnTo>
                  <a:pt x="2162" y="197"/>
                </a:lnTo>
                <a:lnTo>
                  <a:pt x="2882" y="197"/>
                </a:lnTo>
                <a:lnTo>
                  <a:pt x="3603" y="197"/>
                </a:lnTo>
                <a:lnTo>
                  <a:pt x="4323" y="197"/>
                </a:lnTo>
                <a:lnTo>
                  <a:pt x="5044" y="197"/>
                </a:lnTo>
                <a:lnTo>
                  <a:pt x="5764" y="197"/>
                </a:lnTo>
                <a:lnTo>
                  <a:pt x="5764" y="214"/>
                </a:lnTo>
                <a:lnTo>
                  <a:pt x="5044" y="214"/>
                </a:lnTo>
                <a:lnTo>
                  <a:pt x="4323" y="214"/>
                </a:lnTo>
                <a:lnTo>
                  <a:pt x="3603" y="214"/>
                </a:lnTo>
                <a:lnTo>
                  <a:pt x="2882" y="214"/>
                </a:lnTo>
                <a:lnTo>
                  <a:pt x="2162" y="214"/>
                </a:lnTo>
                <a:lnTo>
                  <a:pt x="1441" y="214"/>
                </a:lnTo>
                <a:lnTo>
                  <a:pt x="721" y="214"/>
                </a:lnTo>
                <a:lnTo>
                  <a:pt x="0" y="214"/>
                </a:lnTo>
                <a:close/>
                <a:moveTo>
                  <a:pt x="0" y="181"/>
                </a:moveTo>
                <a:lnTo>
                  <a:pt x="0" y="164"/>
                </a:lnTo>
                <a:lnTo>
                  <a:pt x="721" y="164"/>
                </a:lnTo>
                <a:lnTo>
                  <a:pt x="1441" y="164"/>
                </a:lnTo>
                <a:lnTo>
                  <a:pt x="2162" y="164"/>
                </a:lnTo>
                <a:lnTo>
                  <a:pt x="2882" y="164"/>
                </a:lnTo>
                <a:lnTo>
                  <a:pt x="3603" y="164"/>
                </a:lnTo>
                <a:lnTo>
                  <a:pt x="4323" y="164"/>
                </a:lnTo>
                <a:lnTo>
                  <a:pt x="5044" y="164"/>
                </a:lnTo>
                <a:lnTo>
                  <a:pt x="5764" y="164"/>
                </a:lnTo>
                <a:lnTo>
                  <a:pt x="5764" y="181"/>
                </a:lnTo>
                <a:lnTo>
                  <a:pt x="5044" y="181"/>
                </a:lnTo>
                <a:lnTo>
                  <a:pt x="4323" y="181"/>
                </a:lnTo>
                <a:lnTo>
                  <a:pt x="3603" y="181"/>
                </a:lnTo>
                <a:lnTo>
                  <a:pt x="2882" y="181"/>
                </a:lnTo>
                <a:lnTo>
                  <a:pt x="2162" y="181"/>
                </a:lnTo>
                <a:lnTo>
                  <a:pt x="1441" y="181"/>
                </a:lnTo>
                <a:lnTo>
                  <a:pt x="721" y="181"/>
                </a:lnTo>
                <a:lnTo>
                  <a:pt x="0" y="181"/>
                </a:lnTo>
                <a:close/>
                <a:moveTo>
                  <a:pt x="0" y="148"/>
                </a:moveTo>
                <a:lnTo>
                  <a:pt x="0" y="131"/>
                </a:lnTo>
                <a:lnTo>
                  <a:pt x="721" y="131"/>
                </a:lnTo>
                <a:lnTo>
                  <a:pt x="1441" y="131"/>
                </a:lnTo>
                <a:lnTo>
                  <a:pt x="2162" y="131"/>
                </a:lnTo>
                <a:lnTo>
                  <a:pt x="2882" y="131"/>
                </a:lnTo>
                <a:lnTo>
                  <a:pt x="3603" y="131"/>
                </a:lnTo>
                <a:lnTo>
                  <a:pt x="4323" y="131"/>
                </a:lnTo>
                <a:lnTo>
                  <a:pt x="5044" y="131"/>
                </a:lnTo>
                <a:lnTo>
                  <a:pt x="5764" y="131"/>
                </a:lnTo>
                <a:lnTo>
                  <a:pt x="5764" y="148"/>
                </a:lnTo>
                <a:lnTo>
                  <a:pt x="5044" y="148"/>
                </a:lnTo>
                <a:lnTo>
                  <a:pt x="4323" y="148"/>
                </a:lnTo>
                <a:lnTo>
                  <a:pt x="3603" y="148"/>
                </a:lnTo>
                <a:lnTo>
                  <a:pt x="2882" y="148"/>
                </a:lnTo>
                <a:lnTo>
                  <a:pt x="2162" y="148"/>
                </a:lnTo>
                <a:lnTo>
                  <a:pt x="1441" y="148"/>
                </a:lnTo>
                <a:lnTo>
                  <a:pt x="721" y="148"/>
                </a:lnTo>
                <a:lnTo>
                  <a:pt x="0" y="148"/>
                </a:lnTo>
                <a:close/>
                <a:moveTo>
                  <a:pt x="0" y="115"/>
                </a:moveTo>
                <a:lnTo>
                  <a:pt x="0" y="99"/>
                </a:lnTo>
                <a:lnTo>
                  <a:pt x="721" y="99"/>
                </a:lnTo>
                <a:lnTo>
                  <a:pt x="1441" y="99"/>
                </a:lnTo>
                <a:lnTo>
                  <a:pt x="2162" y="99"/>
                </a:lnTo>
                <a:lnTo>
                  <a:pt x="2882" y="99"/>
                </a:lnTo>
                <a:lnTo>
                  <a:pt x="3603" y="99"/>
                </a:lnTo>
                <a:lnTo>
                  <a:pt x="4323" y="99"/>
                </a:lnTo>
                <a:lnTo>
                  <a:pt x="5044" y="99"/>
                </a:lnTo>
                <a:lnTo>
                  <a:pt x="5764" y="99"/>
                </a:lnTo>
                <a:lnTo>
                  <a:pt x="5764" y="115"/>
                </a:lnTo>
                <a:lnTo>
                  <a:pt x="5044" y="115"/>
                </a:lnTo>
                <a:lnTo>
                  <a:pt x="4323" y="115"/>
                </a:lnTo>
                <a:lnTo>
                  <a:pt x="3603" y="115"/>
                </a:lnTo>
                <a:lnTo>
                  <a:pt x="2882" y="115"/>
                </a:lnTo>
                <a:lnTo>
                  <a:pt x="2162" y="115"/>
                </a:lnTo>
                <a:lnTo>
                  <a:pt x="1441" y="115"/>
                </a:lnTo>
                <a:lnTo>
                  <a:pt x="721" y="115"/>
                </a:lnTo>
                <a:lnTo>
                  <a:pt x="0" y="115"/>
                </a:lnTo>
                <a:close/>
                <a:moveTo>
                  <a:pt x="0" y="83"/>
                </a:moveTo>
                <a:lnTo>
                  <a:pt x="0" y="66"/>
                </a:lnTo>
                <a:lnTo>
                  <a:pt x="721" y="66"/>
                </a:lnTo>
                <a:lnTo>
                  <a:pt x="1441" y="66"/>
                </a:lnTo>
                <a:lnTo>
                  <a:pt x="2162" y="66"/>
                </a:lnTo>
                <a:lnTo>
                  <a:pt x="2882" y="66"/>
                </a:lnTo>
                <a:lnTo>
                  <a:pt x="3603" y="66"/>
                </a:lnTo>
                <a:lnTo>
                  <a:pt x="4323" y="66"/>
                </a:lnTo>
                <a:lnTo>
                  <a:pt x="5044" y="66"/>
                </a:lnTo>
                <a:lnTo>
                  <a:pt x="5764" y="66"/>
                </a:lnTo>
                <a:lnTo>
                  <a:pt x="5764" y="83"/>
                </a:lnTo>
                <a:lnTo>
                  <a:pt x="5044" y="83"/>
                </a:lnTo>
                <a:lnTo>
                  <a:pt x="4323" y="83"/>
                </a:lnTo>
                <a:lnTo>
                  <a:pt x="3603" y="83"/>
                </a:lnTo>
                <a:lnTo>
                  <a:pt x="2882" y="83"/>
                </a:lnTo>
                <a:lnTo>
                  <a:pt x="2162" y="83"/>
                </a:lnTo>
                <a:lnTo>
                  <a:pt x="1441" y="83"/>
                </a:lnTo>
                <a:lnTo>
                  <a:pt x="721" y="83"/>
                </a:lnTo>
                <a:lnTo>
                  <a:pt x="0" y="83"/>
                </a:lnTo>
                <a:close/>
                <a:moveTo>
                  <a:pt x="0" y="50"/>
                </a:moveTo>
                <a:lnTo>
                  <a:pt x="0" y="33"/>
                </a:lnTo>
                <a:lnTo>
                  <a:pt x="721" y="33"/>
                </a:lnTo>
                <a:lnTo>
                  <a:pt x="1441" y="33"/>
                </a:lnTo>
                <a:lnTo>
                  <a:pt x="2162" y="33"/>
                </a:lnTo>
                <a:lnTo>
                  <a:pt x="2882" y="33"/>
                </a:lnTo>
                <a:lnTo>
                  <a:pt x="3603" y="33"/>
                </a:lnTo>
                <a:lnTo>
                  <a:pt x="4323" y="33"/>
                </a:lnTo>
                <a:lnTo>
                  <a:pt x="5044" y="33"/>
                </a:lnTo>
                <a:lnTo>
                  <a:pt x="5764" y="33"/>
                </a:lnTo>
                <a:lnTo>
                  <a:pt x="5764" y="50"/>
                </a:lnTo>
                <a:lnTo>
                  <a:pt x="5044" y="50"/>
                </a:lnTo>
                <a:lnTo>
                  <a:pt x="4323" y="50"/>
                </a:lnTo>
                <a:lnTo>
                  <a:pt x="3603" y="50"/>
                </a:lnTo>
                <a:lnTo>
                  <a:pt x="2882" y="50"/>
                </a:lnTo>
                <a:lnTo>
                  <a:pt x="2162" y="50"/>
                </a:lnTo>
                <a:lnTo>
                  <a:pt x="1441" y="50"/>
                </a:lnTo>
                <a:lnTo>
                  <a:pt x="721" y="50"/>
                </a:lnTo>
                <a:lnTo>
                  <a:pt x="0" y="50"/>
                </a:lnTo>
                <a:close/>
                <a:moveTo>
                  <a:pt x="0" y="0"/>
                </a:moveTo>
                <a:lnTo>
                  <a:pt x="721" y="0"/>
                </a:lnTo>
                <a:lnTo>
                  <a:pt x="1441" y="0"/>
                </a:lnTo>
                <a:lnTo>
                  <a:pt x="2162" y="0"/>
                </a:lnTo>
                <a:lnTo>
                  <a:pt x="2882" y="0"/>
                </a:lnTo>
                <a:lnTo>
                  <a:pt x="3603" y="0"/>
                </a:lnTo>
                <a:lnTo>
                  <a:pt x="4323" y="0"/>
                </a:lnTo>
                <a:lnTo>
                  <a:pt x="5044" y="0"/>
                </a:lnTo>
                <a:lnTo>
                  <a:pt x="5764" y="0"/>
                </a:lnTo>
                <a:lnTo>
                  <a:pt x="5764" y="17"/>
                </a:lnTo>
                <a:lnTo>
                  <a:pt x="5044" y="17"/>
                </a:lnTo>
                <a:lnTo>
                  <a:pt x="4323" y="17"/>
                </a:lnTo>
                <a:lnTo>
                  <a:pt x="3603" y="17"/>
                </a:lnTo>
                <a:lnTo>
                  <a:pt x="2882" y="17"/>
                </a:lnTo>
                <a:lnTo>
                  <a:pt x="2162" y="17"/>
                </a:lnTo>
                <a:lnTo>
                  <a:pt x="1441" y="17"/>
                </a:lnTo>
                <a:lnTo>
                  <a:pt x="721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16" descr="interrogacon 4"/>
          <p:cNvPicPr/>
          <p:nvPr/>
        </p:nvPicPr>
        <p:blipFill>
          <a:blip r:embed="rId1"/>
          <a:srcRect l="4592" t="11941" r="38042" b="26478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6" descr="图片1.png"/>
          <p:cNvPicPr/>
          <p:nvPr/>
        </p:nvPicPr>
        <p:blipFill>
          <a:blip r:embed="rId2"/>
          <a:stretch/>
        </p:blipFill>
        <p:spPr>
          <a:xfrm>
            <a:off x="219240" y="1822320"/>
            <a:ext cx="5138640" cy="815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0"/>
          <p:cNvSpPr/>
          <p:nvPr/>
        </p:nvSpPr>
        <p:spPr>
          <a:xfrm>
            <a:off x="304920" y="1467000"/>
            <a:ext cx="30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文字内容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1040760" y="440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幻灯片说明文字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0" y="1442880"/>
            <a:ext cx="9144000" cy="488016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62"/>
          <p:cNvGrpSpPr/>
          <p:nvPr/>
        </p:nvGrpSpPr>
        <p:grpSpPr>
          <a:xfrm>
            <a:off x="2836800" y="4772160"/>
            <a:ext cx="5335560" cy="687240"/>
            <a:chOff x="2836800" y="4772160"/>
            <a:chExt cx="5335560" cy="687240"/>
          </a:xfrm>
        </p:grpSpPr>
        <p:sp>
          <p:nvSpPr>
            <p:cNvPr id="215" name="AutoShape 3"/>
            <p:cNvSpPr/>
            <p:nvPr/>
          </p:nvSpPr>
          <p:spPr>
            <a:xfrm>
              <a:off x="2836800" y="4772160"/>
              <a:ext cx="5335560" cy="687240"/>
            </a:xfrm>
            <a:prstGeom prst="roundRect">
              <a:avLst>
                <a:gd name="adj" fmla="val 11505"/>
              </a:avLst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 Box 34"/>
            <p:cNvSpPr/>
            <p:nvPr/>
          </p:nvSpPr>
          <p:spPr>
            <a:xfrm>
              <a:off x="3352680" y="4788000"/>
              <a:ext cx="46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经营分析人员提供数据挖掘、提炼的工具，可对多类数据进行多维度的综合性分析；</a:t>
              </a:r>
              <a:endParaRPr b="1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61"/>
          <p:cNvGrpSpPr/>
          <p:nvPr/>
        </p:nvGrpSpPr>
        <p:grpSpPr>
          <a:xfrm>
            <a:off x="2803680" y="3421080"/>
            <a:ext cx="5356080" cy="687240"/>
            <a:chOff x="2803680" y="3421080"/>
            <a:chExt cx="5356080" cy="687240"/>
          </a:xfrm>
        </p:grpSpPr>
        <p:sp>
          <p:nvSpPr>
            <p:cNvPr id="218" name="AutoShape 19"/>
            <p:cNvSpPr/>
            <p:nvPr/>
          </p:nvSpPr>
          <p:spPr>
            <a:xfrm>
              <a:off x="2803680" y="3421080"/>
              <a:ext cx="5356080" cy="687240"/>
            </a:xfrm>
            <a:prstGeom prst="roundRect">
              <a:avLst>
                <a:gd name="adj" fmla="val 11505"/>
              </a:avLst>
            </a:prstGeom>
            <a:solidFill>
              <a:srgbClr val="cc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 Box 32"/>
            <p:cNvSpPr/>
            <p:nvPr/>
          </p:nvSpPr>
          <p:spPr>
            <a:xfrm>
              <a:off x="3352680" y="3430440"/>
              <a:ext cx="474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将常用报表、月份经营分析的方法进行固化，及时获取分析数据。并可形成基于报表的信息沟通；</a:t>
              </a:r>
              <a:endParaRPr b="1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57"/>
          <p:cNvGrpSpPr/>
          <p:nvPr/>
        </p:nvGrpSpPr>
        <p:grpSpPr>
          <a:xfrm>
            <a:off x="2838600" y="2197080"/>
            <a:ext cx="5330520" cy="687240"/>
            <a:chOff x="2838600" y="2197080"/>
            <a:chExt cx="5330520" cy="687240"/>
          </a:xfrm>
        </p:grpSpPr>
        <p:sp>
          <p:nvSpPr>
            <p:cNvPr id="221" name="AutoShape 11"/>
            <p:cNvSpPr/>
            <p:nvPr/>
          </p:nvSpPr>
          <p:spPr>
            <a:xfrm>
              <a:off x="2838600" y="2197080"/>
              <a:ext cx="5330520" cy="687240"/>
            </a:xfrm>
            <a:prstGeom prst="roundRect">
              <a:avLst>
                <a:gd name="adj" fmla="val 11505"/>
              </a:avLst>
            </a:prstGeom>
            <a:solidFill>
              <a:srgbClr val="ffc3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3477240" y="2209680"/>
              <a:ext cx="467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集中、主动展示经营业务关键指标，包括具体数据、排名及趋势情况；</a:t>
              </a:r>
              <a:endParaRPr b="1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56"/>
          <p:cNvGrpSpPr/>
          <p:nvPr/>
        </p:nvGrpSpPr>
        <p:grpSpPr>
          <a:xfrm>
            <a:off x="762120" y="2181240"/>
            <a:ext cx="2606040" cy="687240"/>
            <a:chOff x="762120" y="2181240"/>
            <a:chExt cx="2606040" cy="687240"/>
          </a:xfrm>
        </p:grpSpPr>
        <p:grpSp>
          <p:nvGrpSpPr>
            <p:cNvPr id="224" name="Group 12"/>
            <p:cNvGrpSpPr/>
            <p:nvPr/>
          </p:nvGrpSpPr>
          <p:grpSpPr>
            <a:xfrm>
              <a:off x="762120" y="2181240"/>
              <a:ext cx="2606040" cy="687240"/>
              <a:chOff x="762120" y="2181240"/>
              <a:chExt cx="2606040" cy="687240"/>
            </a:xfrm>
          </p:grpSpPr>
          <p:sp>
            <p:nvSpPr>
              <p:cNvPr id="225" name="AutoShape 13"/>
              <p:cNvSpPr/>
              <p:nvPr/>
            </p:nvSpPr>
            <p:spPr>
              <a:xfrm>
                <a:off x="3015000" y="2319120"/>
                <a:ext cx="353160" cy="380520"/>
              </a:xfrm>
              <a:prstGeom prst="rightArrow">
                <a:avLst>
                  <a:gd name="adj1" fmla="val 50000"/>
                  <a:gd name="adj2" fmla="val 58931"/>
                </a:avLst>
              </a:prstGeom>
              <a:solidFill>
                <a:srgbClr val="f8f8f8"/>
              </a:solidFill>
              <a:ln w="0">
                <a:noFill/>
              </a:ln>
              <a:effectLst>
                <a:outerShdw dist="71785" dir="2700000" blurRad="0" rotWithShape="0">
                  <a:srgbClr val="01010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14"/>
              <p:cNvSpPr/>
              <p:nvPr/>
            </p:nvSpPr>
            <p:spPr>
              <a:xfrm>
                <a:off x="762120" y="2181240"/>
                <a:ext cx="2261880" cy="687240"/>
              </a:xfrm>
              <a:custGeom>
                <a:avLst/>
                <a:gdLst>
                  <a:gd name="textAreaLeft" fmla="*/ 0 w 2261880"/>
                  <a:gd name="textAreaRight" fmla="*/ 2262240 w 226188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071" h="307">
                    <a:moveTo>
                      <a:pt x="83" y="0"/>
                    </a:moveTo>
                    <a:lnTo>
                      <a:pt x="1069" y="0"/>
                    </a:lnTo>
                    <a:cubicBezTo>
                      <a:pt x="1069" y="0"/>
                      <a:pt x="1069" y="99"/>
                      <a:pt x="1069" y="198"/>
                    </a:cubicBezTo>
                    <a:cubicBezTo>
                      <a:pt x="1069" y="198"/>
                      <a:pt x="1071" y="248"/>
                      <a:pt x="1055" y="270"/>
                    </a:cubicBezTo>
                    <a:cubicBezTo>
                      <a:pt x="1043" y="288"/>
                      <a:pt x="1019" y="302"/>
                      <a:pt x="987" y="302"/>
                    </a:cubicBezTo>
                    <a:cubicBezTo>
                      <a:pt x="488" y="303"/>
                      <a:pt x="0" y="307"/>
                      <a:pt x="0" y="307"/>
                    </a:cubicBezTo>
                    <a:lnTo>
                      <a:pt x="0" y="89"/>
                    </a:lnTo>
                    <a:cubicBezTo>
                      <a:pt x="3" y="41"/>
                      <a:pt x="7" y="33"/>
                      <a:pt x="21" y="18"/>
                    </a:cubicBezTo>
                    <a:cubicBezTo>
                      <a:pt x="35" y="3"/>
                      <a:pt x="66" y="1"/>
                      <a:pt x="8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98111"/>
                  </a:gs>
                  <a:gs pos="50000">
                    <a:srgbClr val="ffc319"/>
                  </a:gs>
                  <a:gs pos="100000">
                    <a:srgbClr val="a98111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26"/>
            <p:cNvSpPr/>
            <p:nvPr/>
          </p:nvSpPr>
          <p:spPr>
            <a:xfrm>
              <a:off x="955800" y="2333520"/>
              <a:ext cx="18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首      页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58"/>
          <p:cNvGrpSpPr/>
          <p:nvPr/>
        </p:nvGrpSpPr>
        <p:grpSpPr>
          <a:xfrm>
            <a:off x="727200" y="3413160"/>
            <a:ext cx="2612520" cy="687240"/>
            <a:chOff x="727200" y="3413160"/>
            <a:chExt cx="2612520" cy="687240"/>
          </a:xfrm>
        </p:grpSpPr>
        <p:grpSp>
          <p:nvGrpSpPr>
            <p:cNvPr id="229" name="Group 20"/>
            <p:cNvGrpSpPr/>
            <p:nvPr/>
          </p:nvGrpSpPr>
          <p:grpSpPr>
            <a:xfrm>
              <a:off x="727200" y="3413160"/>
              <a:ext cx="2612520" cy="687240"/>
              <a:chOff x="727200" y="3413160"/>
              <a:chExt cx="2612520" cy="687240"/>
            </a:xfrm>
          </p:grpSpPr>
          <p:sp>
            <p:nvSpPr>
              <p:cNvPr id="230" name="AutoShape 21"/>
              <p:cNvSpPr/>
              <p:nvPr/>
            </p:nvSpPr>
            <p:spPr>
              <a:xfrm>
                <a:off x="2985120" y="3539880"/>
                <a:ext cx="354600" cy="381240"/>
              </a:xfrm>
              <a:prstGeom prst="rightArrow">
                <a:avLst>
                  <a:gd name="adj1" fmla="val 50000"/>
                  <a:gd name="adj2" fmla="val 58690"/>
                </a:avLst>
              </a:prstGeom>
              <a:solidFill>
                <a:srgbClr val="f8f8f8"/>
              </a:solidFill>
              <a:ln w="0">
                <a:noFill/>
              </a:ln>
              <a:effectLst>
                <a:outerShdw dist="71785" dir="2700000" blurRad="0" rotWithShape="0">
                  <a:srgbClr val="01010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22"/>
              <p:cNvSpPr/>
              <p:nvPr/>
            </p:nvSpPr>
            <p:spPr>
              <a:xfrm>
                <a:off x="727200" y="3413160"/>
                <a:ext cx="2260800" cy="687240"/>
              </a:xfrm>
              <a:custGeom>
                <a:avLst/>
                <a:gdLst/>
                <a:ahLst/>
                <a:rect l="l" t="t" r="r" b="b"/>
                <a:pathLst>
                  <a:path w="1071" h="307">
                    <a:moveTo>
                      <a:pt x="83" y="0"/>
                    </a:moveTo>
                    <a:lnTo>
                      <a:pt x="1069" y="0"/>
                    </a:lnTo>
                    <a:cubicBezTo>
                      <a:pt x="1069" y="0"/>
                      <a:pt x="1069" y="99"/>
                      <a:pt x="1069" y="198"/>
                    </a:cubicBezTo>
                    <a:cubicBezTo>
                      <a:pt x="1069" y="198"/>
                      <a:pt x="1071" y="248"/>
                      <a:pt x="1055" y="270"/>
                    </a:cubicBezTo>
                    <a:cubicBezTo>
                      <a:pt x="1043" y="288"/>
                      <a:pt x="1019" y="302"/>
                      <a:pt x="987" y="302"/>
                    </a:cubicBezTo>
                    <a:cubicBezTo>
                      <a:pt x="488" y="303"/>
                      <a:pt x="0" y="307"/>
                      <a:pt x="0" y="307"/>
                    </a:cubicBezTo>
                    <a:lnTo>
                      <a:pt x="0" y="89"/>
                    </a:lnTo>
                    <a:cubicBezTo>
                      <a:pt x="3" y="41"/>
                      <a:pt x="7" y="33"/>
                      <a:pt x="21" y="18"/>
                    </a:cubicBezTo>
                    <a:cubicBezTo>
                      <a:pt x="35" y="3"/>
                      <a:pt x="66" y="1"/>
                      <a:pt x="8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2061"/>
                  </a:gs>
                  <a:gs pos="50000">
                    <a:srgbClr val="cc3399"/>
                  </a:gs>
                  <a:gs pos="100000">
                    <a:srgbClr val="822061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2" name="Rectangle 27"/>
            <p:cNvSpPr/>
            <p:nvPr/>
          </p:nvSpPr>
          <p:spPr>
            <a:xfrm>
              <a:off x="955800" y="3552840"/>
              <a:ext cx="18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固化报表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组合 59"/>
          <p:cNvGrpSpPr/>
          <p:nvPr/>
        </p:nvGrpSpPr>
        <p:grpSpPr>
          <a:xfrm>
            <a:off x="736560" y="4784760"/>
            <a:ext cx="2612880" cy="687240"/>
            <a:chOff x="736560" y="4784760"/>
            <a:chExt cx="2612880" cy="687240"/>
          </a:xfrm>
        </p:grpSpPr>
        <p:grpSp>
          <p:nvGrpSpPr>
            <p:cNvPr id="234" name="Group 4"/>
            <p:cNvGrpSpPr/>
            <p:nvPr/>
          </p:nvGrpSpPr>
          <p:grpSpPr>
            <a:xfrm>
              <a:off x="736560" y="4784760"/>
              <a:ext cx="2612880" cy="687240"/>
              <a:chOff x="736560" y="4784760"/>
              <a:chExt cx="2612880" cy="687240"/>
            </a:xfrm>
          </p:grpSpPr>
          <p:sp>
            <p:nvSpPr>
              <p:cNvPr id="235" name="AutoShape 5"/>
              <p:cNvSpPr/>
              <p:nvPr/>
            </p:nvSpPr>
            <p:spPr>
              <a:xfrm>
                <a:off x="2994840" y="4911480"/>
                <a:ext cx="354600" cy="381240"/>
              </a:xfrm>
              <a:prstGeom prst="rightArrow">
                <a:avLst>
                  <a:gd name="adj1" fmla="val 50000"/>
                  <a:gd name="adj2" fmla="val 58690"/>
                </a:avLst>
              </a:prstGeom>
              <a:solidFill>
                <a:srgbClr val="f8f8f8"/>
              </a:solidFill>
              <a:ln w="0">
                <a:noFill/>
              </a:ln>
              <a:effectLst>
                <a:outerShdw dist="71785" dir="2700000" blurRad="0" rotWithShape="0">
                  <a:srgbClr val="01010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6"/>
              <p:cNvSpPr/>
              <p:nvPr/>
            </p:nvSpPr>
            <p:spPr>
              <a:xfrm>
                <a:off x="736560" y="4784760"/>
                <a:ext cx="2261160" cy="687240"/>
              </a:xfrm>
              <a:custGeom>
                <a:avLst/>
                <a:gdLst/>
                <a:ahLst/>
                <a:rect l="l" t="t" r="r" b="b"/>
                <a:pathLst>
                  <a:path w="1071" h="307">
                    <a:moveTo>
                      <a:pt x="83" y="0"/>
                    </a:moveTo>
                    <a:lnTo>
                      <a:pt x="1069" y="0"/>
                    </a:lnTo>
                    <a:cubicBezTo>
                      <a:pt x="1069" y="0"/>
                      <a:pt x="1069" y="99"/>
                      <a:pt x="1069" y="198"/>
                    </a:cubicBezTo>
                    <a:cubicBezTo>
                      <a:pt x="1069" y="198"/>
                      <a:pt x="1071" y="248"/>
                      <a:pt x="1055" y="270"/>
                    </a:cubicBezTo>
                    <a:cubicBezTo>
                      <a:pt x="1043" y="288"/>
                      <a:pt x="1019" y="302"/>
                      <a:pt x="987" y="302"/>
                    </a:cubicBezTo>
                    <a:cubicBezTo>
                      <a:pt x="488" y="303"/>
                      <a:pt x="0" y="307"/>
                      <a:pt x="0" y="307"/>
                    </a:cubicBezTo>
                    <a:lnTo>
                      <a:pt x="0" y="89"/>
                    </a:lnTo>
                    <a:cubicBezTo>
                      <a:pt x="3" y="41"/>
                      <a:pt x="7" y="33"/>
                      <a:pt x="21" y="18"/>
                    </a:cubicBezTo>
                    <a:cubicBezTo>
                      <a:pt x="35" y="3"/>
                      <a:pt x="66" y="1"/>
                      <a:pt x="8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161"/>
                  </a:gs>
                  <a:gs pos="50000">
                    <a:srgbClr val="009999"/>
                  </a:gs>
                  <a:gs pos="100000">
                    <a:srgbClr val="006161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7" name="Rectangle 29"/>
            <p:cNvSpPr/>
            <p:nvPr/>
          </p:nvSpPr>
          <p:spPr>
            <a:xfrm>
              <a:off x="955440" y="4930560"/>
              <a:ext cx="183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经营分析</a:t>
              </a: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153"/>
          <p:cNvSpPr/>
          <p:nvPr/>
        </p:nvSpPr>
        <p:spPr>
          <a:xfrm>
            <a:off x="-6480" y="0"/>
            <a:ext cx="9150480" cy="68626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6862680"/>
              <a:gd name="textAreaBottom" fmla="*/ 6863040 h 6862680"/>
            </a:gdLst>
            <a:ahLst/>
            <a:rect l="textAreaLeft" t="textAreaTop" r="textAreaRight" b="textAreaBottom"/>
            <a:pathLst>
              <a:path w="5764" h="4323">
                <a:moveTo>
                  <a:pt x="0" y="4306"/>
                </a:moveTo>
                <a:lnTo>
                  <a:pt x="721" y="4306"/>
                </a:lnTo>
                <a:lnTo>
                  <a:pt x="1441" y="4306"/>
                </a:lnTo>
                <a:lnTo>
                  <a:pt x="2162" y="4306"/>
                </a:lnTo>
                <a:lnTo>
                  <a:pt x="2882" y="4306"/>
                </a:lnTo>
                <a:lnTo>
                  <a:pt x="3603" y="4306"/>
                </a:lnTo>
                <a:lnTo>
                  <a:pt x="4323" y="4306"/>
                </a:lnTo>
                <a:lnTo>
                  <a:pt x="5044" y="4306"/>
                </a:lnTo>
                <a:lnTo>
                  <a:pt x="5764" y="4306"/>
                </a:lnTo>
                <a:lnTo>
                  <a:pt x="5764" y="4323"/>
                </a:lnTo>
                <a:lnTo>
                  <a:pt x="5044" y="4323"/>
                </a:lnTo>
                <a:lnTo>
                  <a:pt x="4323" y="4323"/>
                </a:lnTo>
                <a:lnTo>
                  <a:pt x="3603" y="4323"/>
                </a:lnTo>
                <a:lnTo>
                  <a:pt x="2882" y="4323"/>
                </a:lnTo>
                <a:lnTo>
                  <a:pt x="2162" y="4323"/>
                </a:lnTo>
                <a:lnTo>
                  <a:pt x="1441" y="4323"/>
                </a:lnTo>
                <a:lnTo>
                  <a:pt x="721" y="4323"/>
                </a:lnTo>
                <a:lnTo>
                  <a:pt x="0" y="4323"/>
                </a:lnTo>
                <a:lnTo>
                  <a:pt x="0" y="4306"/>
                </a:lnTo>
                <a:close/>
                <a:moveTo>
                  <a:pt x="0" y="4290"/>
                </a:moveTo>
                <a:lnTo>
                  <a:pt x="0" y="4273"/>
                </a:lnTo>
                <a:lnTo>
                  <a:pt x="721" y="4273"/>
                </a:lnTo>
                <a:lnTo>
                  <a:pt x="1441" y="4273"/>
                </a:lnTo>
                <a:lnTo>
                  <a:pt x="2162" y="4273"/>
                </a:lnTo>
                <a:lnTo>
                  <a:pt x="2882" y="4273"/>
                </a:lnTo>
                <a:lnTo>
                  <a:pt x="3603" y="4273"/>
                </a:lnTo>
                <a:lnTo>
                  <a:pt x="4323" y="4273"/>
                </a:lnTo>
                <a:lnTo>
                  <a:pt x="5044" y="4273"/>
                </a:lnTo>
                <a:lnTo>
                  <a:pt x="5764" y="4273"/>
                </a:lnTo>
                <a:lnTo>
                  <a:pt x="5764" y="4290"/>
                </a:lnTo>
                <a:lnTo>
                  <a:pt x="5044" y="4290"/>
                </a:lnTo>
                <a:lnTo>
                  <a:pt x="4323" y="4290"/>
                </a:lnTo>
                <a:lnTo>
                  <a:pt x="3603" y="4290"/>
                </a:lnTo>
                <a:lnTo>
                  <a:pt x="2882" y="4290"/>
                </a:lnTo>
                <a:lnTo>
                  <a:pt x="2162" y="4290"/>
                </a:lnTo>
                <a:lnTo>
                  <a:pt x="1441" y="4290"/>
                </a:lnTo>
                <a:lnTo>
                  <a:pt x="721" y="4290"/>
                </a:lnTo>
                <a:lnTo>
                  <a:pt x="0" y="4290"/>
                </a:lnTo>
                <a:close/>
                <a:moveTo>
                  <a:pt x="0" y="4257"/>
                </a:moveTo>
                <a:lnTo>
                  <a:pt x="0" y="4240"/>
                </a:lnTo>
                <a:lnTo>
                  <a:pt x="721" y="4240"/>
                </a:lnTo>
                <a:lnTo>
                  <a:pt x="1441" y="4240"/>
                </a:lnTo>
                <a:lnTo>
                  <a:pt x="2162" y="4240"/>
                </a:lnTo>
                <a:lnTo>
                  <a:pt x="2882" y="4240"/>
                </a:lnTo>
                <a:lnTo>
                  <a:pt x="3603" y="4240"/>
                </a:lnTo>
                <a:lnTo>
                  <a:pt x="4323" y="4240"/>
                </a:lnTo>
                <a:lnTo>
                  <a:pt x="5044" y="4240"/>
                </a:lnTo>
                <a:lnTo>
                  <a:pt x="5764" y="4240"/>
                </a:lnTo>
                <a:lnTo>
                  <a:pt x="5764" y="4257"/>
                </a:lnTo>
                <a:lnTo>
                  <a:pt x="5044" y="4257"/>
                </a:lnTo>
                <a:lnTo>
                  <a:pt x="4323" y="4257"/>
                </a:lnTo>
                <a:lnTo>
                  <a:pt x="3603" y="4257"/>
                </a:lnTo>
                <a:lnTo>
                  <a:pt x="2882" y="4257"/>
                </a:lnTo>
                <a:lnTo>
                  <a:pt x="2162" y="4257"/>
                </a:lnTo>
                <a:lnTo>
                  <a:pt x="1441" y="4257"/>
                </a:lnTo>
                <a:lnTo>
                  <a:pt x="721" y="4257"/>
                </a:lnTo>
                <a:lnTo>
                  <a:pt x="0" y="4257"/>
                </a:lnTo>
                <a:close/>
                <a:moveTo>
                  <a:pt x="0" y="4224"/>
                </a:moveTo>
                <a:lnTo>
                  <a:pt x="0" y="4208"/>
                </a:lnTo>
                <a:lnTo>
                  <a:pt x="721" y="4208"/>
                </a:lnTo>
                <a:lnTo>
                  <a:pt x="1441" y="4208"/>
                </a:lnTo>
                <a:lnTo>
                  <a:pt x="2162" y="4208"/>
                </a:lnTo>
                <a:lnTo>
                  <a:pt x="2882" y="4208"/>
                </a:lnTo>
                <a:lnTo>
                  <a:pt x="3603" y="4208"/>
                </a:lnTo>
                <a:lnTo>
                  <a:pt x="4323" y="4208"/>
                </a:lnTo>
                <a:lnTo>
                  <a:pt x="5044" y="4208"/>
                </a:lnTo>
                <a:lnTo>
                  <a:pt x="5764" y="4208"/>
                </a:lnTo>
                <a:lnTo>
                  <a:pt x="5764" y="4224"/>
                </a:lnTo>
                <a:lnTo>
                  <a:pt x="5044" y="4224"/>
                </a:lnTo>
                <a:lnTo>
                  <a:pt x="4323" y="4224"/>
                </a:lnTo>
                <a:lnTo>
                  <a:pt x="3603" y="4224"/>
                </a:lnTo>
                <a:lnTo>
                  <a:pt x="2882" y="4224"/>
                </a:lnTo>
                <a:lnTo>
                  <a:pt x="2162" y="4224"/>
                </a:lnTo>
                <a:lnTo>
                  <a:pt x="1441" y="4224"/>
                </a:lnTo>
                <a:lnTo>
                  <a:pt x="721" y="4224"/>
                </a:lnTo>
                <a:lnTo>
                  <a:pt x="0" y="4224"/>
                </a:lnTo>
                <a:close/>
                <a:moveTo>
                  <a:pt x="0" y="4192"/>
                </a:moveTo>
                <a:lnTo>
                  <a:pt x="0" y="4175"/>
                </a:lnTo>
                <a:lnTo>
                  <a:pt x="721" y="4175"/>
                </a:lnTo>
                <a:lnTo>
                  <a:pt x="1441" y="4175"/>
                </a:lnTo>
                <a:lnTo>
                  <a:pt x="2162" y="4175"/>
                </a:lnTo>
                <a:lnTo>
                  <a:pt x="2882" y="4175"/>
                </a:lnTo>
                <a:lnTo>
                  <a:pt x="3603" y="4175"/>
                </a:lnTo>
                <a:lnTo>
                  <a:pt x="4323" y="4175"/>
                </a:lnTo>
                <a:lnTo>
                  <a:pt x="5044" y="4175"/>
                </a:lnTo>
                <a:lnTo>
                  <a:pt x="5764" y="4175"/>
                </a:lnTo>
                <a:lnTo>
                  <a:pt x="5764" y="4192"/>
                </a:lnTo>
                <a:lnTo>
                  <a:pt x="5044" y="4192"/>
                </a:lnTo>
                <a:lnTo>
                  <a:pt x="4323" y="4192"/>
                </a:lnTo>
                <a:lnTo>
                  <a:pt x="3603" y="4192"/>
                </a:lnTo>
                <a:lnTo>
                  <a:pt x="2882" y="4192"/>
                </a:lnTo>
                <a:lnTo>
                  <a:pt x="2162" y="4192"/>
                </a:lnTo>
                <a:lnTo>
                  <a:pt x="1441" y="4192"/>
                </a:lnTo>
                <a:lnTo>
                  <a:pt x="721" y="4192"/>
                </a:lnTo>
                <a:lnTo>
                  <a:pt x="0" y="4192"/>
                </a:lnTo>
                <a:close/>
                <a:moveTo>
                  <a:pt x="0" y="4159"/>
                </a:moveTo>
                <a:lnTo>
                  <a:pt x="0" y="4142"/>
                </a:lnTo>
                <a:lnTo>
                  <a:pt x="721" y="4142"/>
                </a:lnTo>
                <a:lnTo>
                  <a:pt x="1441" y="4142"/>
                </a:lnTo>
                <a:lnTo>
                  <a:pt x="2162" y="4142"/>
                </a:lnTo>
                <a:lnTo>
                  <a:pt x="2882" y="4142"/>
                </a:lnTo>
                <a:lnTo>
                  <a:pt x="3603" y="4142"/>
                </a:lnTo>
                <a:lnTo>
                  <a:pt x="4323" y="4142"/>
                </a:lnTo>
                <a:lnTo>
                  <a:pt x="5044" y="4142"/>
                </a:lnTo>
                <a:lnTo>
                  <a:pt x="5764" y="4142"/>
                </a:lnTo>
                <a:lnTo>
                  <a:pt x="5764" y="4159"/>
                </a:lnTo>
                <a:lnTo>
                  <a:pt x="5044" y="4159"/>
                </a:lnTo>
                <a:lnTo>
                  <a:pt x="4323" y="4159"/>
                </a:lnTo>
                <a:lnTo>
                  <a:pt x="3603" y="4159"/>
                </a:lnTo>
                <a:lnTo>
                  <a:pt x="2882" y="4159"/>
                </a:lnTo>
                <a:lnTo>
                  <a:pt x="2162" y="4159"/>
                </a:lnTo>
                <a:lnTo>
                  <a:pt x="1441" y="4159"/>
                </a:lnTo>
                <a:lnTo>
                  <a:pt x="721" y="4159"/>
                </a:lnTo>
                <a:lnTo>
                  <a:pt x="0" y="4159"/>
                </a:lnTo>
                <a:close/>
                <a:moveTo>
                  <a:pt x="0" y="4126"/>
                </a:moveTo>
                <a:lnTo>
                  <a:pt x="0" y="4109"/>
                </a:lnTo>
                <a:lnTo>
                  <a:pt x="721" y="4109"/>
                </a:lnTo>
                <a:lnTo>
                  <a:pt x="1441" y="4109"/>
                </a:lnTo>
                <a:lnTo>
                  <a:pt x="2162" y="4109"/>
                </a:lnTo>
                <a:lnTo>
                  <a:pt x="2882" y="4109"/>
                </a:lnTo>
                <a:lnTo>
                  <a:pt x="3603" y="4109"/>
                </a:lnTo>
                <a:lnTo>
                  <a:pt x="4323" y="4109"/>
                </a:lnTo>
                <a:lnTo>
                  <a:pt x="5044" y="4109"/>
                </a:lnTo>
                <a:lnTo>
                  <a:pt x="5764" y="4109"/>
                </a:lnTo>
                <a:lnTo>
                  <a:pt x="5764" y="4126"/>
                </a:lnTo>
                <a:lnTo>
                  <a:pt x="5044" y="4126"/>
                </a:lnTo>
                <a:lnTo>
                  <a:pt x="4323" y="4126"/>
                </a:lnTo>
                <a:lnTo>
                  <a:pt x="3603" y="4126"/>
                </a:lnTo>
                <a:lnTo>
                  <a:pt x="2882" y="4126"/>
                </a:lnTo>
                <a:lnTo>
                  <a:pt x="2162" y="4126"/>
                </a:lnTo>
                <a:lnTo>
                  <a:pt x="1441" y="4126"/>
                </a:lnTo>
                <a:lnTo>
                  <a:pt x="721" y="4126"/>
                </a:lnTo>
                <a:lnTo>
                  <a:pt x="0" y="4126"/>
                </a:lnTo>
                <a:close/>
                <a:moveTo>
                  <a:pt x="0" y="4093"/>
                </a:moveTo>
                <a:lnTo>
                  <a:pt x="0" y="4076"/>
                </a:lnTo>
                <a:lnTo>
                  <a:pt x="721" y="4076"/>
                </a:lnTo>
                <a:lnTo>
                  <a:pt x="1441" y="4076"/>
                </a:lnTo>
                <a:lnTo>
                  <a:pt x="2162" y="4076"/>
                </a:lnTo>
                <a:lnTo>
                  <a:pt x="2882" y="4076"/>
                </a:lnTo>
                <a:lnTo>
                  <a:pt x="3603" y="4076"/>
                </a:lnTo>
                <a:lnTo>
                  <a:pt x="4323" y="4076"/>
                </a:lnTo>
                <a:lnTo>
                  <a:pt x="5044" y="4076"/>
                </a:lnTo>
                <a:lnTo>
                  <a:pt x="5764" y="4076"/>
                </a:lnTo>
                <a:lnTo>
                  <a:pt x="5764" y="4093"/>
                </a:lnTo>
                <a:lnTo>
                  <a:pt x="5044" y="4093"/>
                </a:lnTo>
                <a:lnTo>
                  <a:pt x="4323" y="4093"/>
                </a:lnTo>
                <a:lnTo>
                  <a:pt x="3603" y="4093"/>
                </a:lnTo>
                <a:lnTo>
                  <a:pt x="2882" y="4093"/>
                </a:lnTo>
                <a:lnTo>
                  <a:pt x="2162" y="4093"/>
                </a:lnTo>
                <a:lnTo>
                  <a:pt x="1441" y="4093"/>
                </a:lnTo>
                <a:lnTo>
                  <a:pt x="721" y="4093"/>
                </a:lnTo>
                <a:lnTo>
                  <a:pt x="0" y="4093"/>
                </a:lnTo>
                <a:close/>
                <a:moveTo>
                  <a:pt x="0" y="4060"/>
                </a:moveTo>
                <a:lnTo>
                  <a:pt x="0" y="4043"/>
                </a:lnTo>
                <a:lnTo>
                  <a:pt x="721" y="4043"/>
                </a:lnTo>
                <a:lnTo>
                  <a:pt x="1441" y="4043"/>
                </a:lnTo>
                <a:lnTo>
                  <a:pt x="2162" y="4043"/>
                </a:lnTo>
                <a:lnTo>
                  <a:pt x="2882" y="4043"/>
                </a:lnTo>
                <a:lnTo>
                  <a:pt x="3603" y="4043"/>
                </a:lnTo>
                <a:lnTo>
                  <a:pt x="4323" y="4043"/>
                </a:lnTo>
                <a:lnTo>
                  <a:pt x="5044" y="4043"/>
                </a:lnTo>
                <a:lnTo>
                  <a:pt x="5764" y="4043"/>
                </a:lnTo>
                <a:lnTo>
                  <a:pt x="5764" y="4060"/>
                </a:lnTo>
                <a:lnTo>
                  <a:pt x="5044" y="4060"/>
                </a:lnTo>
                <a:lnTo>
                  <a:pt x="4323" y="4060"/>
                </a:lnTo>
                <a:lnTo>
                  <a:pt x="3603" y="4060"/>
                </a:lnTo>
                <a:lnTo>
                  <a:pt x="2882" y="4060"/>
                </a:lnTo>
                <a:lnTo>
                  <a:pt x="2162" y="4060"/>
                </a:lnTo>
                <a:lnTo>
                  <a:pt x="1441" y="4060"/>
                </a:lnTo>
                <a:lnTo>
                  <a:pt x="721" y="4060"/>
                </a:lnTo>
                <a:lnTo>
                  <a:pt x="0" y="4060"/>
                </a:lnTo>
                <a:close/>
                <a:moveTo>
                  <a:pt x="0" y="4027"/>
                </a:moveTo>
                <a:lnTo>
                  <a:pt x="0" y="4011"/>
                </a:lnTo>
                <a:lnTo>
                  <a:pt x="721" y="4011"/>
                </a:lnTo>
                <a:lnTo>
                  <a:pt x="1441" y="4011"/>
                </a:lnTo>
                <a:lnTo>
                  <a:pt x="2162" y="4011"/>
                </a:lnTo>
                <a:lnTo>
                  <a:pt x="2882" y="4011"/>
                </a:lnTo>
                <a:lnTo>
                  <a:pt x="3603" y="4011"/>
                </a:lnTo>
                <a:lnTo>
                  <a:pt x="4323" y="4011"/>
                </a:lnTo>
                <a:lnTo>
                  <a:pt x="5044" y="4011"/>
                </a:lnTo>
                <a:lnTo>
                  <a:pt x="5764" y="4011"/>
                </a:lnTo>
                <a:lnTo>
                  <a:pt x="5764" y="4027"/>
                </a:lnTo>
                <a:lnTo>
                  <a:pt x="5044" y="4027"/>
                </a:lnTo>
                <a:lnTo>
                  <a:pt x="4323" y="4027"/>
                </a:lnTo>
                <a:lnTo>
                  <a:pt x="3603" y="4027"/>
                </a:lnTo>
                <a:lnTo>
                  <a:pt x="2882" y="4027"/>
                </a:lnTo>
                <a:lnTo>
                  <a:pt x="2162" y="4027"/>
                </a:lnTo>
                <a:lnTo>
                  <a:pt x="1441" y="4027"/>
                </a:lnTo>
                <a:lnTo>
                  <a:pt x="721" y="4027"/>
                </a:lnTo>
                <a:lnTo>
                  <a:pt x="0" y="4027"/>
                </a:lnTo>
                <a:close/>
                <a:moveTo>
                  <a:pt x="0" y="3994"/>
                </a:moveTo>
                <a:lnTo>
                  <a:pt x="0" y="3978"/>
                </a:lnTo>
                <a:lnTo>
                  <a:pt x="721" y="3978"/>
                </a:lnTo>
                <a:lnTo>
                  <a:pt x="1441" y="3978"/>
                </a:lnTo>
                <a:lnTo>
                  <a:pt x="2162" y="3978"/>
                </a:lnTo>
                <a:lnTo>
                  <a:pt x="2882" y="3978"/>
                </a:lnTo>
                <a:lnTo>
                  <a:pt x="3603" y="3978"/>
                </a:lnTo>
                <a:lnTo>
                  <a:pt x="4323" y="3978"/>
                </a:lnTo>
                <a:lnTo>
                  <a:pt x="5044" y="3978"/>
                </a:lnTo>
                <a:lnTo>
                  <a:pt x="5764" y="3978"/>
                </a:lnTo>
                <a:lnTo>
                  <a:pt x="5764" y="3994"/>
                </a:lnTo>
                <a:lnTo>
                  <a:pt x="5044" y="3994"/>
                </a:lnTo>
                <a:lnTo>
                  <a:pt x="4323" y="3994"/>
                </a:lnTo>
                <a:lnTo>
                  <a:pt x="3603" y="3994"/>
                </a:lnTo>
                <a:lnTo>
                  <a:pt x="2882" y="3994"/>
                </a:lnTo>
                <a:lnTo>
                  <a:pt x="2162" y="3994"/>
                </a:lnTo>
                <a:lnTo>
                  <a:pt x="1441" y="3994"/>
                </a:lnTo>
                <a:lnTo>
                  <a:pt x="721" y="3994"/>
                </a:lnTo>
                <a:lnTo>
                  <a:pt x="0" y="3994"/>
                </a:lnTo>
                <a:close/>
                <a:moveTo>
                  <a:pt x="0" y="3962"/>
                </a:moveTo>
                <a:lnTo>
                  <a:pt x="0" y="3945"/>
                </a:lnTo>
                <a:lnTo>
                  <a:pt x="721" y="3945"/>
                </a:lnTo>
                <a:lnTo>
                  <a:pt x="1441" y="3945"/>
                </a:lnTo>
                <a:lnTo>
                  <a:pt x="2162" y="3945"/>
                </a:lnTo>
                <a:lnTo>
                  <a:pt x="2882" y="3945"/>
                </a:lnTo>
                <a:lnTo>
                  <a:pt x="3603" y="3945"/>
                </a:lnTo>
                <a:lnTo>
                  <a:pt x="4323" y="3945"/>
                </a:lnTo>
                <a:lnTo>
                  <a:pt x="5044" y="3945"/>
                </a:lnTo>
                <a:lnTo>
                  <a:pt x="5764" y="3945"/>
                </a:lnTo>
                <a:lnTo>
                  <a:pt x="5764" y="3962"/>
                </a:lnTo>
                <a:lnTo>
                  <a:pt x="5044" y="3962"/>
                </a:lnTo>
                <a:lnTo>
                  <a:pt x="4323" y="3962"/>
                </a:lnTo>
                <a:lnTo>
                  <a:pt x="3603" y="3962"/>
                </a:lnTo>
                <a:lnTo>
                  <a:pt x="2882" y="3962"/>
                </a:lnTo>
                <a:lnTo>
                  <a:pt x="2162" y="3962"/>
                </a:lnTo>
                <a:lnTo>
                  <a:pt x="1441" y="3962"/>
                </a:lnTo>
                <a:lnTo>
                  <a:pt x="721" y="3962"/>
                </a:lnTo>
                <a:lnTo>
                  <a:pt x="0" y="3962"/>
                </a:lnTo>
                <a:close/>
                <a:moveTo>
                  <a:pt x="0" y="3929"/>
                </a:moveTo>
                <a:lnTo>
                  <a:pt x="0" y="3912"/>
                </a:lnTo>
                <a:lnTo>
                  <a:pt x="721" y="3912"/>
                </a:lnTo>
                <a:lnTo>
                  <a:pt x="1441" y="3912"/>
                </a:lnTo>
                <a:lnTo>
                  <a:pt x="2162" y="3912"/>
                </a:lnTo>
                <a:lnTo>
                  <a:pt x="2882" y="3912"/>
                </a:lnTo>
                <a:lnTo>
                  <a:pt x="3603" y="3912"/>
                </a:lnTo>
                <a:lnTo>
                  <a:pt x="4323" y="3912"/>
                </a:lnTo>
                <a:lnTo>
                  <a:pt x="5044" y="3912"/>
                </a:lnTo>
                <a:lnTo>
                  <a:pt x="5764" y="3912"/>
                </a:lnTo>
                <a:lnTo>
                  <a:pt x="5764" y="3929"/>
                </a:lnTo>
                <a:lnTo>
                  <a:pt x="5044" y="3929"/>
                </a:lnTo>
                <a:lnTo>
                  <a:pt x="4323" y="3929"/>
                </a:lnTo>
                <a:lnTo>
                  <a:pt x="3603" y="3929"/>
                </a:lnTo>
                <a:lnTo>
                  <a:pt x="2882" y="3929"/>
                </a:lnTo>
                <a:lnTo>
                  <a:pt x="2162" y="3929"/>
                </a:lnTo>
                <a:lnTo>
                  <a:pt x="1441" y="3929"/>
                </a:lnTo>
                <a:lnTo>
                  <a:pt x="721" y="3929"/>
                </a:lnTo>
                <a:lnTo>
                  <a:pt x="0" y="3929"/>
                </a:lnTo>
                <a:close/>
                <a:moveTo>
                  <a:pt x="0" y="3896"/>
                </a:moveTo>
                <a:lnTo>
                  <a:pt x="0" y="3879"/>
                </a:lnTo>
                <a:lnTo>
                  <a:pt x="721" y="3879"/>
                </a:lnTo>
                <a:lnTo>
                  <a:pt x="1441" y="3879"/>
                </a:lnTo>
                <a:lnTo>
                  <a:pt x="2162" y="3879"/>
                </a:lnTo>
                <a:lnTo>
                  <a:pt x="2882" y="3879"/>
                </a:lnTo>
                <a:lnTo>
                  <a:pt x="3603" y="3879"/>
                </a:lnTo>
                <a:lnTo>
                  <a:pt x="4323" y="3879"/>
                </a:lnTo>
                <a:lnTo>
                  <a:pt x="5044" y="3879"/>
                </a:lnTo>
                <a:lnTo>
                  <a:pt x="5764" y="3879"/>
                </a:lnTo>
                <a:lnTo>
                  <a:pt x="5764" y="3896"/>
                </a:lnTo>
                <a:lnTo>
                  <a:pt x="5044" y="3896"/>
                </a:lnTo>
                <a:lnTo>
                  <a:pt x="4323" y="3896"/>
                </a:lnTo>
                <a:lnTo>
                  <a:pt x="3603" y="3896"/>
                </a:lnTo>
                <a:lnTo>
                  <a:pt x="2882" y="3896"/>
                </a:lnTo>
                <a:lnTo>
                  <a:pt x="2162" y="3896"/>
                </a:lnTo>
                <a:lnTo>
                  <a:pt x="1441" y="3896"/>
                </a:lnTo>
                <a:lnTo>
                  <a:pt x="721" y="3896"/>
                </a:lnTo>
                <a:lnTo>
                  <a:pt x="0" y="3896"/>
                </a:lnTo>
                <a:close/>
                <a:moveTo>
                  <a:pt x="0" y="3863"/>
                </a:moveTo>
                <a:lnTo>
                  <a:pt x="0" y="3846"/>
                </a:lnTo>
                <a:lnTo>
                  <a:pt x="721" y="3846"/>
                </a:lnTo>
                <a:lnTo>
                  <a:pt x="1441" y="3846"/>
                </a:lnTo>
                <a:lnTo>
                  <a:pt x="2162" y="3846"/>
                </a:lnTo>
                <a:lnTo>
                  <a:pt x="2882" y="3846"/>
                </a:lnTo>
                <a:lnTo>
                  <a:pt x="3603" y="3846"/>
                </a:lnTo>
                <a:lnTo>
                  <a:pt x="4323" y="3846"/>
                </a:lnTo>
                <a:lnTo>
                  <a:pt x="5044" y="3846"/>
                </a:lnTo>
                <a:lnTo>
                  <a:pt x="5764" y="3846"/>
                </a:lnTo>
                <a:lnTo>
                  <a:pt x="5764" y="3863"/>
                </a:lnTo>
                <a:lnTo>
                  <a:pt x="5044" y="3863"/>
                </a:lnTo>
                <a:lnTo>
                  <a:pt x="4323" y="3863"/>
                </a:lnTo>
                <a:lnTo>
                  <a:pt x="3603" y="3863"/>
                </a:lnTo>
                <a:lnTo>
                  <a:pt x="2882" y="3863"/>
                </a:lnTo>
                <a:lnTo>
                  <a:pt x="2162" y="3863"/>
                </a:lnTo>
                <a:lnTo>
                  <a:pt x="1441" y="3863"/>
                </a:lnTo>
                <a:lnTo>
                  <a:pt x="721" y="3863"/>
                </a:lnTo>
                <a:lnTo>
                  <a:pt x="0" y="3863"/>
                </a:lnTo>
                <a:close/>
                <a:moveTo>
                  <a:pt x="0" y="3830"/>
                </a:moveTo>
                <a:lnTo>
                  <a:pt x="0" y="3813"/>
                </a:lnTo>
                <a:lnTo>
                  <a:pt x="721" y="3813"/>
                </a:lnTo>
                <a:lnTo>
                  <a:pt x="1441" y="3813"/>
                </a:lnTo>
                <a:lnTo>
                  <a:pt x="2162" y="3813"/>
                </a:lnTo>
                <a:lnTo>
                  <a:pt x="2882" y="3813"/>
                </a:lnTo>
                <a:lnTo>
                  <a:pt x="3603" y="3813"/>
                </a:lnTo>
                <a:lnTo>
                  <a:pt x="4323" y="3813"/>
                </a:lnTo>
                <a:lnTo>
                  <a:pt x="5044" y="3813"/>
                </a:lnTo>
                <a:lnTo>
                  <a:pt x="5764" y="3813"/>
                </a:lnTo>
                <a:lnTo>
                  <a:pt x="5764" y="3830"/>
                </a:lnTo>
                <a:lnTo>
                  <a:pt x="5044" y="3830"/>
                </a:lnTo>
                <a:lnTo>
                  <a:pt x="4323" y="3830"/>
                </a:lnTo>
                <a:lnTo>
                  <a:pt x="3603" y="3830"/>
                </a:lnTo>
                <a:lnTo>
                  <a:pt x="2882" y="3830"/>
                </a:lnTo>
                <a:lnTo>
                  <a:pt x="2162" y="3830"/>
                </a:lnTo>
                <a:lnTo>
                  <a:pt x="1441" y="3830"/>
                </a:lnTo>
                <a:lnTo>
                  <a:pt x="721" y="3830"/>
                </a:lnTo>
                <a:lnTo>
                  <a:pt x="0" y="3830"/>
                </a:lnTo>
                <a:close/>
                <a:moveTo>
                  <a:pt x="0" y="3797"/>
                </a:moveTo>
                <a:lnTo>
                  <a:pt x="0" y="3781"/>
                </a:lnTo>
                <a:lnTo>
                  <a:pt x="721" y="3781"/>
                </a:lnTo>
                <a:lnTo>
                  <a:pt x="1441" y="3781"/>
                </a:lnTo>
                <a:lnTo>
                  <a:pt x="2162" y="3781"/>
                </a:lnTo>
                <a:lnTo>
                  <a:pt x="2882" y="3781"/>
                </a:lnTo>
                <a:lnTo>
                  <a:pt x="3603" y="3781"/>
                </a:lnTo>
                <a:lnTo>
                  <a:pt x="4323" y="3781"/>
                </a:lnTo>
                <a:lnTo>
                  <a:pt x="5044" y="3781"/>
                </a:lnTo>
                <a:lnTo>
                  <a:pt x="5764" y="3781"/>
                </a:lnTo>
                <a:lnTo>
                  <a:pt x="5764" y="3797"/>
                </a:lnTo>
                <a:lnTo>
                  <a:pt x="5044" y="3797"/>
                </a:lnTo>
                <a:lnTo>
                  <a:pt x="4323" y="3797"/>
                </a:lnTo>
                <a:lnTo>
                  <a:pt x="3603" y="3797"/>
                </a:lnTo>
                <a:lnTo>
                  <a:pt x="2882" y="3797"/>
                </a:lnTo>
                <a:lnTo>
                  <a:pt x="2162" y="3797"/>
                </a:lnTo>
                <a:lnTo>
                  <a:pt x="1441" y="3797"/>
                </a:lnTo>
                <a:lnTo>
                  <a:pt x="721" y="3797"/>
                </a:lnTo>
                <a:lnTo>
                  <a:pt x="0" y="3797"/>
                </a:lnTo>
                <a:close/>
                <a:moveTo>
                  <a:pt x="0" y="3765"/>
                </a:moveTo>
                <a:lnTo>
                  <a:pt x="0" y="3748"/>
                </a:lnTo>
                <a:lnTo>
                  <a:pt x="721" y="3748"/>
                </a:lnTo>
                <a:lnTo>
                  <a:pt x="1441" y="3748"/>
                </a:lnTo>
                <a:lnTo>
                  <a:pt x="2162" y="3748"/>
                </a:lnTo>
                <a:lnTo>
                  <a:pt x="2882" y="3748"/>
                </a:lnTo>
                <a:lnTo>
                  <a:pt x="3603" y="3748"/>
                </a:lnTo>
                <a:lnTo>
                  <a:pt x="4323" y="3748"/>
                </a:lnTo>
                <a:lnTo>
                  <a:pt x="5044" y="3748"/>
                </a:lnTo>
                <a:lnTo>
                  <a:pt x="5764" y="3748"/>
                </a:lnTo>
                <a:lnTo>
                  <a:pt x="5764" y="3765"/>
                </a:lnTo>
                <a:lnTo>
                  <a:pt x="5044" y="3765"/>
                </a:lnTo>
                <a:lnTo>
                  <a:pt x="4323" y="3765"/>
                </a:lnTo>
                <a:lnTo>
                  <a:pt x="3603" y="3765"/>
                </a:lnTo>
                <a:lnTo>
                  <a:pt x="2882" y="3765"/>
                </a:lnTo>
                <a:lnTo>
                  <a:pt x="2162" y="3765"/>
                </a:lnTo>
                <a:lnTo>
                  <a:pt x="1441" y="3765"/>
                </a:lnTo>
                <a:lnTo>
                  <a:pt x="721" y="3765"/>
                </a:lnTo>
                <a:lnTo>
                  <a:pt x="0" y="3765"/>
                </a:lnTo>
                <a:close/>
                <a:moveTo>
                  <a:pt x="0" y="3732"/>
                </a:moveTo>
                <a:lnTo>
                  <a:pt x="0" y="3715"/>
                </a:lnTo>
                <a:lnTo>
                  <a:pt x="721" y="3715"/>
                </a:lnTo>
                <a:lnTo>
                  <a:pt x="1441" y="3715"/>
                </a:lnTo>
                <a:lnTo>
                  <a:pt x="2162" y="3715"/>
                </a:lnTo>
                <a:lnTo>
                  <a:pt x="2882" y="3715"/>
                </a:lnTo>
                <a:lnTo>
                  <a:pt x="3603" y="3715"/>
                </a:lnTo>
                <a:lnTo>
                  <a:pt x="4323" y="3715"/>
                </a:lnTo>
                <a:lnTo>
                  <a:pt x="5044" y="3715"/>
                </a:lnTo>
                <a:lnTo>
                  <a:pt x="5764" y="3715"/>
                </a:lnTo>
                <a:lnTo>
                  <a:pt x="5764" y="3732"/>
                </a:lnTo>
                <a:lnTo>
                  <a:pt x="5044" y="3732"/>
                </a:lnTo>
                <a:lnTo>
                  <a:pt x="4323" y="3732"/>
                </a:lnTo>
                <a:lnTo>
                  <a:pt x="3603" y="3732"/>
                </a:lnTo>
                <a:lnTo>
                  <a:pt x="2882" y="3732"/>
                </a:lnTo>
                <a:lnTo>
                  <a:pt x="2162" y="3732"/>
                </a:lnTo>
                <a:lnTo>
                  <a:pt x="1441" y="3732"/>
                </a:lnTo>
                <a:lnTo>
                  <a:pt x="721" y="3732"/>
                </a:lnTo>
                <a:lnTo>
                  <a:pt x="0" y="3732"/>
                </a:lnTo>
                <a:close/>
                <a:moveTo>
                  <a:pt x="0" y="3699"/>
                </a:moveTo>
                <a:lnTo>
                  <a:pt x="0" y="3682"/>
                </a:lnTo>
                <a:lnTo>
                  <a:pt x="721" y="3682"/>
                </a:lnTo>
                <a:lnTo>
                  <a:pt x="1441" y="3682"/>
                </a:lnTo>
                <a:lnTo>
                  <a:pt x="2162" y="3682"/>
                </a:lnTo>
                <a:lnTo>
                  <a:pt x="2882" y="3682"/>
                </a:lnTo>
                <a:lnTo>
                  <a:pt x="3603" y="3682"/>
                </a:lnTo>
                <a:lnTo>
                  <a:pt x="4323" y="3682"/>
                </a:lnTo>
                <a:lnTo>
                  <a:pt x="5044" y="3682"/>
                </a:lnTo>
                <a:lnTo>
                  <a:pt x="5764" y="3682"/>
                </a:lnTo>
                <a:lnTo>
                  <a:pt x="5764" y="3699"/>
                </a:lnTo>
                <a:lnTo>
                  <a:pt x="5044" y="3699"/>
                </a:lnTo>
                <a:lnTo>
                  <a:pt x="4323" y="3699"/>
                </a:lnTo>
                <a:lnTo>
                  <a:pt x="3603" y="3699"/>
                </a:lnTo>
                <a:lnTo>
                  <a:pt x="2882" y="3699"/>
                </a:lnTo>
                <a:lnTo>
                  <a:pt x="2162" y="3699"/>
                </a:lnTo>
                <a:lnTo>
                  <a:pt x="1441" y="3699"/>
                </a:lnTo>
                <a:lnTo>
                  <a:pt x="721" y="3699"/>
                </a:lnTo>
                <a:lnTo>
                  <a:pt x="0" y="3699"/>
                </a:lnTo>
                <a:close/>
                <a:moveTo>
                  <a:pt x="0" y="3666"/>
                </a:moveTo>
                <a:lnTo>
                  <a:pt x="0" y="3649"/>
                </a:lnTo>
                <a:lnTo>
                  <a:pt x="721" y="3649"/>
                </a:lnTo>
                <a:lnTo>
                  <a:pt x="1441" y="3649"/>
                </a:lnTo>
                <a:lnTo>
                  <a:pt x="2162" y="3649"/>
                </a:lnTo>
                <a:lnTo>
                  <a:pt x="2882" y="3649"/>
                </a:lnTo>
                <a:lnTo>
                  <a:pt x="3603" y="3649"/>
                </a:lnTo>
                <a:lnTo>
                  <a:pt x="4323" y="3649"/>
                </a:lnTo>
                <a:lnTo>
                  <a:pt x="5044" y="3649"/>
                </a:lnTo>
                <a:lnTo>
                  <a:pt x="5764" y="3649"/>
                </a:lnTo>
                <a:lnTo>
                  <a:pt x="5764" y="3666"/>
                </a:lnTo>
                <a:lnTo>
                  <a:pt x="5044" y="3666"/>
                </a:lnTo>
                <a:lnTo>
                  <a:pt x="4323" y="3666"/>
                </a:lnTo>
                <a:lnTo>
                  <a:pt x="3603" y="3666"/>
                </a:lnTo>
                <a:lnTo>
                  <a:pt x="2882" y="3666"/>
                </a:lnTo>
                <a:lnTo>
                  <a:pt x="2162" y="3666"/>
                </a:lnTo>
                <a:lnTo>
                  <a:pt x="1441" y="3666"/>
                </a:lnTo>
                <a:lnTo>
                  <a:pt x="721" y="3666"/>
                </a:lnTo>
                <a:lnTo>
                  <a:pt x="0" y="3666"/>
                </a:lnTo>
                <a:close/>
                <a:moveTo>
                  <a:pt x="0" y="3633"/>
                </a:moveTo>
                <a:lnTo>
                  <a:pt x="0" y="3616"/>
                </a:lnTo>
                <a:lnTo>
                  <a:pt x="721" y="3616"/>
                </a:lnTo>
                <a:lnTo>
                  <a:pt x="1441" y="3616"/>
                </a:lnTo>
                <a:lnTo>
                  <a:pt x="2162" y="3616"/>
                </a:lnTo>
                <a:lnTo>
                  <a:pt x="2882" y="3616"/>
                </a:lnTo>
                <a:lnTo>
                  <a:pt x="3603" y="3616"/>
                </a:lnTo>
                <a:lnTo>
                  <a:pt x="4323" y="3616"/>
                </a:lnTo>
                <a:lnTo>
                  <a:pt x="5044" y="3616"/>
                </a:lnTo>
                <a:lnTo>
                  <a:pt x="5764" y="3616"/>
                </a:lnTo>
                <a:lnTo>
                  <a:pt x="5764" y="3633"/>
                </a:lnTo>
                <a:lnTo>
                  <a:pt x="5044" y="3633"/>
                </a:lnTo>
                <a:lnTo>
                  <a:pt x="4323" y="3633"/>
                </a:lnTo>
                <a:lnTo>
                  <a:pt x="3603" y="3633"/>
                </a:lnTo>
                <a:lnTo>
                  <a:pt x="2882" y="3633"/>
                </a:lnTo>
                <a:lnTo>
                  <a:pt x="2162" y="3633"/>
                </a:lnTo>
                <a:lnTo>
                  <a:pt x="1441" y="3633"/>
                </a:lnTo>
                <a:lnTo>
                  <a:pt x="721" y="3633"/>
                </a:lnTo>
                <a:lnTo>
                  <a:pt x="0" y="3633"/>
                </a:lnTo>
                <a:close/>
                <a:moveTo>
                  <a:pt x="0" y="3599"/>
                </a:moveTo>
                <a:lnTo>
                  <a:pt x="0" y="3583"/>
                </a:lnTo>
                <a:lnTo>
                  <a:pt x="721" y="3583"/>
                </a:lnTo>
                <a:lnTo>
                  <a:pt x="1441" y="3583"/>
                </a:lnTo>
                <a:lnTo>
                  <a:pt x="2162" y="3583"/>
                </a:lnTo>
                <a:lnTo>
                  <a:pt x="2882" y="3583"/>
                </a:lnTo>
                <a:lnTo>
                  <a:pt x="3603" y="3583"/>
                </a:lnTo>
                <a:lnTo>
                  <a:pt x="4323" y="3583"/>
                </a:lnTo>
                <a:lnTo>
                  <a:pt x="5044" y="3583"/>
                </a:lnTo>
                <a:lnTo>
                  <a:pt x="5764" y="3583"/>
                </a:lnTo>
                <a:lnTo>
                  <a:pt x="5764" y="3599"/>
                </a:lnTo>
                <a:lnTo>
                  <a:pt x="5044" y="3599"/>
                </a:lnTo>
                <a:lnTo>
                  <a:pt x="4323" y="3599"/>
                </a:lnTo>
                <a:lnTo>
                  <a:pt x="3603" y="3599"/>
                </a:lnTo>
                <a:lnTo>
                  <a:pt x="2882" y="3599"/>
                </a:lnTo>
                <a:lnTo>
                  <a:pt x="2162" y="3599"/>
                </a:lnTo>
                <a:lnTo>
                  <a:pt x="1441" y="3599"/>
                </a:lnTo>
                <a:lnTo>
                  <a:pt x="721" y="3599"/>
                </a:lnTo>
                <a:lnTo>
                  <a:pt x="0" y="3599"/>
                </a:lnTo>
                <a:close/>
                <a:moveTo>
                  <a:pt x="0" y="3566"/>
                </a:moveTo>
                <a:lnTo>
                  <a:pt x="0" y="3550"/>
                </a:lnTo>
                <a:lnTo>
                  <a:pt x="721" y="3550"/>
                </a:lnTo>
                <a:lnTo>
                  <a:pt x="1441" y="3550"/>
                </a:lnTo>
                <a:lnTo>
                  <a:pt x="2162" y="3550"/>
                </a:lnTo>
                <a:lnTo>
                  <a:pt x="2882" y="3550"/>
                </a:lnTo>
                <a:lnTo>
                  <a:pt x="3603" y="3550"/>
                </a:lnTo>
                <a:lnTo>
                  <a:pt x="4323" y="3550"/>
                </a:lnTo>
                <a:lnTo>
                  <a:pt x="5044" y="3550"/>
                </a:lnTo>
                <a:lnTo>
                  <a:pt x="5764" y="3550"/>
                </a:lnTo>
                <a:lnTo>
                  <a:pt x="5764" y="3566"/>
                </a:lnTo>
                <a:lnTo>
                  <a:pt x="5044" y="3566"/>
                </a:lnTo>
                <a:lnTo>
                  <a:pt x="4323" y="3566"/>
                </a:lnTo>
                <a:lnTo>
                  <a:pt x="3603" y="3566"/>
                </a:lnTo>
                <a:lnTo>
                  <a:pt x="2882" y="3566"/>
                </a:lnTo>
                <a:lnTo>
                  <a:pt x="2162" y="3566"/>
                </a:lnTo>
                <a:lnTo>
                  <a:pt x="1441" y="3566"/>
                </a:lnTo>
                <a:lnTo>
                  <a:pt x="721" y="3566"/>
                </a:lnTo>
                <a:lnTo>
                  <a:pt x="0" y="3566"/>
                </a:lnTo>
                <a:close/>
                <a:moveTo>
                  <a:pt x="0" y="3534"/>
                </a:moveTo>
                <a:lnTo>
                  <a:pt x="0" y="3517"/>
                </a:lnTo>
                <a:lnTo>
                  <a:pt x="721" y="3517"/>
                </a:lnTo>
                <a:lnTo>
                  <a:pt x="1441" y="3517"/>
                </a:lnTo>
                <a:lnTo>
                  <a:pt x="2162" y="3517"/>
                </a:lnTo>
                <a:lnTo>
                  <a:pt x="2882" y="3517"/>
                </a:lnTo>
                <a:lnTo>
                  <a:pt x="3603" y="3517"/>
                </a:lnTo>
                <a:lnTo>
                  <a:pt x="4323" y="3517"/>
                </a:lnTo>
                <a:lnTo>
                  <a:pt x="5044" y="3517"/>
                </a:lnTo>
                <a:lnTo>
                  <a:pt x="5764" y="3517"/>
                </a:lnTo>
                <a:lnTo>
                  <a:pt x="5764" y="3534"/>
                </a:lnTo>
                <a:lnTo>
                  <a:pt x="5044" y="3534"/>
                </a:lnTo>
                <a:lnTo>
                  <a:pt x="4323" y="3534"/>
                </a:lnTo>
                <a:lnTo>
                  <a:pt x="3603" y="3534"/>
                </a:lnTo>
                <a:lnTo>
                  <a:pt x="2882" y="3534"/>
                </a:lnTo>
                <a:lnTo>
                  <a:pt x="2162" y="3534"/>
                </a:lnTo>
                <a:lnTo>
                  <a:pt x="1441" y="3534"/>
                </a:lnTo>
                <a:lnTo>
                  <a:pt x="721" y="3534"/>
                </a:lnTo>
                <a:lnTo>
                  <a:pt x="0" y="3534"/>
                </a:lnTo>
                <a:close/>
                <a:moveTo>
                  <a:pt x="0" y="3501"/>
                </a:moveTo>
                <a:lnTo>
                  <a:pt x="0" y="3484"/>
                </a:lnTo>
                <a:lnTo>
                  <a:pt x="721" y="3484"/>
                </a:lnTo>
                <a:lnTo>
                  <a:pt x="1441" y="3484"/>
                </a:lnTo>
                <a:lnTo>
                  <a:pt x="2162" y="3484"/>
                </a:lnTo>
                <a:lnTo>
                  <a:pt x="2882" y="3484"/>
                </a:lnTo>
                <a:lnTo>
                  <a:pt x="3603" y="3484"/>
                </a:lnTo>
                <a:lnTo>
                  <a:pt x="4323" y="3484"/>
                </a:lnTo>
                <a:lnTo>
                  <a:pt x="5044" y="3484"/>
                </a:lnTo>
                <a:lnTo>
                  <a:pt x="5764" y="3484"/>
                </a:lnTo>
                <a:lnTo>
                  <a:pt x="5764" y="3501"/>
                </a:lnTo>
                <a:lnTo>
                  <a:pt x="5044" y="3501"/>
                </a:lnTo>
                <a:lnTo>
                  <a:pt x="4323" y="3501"/>
                </a:lnTo>
                <a:lnTo>
                  <a:pt x="3603" y="3501"/>
                </a:lnTo>
                <a:lnTo>
                  <a:pt x="2882" y="3501"/>
                </a:lnTo>
                <a:lnTo>
                  <a:pt x="2162" y="3501"/>
                </a:lnTo>
                <a:lnTo>
                  <a:pt x="1441" y="3501"/>
                </a:lnTo>
                <a:lnTo>
                  <a:pt x="721" y="3501"/>
                </a:lnTo>
                <a:lnTo>
                  <a:pt x="0" y="3501"/>
                </a:lnTo>
                <a:close/>
                <a:moveTo>
                  <a:pt x="0" y="3468"/>
                </a:moveTo>
                <a:lnTo>
                  <a:pt x="0" y="3451"/>
                </a:lnTo>
                <a:lnTo>
                  <a:pt x="721" y="3451"/>
                </a:lnTo>
                <a:lnTo>
                  <a:pt x="1441" y="3451"/>
                </a:lnTo>
                <a:lnTo>
                  <a:pt x="2162" y="3451"/>
                </a:lnTo>
                <a:lnTo>
                  <a:pt x="2882" y="3451"/>
                </a:lnTo>
                <a:lnTo>
                  <a:pt x="3603" y="3451"/>
                </a:lnTo>
                <a:lnTo>
                  <a:pt x="4323" y="3451"/>
                </a:lnTo>
                <a:lnTo>
                  <a:pt x="5044" y="3451"/>
                </a:lnTo>
                <a:lnTo>
                  <a:pt x="5764" y="3451"/>
                </a:lnTo>
                <a:lnTo>
                  <a:pt x="5764" y="3468"/>
                </a:lnTo>
                <a:lnTo>
                  <a:pt x="5044" y="3468"/>
                </a:lnTo>
                <a:lnTo>
                  <a:pt x="4323" y="3468"/>
                </a:lnTo>
                <a:lnTo>
                  <a:pt x="3603" y="3468"/>
                </a:lnTo>
                <a:lnTo>
                  <a:pt x="2882" y="3468"/>
                </a:lnTo>
                <a:lnTo>
                  <a:pt x="2162" y="3468"/>
                </a:lnTo>
                <a:lnTo>
                  <a:pt x="1441" y="3468"/>
                </a:lnTo>
                <a:lnTo>
                  <a:pt x="721" y="3468"/>
                </a:lnTo>
                <a:lnTo>
                  <a:pt x="0" y="3468"/>
                </a:lnTo>
                <a:close/>
                <a:moveTo>
                  <a:pt x="0" y="3435"/>
                </a:moveTo>
                <a:lnTo>
                  <a:pt x="0" y="3418"/>
                </a:lnTo>
                <a:lnTo>
                  <a:pt x="721" y="3418"/>
                </a:lnTo>
                <a:lnTo>
                  <a:pt x="1441" y="3418"/>
                </a:lnTo>
                <a:lnTo>
                  <a:pt x="2162" y="3418"/>
                </a:lnTo>
                <a:lnTo>
                  <a:pt x="2882" y="3418"/>
                </a:lnTo>
                <a:lnTo>
                  <a:pt x="3603" y="3418"/>
                </a:lnTo>
                <a:lnTo>
                  <a:pt x="4323" y="3418"/>
                </a:lnTo>
                <a:lnTo>
                  <a:pt x="5044" y="3418"/>
                </a:lnTo>
                <a:lnTo>
                  <a:pt x="5764" y="3418"/>
                </a:lnTo>
                <a:lnTo>
                  <a:pt x="5764" y="3435"/>
                </a:lnTo>
                <a:lnTo>
                  <a:pt x="5044" y="3435"/>
                </a:lnTo>
                <a:lnTo>
                  <a:pt x="4323" y="3435"/>
                </a:lnTo>
                <a:lnTo>
                  <a:pt x="3603" y="3435"/>
                </a:lnTo>
                <a:lnTo>
                  <a:pt x="2882" y="3435"/>
                </a:lnTo>
                <a:lnTo>
                  <a:pt x="2162" y="3435"/>
                </a:lnTo>
                <a:lnTo>
                  <a:pt x="1441" y="3435"/>
                </a:lnTo>
                <a:lnTo>
                  <a:pt x="721" y="3435"/>
                </a:lnTo>
                <a:lnTo>
                  <a:pt x="0" y="3435"/>
                </a:lnTo>
                <a:close/>
                <a:moveTo>
                  <a:pt x="0" y="3402"/>
                </a:moveTo>
                <a:lnTo>
                  <a:pt x="0" y="3385"/>
                </a:lnTo>
                <a:lnTo>
                  <a:pt x="721" y="3385"/>
                </a:lnTo>
                <a:lnTo>
                  <a:pt x="1441" y="3385"/>
                </a:lnTo>
                <a:lnTo>
                  <a:pt x="2162" y="3385"/>
                </a:lnTo>
                <a:lnTo>
                  <a:pt x="2882" y="3385"/>
                </a:lnTo>
                <a:lnTo>
                  <a:pt x="3603" y="3385"/>
                </a:lnTo>
                <a:lnTo>
                  <a:pt x="4323" y="3385"/>
                </a:lnTo>
                <a:lnTo>
                  <a:pt x="5044" y="3385"/>
                </a:lnTo>
                <a:lnTo>
                  <a:pt x="5764" y="3385"/>
                </a:lnTo>
                <a:lnTo>
                  <a:pt x="5764" y="3402"/>
                </a:lnTo>
                <a:lnTo>
                  <a:pt x="5044" y="3402"/>
                </a:lnTo>
                <a:lnTo>
                  <a:pt x="4323" y="3402"/>
                </a:lnTo>
                <a:lnTo>
                  <a:pt x="3603" y="3402"/>
                </a:lnTo>
                <a:lnTo>
                  <a:pt x="2882" y="3402"/>
                </a:lnTo>
                <a:lnTo>
                  <a:pt x="2162" y="3402"/>
                </a:lnTo>
                <a:lnTo>
                  <a:pt x="1441" y="3402"/>
                </a:lnTo>
                <a:lnTo>
                  <a:pt x="721" y="3402"/>
                </a:lnTo>
                <a:lnTo>
                  <a:pt x="0" y="3402"/>
                </a:lnTo>
                <a:close/>
                <a:moveTo>
                  <a:pt x="0" y="3369"/>
                </a:moveTo>
                <a:lnTo>
                  <a:pt x="0" y="3353"/>
                </a:lnTo>
                <a:lnTo>
                  <a:pt x="721" y="3353"/>
                </a:lnTo>
                <a:lnTo>
                  <a:pt x="1441" y="3353"/>
                </a:lnTo>
                <a:lnTo>
                  <a:pt x="2162" y="3353"/>
                </a:lnTo>
                <a:lnTo>
                  <a:pt x="2882" y="3353"/>
                </a:lnTo>
                <a:lnTo>
                  <a:pt x="3603" y="3353"/>
                </a:lnTo>
                <a:lnTo>
                  <a:pt x="4323" y="3353"/>
                </a:lnTo>
                <a:lnTo>
                  <a:pt x="5044" y="3353"/>
                </a:lnTo>
                <a:lnTo>
                  <a:pt x="5764" y="3353"/>
                </a:lnTo>
                <a:lnTo>
                  <a:pt x="5764" y="3369"/>
                </a:lnTo>
                <a:lnTo>
                  <a:pt x="5044" y="3369"/>
                </a:lnTo>
                <a:lnTo>
                  <a:pt x="4323" y="3369"/>
                </a:lnTo>
                <a:lnTo>
                  <a:pt x="3603" y="3369"/>
                </a:lnTo>
                <a:lnTo>
                  <a:pt x="2882" y="3369"/>
                </a:lnTo>
                <a:lnTo>
                  <a:pt x="2162" y="3369"/>
                </a:lnTo>
                <a:lnTo>
                  <a:pt x="1441" y="3369"/>
                </a:lnTo>
                <a:lnTo>
                  <a:pt x="721" y="3369"/>
                </a:lnTo>
                <a:lnTo>
                  <a:pt x="0" y="3369"/>
                </a:lnTo>
                <a:close/>
                <a:moveTo>
                  <a:pt x="0" y="3337"/>
                </a:moveTo>
                <a:lnTo>
                  <a:pt x="0" y="3320"/>
                </a:lnTo>
                <a:lnTo>
                  <a:pt x="721" y="3320"/>
                </a:lnTo>
                <a:lnTo>
                  <a:pt x="1441" y="3320"/>
                </a:lnTo>
                <a:lnTo>
                  <a:pt x="2162" y="3320"/>
                </a:lnTo>
                <a:lnTo>
                  <a:pt x="2882" y="3320"/>
                </a:lnTo>
                <a:lnTo>
                  <a:pt x="3603" y="3320"/>
                </a:lnTo>
                <a:lnTo>
                  <a:pt x="4323" y="3320"/>
                </a:lnTo>
                <a:lnTo>
                  <a:pt x="5044" y="3320"/>
                </a:lnTo>
                <a:lnTo>
                  <a:pt x="5764" y="3320"/>
                </a:lnTo>
                <a:lnTo>
                  <a:pt x="5764" y="3337"/>
                </a:lnTo>
                <a:lnTo>
                  <a:pt x="5044" y="3337"/>
                </a:lnTo>
                <a:lnTo>
                  <a:pt x="4323" y="3337"/>
                </a:lnTo>
                <a:lnTo>
                  <a:pt x="3603" y="3337"/>
                </a:lnTo>
                <a:lnTo>
                  <a:pt x="2882" y="3337"/>
                </a:lnTo>
                <a:lnTo>
                  <a:pt x="2162" y="3337"/>
                </a:lnTo>
                <a:lnTo>
                  <a:pt x="1441" y="3337"/>
                </a:lnTo>
                <a:lnTo>
                  <a:pt x="721" y="3337"/>
                </a:lnTo>
                <a:lnTo>
                  <a:pt x="0" y="3337"/>
                </a:lnTo>
                <a:close/>
                <a:moveTo>
                  <a:pt x="0" y="3304"/>
                </a:moveTo>
                <a:lnTo>
                  <a:pt x="0" y="3287"/>
                </a:lnTo>
                <a:lnTo>
                  <a:pt x="721" y="3287"/>
                </a:lnTo>
                <a:lnTo>
                  <a:pt x="1441" y="3287"/>
                </a:lnTo>
                <a:lnTo>
                  <a:pt x="2162" y="3287"/>
                </a:lnTo>
                <a:lnTo>
                  <a:pt x="2882" y="3287"/>
                </a:lnTo>
                <a:lnTo>
                  <a:pt x="3603" y="3287"/>
                </a:lnTo>
                <a:lnTo>
                  <a:pt x="4323" y="3287"/>
                </a:lnTo>
                <a:lnTo>
                  <a:pt x="5044" y="3287"/>
                </a:lnTo>
                <a:lnTo>
                  <a:pt x="5764" y="3287"/>
                </a:lnTo>
                <a:lnTo>
                  <a:pt x="5764" y="3304"/>
                </a:lnTo>
                <a:lnTo>
                  <a:pt x="5044" y="3304"/>
                </a:lnTo>
                <a:lnTo>
                  <a:pt x="4323" y="3304"/>
                </a:lnTo>
                <a:lnTo>
                  <a:pt x="3603" y="3304"/>
                </a:lnTo>
                <a:lnTo>
                  <a:pt x="2882" y="3304"/>
                </a:lnTo>
                <a:lnTo>
                  <a:pt x="2162" y="3304"/>
                </a:lnTo>
                <a:lnTo>
                  <a:pt x="1441" y="3304"/>
                </a:lnTo>
                <a:lnTo>
                  <a:pt x="721" y="3304"/>
                </a:lnTo>
                <a:lnTo>
                  <a:pt x="0" y="3304"/>
                </a:lnTo>
                <a:close/>
                <a:moveTo>
                  <a:pt x="0" y="3271"/>
                </a:moveTo>
                <a:lnTo>
                  <a:pt x="0" y="3254"/>
                </a:lnTo>
                <a:lnTo>
                  <a:pt x="721" y="3254"/>
                </a:lnTo>
                <a:lnTo>
                  <a:pt x="1441" y="3254"/>
                </a:lnTo>
                <a:lnTo>
                  <a:pt x="2162" y="3254"/>
                </a:lnTo>
                <a:lnTo>
                  <a:pt x="2882" y="3254"/>
                </a:lnTo>
                <a:lnTo>
                  <a:pt x="3603" y="3254"/>
                </a:lnTo>
                <a:lnTo>
                  <a:pt x="4323" y="3254"/>
                </a:lnTo>
                <a:lnTo>
                  <a:pt x="5044" y="3254"/>
                </a:lnTo>
                <a:lnTo>
                  <a:pt x="5764" y="3254"/>
                </a:lnTo>
                <a:lnTo>
                  <a:pt x="5764" y="3271"/>
                </a:lnTo>
                <a:lnTo>
                  <a:pt x="5044" y="3271"/>
                </a:lnTo>
                <a:lnTo>
                  <a:pt x="4323" y="3271"/>
                </a:lnTo>
                <a:lnTo>
                  <a:pt x="3603" y="3271"/>
                </a:lnTo>
                <a:lnTo>
                  <a:pt x="2882" y="3271"/>
                </a:lnTo>
                <a:lnTo>
                  <a:pt x="2162" y="3271"/>
                </a:lnTo>
                <a:lnTo>
                  <a:pt x="1441" y="3271"/>
                </a:lnTo>
                <a:lnTo>
                  <a:pt x="721" y="3271"/>
                </a:lnTo>
                <a:lnTo>
                  <a:pt x="0" y="3271"/>
                </a:lnTo>
                <a:close/>
                <a:moveTo>
                  <a:pt x="0" y="3238"/>
                </a:moveTo>
                <a:lnTo>
                  <a:pt x="0" y="3221"/>
                </a:lnTo>
                <a:lnTo>
                  <a:pt x="721" y="3221"/>
                </a:lnTo>
                <a:lnTo>
                  <a:pt x="1441" y="3221"/>
                </a:lnTo>
                <a:lnTo>
                  <a:pt x="2162" y="3221"/>
                </a:lnTo>
                <a:lnTo>
                  <a:pt x="2882" y="3221"/>
                </a:lnTo>
                <a:lnTo>
                  <a:pt x="3603" y="3221"/>
                </a:lnTo>
                <a:lnTo>
                  <a:pt x="4323" y="3221"/>
                </a:lnTo>
                <a:lnTo>
                  <a:pt x="5044" y="3221"/>
                </a:lnTo>
                <a:lnTo>
                  <a:pt x="5764" y="3221"/>
                </a:lnTo>
                <a:lnTo>
                  <a:pt x="5764" y="3238"/>
                </a:lnTo>
                <a:lnTo>
                  <a:pt x="5044" y="3238"/>
                </a:lnTo>
                <a:lnTo>
                  <a:pt x="4323" y="3238"/>
                </a:lnTo>
                <a:lnTo>
                  <a:pt x="3603" y="3238"/>
                </a:lnTo>
                <a:lnTo>
                  <a:pt x="2882" y="3238"/>
                </a:lnTo>
                <a:lnTo>
                  <a:pt x="2162" y="3238"/>
                </a:lnTo>
                <a:lnTo>
                  <a:pt x="1441" y="3238"/>
                </a:lnTo>
                <a:lnTo>
                  <a:pt x="721" y="3238"/>
                </a:lnTo>
                <a:lnTo>
                  <a:pt x="0" y="3238"/>
                </a:lnTo>
                <a:close/>
                <a:moveTo>
                  <a:pt x="0" y="3205"/>
                </a:moveTo>
                <a:lnTo>
                  <a:pt x="0" y="3188"/>
                </a:lnTo>
                <a:lnTo>
                  <a:pt x="721" y="3188"/>
                </a:lnTo>
                <a:lnTo>
                  <a:pt x="1441" y="3188"/>
                </a:lnTo>
                <a:lnTo>
                  <a:pt x="2162" y="3188"/>
                </a:lnTo>
                <a:lnTo>
                  <a:pt x="2882" y="3188"/>
                </a:lnTo>
                <a:lnTo>
                  <a:pt x="3603" y="3188"/>
                </a:lnTo>
                <a:lnTo>
                  <a:pt x="4323" y="3188"/>
                </a:lnTo>
                <a:lnTo>
                  <a:pt x="5044" y="3188"/>
                </a:lnTo>
                <a:lnTo>
                  <a:pt x="5764" y="3188"/>
                </a:lnTo>
                <a:lnTo>
                  <a:pt x="5764" y="3205"/>
                </a:lnTo>
                <a:lnTo>
                  <a:pt x="5044" y="3205"/>
                </a:lnTo>
                <a:lnTo>
                  <a:pt x="4323" y="3205"/>
                </a:lnTo>
                <a:lnTo>
                  <a:pt x="3603" y="3205"/>
                </a:lnTo>
                <a:lnTo>
                  <a:pt x="2882" y="3205"/>
                </a:lnTo>
                <a:lnTo>
                  <a:pt x="2162" y="3205"/>
                </a:lnTo>
                <a:lnTo>
                  <a:pt x="1441" y="3205"/>
                </a:lnTo>
                <a:lnTo>
                  <a:pt x="721" y="3205"/>
                </a:lnTo>
                <a:lnTo>
                  <a:pt x="0" y="3205"/>
                </a:lnTo>
                <a:close/>
                <a:moveTo>
                  <a:pt x="0" y="3172"/>
                </a:moveTo>
                <a:lnTo>
                  <a:pt x="0" y="3155"/>
                </a:lnTo>
                <a:lnTo>
                  <a:pt x="721" y="3155"/>
                </a:lnTo>
                <a:lnTo>
                  <a:pt x="1441" y="3155"/>
                </a:lnTo>
                <a:lnTo>
                  <a:pt x="2162" y="3155"/>
                </a:lnTo>
                <a:lnTo>
                  <a:pt x="2882" y="3155"/>
                </a:lnTo>
                <a:lnTo>
                  <a:pt x="3603" y="3155"/>
                </a:lnTo>
                <a:lnTo>
                  <a:pt x="4323" y="3155"/>
                </a:lnTo>
                <a:lnTo>
                  <a:pt x="5044" y="3155"/>
                </a:lnTo>
                <a:lnTo>
                  <a:pt x="5764" y="3155"/>
                </a:lnTo>
                <a:lnTo>
                  <a:pt x="5764" y="3172"/>
                </a:lnTo>
                <a:lnTo>
                  <a:pt x="5044" y="3172"/>
                </a:lnTo>
                <a:lnTo>
                  <a:pt x="4323" y="3172"/>
                </a:lnTo>
                <a:lnTo>
                  <a:pt x="3603" y="3172"/>
                </a:lnTo>
                <a:lnTo>
                  <a:pt x="2882" y="3172"/>
                </a:lnTo>
                <a:lnTo>
                  <a:pt x="2162" y="3172"/>
                </a:lnTo>
                <a:lnTo>
                  <a:pt x="1441" y="3172"/>
                </a:lnTo>
                <a:lnTo>
                  <a:pt x="721" y="3172"/>
                </a:lnTo>
                <a:lnTo>
                  <a:pt x="0" y="3172"/>
                </a:lnTo>
                <a:close/>
                <a:moveTo>
                  <a:pt x="0" y="3139"/>
                </a:moveTo>
                <a:lnTo>
                  <a:pt x="0" y="3123"/>
                </a:lnTo>
                <a:lnTo>
                  <a:pt x="721" y="3123"/>
                </a:lnTo>
                <a:lnTo>
                  <a:pt x="1441" y="3123"/>
                </a:lnTo>
                <a:lnTo>
                  <a:pt x="2162" y="3123"/>
                </a:lnTo>
                <a:lnTo>
                  <a:pt x="2882" y="3123"/>
                </a:lnTo>
                <a:lnTo>
                  <a:pt x="3603" y="3123"/>
                </a:lnTo>
                <a:lnTo>
                  <a:pt x="4323" y="3123"/>
                </a:lnTo>
                <a:lnTo>
                  <a:pt x="5044" y="3123"/>
                </a:lnTo>
                <a:lnTo>
                  <a:pt x="5764" y="3123"/>
                </a:lnTo>
                <a:lnTo>
                  <a:pt x="5764" y="3139"/>
                </a:lnTo>
                <a:lnTo>
                  <a:pt x="5044" y="3139"/>
                </a:lnTo>
                <a:lnTo>
                  <a:pt x="4323" y="3139"/>
                </a:lnTo>
                <a:lnTo>
                  <a:pt x="3603" y="3139"/>
                </a:lnTo>
                <a:lnTo>
                  <a:pt x="2882" y="3139"/>
                </a:lnTo>
                <a:lnTo>
                  <a:pt x="2162" y="3139"/>
                </a:lnTo>
                <a:lnTo>
                  <a:pt x="1441" y="3139"/>
                </a:lnTo>
                <a:lnTo>
                  <a:pt x="721" y="3139"/>
                </a:lnTo>
                <a:lnTo>
                  <a:pt x="0" y="3139"/>
                </a:lnTo>
                <a:close/>
                <a:moveTo>
                  <a:pt x="0" y="3107"/>
                </a:moveTo>
                <a:lnTo>
                  <a:pt x="0" y="3090"/>
                </a:lnTo>
                <a:lnTo>
                  <a:pt x="721" y="3090"/>
                </a:lnTo>
                <a:lnTo>
                  <a:pt x="1441" y="3090"/>
                </a:lnTo>
                <a:lnTo>
                  <a:pt x="2162" y="3090"/>
                </a:lnTo>
                <a:lnTo>
                  <a:pt x="2882" y="3090"/>
                </a:lnTo>
                <a:lnTo>
                  <a:pt x="3603" y="3090"/>
                </a:lnTo>
                <a:lnTo>
                  <a:pt x="4323" y="3090"/>
                </a:lnTo>
                <a:lnTo>
                  <a:pt x="5044" y="3090"/>
                </a:lnTo>
                <a:lnTo>
                  <a:pt x="5764" y="3090"/>
                </a:lnTo>
                <a:lnTo>
                  <a:pt x="5764" y="3107"/>
                </a:lnTo>
                <a:lnTo>
                  <a:pt x="5044" y="3107"/>
                </a:lnTo>
                <a:lnTo>
                  <a:pt x="4323" y="3107"/>
                </a:lnTo>
                <a:lnTo>
                  <a:pt x="3603" y="3107"/>
                </a:lnTo>
                <a:lnTo>
                  <a:pt x="2882" y="3107"/>
                </a:lnTo>
                <a:lnTo>
                  <a:pt x="2162" y="3107"/>
                </a:lnTo>
                <a:lnTo>
                  <a:pt x="1441" y="3107"/>
                </a:lnTo>
                <a:lnTo>
                  <a:pt x="721" y="3107"/>
                </a:lnTo>
                <a:lnTo>
                  <a:pt x="0" y="3107"/>
                </a:lnTo>
                <a:close/>
                <a:moveTo>
                  <a:pt x="0" y="3074"/>
                </a:moveTo>
                <a:lnTo>
                  <a:pt x="0" y="3057"/>
                </a:lnTo>
                <a:lnTo>
                  <a:pt x="721" y="3057"/>
                </a:lnTo>
                <a:lnTo>
                  <a:pt x="1441" y="3057"/>
                </a:lnTo>
                <a:lnTo>
                  <a:pt x="2162" y="3057"/>
                </a:lnTo>
                <a:lnTo>
                  <a:pt x="2882" y="3057"/>
                </a:lnTo>
                <a:lnTo>
                  <a:pt x="3603" y="3057"/>
                </a:lnTo>
                <a:lnTo>
                  <a:pt x="4323" y="3057"/>
                </a:lnTo>
                <a:lnTo>
                  <a:pt x="5044" y="3057"/>
                </a:lnTo>
                <a:lnTo>
                  <a:pt x="5764" y="3057"/>
                </a:lnTo>
                <a:lnTo>
                  <a:pt x="5764" y="3074"/>
                </a:lnTo>
                <a:lnTo>
                  <a:pt x="5044" y="3074"/>
                </a:lnTo>
                <a:lnTo>
                  <a:pt x="4323" y="3074"/>
                </a:lnTo>
                <a:lnTo>
                  <a:pt x="3603" y="3074"/>
                </a:lnTo>
                <a:lnTo>
                  <a:pt x="2882" y="3074"/>
                </a:lnTo>
                <a:lnTo>
                  <a:pt x="2162" y="3074"/>
                </a:lnTo>
                <a:lnTo>
                  <a:pt x="1441" y="3074"/>
                </a:lnTo>
                <a:lnTo>
                  <a:pt x="721" y="3074"/>
                </a:lnTo>
                <a:lnTo>
                  <a:pt x="0" y="3074"/>
                </a:lnTo>
                <a:close/>
                <a:moveTo>
                  <a:pt x="0" y="3041"/>
                </a:moveTo>
                <a:lnTo>
                  <a:pt x="0" y="3024"/>
                </a:lnTo>
                <a:lnTo>
                  <a:pt x="721" y="3024"/>
                </a:lnTo>
                <a:lnTo>
                  <a:pt x="1441" y="3024"/>
                </a:lnTo>
                <a:lnTo>
                  <a:pt x="2162" y="3024"/>
                </a:lnTo>
                <a:lnTo>
                  <a:pt x="2882" y="3024"/>
                </a:lnTo>
                <a:lnTo>
                  <a:pt x="3603" y="3024"/>
                </a:lnTo>
                <a:lnTo>
                  <a:pt x="4323" y="3024"/>
                </a:lnTo>
                <a:lnTo>
                  <a:pt x="5044" y="3024"/>
                </a:lnTo>
                <a:lnTo>
                  <a:pt x="5764" y="3024"/>
                </a:lnTo>
                <a:lnTo>
                  <a:pt x="5764" y="3041"/>
                </a:lnTo>
                <a:lnTo>
                  <a:pt x="5044" y="3041"/>
                </a:lnTo>
                <a:lnTo>
                  <a:pt x="4323" y="3041"/>
                </a:lnTo>
                <a:lnTo>
                  <a:pt x="3603" y="3041"/>
                </a:lnTo>
                <a:lnTo>
                  <a:pt x="2882" y="3041"/>
                </a:lnTo>
                <a:lnTo>
                  <a:pt x="2162" y="3041"/>
                </a:lnTo>
                <a:lnTo>
                  <a:pt x="1441" y="3041"/>
                </a:lnTo>
                <a:lnTo>
                  <a:pt x="721" y="3041"/>
                </a:lnTo>
                <a:lnTo>
                  <a:pt x="0" y="3041"/>
                </a:lnTo>
                <a:close/>
                <a:moveTo>
                  <a:pt x="0" y="3008"/>
                </a:moveTo>
                <a:lnTo>
                  <a:pt x="0" y="2991"/>
                </a:lnTo>
                <a:lnTo>
                  <a:pt x="721" y="2991"/>
                </a:lnTo>
                <a:lnTo>
                  <a:pt x="1441" y="2991"/>
                </a:lnTo>
                <a:lnTo>
                  <a:pt x="2162" y="2991"/>
                </a:lnTo>
                <a:lnTo>
                  <a:pt x="2882" y="2991"/>
                </a:lnTo>
                <a:lnTo>
                  <a:pt x="3603" y="2991"/>
                </a:lnTo>
                <a:lnTo>
                  <a:pt x="4323" y="2991"/>
                </a:lnTo>
                <a:lnTo>
                  <a:pt x="5044" y="2991"/>
                </a:lnTo>
                <a:lnTo>
                  <a:pt x="5764" y="2991"/>
                </a:lnTo>
                <a:lnTo>
                  <a:pt x="5764" y="3008"/>
                </a:lnTo>
                <a:lnTo>
                  <a:pt x="5044" y="3008"/>
                </a:lnTo>
                <a:lnTo>
                  <a:pt x="4323" y="3008"/>
                </a:lnTo>
                <a:lnTo>
                  <a:pt x="3603" y="3008"/>
                </a:lnTo>
                <a:lnTo>
                  <a:pt x="2882" y="3008"/>
                </a:lnTo>
                <a:lnTo>
                  <a:pt x="2162" y="3008"/>
                </a:lnTo>
                <a:lnTo>
                  <a:pt x="1441" y="3008"/>
                </a:lnTo>
                <a:lnTo>
                  <a:pt x="721" y="3008"/>
                </a:lnTo>
                <a:lnTo>
                  <a:pt x="0" y="3008"/>
                </a:lnTo>
                <a:close/>
                <a:moveTo>
                  <a:pt x="0" y="2975"/>
                </a:moveTo>
                <a:lnTo>
                  <a:pt x="0" y="2958"/>
                </a:lnTo>
                <a:lnTo>
                  <a:pt x="721" y="2958"/>
                </a:lnTo>
                <a:lnTo>
                  <a:pt x="1441" y="2958"/>
                </a:lnTo>
                <a:lnTo>
                  <a:pt x="2162" y="2958"/>
                </a:lnTo>
                <a:lnTo>
                  <a:pt x="2882" y="2958"/>
                </a:lnTo>
                <a:lnTo>
                  <a:pt x="3603" y="2958"/>
                </a:lnTo>
                <a:lnTo>
                  <a:pt x="4323" y="2958"/>
                </a:lnTo>
                <a:lnTo>
                  <a:pt x="5044" y="2958"/>
                </a:lnTo>
                <a:lnTo>
                  <a:pt x="5764" y="2958"/>
                </a:lnTo>
                <a:lnTo>
                  <a:pt x="5764" y="2975"/>
                </a:lnTo>
                <a:lnTo>
                  <a:pt x="5044" y="2975"/>
                </a:lnTo>
                <a:lnTo>
                  <a:pt x="4323" y="2975"/>
                </a:lnTo>
                <a:lnTo>
                  <a:pt x="3603" y="2975"/>
                </a:lnTo>
                <a:lnTo>
                  <a:pt x="2882" y="2975"/>
                </a:lnTo>
                <a:lnTo>
                  <a:pt x="2162" y="2975"/>
                </a:lnTo>
                <a:lnTo>
                  <a:pt x="1441" y="2975"/>
                </a:lnTo>
                <a:lnTo>
                  <a:pt x="721" y="2975"/>
                </a:lnTo>
                <a:lnTo>
                  <a:pt x="0" y="2975"/>
                </a:lnTo>
                <a:close/>
                <a:moveTo>
                  <a:pt x="0" y="2942"/>
                </a:moveTo>
                <a:lnTo>
                  <a:pt x="0" y="2926"/>
                </a:lnTo>
                <a:lnTo>
                  <a:pt x="721" y="2926"/>
                </a:lnTo>
                <a:lnTo>
                  <a:pt x="1441" y="2926"/>
                </a:lnTo>
                <a:lnTo>
                  <a:pt x="2162" y="2926"/>
                </a:lnTo>
                <a:lnTo>
                  <a:pt x="2882" y="2926"/>
                </a:lnTo>
                <a:lnTo>
                  <a:pt x="3603" y="2926"/>
                </a:lnTo>
                <a:lnTo>
                  <a:pt x="4323" y="2926"/>
                </a:lnTo>
                <a:lnTo>
                  <a:pt x="5044" y="2926"/>
                </a:lnTo>
                <a:lnTo>
                  <a:pt x="5764" y="2926"/>
                </a:lnTo>
                <a:lnTo>
                  <a:pt x="5764" y="2942"/>
                </a:lnTo>
                <a:lnTo>
                  <a:pt x="5044" y="2942"/>
                </a:lnTo>
                <a:lnTo>
                  <a:pt x="4323" y="2942"/>
                </a:lnTo>
                <a:lnTo>
                  <a:pt x="3603" y="2942"/>
                </a:lnTo>
                <a:lnTo>
                  <a:pt x="2882" y="2942"/>
                </a:lnTo>
                <a:lnTo>
                  <a:pt x="2162" y="2942"/>
                </a:lnTo>
                <a:lnTo>
                  <a:pt x="1441" y="2942"/>
                </a:lnTo>
                <a:lnTo>
                  <a:pt x="721" y="2942"/>
                </a:lnTo>
                <a:lnTo>
                  <a:pt x="0" y="2942"/>
                </a:lnTo>
                <a:close/>
                <a:moveTo>
                  <a:pt x="0" y="2909"/>
                </a:moveTo>
                <a:lnTo>
                  <a:pt x="0" y="2893"/>
                </a:lnTo>
                <a:lnTo>
                  <a:pt x="721" y="2893"/>
                </a:lnTo>
                <a:lnTo>
                  <a:pt x="1441" y="2893"/>
                </a:lnTo>
                <a:lnTo>
                  <a:pt x="2162" y="2893"/>
                </a:lnTo>
                <a:lnTo>
                  <a:pt x="2882" y="2893"/>
                </a:lnTo>
                <a:lnTo>
                  <a:pt x="3603" y="2893"/>
                </a:lnTo>
                <a:lnTo>
                  <a:pt x="4323" y="2893"/>
                </a:lnTo>
                <a:lnTo>
                  <a:pt x="5044" y="2893"/>
                </a:lnTo>
                <a:lnTo>
                  <a:pt x="5764" y="2893"/>
                </a:lnTo>
                <a:lnTo>
                  <a:pt x="5764" y="2909"/>
                </a:lnTo>
                <a:lnTo>
                  <a:pt x="5044" y="2909"/>
                </a:lnTo>
                <a:lnTo>
                  <a:pt x="4323" y="2909"/>
                </a:lnTo>
                <a:lnTo>
                  <a:pt x="3603" y="2909"/>
                </a:lnTo>
                <a:lnTo>
                  <a:pt x="2882" y="2909"/>
                </a:lnTo>
                <a:lnTo>
                  <a:pt x="2162" y="2909"/>
                </a:lnTo>
                <a:lnTo>
                  <a:pt x="1441" y="2909"/>
                </a:lnTo>
                <a:lnTo>
                  <a:pt x="721" y="2909"/>
                </a:lnTo>
                <a:lnTo>
                  <a:pt x="0" y="2909"/>
                </a:lnTo>
                <a:close/>
                <a:moveTo>
                  <a:pt x="0" y="2877"/>
                </a:moveTo>
                <a:lnTo>
                  <a:pt x="0" y="2860"/>
                </a:lnTo>
                <a:lnTo>
                  <a:pt x="721" y="2860"/>
                </a:lnTo>
                <a:lnTo>
                  <a:pt x="1441" y="2860"/>
                </a:lnTo>
                <a:lnTo>
                  <a:pt x="2162" y="2860"/>
                </a:lnTo>
                <a:lnTo>
                  <a:pt x="2882" y="2860"/>
                </a:lnTo>
                <a:lnTo>
                  <a:pt x="3603" y="2860"/>
                </a:lnTo>
                <a:lnTo>
                  <a:pt x="4323" y="2860"/>
                </a:lnTo>
                <a:lnTo>
                  <a:pt x="5044" y="2860"/>
                </a:lnTo>
                <a:lnTo>
                  <a:pt x="5764" y="2860"/>
                </a:lnTo>
                <a:lnTo>
                  <a:pt x="5764" y="2877"/>
                </a:lnTo>
                <a:lnTo>
                  <a:pt x="5044" y="2877"/>
                </a:lnTo>
                <a:lnTo>
                  <a:pt x="4323" y="2877"/>
                </a:lnTo>
                <a:lnTo>
                  <a:pt x="3603" y="2877"/>
                </a:lnTo>
                <a:lnTo>
                  <a:pt x="2882" y="2877"/>
                </a:lnTo>
                <a:lnTo>
                  <a:pt x="2162" y="2877"/>
                </a:lnTo>
                <a:lnTo>
                  <a:pt x="1441" y="2877"/>
                </a:lnTo>
                <a:lnTo>
                  <a:pt x="721" y="2877"/>
                </a:lnTo>
                <a:lnTo>
                  <a:pt x="0" y="2877"/>
                </a:lnTo>
                <a:close/>
                <a:moveTo>
                  <a:pt x="0" y="2844"/>
                </a:moveTo>
                <a:lnTo>
                  <a:pt x="0" y="2827"/>
                </a:lnTo>
                <a:lnTo>
                  <a:pt x="721" y="2827"/>
                </a:lnTo>
                <a:lnTo>
                  <a:pt x="1441" y="2827"/>
                </a:lnTo>
                <a:lnTo>
                  <a:pt x="2162" y="2827"/>
                </a:lnTo>
                <a:lnTo>
                  <a:pt x="2882" y="2827"/>
                </a:lnTo>
                <a:lnTo>
                  <a:pt x="3603" y="2827"/>
                </a:lnTo>
                <a:lnTo>
                  <a:pt x="4323" y="2827"/>
                </a:lnTo>
                <a:lnTo>
                  <a:pt x="5044" y="2827"/>
                </a:lnTo>
                <a:lnTo>
                  <a:pt x="5764" y="2827"/>
                </a:lnTo>
                <a:lnTo>
                  <a:pt x="5764" y="2844"/>
                </a:lnTo>
                <a:lnTo>
                  <a:pt x="5044" y="2844"/>
                </a:lnTo>
                <a:lnTo>
                  <a:pt x="4323" y="2844"/>
                </a:lnTo>
                <a:lnTo>
                  <a:pt x="3603" y="2844"/>
                </a:lnTo>
                <a:lnTo>
                  <a:pt x="2882" y="2844"/>
                </a:lnTo>
                <a:lnTo>
                  <a:pt x="2162" y="2844"/>
                </a:lnTo>
                <a:lnTo>
                  <a:pt x="1441" y="2844"/>
                </a:lnTo>
                <a:lnTo>
                  <a:pt x="721" y="2844"/>
                </a:lnTo>
                <a:lnTo>
                  <a:pt x="0" y="2844"/>
                </a:lnTo>
                <a:close/>
                <a:moveTo>
                  <a:pt x="0" y="2811"/>
                </a:moveTo>
                <a:lnTo>
                  <a:pt x="0" y="2794"/>
                </a:lnTo>
                <a:lnTo>
                  <a:pt x="721" y="2794"/>
                </a:lnTo>
                <a:lnTo>
                  <a:pt x="1441" y="2794"/>
                </a:lnTo>
                <a:lnTo>
                  <a:pt x="2162" y="2794"/>
                </a:lnTo>
                <a:lnTo>
                  <a:pt x="2882" y="2794"/>
                </a:lnTo>
                <a:lnTo>
                  <a:pt x="3603" y="2794"/>
                </a:lnTo>
                <a:lnTo>
                  <a:pt x="4323" y="2794"/>
                </a:lnTo>
                <a:lnTo>
                  <a:pt x="5044" y="2794"/>
                </a:lnTo>
                <a:lnTo>
                  <a:pt x="5764" y="2794"/>
                </a:lnTo>
                <a:lnTo>
                  <a:pt x="5764" y="2811"/>
                </a:lnTo>
                <a:lnTo>
                  <a:pt x="5044" y="2811"/>
                </a:lnTo>
                <a:lnTo>
                  <a:pt x="4323" y="2811"/>
                </a:lnTo>
                <a:lnTo>
                  <a:pt x="3603" y="2811"/>
                </a:lnTo>
                <a:lnTo>
                  <a:pt x="2882" y="2811"/>
                </a:lnTo>
                <a:lnTo>
                  <a:pt x="2162" y="2811"/>
                </a:lnTo>
                <a:lnTo>
                  <a:pt x="1441" y="2811"/>
                </a:lnTo>
                <a:lnTo>
                  <a:pt x="721" y="2811"/>
                </a:lnTo>
                <a:lnTo>
                  <a:pt x="0" y="2811"/>
                </a:lnTo>
                <a:close/>
                <a:moveTo>
                  <a:pt x="0" y="2778"/>
                </a:moveTo>
                <a:lnTo>
                  <a:pt x="0" y="2761"/>
                </a:lnTo>
                <a:lnTo>
                  <a:pt x="721" y="2761"/>
                </a:lnTo>
                <a:lnTo>
                  <a:pt x="1441" y="2761"/>
                </a:lnTo>
                <a:lnTo>
                  <a:pt x="2162" y="2761"/>
                </a:lnTo>
                <a:lnTo>
                  <a:pt x="2882" y="2761"/>
                </a:lnTo>
                <a:lnTo>
                  <a:pt x="3603" y="2761"/>
                </a:lnTo>
                <a:lnTo>
                  <a:pt x="4323" y="2761"/>
                </a:lnTo>
                <a:lnTo>
                  <a:pt x="5044" y="2761"/>
                </a:lnTo>
                <a:lnTo>
                  <a:pt x="5764" y="2761"/>
                </a:lnTo>
                <a:lnTo>
                  <a:pt x="5764" y="2778"/>
                </a:lnTo>
                <a:lnTo>
                  <a:pt x="5044" y="2778"/>
                </a:lnTo>
                <a:lnTo>
                  <a:pt x="4323" y="2778"/>
                </a:lnTo>
                <a:lnTo>
                  <a:pt x="3603" y="2778"/>
                </a:lnTo>
                <a:lnTo>
                  <a:pt x="2882" y="2778"/>
                </a:lnTo>
                <a:lnTo>
                  <a:pt x="2162" y="2778"/>
                </a:lnTo>
                <a:lnTo>
                  <a:pt x="1441" y="2778"/>
                </a:lnTo>
                <a:lnTo>
                  <a:pt x="721" y="2778"/>
                </a:lnTo>
                <a:lnTo>
                  <a:pt x="0" y="2778"/>
                </a:lnTo>
                <a:close/>
                <a:moveTo>
                  <a:pt x="0" y="2745"/>
                </a:moveTo>
                <a:lnTo>
                  <a:pt x="0" y="2728"/>
                </a:lnTo>
                <a:lnTo>
                  <a:pt x="721" y="2728"/>
                </a:lnTo>
                <a:lnTo>
                  <a:pt x="1441" y="2728"/>
                </a:lnTo>
                <a:lnTo>
                  <a:pt x="2162" y="2728"/>
                </a:lnTo>
                <a:lnTo>
                  <a:pt x="2882" y="2728"/>
                </a:lnTo>
                <a:lnTo>
                  <a:pt x="3603" y="2728"/>
                </a:lnTo>
                <a:lnTo>
                  <a:pt x="4323" y="2728"/>
                </a:lnTo>
                <a:lnTo>
                  <a:pt x="5044" y="2728"/>
                </a:lnTo>
                <a:lnTo>
                  <a:pt x="5764" y="2728"/>
                </a:lnTo>
                <a:lnTo>
                  <a:pt x="5764" y="2745"/>
                </a:lnTo>
                <a:lnTo>
                  <a:pt x="5044" y="2745"/>
                </a:lnTo>
                <a:lnTo>
                  <a:pt x="4323" y="2745"/>
                </a:lnTo>
                <a:lnTo>
                  <a:pt x="3603" y="2745"/>
                </a:lnTo>
                <a:lnTo>
                  <a:pt x="2882" y="2745"/>
                </a:lnTo>
                <a:lnTo>
                  <a:pt x="2162" y="2745"/>
                </a:lnTo>
                <a:lnTo>
                  <a:pt x="1441" y="2745"/>
                </a:lnTo>
                <a:lnTo>
                  <a:pt x="721" y="2745"/>
                </a:lnTo>
                <a:lnTo>
                  <a:pt x="0" y="2745"/>
                </a:lnTo>
                <a:close/>
                <a:moveTo>
                  <a:pt x="0" y="2712"/>
                </a:moveTo>
                <a:lnTo>
                  <a:pt x="0" y="2696"/>
                </a:lnTo>
                <a:lnTo>
                  <a:pt x="721" y="2696"/>
                </a:lnTo>
                <a:lnTo>
                  <a:pt x="1441" y="2696"/>
                </a:lnTo>
                <a:lnTo>
                  <a:pt x="2162" y="2696"/>
                </a:lnTo>
                <a:lnTo>
                  <a:pt x="2882" y="2696"/>
                </a:lnTo>
                <a:lnTo>
                  <a:pt x="3603" y="2696"/>
                </a:lnTo>
                <a:lnTo>
                  <a:pt x="4323" y="2696"/>
                </a:lnTo>
                <a:lnTo>
                  <a:pt x="5044" y="2696"/>
                </a:lnTo>
                <a:lnTo>
                  <a:pt x="5764" y="2696"/>
                </a:lnTo>
                <a:lnTo>
                  <a:pt x="5764" y="2712"/>
                </a:lnTo>
                <a:lnTo>
                  <a:pt x="5044" y="2712"/>
                </a:lnTo>
                <a:lnTo>
                  <a:pt x="4323" y="2712"/>
                </a:lnTo>
                <a:lnTo>
                  <a:pt x="3603" y="2712"/>
                </a:lnTo>
                <a:lnTo>
                  <a:pt x="2882" y="2712"/>
                </a:lnTo>
                <a:lnTo>
                  <a:pt x="2162" y="2712"/>
                </a:lnTo>
                <a:lnTo>
                  <a:pt x="1441" y="2712"/>
                </a:lnTo>
                <a:lnTo>
                  <a:pt x="721" y="2712"/>
                </a:lnTo>
                <a:lnTo>
                  <a:pt x="0" y="2712"/>
                </a:lnTo>
                <a:close/>
                <a:moveTo>
                  <a:pt x="0" y="2680"/>
                </a:moveTo>
                <a:lnTo>
                  <a:pt x="0" y="2663"/>
                </a:lnTo>
                <a:lnTo>
                  <a:pt x="721" y="2663"/>
                </a:lnTo>
                <a:lnTo>
                  <a:pt x="1441" y="2663"/>
                </a:lnTo>
                <a:lnTo>
                  <a:pt x="2162" y="2663"/>
                </a:lnTo>
                <a:lnTo>
                  <a:pt x="2882" y="2663"/>
                </a:lnTo>
                <a:lnTo>
                  <a:pt x="3603" y="2663"/>
                </a:lnTo>
                <a:lnTo>
                  <a:pt x="4323" y="2663"/>
                </a:lnTo>
                <a:lnTo>
                  <a:pt x="5044" y="2663"/>
                </a:lnTo>
                <a:lnTo>
                  <a:pt x="5764" y="2663"/>
                </a:lnTo>
                <a:lnTo>
                  <a:pt x="5764" y="2680"/>
                </a:lnTo>
                <a:lnTo>
                  <a:pt x="5044" y="2680"/>
                </a:lnTo>
                <a:lnTo>
                  <a:pt x="4323" y="2680"/>
                </a:lnTo>
                <a:lnTo>
                  <a:pt x="3603" y="2680"/>
                </a:lnTo>
                <a:lnTo>
                  <a:pt x="2882" y="2680"/>
                </a:lnTo>
                <a:lnTo>
                  <a:pt x="2162" y="2680"/>
                </a:lnTo>
                <a:lnTo>
                  <a:pt x="1441" y="2680"/>
                </a:lnTo>
                <a:lnTo>
                  <a:pt x="721" y="2680"/>
                </a:lnTo>
                <a:lnTo>
                  <a:pt x="0" y="2680"/>
                </a:lnTo>
                <a:close/>
                <a:moveTo>
                  <a:pt x="0" y="2647"/>
                </a:moveTo>
                <a:lnTo>
                  <a:pt x="0" y="2630"/>
                </a:lnTo>
                <a:lnTo>
                  <a:pt x="721" y="2630"/>
                </a:lnTo>
                <a:lnTo>
                  <a:pt x="1441" y="2630"/>
                </a:lnTo>
                <a:lnTo>
                  <a:pt x="2162" y="2630"/>
                </a:lnTo>
                <a:lnTo>
                  <a:pt x="2882" y="2630"/>
                </a:lnTo>
                <a:lnTo>
                  <a:pt x="3603" y="2630"/>
                </a:lnTo>
                <a:lnTo>
                  <a:pt x="4323" y="2630"/>
                </a:lnTo>
                <a:lnTo>
                  <a:pt x="5044" y="2630"/>
                </a:lnTo>
                <a:lnTo>
                  <a:pt x="5764" y="2630"/>
                </a:lnTo>
                <a:lnTo>
                  <a:pt x="5764" y="2647"/>
                </a:lnTo>
                <a:lnTo>
                  <a:pt x="5044" y="2647"/>
                </a:lnTo>
                <a:lnTo>
                  <a:pt x="4323" y="2647"/>
                </a:lnTo>
                <a:lnTo>
                  <a:pt x="3603" y="2647"/>
                </a:lnTo>
                <a:lnTo>
                  <a:pt x="2882" y="2647"/>
                </a:lnTo>
                <a:lnTo>
                  <a:pt x="2162" y="2647"/>
                </a:lnTo>
                <a:lnTo>
                  <a:pt x="1441" y="2647"/>
                </a:lnTo>
                <a:lnTo>
                  <a:pt x="721" y="2647"/>
                </a:lnTo>
                <a:lnTo>
                  <a:pt x="0" y="2647"/>
                </a:lnTo>
                <a:close/>
                <a:moveTo>
                  <a:pt x="0" y="2614"/>
                </a:moveTo>
                <a:lnTo>
                  <a:pt x="0" y="2597"/>
                </a:lnTo>
                <a:lnTo>
                  <a:pt x="721" y="2597"/>
                </a:lnTo>
                <a:lnTo>
                  <a:pt x="1441" y="2597"/>
                </a:lnTo>
                <a:lnTo>
                  <a:pt x="2162" y="2597"/>
                </a:lnTo>
                <a:lnTo>
                  <a:pt x="2882" y="2597"/>
                </a:lnTo>
                <a:lnTo>
                  <a:pt x="3603" y="2597"/>
                </a:lnTo>
                <a:lnTo>
                  <a:pt x="4323" y="2597"/>
                </a:lnTo>
                <a:lnTo>
                  <a:pt x="5044" y="2597"/>
                </a:lnTo>
                <a:lnTo>
                  <a:pt x="5764" y="2597"/>
                </a:lnTo>
                <a:lnTo>
                  <a:pt x="5764" y="2614"/>
                </a:lnTo>
                <a:lnTo>
                  <a:pt x="5044" y="2614"/>
                </a:lnTo>
                <a:lnTo>
                  <a:pt x="4323" y="2614"/>
                </a:lnTo>
                <a:lnTo>
                  <a:pt x="3603" y="2614"/>
                </a:lnTo>
                <a:lnTo>
                  <a:pt x="2882" y="2614"/>
                </a:lnTo>
                <a:lnTo>
                  <a:pt x="2162" y="2614"/>
                </a:lnTo>
                <a:lnTo>
                  <a:pt x="1441" y="2614"/>
                </a:lnTo>
                <a:lnTo>
                  <a:pt x="721" y="2614"/>
                </a:lnTo>
                <a:lnTo>
                  <a:pt x="0" y="2614"/>
                </a:lnTo>
                <a:close/>
                <a:moveTo>
                  <a:pt x="0" y="2581"/>
                </a:moveTo>
                <a:lnTo>
                  <a:pt x="0" y="2564"/>
                </a:lnTo>
                <a:lnTo>
                  <a:pt x="721" y="2564"/>
                </a:lnTo>
                <a:lnTo>
                  <a:pt x="1441" y="2564"/>
                </a:lnTo>
                <a:lnTo>
                  <a:pt x="2162" y="2564"/>
                </a:lnTo>
                <a:lnTo>
                  <a:pt x="2882" y="2564"/>
                </a:lnTo>
                <a:lnTo>
                  <a:pt x="3603" y="2564"/>
                </a:lnTo>
                <a:lnTo>
                  <a:pt x="4323" y="2564"/>
                </a:lnTo>
                <a:lnTo>
                  <a:pt x="5044" y="2564"/>
                </a:lnTo>
                <a:lnTo>
                  <a:pt x="5764" y="2564"/>
                </a:lnTo>
                <a:lnTo>
                  <a:pt x="5764" y="2581"/>
                </a:lnTo>
                <a:lnTo>
                  <a:pt x="5044" y="2581"/>
                </a:lnTo>
                <a:lnTo>
                  <a:pt x="4323" y="2581"/>
                </a:lnTo>
                <a:lnTo>
                  <a:pt x="3603" y="2581"/>
                </a:lnTo>
                <a:lnTo>
                  <a:pt x="2882" y="2581"/>
                </a:lnTo>
                <a:lnTo>
                  <a:pt x="2162" y="2581"/>
                </a:lnTo>
                <a:lnTo>
                  <a:pt x="1441" y="2581"/>
                </a:lnTo>
                <a:lnTo>
                  <a:pt x="721" y="2581"/>
                </a:lnTo>
                <a:lnTo>
                  <a:pt x="0" y="2581"/>
                </a:lnTo>
                <a:close/>
                <a:moveTo>
                  <a:pt x="0" y="2548"/>
                </a:moveTo>
                <a:lnTo>
                  <a:pt x="0" y="2531"/>
                </a:lnTo>
                <a:lnTo>
                  <a:pt x="721" y="2531"/>
                </a:lnTo>
                <a:lnTo>
                  <a:pt x="1441" y="2531"/>
                </a:lnTo>
                <a:lnTo>
                  <a:pt x="2162" y="2531"/>
                </a:lnTo>
                <a:lnTo>
                  <a:pt x="2882" y="2531"/>
                </a:lnTo>
                <a:lnTo>
                  <a:pt x="3603" y="2531"/>
                </a:lnTo>
                <a:lnTo>
                  <a:pt x="4323" y="2531"/>
                </a:lnTo>
                <a:lnTo>
                  <a:pt x="5044" y="2531"/>
                </a:lnTo>
                <a:lnTo>
                  <a:pt x="5764" y="2531"/>
                </a:lnTo>
                <a:lnTo>
                  <a:pt x="5764" y="2548"/>
                </a:lnTo>
                <a:lnTo>
                  <a:pt x="5044" y="2548"/>
                </a:lnTo>
                <a:lnTo>
                  <a:pt x="4323" y="2548"/>
                </a:lnTo>
                <a:lnTo>
                  <a:pt x="3603" y="2548"/>
                </a:lnTo>
                <a:lnTo>
                  <a:pt x="2882" y="2548"/>
                </a:lnTo>
                <a:lnTo>
                  <a:pt x="2162" y="2548"/>
                </a:lnTo>
                <a:lnTo>
                  <a:pt x="1441" y="2548"/>
                </a:lnTo>
                <a:lnTo>
                  <a:pt x="721" y="2548"/>
                </a:lnTo>
                <a:lnTo>
                  <a:pt x="0" y="2548"/>
                </a:lnTo>
                <a:close/>
                <a:moveTo>
                  <a:pt x="0" y="2515"/>
                </a:moveTo>
                <a:lnTo>
                  <a:pt x="0" y="2499"/>
                </a:lnTo>
                <a:lnTo>
                  <a:pt x="721" y="2499"/>
                </a:lnTo>
                <a:lnTo>
                  <a:pt x="1441" y="2499"/>
                </a:lnTo>
                <a:lnTo>
                  <a:pt x="2162" y="2499"/>
                </a:lnTo>
                <a:lnTo>
                  <a:pt x="2882" y="2499"/>
                </a:lnTo>
                <a:lnTo>
                  <a:pt x="3603" y="2499"/>
                </a:lnTo>
                <a:lnTo>
                  <a:pt x="4323" y="2499"/>
                </a:lnTo>
                <a:lnTo>
                  <a:pt x="5044" y="2499"/>
                </a:lnTo>
                <a:lnTo>
                  <a:pt x="5764" y="2499"/>
                </a:lnTo>
                <a:lnTo>
                  <a:pt x="5764" y="2515"/>
                </a:lnTo>
                <a:lnTo>
                  <a:pt x="5044" y="2515"/>
                </a:lnTo>
                <a:lnTo>
                  <a:pt x="4323" y="2515"/>
                </a:lnTo>
                <a:lnTo>
                  <a:pt x="3603" y="2515"/>
                </a:lnTo>
                <a:lnTo>
                  <a:pt x="2882" y="2515"/>
                </a:lnTo>
                <a:lnTo>
                  <a:pt x="2162" y="2515"/>
                </a:lnTo>
                <a:lnTo>
                  <a:pt x="1441" y="2515"/>
                </a:lnTo>
                <a:lnTo>
                  <a:pt x="721" y="2515"/>
                </a:lnTo>
                <a:lnTo>
                  <a:pt x="0" y="2515"/>
                </a:lnTo>
                <a:close/>
                <a:moveTo>
                  <a:pt x="0" y="2482"/>
                </a:moveTo>
                <a:lnTo>
                  <a:pt x="0" y="2466"/>
                </a:lnTo>
                <a:lnTo>
                  <a:pt x="721" y="2466"/>
                </a:lnTo>
                <a:lnTo>
                  <a:pt x="1441" y="2466"/>
                </a:lnTo>
                <a:lnTo>
                  <a:pt x="2162" y="2466"/>
                </a:lnTo>
                <a:lnTo>
                  <a:pt x="2882" y="2466"/>
                </a:lnTo>
                <a:lnTo>
                  <a:pt x="3603" y="2466"/>
                </a:lnTo>
                <a:lnTo>
                  <a:pt x="4323" y="2466"/>
                </a:lnTo>
                <a:lnTo>
                  <a:pt x="5044" y="2466"/>
                </a:lnTo>
                <a:lnTo>
                  <a:pt x="5764" y="2466"/>
                </a:lnTo>
                <a:lnTo>
                  <a:pt x="5764" y="2482"/>
                </a:lnTo>
                <a:lnTo>
                  <a:pt x="5044" y="2482"/>
                </a:lnTo>
                <a:lnTo>
                  <a:pt x="4323" y="2482"/>
                </a:lnTo>
                <a:lnTo>
                  <a:pt x="3603" y="2482"/>
                </a:lnTo>
                <a:lnTo>
                  <a:pt x="2882" y="2482"/>
                </a:lnTo>
                <a:lnTo>
                  <a:pt x="2162" y="2482"/>
                </a:lnTo>
                <a:lnTo>
                  <a:pt x="1441" y="2482"/>
                </a:lnTo>
                <a:lnTo>
                  <a:pt x="721" y="2482"/>
                </a:lnTo>
                <a:lnTo>
                  <a:pt x="0" y="2482"/>
                </a:lnTo>
                <a:close/>
                <a:moveTo>
                  <a:pt x="0" y="2450"/>
                </a:moveTo>
                <a:lnTo>
                  <a:pt x="0" y="2433"/>
                </a:lnTo>
                <a:lnTo>
                  <a:pt x="721" y="2433"/>
                </a:lnTo>
                <a:lnTo>
                  <a:pt x="1441" y="2433"/>
                </a:lnTo>
                <a:lnTo>
                  <a:pt x="2162" y="2433"/>
                </a:lnTo>
                <a:lnTo>
                  <a:pt x="2882" y="2433"/>
                </a:lnTo>
                <a:lnTo>
                  <a:pt x="3603" y="2433"/>
                </a:lnTo>
                <a:lnTo>
                  <a:pt x="4323" y="2433"/>
                </a:lnTo>
                <a:lnTo>
                  <a:pt x="5044" y="2433"/>
                </a:lnTo>
                <a:lnTo>
                  <a:pt x="5764" y="2433"/>
                </a:lnTo>
                <a:lnTo>
                  <a:pt x="5764" y="2450"/>
                </a:lnTo>
                <a:lnTo>
                  <a:pt x="5044" y="2450"/>
                </a:lnTo>
                <a:lnTo>
                  <a:pt x="4323" y="2450"/>
                </a:lnTo>
                <a:lnTo>
                  <a:pt x="3603" y="2450"/>
                </a:lnTo>
                <a:lnTo>
                  <a:pt x="2882" y="2450"/>
                </a:lnTo>
                <a:lnTo>
                  <a:pt x="2162" y="2450"/>
                </a:lnTo>
                <a:lnTo>
                  <a:pt x="1441" y="2450"/>
                </a:lnTo>
                <a:lnTo>
                  <a:pt x="721" y="2450"/>
                </a:lnTo>
                <a:lnTo>
                  <a:pt x="0" y="2450"/>
                </a:lnTo>
                <a:close/>
                <a:moveTo>
                  <a:pt x="0" y="2417"/>
                </a:moveTo>
                <a:lnTo>
                  <a:pt x="0" y="2400"/>
                </a:lnTo>
                <a:lnTo>
                  <a:pt x="721" y="2400"/>
                </a:lnTo>
                <a:lnTo>
                  <a:pt x="1441" y="2400"/>
                </a:lnTo>
                <a:lnTo>
                  <a:pt x="2162" y="2400"/>
                </a:lnTo>
                <a:lnTo>
                  <a:pt x="2882" y="2400"/>
                </a:lnTo>
                <a:lnTo>
                  <a:pt x="3603" y="2400"/>
                </a:lnTo>
                <a:lnTo>
                  <a:pt x="4323" y="2400"/>
                </a:lnTo>
                <a:lnTo>
                  <a:pt x="5044" y="2400"/>
                </a:lnTo>
                <a:lnTo>
                  <a:pt x="5764" y="2400"/>
                </a:lnTo>
                <a:lnTo>
                  <a:pt x="5764" y="2417"/>
                </a:lnTo>
                <a:lnTo>
                  <a:pt x="5044" y="2417"/>
                </a:lnTo>
                <a:lnTo>
                  <a:pt x="4323" y="2417"/>
                </a:lnTo>
                <a:lnTo>
                  <a:pt x="3603" y="2417"/>
                </a:lnTo>
                <a:lnTo>
                  <a:pt x="2882" y="2417"/>
                </a:lnTo>
                <a:lnTo>
                  <a:pt x="2162" y="2417"/>
                </a:lnTo>
                <a:lnTo>
                  <a:pt x="1441" y="2417"/>
                </a:lnTo>
                <a:lnTo>
                  <a:pt x="721" y="2417"/>
                </a:lnTo>
                <a:lnTo>
                  <a:pt x="0" y="2417"/>
                </a:lnTo>
                <a:close/>
                <a:moveTo>
                  <a:pt x="0" y="2384"/>
                </a:moveTo>
                <a:lnTo>
                  <a:pt x="0" y="2367"/>
                </a:lnTo>
                <a:lnTo>
                  <a:pt x="721" y="2367"/>
                </a:lnTo>
                <a:lnTo>
                  <a:pt x="1441" y="2367"/>
                </a:lnTo>
                <a:lnTo>
                  <a:pt x="2162" y="2367"/>
                </a:lnTo>
                <a:lnTo>
                  <a:pt x="2882" y="2367"/>
                </a:lnTo>
                <a:lnTo>
                  <a:pt x="3603" y="2367"/>
                </a:lnTo>
                <a:lnTo>
                  <a:pt x="4323" y="2367"/>
                </a:lnTo>
                <a:lnTo>
                  <a:pt x="5044" y="2367"/>
                </a:lnTo>
                <a:lnTo>
                  <a:pt x="5764" y="2367"/>
                </a:lnTo>
                <a:lnTo>
                  <a:pt x="5764" y="2384"/>
                </a:lnTo>
                <a:lnTo>
                  <a:pt x="5044" y="2384"/>
                </a:lnTo>
                <a:lnTo>
                  <a:pt x="4323" y="2384"/>
                </a:lnTo>
                <a:lnTo>
                  <a:pt x="3603" y="2384"/>
                </a:lnTo>
                <a:lnTo>
                  <a:pt x="2882" y="2384"/>
                </a:lnTo>
                <a:lnTo>
                  <a:pt x="2162" y="2384"/>
                </a:lnTo>
                <a:lnTo>
                  <a:pt x="1441" y="2384"/>
                </a:lnTo>
                <a:lnTo>
                  <a:pt x="721" y="2384"/>
                </a:lnTo>
                <a:lnTo>
                  <a:pt x="0" y="2384"/>
                </a:lnTo>
                <a:close/>
                <a:moveTo>
                  <a:pt x="0" y="2351"/>
                </a:moveTo>
                <a:lnTo>
                  <a:pt x="0" y="2334"/>
                </a:lnTo>
                <a:lnTo>
                  <a:pt x="721" y="2334"/>
                </a:lnTo>
                <a:lnTo>
                  <a:pt x="1441" y="2334"/>
                </a:lnTo>
                <a:lnTo>
                  <a:pt x="2162" y="2334"/>
                </a:lnTo>
                <a:lnTo>
                  <a:pt x="2882" y="2334"/>
                </a:lnTo>
                <a:lnTo>
                  <a:pt x="3603" y="2334"/>
                </a:lnTo>
                <a:lnTo>
                  <a:pt x="4323" y="2334"/>
                </a:lnTo>
                <a:lnTo>
                  <a:pt x="5044" y="2334"/>
                </a:lnTo>
                <a:lnTo>
                  <a:pt x="5764" y="2334"/>
                </a:lnTo>
                <a:lnTo>
                  <a:pt x="5764" y="2351"/>
                </a:lnTo>
                <a:lnTo>
                  <a:pt x="5044" y="2351"/>
                </a:lnTo>
                <a:lnTo>
                  <a:pt x="4323" y="2351"/>
                </a:lnTo>
                <a:lnTo>
                  <a:pt x="3603" y="2351"/>
                </a:lnTo>
                <a:lnTo>
                  <a:pt x="2882" y="2351"/>
                </a:lnTo>
                <a:lnTo>
                  <a:pt x="2162" y="2351"/>
                </a:lnTo>
                <a:lnTo>
                  <a:pt x="1441" y="2351"/>
                </a:lnTo>
                <a:lnTo>
                  <a:pt x="721" y="2351"/>
                </a:lnTo>
                <a:lnTo>
                  <a:pt x="0" y="2351"/>
                </a:lnTo>
                <a:close/>
                <a:moveTo>
                  <a:pt x="0" y="2318"/>
                </a:moveTo>
                <a:lnTo>
                  <a:pt x="0" y="2301"/>
                </a:lnTo>
                <a:lnTo>
                  <a:pt x="721" y="2301"/>
                </a:lnTo>
                <a:lnTo>
                  <a:pt x="1441" y="2301"/>
                </a:lnTo>
                <a:lnTo>
                  <a:pt x="2162" y="2301"/>
                </a:lnTo>
                <a:lnTo>
                  <a:pt x="2882" y="2301"/>
                </a:lnTo>
                <a:lnTo>
                  <a:pt x="3603" y="2301"/>
                </a:lnTo>
                <a:lnTo>
                  <a:pt x="4323" y="2301"/>
                </a:lnTo>
                <a:lnTo>
                  <a:pt x="5044" y="2301"/>
                </a:lnTo>
                <a:lnTo>
                  <a:pt x="5764" y="2301"/>
                </a:lnTo>
                <a:lnTo>
                  <a:pt x="5764" y="2318"/>
                </a:lnTo>
                <a:lnTo>
                  <a:pt x="5044" y="2318"/>
                </a:lnTo>
                <a:lnTo>
                  <a:pt x="4323" y="2318"/>
                </a:lnTo>
                <a:lnTo>
                  <a:pt x="3603" y="2318"/>
                </a:lnTo>
                <a:lnTo>
                  <a:pt x="2882" y="2318"/>
                </a:lnTo>
                <a:lnTo>
                  <a:pt x="2162" y="2318"/>
                </a:lnTo>
                <a:lnTo>
                  <a:pt x="1441" y="2318"/>
                </a:lnTo>
                <a:lnTo>
                  <a:pt x="721" y="2318"/>
                </a:lnTo>
                <a:lnTo>
                  <a:pt x="0" y="2318"/>
                </a:lnTo>
                <a:close/>
                <a:moveTo>
                  <a:pt x="0" y="2285"/>
                </a:moveTo>
                <a:lnTo>
                  <a:pt x="0" y="2269"/>
                </a:lnTo>
                <a:lnTo>
                  <a:pt x="721" y="2269"/>
                </a:lnTo>
                <a:lnTo>
                  <a:pt x="1441" y="2269"/>
                </a:lnTo>
                <a:lnTo>
                  <a:pt x="2162" y="2269"/>
                </a:lnTo>
                <a:lnTo>
                  <a:pt x="2882" y="2269"/>
                </a:lnTo>
                <a:lnTo>
                  <a:pt x="3603" y="2269"/>
                </a:lnTo>
                <a:lnTo>
                  <a:pt x="4323" y="2269"/>
                </a:lnTo>
                <a:lnTo>
                  <a:pt x="5044" y="2269"/>
                </a:lnTo>
                <a:lnTo>
                  <a:pt x="5764" y="2269"/>
                </a:lnTo>
                <a:lnTo>
                  <a:pt x="5764" y="2285"/>
                </a:lnTo>
                <a:lnTo>
                  <a:pt x="5044" y="2285"/>
                </a:lnTo>
                <a:lnTo>
                  <a:pt x="4323" y="2285"/>
                </a:lnTo>
                <a:lnTo>
                  <a:pt x="3603" y="2285"/>
                </a:lnTo>
                <a:lnTo>
                  <a:pt x="2882" y="2285"/>
                </a:lnTo>
                <a:lnTo>
                  <a:pt x="2162" y="2285"/>
                </a:lnTo>
                <a:lnTo>
                  <a:pt x="1441" y="2285"/>
                </a:lnTo>
                <a:lnTo>
                  <a:pt x="721" y="2285"/>
                </a:lnTo>
                <a:lnTo>
                  <a:pt x="0" y="2285"/>
                </a:lnTo>
                <a:close/>
                <a:moveTo>
                  <a:pt x="0" y="2253"/>
                </a:moveTo>
                <a:lnTo>
                  <a:pt x="0" y="2236"/>
                </a:lnTo>
                <a:lnTo>
                  <a:pt x="721" y="2236"/>
                </a:lnTo>
                <a:lnTo>
                  <a:pt x="1441" y="2236"/>
                </a:lnTo>
                <a:lnTo>
                  <a:pt x="2162" y="2236"/>
                </a:lnTo>
                <a:lnTo>
                  <a:pt x="2882" y="2236"/>
                </a:lnTo>
                <a:lnTo>
                  <a:pt x="3603" y="2236"/>
                </a:lnTo>
                <a:lnTo>
                  <a:pt x="4323" y="2236"/>
                </a:lnTo>
                <a:lnTo>
                  <a:pt x="5044" y="2236"/>
                </a:lnTo>
                <a:lnTo>
                  <a:pt x="5764" y="2236"/>
                </a:lnTo>
                <a:lnTo>
                  <a:pt x="5764" y="2253"/>
                </a:lnTo>
                <a:lnTo>
                  <a:pt x="5044" y="2253"/>
                </a:lnTo>
                <a:lnTo>
                  <a:pt x="4323" y="2253"/>
                </a:lnTo>
                <a:lnTo>
                  <a:pt x="3603" y="2253"/>
                </a:lnTo>
                <a:lnTo>
                  <a:pt x="2882" y="2253"/>
                </a:lnTo>
                <a:lnTo>
                  <a:pt x="2162" y="2253"/>
                </a:lnTo>
                <a:lnTo>
                  <a:pt x="1441" y="2253"/>
                </a:lnTo>
                <a:lnTo>
                  <a:pt x="721" y="2253"/>
                </a:lnTo>
                <a:lnTo>
                  <a:pt x="0" y="2253"/>
                </a:lnTo>
                <a:close/>
                <a:moveTo>
                  <a:pt x="0" y="2220"/>
                </a:moveTo>
                <a:lnTo>
                  <a:pt x="0" y="2203"/>
                </a:lnTo>
                <a:lnTo>
                  <a:pt x="721" y="2203"/>
                </a:lnTo>
                <a:lnTo>
                  <a:pt x="1441" y="2203"/>
                </a:lnTo>
                <a:lnTo>
                  <a:pt x="2162" y="2203"/>
                </a:lnTo>
                <a:lnTo>
                  <a:pt x="2882" y="2203"/>
                </a:lnTo>
                <a:lnTo>
                  <a:pt x="3603" y="2203"/>
                </a:lnTo>
                <a:lnTo>
                  <a:pt x="4323" y="2203"/>
                </a:lnTo>
                <a:lnTo>
                  <a:pt x="5044" y="2203"/>
                </a:lnTo>
                <a:lnTo>
                  <a:pt x="5764" y="2203"/>
                </a:lnTo>
                <a:lnTo>
                  <a:pt x="5764" y="2220"/>
                </a:lnTo>
                <a:lnTo>
                  <a:pt x="5044" y="2220"/>
                </a:lnTo>
                <a:lnTo>
                  <a:pt x="4323" y="2220"/>
                </a:lnTo>
                <a:lnTo>
                  <a:pt x="3603" y="2220"/>
                </a:lnTo>
                <a:lnTo>
                  <a:pt x="2882" y="2220"/>
                </a:lnTo>
                <a:lnTo>
                  <a:pt x="2162" y="2220"/>
                </a:lnTo>
                <a:lnTo>
                  <a:pt x="1441" y="2220"/>
                </a:lnTo>
                <a:lnTo>
                  <a:pt x="721" y="2220"/>
                </a:lnTo>
                <a:lnTo>
                  <a:pt x="0" y="2220"/>
                </a:lnTo>
                <a:close/>
                <a:moveTo>
                  <a:pt x="0" y="2187"/>
                </a:moveTo>
                <a:lnTo>
                  <a:pt x="0" y="2170"/>
                </a:lnTo>
                <a:lnTo>
                  <a:pt x="721" y="2170"/>
                </a:lnTo>
                <a:lnTo>
                  <a:pt x="1441" y="2170"/>
                </a:lnTo>
                <a:lnTo>
                  <a:pt x="2162" y="2170"/>
                </a:lnTo>
                <a:lnTo>
                  <a:pt x="2882" y="2170"/>
                </a:lnTo>
                <a:lnTo>
                  <a:pt x="3603" y="2170"/>
                </a:lnTo>
                <a:lnTo>
                  <a:pt x="4323" y="2170"/>
                </a:lnTo>
                <a:lnTo>
                  <a:pt x="5044" y="2170"/>
                </a:lnTo>
                <a:lnTo>
                  <a:pt x="5764" y="2170"/>
                </a:lnTo>
                <a:lnTo>
                  <a:pt x="5764" y="2187"/>
                </a:lnTo>
                <a:lnTo>
                  <a:pt x="5044" y="2187"/>
                </a:lnTo>
                <a:lnTo>
                  <a:pt x="4323" y="2187"/>
                </a:lnTo>
                <a:lnTo>
                  <a:pt x="3603" y="2187"/>
                </a:lnTo>
                <a:lnTo>
                  <a:pt x="2882" y="2187"/>
                </a:lnTo>
                <a:lnTo>
                  <a:pt x="2162" y="2187"/>
                </a:lnTo>
                <a:lnTo>
                  <a:pt x="1441" y="2187"/>
                </a:lnTo>
                <a:lnTo>
                  <a:pt x="721" y="2187"/>
                </a:lnTo>
                <a:lnTo>
                  <a:pt x="0" y="2187"/>
                </a:lnTo>
                <a:close/>
                <a:moveTo>
                  <a:pt x="0" y="2153"/>
                </a:moveTo>
                <a:lnTo>
                  <a:pt x="0" y="2136"/>
                </a:lnTo>
                <a:lnTo>
                  <a:pt x="721" y="2136"/>
                </a:lnTo>
                <a:lnTo>
                  <a:pt x="1441" y="2136"/>
                </a:lnTo>
                <a:lnTo>
                  <a:pt x="2162" y="2136"/>
                </a:lnTo>
                <a:lnTo>
                  <a:pt x="2882" y="2136"/>
                </a:lnTo>
                <a:lnTo>
                  <a:pt x="3603" y="2136"/>
                </a:lnTo>
                <a:lnTo>
                  <a:pt x="4323" y="2136"/>
                </a:lnTo>
                <a:lnTo>
                  <a:pt x="5044" y="2136"/>
                </a:lnTo>
                <a:lnTo>
                  <a:pt x="5764" y="2136"/>
                </a:lnTo>
                <a:lnTo>
                  <a:pt x="5764" y="2153"/>
                </a:lnTo>
                <a:lnTo>
                  <a:pt x="5044" y="2153"/>
                </a:lnTo>
                <a:lnTo>
                  <a:pt x="4323" y="2153"/>
                </a:lnTo>
                <a:lnTo>
                  <a:pt x="3603" y="2153"/>
                </a:lnTo>
                <a:lnTo>
                  <a:pt x="2882" y="2153"/>
                </a:lnTo>
                <a:lnTo>
                  <a:pt x="2162" y="2153"/>
                </a:lnTo>
                <a:lnTo>
                  <a:pt x="1441" y="2153"/>
                </a:lnTo>
                <a:lnTo>
                  <a:pt x="721" y="2153"/>
                </a:lnTo>
                <a:lnTo>
                  <a:pt x="0" y="2153"/>
                </a:lnTo>
                <a:close/>
                <a:moveTo>
                  <a:pt x="0" y="2120"/>
                </a:moveTo>
                <a:lnTo>
                  <a:pt x="0" y="2103"/>
                </a:lnTo>
                <a:lnTo>
                  <a:pt x="721" y="2103"/>
                </a:lnTo>
                <a:lnTo>
                  <a:pt x="1441" y="2103"/>
                </a:lnTo>
                <a:lnTo>
                  <a:pt x="2162" y="2103"/>
                </a:lnTo>
                <a:lnTo>
                  <a:pt x="2882" y="2103"/>
                </a:lnTo>
                <a:lnTo>
                  <a:pt x="3603" y="2103"/>
                </a:lnTo>
                <a:lnTo>
                  <a:pt x="4323" y="2103"/>
                </a:lnTo>
                <a:lnTo>
                  <a:pt x="5044" y="2103"/>
                </a:lnTo>
                <a:lnTo>
                  <a:pt x="5764" y="2103"/>
                </a:lnTo>
                <a:lnTo>
                  <a:pt x="5764" y="2120"/>
                </a:lnTo>
                <a:lnTo>
                  <a:pt x="5044" y="2120"/>
                </a:lnTo>
                <a:lnTo>
                  <a:pt x="4323" y="2120"/>
                </a:lnTo>
                <a:lnTo>
                  <a:pt x="3603" y="2120"/>
                </a:lnTo>
                <a:lnTo>
                  <a:pt x="2882" y="2120"/>
                </a:lnTo>
                <a:lnTo>
                  <a:pt x="2162" y="2120"/>
                </a:lnTo>
                <a:lnTo>
                  <a:pt x="1441" y="2120"/>
                </a:lnTo>
                <a:lnTo>
                  <a:pt x="721" y="2120"/>
                </a:lnTo>
                <a:lnTo>
                  <a:pt x="0" y="2120"/>
                </a:lnTo>
                <a:close/>
                <a:moveTo>
                  <a:pt x="0" y="2087"/>
                </a:moveTo>
                <a:lnTo>
                  <a:pt x="0" y="2070"/>
                </a:lnTo>
                <a:lnTo>
                  <a:pt x="721" y="2070"/>
                </a:lnTo>
                <a:lnTo>
                  <a:pt x="1441" y="2070"/>
                </a:lnTo>
                <a:lnTo>
                  <a:pt x="2162" y="2070"/>
                </a:lnTo>
                <a:lnTo>
                  <a:pt x="2882" y="2070"/>
                </a:lnTo>
                <a:lnTo>
                  <a:pt x="3603" y="2070"/>
                </a:lnTo>
                <a:lnTo>
                  <a:pt x="4323" y="2070"/>
                </a:lnTo>
                <a:lnTo>
                  <a:pt x="5044" y="2070"/>
                </a:lnTo>
                <a:lnTo>
                  <a:pt x="5764" y="2070"/>
                </a:lnTo>
                <a:lnTo>
                  <a:pt x="5764" y="2087"/>
                </a:lnTo>
                <a:lnTo>
                  <a:pt x="5044" y="2087"/>
                </a:lnTo>
                <a:lnTo>
                  <a:pt x="4323" y="2087"/>
                </a:lnTo>
                <a:lnTo>
                  <a:pt x="3603" y="2087"/>
                </a:lnTo>
                <a:lnTo>
                  <a:pt x="2882" y="2087"/>
                </a:lnTo>
                <a:lnTo>
                  <a:pt x="2162" y="2087"/>
                </a:lnTo>
                <a:lnTo>
                  <a:pt x="1441" y="2087"/>
                </a:lnTo>
                <a:lnTo>
                  <a:pt x="721" y="2087"/>
                </a:lnTo>
                <a:lnTo>
                  <a:pt x="0" y="2087"/>
                </a:lnTo>
                <a:close/>
                <a:moveTo>
                  <a:pt x="0" y="2054"/>
                </a:moveTo>
                <a:lnTo>
                  <a:pt x="0" y="2038"/>
                </a:lnTo>
                <a:lnTo>
                  <a:pt x="721" y="2038"/>
                </a:lnTo>
                <a:lnTo>
                  <a:pt x="1441" y="2038"/>
                </a:lnTo>
                <a:lnTo>
                  <a:pt x="2162" y="2038"/>
                </a:lnTo>
                <a:lnTo>
                  <a:pt x="2882" y="2038"/>
                </a:lnTo>
                <a:lnTo>
                  <a:pt x="3603" y="2038"/>
                </a:lnTo>
                <a:lnTo>
                  <a:pt x="4323" y="2038"/>
                </a:lnTo>
                <a:lnTo>
                  <a:pt x="5044" y="2038"/>
                </a:lnTo>
                <a:lnTo>
                  <a:pt x="5764" y="2038"/>
                </a:lnTo>
                <a:lnTo>
                  <a:pt x="5764" y="2054"/>
                </a:lnTo>
                <a:lnTo>
                  <a:pt x="5044" y="2054"/>
                </a:lnTo>
                <a:lnTo>
                  <a:pt x="4323" y="2054"/>
                </a:lnTo>
                <a:lnTo>
                  <a:pt x="3603" y="2054"/>
                </a:lnTo>
                <a:lnTo>
                  <a:pt x="2882" y="2054"/>
                </a:lnTo>
                <a:lnTo>
                  <a:pt x="2162" y="2054"/>
                </a:lnTo>
                <a:lnTo>
                  <a:pt x="1441" y="2054"/>
                </a:lnTo>
                <a:lnTo>
                  <a:pt x="721" y="2054"/>
                </a:lnTo>
                <a:lnTo>
                  <a:pt x="0" y="2054"/>
                </a:lnTo>
                <a:close/>
                <a:moveTo>
                  <a:pt x="0" y="2022"/>
                </a:moveTo>
                <a:lnTo>
                  <a:pt x="0" y="2005"/>
                </a:lnTo>
                <a:lnTo>
                  <a:pt x="721" y="2005"/>
                </a:lnTo>
                <a:lnTo>
                  <a:pt x="1441" y="2005"/>
                </a:lnTo>
                <a:lnTo>
                  <a:pt x="2162" y="2005"/>
                </a:lnTo>
                <a:lnTo>
                  <a:pt x="2882" y="2005"/>
                </a:lnTo>
                <a:lnTo>
                  <a:pt x="3603" y="2005"/>
                </a:lnTo>
                <a:lnTo>
                  <a:pt x="4323" y="2005"/>
                </a:lnTo>
                <a:lnTo>
                  <a:pt x="5044" y="2005"/>
                </a:lnTo>
                <a:lnTo>
                  <a:pt x="5764" y="2005"/>
                </a:lnTo>
                <a:lnTo>
                  <a:pt x="5764" y="2022"/>
                </a:lnTo>
                <a:lnTo>
                  <a:pt x="5044" y="2022"/>
                </a:lnTo>
                <a:lnTo>
                  <a:pt x="4323" y="2022"/>
                </a:lnTo>
                <a:lnTo>
                  <a:pt x="3603" y="2022"/>
                </a:lnTo>
                <a:lnTo>
                  <a:pt x="2882" y="2022"/>
                </a:lnTo>
                <a:lnTo>
                  <a:pt x="2162" y="2022"/>
                </a:lnTo>
                <a:lnTo>
                  <a:pt x="1441" y="2022"/>
                </a:lnTo>
                <a:lnTo>
                  <a:pt x="721" y="2022"/>
                </a:lnTo>
                <a:lnTo>
                  <a:pt x="0" y="2022"/>
                </a:lnTo>
                <a:close/>
                <a:moveTo>
                  <a:pt x="0" y="1989"/>
                </a:moveTo>
                <a:lnTo>
                  <a:pt x="0" y="1972"/>
                </a:lnTo>
                <a:lnTo>
                  <a:pt x="721" y="1972"/>
                </a:lnTo>
                <a:lnTo>
                  <a:pt x="1441" y="1972"/>
                </a:lnTo>
                <a:lnTo>
                  <a:pt x="2162" y="1972"/>
                </a:lnTo>
                <a:lnTo>
                  <a:pt x="2882" y="1972"/>
                </a:lnTo>
                <a:lnTo>
                  <a:pt x="3603" y="1972"/>
                </a:lnTo>
                <a:lnTo>
                  <a:pt x="4323" y="1972"/>
                </a:lnTo>
                <a:lnTo>
                  <a:pt x="5044" y="1972"/>
                </a:lnTo>
                <a:lnTo>
                  <a:pt x="5764" y="1972"/>
                </a:lnTo>
                <a:lnTo>
                  <a:pt x="5764" y="1989"/>
                </a:lnTo>
                <a:lnTo>
                  <a:pt x="5044" y="1989"/>
                </a:lnTo>
                <a:lnTo>
                  <a:pt x="4323" y="1989"/>
                </a:lnTo>
                <a:lnTo>
                  <a:pt x="3603" y="1989"/>
                </a:lnTo>
                <a:lnTo>
                  <a:pt x="2882" y="1989"/>
                </a:lnTo>
                <a:lnTo>
                  <a:pt x="2162" y="1989"/>
                </a:lnTo>
                <a:lnTo>
                  <a:pt x="1441" y="1989"/>
                </a:lnTo>
                <a:lnTo>
                  <a:pt x="721" y="1989"/>
                </a:lnTo>
                <a:lnTo>
                  <a:pt x="0" y="1989"/>
                </a:lnTo>
                <a:close/>
                <a:moveTo>
                  <a:pt x="0" y="1956"/>
                </a:moveTo>
                <a:lnTo>
                  <a:pt x="0" y="1939"/>
                </a:lnTo>
                <a:lnTo>
                  <a:pt x="721" y="1939"/>
                </a:lnTo>
                <a:lnTo>
                  <a:pt x="1441" y="1939"/>
                </a:lnTo>
                <a:lnTo>
                  <a:pt x="2162" y="1939"/>
                </a:lnTo>
                <a:lnTo>
                  <a:pt x="2882" y="1939"/>
                </a:lnTo>
                <a:lnTo>
                  <a:pt x="3603" y="1939"/>
                </a:lnTo>
                <a:lnTo>
                  <a:pt x="4323" y="1939"/>
                </a:lnTo>
                <a:lnTo>
                  <a:pt x="5044" y="1939"/>
                </a:lnTo>
                <a:lnTo>
                  <a:pt x="5764" y="1939"/>
                </a:lnTo>
                <a:lnTo>
                  <a:pt x="5764" y="1956"/>
                </a:lnTo>
                <a:lnTo>
                  <a:pt x="5044" y="1956"/>
                </a:lnTo>
                <a:lnTo>
                  <a:pt x="4323" y="1956"/>
                </a:lnTo>
                <a:lnTo>
                  <a:pt x="3603" y="1956"/>
                </a:lnTo>
                <a:lnTo>
                  <a:pt x="2882" y="1956"/>
                </a:lnTo>
                <a:lnTo>
                  <a:pt x="2162" y="1956"/>
                </a:lnTo>
                <a:lnTo>
                  <a:pt x="1441" y="1956"/>
                </a:lnTo>
                <a:lnTo>
                  <a:pt x="721" y="1956"/>
                </a:lnTo>
                <a:lnTo>
                  <a:pt x="0" y="1956"/>
                </a:lnTo>
                <a:close/>
                <a:moveTo>
                  <a:pt x="0" y="1923"/>
                </a:moveTo>
                <a:lnTo>
                  <a:pt x="0" y="1906"/>
                </a:lnTo>
                <a:lnTo>
                  <a:pt x="721" y="1906"/>
                </a:lnTo>
                <a:lnTo>
                  <a:pt x="1441" y="1906"/>
                </a:lnTo>
                <a:lnTo>
                  <a:pt x="2162" y="1906"/>
                </a:lnTo>
                <a:lnTo>
                  <a:pt x="2882" y="1906"/>
                </a:lnTo>
                <a:lnTo>
                  <a:pt x="3603" y="1906"/>
                </a:lnTo>
                <a:lnTo>
                  <a:pt x="4323" y="1906"/>
                </a:lnTo>
                <a:lnTo>
                  <a:pt x="5044" y="1906"/>
                </a:lnTo>
                <a:lnTo>
                  <a:pt x="5764" y="1906"/>
                </a:lnTo>
                <a:lnTo>
                  <a:pt x="5764" y="1923"/>
                </a:lnTo>
                <a:lnTo>
                  <a:pt x="5044" y="1923"/>
                </a:lnTo>
                <a:lnTo>
                  <a:pt x="4323" y="1923"/>
                </a:lnTo>
                <a:lnTo>
                  <a:pt x="3603" y="1923"/>
                </a:lnTo>
                <a:lnTo>
                  <a:pt x="2882" y="1923"/>
                </a:lnTo>
                <a:lnTo>
                  <a:pt x="2162" y="1923"/>
                </a:lnTo>
                <a:lnTo>
                  <a:pt x="1441" y="1923"/>
                </a:lnTo>
                <a:lnTo>
                  <a:pt x="721" y="1923"/>
                </a:lnTo>
                <a:lnTo>
                  <a:pt x="0" y="1923"/>
                </a:lnTo>
                <a:close/>
                <a:moveTo>
                  <a:pt x="0" y="1890"/>
                </a:moveTo>
                <a:lnTo>
                  <a:pt x="0" y="1873"/>
                </a:lnTo>
                <a:lnTo>
                  <a:pt x="721" y="1873"/>
                </a:lnTo>
                <a:lnTo>
                  <a:pt x="1441" y="1873"/>
                </a:lnTo>
                <a:lnTo>
                  <a:pt x="2162" y="1873"/>
                </a:lnTo>
                <a:lnTo>
                  <a:pt x="2882" y="1873"/>
                </a:lnTo>
                <a:lnTo>
                  <a:pt x="3603" y="1873"/>
                </a:lnTo>
                <a:lnTo>
                  <a:pt x="4323" y="1873"/>
                </a:lnTo>
                <a:lnTo>
                  <a:pt x="5044" y="1873"/>
                </a:lnTo>
                <a:lnTo>
                  <a:pt x="5764" y="1873"/>
                </a:lnTo>
                <a:lnTo>
                  <a:pt x="5764" y="1890"/>
                </a:lnTo>
                <a:lnTo>
                  <a:pt x="5044" y="1890"/>
                </a:lnTo>
                <a:lnTo>
                  <a:pt x="4323" y="1890"/>
                </a:lnTo>
                <a:lnTo>
                  <a:pt x="3603" y="1890"/>
                </a:lnTo>
                <a:lnTo>
                  <a:pt x="2882" y="1890"/>
                </a:lnTo>
                <a:lnTo>
                  <a:pt x="2162" y="1890"/>
                </a:lnTo>
                <a:lnTo>
                  <a:pt x="1441" y="1890"/>
                </a:lnTo>
                <a:lnTo>
                  <a:pt x="721" y="1890"/>
                </a:lnTo>
                <a:lnTo>
                  <a:pt x="0" y="1890"/>
                </a:lnTo>
                <a:close/>
                <a:moveTo>
                  <a:pt x="0" y="1857"/>
                </a:moveTo>
                <a:lnTo>
                  <a:pt x="0" y="1841"/>
                </a:lnTo>
                <a:lnTo>
                  <a:pt x="721" y="1841"/>
                </a:lnTo>
                <a:lnTo>
                  <a:pt x="1441" y="1841"/>
                </a:lnTo>
                <a:lnTo>
                  <a:pt x="2162" y="1841"/>
                </a:lnTo>
                <a:lnTo>
                  <a:pt x="2882" y="1841"/>
                </a:lnTo>
                <a:lnTo>
                  <a:pt x="3603" y="1841"/>
                </a:lnTo>
                <a:lnTo>
                  <a:pt x="4323" y="1841"/>
                </a:lnTo>
                <a:lnTo>
                  <a:pt x="5044" y="1841"/>
                </a:lnTo>
                <a:lnTo>
                  <a:pt x="5764" y="1841"/>
                </a:lnTo>
                <a:lnTo>
                  <a:pt x="5764" y="1857"/>
                </a:lnTo>
                <a:lnTo>
                  <a:pt x="5044" y="1857"/>
                </a:lnTo>
                <a:lnTo>
                  <a:pt x="4323" y="1857"/>
                </a:lnTo>
                <a:lnTo>
                  <a:pt x="3603" y="1857"/>
                </a:lnTo>
                <a:lnTo>
                  <a:pt x="2882" y="1857"/>
                </a:lnTo>
                <a:lnTo>
                  <a:pt x="2162" y="1857"/>
                </a:lnTo>
                <a:lnTo>
                  <a:pt x="1441" y="1857"/>
                </a:lnTo>
                <a:lnTo>
                  <a:pt x="721" y="1857"/>
                </a:lnTo>
                <a:lnTo>
                  <a:pt x="0" y="1857"/>
                </a:lnTo>
                <a:close/>
                <a:moveTo>
                  <a:pt x="0" y="1824"/>
                </a:moveTo>
                <a:lnTo>
                  <a:pt x="0" y="1808"/>
                </a:lnTo>
                <a:lnTo>
                  <a:pt x="721" y="1808"/>
                </a:lnTo>
                <a:lnTo>
                  <a:pt x="1441" y="1808"/>
                </a:lnTo>
                <a:lnTo>
                  <a:pt x="2162" y="1808"/>
                </a:lnTo>
                <a:lnTo>
                  <a:pt x="2882" y="1808"/>
                </a:lnTo>
                <a:lnTo>
                  <a:pt x="3603" y="1808"/>
                </a:lnTo>
                <a:lnTo>
                  <a:pt x="4323" y="1808"/>
                </a:lnTo>
                <a:lnTo>
                  <a:pt x="5044" y="1808"/>
                </a:lnTo>
                <a:lnTo>
                  <a:pt x="5764" y="1808"/>
                </a:lnTo>
                <a:lnTo>
                  <a:pt x="5764" y="1824"/>
                </a:lnTo>
                <a:lnTo>
                  <a:pt x="5044" y="1824"/>
                </a:lnTo>
                <a:lnTo>
                  <a:pt x="4323" y="1824"/>
                </a:lnTo>
                <a:lnTo>
                  <a:pt x="3603" y="1824"/>
                </a:lnTo>
                <a:lnTo>
                  <a:pt x="2882" y="1824"/>
                </a:lnTo>
                <a:lnTo>
                  <a:pt x="2162" y="1824"/>
                </a:lnTo>
                <a:lnTo>
                  <a:pt x="1441" y="1824"/>
                </a:lnTo>
                <a:lnTo>
                  <a:pt x="721" y="1824"/>
                </a:lnTo>
                <a:lnTo>
                  <a:pt x="0" y="1824"/>
                </a:lnTo>
                <a:close/>
                <a:moveTo>
                  <a:pt x="0" y="1792"/>
                </a:moveTo>
                <a:lnTo>
                  <a:pt x="0" y="1775"/>
                </a:lnTo>
                <a:lnTo>
                  <a:pt x="721" y="1775"/>
                </a:lnTo>
                <a:lnTo>
                  <a:pt x="1441" y="1775"/>
                </a:lnTo>
                <a:lnTo>
                  <a:pt x="2162" y="1775"/>
                </a:lnTo>
                <a:lnTo>
                  <a:pt x="2882" y="1775"/>
                </a:lnTo>
                <a:lnTo>
                  <a:pt x="3603" y="1775"/>
                </a:lnTo>
                <a:lnTo>
                  <a:pt x="4323" y="1775"/>
                </a:lnTo>
                <a:lnTo>
                  <a:pt x="5044" y="1775"/>
                </a:lnTo>
                <a:lnTo>
                  <a:pt x="5764" y="1775"/>
                </a:lnTo>
                <a:lnTo>
                  <a:pt x="5764" y="1792"/>
                </a:lnTo>
                <a:lnTo>
                  <a:pt x="5044" y="1792"/>
                </a:lnTo>
                <a:lnTo>
                  <a:pt x="4323" y="1792"/>
                </a:lnTo>
                <a:lnTo>
                  <a:pt x="3603" y="1792"/>
                </a:lnTo>
                <a:lnTo>
                  <a:pt x="2882" y="1792"/>
                </a:lnTo>
                <a:lnTo>
                  <a:pt x="2162" y="1792"/>
                </a:lnTo>
                <a:lnTo>
                  <a:pt x="1441" y="1792"/>
                </a:lnTo>
                <a:lnTo>
                  <a:pt x="721" y="1792"/>
                </a:lnTo>
                <a:lnTo>
                  <a:pt x="0" y="1792"/>
                </a:lnTo>
                <a:close/>
                <a:moveTo>
                  <a:pt x="0" y="1759"/>
                </a:moveTo>
                <a:lnTo>
                  <a:pt x="0" y="1742"/>
                </a:lnTo>
                <a:lnTo>
                  <a:pt x="721" y="1742"/>
                </a:lnTo>
                <a:lnTo>
                  <a:pt x="1441" y="1742"/>
                </a:lnTo>
                <a:lnTo>
                  <a:pt x="2162" y="1742"/>
                </a:lnTo>
                <a:lnTo>
                  <a:pt x="2882" y="1742"/>
                </a:lnTo>
                <a:lnTo>
                  <a:pt x="3603" y="1742"/>
                </a:lnTo>
                <a:lnTo>
                  <a:pt x="4323" y="1742"/>
                </a:lnTo>
                <a:lnTo>
                  <a:pt x="5044" y="1742"/>
                </a:lnTo>
                <a:lnTo>
                  <a:pt x="5764" y="1742"/>
                </a:lnTo>
                <a:lnTo>
                  <a:pt x="5764" y="1759"/>
                </a:lnTo>
                <a:lnTo>
                  <a:pt x="5044" y="1759"/>
                </a:lnTo>
                <a:lnTo>
                  <a:pt x="4323" y="1759"/>
                </a:lnTo>
                <a:lnTo>
                  <a:pt x="3603" y="1759"/>
                </a:lnTo>
                <a:lnTo>
                  <a:pt x="2882" y="1759"/>
                </a:lnTo>
                <a:lnTo>
                  <a:pt x="2162" y="1759"/>
                </a:lnTo>
                <a:lnTo>
                  <a:pt x="1441" y="1759"/>
                </a:lnTo>
                <a:lnTo>
                  <a:pt x="721" y="1759"/>
                </a:lnTo>
                <a:lnTo>
                  <a:pt x="0" y="1759"/>
                </a:lnTo>
                <a:close/>
                <a:moveTo>
                  <a:pt x="0" y="1726"/>
                </a:moveTo>
                <a:lnTo>
                  <a:pt x="0" y="1709"/>
                </a:lnTo>
                <a:lnTo>
                  <a:pt x="721" y="1709"/>
                </a:lnTo>
                <a:lnTo>
                  <a:pt x="1441" y="1709"/>
                </a:lnTo>
                <a:lnTo>
                  <a:pt x="2162" y="1709"/>
                </a:lnTo>
                <a:lnTo>
                  <a:pt x="2882" y="1709"/>
                </a:lnTo>
                <a:lnTo>
                  <a:pt x="3603" y="1709"/>
                </a:lnTo>
                <a:lnTo>
                  <a:pt x="4323" y="1709"/>
                </a:lnTo>
                <a:lnTo>
                  <a:pt x="5044" y="1709"/>
                </a:lnTo>
                <a:lnTo>
                  <a:pt x="5764" y="1709"/>
                </a:lnTo>
                <a:lnTo>
                  <a:pt x="5764" y="1726"/>
                </a:lnTo>
                <a:lnTo>
                  <a:pt x="5044" y="1726"/>
                </a:lnTo>
                <a:lnTo>
                  <a:pt x="4323" y="1726"/>
                </a:lnTo>
                <a:lnTo>
                  <a:pt x="3603" y="1726"/>
                </a:lnTo>
                <a:lnTo>
                  <a:pt x="2882" y="1726"/>
                </a:lnTo>
                <a:lnTo>
                  <a:pt x="2162" y="1726"/>
                </a:lnTo>
                <a:lnTo>
                  <a:pt x="1441" y="1726"/>
                </a:lnTo>
                <a:lnTo>
                  <a:pt x="721" y="1726"/>
                </a:lnTo>
                <a:lnTo>
                  <a:pt x="0" y="1726"/>
                </a:lnTo>
                <a:close/>
                <a:moveTo>
                  <a:pt x="0" y="1693"/>
                </a:moveTo>
                <a:lnTo>
                  <a:pt x="0" y="1676"/>
                </a:lnTo>
                <a:lnTo>
                  <a:pt x="721" y="1676"/>
                </a:lnTo>
                <a:lnTo>
                  <a:pt x="1441" y="1676"/>
                </a:lnTo>
                <a:lnTo>
                  <a:pt x="2162" y="1676"/>
                </a:lnTo>
                <a:lnTo>
                  <a:pt x="2882" y="1676"/>
                </a:lnTo>
                <a:lnTo>
                  <a:pt x="3603" y="1676"/>
                </a:lnTo>
                <a:lnTo>
                  <a:pt x="4323" y="1676"/>
                </a:lnTo>
                <a:lnTo>
                  <a:pt x="5044" y="1676"/>
                </a:lnTo>
                <a:lnTo>
                  <a:pt x="5764" y="1676"/>
                </a:lnTo>
                <a:lnTo>
                  <a:pt x="5764" y="1693"/>
                </a:lnTo>
                <a:lnTo>
                  <a:pt x="5044" y="1693"/>
                </a:lnTo>
                <a:lnTo>
                  <a:pt x="4323" y="1693"/>
                </a:lnTo>
                <a:lnTo>
                  <a:pt x="3603" y="1693"/>
                </a:lnTo>
                <a:lnTo>
                  <a:pt x="2882" y="1693"/>
                </a:lnTo>
                <a:lnTo>
                  <a:pt x="2162" y="1693"/>
                </a:lnTo>
                <a:lnTo>
                  <a:pt x="1441" y="1693"/>
                </a:lnTo>
                <a:lnTo>
                  <a:pt x="721" y="1693"/>
                </a:lnTo>
                <a:lnTo>
                  <a:pt x="0" y="1693"/>
                </a:lnTo>
                <a:close/>
                <a:moveTo>
                  <a:pt x="0" y="1660"/>
                </a:moveTo>
                <a:lnTo>
                  <a:pt x="0" y="1643"/>
                </a:lnTo>
                <a:lnTo>
                  <a:pt x="721" y="1643"/>
                </a:lnTo>
                <a:lnTo>
                  <a:pt x="1441" y="1643"/>
                </a:lnTo>
                <a:lnTo>
                  <a:pt x="2162" y="1643"/>
                </a:lnTo>
                <a:lnTo>
                  <a:pt x="2882" y="1643"/>
                </a:lnTo>
                <a:lnTo>
                  <a:pt x="3603" y="1643"/>
                </a:lnTo>
                <a:lnTo>
                  <a:pt x="4323" y="1643"/>
                </a:lnTo>
                <a:lnTo>
                  <a:pt x="5044" y="1643"/>
                </a:lnTo>
                <a:lnTo>
                  <a:pt x="5764" y="1643"/>
                </a:lnTo>
                <a:lnTo>
                  <a:pt x="5764" y="1660"/>
                </a:lnTo>
                <a:lnTo>
                  <a:pt x="5044" y="1660"/>
                </a:lnTo>
                <a:lnTo>
                  <a:pt x="4323" y="1660"/>
                </a:lnTo>
                <a:lnTo>
                  <a:pt x="3603" y="1660"/>
                </a:lnTo>
                <a:lnTo>
                  <a:pt x="2882" y="1660"/>
                </a:lnTo>
                <a:lnTo>
                  <a:pt x="2162" y="1660"/>
                </a:lnTo>
                <a:lnTo>
                  <a:pt x="1441" y="1660"/>
                </a:lnTo>
                <a:lnTo>
                  <a:pt x="721" y="1660"/>
                </a:lnTo>
                <a:lnTo>
                  <a:pt x="0" y="1660"/>
                </a:lnTo>
                <a:close/>
                <a:moveTo>
                  <a:pt x="0" y="1627"/>
                </a:moveTo>
                <a:lnTo>
                  <a:pt x="0" y="1611"/>
                </a:lnTo>
                <a:lnTo>
                  <a:pt x="721" y="1611"/>
                </a:lnTo>
                <a:lnTo>
                  <a:pt x="1441" y="1611"/>
                </a:lnTo>
                <a:lnTo>
                  <a:pt x="2162" y="1611"/>
                </a:lnTo>
                <a:lnTo>
                  <a:pt x="2882" y="1611"/>
                </a:lnTo>
                <a:lnTo>
                  <a:pt x="3603" y="1611"/>
                </a:lnTo>
                <a:lnTo>
                  <a:pt x="4323" y="1611"/>
                </a:lnTo>
                <a:lnTo>
                  <a:pt x="5044" y="1611"/>
                </a:lnTo>
                <a:lnTo>
                  <a:pt x="5764" y="1611"/>
                </a:lnTo>
                <a:lnTo>
                  <a:pt x="5764" y="1627"/>
                </a:lnTo>
                <a:lnTo>
                  <a:pt x="5044" y="1627"/>
                </a:lnTo>
                <a:lnTo>
                  <a:pt x="4323" y="1627"/>
                </a:lnTo>
                <a:lnTo>
                  <a:pt x="3603" y="1627"/>
                </a:lnTo>
                <a:lnTo>
                  <a:pt x="2882" y="1627"/>
                </a:lnTo>
                <a:lnTo>
                  <a:pt x="2162" y="1627"/>
                </a:lnTo>
                <a:lnTo>
                  <a:pt x="1441" y="1627"/>
                </a:lnTo>
                <a:lnTo>
                  <a:pt x="721" y="1627"/>
                </a:lnTo>
                <a:lnTo>
                  <a:pt x="0" y="1627"/>
                </a:lnTo>
                <a:close/>
                <a:moveTo>
                  <a:pt x="0" y="1595"/>
                </a:moveTo>
                <a:lnTo>
                  <a:pt x="0" y="1578"/>
                </a:lnTo>
                <a:lnTo>
                  <a:pt x="721" y="1578"/>
                </a:lnTo>
                <a:lnTo>
                  <a:pt x="1441" y="1578"/>
                </a:lnTo>
                <a:lnTo>
                  <a:pt x="2162" y="1578"/>
                </a:lnTo>
                <a:lnTo>
                  <a:pt x="2882" y="1578"/>
                </a:lnTo>
                <a:lnTo>
                  <a:pt x="3603" y="1578"/>
                </a:lnTo>
                <a:lnTo>
                  <a:pt x="4323" y="1578"/>
                </a:lnTo>
                <a:lnTo>
                  <a:pt x="5044" y="1578"/>
                </a:lnTo>
                <a:lnTo>
                  <a:pt x="5764" y="1578"/>
                </a:lnTo>
                <a:lnTo>
                  <a:pt x="5764" y="1595"/>
                </a:lnTo>
                <a:lnTo>
                  <a:pt x="5044" y="1595"/>
                </a:lnTo>
                <a:lnTo>
                  <a:pt x="4323" y="1595"/>
                </a:lnTo>
                <a:lnTo>
                  <a:pt x="3603" y="1595"/>
                </a:lnTo>
                <a:lnTo>
                  <a:pt x="2882" y="1595"/>
                </a:lnTo>
                <a:lnTo>
                  <a:pt x="2162" y="1595"/>
                </a:lnTo>
                <a:lnTo>
                  <a:pt x="1441" y="1595"/>
                </a:lnTo>
                <a:lnTo>
                  <a:pt x="721" y="1595"/>
                </a:lnTo>
                <a:lnTo>
                  <a:pt x="0" y="1595"/>
                </a:lnTo>
                <a:close/>
                <a:moveTo>
                  <a:pt x="0" y="1562"/>
                </a:moveTo>
                <a:lnTo>
                  <a:pt x="0" y="1545"/>
                </a:lnTo>
                <a:lnTo>
                  <a:pt x="721" y="1545"/>
                </a:lnTo>
                <a:lnTo>
                  <a:pt x="1441" y="1545"/>
                </a:lnTo>
                <a:lnTo>
                  <a:pt x="2162" y="1545"/>
                </a:lnTo>
                <a:lnTo>
                  <a:pt x="2882" y="1545"/>
                </a:lnTo>
                <a:lnTo>
                  <a:pt x="3603" y="1545"/>
                </a:lnTo>
                <a:lnTo>
                  <a:pt x="4323" y="1545"/>
                </a:lnTo>
                <a:lnTo>
                  <a:pt x="5044" y="1545"/>
                </a:lnTo>
                <a:lnTo>
                  <a:pt x="5764" y="1545"/>
                </a:lnTo>
                <a:lnTo>
                  <a:pt x="5764" y="1562"/>
                </a:lnTo>
                <a:lnTo>
                  <a:pt x="5044" y="1562"/>
                </a:lnTo>
                <a:lnTo>
                  <a:pt x="4323" y="1562"/>
                </a:lnTo>
                <a:lnTo>
                  <a:pt x="3603" y="1562"/>
                </a:lnTo>
                <a:lnTo>
                  <a:pt x="2882" y="1562"/>
                </a:lnTo>
                <a:lnTo>
                  <a:pt x="2162" y="1562"/>
                </a:lnTo>
                <a:lnTo>
                  <a:pt x="1441" y="1562"/>
                </a:lnTo>
                <a:lnTo>
                  <a:pt x="721" y="1562"/>
                </a:lnTo>
                <a:lnTo>
                  <a:pt x="0" y="1562"/>
                </a:lnTo>
                <a:close/>
                <a:moveTo>
                  <a:pt x="0" y="1529"/>
                </a:moveTo>
                <a:lnTo>
                  <a:pt x="0" y="1512"/>
                </a:lnTo>
                <a:lnTo>
                  <a:pt x="721" y="1512"/>
                </a:lnTo>
                <a:lnTo>
                  <a:pt x="1441" y="1512"/>
                </a:lnTo>
                <a:lnTo>
                  <a:pt x="2162" y="1512"/>
                </a:lnTo>
                <a:lnTo>
                  <a:pt x="2882" y="1512"/>
                </a:lnTo>
                <a:lnTo>
                  <a:pt x="3603" y="1512"/>
                </a:lnTo>
                <a:lnTo>
                  <a:pt x="4323" y="1512"/>
                </a:lnTo>
                <a:lnTo>
                  <a:pt x="5044" y="1512"/>
                </a:lnTo>
                <a:lnTo>
                  <a:pt x="5764" y="1512"/>
                </a:lnTo>
                <a:lnTo>
                  <a:pt x="5764" y="1529"/>
                </a:lnTo>
                <a:lnTo>
                  <a:pt x="5044" y="1529"/>
                </a:lnTo>
                <a:lnTo>
                  <a:pt x="4323" y="1529"/>
                </a:lnTo>
                <a:lnTo>
                  <a:pt x="3603" y="1529"/>
                </a:lnTo>
                <a:lnTo>
                  <a:pt x="2882" y="1529"/>
                </a:lnTo>
                <a:lnTo>
                  <a:pt x="2162" y="1529"/>
                </a:lnTo>
                <a:lnTo>
                  <a:pt x="1441" y="1529"/>
                </a:lnTo>
                <a:lnTo>
                  <a:pt x="721" y="1529"/>
                </a:lnTo>
                <a:lnTo>
                  <a:pt x="0" y="1529"/>
                </a:lnTo>
                <a:close/>
                <a:moveTo>
                  <a:pt x="0" y="1496"/>
                </a:moveTo>
                <a:lnTo>
                  <a:pt x="0" y="1479"/>
                </a:lnTo>
                <a:lnTo>
                  <a:pt x="721" y="1479"/>
                </a:lnTo>
                <a:lnTo>
                  <a:pt x="1441" y="1479"/>
                </a:lnTo>
                <a:lnTo>
                  <a:pt x="2162" y="1479"/>
                </a:lnTo>
                <a:lnTo>
                  <a:pt x="2882" y="1479"/>
                </a:lnTo>
                <a:lnTo>
                  <a:pt x="3603" y="1479"/>
                </a:lnTo>
                <a:lnTo>
                  <a:pt x="4323" y="1479"/>
                </a:lnTo>
                <a:lnTo>
                  <a:pt x="5044" y="1479"/>
                </a:lnTo>
                <a:lnTo>
                  <a:pt x="5764" y="1479"/>
                </a:lnTo>
                <a:lnTo>
                  <a:pt x="5764" y="1496"/>
                </a:lnTo>
                <a:lnTo>
                  <a:pt x="5044" y="1496"/>
                </a:lnTo>
                <a:lnTo>
                  <a:pt x="4323" y="1496"/>
                </a:lnTo>
                <a:lnTo>
                  <a:pt x="3603" y="1496"/>
                </a:lnTo>
                <a:lnTo>
                  <a:pt x="2882" y="1496"/>
                </a:lnTo>
                <a:lnTo>
                  <a:pt x="2162" y="1496"/>
                </a:lnTo>
                <a:lnTo>
                  <a:pt x="1441" y="1496"/>
                </a:lnTo>
                <a:lnTo>
                  <a:pt x="721" y="1496"/>
                </a:lnTo>
                <a:lnTo>
                  <a:pt x="0" y="1496"/>
                </a:lnTo>
                <a:close/>
                <a:moveTo>
                  <a:pt x="0" y="1463"/>
                </a:moveTo>
                <a:lnTo>
                  <a:pt x="0" y="1446"/>
                </a:lnTo>
                <a:lnTo>
                  <a:pt x="721" y="1446"/>
                </a:lnTo>
                <a:lnTo>
                  <a:pt x="1441" y="1446"/>
                </a:lnTo>
                <a:lnTo>
                  <a:pt x="2162" y="1446"/>
                </a:lnTo>
                <a:lnTo>
                  <a:pt x="2882" y="1446"/>
                </a:lnTo>
                <a:lnTo>
                  <a:pt x="3603" y="1446"/>
                </a:lnTo>
                <a:lnTo>
                  <a:pt x="4323" y="1446"/>
                </a:lnTo>
                <a:lnTo>
                  <a:pt x="5044" y="1446"/>
                </a:lnTo>
                <a:lnTo>
                  <a:pt x="5764" y="1446"/>
                </a:lnTo>
                <a:lnTo>
                  <a:pt x="5764" y="1463"/>
                </a:lnTo>
                <a:lnTo>
                  <a:pt x="5044" y="1463"/>
                </a:lnTo>
                <a:lnTo>
                  <a:pt x="4323" y="1463"/>
                </a:lnTo>
                <a:lnTo>
                  <a:pt x="3603" y="1463"/>
                </a:lnTo>
                <a:lnTo>
                  <a:pt x="2882" y="1463"/>
                </a:lnTo>
                <a:lnTo>
                  <a:pt x="2162" y="1463"/>
                </a:lnTo>
                <a:lnTo>
                  <a:pt x="1441" y="1463"/>
                </a:lnTo>
                <a:lnTo>
                  <a:pt x="721" y="1463"/>
                </a:lnTo>
                <a:lnTo>
                  <a:pt x="0" y="1463"/>
                </a:lnTo>
                <a:close/>
                <a:moveTo>
                  <a:pt x="0" y="1430"/>
                </a:moveTo>
                <a:lnTo>
                  <a:pt x="0" y="1414"/>
                </a:lnTo>
                <a:lnTo>
                  <a:pt x="721" y="1414"/>
                </a:lnTo>
                <a:lnTo>
                  <a:pt x="1441" y="1414"/>
                </a:lnTo>
                <a:lnTo>
                  <a:pt x="2162" y="1414"/>
                </a:lnTo>
                <a:lnTo>
                  <a:pt x="2882" y="1414"/>
                </a:lnTo>
                <a:lnTo>
                  <a:pt x="3603" y="1414"/>
                </a:lnTo>
                <a:lnTo>
                  <a:pt x="4323" y="1414"/>
                </a:lnTo>
                <a:lnTo>
                  <a:pt x="5044" y="1414"/>
                </a:lnTo>
                <a:lnTo>
                  <a:pt x="5764" y="1414"/>
                </a:lnTo>
                <a:lnTo>
                  <a:pt x="5764" y="1430"/>
                </a:lnTo>
                <a:lnTo>
                  <a:pt x="5044" y="1430"/>
                </a:lnTo>
                <a:lnTo>
                  <a:pt x="4323" y="1430"/>
                </a:lnTo>
                <a:lnTo>
                  <a:pt x="3603" y="1430"/>
                </a:lnTo>
                <a:lnTo>
                  <a:pt x="2882" y="1430"/>
                </a:lnTo>
                <a:lnTo>
                  <a:pt x="2162" y="1430"/>
                </a:lnTo>
                <a:lnTo>
                  <a:pt x="1441" y="1430"/>
                </a:lnTo>
                <a:lnTo>
                  <a:pt x="721" y="1430"/>
                </a:lnTo>
                <a:lnTo>
                  <a:pt x="0" y="1430"/>
                </a:lnTo>
                <a:close/>
                <a:moveTo>
                  <a:pt x="0" y="1397"/>
                </a:moveTo>
                <a:lnTo>
                  <a:pt x="0" y="1381"/>
                </a:lnTo>
                <a:lnTo>
                  <a:pt x="721" y="1381"/>
                </a:lnTo>
                <a:lnTo>
                  <a:pt x="1441" y="1381"/>
                </a:lnTo>
                <a:lnTo>
                  <a:pt x="2162" y="1381"/>
                </a:lnTo>
                <a:lnTo>
                  <a:pt x="2882" y="1381"/>
                </a:lnTo>
                <a:lnTo>
                  <a:pt x="3603" y="1381"/>
                </a:lnTo>
                <a:lnTo>
                  <a:pt x="4323" y="1381"/>
                </a:lnTo>
                <a:lnTo>
                  <a:pt x="5044" y="1381"/>
                </a:lnTo>
                <a:lnTo>
                  <a:pt x="5764" y="1381"/>
                </a:lnTo>
                <a:lnTo>
                  <a:pt x="5764" y="1397"/>
                </a:lnTo>
                <a:lnTo>
                  <a:pt x="5044" y="1397"/>
                </a:lnTo>
                <a:lnTo>
                  <a:pt x="4323" y="1397"/>
                </a:lnTo>
                <a:lnTo>
                  <a:pt x="3603" y="1397"/>
                </a:lnTo>
                <a:lnTo>
                  <a:pt x="2882" y="1397"/>
                </a:lnTo>
                <a:lnTo>
                  <a:pt x="2162" y="1397"/>
                </a:lnTo>
                <a:lnTo>
                  <a:pt x="1441" y="1397"/>
                </a:lnTo>
                <a:lnTo>
                  <a:pt x="721" y="1397"/>
                </a:lnTo>
                <a:lnTo>
                  <a:pt x="0" y="1397"/>
                </a:lnTo>
                <a:close/>
                <a:moveTo>
                  <a:pt x="0" y="1365"/>
                </a:moveTo>
                <a:lnTo>
                  <a:pt x="0" y="1348"/>
                </a:lnTo>
                <a:lnTo>
                  <a:pt x="721" y="1348"/>
                </a:lnTo>
                <a:lnTo>
                  <a:pt x="1441" y="1348"/>
                </a:lnTo>
                <a:lnTo>
                  <a:pt x="2162" y="1348"/>
                </a:lnTo>
                <a:lnTo>
                  <a:pt x="2882" y="1348"/>
                </a:lnTo>
                <a:lnTo>
                  <a:pt x="3603" y="1348"/>
                </a:lnTo>
                <a:lnTo>
                  <a:pt x="4323" y="1348"/>
                </a:lnTo>
                <a:lnTo>
                  <a:pt x="5044" y="1348"/>
                </a:lnTo>
                <a:lnTo>
                  <a:pt x="5764" y="1348"/>
                </a:lnTo>
                <a:lnTo>
                  <a:pt x="5764" y="1365"/>
                </a:lnTo>
                <a:lnTo>
                  <a:pt x="5044" y="1365"/>
                </a:lnTo>
                <a:lnTo>
                  <a:pt x="4323" y="1365"/>
                </a:lnTo>
                <a:lnTo>
                  <a:pt x="3603" y="1365"/>
                </a:lnTo>
                <a:lnTo>
                  <a:pt x="2882" y="1365"/>
                </a:lnTo>
                <a:lnTo>
                  <a:pt x="2162" y="1365"/>
                </a:lnTo>
                <a:lnTo>
                  <a:pt x="1441" y="1365"/>
                </a:lnTo>
                <a:lnTo>
                  <a:pt x="721" y="1365"/>
                </a:lnTo>
                <a:lnTo>
                  <a:pt x="0" y="1365"/>
                </a:lnTo>
                <a:close/>
                <a:moveTo>
                  <a:pt x="0" y="1332"/>
                </a:moveTo>
                <a:lnTo>
                  <a:pt x="0" y="1315"/>
                </a:lnTo>
                <a:lnTo>
                  <a:pt x="721" y="1315"/>
                </a:lnTo>
                <a:lnTo>
                  <a:pt x="1441" y="1315"/>
                </a:lnTo>
                <a:lnTo>
                  <a:pt x="2162" y="1315"/>
                </a:lnTo>
                <a:lnTo>
                  <a:pt x="2882" y="1315"/>
                </a:lnTo>
                <a:lnTo>
                  <a:pt x="3603" y="1315"/>
                </a:lnTo>
                <a:lnTo>
                  <a:pt x="4323" y="1315"/>
                </a:lnTo>
                <a:lnTo>
                  <a:pt x="5044" y="1315"/>
                </a:lnTo>
                <a:lnTo>
                  <a:pt x="5764" y="1315"/>
                </a:lnTo>
                <a:lnTo>
                  <a:pt x="5764" y="1332"/>
                </a:lnTo>
                <a:lnTo>
                  <a:pt x="5044" y="1332"/>
                </a:lnTo>
                <a:lnTo>
                  <a:pt x="4323" y="1332"/>
                </a:lnTo>
                <a:lnTo>
                  <a:pt x="3603" y="1332"/>
                </a:lnTo>
                <a:lnTo>
                  <a:pt x="2882" y="1332"/>
                </a:lnTo>
                <a:lnTo>
                  <a:pt x="2162" y="1332"/>
                </a:lnTo>
                <a:lnTo>
                  <a:pt x="1441" y="1332"/>
                </a:lnTo>
                <a:lnTo>
                  <a:pt x="721" y="1332"/>
                </a:lnTo>
                <a:lnTo>
                  <a:pt x="0" y="1332"/>
                </a:lnTo>
                <a:close/>
                <a:moveTo>
                  <a:pt x="0" y="1299"/>
                </a:moveTo>
                <a:lnTo>
                  <a:pt x="0" y="1282"/>
                </a:lnTo>
                <a:lnTo>
                  <a:pt x="721" y="1282"/>
                </a:lnTo>
                <a:lnTo>
                  <a:pt x="1441" y="1282"/>
                </a:lnTo>
                <a:lnTo>
                  <a:pt x="2162" y="1282"/>
                </a:lnTo>
                <a:lnTo>
                  <a:pt x="2882" y="1282"/>
                </a:lnTo>
                <a:lnTo>
                  <a:pt x="3603" y="1282"/>
                </a:lnTo>
                <a:lnTo>
                  <a:pt x="4323" y="1282"/>
                </a:lnTo>
                <a:lnTo>
                  <a:pt x="5044" y="1282"/>
                </a:lnTo>
                <a:lnTo>
                  <a:pt x="5764" y="1282"/>
                </a:lnTo>
                <a:lnTo>
                  <a:pt x="5764" y="1299"/>
                </a:lnTo>
                <a:lnTo>
                  <a:pt x="5044" y="1299"/>
                </a:lnTo>
                <a:lnTo>
                  <a:pt x="4323" y="1299"/>
                </a:lnTo>
                <a:lnTo>
                  <a:pt x="3603" y="1299"/>
                </a:lnTo>
                <a:lnTo>
                  <a:pt x="2882" y="1299"/>
                </a:lnTo>
                <a:lnTo>
                  <a:pt x="2162" y="1299"/>
                </a:lnTo>
                <a:lnTo>
                  <a:pt x="1441" y="1299"/>
                </a:lnTo>
                <a:lnTo>
                  <a:pt x="721" y="1299"/>
                </a:lnTo>
                <a:lnTo>
                  <a:pt x="0" y="1299"/>
                </a:lnTo>
                <a:close/>
                <a:moveTo>
                  <a:pt x="0" y="1266"/>
                </a:moveTo>
                <a:lnTo>
                  <a:pt x="0" y="1249"/>
                </a:lnTo>
                <a:lnTo>
                  <a:pt x="721" y="1249"/>
                </a:lnTo>
                <a:lnTo>
                  <a:pt x="1441" y="1249"/>
                </a:lnTo>
                <a:lnTo>
                  <a:pt x="2162" y="1249"/>
                </a:lnTo>
                <a:lnTo>
                  <a:pt x="2882" y="1249"/>
                </a:lnTo>
                <a:lnTo>
                  <a:pt x="3603" y="1249"/>
                </a:lnTo>
                <a:lnTo>
                  <a:pt x="4323" y="1249"/>
                </a:lnTo>
                <a:lnTo>
                  <a:pt x="5044" y="1249"/>
                </a:lnTo>
                <a:lnTo>
                  <a:pt x="5764" y="1249"/>
                </a:lnTo>
                <a:lnTo>
                  <a:pt x="5764" y="1266"/>
                </a:lnTo>
                <a:lnTo>
                  <a:pt x="5044" y="1266"/>
                </a:lnTo>
                <a:lnTo>
                  <a:pt x="4323" y="1266"/>
                </a:lnTo>
                <a:lnTo>
                  <a:pt x="3603" y="1266"/>
                </a:lnTo>
                <a:lnTo>
                  <a:pt x="2882" y="1266"/>
                </a:lnTo>
                <a:lnTo>
                  <a:pt x="2162" y="1266"/>
                </a:lnTo>
                <a:lnTo>
                  <a:pt x="1441" y="1266"/>
                </a:lnTo>
                <a:lnTo>
                  <a:pt x="721" y="1266"/>
                </a:lnTo>
                <a:lnTo>
                  <a:pt x="0" y="1266"/>
                </a:lnTo>
                <a:close/>
                <a:moveTo>
                  <a:pt x="0" y="1233"/>
                </a:moveTo>
                <a:lnTo>
                  <a:pt x="0" y="1216"/>
                </a:lnTo>
                <a:lnTo>
                  <a:pt x="721" y="1216"/>
                </a:lnTo>
                <a:lnTo>
                  <a:pt x="1441" y="1216"/>
                </a:lnTo>
                <a:lnTo>
                  <a:pt x="2162" y="1216"/>
                </a:lnTo>
                <a:lnTo>
                  <a:pt x="2882" y="1216"/>
                </a:lnTo>
                <a:lnTo>
                  <a:pt x="3603" y="1216"/>
                </a:lnTo>
                <a:lnTo>
                  <a:pt x="4323" y="1216"/>
                </a:lnTo>
                <a:lnTo>
                  <a:pt x="5044" y="1216"/>
                </a:lnTo>
                <a:lnTo>
                  <a:pt x="5764" y="1216"/>
                </a:lnTo>
                <a:lnTo>
                  <a:pt x="5764" y="1233"/>
                </a:lnTo>
                <a:lnTo>
                  <a:pt x="5044" y="1233"/>
                </a:lnTo>
                <a:lnTo>
                  <a:pt x="4323" y="1233"/>
                </a:lnTo>
                <a:lnTo>
                  <a:pt x="3603" y="1233"/>
                </a:lnTo>
                <a:lnTo>
                  <a:pt x="2882" y="1233"/>
                </a:lnTo>
                <a:lnTo>
                  <a:pt x="2162" y="1233"/>
                </a:lnTo>
                <a:lnTo>
                  <a:pt x="1441" y="1233"/>
                </a:lnTo>
                <a:lnTo>
                  <a:pt x="721" y="1233"/>
                </a:lnTo>
                <a:lnTo>
                  <a:pt x="0" y="1233"/>
                </a:lnTo>
                <a:close/>
                <a:moveTo>
                  <a:pt x="0" y="1200"/>
                </a:moveTo>
                <a:lnTo>
                  <a:pt x="0" y="1184"/>
                </a:lnTo>
                <a:lnTo>
                  <a:pt x="721" y="1184"/>
                </a:lnTo>
                <a:lnTo>
                  <a:pt x="1441" y="1184"/>
                </a:lnTo>
                <a:lnTo>
                  <a:pt x="2162" y="1184"/>
                </a:lnTo>
                <a:lnTo>
                  <a:pt x="2882" y="1184"/>
                </a:lnTo>
                <a:lnTo>
                  <a:pt x="3603" y="1184"/>
                </a:lnTo>
                <a:lnTo>
                  <a:pt x="4323" y="1184"/>
                </a:lnTo>
                <a:lnTo>
                  <a:pt x="5044" y="1184"/>
                </a:lnTo>
                <a:lnTo>
                  <a:pt x="5764" y="1184"/>
                </a:lnTo>
                <a:lnTo>
                  <a:pt x="5764" y="1200"/>
                </a:lnTo>
                <a:lnTo>
                  <a:pt x="5044" y="1200"/>
                </a:lnTo>
                <a:lnTo>
                  <a:pt x="4323" y="1200"/>
                </a:lnTo>
                <a:lnTo>
                  <a:pt x="3603" y="1200"/>
                </a:lnTo>
                <a:lnTo>
                  <a:pt x="2882" y="1200"/>
                </a:lnTo>
                <a:lnTo>
                  <a:pt x="2162" y="1200"/>
                </a:lnTo>
                <a:lnTo>
                  <a:pt x="1441" y="1200"/>
                </a:lnTo>
                <a:lnTo>
                  <a:pt x="721" y="1200"/>
                </a:lnTo>
                <a:lnTo>
                  <a:pt x="0" y="1200"/>
                </a:lnTo>
                <a:close/>
                <a:moveTo>
                  <a:pt x="0" y="1168"/>
                </a:moveTo>
                <a:lnTo>
                  <a:pt x="0" y="1151"/>
                </a:lnTo>
                <a:lnTo>
                  <a:pt x="721" y="1151"/>
                </a:lnTo>
                <a:lnTo>
                  <a:pt x="1441" y="1151"/>
                </a:lnTo>
                <a:lnTo>
                  <a:pt x="2162" y="1151"/>
                </a:lnTo>
                <a:lnTo>
                  <a:pt x="2882" y="1151"/>
                </a:lnTo>
                <a:lnTo>
                  <a:pt x="3603" y="1151"/>
                </a:lnTo>
                <a:lnTo>
                  <a:pt x="4323" y="1151"/>
                </a:lnTo>
                <a:lnTo>
                  <a:pt x="5044" y="1151"/>
                </a:lnTo>
                <a:lnTo>
                  <a:pt x="5764" y="1151"/>
                </a:lnTo>
                <a:lnTo>
                  <a:pt x="5764" y="1168"/>
                </a:lnTo>
                <a:lnTo>
                  <a:pt x="5044" y="1168"/>
                </a:lnTo>
                <a:lnTo>
                  <a:pt x="4323" y="1168"/>
                </a:lnTo>
                <a:lnTo>
                  <a:pt x="3603" y="1168"/>
                </a:lnTo>
                <a:lnTo>
                  <a:pt x="2882" y="1168"/>
                </a:lnTo>
                <a:lnTo>
                  <a:pt x="2162" y="1168"/>
                </a:lnTo>
                <a:lnTo>
                  <a:pt x="1441" y="1168"/>
                </a:lnTo>
                <a:lnTo>
                  <a:pt x="721" y="1168"/>
                </a:lnTo>
                <a:lnTo>
                  <a:pt x="0" y="1168"/>
                </a:lnTo>
                <a:close/>
                <a:moveTo>
                  <a:pt x="0" y="1135"/>
                </a:moveTo>
                <a:lnTo>
                  <a:pt x="0" y="1118"/>
                </a:lnTo>
                <a:lnTo>
                  <a:pt x="721" y="1118"/>
                </a:lnTo>
                <a:lnTo>
                  <a:pt x="1441" y="1118"/>
                </a:lnTo>
                <a:lnTo>
                  <a:pt x="2162" y="1118"/>
                </a:lnTo>
                <a:lnTo>
                  <a:pt x="2882" y="1118"/>
                </a:lnTo>
                <a:lnTo>
                  <a:pt x="3603" y="1118"/>
                </a:lnTo>
                <a:lnTo>
                  <a:pt x="4323" y="1118"/>
                </a:lnTo>
                <a:lnTo>
                  <a:pt x="5044" y="1118"/>
                </a:lnTo>
                <a:lnTo>
                  <a:pt x="5764" y="1118"/>
                </a:lnTo>
                <a:lnTo>
                  <a:pt x="5764" y="1135"/>
                </a:lnTo>
                <a:lnTo>
                  <a:pt x="5044" y="1135"/>
                </a:lnTo>
                <a:lnTo>
                  <a:pt x="4323" y="1135"/>
                </a:lnTo>
                <a:lnTo>
                  <a:pt x="3603" y="1135"/>
                </a:lnTo>
                <a:lnTo>
                  <a:pt x="2882" y="1135"/>
                </a:lnTo>
                <a:lnTo>
                  <a:pt x="2162" y="1135"/>
                </a:lnTo>
                <a:lnTo>
                  <a:pt x="1441" y="1135"/>
                </a:lnTo>
                <a:lnTo>
                  <a:pt x="721" y="1135"/>
                </a:lnTo>
                <a:lnTo>
                  <a:pt x="0" y="1135"/>
                </a:lnTo>
                <a:close/>
                <a:moveTo>
                  <a:pt x="0" y="1102"/>
                </a:moveTo>
                <a:lnTo>
                  <a:pt x="0" y="1085"/>
                </a:lnTo>
                <a:lnTo>
                  <a:pt x="721" y="1085"/>
                </a:lnTo>
                <a:lnTo>
                  <a:pt x="1441" y="1085"/>
                </a:lnTo>
                <a:lnTo>
                  <a:pt x="2162" y="1085"/>
                </a:lnTo>
                <a:lnTo>
                  <a:pt x="2882" y="1085"/>
                </a:lnTo>
                <a:lnTo>
                  <a:pt x="3603" y="1085"/>
                </a:lnTo>
                <a:lnTo>
                  <a:pt x="4323" y="1085"/>
                </a:lnTo>
                <a:lnTo>
                  <a:pt x="5044" y="1085"/>
                </a:lnTo>
                <a:lnTo>
                  <a:pt x="5764" y="1085"/>
                </a:lnTo>
                <a:lnTo>
                  <a:pt x="5764" y="1102"/>
                </a:lnTo>
                <a:lnTo>
                  <a:pt x="5044" y="1102"/>
                </a:lnTo>
                <a:lnTo>
                  <a:pt x="4323" y="1102"/>
                </a:lnTo>
                <a:lnTo>
                  <a:pt x="3603" y="1102"/>
                </a:lnTo>
                <a:lnTo>
                  <a:pt x="2882" y="1102"/>
                </a:lnTo>
                <a:lnTo>
                  <a:pt x="2162" y="1102"/>
                </a:lnTo>
                <a:lnTo>
                  <a:pt x="1441" y="1102"/>
                </a:lnTo>
                <a:lnTo>
                  <a:pt x="721" y="1102"/>
                </a:lnTo>
                <a:lnTo>
                  <a:pt x="0" y="1102"/>
                </a:lnTo>
                <a:close/>
                <a:moveTo>
                  <a:pt x="0" y="1069"/>
                </a:moveTo>
                <a:lnTo>
                  <a:pt x="0" y="1052"/>
                </a:lnTo>
                <a:lnTo>
                  <a:pt x="721" y="1052"/>
                </a:lnTo>
                <a:lnTo>
                  <a:pt x="1441" y="1052"/>
                </a:lnTo>
                <a:lnTo>
                  <a:pt x="2162" y="1052"/>
                </a:lnTo>
                <a:lnTo>
                  <a:pt x="2882" y="1052"/>
                </a:lnTo>
                <a:lnTo>
                  <a:pt x="3603" y="1052"/>
                </a:lnTo>
                <a:lnTo>
                  <a:pt x="4323" y="1052"/>
                </a:lnTo>
                <a:lnTo>
                  <a:pt x="5044" y="1052"/>
                </a:lnTo>
                <a:lnTo>
                  <a:pt x="5764" y="1052"/>
                </a:lnTo>
                <a:lnTo>
                  <a:pt x="5764" y="1069"/>
                </a:lnTo>
                <a:lnTo>
                  <a:pt x="5044" y="1069"/>
                </a:lnTo>
                <a:lnTo>
                  <a:pt x="4323" y="1069"/>
                </a:lnTo>
                <a:lnTo>
                  <a:pt x="3603" y="1069"/>
                </a:lnTo>
                <a:lnTo>
                  <a:pt x="2882" y="1069"/>
                </a:lnTo>
                <a:lnTo>
                  <a:pt x="2162" y="1069"/>
                </a:lnTo>
                <a:lnTo>
                  <a:pt x="1441" y="1069"/>
                </a:lnTo>
                <a:lnTo>
                  <a:pt x="721" y="1069"/>
                </a:lnTo>
                <a:lnTo>
                  <a:pt x="0" y="1069"/>
                </a:lnTo>
                <a:close/>
                <a:moveTo>
                  <a:pt x="0" y="1036"/>
                </a:moveTo>
                <a:lnTo>
                  <a:pt x="0" y="1019"/>
                </a:lnTo>
                <a:lnTo>
                  <a:pt x="721" y="1019"/>
                </a:lnTo>
                <a:lnTo>
                  <a:pt x="1441" y="1019"/>
                </a:lnTo>
                <a:lnTo>
                  <a:pt x="2162" y="1019"/>
                </a:lnTo>
                <a:lnTo>
                  <a:pt x="2882" y="1019"/>
                </a:lnTo>
                <a:lnTo>
                  <a:pt x="3603" y="1019"/>
                </a:lnTo>
                <a:lnTo>
                  <a:pt x="4323" y="1019"/>
                </a:lnTo>
                <a:lnTo>
                  <a:pt x="5044" y="1019"/>
                </a:lnTo>
                <a:lnTo>
                  <a:pt x="5764" y="1019"/>
                </a:lnTo>
                <a:lnTo>
                  <a:pt x="5764" y="1036"/>
                </a:lnTo>
                <a:lnTo>
                  <a:pt x="5044" y="1036"/>
                </a:lnTo>
                <a:lnTo>
                  <a:pt x="4323" y="1036"/>
                </a:lnTo>
                <a:lnTo>
                  <a:pt x="3603" y="1036"/>
                </a:lnTo>
                <a:lnTo>
                  <a:pt x="2882" y="1036"/>
                </a:lnTo>
                <a:lnTo>
                  <a:pt x="2162" y="1036"/>
                </a:lnTo>
                <a:lnTo>
                  <a:pt x="1441" y="1036"/>
                </a:lnTo>
                <a:lnTo>
                  <a:pt x="721" y="1036"/>
                </a:lnTo>
                <a:lnTo>
                  <a:pt x="0" y="1036"/>
                </a:lnTo>
                <a:close/>
                <a:moveTo>
                  <a:pt x="0" y="1003"/>
                </a:moveTo>
                <a:lnTo>
                  <a:pt x="0" y="986"/>
                </a:lnTo>
                <a:lnTo>
                  <a:pt x="721" y="986"/>
                </a:lnTo>
                <a:lnTo>
                  <a:pt x="1441" y="986"/>
                </a:lnTo>
                <a:lnTo>
                  <a:pt x="2162" y="986"/>
                </a:lnTo>
                <a:lnTo>
                  <a:pt x="2882" y="986"/>
                </a:lnTo>
                <a:lnTo>
                  <a:pt x="3603" y="986"/>
                </a:lnTo>
                <a:lnTo>
                  <a:pt x="4323" y="986"/>
                </a:lnTo>
                <a:lnTo>
                  <a:pt x="5044" y="986"/>
                </a:lnTo>
                <a:lnTo>
                  <a:pt x="5764" y="986"/>
                </a:lnTo>
                <a:lnTo>
                  <a:pt x="5764" y="1003"/>
                </a:lnTo>
                <a:lnTo>
                  <a:pt x="5044" y="1003"/>
                </a:lnTo>
                <a:lnTo>
                  <a:pt x="4323" y="1003"/>
                </a:lnTo>
                <a:lnTo>
                  <a:pt x="3603" y="1003"/>
                </a:lnTo>
                <a:lnTo>
                  <a:pt x="2882" y="1003"/>
                </a:lnTo>
                <a:lnTo>
                  <a:pt x="2162" y="1003"/>
                </a:lnTo>
                <a:lnTo>
                  <a:pt x="1441" y="1003"/>
                </a:lnTo>
                <a:lnTo>
                  <a:pt x="721" y="1003"/>
                </a:lnTo>
                <a:lnTo>
                  <a:pt x="0" y="1003"/>
                </a:lnTo>
                <a:close/>
                <a:moveTo>
                  <a:pt x="0" y="970"/>
                </a:moveTo>
                <a:lnTo>
                  <a:pt x="0" y="954"/>
                </a:lnTo>
                <a:lnTo>
                  <a:pt x="721" y="954"/>
                </a:lnTo>
                <a:lnTo>
                  <a:pt x="1441" y="954"/>
                </a:lnTo>
                <a:lnTo>
                  <a:pt x="2162" y="954"/>
                </a:lnTo>
                <a:lnTo>
                  <a:pt x="2882" y="954"/>
                </a:lnTo>
                <a:lnTo>
                  <a:pt x="3603" y="954"/>
                </a:lnTo>
                <a:lnTo>
                  <a:pt x="4323" y="954"/>
                </a:lnTo>
                <a:lnTo>
                  <a:pt x="5044" y="954"/>
                </a:lnTo>
                <a:lnTo>
                  <a:pt x="5764" y="954"/>
                </a:lnTo>
                <a:lnTo>
                  <a:pt x="5764" y="970"/>
                </a:lnTo>
                <a:lnTo>
                  <a:pt x="5044" y="970"/>
                </a:lnTo>
                <a:lnTo>
                  <a:pt x="4323" y="970"/>
                </a:lnTo>
                <a:lnTo>
                  <a:pt x="3603" y="970"/>
                </a:lnTo>
                <a:lnTo>
                  <a:pt x="2882" y="970"/>
                </a:lnTo>
                <a:lnTo>
                  <a:pt x="2162" y="970"/>
                </a:lnTo>
                <a:lnTo>
                  <a:pt x="1441" y="970"/>
                </a:lnTo>
                <a:lnTo>
                  <a:pt x="721" y="970"/>
                </a:lnTo>
                <a:lnTo>
                  <a:pt x="0" y="970"/>
                </a:lnTo>
                <a:close/>
                <a:moveTo>
                  <a:pt x="0" y="938"/>
                </a:moveTo>
                <a:lnTo>
                  <a:pt x="0" y="921"/>
                </a:lnTo>
                <a:lnTo>
                  <a:pt x="721" y="921"/>
                </a:lnTo>
                <a:lnTo>
                  <a:pt x="1441" y="921"/>
                </a:lnTo>
                <a:lnTo>
                  <a:pt x="2162" y="921"/>
                </a:lnTo>
                <a:lnTo>
                  <a:pt x="2882" y="921"/>
                </a:lnTo>
                <a:lnTo>
                  <a:pt x="3603" y="921"/>
                </a:lnTo>
                <a:lnTo>
                  <a:pt x="4323" y="921"/>
                </a:lnTo>
                <a:lnTo>
                  <a:pt x="5044" y="921"/>
                </a:lnTo>
                <a:lnTo>
                  <a:pt x="5764" y="921"/>
                </a:lnTo>
                <a:lnTo>
                  <a:pt x="5764" y="938"/>
                </a:lnTo>
                <a:lnTo>
                  <a:pt x="5044" y="938"/>
                </a:lnTo>
                <a:lnTo>
                  <a:pt x="4323" y="938"/>
                </a:lnTo>
                <a:lnTo>
                  <a:pt x="3603" y="938"/>
                </a:lnTo>
                <a:lnTo>
                  <a:pt x="2882" y="938"/>
                </a:lnTo>
                <a:lnTo>
                  <a:pt x="2162" y="938"/>
                </a:lnTo>
                <a:lnTo>
                  <a:pt x="1441" y="938"/>
                </a:lnTo>
                <a:lnTo>
                  <a:pt x="721" y="938"/>
                </a:lnTo>
                <a:lnTo>
                  <a:pt x="0" y="938"/>
                </a:lnTo>
                <a:close/>
                <a:moveTo>
                  <a:pt x="0" y="905"/>
                </a:moveTo>
                <a:lnTo>
                  <a:pt x="0" y="888"/>
                </a:lnTo>
                <a:lnTo>
                  <a:pt x="721" y="888"/>
                </a:lnTo>
                <a:lnTo>
                  <a:pt x="1441" y="888"/>
                </a:lnTo>
                <a:lnTo>
                  <a:pt x="2162" y="888"/>
                </a:lnTo>
                <a:lnTo>
                  <a:pt x="2882" y="888"/>
                </a:lnTo>
                <a:lnTo>
                  <a:pt x="3603" y="888"/>
                </a:lnTo>
                <a:lnTo>
                  <a:pt x="4323" y="888"/>
                </a:lnTo>
                <a:lnTo>
                  <a:pt x="5044" y="888"/>
                </a:lnTo>
                <a:lnTo>
                  <a:pt x="5764" y="888"/>
                </a:lnTo>
                <a:lnTo>
                  <a:pt x="5764" y="905"/>
                </a:lnTo>
                <a:lnTo>
                  <a:pt x="5044" y="905"/>
                </a:lnTo>
                <a:lnTo>
                  <a:pt x="4323" y="905"/>
                </a:lnTo>
                <a:lnTo>
                  <a:pt x="3603" y="905"/>
                </a:lnTo>
                <a:lnTo>
                  <a:pt x="2882" y="905"/>
                </a:lnTo>
                <a:lnTo>
                  <a:pt x="2162" y="905"/>
                </a:lnTo>
                <a:lnTo>
                  <a:pt x="1441" y="905"/>
                </a:lnTo>
                <a:lnTo>
                  <a:pt x="721" y="905"/>
                </a:lnTo>
                <a:lnTo>
                  <a:pt x="0" y="905"/>
                </a:lnTo>
                <a:close/>
                <a:moveTo>
                  <a:pt x="0" y="872"/>
                </a:moveTo>
                <a:lnTo>
                  <a:pt x="0" y="855"/>
                </a:lnTo>
                <a:lnTo>
                  <a:pt x="721" y="855"/>
                </a:lnTo>
                <a:lnTo>
                  <a:pt x="1441" y="855"/>
                </a:lnTo>
                <a:lnTo>
                  <a:pt x="2162" y="855"/>
                </a:lnTo>
                <a:lnTo>
                  <a:pt x="2882" y="855"/>
                </a:lnTo>
                <a:lnTo>
                  <a:pt x="3603" y="855"/>
                </a:lnTo>
                <a:lnTo>
                  <a:pt x="4323" y="855"/>
                </a:lnTo>
                <a:lnTo>
                  <a:pt x="5044" y="855"/>
                </a:lnTo>
                <a:lnTo>
                  <a:pt x="5764" y="855"/>
                </a:lnTo>
                <a:lnTo>
                  <a:pt x="5764" y="872"/>
                </a:lnTo>
                <a:lnTo>
                  <a:pt x="5044" y="872"/>
                </a:lnTo>
                <a:lnTo>
                  <a:pt x="4323" y="872"/>
                </a:lnTo>
                <a:lnTo>
                  <a:pt x="3603" y="872"/>
                </a:lnTo>
                <a:lnTo>
                  <a:pt x="2882" y="872"/>
                </a:lnTo>
                <a:lnTo>
                  <a:pt x="2162" y="872"/>
                </a:lnTo>
                <a:lnTo>
                  <a:pt x="1441" y="872"/>
                </a:lnTo>
                <a:lnTo>
                  <a:pt x="721" y="872"/>
                </a:lnTo>
                <a:lnTo>
                  <a:pt x="0" y="872"/>
                </a:lnTo>
                <a:close/>
                <a:moveTo>
                  <a:pt x="0" y="839"/>
                </a:moveTo>
                <a:lnTo>
                  <a:pt x="0" y="822"/>
                </a:lnTo>
                <a:lnTo>
                  <a:pt x="721" y="822"/>
                </a:lnTo>
                <a:lnTo>
                  <a:pt x="1441" y="822"/>
                </a:lnTo>
                <a:lnTo>
                  <a:pt x="2162" y="822"/>
                </a:lnTo>
                <a:lnTo>
                  <a:pt x="2882" y="822"/>
                </a:lnTo>
                <a:lnTo>
                  <a:pt x="3603" y="822"/>
                </a:lnTo>
                <a:lnTo>
                  <a:pt x="4323" y="822"/>
                </a:lnTo>
                <a:lnTo>
                  <a:pt x="5044" y="822"/>
                </a:lnTo>
                <a:lnTo>
                  <a:pt x="5764" y="822"/>
                </a:lnTo>
                <a:lnTo>
                  <a:pt x="5764" y="839"/>
                </a:lnTo>
                <a:lnTo>
                  <a:pt x="5044" y="839"/>
                </a:lnTo>
                <a:lnTo>
                  <a:pt x="4323" y="839"/>
                </a:lnTo>
                <a:lnTo>
                  <a:pt x="3603" y="839"/>
                </a:lnTo>
                <a:lnTo>
                  <a:pt x="2882" y="839"/>
                </a:lnTo>
                <a:lnTo>
                  <a:pt x="2162" y="839"/>
                </a:lnTo>
                <a:lnTo>
                  <a:pt x="1441" y="839"/>
                </a:lnTo>
                <a:lnTo>
                  <a:pt x="721" y="839"/>
                </a:lnTo>
                <a:lnTo>
                  <a:pt x="0" y="839"/>
                </a:lnTo>
                <a:close/>
                <a:moveTo>
                  <a:pt x="0" y="806"/>
                </a:moveTo>
                <a:lnTo>
                  <a:pt x="0" y="789"/>
                </a:lnTo>
                <a:lnTo>
                  <a:pt x="721" y="789"/>
                </a:lnTo>
                <a:lnTo>
                  <a:pt x="1441" y="789"/>
                </a:lnTo>
                <a:lnTo>
                  <a:pt x="2162" y="789"/>
                </a:lnTo>
                <a:lnTo>
                  <a:pt x="2882" y="789"/>
                </a:lnTo>
                <a:lnTo>
                  <a:pt x="3603" y="789"/>
                </a:lnTo>
                <a:lnTo>
                  <a:pt x="4323" y="789"/>
                </a:lnTo>
                <a:lnTo>
                  <a:pt x="5044" y="789"/>
                </a:lnTo>
                <a:lnTo>
                  <a:pt x="5764" y="789"/>
                </a:lnTo>
                <a:lnTo>
                  <a:pt x="5764" y="806"/>
                </a:lnTo>
                <a:lnTo>
                  <a:pt x="5044" y="806"/>
                </a:lnTo>
                <a:lnTo>
                  <a:pt x="4323" y="806"/>
                </a:lnTo>
                <a:lnTo>
                  <a:pt x="3603" y="806"/>
                </a:lnTo>
                <a:lnTo>
                  <a:pt x="2882" y="806"/>
                </a:lnTo>
                <a:lnTo>
                  <a:pt x="2162" y="806"/>
                </a:lnTo>
                <a:lnTo>
                  <a:pt x="1441" y="806"/>
                </a:lnTo>
                <a:lnTo>
                  <a:pt x="721" y="806"/>
                </a:lnTo>
                <a:lnTo>
                  <a:pt x="0" y="806"/>
                </a:lnTo>
                <a:close/>
                <a:moveTo>
                  <a:pt x="0" y="773"/>
                </a:moveTo>
                <a:lnTo>
                  <a:pt x="0" y="757"/>
                </a:lnTo>
                <a:lnTo>
                  <a:pt x="721" y="757"/>
                </a:lnTo>
                <a:lnTo>
                  <a:pt x="1441" y="757"/>
                </a:lnTo>
                <a:lnTo>
                  <a:pt x="2162" y="757"/>
                </a:lnTo>
                <a:lnTo>
                  <a:pt x="2882" y="757"/>
                </a:lnTo>
                <a:lnTo>
                  <a:pt x="3603" y="757"/>
                </a:lnTo>
                <a:lnTo>
                  <a:pt x="4323" y="757"/>
                </a:lnTo>
                <a:lnTo>
                  <a:pt x="5044" y="757"/>
                </a:lnTo>
                <a:lnTo>
                  <a:pt x="5764" y="757"/>
                </a:lnTo>
                <a:lnTo>
                  <a:pt x="5764" y="773"/>
                </a:lnTo>
                <a:lnTo>
                  <a:pt x="5044" y="773"/>
                </a:lnTo>
                <a:lnTo>
                  <a:pt x="4323" y="773"/>
                </a:lnTo>
                <a:lnTo>
                  <a:pt x="3603" y="773"/>
                </a:lnTo>
                <a:lnTo>
                  <a:pt x="2882" y="773"/>
                </a:lnTo>
                <a:lnTo>
                  <a:pt x="2162" y="773"/>
                </a:lnTo>
                <a:lnTo>
                  <a:pt x="1441" y="773"/>
                </a:lnTo>
                <a:lnTo>
                  <a:pt x="721" y="773"/>
                </a:lnTo>
                <a:lnTo>
                  <a:pt x="0" y="773"/>
                </a:lnTo>
                <a:close/>
                <a:moveTo>
                  <a:pt x="0" y="741"/>
                </a:moveTo>
                <a:lnTo>
                  <a:pt x="0" y="724"/>
                </a:lnTo>
                <a:lnTo>
                  <a:pt x="721" y="724"/>
                </a:lnTo>
                <a:lnTo>
                  <a:pt x="1441" y="724"/>
                </a:lnTo>
                <a:lnTo>
                  <a:pt x="2162" y="724"/>
                </a:lnTo>
                <a:lnTo>
                  <a:pt x="2882" y="724"/>
                </a:lnTo>
                <a:lnTo>
                  <a:pt x="3603" y="724"/>
                </a:lnTo>
                <a:lnTo>
                  <a:pt x="4323" y="724"/>
                </a:lnTo>
                <a:lnTo>
                  <a:pt x="5044" y="724"/>
                </a:lnTo>
                <a:lnTo>
                  <a:pt x="5764" y="724"/>
                </a:lnTo>
                <a:lnTo>
                  <a:pt x="5764" y="741"/>
                </a:lnTo>
                <a:lnTo>
                  <a:pt x="5044" y="741"/>
                </a:lnTo>
                <a:lnTo>
                  <a:pt x="4323" y="741"/>
                </a:lnTo>
                <a:lnTo>
                  <a:pt x="3603" y="741"/>
                </a:lnTo>
                <a:lnTo>
                  <a:pt x="2882" y="741"/>
                </a:lnTo>
                <a:lnTo>
                  <a:pt x="2162" y="741"/>
                </a:lnTo>
                <a:lnTo>
                  <a:pt x="1441" y="741"/>
                </a:lnTo>
                <a:lnTo>
                  <a:pt x="721" y="741"/>
                </a:lnTo>
                <a:lnTo>
                  <a:pt x="0" y="741"/>
                </a:lnTo>
                <a:close/>
                <a:moveTo>
                  <a:pt x="0" y="707"/>
                </a:moveTo>
                <a:lnTo>
                  <a:pt x="0" y="690"/>
                </a:lnTo>
                <a:lnTo>
                  <a:pt x="721" y="690"/>
                </a:lnTo>
                <a:lnTo>
                  <a:pt x="1441" y="690"/>
                </a:lnTo>
                <a:lnTo>
                  <a:pt x="2162" y="690"/>
                </a:lnTo>
                <a:lnTo>
                  <a:pt x="2882" y="690"/>
                </a:lnTo>
                <a:lnTo>
                  <a:pt x="3603" y="690"/>
                </a:lnTo>
                <a:lnTo>
                  <a:pt x="4323" y="690"/>
                </a:lnTo>
                <a:lnTo>
                  <a:pt x="5044" y="690"/>
                </a:lnTo>
                <a:lnTo>
                  <a:pt x="5764" y="690"/>
                </a:lnTo>
                <a:lnTo>
                  <a:pt x="5764" y="707"/>
                </a:lnTo>
                <a:lnTo>
                  <a:pt x="5044" y="707"/>
                </a:lnTo>
                <a:lnTo>
                  <a:pt x="4323" y="707"/>
                </a:lnTo>
                <a:lnTo>
                  <a:pt x="3603" y="707"/>
                </a:lnTo>
                <a:lnTo>
                  <a:pt x="2882" y="707"/>
                </a:lnTo>
                <a:lnTo>
                  <a:pt x="2162" y="707"/>
                </a:lnTo>
                <a:lnTo>
                  <a:pt x="1441" y="707"/>
                </a:lnTo>
                <a:lnTo>
                  <a:pt x="721" y="707"/>
                </a:lnTo>
                <a:lnTo>
                  <a:pt x="0" y="707"/>
                </a:lnTo>
                <a:close/>
                <a:moveTo>
                  <a:pt x="0" y="674"/>
                </a:moveTo>
                <a:lnTo>
                  <a:pt x="0" y="657"/>
                </a:lnTo>
                <a:lnTo>
                  <a:pt x="721" y="657"/>
                </a:lnTo>
                <a:lnTo>
                  <a:pt x="1441" y="657"/>
                </a:lnTo>
                <a:lnTo>
                  <a:pt x="2162" y="657"/>
                </a:lnTo>
                <a:lnTo>
                  <a:pt x="2882" y="657"/>
                </a:lnTo>
                <a:lnTo>
                  <a:pt x="3603" y="657"/>
                </a:lnTo>
                <a:lnTo>
                  <a:pt x="4323" y="657"/>
                </a:lnTo>
                <a:lnTo>
                  <a:pt x="5044" y="657"/>
                </a:lnTo>
                <a:lnTo>
                  <a:pt x="5764" y="657"/>
                </a:lnTo>
                <a:lnTo>
                  <a:pt x="5764" y="674"/>
                </a:lnTo>
                <a:lnTo>
                  <a:pt x="5044" y="674"/>
                </a:lnTo>
                <a:lnTo>
                  <a:pt x="4323" y="674"/>
                </a:lnTo>
                <a:lnTo>
                  <a:pt x="3603" y="674"/>
                </a:lnTo>
                <a:lnTo>
                  <a:pt x="2882" y="674"/>
                </a:lnTo>
                <a:lnTo>
                  <a:pt x="2162" y="674"/>
                </a:lnTo>
                <a:lnTo>
                  <a:pt x="1441" y="674"/>
                </a:lnTo>
                <a:lnTo>
                  <a:pt x="721" y="674"/>
                </a:lnTo>
                <a:lnTo>
                  <a:pt x="0" y="674"/>
                </a:lnTo>
                <a:close/>
                <a:moveTo>
                  <a:pt x="0" y="641"/>
                </a:moveTo>
                <a:lnTo>
                  <a:pt x="0" y="624"/>
                </a:lnTo>
                <a:lnTo>
                  <a:pt x="721" y="624"/>
                </a:lnTo>
                <a:lnTo>
                  <a:pt x="1441" y="624"/>
                </a:lnTo>
                <a:lnTo>
                  <a:pt x="2162" y="624"/>
                </a:lnTo>
                <a:lnTo>
                  <a:pt x="2882" y="624"/>
                </a:lnTo>
                <a:lnTo>
                  <a:pt x="3603" y="624"/>
                </a:lnTo>
                <a:lnTo>
                  <a:pt x="4323" y="624"/>
                </a:lnTo>
                <a:lnTo>
                  <a:pt x="5044" y="624"/>
                </a:lnTo>
                <a:lnTo>
                  <a:pt x="5764" y="624"/>
                </a:lnTo>
                <a:lnTo>
                  <a:pt x="5764" y="641"/>
                </a:lnTo>
                <a:lnTo>
                  <a:pt x="5044" y="641"/>
                </a:lnTo>
                <a:lnTo>
                  <a:pt x="4323" y="641"/>
                </a:lnTo>
                <a:lnTo>
                  <a:pt x="3603" y="641"/>
                </a:lnTo>
                <a:lnTo>
                  <a:pt x="2882" y="641"/>
                </a:lnTo>
                <a:lnTo>
                  <a:pt x="2162" y="641"/>
                </a:lnTo>
                <a:lnTo>
                  <a:pt x="1441" y="641"/>
                </a:lnTo>
                <a:lnTo>
                  <a:pt x="721" y="641"/>
                </a:lnTo>
                <a:lnTo>
                  <a:pt x="0" y="641"/>
                </a:lnTo>
                <a:close/>
                <a:moveTo>
                  <a:pt x="0" y="608"/>
                </a:moveTo>
                <a:lnTo>
                  <a:pt x="0" y="591"/>
                </a:lnTo>
                <a:lnTo>
                  <a:pt x="721" y="591"/>
                </a:lnTo>
                <a:lnTo>
                  <a:pt x="1441" y="591"/>
                </a:lnTo>
                <a:lnTo>
                  <a:pt x="2162" y="591"/>
                </a:lnTo>
                <a:lnTo>
                  <a:pt x="2882" y="591"/>
                </a:lnTo>
                <a:lnTo>
                  <a:pt x="3603" y="591"/>
                </a:lnTo>
                <a:lnTo>
                  <a:pt x="4323" y="591"/>
                </a:lnTo>
                <a:lnTo>
                  <a:pt x="5044" y="591"/>
                </a:lnTo>
                <a:lnTo>
                  <a:pt x="5764" y="591"/>
                </a:lnTo>
                <a:lnTo>
                  <a:pt x="5764" y="608"/>
                </a:lnTo>
                <a:lnTo>
                  <a:pt x="5044" y="608"/>
                </a:lnTo>
                <a:lnTo>
                  <a:pt x="4323" y="608"/>
                </a:lnTo>
                <a:lnTo>
                  <a:pt x="3603" y="608"/>
                </a:lnTo>
                <a:lnTo>
                  <a:pt x="2882" y="608"/>
                </a:lnTo>
                <a:lnTo>
                  <a:pt x="2162" y="608"/>
                </a:lnTo>
                <a:lnTo>
                  <a:pt x="1441" y="608"/>
                </a:lnTo>
                <a:lnTo>
                  <a:pt x="721" y="608"/>
                </a:lnTo>
                <a:lnTo>
                  <a:pt x="0" y="608"/>
                </a:lnTo>
                <a:close/>
                <a:moveTo>
                  <a:pt x="0" y="575"/>
                </a:moveTo>
                <a:lnTo>
                  <a:pt x="0" y="558"/>
                </a:lnTo>
                <a:lnTo>
                  <a:pt x="721" y="558"/>
                </a:lnTo>
                <a:lnTo>
                  <a:pt x="1441" y="558"/>
                </a:lnTo>
                <a:lnTo>
                  <a:pt x="2162" y="558"/>
                </a:lnTo>
                <a:lnTo>
                  <a:pt x="2882" y="558"/>
                </a:lnTo>
                <a:lnTo>
                  <a:pt x="3603" y="558"/>
                </a:lnTo>
                <a:lnTo>
                  <a:pt x="4323" y="558"/>
                </a:lnTo>
                <a:lnTo>
                  <a:pt x="5044" y="558"/>
                </a:lnTo>
                <a:lnTo>
                  <a:pt x="5764" y="558"/>
                </a:lnTo>
                <a:lnTo>
                  <a:pt x="5764" y="575"/>
                </a:lnTo>
                <a:lnTo>
                  <a:pt x="5044" y="575"/>
                </a:lnTo>
                <a:lnTo>
                  <a:pt x="4323" y="575"/>
                </a:lnTo>
                <a:lnTo>
                  <a:pt x="3603" y="575"/>
                </a:lnTo>
                <a:lnTo>
                  <a:pt x="2882" y="575"/>
                </a:lnTo>
                <a:lnTo>
                  <a:pt x="2162" y="575"/>
                </a:lnTo>
                <a:lnTo>
                  <a:pt x="1441" y="575"/>
                </a:lnTo>
                <a:lnTo>
                  <a:pt x="721" y="575"/>
                </a:lnTo>
                <a:lnTo>
                  <a:pt x="0" y="575"/>
                </a:lnTo>
                <a:close/>
                <a:moveTo>
                  <a:pt x="0" y="542"/>
                </a:moveTo>
                <a:lnTo>
                  <a:pt x="0" y="526"/>
                </a:lnTo>
                <a:lnTo>
                  <a:pt x="721" y="526"/>
                </a:lnTo>
                <a:lnTo>
                  <a:pt x="1441" y="526"/>
                </a:lnTo>
                <a:lnTo>
                  <a:pt x="2162" y="526"/>
                </a:lnTo>
                <a:lnTo>
                  <a:pt x="2882" y="526"/>
                </a:lnTo>
                <a:lnTo>
                  <a:pt x="3603" y="526"/>
                </a:lnTo>
                <a:lnTo>
                  <a:pt x="4323" y="526"/>
                </a:lnTo>
                <a:lnTo>
                  <a:pt x="5044" y="526"/>
                </a:lnTo>
                <a:lnTo>
                  <a:pt x="5764" y="526"/>
                </a:lnTo>
                <a:lnTo>
                  <a:pt x="5764" y="542"/>
                </a:lnTo>
                <a:lnTo>
                  <a:pt x="5044" y="542"/>
                </a:lnTo>
                <a:lnTo>
                  <a:pt x="4323" y="542"/>
                </a:lnTo>
                <a:lnTo>
                  <a:pt x="3603" y="542"/>
                </a:lnTo>
                <a:lnTo>
                  <a:pt x="2882" y="542"/>
                </a:lnTo>
                <a:lnTo>
                  <a:pt x="2162" y="542"/>
                </a:lnTo>
                <a:lnTo>
                  <a:pt x="1441" y="542"/>
                </a:lnTo>
                <a:lnTo>
                  <a:pt x="721" y="542"/>
                </a:lnTo>
                <a:lnTo>
                  <a:pt x="0" y="542"/>
                </a:lnTo>
                <a:close/>
                <a:moveTo>
                  <a:pt x="0" y="510"/>
                </a:moveTo>
                <a:lnTo>
                  <a:pt x="0" y="493"/>
                </a:lnTo>
                <a:lnTo>
                  <a:pt x="721" y="493"/>
                </a:lnTo>
                <a:lnTo>
                  <a:pt x="1441" y="493"/>
                </a:lnTo>
                <a:lnTo>
                  <a:pt x="2162" y="493"/>
                </a:lnTo>
                <a:lnTo>
                  <a:pt x="2882" y="493"/>
                </a:lnTo>
                <a:lnTo>
                  <a:pt x="3603" y="493"/>
                </a:lnTo>
                <a:lnTo>
                  <a:pt x="4323" y="493"/>
                </a:lnTo>
                <a:lnTo>
                  <a:pt x="5044" y="493"/>
                </a:lnTo>
                <a:lnTo>
                  <a:pt x="5764" y="493"/>
                </a:lnTo>
                <a:lnTo>
                  <a:pt x="5764" y="510"/>
                </a:lnTo>
                <a:lnTo>
                  <a:pt x="5044" y="510"/>
                </a:lnTo>
                <a:lnTo>
                  <a:pt x="4323" y="510"/>
                </a:lnTo>
                <a:lnTo>
                  <a:pt x="3603" y="510"/>
                </a:lnTo>
                <a:lnTo>
                  <a:pt x="2882" y="510"/>
                </a:lnTo>
                <a:lnTo>
                  <a:pt x="2162" y="510"/>
                </a:lnTo>
                <a:lnTo>
                  <a:pt x="1441" y="510"/>
                </a:lnTo>
                <a:lnTo>
                  <a:pt x="721" y="510"/>
                </a:lnTo>
                <a:lnTo>
                  <a:pt x="0" y="510"/>
                </a:lnTo>
                <a:close/>
                <a:moveTo>
                  <a:pt x="0" y="477"/>
                </a:moveTo>
                <a:lnTo>
                  <a:pt x="0" y="460"/>
                </a:lnTo>
                <a:lnTo>
                  <a:pt x="721" y="460"/>
                </a:lnTo>
                <a:lnTo>
                  <a:pt x="1441" y="460"/>
                </a:lnTo>
                <a:lnTo>
                  <a:pt x="2162" y="460"/>
                </a:lnTo>
                <a:lnTo>
                  <a:pt x="2882" y="460"/>
                </a:lnTo>
                <a:lnTo>
                  <a:pt x="3603" y="460"/>
                </a:lnTo>
                <a:lnTo>
                  <a:pt x="4323" y="460"/>
                </a:lnTo>
                <a:lnTo>
                  <a:pt x="5044" y="460"/>
                </a:lnTo>
                <a:lnTo>
                  <a:pt x="5764" y="460"/>
                </a:lnTo>
                <a:lnTo>
                  <a:pt x="5764" y="477"/>
                </a:lnTo>
                <a:lnTo>
                  <a:pt x="5044" y="477"/>
                </a:lnTo>
                <a:lnTo>
                  <a:pt x="4323" y="477"/>
                </a:lnTo>
                <a:lnTo>
                  <a:pt x="3603" y="477"/>
                </a:lnTo>
                <a:lnTo>
                  <a:pt x="2882" y="477"/>
                </a:lnTo>
                <a:lnTo>
                  <a:pt x="2162" y="477"/>
                </a:lnTo>
                <a:lnTo>
                  <a:pt x="1441" y="477"/>
                </a:lnTo>
                <a:lnTo>
                  <a:pt x="721" y="477"/>
                </a:lnTo>
                <a:lnTo>
                  <a:pt x="0" y="477"/>
                </a:lnTo>
                <a:close/>
                <a:moveTo>
                  <a:pt x="0" y="444"/>
                </a:moveTo>
                <a:lnTo>
                  <a:pt x="0" y="427"/>
                </a:lnTo>
                <a:lnTo>
                  <a:pt x="721" y="427"/>
                </a:lnTo>
                <a:lnTo>
                  <a:pt x="1441" y="427"/>
                </a:lnTo>
                <a:lnTo>
                  <a:pt x="2162" y="427"/>
                </a:lnTo>
                <a:lnTo>
                  <a:pt x="2882" y="427"/>
                </a:lnTo>
                <a:lnTo>
                  <a:pt x="3603" y="427"/>
                </a:lnTo>
                <a:lnTo>
                  <a:pt x="4323" y="427"/>
                </a:lnTo>
                <a:lnTo>
                  <a:pt x="5044" y="427"/>
                </a:lnTo>
                <a:lnTo>
                  <a:pt x="5764" y="427"/>
                </a:lnTo>
                <a:lnTo>
                  <a:pt x="5764" y="444"/>
                </a:lnTo>
                <a:lnTo>
                  <a:pt x="5044" y="444"/>
                </a:lnTo>
                <a:lnTo>
                  <a:pt x="4323" y="444"/>
                </a:lnTo>
                <a:lnTo>
                  <a:pt x="3603" y="444"/>
                </a:lnTo>
                <a:lnTo>
                  <a:pt x="2882" y="444"/>
                </a:lnTo>
                <a:lnTo>
                  <a:pt x="2162" y="444"/>
                </a:lnTo>
                <a:lnTo>
                  <a:pt x="1441" y="444"/>
                </a:lnTo>
                <a:lnTo>
                  <a:pt x="721" y="444"/>
                </a:lnTo>
                <a:lnTo>
                  <a:pt x="0" y="444"/>
                </a:lnTo>
                <a:close/>
                <a:moveTo>
                  <a:pt x="0" y="411"/>
                </a:moveTo>
                <a:lnTo>
                  <a:pt x="0" y="394"/>
                </a:lnTo>
                <a:lnTo>
                  <a:pt x="721" y="394"/>
                </a:lnTo>
                <a:lnTo>
                  <a:pt x="1441" y="394"/>
                </a:lnTo>
                <a:lnTo>
                  <a:pt x="2162" y="394"/>
                </a:lnTo>
                <a:lnTo>
                  <a:pt x="2882" y="394"/>
                </a:lnTo>
                <a:lnTo>
                  <a:pt x="3603" y="394"/>
                </a:lnTo>
                <a:lnTo>
                  <a:pt x="4323" y="394"/>
                </a:lnTo>
                <a:lnTo>
                  <a:pt x="5044" y="394"/>
                </a:lnTo>
                <a:lnTo>
                  <a:pt x="5764" y="394"/>
                </a:lnTo>
                <a:lnTo>
                  <a:pt x="5764" y="411"/>
                </a:lnTo>
                <a:lnTo>
                  <a:pt x="5044" y="411"/>
                </a:lnTo>
                <a:lnTo>
                  <a:pt x="4323" y="411"/>
                </a:lnTo>
                <a:lnTo>
                  <a:pt x="3603" y="411"/>
                </a:lnTo>
                <a:lnTo>
                  <a:pt x="2882" y="411"/>
                </a:lnTo>
                <a:lnTo>
                  <a:pt x="2162" y="411"/>
                </a:lnTo>
                <a:lnTo>
                  <a:pt x="1441" y="411"/>
                </a:lnTo>
                <a:lnTo>
                  <a:pt x="721" y="411"/>
                </a:lnTo>
                <a:lnTo>
                  <a:pt x="0" y="411"/>
                </a:lnTo>
                <a:close/>
                <a:moveTo>
                  <a:pt x="0" y="378"/>
                </a:moveTo>
                <a:lnTo>
                  <a:pt x="0" y="361"/>
                </a:lnTo>
                <a:lnTo>
                  <a:pt x="721" y="361"/>
                </a:lnTo>
                <a:lnTo>
                  <a:pt x="1441" y="361"/>
                </a:lnTo>
                <a:lnTo>
                  <a:pt x="2162" y="361"/>
                </a:lnTo>
                <a:lnTo>
                  <a:pt x="2882" y="361"/>
                </a:lnTo>
                <a:lnTo>
                  <a:pt x="3603" y="361"/>
                </a:lnTo>
                <a:lnTo>
                  <a:pt x="4323" y="361"/>
                </a:lnTo>
                <a:lnTo>
                  <a:pt x="5044" y="361"/>
                </a:lnTo>
                <a:lnTo>
                  <a:pt x="5764" y="361"/>
                </a:lnTo>
                <a:lnTo>
                  <a:pt x="5764" y="378"/>
                </a:lnTo>
                <a:lnTo>
                  <a:pt x="5044" y="378"/>
                </a:lnTo>
                <a:lnTo>
                  <a:pt x="4323" y="378"/>
                </a:lnTo>
                <a:lnTo>
                  <a:pt x="3603" y="378"/>
                </a:lnTo>
                <a:lnTo>
                  <a:pt x="2882" y="378"/>
                </a:lnTo>
                <a:lnTo>
                  <a:pt x="2162" y="378"/>
                </a:lnTo>
                <a:lnTo>
                  <a:pt x="1441" y="378"/>
                </a:lnTo>
                <a:lnTo>
                  <a:pt x="721" y="378"/>
                </a:lnTo>
                <a:lnTo>
                  <a:pt x="0" y="378"/>
                </a:lnTo>
                <a:close/>
                <a:moveTo>
                  <a:pt x="0" y="345"/>
                </a:moveTo>
                <a:lnTo>
                  <a:pt x="0" y="329"/>
                </a:lnTo>
                <a:lnTo>
                  <a:pt x="721" y="329"/>
                </a:lnTo>
                <a:lnTo>
                  <a:pt x="1441" y="329"/>
                </a:lnTo>
                <a:lnTo>
                  <a:pt x="2162" y="329"/>
                </a:lnTo>
                <a:lnTo>
                  <a:pt x="2882" y="329"/>
                </a:lnTo>
                <a:lnTo>
                  <a:pt x="3603" y="329"/>
                </a:lnTo>
                <a:lnTo>
                  <a:pt x="4323" y="329"/>
                </a:lnTo>
                <a:lnTo>
                  <a:pt x="5044" y="329"/>
                </a:lnTo>
                <a:lnTo>
                  <a:pt x="5764" y="329"/>
                </a:lnTo>
                <a:lnTo>
                  <a:pt x="5764" y="345"/>
                </a:lnTo>
                <a:lnTo>
                  <a:pt x="5044" y="345"/>
                </a:lnTo>
                <a:lnTo>
                  <a:pt x="4323" y="345"/>
                </a:lnTo>
                <a:lnTo>
                  <a:pt x="3603" y="345"/>
                </a:lnTo>
                <a:lnTo>
                  <a:pt x="2882" y="345"/>
                </a:lnTo>
                <a:lnTo>
                  <a:pt x="2162" y="345"/>
                </a:lnTo>
                <a:lnTo>
                  <a:pt x="1441" y="345"/>
                </a:lnTo>
                <a:lnTo>
                  <a:pt x="721" y="345"/>
                </a:lnTo>
                <a:lnTo>
                  <a:pt x="0" y="345"/>
                </a:lnTo>
                <a:close/>
                <a:moveTo>
                  <a:pt x="0" y="312"/>
                </a:moveTo>
                <a:lnTo>
                  <a:pt x="0" y="296"/>
                </a:lnTo>
                <a:lnTo>
                  <a:pt x="721" y="296"/>
                </a:lnTo>
                <a:lnTo>
                  <a:pt x="1441" y="296"/>
                </a:lnTo>
                <a:lnTo>
                  <a:pt x="2162" y="296"/>
                </a:lnTo>
                <a:lnTo>
                  <a:pt x="2882" y="296"/>
                </a:lnTo>
                <a:lnTo>
                  <a:pt x="3603" y="296"/>
                </a:lnTo>
                <a:lnTo>
                  <a:pt x="4323" y="296"/>
                </a:lnTo>
                <a:lnTo>
                  <a:pt x="5044" y="296"/>
                </a:lnTo>
                <a:lnTo>
                  <a:pt x="5764" y="296"/>
                </a:lnTo>
                <a:lnTo>
                  <a:pt x="5764" y="312"/>
                </a:lnTo>
                <a:lnTo>
                  <a:pt x="5044" y="312"/>
                </a:lnTo>
                <a:lnTo>
                  <a:pt x="4323" y="312"/>
                </a:lnTo>
                <a:lnTo>
                  <a:pt x="3603" y="312"/>
                </a:lnTo>
                <a:lnTo>
                  <a:pt x="2882" y="312"/>
                </a:lnTo>
                <a:lnTo>
                  <a:pt x="2162" y="312"/>
                </a:lnTo>
                <a:lnTo>
                  <a:pt x="1441" y="312"/>
                </a:lnTo>
                <a:lnTo>
                  <a:pt x="721" y="312"/>
                </a:lnTo>
                <a:lnTo>
                  <a:pt x="0" y="312"/>
                </a:lnTo>
                <a:close/>
                <a:moveTo>
                  <a:pt x="0" y="280"/>
                </a:moveTo>
                <a:lnTo>
                  <a:pt x="0" y="263"/>
                </a:lnTo>
                <a:lnTo>
                  <a:pt x="721" y="263"/>
                </a:lnTo>
                <a:lnTo>
                  <a:pt x="1441" y="263"/>
                </a:lnTo>
                <a:lnTo>
                  <a:pt x="2162" y="263"/>
                </a:lnTo>
                <a:lnTo>
                  <a:pt x="2882" y="263"/>
                </a:lnTo>
                <a:lnTo>
                  <a:pt x="3603" y="263"/>
                </a:lnTo>
                <a:lnTo>
                  <a:pt x="4323" y="263"/>
                </a:lnTo>
                <a:lnTo>
                  <a:pt x="5044" y="263"/>
                </a:lnTo>
                <a:lnTo>
                  <a:pt x="5764" y="263"/>
                </a:lnTo>
                <a:lnTo>
                  <a:pt x="5764" y="280"/>
                </a:lnTo>
                <a:lnTo>
                  <a:pt x="5044" y="280"/>
                </a:lnTo>
                <a:lnTo>
                  <a:pt x="4323" y="280"/>
                </a:lnTo>
                <a:lnTo>
                  <a:pt x="3603" y="280"/>
                </a:lnTo>
                <a:lnTo>
                  <a:pt x="2882" y="280"/>
                </a:lnTo>
                <a:lnTo>
                  <a:pt x="2162" y="280"/>
                </a:lnTo>
                <a:lnTo>
                  <a:pt x="1441" y="280"/>
                </a:lnTo>
                <a:lnTo>
                  <a:pt x="721" y="280"/>
                </a:lnTo>
                <a:lnTo>
                  <a:pt x="0" y="280"/>
                </a:lnTo>
                <a:close/>
                <a:moveTo>
                  <a:pt x="0" y="247"/>
                </a:moveTo>
                <a:lnTo>
                  <a:pt x="0" y="230"/>
                </a:lnTo>
                <a:lnTo>
                  <a:pt x="721" y="230"/>
                </a:lnTo>
                <a:lnTo>
                  <a:pt x="1441" y="230"/>
                </a:lnTo>
                <a:lnTo>
                  <a:pt x="2162" y="230"/>
                </a:lnTo>
                <a:lnTo>
                  <a:pt x="2882" y="230"/>
                </a:lnTo>
                <a:lnTo>
                  <a:pt x="3603" y="230"/>
                </a:lnTo>
                <a:lnTo>
                  <a:pt x="4323" y="230"/>
                </a:lnTo>
                <a:lnTo>
                  <a:pt x="5044" y="230"/>
                </a:lnTo>
                <a:lnTo>
                  <a:pt x="5764" y="230"/>
                </a:lnTo>
                <a:lnTo>
                  <a:pt x="5764" y="247"/>
                </a:lnTo>
                <a:lnTo>
                  <a:pt x="5044" y="247"/>
                </a:lnTo>
                <a:lnTo>
                  <a:pt x="4323" y="247"/>
                </a:lnTo>
                <a:lnTo>
                  <a:pt x="3603" y="247"/>
                </a:lnTo>
                <a:lnTo>
                  <a:pt x="2882" y="247"/>
                </a:lnTo>
                <a:lnTo>
                  <a:pt x="2162" y="247"/>
                </a:lnTo>
                <a:lnTo>
                  <a:pt x="1441" y="247"/>
                </a:lnTo>
                <a:lnTo>
                  <a:pt x="721" y="247"/>
                </a:lnTo>
                <a:lnTo>
                  <a:pt x="0" y="247"/>
                </a:lnTo>
                <a:close/>
                <a:moveTo>
                  <a:pt x="0" y="214"/>
                </a:moveTo>
                <a:lnTo>
                  <a:pt x="0" y="197"/>
                </a:lnTo>
                <a:lnTo>
                  <a:pt x="721" y="197"/>
                </a:lnTo>
                <a:lnTo>
                  <a:pt x="1441" y="197"/>
                </a:lnTo>
                <a:lnTo>
                  <a:pt x="2162" y="197"/>
                </a:lnTo>
                <a:lnTo>
                  <a:pt x="2882" y="197"/>
                </a:lnTo>
                <a:lnTo>
                  <a:pt x="3603" y="197"/>
                </a:lnTo>
                <a:lnTo>
                  <a:pt x="4323" y="197"/>
                </a:lnTo>
                <a:lnTo>
                  <a:pt x="5044" y="197"/>
                </a:lnTo>
                <a:lnTo>
                  <a:pt x="5764" y="197"/>
                </a:lnTo>
                <a:lnTo>
                  <a:pt x="5764" y="214"/>
                </a:lnTo>
                <a:lnTo>
                  <a:pt x="5044" y="214"/>
                </a:lnTo>
                <a:lnTo>
                  <a:pt x="4323" y="214"/>
                </a:lnTo>
                <a:lnTo>
                  <a:pt x="3603" y="214"/>
                </a:lnTo>
                <a:lnTo>
                  <a:pt x="2882" y="214"/>
                </a:lnTo>
                <a:lnTo>
                  <a:pt x="2162" y="214"/>
                </a:lnTo>
                <a:lnTo>
                  <a:pt x="1441" y="214"/>
                </a:lnTo>
                <a:lnTo>
                  <a:pt x="721" y="214"/>
                </a:lnTo>
                <a:lnTo>
                  <a:pt x="0" y="214"/>
                </a:lnTo>
                <a:close/>
                <a:moveTo>
                  <a:pt x="0" y="181"/>
                </a:moveTo>
                <a:lnTo>
                  <a:pt x="0" y="164"/>
                </a:lnTo>
                <a:lnTo>
                  <a:pt x="721" y="164"/>
                </a:lnTo>
                <a:lnTo>
                  <a:pt x="1441" y="164"/>
                </a:lnTo>
                <a:lnTo>
                  <a:pt x="2162" y="164"/>
                </a:lnTo>
                <a:lnTo>
                  <a:pt x="2882" y="164"/>
                </a:lnTo>
                <a:lnTo>
                  <a:pt x="3603" y="164"/>
                </a:lnTo>
                <a:lnTo>
                  <a:pt x="4323" y="164"/>
                </a:lnTo>
                <a:lnTo>
                  <a:pt x="5044" y="164"/>
                </a:lnTo>
                <a:lnTo>
                  <a:pt x="5764" y="164"/>
                </a:lnTo>
                <a:lnTo>
                  <a:pt x="5764" y="181"/>
                </a:lnTo>
                <a:lnTo>
                  <a:pt x="5044" y="181"/>
                </a:lnTo>
                <a:lnTo>
                  <a:pt x="4323" y="181"/>
                </a:lnTo>
                <a:lnTo>
                  <a:pt x="3603" y="181"/>
                </a:lnTo>
                <a:lnTo>
                  <a:pt x="2882" y="181"/>
                </a:lnTo>
                <a:lnTo>
                  <a:pt x="2162" y="181"/>
                </a:lnTo>
                <a:lnTo>
                  <a:pt x="1441" y="181"/>
                </a:lnTo>
                <a:lnTo>
                  <a:pt x="721" y="181"/>
                </a:lnTo>
                <a:lnTo>
                  <a:pt x="0" y="181"/>
                </a:lnTo>
                <a:close/>
                <a:moveTo>
                  <a:pt x="0" y="148"/>
                </a:moveTo>
                <a:lnTo>
                  <a:pt x="0" y="131"/>
                </a:lnTo>
                <a:lnTo>
                  <a:pt x="721" y="131"/>
                </a:lnTo>
                <a:lnTo>
                  <a:pt x="1441" y="131"/>
                </a:lnTo>
                <a:lnTo>
                  <a:pt x="2162" y="131"/>
                </a:lnTo>
                <a:lnTo>
                  <a:pt x="2882" y="131"/>
                </a:lnTo>
                <a:lnTo>
                  <a:pt x="3603" y="131"/>
                </a:lnTo>
                <a:lnTo>
                  <a:pt x="4323" y="131"/>
                </a:lnTo>
                <a:lnTo>
                  <a:pt x="5044" y="131"/>
                </a:lnTo>
                <a:lnTo>
                  <a:pt x="5764" y="131"/>
                </a:lnTo>
                <a:lnTo>
                  <a:pt x="5764" y="148"/>
                </a:lnTo>
                <a:lnTo>
                  <a:pt x="5044" y="148"/>
                </a:lnTo>
                <a:lnTo>
                  <a:pt x="4323" y="148"/>
                </a:lnTo>
                <a:lnTo>
                  <a:pt x="3603" y="148"/>
                </a:lnTo>
                <a:lnTo>
                  <a:pt x="2882" y="148"/>
                </a:lnTo>
                <a:lnTo>
                  <a:pt x="2162" y="148"/>
                </a:lnTo>
                <a:lnTo>
                  <a:pt x="1441" y="148"/>
                </a:lnTo>
                <a:lnTo>
                  <a:pt x="721" y="148"/>
                </a:lnTo>
                <a:lnTo>
                  <a:pt x="0" y="148"/>
                </a:lnTo>
                <a:close/>
                <a:moveTo>
                  <a:pt x="0" y="115"/>
                </a:moveTo>
                <a:lnTo>
                  <a:pt x="0" y="99"/>
                </a:lnTo>
                <a:lnTo>
                  <a:pt x="721" y="99"/>
                </a:lnTo>
                <a:lnTo>
                  <a:pt x="1441" y="99"/>
                </a:lnTo>
                <a:lnTo>
                  <a:pt x="2162" y="99"/>
                </a:lnTo>
                <a:lnTo>
                  <a:pt x="2882" y="99"/>
                </a:lnTo>
                <a:lnTo>
                  <a:pt x="3603" y="99"/>
                </a:lnTo>
                <a:lnTo>
                  <a:pt x="4323" y="99"/>
                </a:lnTo>
                <a:lnTo>
                  <a:pt x="5044" y="99"/>
                </a:lnTo>
                <a:lnTo>
                  <a:pt x="5764" y="99"/>
                </a:lnTo>
                <a:lnTo>
                  <a:pt x="5764" y="115"/>
                </a:lnTo>
                <a:lnTo>
                  <a:pt x="5044" y="115"/>
                </a:lnTo>
                <a:lnTo>
                  <a:pt x="4323" y="115"/>
                </a:lnTo>
                <a:lnTo>
                  <a:pt x="3603" y="115"/>
                </a:lnTo>
                <a:lnTo>
                  <a:pt x="2882" y="115"/>
                </a:lnTo>
                <a:lnTo>
                  <a:pt x="2162" y="115"/>
                </a:lnTo>
                <a:lnTo>
                  <a:pt x="1441" y="115"/>
                </a:lnTo>
                <a:lnTo>
                  <a:pt x="721" y="115"/>
                </a:lnTo>
                <a:lnTo>
                  <a:pt x="0" y="115"/>
                </a:lnTo>
                <a:close/>
                <a:moveTo>
                  <a:pt x="0" y="83"/>
                </a:moveTo>
                <a:lnTo>
                  <a:pt x="0" y="66"/>
                </a:lnTo>
                <a:lnTo>
                  <a:pt x="721" y="66"/>
                </a:lnTo>
                <a:lnTo>
                  <a:pt x="1441" y="66"/>
                </a:lnTo>
                <a:lnTo>
                  <a:pt x="2162" y="66"/>
                </a:lnTo>
                <a:lnTo>
                  <a:pt x="2882" y="66"/>
                </a:lnTo>
                <a:lnTo>
                  <a:pt x="3603" y="66"/>
                </a:lnTo>
                <a:lnTo>
                  <a:pt x="4323" y="66"/>
                </a:lnTo>
                <a:lnTo>
                  <a:pt x="5044" y="66"/>
                </a:lnTo>
                <a:lnTo>
                  <a:pt x="5764" y="66"/>
                </a:lnTo>
                <a:lnTo>
                  <a:pt x="5764" y="83"/>
                </a:lnTo>
                <a:lnTo>
                  <a:pt x="5044" y="83"/>
                </a:lnTo>
                <a:lnTo>
                  <a:pt x="4323" y="83"/>
                </a:lnTo>
                <a:lnTo>
                  <a:pt x="3603" y="83"/>
                </a:lnTo>
                <a:lnTo>
                  <a:pt x="2882" y="83"/>
                </a:lnTo>
                <a:lnTo>
                  <a:pt x="2162" y="83"/>
                </a:lnTo>
                <a:lnTo>
                  <a:pt x="1441" y="83"/>
                </a:lnTo>
                <a:lnTo>
                  <a:pt x="721" y="83"/>
                </a:lnTo>
                <a:lnTo>
                  <a:pt x="0" y="83"/>
                </a:lnTo>
                <a:close/>
                <a:moveTo>
                  <a:pt x="0" y="50"/>
                </a:moveTo>
                <a:lnTo>
                  <a:pt x="0" y="33"/>
                </a:lnTo>
                <a:lnTo>
                  <a:pt x="721" y="33"/>
                </a:lnTo>
                <a:lnTo>
                  <a:pt x="1441" y="33"/>
                </a:lnTo>
                <a:lnTo>
                  <a:pt x="2162" y="33"/>
                </a:lnTo>
                <a:lnTo>
                  <a:pt x="2882" y="33"/>
                </a:lnTo>
                <a:lnTo>
                  <a:pt x="3603" y="33"/>
                </a:lnTo>
                <a:lnTo>
                  <a:pt x="4323" y="33"/>
                </a:lnTo>
                <a:lnTo>
                  <a:pt x="5044" y="33"/>
                </a:lnTo>
                <a:lnTo>
                  <a:pt x="5764" y="33"/>
                </a:lnTo>
                <a:lnTo>
                  <a:pt x="5764" y="50"/>
                </a:lnTo>
                <a:lnTo>
                  <a:pt x="5044" y="50"/>
                </a:lnTo>
                <a:lnTo>
                  <a:pt x="4323" y="50"/>
                </a:lnTo>
                <a:lnTo>
                  <a:pt x="3603" y="50"/>
                </a:lnTo>
                <a:lnTo>
                  <a:pt x="2882" y="50"/>
                </a:lnTo>
                <a:lnTo>
                  <a:pt x="2162" y="50"/>
                </a:lnTo>
                <a:lnTo>
                  <a:pt x="1441" y="50"/>
                </a:lnTo>
                <a:lnTo>
                  <a:pt x="721" y="50"/>
                </a:lnTo>
                <a:lnTo>
                  <a:pt x="0" y="50"/>
                </a:lnTo>
                <a:close/>
                <a:moveTo>
                  <a:pt x="0" y="0"/>
                </a:moveTo>
                <a:lnTo>
                  <a:pt x="721" y="0"/>
                </a:lnTo>
                <a:lnTo>
                  <a:pt x="1441" y="0"/>
                </a:lnTo>
                <a:lnTo>
                  <a:pt x="2162" y="0"/>
                </a:lnTo>
                <a:lnTo>
                  <a:pt x="2882" y="0"/>
                </a:lnTo>
                <a:lnTo>
                  <a:pt x="3603" y="0"/>
                </a:lnTo>
                <a:lnTo>
                  <a:pt x="4323" y="0"/>
                </a:lnTo>
                <a:lnTo>
                  <a:pt x="5044" y="0"/>
                </a:lnTo>
                <a:lnTo>
                  <a:pt x="5764" y="0"/>
                </a:lnTo>
                <a:lnTo>
                  <a:pt x="5764" y="17"/>
                </a:lnTo>
                <a:lnTo>
                  <a:pt x="5044" y="17"/>
                </a:lnTo>
                <a:lnTo>
                  <a:pt x="4323" y="17"/>
                </a:lnTo>
                <a:lnTo>
                  <a:pt x="3603" y="17"/>
                </a:lnTo>
                <a:lnTo>
                  <a:pt x="2882" y="17"/>
                </a:lnTo>
                <a:lnTo>
                  <a:pt x="2162" y="17"/>
                </a:lnTo>
                <a:lnTo>
                  <a:pt x="1441" y="17"/>
                </a:lnTo>
                <a:lnTo>
                  <a:pt x="721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C:\Users\MAKI\Desktop\escalmacion.png"/>
          <p:cNvPicPr/>
          <p:nvPr/>
        </p:nvPicPr>
        <p:blipFill>
          <a:blip r:embed="rId1"/>
          <a:srcRect l="0" t="6942" r="29280" b="6942"/>
          <a:stretch/>
        </p:blipFill>
        <p:spPr>
          <a:xfrm>
            <a:off x="6977160" y="0"/>
            <a:ext cx="2166840" cy="68580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40" name="Content Placeholder 2"/>
          <p:cNvSpPr/>
          <p:nvPr/>
        </p:nvSpPr>
        <p:spPr>
          <a:xfrm>
            <a:off x="2248920" y="1162080"/>
            <a:ext cx="172044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文字内容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文字内容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文字内容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文字内容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文字内容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文字内容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23"/>
          <p:cNvSpPr/>
          <p:nvPr/>
        </p:nvSpPr>
        <p:spPr>
          <a:xfrm>
            <a:off x="2019240" y="1390680"/>
            <a:ext cx="341280" cy="369720"/>
          </a:xfrm>
          <a:custGeom>
            <a:avLst/>
            <a:gdLst>
              <a:gd name="textAreaLeft" fmla="*/ 0 w 341280"/>
              <a:gd name="textAreaRight" fmla="*/ 341640 w 3412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40" h="152">
                <a:moveTo>
                  <a:pt x="2" y="94"/>
                </a:moveTo>
                <a:lnTo>
                  <a:pt x="2" y="94"/>
                </a:lnTo>
                <a:lnTo>
                  <a:pt x="0" y="88"/>
                </a:lnTo>
                <a:lnTo>
                  <a:pt x="2" y="82"/>
                </a:lnTo>
                <a:lnTo>
                  <a:pt x="6" y="76"/>
                </a:lnTo>
                <a:lnTo>
                  <a:pt x="20" y="68"/>
                </a:lnTo>
                <a:lnTo>
                  <a:pt x="26" y="68"/>
                </a:lnTo>
                <a:lnTo>
                  <a:pt x="28" y="68"/>
                </a:lnTo>
                <a:lnTo>
                  <a:pt x="32" y="72"/>
                </a:lnTo>
                <a:lnTo>
                  <a:pt x="38" y="92"/>
                </a:lnTo>
                <a:lnTo>
                  <a:pt x="42" y="100"/>
                </a:lnTo>
                <a:lnTo>
                  <a:pt x="44" y="100"/>
                </a:lnTo>
                <a:lnTo>
                  <a:pt x="48" y="94"/>
                </a:lnTo>
                <a:lnTo>
                  <a:pt x="90" y="22"/>
                </a:lnTo>
                <a:lnTo>
                  <a:pt x="96" y="16"/>
                </a:lnTo>
                <a:lnTo>
                  <a:pt x="104" y="10"/>
                </a:lnTo>
                <a:lnTo>
                  <a:pt x="112" y="6"/>
                </a:lnTo>
                <a:lnTo>
                  <a:pt x="134" y="0"/>
                </a:lnTo>
                <a:lnTo>
                  <a:pt x="136" y="0"/>
                </a:lnTo>
                <a:lnTo>
                  <a:pt x="138" y="0"/>
                </a:lnTo>
                <a:lnTo>
                  <a:pt x="140" y="2"/>
                </a:lnTo>
                <a:lnTo>
                  <a:pt x="140" y="4"/>
                </a:lnTo>
                <a:lnTo>
                  <a:pt x="136" y="10"/>
                </a:lnTo>
                <a:lnTo>
                  <a:pt x="110" y="46"/>
                </a:lnTo>
                <a:lnTo>
                  <a:pt x="86" y="82"/>
                </a:lnTo>
                <a:lnTo>
                  <a:pt x="64" y="120"/>
                </a:lnTo>
                <a:lnTo>
                  <a:pt x="52" y="142"/>
                </a:lnTo>
                <a:lnTo>
                  <a:pt x="50" y="146"/>
                </a:lnTo>
                <a:lnTo>
                  <a:pt x="46" y="150"/>
                </a:lnTo>
                <a:lnTo>
                  <a:pt x="38" y="150"/>
                </a:lnTo>
                <a:lnTo>
                  <a:pt x="26" y="152"/>
                </a:lnTo>
                <a:lnTo>
                  <a:pt x="20" y="150"/>
                </a:lnTo>
                <a:lnTo>
                  <a:pt x="18" y="146"/>
                </a:lnTo>
                <a:lnTo>
                  <a:pt x="16" y="142"/>
                </a:lnTo>
                <a:lnTo>
                  <a:pt x="2" y="94"/>
                </a:lnTo>
                <a:close/>
              </a:path>
            </a:pathLst>
          </a:custGeom>
          <a:solidFill>
            <a:srgbClr val="67a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23"/>
          <p:cNvSpPr/>
          <p:nvPr/>
        </p:nvSpPr>
        <p:spPr>
          <a:xfrm>
            <a:off x="2019240" y="2143080"/>
            <a:ext cx="341280" cy="370080"/>
          </a:xfrm>
          <a:custGeom>
            <a:avLst/>
            <a:gdLst>
              <a:gd name="textAreaLeft" fmla="*/ 0 w 341280"/>
              <a:gd name="textAreaRight" fmla="*/ 341640 w 34128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40" h="152">
                <a:moveTo>
                  <a:pt x="2" y="94"/>
                </a:moveTo>
                <a:lnTo>
                  <a:pt x="2" y="94"/>
                </a:lnTo>
                <a:lnTo>
                  <a:pt x="0" y="88"/>
                </a:lnTo>
                <a:lnTo>
                  <a:pt x="2" y="82"/>
                </a:lnTo>
                <a:lnTo>
                  <a:pt x="6" y="76"/>
                </a:lnTo>
                <a:lnTo>
                  <a:pt x="20" y="68"/>
                </a:lnTo>
                <a:lnTo>
                  <a:pt x="26" y="68"/>
                </a:lnTo>
                <a:lnTo>
                  <a:pt x="28" y="68"/>
                </a:lnTo>
                <a:lnTo>
                  <a:pt x="32" y="72"/>
                </a:lnTo>
                <a:lnTo>
                  <a:pt x="38" y="92"/>
                </a:lnTo>
                <a:lnTo>
                  <a:pt x="42" y="100"/>
                </a:lnTo>
                <a:lnTo>
                  <a:pt x="44" y="100"/>
                </a:lnTo>
                <a:lnTo>
                  <a:pt x="48" y="94"/>
                </a:lnTo>
                <a:lnTo>
                  <a:pt x="90" y="22"/>
                </a:lnTo>
                <a:lnTo>
                  <a:pt x="96" y="16"/>
                </a:lnTo>
                <a:lnTo>
                  <a:pt x="104" y="10"/>
                </a:lnTo>
                <a:lnTo>
                  <a:pt x="112" y="6"/>
                </a:lnTo>
                <a:lnTo>
                  <a:pt x="134" y="0"/>
                </a:lnTo>
                <a:lnTo>
                  <a:pt x="136" y="0"/>
                </a:lnTo>
                <a:lnTo>
                  <a:pt x="138" y="0"/>
                </a:lnTo>
                <a:lnTo>
                  <a:pt x="140" y="2"/>
                </a:lnTo>
                <a:lnTo>
                  <a:pt x="140" y="4"/>
                </a:lnTo>
                <a:lnTo>
                  <a:pt x="136" y="10"/>
                </a:lnTo>
                <a:lnTo>
                  <a:pt x="110" y="46"/>
                </a:lnTo>
                <a:lnTo>
                  <a:pt x="86" y="82"/>
                </a:lnTo>
                <a:lnTo>
                  <a:pt x="64" y="120"/>
                </a:lnTo>
                <a:lnTo>
                  <a:pt x="52" y="142"/>
                </a:lnTo>
                <a:lnTo>
                  <a:pt x="50" y="146"/>
                </a:lnTo>
                <a:lnTo>
                  <a:pt x="46" y="150"/>
                </a:lnTo>
                <a:lnTo>
                  <a:pt x="38" y="150"/>
                </a:lnTo>
                <a:lnTo>
                  <a:pt x="26" y="152"/>
                </a:lnTo>
                <a:lnTo>
                  <a:pt x="20" y="150"/>
                </a:lnTo>
                <a:lnTo>
                  <a:pt x="18" y="146"/>
                </a:lnTo>
                <a:lnTo>
                  <a:pt x="16" y="142"/>
                </a:lnTo>
                <a:lnTo>
                  <a:pt x="2" y="94"/>
                </a:lnTo>
                <a:close/>
              </a:path>
            </a:pathLst>
          </a:custGeom>
          <a:solidFill>
            <a:srgbClr val="67a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23"/>
          <p:cNvSpPr/>
          <p:nvPr/>
        </p:nvSpPr>
        <p:spPr>
          <a:xfrm>
            <a:off x="2019240" y="2868480"/>
            <a:ext cx="341280" cy="370080"/>
          </a:xfrm>
          <a:custGeom>
            <a:avLst/>
            <a:gdLst>
              <a:gd name="textAreaLeft" fmla="*/ 0 w 341280"/>
              <a:gd name="textAreaRight" fmla="*/ 341640 w 34128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40" h="152">
                <a:moveTo>
                  <a:pt x="2" y="94"/>
                </a:moveTo>
                <a:lnTo>
                  <a:pt x="2" y="94"/>
                </a:lnTo>
                <a:lnTo>
                  <a:pt x="0" y="88"/>
                </a:lnTo>
                <a:lnTo>
                  <a:pt x="2" y="82"/>
                </a:lnTo>
                <a:lnTo>
                  <a:pt x="6" y="76"/>
                </a:lnTo>
                <a:lnTo>
                  <a:pt x="20" y="68"/>
                </a:lnTo>
                <a:lnTo>
                  <a:pt x="26" y="68"/>
                </a:lnTo>
                <a:lnTo>
                  <a:pt x="28" y="68"/>
                </a:lnTo>
                <a:lnTo>
                  <a:pt x="32" y="72"/>
                </a:lnTo>
                <a:lnTo>
                  <a:pt x="38" y="92"/>
                </a:lnTo>
                <a:lnTo>
                  <a:pt x="42" y="100"/>
                </a:lnTo>
                <a:lnTo>
                  <a:pt x="44" y="100"/>
                </a:lnTo>
                <a:lnTo>
                  <a:pt x="48" y="94"/>
                </a:lnTo>
                <a:lnTo>
                  <a:pt x="90" y="22"/>
                </a:lnTo>
                <a:lnTo>
                  <a:pt x="96" y="16"/>
                </a:lnTo>
                <a:lnTo>
                  <a:pt x="104" y="10"/>
                </a:lnTo>
                <a:lnTo>
                  <a:pt x="112" y="6"/>
                </a:lnTo>
                <a:lnTo>
                  <a:pt x="134" y="0"/>
                </a:lnTo>
                <a:lnTo>
                  <a:pt x="136" y="0"/>
                </a:lnTo>
                <a:lnTo>
                  <a:pt x="138" y="0"/>
                </a:lnTo>
                <a:lnTo>
                  <a:pt x="140" y="2"/>
                </a:lnTo>
                <a:lnTo>
                  <a:pt x="140" y="4"/>
                </a:lnTo>
                <a:lnTo>
                  <a:pt x="136" y="10"/>
                </a:lnTo>
                <a:lnTo>
                  <a:pt x="110" y="46"/>
                </a:lnTo>
                <a:lnTo>
                  <a:pt x="86" y="82"/>
                </a:lnTo>
                <a:lnTo>
                  <a:pt x="64" y="120"/>
                </a:lnTo>
                <a:lnTo>
                  <a:pt x="52" y="142"/>
                </a:lnTo>
                <a:lnTo>
                  <a:pt x="50" y="146"/>
                </a:lnTo>
                <a:lnTo>
                  <a:pt x="46" y="150"/>
                </a:lnTo>
                <a:lnTo>
                  <a:pt x="38" y="150"/>
                </a:lnTo>
                <a:lnTo>
                  <a:pt x="26" y="152"/>
                </a:lnTo>
                <a:lnTo>
                  <a:pt x="20" y="150"/>
                </a:lnTo>
                <a:lnTo>
                  <a:pt x="18" y="146"/>
                </a:lnTo>
                <a:lnTo>
                  <a:pt x="16" y="142"/>
                </a:lnTo>
                <a:lnTo>
                  <a:pt x="2" y="94"/>
                </a:lnTo>
                <a:close/>
              </a:path>
            </a:pathLst>
          </a:custGeom>
          <a:solidFill>
            <a:srgbClr val="67a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23"/>
          <p:cNvSpPr/>
          <p:nvPr/>
        </p:nvSpPr>
        <p:spPr>
          <a:xfrm>
            <a:off x="2019240" y="3591000"/>
            <a:ext cx="341280" cy="369720"/>
          </a:xfrm>
          <a:custGeom>
            <a:avLst/>
            <a:gdLst>
              <a:gd name="textAreaLeft" fmla="*/ 0 w 341280"/>
              <a:gd name="textAreaRight" fmla="*/ 341640 w 3412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40" h="152">
                <a:moveTo>
                  <a:pt x="2" y="94"/>
                </a:moveTo>
                <a:lnTo>
                  <a:pt x="2" y="94"/>
                </a:lnTo>
                <a:lnTo>
                  <a:pt x="0" y="88"/>
                </a:lnTo>
                <a:lnTo>
                  <a:pt x="2" y="82"/>
                </a:lnTo>
                <a:lnTo>
                  <a:pt x="6" y="76"/>
                </a:lnTo>
                <a:lnTo>
                  <a:pt x="20" y="68"/>
                </a:lnTo>
                <a:lnTo>
                  <a:pt x="26" y="68"/>
                </a:lnTo>
                <a:lnTo>
                  <a:pt x="28" y="68"/>
                </a:lnTo>
                <a:lnTo>
                  <a:pt x="32" y="72"/>
                </a:lnTo>
                <a:lnTo>
                  <a:pt x="38" y="92"/>
                </a:lnTo>
                <a:lnTo>
                  <a:pt x="42" y="100"/>
                </a:lnTo>
                <a:lnTo>
                  <a:pt x="44" y="100"/>
                </a:lnTo>
                <a:lnTo>
                  <a:pt x="48" y="94"/>
                </a:lnTo>
                <a:lnTo>
                  <a:pt x="90" y="22"/>
                </a:lnTo>
                <a:lnTo>
                  <a:pt x="96" y="16"/>
                </a:lnTo>
                <a:lnTo>
                  <a:pt x="104" y="10"/>
                </a:lnTo>
                <a:lnTo>
                  <a:pt x="112" y="6"/>
                </a:lnTo>
                <a:lnTo>
                  <a:pt x="134" y="0"/>
                </a:lnTo>
                <a:lnTo>
                  <a:pt x="136" y="0"/>
                </a:lnTo>
                <a:lnTo>
                  <a:pt x="138" y="0"/>
                </a:lnTo>
                <a:lnTo>
                  <a:pt x="140" y="2"/>
                </a:lnTo>
                <a:lnTo>
                  <a:pt x="140" y="4"/>
                </a:lnTo>
                <a:lnTo>
                  <a:pt x="136" y="10"/>
                </a:lnTo>
                <a:lnTo>
                  <a:pt x="110" y="46"/>
                </a:lnTo>
                <a:lnTo>
                  <a:pt x="86" y="82"/>
                </a:lnTo>
                <a:lnTo>
                  <a:pt x="64" y="120"/>
                </a:lnTo>
                <a:lnTo>
                  <a:pt x="52" y="142"/>
                </a:lnTo>
                <a:lnTo>
                  <a:pt x="50" y="146"/>
                </a:lnTo>
                <a:lnTo>
                  <a:pt x="46" y="150"/>
                </a:lnTo>
                <a:lnTo>
                  <a:pt x="38" y="150"/>
                </a:lnTo>
                <a:lnTo>
                  <a:pt x="26" y="152"/>
                </a:lnTo>
                <a:lnTo>
                  <a:pt x="20" y="150"/>
                </a:lnTo>
                <a:lnTo>
                  <a:pt x="18" y="146"/>
                </a:lnTo>
                <a:lnTo>
                  <a:pt x="16" y="142"/>
                </a:lnTo>
                <a:lnTo>
                  <a:pt x="2" y="94"/>
                </a:lnTo>
                <a:close/>
              </a:path>
            </a:pathLst>
          </a:custGeom>
          <a:solidFill>
            <a:srgbClr val="67a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23"/>
          <p:cNvSpPr/>
          <p:nvPr/>
        </p:nvSpPr>
        <p:spPr>
          <a:xfrm>
            <a:off x="2019240" y="4346640"/>
            <a:ext cx="341280" cy="369720"/>
          </a:xfrm>
          <a:custGeom>
            <a:avLst/>
            <a:gdLst>
              <a:gd name="textAreaLeft" fmla="*/ 0 w 341280"/>
              <a:gd name="textAreaRight" fmla="*/ 341640 w 3412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40" h="152">
                <a:moveTo>
                  <a:pt x="2" y="94"/>
                </a:moveTo>
                <a:lnTo>
                  <a:pt x="2" y="94"/>
                </a:lnTo>
                <a:lnTo>
                  <a:pt x="0" y="88"/>
                </a:lnTo>
                <a:lnTo>
                  <a:pt x="2" y="82"/>
                </a:lnTo>
                <a:lnTo>
                  <a:pt x="6" y="76"/>
                </a:lnTo>
                <a:lnTo>
                  <a:pt x="20" y="68"/>
                </a:lnTo>
                <a:lnTo>
                  <a:pt x="26" y="68"/>
                </a:lnTo>
                <a:lnTo>
                  <a:pt x="28" y="68"/>
                </a:lnTo>
                <a:lnTo>
                  <a:pt x="32" y="72"/>
                </a:lnTo>
                <a:lnTo>
                  <a:pt x="38" y="92"/>
                </a:lnTo>
                <a:lnTo>
                  <a:pt x="42" y="100"/>
                </a:lnTo>
                <a:lnTo>
                  <a:pt x="44" y="100"/>
                </a:lnTo>
                <a:lnTo>
                  <a:pt x="48" y="94"/>
                </a:lnTo>
                <a:lnTo>
                  <a:pt x="90" y="22"/>
                </a:lnTo>
                <a:lnTo>
                  <a:pt x="96" y="16"/>
                </a:lnTo>
                <a:lnTo>
                  <a:pt x="104" y="10"/>
                </a:lnTo>
                <a:lnTo>
                  <a:pt x="112" y="6"/>
                </a:lnTo>
                <a:lnTo>
                  <a:pt x="134" y="0"/>
                </a:lnTo>
                <a:lnTo>
                  <a:pt x="136" y="0"/>
                </a:lnTo>
                <a:lnTo>
                  <a:pt x="138" y="0"/>
                </a:lnTo>
                <a:lnTo>
                  <a:pt x="140" y="2"/>
                </a:lnTo>
                <a:lnTo>
                  <a:pt x="140" y="4"/>
                </a:lnTo>
                <a:lnTo>
                  <a:pt x="136" y="10"/>
                </a:lnTo>
                <a:lnTo>
                  <a:pt x="110" y="46"/>
                </a:lnTo>
                <a:lnTo>
                  <a:pt x="86" y="82"/>
                </a:lnTo>
                <a:lnTo>
                  <a:pt x="64" y="120"/>
                </a:lnTo>
                <a:lnTo>
                  <a:pt x="52" y="142"/>
                </a:lnTo>
                <a:lnTo>
                  <a:pt x="50" y="146"/>
                </a:lnTo>
                <a:lnTo>
                  <a:pt x="46" y="150"/>
                </a:lnTo>
                <a:lnTo>
                  <a:pt x="38" y="150"/>
                </a:lnTo>
                <a:lnTo>
                  <a:pt x="26" y="152"/>
                </a:lnTo>
                <a:lnTo>
                  <a:pt x="20" y="150"/>
                </a:lnTo>
                <a:lnTo>
                  <a:pt x="18" y="146"/>
                </a:lnTo>
                <a:lnTo>
                  <a:pt x="16" y="142"/>
                </a:lnTo>
                <a:lnTo>
                  <a:pt x="2" y="94"/>
                </a:lnTo>
                <a:close/>
              </a:path>
            </a:pathLst>
          </a:custGeom>
          <a:solidFill>
            <a:srgbClr val="67a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23"/>
          <p:cNvSpPr/>
          <p:nvPr/>
        </p:nvSpPr>
        <p:spPr>
          <a:xfrm>
            <a:off x="2019240" y="5022720"/>
            <a:ext cx="341280" cy="370080"/>
          </a:xfrm>
          <a:custGeom>
            <a:avLst/>
            <a:gdLst>
              <a:gd name="textAreaLeft" fmla="*/ 0 w 341280"/>
              <a:gd name="textAreaRight" fmla="*/ 341640 w 34128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40" h="152">
                <a:moveTo>
                  <a:pt x="2" y="94"/>
                </a:moveTo>
                <a:lnTo>
                  <a:pt x="2" y="94"/>
                </a:lnTo>
                <a:lnTo>
                  <a:pt x="0" y="88"/>
                </a:lnTo>
                <a:lnTo>
                  <a:pt x="2" y="82"/>
                </a:lnTo>
                <a:lnTo>
                  <a:pt x="6" y="76"/>
                </a:lnTo>
                <a:lnTo>
                  <a:pt x="20" y="68"/>
                </a:lnTo>
                <a:lnTo>
                  <a:pt x="26" y="68"/>
                </a:lnTo>
                <a:lnTo>
                  <a:pt x="28" y="68"/>
                </a:lnTo>
                <a:lnTo>
                  <a:pt x="32" y="72"/>
                </a:lnTo>
                <a:lnTo>
                  <a:pt x="38" y="92"/>
                </a:lnTo>
                <a:lnTo>
                  <a:pt x="42" y="100"/>
                </a:lnTo>
                <a:lnTo>
                  <a:pt x="44" y="100"/>
                </a:lnTo>
                <a:lnTo>
                  <a:pt x="48" y="94"/>
                </a:lnTo>
                <a:lnTo>
                  <a:pt x="90" y="22"/>
                </a:lnTo>
                <a:lnTo>
                  <a:pt x="96" y="16"/>
                </a:lnTo>
                <a:lnTo>
                  <a:pt x="104" y="10"/>
                </a:lnTo>
                <a:lnTo>
                  <a:pt x="112" y="6"/>
                </a:lnTo>
                <a:lnTo>
                  <a:pt x="134" y="0"/>
                </a:lnTo>
                <a:lnTo>
                  <a:pt x="136" y="0"/>
                </a:lnTo>
                <a:lnTo>
                  <a:pt x="138" y="0"/>
                </a:lnTo>
                <a:lnTo>
                  <a:pt x="140" y="2"/>
                </a:lnTo>
                <a:lnTo>
                  <a:pt x="140" y="4"/>
                </a:lnTo>
                <a:lnTo>
                  <a:pt x="136" y="10"/>
                </a:lnTo>
                <a:lnTo>
                  <a:pt x="110" y="46"/>
                </a:lnTo>
                <a:lnTo>
                  <a:pt x="86" y="82"/>
                </a:lnTo>
                <a:lnTo>
                  <a:pt x="64" y="120"/>
                </a:lnTo>
                <a:lnTo>
                  <a:pt x="52" y="142"/>
                </a:lnTo>
                <a:lnTo>
                  <a:pt x="50" y="146"/>
                </a:lnTo>
                <a:lnTo>
                  <a:pt x="46" y="150"/>
                </a:lnTo>
                <a:lnTo>
                  <a:pt x="38" y="150"/>
                </a:lnTo>
                <a:lnTo>
                  <a:pt x="26" y="152"/>
                </a:lnTo>
                <a:lnTo>
                  <a:pt x="20" y="150"/>
                </a:lnTo>
                <a:lnTo>
                  <a:pt x="18" y="146"/>
                </a:lnTo>
                <a:lnTo>
                  <a:pt x="16" y="142"/>
                </a:lnTo>
                <a:lnTo>
                  <a:pt x="2" y="94"/>
                </a:lnTo>
                <a:close/>
              </a:path>
            </a:pathLst>
          </a:custGeom>
          <a:solidFill>
            <a:srgbClr val="67a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8"/>
          <p:cNvGrpSpPr/>
          <p:nvPr/>
        </p:nvGrpSpPr>
        <p:grpSpPr>
          <a:xfrm>
            <a:off x="-6480" y="0"/>
            <a:ext cx="9150480" cy="6862680"/>
            <a:chOff x="-6480" y="0"/>
            <a:chExt cx="9150480" cy="6862680"/>
          </a:xfrm>
        </p:grpSpPr>
        <p:sp>
          <p:nvSpPr>
            <p:cNvPr id="248" name="Rectangle 11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53"/>
            <p:cNvSpPr/>
            <p:nvPr/>
          </p:nvSpPr>
          <p:spPr>
            <a:xfrm>
              <a:off x="-6480" y="0"/>
              <a:ext cx="9150480" cy="6862680"/>
            </a:xfrm>
            <a:custGeom>
              <a:avLst/>
              <a:gdLst>
                <a:gd name="textAreaLeft" fmla="*/ 0 w 9150480"/>
                <a:gd name="textAreaRight" fmla="*/ 9150840 w 9150480"/>
                <a:gd name="textAreaTop" fmla="*/ 0 h 6862680"/>
                <a:gd name="textAreaBottom" fmla="*/ 6863040 h 6862680"/>
              </a:gdLst>
              <a:ahLst/>
              <a:rect l="textAreaLeft" t="textAreaTop" r="textAreaRight" b="textAreaBottom"/>
              <a:pathLst>
                <a:path w="5764" h="4323">
                  <a:moveTo>
                    <a:pt x="0" y="4306"/>
                  </a:moveTo>
                  <a:lnTo>
                    <a:pt x="721" y="4306"/>
                  </a:lnTo>
                  <a:lnTo>
                    <a:pt x="1441" y="4306"/>
                  </a:lnTo>
                  <a:lnTo>
                    <a:pt x="2162" y="4306"/>
                  </a:lnTo>
                  <a:lnTo>
                    <a:pt x="2882" y="4306"/>
                  </a:lnTo>
                  <a:lnTo>
                    <a:pt x="3603" y="4306"/>
                  </a:lnTo>
                  <a:lnTo>
                    <a:pt x="4323" y="4306"/>
                  </a:lnTo>
                  <a:lnTo>
                    <a:pt x="5044" y="4306"/>
                  </a:lnTo>
                  <a:lnTo>
                    <a:pt x="5764" y="4306"/>
                  </a:lnTo>
                  <a:lnTo>
                    <a:pt x="5764" y="4323"/>
                  </a:lnTo>
                  <a:lnTo>
                    <a:pt x="5044" y="4323"/>
                  </a:lnTo>
                  <a:lnTo>
                    <a:pt x="4323" y="4323"/>
                  </a:lnTo>
                  <a:lnTo>
                    <a:pt x="3603" y="4323"/>
                  </a:lnTo>
                  <a:lnTo>
                    <a:pt x="2882" y="4323"/>
                  </a:lnTo>
                  <a:lnTo>
                    <a:pt x="2162" y="4323"/>
                  </a:lnTo>
                  <a:lnTo>
                    <a:pt x="1441" y="4323"/>
                  </a:lnTo>
                  <a:lnTo>
                    <a:pt x="721" y="4323"/>
                  </a:lnTo>
                  <a:lnTo>
                    <a:pt x="0" y="4323"/>
                  </a:lnTo>
                  <a:lnTo>
                    <a:pt x="0" y="4306"/>
                  </a:lnTo>
                  <a:close/>
                  <a:moveTo>
                    <a:pt x="0" y="4290"/>
                  </a:moveTo>
                  <a:lnTo>
                    <a:pt x="0" y="4273"/>
                  </a:lnTo>
                  <a:lnTo>
                    <a:pt x="721" y="4273"/>
                  </a:lnTo>
                  <a:lnTo>
                    <a:pt x="1441" y="4273"/>
                  </a:lnTo>
                  <a:lnTo>
                    <a:pt x="2162" y="4273"/>
                  </a:lnTo>
                  <a:lnTo>
                    <a:pt x="2882" y="4273"/>
                  </a:lnTo>
                  <a:lnTo>
                    <a:pt x="3603" y="4273"/>
                  </a:lnTo>
                  <a:lnTo>
                    <a:pt x="4323" y="4273"/>
                  </a:lnTo>
                  <a:lnTo>
                    <a:pt x="5044" y="4273"/>
                  </a:lnTo>
                  <a:lnTo>
                    <a:pt x="5764" y="4273"/>
                  </a:lnTo>
                  <a:lnTo>
                    <a:pt x="5764" y="4290"/>
                  </a:lnTo>
                  <a:lnTo>
                    <a:pt x="5044" y="4290"/>
                  </a:lnTo>
                  <a:lnTo>
                    <a:pt x="4323" y="4290"/>
                  </a:lnTo>
                  <a:lnTo>
                    <a:pt x="3603" y="4290"/>
                  </a:lnTo>
                  <a:lnTo>
                    <a:pt x="2882" y="4290"/>
                  </a:lnTo>
                  <a:lnTo>
                    <a:pt x="2162" y="4290"/>
                  </a:lnTo>
                  <a:lnTo>
                    <a:pt x="1441" y="4290"/>
                  </a:lnTo>
                  <a:lnTo>
                    <a:pt x="721" y="4290"/>
                  </a:lnTo>
                  <a:lnTo>
                    <a:pt x="0" y="4290"/>
                  </a:lnTo>
                  <a:close/>
                  <a:moveTo>
                    <a:pt x="0" y="4257"/>
                  </a:moveTo>
                  <a:lnTo>
                    <a:pt x="0" y="4240"/>
                  </a:lnTo>
                  <a:lnTo>
                    <a:pt x="721" y="4240"/>
                  </a:lnTo>
                  <a:lnTo>
                    <a:pt x="1441" y="4240"/>
                  </a:lnTo>
                  <a:lnTo>
                    <a:pt x="2162" y="4240"/>
                  </a:lnTo>
                  <a:lnTo>
                    <a:pt x="2882" y="4240"/>
                  </a:lnTo>
                  <a:lnTo>
                    <a:pt x="3603" y="4240"/>
                  </a:lnTo>
                  <a:lnTo>
                    <a:pt x="4323" y="4240"/>
                  </a:lnTo>
                  <a:lnTo>
                    <a:pt x="5044" y="4240"/>
                  </a:lnTo>
                  <a:lnTo>
                    <a:pt x="5764" y="4240"/>
                  </a:lnTo>
                  <a:lnTo>
                    <a:pt x="5764" y="4257"/>
                  </a:lnTo>
                  <a:lnTo>
                    <a:pt x="5044" y="4257"/>
                  </a:lnTo>
                  <a:lnTo>
                    <a:pt x="4323" y="4257"/>
                  </a:lnTo>
                  <a:lnTo>
                    <a:pt x="3603" y="4257"/>
                  </a:lnTo>
                  <a:lnTo>
                    <a:pt x="2882" y="4257"/>
                  </a:lnTo>
                  <a:lnTo>
                    <a:pt x="2162" y="4257"/>
                  </a:lnTo>
                  <a:lnTo>
                    <a:pt x="1441" y="4257"/>
                  </a:lnTo>
                  <a:lnTo>
                    <a:pt x="721" y="4257"/>
                  </a:lnTo>
                  <a:lnTo>
                    <a:pt x="0" y="4257"/>
                  </a:lnTo>
                  <a:close/>
                  <a:moveTo>
                    <a:pt x="0" y="4224"/>
                  </a:moveTo>
                  <a:lnTo>
                    <a:pt x="0" y="4208"/>
                  </a:lnTo>
                  <a:lnTo>
                    <a:pt x="721" y="4208"/>
                  </a:lnTo>
                  <a:lnTo>
                    <a:pt x="1441" y="4208"/>
                  </a:lnTo>
                  <a:lnTo>
                    <a:pt x="2162" y="4208"/>
                  </a:lnTo>
                  <a:lnTo>
                    <a:pt x="2882" y="4208"/>
                  </a:lnTo>
                  <a:lnTo>
                    <a:pt x="3603" y="4208"/>
                  </a:lnTo>
                  <a:lnTo>
                    <a:pt x="4323" y="4208"/>
                  </a:lnTo>
                  <a:lnTo>
                    <a:pt x="5044" y="4208"/>
                  </a:lnTo>
                  <a:lnTo>
                    <a:pt x="5764" y="4208"/>
                  </a:lnTo>
                  <a:lnTo>
                    <a:pt x="5764" y="4224"/>
                  </a:lnTo>
                  <a:lnTo>
                    <a:pt x="5044" y="4224"/>
                  </a:lnTo>
                  <a:lnTo>
                    <a:pt x="4323" y="4224"/>
                  </a:lnTo>
                  <a:lnTo>
                    <a:pt x="3603" y="4224"/>
                  </a:lnTo>
                  <a:lnTo>
                    <a:pt x="2882" y="4224"/>
                  </a:lnTo>
                  <a:lnTo>
                    <a:pt x="2162" y="4224"/>
                  </a:lnTo>
                  <a:lnTo>
                    <a:pt x="1441" y="4224"/>
                  </a:lnTo>
                  <a:lnTo>
                    <a:pt x="721" y="4224"/>
                  </a:lnTo>
                  <a:lnTo>
                    <a:pt x="0" y="4224"/>
                  </a:lnTo>
                  <a:close/>
                  <a:moveTo>
                    <a:pt x="0" y="4192"/>
                  </a:moveTo>
                  <a:lnTo>
                    <a:pt x="0" y="4175"/>
                  </a:lnTo>
                  <a:lnTo>
                    <a:pt x="721" y="4175"/>
                  </a:lnTo>
                  <a:lnTo>
                    <a:pt x="1441" y="4175"/>
                  </a:lnTo>
                  <a:lnTo>
                    <a:pt x="2162" y="4175"/>
                  </a:lnTo>
                  <a:lnTo>
                    <a:pt x="2882" y="4175"/>
                  </a:lnTo>
                  <a:lnTo>
                    <a:pt x="3603" y="4175"/>
                  </a:lnTo>
                  <a:lnTo>
                    <a:pt x="4323" y="4175"/>
                  </a:lnTo>
                  <a:lnTo>
                    <a:pt x="5044" y="4175"/>
                  </a:lnTo>
                  <a:lnTo>
                    <a:pt x="5764" y="4175"/>
                  </a:lnTo>
                  <a:lnTo>
                    <a:pt x="5764" y="4192"/>
                  </a:lnTo>
                  <a:lnTo>
                    <a:pt x="5044" y="4192"/>
                  </a:lnTo>
                  <a:lnTo>
                    <a:pt x="4323" y="4192"/>
                  </a:lnTo>
                  <a:lnTo>
                    <a:pt x="3603" y="4192"/>
                  </a:lnTo>
                  <a:lnTo>
                    <a:pt x="2882" y="4192"/>
                  </a:lnTo>
                  <a:lnTo>
                    <a:pt x="2162" y="4192"/>
                  </a:lnTo>
                  <a:lnTo>
                    <a:pt x="1441" y="4192"/>
                  </a:lnTo>
                  <a:lnTo>
                    <a:pt x="721" y="4192"/>
                  </a:lnTo>
                  <a:lnTo>
                    <a:pt x="0" y="4192"/>
                  </a:lnTo>
                  <a:close/>
                  <a:moveTo>
                    <a:pt x="0" y="4159"/>
                  </a:moveTo>
                  <a:lnTo>
                    <a:pt x="0" y="4142"/>
                  </a:lnTo>
                  <a:lnTo>
                    <a:pt x="721" y="4142"/>
                  </a:lnTo>
                  <a:lnTo>
                    <a:pt x="1441" y="4142"/>
                  </a:lnTo>
                  <a:lnTo>
                    <a:pt x="2162" y="4142"/>
                  </a:lnTo>
                  <a:lnTo>
                    <a:pt x="2882" y="4142"/>
                  </a:lnTo>
                  <a:lnTo>
                    <a:pt x="3603" y="4142"/>
                  </a:lnTo>
                  <a:lnTo>
                    <a:pt x="4323" y="4142"/>
                  </a:lnTo>
                  <a:lnTo>
                    <a:pt x="5044" y="4142"/>
                  </a:lnTo>
                  <a:lnTo>
                    <a:pt x="5764" y="4142"/>
                  </a:lnTo>
                  <a:lnTo>
                    <a:pt x="5764" y="4159"/>
                  </a:lnTo>
                  <a:lnTo>
                    <a:pt x="5044" y="4159"/>
                  </a:lnTo>
                  <a:lnTo>
                    <a:pt x="4323" y="4159"/>
                  </a:lnTo>
                  <a:lnTo>
                    <a:pt x="3603" y="4159"/>
                  </a:lnTo>
                  <a:lnTo>
                    <a:pt x="2882" y="4159"/>
                  </a:lnTo>
                  <a:lnTo>
                    <a:pt x="2162" y="4159"/>
                  </a:lnTo>
                  <a:lnTo>
                    <a:pt x="1441" y="4159"/>
                  </a:lnTo>
                  <a:lnTo>
                    <a:pt x="721" y="4159"/>
                  </a:lnTo>
                  <a:lnTo>
                    <a:pt x="0" y="4159"/>
                  </a:lnTo>
                  <a:close/>
                  <a:moveTo>
                    <a:pt x="0" y="4126"/>
                  </a:moveTo>
                  <a:lnTo>
                    <a:pt x="0" y="4109"/>
                  </a:lnTo>
                  <a:lnTo>
                    <a:pt x="721" y="4109"/>
                  </a:lnTo>
                  <a:lnTo>
                    <a:pt x="1441" y="4109"/>
                  </a:lnTo>
                  <a:lnTo>
                    <a:pt x="2162" y="4109"/>
                  </a:lnTo>
                  <a:lnTo>
                    <a:pt x="2882" y="4109"/>
                  </a:lnTo>
                  <a:lnTo>
                    <a:pt x="3603" y="4109"/>
                  </a:lnTo>
                  <a:lnTo>
                    <a:pt x="4323" y="4109"/>
                  </a:lnTo>
                  <a:lnTo>
                    <a:pt x="5044" y="4109"/>
                  </a:lnTo>
                  <a:lnTo>
                    <a:pt x="5764" y="4109"/>
                  </a:lnTo>
                  <a:lnTo>
                    <a:pt x="5764" y="4126"/>
                  </a:lnTo>
                  <a:lnTo>
                    <a:pt x="5044" y="4126"/>
                  </a:lnTo>
                  <a:lnTo>
                    <a:pt x="4323" y="4126"/>
                  </a:lnTo>
                  <a:lnTo>
                    <a:pt x="3603" y="4126"/>
                  </a:lnTo>
                  <a:lnTo>
                    <a:pt x="2882" y="4126"/>
                  </a:lnTo>
                  <a:lnTo>
                    <a:pt x="2162" y="4126"/>
                  </a:lnTo>
                  <a:lnTo>
                    <a:pt x="1441" y="4126"/>
                  </a:lnTo>
                  <a:lnTo>
                    <a:pt x="721" y="4126"/>
                  </a:lnTo>
                  <a:lnTo>
                    <a:pt x="0" y="4126"/>
                  </a:lnTo>
                  <a:close/>
                  <a:moveTo>
                    <a:pt x="0" y="4093"/>
                  </a:moveTo>
                  <a:lnTo>
                    <a:pt x="0" y="4076"/>
                  </a:lnTo>
                  <a:lnTo>
                    <a:pt x="721" y="4076"/>
                  </a:lnTo>
                  <a:lnTo>
                    <a:pt x="1441" y="4076"/>
                  </a:lnTo>
                  <a:lnTo>
                    <a:pt x="2162" y="4076"/>
                  </a:lnTo>
                  <a:lnTo>
                    <a:pt x="2882" y="4076"/>
                  </a:lnTo>
                  <a:lnTo>
                    <a:pt x="3603" y="4076"/>
                  </a:lnTo>
                  <a:lnTo>
                    <a:pt x="4323" y="4076"/>
                  </a:lnTo>
                  <a:lnTo>
                    <a:pt x="5044" y="4076"/>
                  </a:lnTo>
                  <a:lnTo>
                    <a:pt x="5764" y="4076"/>
                  </a:lnTo>
                  <a:lnTo>
                    <a:pt x="5764" y="4093"/>
                  </a:lnTo>
                  <a:lnTo>
                    <a:pt x="5044" y="4093"/>
                  </a:lnTo>
                  <a:lnTo>
                    <a:pt x="4323" y="4093"/>
                  </a:lnTo>
                  <a:lnTo>
                    <a:pt x="3603" y="4093"/>
                  </a:lnTo>
                  <a:lnTo>
                    <a:pt x="2882" y="4093"/>
                  </a:lnTo>
                  <a:lnTo>
                    <a:pt x="2162" y="4093"/>
                  </a:lnTo>
                  <a:lnTo>
                    <a:pt x="1441" y="4093"/>
                  </a:lnTo>
                  <a:lnTo>
                    <a:pt x="721" y="4093"/>
                  </a:lnTo>
                  <a:lnTo>
                    <a:pt x="0" y="4093"/>
                  </a:lnTo>
                  <a:close/>
                  <a:moveTo>
                    <a:pt x="0" y="4060"/>
                  </a:moveTo>
                  <a:lnTo>
                    <a:pt x="0" y="4043"/>
                  </a:lnTo>
                  <a:lnTo>
                    <a:pt x="721" y="4043"/>
                  </a:lnTo>
                  <a:lnTo>
                    <a:pt x="1441" y="4043"/>
                  </a:lnTo>
                  <a:lnTo>
                    <a:pt x="2162" y="4043"/>
                  </a:lnTo>
                  <a:lnTo>
                    <a:pt x="2882" y="4043"/>
                  </a:lnTo>
                  <a:lnTo>
                    <a:pt x="3603" y="4043"/>
                  </a:lnTo>
                  <a:lnTo>
                    <a:pt x="4323" y="4043"/>
                  </a:lnTo>
                  <a:lnTo>
                    <a:pt x="5044" y="4043"/>
                  </a:lnTo>
                  <a:lnTo>
                    <a:pt x="5764" y="4043"/>
                  </a:lnTo>
                  <a:lnTo>
                    <a:pt x="5764" y="4060"/>
                  </a:lnTo>
                  <a:lnTo>
                    <a:pt x="5044" y="4060"/>
                  </a:lnTo>
                  <a:lnTo>
                    <a:pt x="4323" y="4060"/>
                  </a:lnTo>
                  <a:lnTo>
                    <a:pt x="3603" y="4060"/>
                  </a:lnTo>
                  <a:lnTo>
                    <a:pt x="2882" y="4060"/>
                  </a:lnTo>
                  <a:lnTo>
                    <a:pt x="2162" y="4060"/>
                  </a:lnTo>
                  <a:lnTo>
                    <a:pt x="1441" y="4060"/>
                  </a:lnTo>
                  <a:lnTo>
                    <a:pt x="721" y="4060"/>
                  </a:lnTo>
                  <a:lnTo>
                    <a:pt x="0" y="4060"/>
                  </a:lnTo>
                  <a:close/>
                  <a:moveTo>
                    <a:pt x="0" y="4027"/>
                  </a:moveTo>
                  <a:lnTo>
                    <a:pt x="0" y="4011"/>
                  </a:lnTo>
                  <a:lnTo>
                    <a:pt x="721" y="4011"/>
                  </a:lnTo>
                  <a:lnTo>
                    <a:pt x="1441" y="4011"/>
                  </a:lnTo>
                  <a:lnTo>
                    <a:pt x="2162" y="4011"/>
                  </a:lnTo>
                  <a:lnTo>
                    <a:pt x="2882" y="4011"/>
                  </a:lnTo>
                  <a:lnTo>
                    <a:pt x="3603" y="4011"/>
                  </a:lnTo>
                  <a:lnTo>
                    <a:pt x="4323" y="4011"/>
                  </a:lnTo>
                  <a:lnTo>
                    <a:pt x="5044" y="4011"/>
                  </a:lnTo>
                  <a:lnTo>
                    <a:pt x="5764" y="4011"/>
                  </a:lnTo>
                  <a:lnTo>
                    <a:pt x="5764" y="4027"/>
                  </a:lnTo>
                  <a:lnTo>
                    <a:pt x="5044" y="4027"/>
                  </a:lnTo>
                  <a:lnTo>
                    <a:pt x="4323" y="4027"/>
                  </a:lnTo>
                  <a:lnTo>
                    <a:pt x="3603" y="4027"/>
                  </a:lnTo>
                  <a:lnTo>
                    <a:pt x="2882" y="4027"/>
                  </a:lnTo>
                  <a:lnTo>
                    <a:pt x="2162" y="4027"/>
                  </a:lnTo>
                  <a:lnTo>
                    <a:pt x="1441" y="4027"/>
                  </a:lnTo>
                  <a:lnTo>
                    <a:pt x="721" y="4027"/>
                  </a:lnTo>
                  <a:lnTo>
                    <a:pt x="0" y="4027"/>
                  </a:lnTo>
                  <a:close/>
                  <a:moveTo>
                    <a:pt x="0" y="3994"/>
                  </a:moveTo>
                  <a:lnTo>
                    <a:pt x="0" y="3978"/>
                  </a:lnTo>
                  <a:lnTo>
                    <a:pt x="721" y="3978"/>
                  </a:lnTo>
                  <a:lnTo>
                    <a:pt x="1441" y="3978"/>
                  </a:lnTo>
                  <a:lnTo>
                    <a:pt x="2162" y="3978"/>
                  </a:lnTo>
                  <a:lnTo>
                    <a:pt x="2882" y="3978"/>
                  </a:lnTo>
                  <a:lnTo>
                    <a:pt x="3603" y="3978"/>
                  </a:lnTo>
                  <a:lnTo>
                    <a:pt x="4323" y="3978"/>
                  </a:lnTo>
                  <a:lnTo>
                    <a:pt x="5044" y="3978"/>
                  </a:lnTo>
                  <a:lnTo>
                    <a:pt x="5764" y="3978"/>
                  </a:lnTo>
                  <a:lnTo>
                    <a:pt x="5764" y="3994"/>
                  </a:lnTo>
                  <a:lnTo>
                    <a:pt x="5044" y="3994"/>
                  </a:lnTo>
                  <a:lnTo>
                    <a:pt x="4323" y="3994"/>
                  </a:lnTo>
                  <a:lnTo>
                    <a:pt x="3603" y="3994"/>
                  </a:lnTo>
                  <a:lnTo>
                    <a:pt x="2882" y="3994"/>
                  </a:lnTo>
                  <a:lnTo>
                    <a:pt x="2162" y="3994"/>
                  </a:lnTo>
                  <a:lnTo>
                    <a:pt x="1441" y="3994"/>
                  </a:lnTo>
                  <a:lnTo>
                    <a:pt x="721" y="3994"/>
                  </a:lnTo>
                  <a:lnTo>
                    <a:pt x="0" y="3994"/>
                  </a:lnTo>
                  <a:close/>
                  <a:moveTo>
                    <a:pt x="0" y="3962"/>
                  </a:moveTo>
                  <a:lnTo>
                    <a:pt x="0" y="3945"/>
                  </a:lnTo>
                  <a:lnTo>
                    <a:pt x="721" y="3945"/>
                  </a:lnTo>
                  <a:lnTo>
                    <a:pt x="1441" y="3945"/>
                  </a:lnTo>
                  <a:lnTo>
                    <a:pt x="2162" y="3945"/>
                  </a:lnTo>
                  <a:lnTo>
                    <a:pt x="2882" y="3945"/>
                  </a:lnTo>
                  <a:lnTo>
                    <a:pt x="3603" y="3945"/>
                  </a:lnTo>
                  <a:lnTo>
                    <a:pt x="4323" y="3945"/>
                  </a:lnTo>
                  <a:lnTo>
                    <a:pt x="5044" y="3945"/>
                  </a:lnTo>
                  <a:lnTo>
                    <a:pt x="5764" y="3945"/>
                  </a:lnTo>
                  <a:lnTo>
                    <a:pt x="5764" y="3962"/>
                  </a:lnTo>
                  <a:lnTo>
                    <a:pt x="5044" y="3962"/>
                  </a:lnTo>
                  <a:lnTo>
                    <a:pt x="4323" y="3962"/>
                  </a:lnTo>
                  <a:lnTo>
                    <a:pt x="3603" y="3962"/>
                  </a:lnTo>
                  <a:lnTo>
                    <a:pt x="2882" y="3962"/>
                  </a:lnTo>
                  <a:lnTo>
                    <a:pt x="2162" y="3962"/>
                  </a:lnTo>
                  <a:lnTo>
                    <a:pt x="1441" y="3962"/>
                  </a:lnTo>
                  <a:lnTo>
                    <a:pt x="721" y="3962"/>
                  </a:lnTo>
                  <a:lnTo>
                    <a:pt x="0" y="3962"/>
                  </a:lnTo>
                  <a:close/>
                  <a:moveTo>
                    <a:pt x="0" y="3929"/>
                  </a:moveTo>
                  <a:lnTo>
                    <a:pt x="0" y="3912"/>
                  </a:lnTo>
                  <a:lnTo>
                    <a:pt x="721" y="3912"/>
                  </a:lnTo>
                  <a:lnTo>
                    <a:pt x="1441" y="3912"/>
                  </a:lnTo>
                  <a:lnTo>
                    <a:pt x="2162" y="3912"/>
                  </a:lnTo>
                  <a:lnTo>
                    <a:pt x="2882" y="3912"/>
                  </a:lnTo>
                  <a:lnTo>
                    <a:pt x="3603" y="3912"/>
                  </a:lnTo>
                  <a:lnTo>
                    <a:pt x="4323" y="3912"/>
                  </a:lnTo>
                  <a:lnTo>
                    <a:pt x="5044" y="3912"/>
                  </a:lnTo>
                  <a:lnTo>
                    <a:pt x="5764" y="3912"/>
                  </a:lnTo>
                  <a:lnTo>
                    <a:pt x="5764" y="3929"/>
                  </a:lnTo>
                  <a:lnTo>
                    <a:pt x="5044" y="3929"/>
                  </a:lnTo>
                  <a:lnTo>
                    <a:pt x="4323" y="3929"/>
                  </a:lnTo>
                  <a:lnTo>
                    <a:pt x="3603" y="3929"/>
                  </a:lnTo>
                  <a:lnTo>
                    <a:pt x="2882" y="3929"/>
                  </a:lnTo>
                  <a:lnTo>
                    <a:pt x="2162" y="3929"/>
                  </a:lnTo>
                  <a:lnTo>
                    <a:pt x="1441" y="3929"/>
                  </a:lnTo>
                  <a:lnTo>
                    <a:pt x="721" y="3929"/>
                  </a:lnTo>
                  <a:lnTo>
                    <a:pt x="0" y="3929"/>
                  </a:lnTo>
                  <a:close/>
                  <a:moveTo>
                    <a:pt x="0" y="3896"/>
                  </a:moveTo>
                  <a:lnTo>
                    <a:pt x="0" y="3879"/>
                  </a:lnTo>
                  <a:lnTo>
                    <a:pt x="721" y="3879"/>
                  </a:lnTo>
                  <a:lnTo>
                    <a:pt x="1441" y="3879"/>
                  </a:lnTo>
                  <a:lnTo>
                    <a:pt x="2162" y="3879"/>
                  </a:lnTo>
                  <a:lnTo>
                    <a:pt x="2882" y="3879"/>
                  </a:lnTo>
                  <a:lnTo>
                    <a:pt x="3603" y="3879"/>
                  </a:lnTo>
                  <a:lnTo>
                    <a:pt x="4323" y="3879"/>
                  </a:lnTo>
                  <a:lnTo>
                    <a:pt x="5044" y="3879"/>
                  </a:lnTo>
                  <a:lnTo>
                    <a:pt x="5764" y="3879"/>
                  </a:lnTo>
                  <a:lnTo>
                    <a:pt x="5764" y="3896"/>
                  </a:lnTo>
                  <a:lnTo>
                    <a:pt x="5044" y="3896"/>
                  </a:lnTo>
                  <a:lnTo>
                    <a:pt x="4323" y="3896"/>
                  </a:lnTo>
                  <a:lnTo>
                    <a:pt x="3603" y="3896"/>
                  </a:lnTo>
                  <a:lnTo>
                    <a:pt x="2882" y="3896"/>
                  </a:lnTo>
                  <a:lnTo>
                    <a:pt x="2162" y="3896"/>
                  </a:lnTo>
                  <a:lnTo>
                    <a:pt x="1441" y="3896"/>
                  </a:lnTo>
                  <a:lnTo>
                    <a:pt x="721" y="3896"/>
                  </a:lnTo>
                  <a:lnTo>
                    <a:pt x="0" y="3896"/>
                  </a:lnTo>
                  <a:close/>
                  <a:moveTo>
                    <a:pt x="0" y="3863"/>
                  </a:moveTo>
                  <a:lnTo>
                    <a:pt x="0" y="3846"/>
                  </a:lnTo>
                  <a:lnTo>
                    <a:pt x="721" y="3846"/>
                  </a:lnTo>
                  <a:lnTo>
                    <a:pt x="1441" y="3846"/>
                  </a:lnTo>
                  <a:lnTo>
                    <a:pt x="2162" y="3846"/>
                  </a:lnTo>
                  <a:lnTo>
                    <a:pt x="2882" y="3846"/>
                  </a:lnTo>
                  <a:lnTo>
                    <a:pt x="3603" y="3846"/>
                  </a:lnTo>
                  <a:lnTo>
                    <a:pt x="4323" y="3846"/>
                  </a:lnTo>
                  <a:lnTo>
                    <a:pt x="5044" y="3846"/>
                  </a:lnTo>
                  <a:lnTo>
                    <a:pt x="5764" y="3846"/>
                  </a:lnTo>
                  <a:lnTo>
                    <a:pt x="5764" y="3863"/>
                  </a:lnTo>
                  <a:lnTo>
                    <a:pt x="5044" y="3863"/>
                  </a:lnTo>
                  <a:lnTo>
                    <a:pt x="4323" y="3863"/>
                  </a:lnTo>
                  <a:lnTo>
                    <a:pt x="3603" y="3863"/>
                  </a:lnTo>
                  <a:lnTo>
                    <a:pt x="2882" y="3863"/>
                  </a:lnTo>
                  <a:lnTo>
                    <a:pt x="2162" y="3863"/>
                  </a:lnTo>
                  <a:lnTo>
                    <a:pt x="1441" y="3863"/>
                  </a:lnTo>
                  <a:lnTo>
                    <a:pt x="721" y="3863"/>
                  </a:lnTo>
                  <a:lnTo>
                    <a:pt x="0" y="3863"/>
                  </a:lnTo>
                  <a:close/>
                  <a:moveTo>
                    <a:pt x="0" y="3830"/>
                  </a:moveTo>
                  <a:lnTo>
                    <a:pt x="0" y="3813"/>
                  </a:lnTo>
                  <a:lnTo>
                    <a:pt x="721" y="3813"/>
                  </a:lnTo>
                  <a:lnTo>
                    <a:pt x="1441" y="3813"/>
                  </a:lnTo>
                  <a:lnTo>
                    <a:pt x="2162" y="3813"/>
                  </a:lnTo>
                  <a:lnTo>
                    <a:pt x="2882" y="3813"/>
                  </a:lnTo>
                  <a:lnTo>
                    <a:pt x="3603" y="3813"/>
                  </a:lnTo>
                  <a:lnTo>
                    <a:pt x="4323" y="3813"/>
                  </a:lnTo>
                  <a:lnTo>
                    <a:pt x="5044" y="3813"/>
                  </a:lnTo>
                  <a:lnTo>
                    <a:pt x="5764" y="3813"/>
                  </a:lnTo>
                  <a:lnTo>
                    <a:pt x="5764" y="3830"/>
                  </a:lnTo>
                  <a:lnTo>
                    <a:pt x="5044" y="3830"/>
                  </a:lnTo>
                  <a:lnTo>
                    <a:pt x="4323" y="3830"/>
                  </a:lnTo>
                  <a:lnTo>
                    <a:pt x="3603" y="3830"/>
                  </a:lnTo>
                  <a:lnTo>
                    <a:pt x="2882" y="3830"/>
                  </a:lnTo>
                  <a:lnTo>
                    <a:pt x="2162" y="3830"/>
                  </a:lnTo>
                  <a:lnTo>
                    <a:pt x="1441" y="3830"/>
                  </a:lnTo>
                  <a:lnTo>
                    <a:pt x="721" y="3830"/>
                  </a:lnTo>
                  <a:lnTo>
                    <a:pt x="0" y="3830"/>
                  </a:lnTo>
                  <a:close/>
                  <a:moveTo>
                    <a:pt x="0" y="3797"/>
                  </a:moveTo>
                  <a:lnTo>
                    <a:pt x="0" y="3781"/>
                  </a:lnTo>
                  <a:lnTo>
                    <a:pt x="721" y="3781"/>
                  </a:lnTo>
                  <a:lnTo>
                    <a:pt x="1441" y="3781"/>
                  </a:lnTo>
                  <a:lnTo>
                    <a:pt x="2162" y="3781"/>
                  </a:lnTo>
                  <a:lnTo>
                    <a:pt x="2882" y="3781"/>
                  </a:lnTo>
                  <a:lnTo>
                    <a:pt x="3603" y="3781"/>
                  </a:lnTo>
                  <a:lnTo>
                    <a:pt x="4323" y="3781"/>
                  </a:lnTo>
                  <a:lnTo>
                    <a:pt x="5044" y="3781"/>
                  </a:lnTo>
                  <a:lnTo>
                    <a:pt x="5764" y="3781"/>
                  </a:lnTo>
                  <a:lnTo>
                    <a:pt x="5764" y="3797"/>
                  </a:lnTo>
                  <a:lnTo>
                    <a:pt x="5044" y="3797"/>
                  </a:lnTo>
                  <a:lnTo>
                    <a:pt x="4323" y="3797"/>
                  </a:lnTo>
                  <a:lnTo>
                    <a:pt x="3603" y="3797"/>
                  </a:lnTo>
                  <a:lnTo>
                    <a:pt x="2882" y="3797"/>
                  </a:lnTo>
                  <a:lnTo>
                    <a:pt x="2162" y="3797"/>
                  </a:lnTo>
                  <a:lnTo>
                    <a:pt x="1441" y="3797"/>
                  </a:lnTo>
                  <a:lnTo>
                    <a:pt x="721" y="3797"/>
                  </a:lnTo>
                  <a:lnTo>
                    <a:pt x="0" y="3797"/>
                  </a:lnTo>
                  <a:close/>
                  <a:moveTo>
                    <a:pt x="0" y="3765"/>
                  </a:moveTo>
                  <a:lnTo>
                    <a:pt x="0" y="3748"/>
                  </a:lnTo>
                  <a:lnTo>
                    <a:pt x="721" y="3748"/>
                  </a:lnTo>
                  <a:lnTo>
                    <a:pt x="1441" y="3748"/>
                  </a:lnTo>
                  <a:lnTo>
                    <a:pt x="2162" y="3748"/>
                  </a:lnTo>
                  <a:lnTo>
                    <a:pt x="2882" y="3748"/>
                  </a:lnTo>
                  <a:lnTo>
                    <a:pt x="3603" y="3748"/>
                  </a:lnTo>
                  <a:lnTo>
                    <a:pt x="4323" y="3748"/>
                  </a:lnTo>
                  <a:lnTo>
                    <a:pt x="5044" y="3748"/>
                  </a:lnTo>
                  <a:lnTo>
                    <a:pt x="5764" y="3748"/>
                  </a:lnTo>
                  <a:lnTo>
                    <a:pt x="5764" y="3765"/>
                  </a:lnTo>
                  <a:lnTo>
                    <a:pt x="5044" y="3765"/>
                  </a:lnTo>
                  <a:lnTo>
                    <a:pt x="4323" y="3765"/>
                  </a:lnTo>
                  <a:lnTo>
                    <a:pt x="3603" y="3765"/>
                  </a:lnTo>
                  <a:lnTo>
                    <a:pt x="2882" y="3765"/>
                  </a:lnTo>
                  <a:lnTo>
                    <a:pt x="2162" y="3765"/>
                  </a:lnTo>
                  <a:lnTo>
                    <a:pt x="1441" y="3765"/>
                  </a:lnTo>
                  <a:lnTo>
                    <a:pt x="721" y="3765"/>
                  </a:lnTo>
                  <a:lnTo>
                    <a:pt x="0" y="3765"/>
                  </a:lnTo>
                  <a:close/>
                  <a:moveTo>
                    <a:pt x="0" y="3732"/>
                  </a:moveTo>
                  <a:lnTo>
                    <a:pt x="0" y="3715"/>
                  </a:lnTo>
                  <a:lnTo>
                    <a:pt x="721" y="3715"/>
                  </a:lnTo>
                  <a:lnTo>
                    <a:pt x="1441" y="3715"/>
                  </a:lnTo>
                  <a:lnTo>
                    <a:pt x="2162" y="3715"/>
                  </a:lnTo>
                  <a:lnTo>
                    <a:pt x="2882" y="3715"/>
                  </a:lnTo>
                  <a:lnTo>
                    <a:pt x="3603" y="3715"/>
                  </a:lnTo>
                  <a:lnTo>
                    <a:pt x="4323" y="3715"/>
                  </a:lnTo>
                  <a:lnTo>
                    <a:pt x="5044" y="3715"/>
                  </a:lnTo>
                  <a:lnTo>
                    <a:pt x="5764" y="3715"/>
                  </a:lnTo>
                  <a:lnTo>
                    <a:pt x="5764" y="3732"/>
                  </a:lnTo>
                  <a:lnTo>
                    <a:pt x="5044" y="3732"/>
                  </a:lnTo>
                  <a:lnTo>
                    <a:pt x="4323" y="3732"/>
                  </a:lnTo>
                  <a:lnTo>
                    <a:pt x="3603" y="3732"/>
                  </a:lnTo>
                  <a:lnTo>
                    <a:pt x="2882" y="3732"/>
                  </a:lnTo>
                  <a:lnTo>
                    <a:pt x="2162" y="3732"/>
                  </a:lnTo>
                  <a:lnTo>
                    <a:pt x="1441" y="3732"/>
                  </a:lnTo>
                  <a:lnTo>
                    <a:pt x="721" y="3732"/>
                  </a:lnTo>
                  <a:lnTo>
                    <a:pt x="0" y="3732"/>
                  </a:lnTo>
                  <a:close/>
                  <a:moveTo>
                    <a:pt x="0" y="3699"/>
                  </a:moveTo>
                  <a:lnTo>
                    <a:pt x="0" y="3682"/>
                  </a:lnTo>
                  <a:lnTo>
                    <a:pt x="721" y="3682"/>
                  </a:lnTo>
                  <a:lnTo>
                    <a:pt x="1441" y="3682"/>
                  </a:lnTo>
                  <a:lnTo>
                    <a:pt x="2162" y="3682"/>
                  </a:lnTo>
                  <a:lnTo>
                    <a:pt x="2882" y="3682"/>
                  </a:lnTo>
                  <a:lnTo>
                    <a:pt x="3603" y="3682"/>
                  </a:lnTo>
                  <a:lnTo>
                    <a:pt x="4323" y="3682"/>
                  </a:lnTo>
                  <a:lnTo>
                    <a:pt x="5044" y="3682"/>
                  </a:lnTo>
                  <a:lnTo>
                    <a:pt x="5764" y="3682"/>
                  </a:lnTo>
                  <a:lnTo>
                    <a:pt x="5764" y="3699"/>
                  </a:lnTo>
                  <a:lnTo>
                    <a:pt x="5044" y="3699"/>
                  </a:lnTo>
                  <a:lnTo>
                    <a:pt x="4323" y="3699"/>
                  </a:lnTo>
                  <a:lnTo>
                    <a:pt x="3603" y="3699"/>
                  </a:lnTo>
                  <a:lnTo>
                    <a:pt x="2882" y="3699"/>
                  </a:lnTo>
                  <a:lnTo>
                    <a:pt x="2162" y="3699"/>
                  </a:lnTo>
                  <a:lnTo>
                    <a:pt x="1441" y="3699"/>
                  </a:lnTo>
                  <a:lnTo>
                    <a:pt x="721" y="3699"/>
                  </a:lnTo>
                  <a:lnTo>
                    <a:pt x="0" y="3699"/>
                  </a:lnTo>
                  <a:close/>
                  <a:moveTo>
                    <a:pt x="0" y="3666"/>
                  </a:moveTo>
                  <a:lnTo>
                    <a:pt x="0" y="3649"/>
                  </a:lnTo>
                  <a:lnTo>
                    <a:pt x="721" y="3649"/>
                  </a:lnTo>
                  <a:lnTo>
                    <a:pt x="1441" y="3649"/>
                  </a:lnTo>
                  <a:lnTo>
                    <a:pt x="2162" y="3649"/>
                  </a:lnTo>
                  <a:lnTo>
                    <a:pt x="2882" y="3649"/>
                  </a:lnTo>
                  <a:lnTo>
                    <a:pt x="3603" y="3649"/>
                  </a:lnTo>
                  <a:lnTo>
                    <a:pt x="4323" y="3649"/>
                  </a:lnTo>
                  <a:lnTo>
                    <a:pt x="5044" y="3649"/>
                  </a:lnTo>
                  <a:lnTo>
                    <a:pt x="5764" y="3649"/>
                  </a:lnTo>
                  <a:lnTo>
                    <a:pt x="5764" y="3666"/>
                  </a:lnTo>
                  <a:lnTo>
                    <a:pt x="5044" y="3666"/>
                  </a:lnTo>
                  <a:lnTo>
                    <a:pt x="4323" y="3666"/>
                  </a:lnTo>
                  <a:lnTo>
                    <a:pt x="3603" y="3666"/>
                  </a:lnTo>
                  <a:lnTo>
                    <a:pt x="2882" y="3666"/>
                  </a:lnTo>
                  <a:lnTo>
                    <a:pt x="2162" y="3666"/>
                  </a:lnTo>
                  <a:lnTo>
                    <a:pt x="1441" y="3666"/>
                  </a:lnTo>
                  <a:lnTo>
                    <a:pt x="721" y="3666"/>
                  </a:lnTo>
                  <a:lnTo>
                    <a:pt x="0" y="3666"/>
                  </a:lnTo>
                  <a:close/>
                  <a:moveTo>
                    <a:pt x="0" y="3633"/>
                  </a:moveTo>
                  <a:lnTo>
                    <a:pt x="0" y="3616"/>
                  </a:lnTo>
                  <a:lnTo>
                    <a:pt x="721" y="3616"/>
                  </a:lnTo>
                  <a:lnTo>
                    <a:pt x="1441" y="3616"/>
                  </a:lnTo>
                  <a:lnTo>
                    <a:pt x="2162" y="3616"/>
                  </a:lnTo>
                  <a:lnTo>
                    <a:pt x="2882" y="3616"/>
                  </a:lnTo>
                  <a:lnTo>
                    <a:pt x="3603" y="3616"/>
                  </a:lnTo>
                  <a:lnTo>
                    <a:pt x="4323" y="3616"/>
                  </a:lnTo>
                  <a:lnTo>
                    <a:pt x="5044" y="3616"/>
                  </a:lnTo>
                  <a:lnTo>
                    <a:pt x="5764" y="3616"/>
                  </a:lnTo>
                  <a:lnTo>
                    <a:pt x="5764" y="3633"/>
                  </a:lnTo>
                  <a:lnTo>
                    <a:pt x="5044" y="3633"/>
                  </a:lnTo>
                  <a:lnTo>
                    <a:pt x="4323" y="3633"/>
                  </a:lnTo>
                  <a:lnTo>
                    <a:pt x="3603" y="3633"/>
                  </a:lnTo>
                  <a:lnTo>
                    <a:pt x="2882" y="3633"/>
                  </a:lnTo>
                  <a:lnTo>
                    <a:pt x="2162" y="3633"/>
                  </a:lnTo>
                  <a:lnTo>
                    <a:pt x="1441" y="3633"/>
                  </a:lnTo>
                  <a:lnTo>
                    <a:pt x="721" y="3633"/>
                  </a:lnTo>
                  <a:lnTo>
                    <a:pt x="0" y="3633"/>
                  </a:lnTo>
                  <a:close/>
                  <a:moveTo>
                    <a:pt x="0" y="3599"/>
                  </a:moveTo>
                  <a:lnTo>
                    <a:pt x="0" y="3583"/>
                  </a:lnTo>
                  <a:lnTo>
                    <a:pt x="721" y="3583"/>
                  </a:lnTo>
                  <a:lnTo>
                    <a:pt x="1441" y="3583"/>
                  </a:lnTo>
                  <a:lnTo>
                    <a:pt x="2162" y="3583"/>
                  </a:lnTo>
                  <a:lnTo>
                    <a:pt x="2882" y="3583"/>
                  </a:lnTo>
                  <a:lnTo>
                    <a:pt x="3603" y="3583"/>
                  </a:lnTo>
                  <a:lnTo>
                    <a:pt x="4323" y="3583"/>
                  </a:lnTo>
                  <a:lnTo>
                    <a:pt x="5044" y="3583"/>
                  </a:lnTo>
                  <a:lnTo>
                    <a:pt x="5764" y="3583"/>
                  </a:lnTo>
                  <a:lnTo>
                    <a:pt x="5764" y="3599"/>
                  </a:lnTo>
                  <a:lnTo>
                    <a:pt x="5044" y="3599"/>
                  </a:lnTo>
                  <a:lnTo>
                    <a:pt x="4323" y="3599"/>
                  </a:lnTo>
                  <a:lnTo>
                    <a:pt x="3603" y="3599"/>
                  </a:lnTo>
                  <a:lnTo>
                    <a:pt x="2882" y="3599"/>
                  </a:lnTo>
                  <a:lnTo>
                    <a:pt x="2162" y="3599"/>
                  </a:lnTo>
                  <a:lnTo>
                    <a:pt x="1441" y="3599"/>
                  </a:lnTo>
                  <a:lnTo>
                    <a:pt x="721" y="3599"/>
                  </a:lnTo>
                  <a:lnTo>
                    <a:pt x="0" y="3599"/>
                  </a:lnTo>
                  <a:close/>
                  <a:moveTo>
                    <a:pt x="0" y="3566"/>
                  </a:moveTo>
                  <a:lnTo>
                    <a:pt x="0" y="3550"/>
                  </a:lnTo>
                  <a:lnTo>
                    <a:pt x="721" y="3550"/>
                  </a:lnTo>
                  <a:lnTo>
                    <a:pt x="1441" y="3550"/>
                  </a:lnTo>
                  <a:lnTo>
                    <a:pt x="2162" y="3550"/>
                  </a:lnTo>
                  <a:lnTo>
                    <a:pt x="2882" y="3550"/>
                  </a:lnTo>
                  <a:lnTo>
                    <a:pt x="3603" y="3550"/>
                  </a:lnTo>
                  <a:lnTo>
                    <a:pt x="4323" y="3550"/>
                  </a:lnTo>
                  <a:lnTo>
                    <a:pt x="5044" y="3550"/>
                  </a:lnTo>
                  <a:lnTo>
                    <a:pt x="5764" y="3550"/>
                  </a:lnTo>
                  <a:lnTo>
                    <a:pt x="5764" y="3566"/>
                  </a:lnTo>
                  <a:lnTo>
                    <a:pt x="5044" y="3566"/>
                  </a:lnTo>
                  <a:lnTo>
                    <a:pt x="4323" y="3566"/>
                  </a:lnTo>
                  <a:lnTo>
                    <a:pt x="3603" y="3566"/>
                  </a:lnTo>
                  <a:lnTo>
                    <a:pt x="2882" y="3566"/>
                  </a:lnTo>
                  <a:lnTo>
                    <a:pt x="2162" y="3566"/>
                  </a:lnTo>
                  <a:lnTo>
                    <a:pt x="1441" y="3566"/>
                  </a:lnTo>
                  <a:lnTo>
                    <a:pt x="721" y="3566"/>
                  </a:lnTo>
                  <a:lnTo>
                    <a:pt x="0" y="3566"/>
                  </a:lnTo>
                  <a:close/>
                  <a:moveTo>
                    <a:pt x="0" y="3534"/>
                  </a:moveTo>
                  <a:lnTo>
                    <a:pt x="0" y="3517"/>
                  </a:lnTo>
                  <a:lnTo>
                    <a:pt x="721" y="3517"/>
                  </a:lnTo>
                  <a:lnTo>
                    <a:pt x="1441" y="3517"/>
                  </a:lnTo>
                  <a:lnTo>
                    <a:pt x="2162" y="3517"/>
                  </a:lnTo>
                  <a:lnTo>
                    <a:pt x="2882" y="3517"/>
                  </a:lnTo>
                  <a:lnTo>
                    <a:pt x="3603" y="3517"/>
                  </a:lnTo>
                  <a:lnTo>
                    <a:pt x="4323" y="3517"/>
                  </a:lnTo>
                  <a:lnTo>
                    <a:pt x="5044" y="3517"/>
                  </a:lnTo>
                  <a:lnTo>
                    <a:pt x="5764" y="3517"/>
                  </a:lnTo>
                  <a:lnTo>
                    <a:pt x="5764" y="3534"/>
                  </a:lnTo>
                  <a:lnTo>
                    <a:pt x="5044" y="3534"/>
                  </a:lnTo>
                  <a:lnTo>
                    <a:pt x="4323" y="3534"/>
                  </a:lnTo>
                  <a:lnTo>
                    <a:pt x="3603" y="3534"/>
                  </a:lnTo>
                  <a:lnTo>
                    <a:pt x="2882" y="3534"/>
                  </a:lnTo>
                  <a:lnTo>
                    <a:pt x="2162" y="3534"/>
                  </a:lnTo>
                  <a:lnTo>
                    <a:pt x="1441" y="3534"/>
                  </a:lnTo>
                  <a:lnTo>
                    <a:pt x="721" y="3534"/>
                  </a:lnTo>
                  <a:lnTo>
                    <a:pt x="0" y="3534"/>
                  </a:lnTo>
                  <a:close/>
                  <a:moveTo>
                    <a:pt x="0" y="3501"/>
                  </a:moveTo>
                  <a:lnTo>
                    <a:pt x="0" y="3484"/>
                  </a:lnTo>
                  <a:lnTo>
                    <a:pt x="721" y="3484"/>
                  </a:lnTo>
                  <a:lnTo>
                    <a:pt x="1441" y="3484"/>
                  </a:lnTo>
                  <a:lnTo>
                    <a:pt x="2162" y="3484"/>
                  </a:lnTo>
                  <a:lnTo>
                    <a:pt x="2882" y="3484"/>
                  </a:lnTo>
                  <a:lnTo>
                    <a:pt x="3603" y="3484"/>
                  </a:lnTo>
                  <a:lnTo>
                    <a:pt x="4323" y="3484"/>
                  </a:lnTo>
                  <a:lnTo>
                    <a:pt x="5044" y="3484"/>
                  </a:lnTo>
                  <a:lnTo>
                    <a:pt x="5764" y="3484"/>
                  </a:lnTo>
                  <a:lnTo>
                    <a:pt x="5764" y="3501"/>
                  </a:lnTo>
                  <a:lnTo>
                    <a:pt x="5044" y="3501"/>
                  </a:lnTo>
                  <a:lnTo>
                    <a:pt x="4323" y="3501"/>
                  </a:lnTo>
                  <a:lnTo>
                    <a:pt x="3603" y="3501"/>
                  </a:lnTo>
                  <a:lnTo>
                    <a:pt x="2882" y="3501"/>
                  </a:lnTo>
                  <a:lnTo>
                    <a:pt x="2162" y="3501"/>
                  </a:lnTo>
                  <a:lnTo>
                    <a:pt x="1441" y="3501"/>
                  </a:lnTo>
                  <a:lnTo>
                    <a:pt x="721" y="3501"/>
                  </a:lnTo>
                  <a:lnTo>
                    <a:pt x="0" y="3501"/>
                  </a:lnTo>
                  <a:close/>
                  <a:moveTo>
                    <a:pt x="0" y="3468"/>
                  </a:moveTo>
                  <a:lnTo>
                    <a:pt x="0" y="3451"/>
                  </a:lnTo>
                  <a:lnTo>
                    <a:pt x="721" y="3451"/>
                  </a:lnTo>
                  <a:lnTo>
                    <a:pt x="1441" y="3451"/>
                  </a:lnTo>
                  <a:lnTo>
                    <a:pt x="2162" y="3451"/>
                  </a:lnTo>
                  <a:lnTo>
                    <a:pt x="2882" y="3451"/>
                  </a:lnTo>
                  <a:lnTo>
                    <a:pt x="3603" y="3451"/>
                  </a:lnTo>
                  <a:lnTo>
                    <a:pt x="4323" y="3451"/>
                  </a:lnTo>
                  <a:lnTo>
                    <a:pt x="5044" y="3451"/>
                  </a:lnTo>
                  <a:lnTo>
                    <a:pt x="5764" y="3451"/>
                  </a:lnTo>
                  <a:lnTo>
                    <a:pt x="5764" y="3468"/>
                  </a:lnTo>
                  <a:lnTo>
                    <a:pt x="5044" y="3468"/>
                  </a:lnTo>
                  <a:lnTo>
                    <a:pt x="4323" y="3468"/>
                  </a:lnTo>
                  <a:lnTo>
                    <a:pt x="3603" y="3468"/>
                  </a:lnTo>
                  <a:lnTo>
                    <a:pt x="2882" y="3468"/>
                  </a:lnTo>
                  <a:lnTo>
                    <a:pt x="2162" y="3468"/>
                  </a:lnTo>
                  <a:lnTo>
                    <a:pt x="1441" y="3468"/>
                  </a:lnTo>
                  <a:lnTo>
                    <a:pt x="721" y="3468"/>
                  </a:lnTo>
                  <a:lnTo>
                    <a:pt x="0" y="3468"/>
                  </a:lnTo>
                  <a:close/>
                  <a:moveTo>
                    <a:pt x="0" y="3435"/>
                  </a:moveTo>
                  <a:lnTo>
                    <a:pt x="0" y="3418"/>
                  </a:lnTo>
                  <a:lnTo>
                    <a:pt x="721" y="3418"/>
                  </a:lnTo>
                  <a:lnTo>
                    <a:pt x="1441" y="3418"/>
                  </a:lnTo>
                  <a:lnTo>
                    <a:pt x="2162" y="3418"/>
                  </a:lnTo>
                  <a:lnTo>
                    <a:pt x="2882" y="3418"/>
                  </a:lnTo>
                  <a:lnTo>
                    <a:pt x="3603" y="3418"/>
                  </a:lnTo>
                  <a:lnTo>
                    <a:pt x="4323" y="3418"/>
                  </a:lnTo>
                  <a:lnTo>
                    <a:pt x="5044" y="3418"/>
                  </a:lnTo>
                  <a:lnTo>
                    <a:pt x="5764" y="3418"/>
                  </a:lnTo>
                  <a:lnTo>
                    <a:pt x="5764" y="3435"/>
                  </a:lnTo>
                  <a:lnTo>
                    <a:pt x="5044" y="3435"/>
                  </a:lnTo>
                  <a:lnTo>
                    <a:pt x="4323" y="3435"/>
                  </a:lnTo>
                  <a:lnTo>
                    <a:pt x="3603" y="3435"/>
                  </a:lnTo>
                  <a:lnTo>
                    <a:pt x="2882" y="3435"/>
                  </a:lnTo>
                  <a:lnTo>
                    <a:pt x="2162" y="3435"/>
                  </a:lnTo>
                  <a:lnTo>
                    <a:pt x="1441" y="3435"/>
                  </a:lnTo>
                  <a:lnTo>
                    <a:pt x="721" y="3435"/>
                  </a:lnTo>
                  <a:lnTo>
                    <a:pt x="0" y="3435"/>
                  </a:lnTo>
                  <a:close/>
                  <a:moveTo>
                    <a:pt x="0" y="3402"/>
                  </a:moveTo>
                  <a:lnTo>
                    <a:pt x="0" y="3385"/>
                  </a:lnTo>
                  <a:lnTo>
                    <a:pt x="721" y="3385"/>
                  </a:lnTo>
                  <a:lnTo>
                    <a:pt x="1441" y="3385"/>
                  </a:lnTo>
                  <a:lnTo>
                    <a:pt x="2162" y="3385"/>
                  </a:lnTo>
                  <a:lnTo>
                    <a:pt x="2882" y="3385"/>
                  </a:lnTo>
                  <a:lnTo>
                    <a:pt x="3603" y="3385"/>
                  </a:lnTo>
                  <a:lnTo>
                    <a:pt x="4323" y="3385"/>
                  </a:lnTo>
                  <a:lnTo>
                    <a:pt x="5044" y="3385"/>
                  </a:lnTo>
                  <a:lnTo>
                    <a:pt x="5764" y="3385"/>
                  </a:lnTo>
                  <a:lnTo>
                    <a:pt x="5764" y="3402"/>
                  </a:lnTo>
                  <a:lnTo>
                    <a:pt x="5044" y="3402"/>
                  </a:lnTo>
                  <a:lnTo>
                    <a:pt x="4323" y="3402"/>
                  </a:lnTo>
                  <a:lnTo>
                    <a:pt x="3603" y="3402"/>
                  </a:lnTo>
                  <a:lnTo>
                    <a:pt x="2882" y="3402"/>
                  </a:lnTo>
                  <a:lnTo>
                    <a:pt x="2162" y="3402"/>
                  </a:lnTo>
                  <a:lnTo>
                    <a:pt x="1441" y="3402"/>
                  </a:lnTo>
                  <a:lnTo>
                    <a:pt x="721" y="3402"/>
                  </a:lnTo>
                  <a:lnTo>
                    <a:pt x="0" y="3402"/>
                  </a:lnTo>
                  <a:close/>
                  <a:moveTo>
                    <a:pt x="0" y="3369"/>
                  </a:moveTo>
                  <a:lnTo>
                    <a:pt x="0" y="3353"/>
                  </a:lnTo>
                  <a:lnTo>
                    <a:pt x="721" y="3353"/>
                  </a:lnTo>
                  <a:lnTo>
                    <a:pt x="1441" y="3353"/>
                  </a:lnTo>
                  <a:lnTo>
                    <a:pt x="2162" y="3353"/>
                  </a:lnTo>
                  <a:lnTo>
                    <a:pt x="2882" y="3353"/>
                  </a:lnTo>
                  <a:lnTo>
                    <a:pt x="3603" y="3353"/>
                  </a:lnTo>
                  <a:lnTo>
                    <a:pt x="4323" y="3353"/>
                  </a:lnTo>
                  <a:lnTo>
                    <a:pt x="5044" y="3353"/>
                  </a:lnTo>
                  <a:lnTo>
                    <a:pt x="5764" y="3353"/>
                  </a:lnTo>
                  <a:lnTo>
                    <a:pt x="5764" y="3369"/>
                  </a:lnTo>
                  <a:lnTo>
                    <a:pt x="5044" y="3369"/>
                  </a:lnTo>
                  <a:lnTo>
                    <a:pt x="4323" y="3369"/>
                  </a:lnTo>
                  <a:lnTo>
                    <a:pt x="3603" y="3369"/>
                  </a:lnTo>
                  <a:lnTo>
                    <a:pt x="2882" y="3369"/>
                  </a:lnTo>
                  <a:lnTo>
                    <a:pt x="2162" y="3369"/>
                  </a:lnTo>
                  <a:lnTo>
                    <a:pt x="1441" y="3369"/>
                  </a:lnTo>
                  <a:lnTo>
                    <a:pt x="721" y="3369"/>
                  </a:lnTo>
                  <a:lnTo>
                    <a:pt x="0" y="3369"/>
                  </a:lnTo>
                  <a:close/>
                  <a:moveTo>
                    <a:pt x="0" y="3337"/>
                  </a:moveTo>
                  <a:lnTo>
                    <a:pt x="0" y="3320"/>
                  </a:lnTo>
                  <a:lnTo>
                    <a:pt x="721" y="3320"/>
                  </a:lnTo>
                  <a:lnTo>
                    <a:pt x="1441" y="3320"/>
                  </a:lnTo>
                  <a:lnTo>
                    <a:pt x="2162" y="3320"/>
                  </a:lnTo>
                  <a:lnTo>
                    <a:pt x="2882" y="3320"/>
                  </a:lnTo>
                  <a:lnTo>
                    <a:pt x="3603" y="3320"/>
                  </a:lnTo>
                  <a:lnTo>
                    <a:pt x="4323" y="3320"/>
                  </a:lnTo>
                  <a:lnTo>
                    <a:pt x="5044" y="3320"/>
                  </a:lnTo>
                  <a:lnTo>
                    <a:pt x="5764" y="3320"/>
                  </a:lnTo>
                  <a:lnTo>
                    <a:pt x="5764" y="3337"/>
                  </a:lnTo>
                  <a:lnTo>
                    <a:pt x="5044" y="3337"/>
                  </a:lnTo>
                  <a:lnTo>
                    <a:pt x="4323" y="3337"/>
                  </a:lnTo>
                  <a:lnTo>
                    <a:pt x="3603" y="3337"/>
                  </a:lnTo>
                  <a:lnTo>
                    <a:pt x="2882" y="3337"/>
                  </a:lnTo>
                  <a:lnTo>
                    <a:pt x="2162" y="3337"/>
                  </a:lnTo>
                  <a:lnTo>
                    <a:pt x="1441" y="3337"/>
                  </a:lnTo>
                  <a:lnTo>
                    <a:pt x="721" y="3337"/>
                  </a:lnTo>
                  <a:lnTo>
                    <a:pt x="0" y="3337"/>
                  </a:lnTo>
                  <a:close/>
                  <a:moveTo>
                    <a:pt x="0" y="3304"/>
                  </a:moveTo>
                  <a:lnTo>
                    <a:pt x="0" y="3287"/>
                  </a:lnTo>
                  <a:lnTo>
                    <a:pt x="721" y="3287"/>
                  </a:lnTo>
                  <a:lnTo>
                    <a:pt x="1441" y="3287"/>
                  </a:lnTo>
                  <a:lnTo>
                    <a:pt x="2162" y="3287"/>
                  </a:lnTo>
                  <a:lnTo>
                    <a:pt x="2882" y="3287"/>
                  </a:lnTo>
                  <a:lnTo>
                    <a:pt x="3603" y="3287"/>
                  </a:lnTo>
                  <a:lnTo>
                    <a:pt x="4323" y="3287"/>
                  </a:lnTo>
                  <a:lnTo>
                    <a:pt x="5044" y="3287"/>
                  </a:lnTo>
                  <a:lnTo>
                    <a:pt x="5764" y="3287"/>
                  </a:lnTo>
                  <a:lnTo>
                    <a:pt x="5764" y="3304"/>
                  </a:lnTo>
                  <a:lnTo>
                    <a:pt x="5044" y="3304"/>
                  </a:lnTo>
                  <a:lnTo>
                    <a:pt x="4323" y="3304"/>
                  </a:lnTo>
                  <a:lnTo>
                    <a:pt x="3603" y="3304"/>
                  </a:lnTo>
                  <a:lnTo>
                    <a:pt x="2882" y="3304"/>
                  </a:lnTo>
                  <a:lnTo>
                    <a:pt x="2162" y="3304"/>
                  </a:lnTo>
                  <a:lnTo>
                    <a:pt x="1441" y="3304"/>
                  </a:lnTo>
                  <a:lnTo>
                    <a:pt x="721" y="3304"/>
                  </a:lnTo>
                  <a:lnTo>
                    <a:pt x="0" y="3304"/>
                  </a:lnTo>
                  <a:close/>
                  <a:moveTo>
                    <a:pt x="0" y="3271"/>
                  </a:moveTo>
                  <a:lnTo>
                    <a:pt x="0" y="3254"/>
                  </a:lnTo>
                  <a:lnTo>
                    <a:pt x="721" y="3254"/>
                  </a:lnTo>
                  <a:lnTo>
                    <a:pt x="1441" y="3254"/>
                  </a:lnTo>
                  <a:lnTo>
                    <a:pt x="2162" y="3254"/>
                  </a:lnTo>
                  <a:lnTo>
                    <a:pt x="2882" y="3254"/>
                  </a:lnTo>
                  <a:lnTo>
                    <a:pt x="3603" y="3254"/>
                  </a:lnTo>
                  <a:lnTo>
                    <a:pt x="4323" y="3254"/>
                  </a:lnTo>
                  <a:lnTo>
                    <a:pt x="5044" y="3254"/>
                  </a:lnTo>
                  <a:lnTo>
                    <a:pt x="5764" y="3254"/>
                  </a:lnTo>
                  <a:lnTo>
                    <a:pt x="5764" y="3271"/>
                  </a:lnTo>
                  <a:lnTo>
                    <a:pt x="5044" y="3271"/>
                  </a:lnTo>
                  <a:lnTo>
                    <a:pt x="4323" y="3271"/>
                  </a:lnTo>
                  <a:lnTo>
                    <a:pt x="3603" y="3271"/>
                  </a:lnTo>
                  <a:lnTo>
                    <a:pt x="2882" y="3271"/>
                  </a:lnTo>
                  <a:lnTo>
                    <a:pt x="2162" y="3271"/>
                  </a:lnTo>
                  <a:lnTo>
                    <a:pt x="1441" y="3271"/>
                  </a:lnTo>
                  <a:lnTo>
                    <a:pt x="721" y="3271"/>
                  </a:lnTo>
                  <a:lnTo>
                    <a:pt x="0" y="3271"/>
                  </a:lnTo>
                  <a:close/>
                  <a:moveTo>
                    <a:pt x="0" y="3238"/>
                  </a:moveTo>
                  <a:lnTo>
                    <a:pt x="0" y="3221"/>
                  </a:lnTo>
                  <a:lnTo>
                    <a:pt x="721" y="3221"/>
                  </a:lnTo>
                  <a:lnTo>
                    <a:pt x="1441" y="3221"/>
                  </a:lnTo>
                  <a:lnTo>
                    <a:pt x="2162" y="3221"/>
                  </a:lnTo>
                  <a:lnTo>
                    <a:pt x="2882" y="3221"/>
                  </a:lnTo>
                  <a:lnTo>
                    <a:pt x="3603" y="3221"/>
                  </a:lnTo>
                  <a:lnTo>
                    <a:pt x="4323" y="3221"/>
                  </a:lnTo>
                  <a:lnTo>
                    <a:pt x="5044" y="3221"/>
                  </a:lnTo>
                  <a:lnTo>
                    <a:pt x="5764" y="3221"/>
                  </a:lnTo>
                  <a:lnTo>
                    <a:pt x="5764" y="3238"/>
                  </a:lnTo>
                  <a:lnTo>
                    <a:pt x="5044" y="3238"/>
                  </a:lnTo>
                  <a:lnTo>
                    <a:pt x="4323" y="3238"/>
                  </a:lnTo>
                  <a:lnTo>
                    <a:pt x="3603" y="3238"/>
                  </a:lnTo>
                  <a:lnTo>
                    <a:pt x="2882" y="3238"/>
                  </a:lnTo>
                  <a:lnTo>
                    <a:pt x="2162" y="3238"/>
                  </a:lnTo>
                  <a:lnTo>
                    <a:pt x="1441" y="3238"/>
                  </a:lnTo>
                  <a:lnTo>
                    <a:pt x="721" y="3238"/>
                  </a:lnTo>
                  <a:lnTo>
                    <a:pt x="0" y="3238"/>
                  </a:lnTo>
                  <a:close/>
                  <a:moveTo>
                    <a:pt x="0" y="3205"/>
                  </a:moveTo>
                  <a:lnTo>
                    <a:pt x="0" y="3188"/>
                  </a:lnTo>
                  <a:lnTo>
                    <a:pt x="721" y="3188"/>
                  </a:lnTo>
                  <a:lnTo>
                    <a:pt x="1441" y="3188"/>
                  </a:lnTo>
                  <a:lnTo>
                    <a:pt x="2162" y="3188"/>
                  </a:lnTo>
                  <a:lnTo>
                    <a:pt x="2882" y="3188"/>
                  </a:lnTo>
                  <a:lnTo>
                    <a:pt x="3603" y="3188"/>
                  </a:lnTo>
                  <a:lnTo>
                    <a:pt x="4323" y="3188"/>
                  </a:lnTo>
                  <a:lnTo>
                    <a:pt x="5044" y="3188"/>
                  </a:lnTo>
                  <a:lnTo>
                    <a:pt x="5764" y="3188"/>
                  </a:lnTo>
                  <a:lnTo>
                    <a:pt x="5764" y="3205"/>
                  </a:lnTo>
                  <a:lnTo>
                    <a:pt x="5044" y="3205"/>
                  </a:lnTo>
                  <a:lnTo>
                    <a:pt x="4323" y="3205"/>
                  </a:lnTo>
                  <a:lnTo>
                    <a:pt x="3603" y="3205"/>
                  </a:lnTo>
                  <a:lnTo>
                    <a:pt x="2882" y="3205"/>
                  </a:lnTo>
                  <a:lnTo>
                    <a:pt x="2162" y="3205"/>
                  </a:lnTo>
                  <a:lnTo>
                    <a:pt x="1441" y="3205"/>
                  </a:lnTo>
                  <a:lnTo>
                    <a:pt x="721" y="3205"/>
                  </a:lnTo>
                  <a:lnTo>
                    <a:pt x="0" y="3205"/>
                  </a:lnTo>
                  <a:close/>
                  <a:moveTo>
                    <a:pt x="0" y="3172"/>
                  </a:moveTo>
                  <a:lnTo>
                    <a:pt x="0" y="3155"/>
                  </a:lnTo>
                  <a:lnTo>
                    <a:pt x="721" y="3155"/>
                  </a:lnTo>
                  <a:lnTo>
                    <a:pt x="1441" y="3155"/>
                  </a:lnTo>
                  <a:lnTo>
                    <a:pt x="2162" y="3155"/>
                  </a:lnTo>
                  <a:lnTo>
                    <a:pt x="2882" y="3155"/>
                  </a:lnTo>
                  <a:lnTo>
                    <a:pt x="3603" y="3155"/>
                  </a:lnTo>
                  <a:lnTo>
                    <a:pt x="4323" y="3155"/>
                  </a:lnTo>
                  <a:lnTo>
                    <a:pt x="5044" y="3155"/>
                  </a:lnTo>
                  <a:lnTo>
                    <a:pt x="5764" y="3155"/>
                  </a:lnTo>
                  <a:lnTo>
                    <a:pt x="5764" y="3172"/>
                  </a:lnTo>
                  <a:lnTo>
                    <a:pt x="5044" y="3172"/>
                  </a:lnTo>
                  <a:lnTo>
                    <a:pt x="4323" y="3172"/>
                  </a:lnTo>
                  <a:lnTo>
                    <a:pt x="3603" y="3172"/>
                  </a:lnTo>
                  <a:lnTo>
                    <a:pt x="2882" y="3172"/>
                  </a:lnTo>
                  <a:lnTo>
                    <a:pt x="2162" y="3172"/>
                  </a:lnTo>
                  <a:lnTo>
                    <a:pt x="1441" y="3172"/>
                  </a:lnTo>
                  <a:lnTo>
                    <a:pt x="721" y="3172"/>
                  </a:lnTo>
                  <a:lnTo>
                    <a:pt x="0" y="3172"/>
                  </a:lnTo>
                  <a:close/>
                  <a:moveTo>
                    <a:pt x="0" y="3139"/>
                  </a:moveTo>
                  <a:lnTo>
                    <a:pt x="0" y="3123"/>
                  </a:lnTo>
                  <a:lnTo>
                    <a:pt x="721" y="3123"/>
                  </a:lnTo>
                  <a:lnTo>
                    <a:pt x="1441" y="3123"/>
                  </a:lnTo>
                  <a:lnTo>
                    <a:pt x="2162" y="3123"/>
                  </a:lnTo>
                  <a:lnTo>
                    <a:pt x="2882" y="3123"/>
                  </a:lnTo>
                  <a:lnTo>
                    <a:pt x="3603" y="3123"/>
                  </a:lnTo>
                  <a:lnTo>
                    <a:pt x="4323" y="3123"/>
                  </a:lnTo>
                  <a:lnTo>
                    <a:pt x="5044" y="3123"/>
                  </a:lnTo>
                  <a:lnTo>
                    <a:pt x="5764" y="3123"/>
                  </a:lnTo>
                  <a:lnTo>
                    <a:pt x="5764" y="3139"/>
                  </a:lnTo>
                  <a:lnTo>
                    <a:pt x="5044" y="3139"/>
                  </a:lnTo>
                  <a:lnTo>
                    <a:pt x="4323" y="3139"/>
                  </a:lnTo>
                  <a:lnTo>
                    <a:pt x="3603" y="3139"/>
                  </a:lnTo>
                  <a:lnTo>
                    <a:pt x="2882" y="3139"/>
                  </a:lnTo>
                  <a:lnTo>
                    <a:pt x="2162" y="3139"/>
                  </a:lnTo>
                  <a:lnTo>
                    <a:pt x="1441" y="3139"/>
                  </a:lnTo>
                  <a:lnTo>
                    <a:pt x="721" y="3139"/>
                  </a:lnTo>
                  <a:lnTo>
                    <a:pt x="0" y="3139"/>
                  </a:lnTo>
                  <a:close/>
                  <a:moveTo>
                    <a:pt x="0" y="3107"/>
                  </a:moveTo>
                  <a:lnTo>
                    <a:pt x="0" y="3090"/>
                  </a:lnTo>
                  <a:lnTo>
                    <a:pt x="721" y="3090"/>
                  </a:lnTo>
                  <a:lnTo>
                    <a:pt x="1441" y="3090"/>
                  </a:lnTo>
                  <a:lnTo>
                    <a:pt x="2162" y="3090"/>
                  </a:lnTo>
                  <a:lnTo>
                    <a:pt x="2882" y="3090"/>
                  </a:lnTo>
                  <a:lnTo>
                    <a:pt x="3603" y="3090"/>
                  </a:lnTo>
                  <a:lnTo>
                    <a:pt x="4323" y="3090"/>
                  </a:lnTo>
                  <a:lnTo>
                    <a:pt x="5044" y="3090"/>
                  </a:lnTo>
                  <a:lnTo>
                    <a:pt x="5764" y="3090"/>
                  </a:lnTo>
                  <a:lnTo>
                    <a:pt x="5764" y="3107"/>
                  </a:lnTo>
                  <a:lnTo>
                    <a:pt x="5044" y="3107"/>
                  </a:lnTo>
                  <a:lnTo>
                    <a:pt x="4323" y="3107"/>
                  </a:lnTo>
                  <a:lnTo>
                    <a:pt x="3603" y="3107"/>
                  </a:lnTo>
                  <a:lnTo>
                    <a:pt x="2882" y="3107"/>
                  </a:lnTo>
                  <a:lnTo>
                    <a:pt x="2162" y="3107"/>
                  </a:lnTo>
                  <a:lnTo>
                    <a:pt x="1441" y="3107"/>
                  </a:lnTo>
                  <a:lnTo>
                    <a:pt x="721" y="3107"/>
                  </a:lnTo>
                  <a:lnTo>
                    <a:pt x="0" y="3107"/>
                  </a:lnTo>
                  <a:close/>
                  <a:moveTo>
                    <a:pt x="0" y="3074"/>
                  </a:moveTo>
                  <a:lnTo>
                    <a:pt x="0" y="3057"/>
                  </a:lnTo>
                  <a:lnTo>
                    <a:pt x="721" y="3057"/>
                  </a:lnTo>
                  <a:lnTo>
                    <a:pt x="1441" y="3057"/>
                  </a:lnTo>
                  <a:lnTo>
                    <a:pt x="2162" y="3057"/>
                  </a:lnTo>
                  <a:lnTo>
                    <a:pt x="2882" y="3057"/>
                  </a:lnTo>
                  <a:lnTo>
                    <a:pt x="3603" y="3057"/>
                  </a:lnTo>
                  <a:lnTo>
                    <a:pt x="4323" y="3057"/>
                  </a:lnTo>
                  <a:lnTo>
                    <a:pt x="5044" y="3057"/>
                  </a:lnTo>
                  <a:lnTo>
                    <a:pt x="5764" y="3057"/>
                  </a:lnTo>
                  <a:lnTo>
                    <a:pt x="5764" y="3074"/>
                  </a:lnTo>
                  <a:lnTo>
                    <a:pt x="5044" y="3074"/>
                  </a:lnTo>
                  <a:lnTo>
                    <a:pt x="4323" y="3074"/>
                  </a:lnTo>
                  <a:lnTo>
                    <a:pt x="3603" y="3074"/>
                  </a:lnTo>
                  <a:lnTo>
                    <a:pt x="2882" y="3074"/>
                  </a:lnTo>
                  <a:lnTo>
                    <a:pt x="2162" y="3074"/>
                  </a:lnTo>
                  <a:lnTo>
                    <a:pt x="1441" y="3074"/>
                  </a:lnTo>
                  <a:lnTo>
                    <a:pt x="721" y="3074"/>
                  </a:lnTo>
                  <a:lnTo>
                    <a:pt x="0" y="3074"/>
                  </a:lnTo>
                  <a:close/>
                  <a:moveTo>
                    <a:pt x="0" y="3041"/>
                  </a:moveTo>
                  <a:lnTo>
                    <a:pt x="0" y="3024"/>
                  </a:lnTo>
                  <a:lnTo>
                    <a:pt x="721" y="3024"/>
                  </a:lnTo>
                  <a:lnTo>
                    <a:pt x="1441" y="3024"/>
                  </a:lnTo>
                  <a:lnTo>
                    <a:pt x="2162" y="3024"/>
                  </a:lnTo>
                  <a:lnTo>
                    <a:pt x="2882" y="3024"/>
                  </a:lnTo>
                  <a:lnTo>
                    <a:pt x="3603" y="3024"/>
                  </a:lnTo>
                  <a:lnTo>
                    <a:pt x="4323" y="3024"/>
                  </a:lnTo>
                  <a:lnTo>
                    <a:pt x="5044" y="3024"/>
                  </a:lnTo>
                  <a:lnTo>
                    <a:pt x="5764" y="3024"/>
                  </a:lnTo>
                  <a:lnTo>
                    <a:pt x="5764" y="3041"/>
                  </a:lnTo>
                  <a:lnTo>
                    <a:pt x="5044" y="3041"/>
                  </a:lnTo>
                  <a:lnTo>
                    <a:pt x="4323" y="3041"/>
                  </a:lnTo>
                  <a:lnTo>
                    <a:pt x="3603" y="3041"/>
                  </a:lnTo>
                  <a:lnTo>
                    <a:pt x="2882" y="3041"/>
                  </a:lnTo>
                  <a:lnTo>
                    <a:pt x="2162" y="3041"/>
                  </a:lnTo>
                  <a:lnTo>
                    <a:pt x="1441" y="3041"/>
                  </a:lnTo>
                  <a:lnTo>
                    <a:pt x="721" y="3041"/>
                  </a:lnTo>
                  <a:lnTo>
                    <a:pt x="0" y="3041"/>
                  </a:lnTo>
                  <a:close/>
                  <a:moveTo>
                    <a:pt x="0" y="3008"/>
                  </a:moveTo>
                  <a:lnTo>
                    <a:pt x="0" y="2991"/>
                  </a:lnTo>
                  <a:lnTo>
                    <a:pt x="721" y="2991"/>
                  </a:lnTo>
                  <a:lnTo>
                    <a:pt x="1441" y="2991"/>
                  </a:lnTo>
                  <a:lnTo>
                    <a:pt x="2162" y="2991"/>
                  </a:lnTo>
                  <a:lnTo>
                    <a:pt x="2882" y="2991"/>
                  </a:lnTo>
                  <a:lnTo>
                    <a:pt x="3603" y="2991"/>
                  </a:lnTo>
                  <a:lnTo>
                    <a:pt x="4323" y="2991"/>
                  </a:lnTo>
                  <a:lnTo>
                    <a:pt x="5044" y="2991"/>
                  </a:lnTo>
                  <a:lnTo>
                    <a:pt x="5764" y="2991"/>
                  </a:lnTo>
                  <a:lnTo>
                    <a:pt x="5764" y="3008"/>
                  </a:lnTo>
                  <a:lnTo>
                    <a:pt x="5044" y="3008"/>
                  </a:lnTo>
                  <a:lnTo>
                    <a:pt x="4323" y="3008"/>
                  </a:lnTo>
                  <a:lnTo>
                    <a:pt x="3603" y="3008"/>
                  </a:lnTo>
                  <a:lnTo>
                    <a:pt x="2882" y="3008"/>
                  </a:lnTo>
                  <a:lnTo>
                    <a:pt x="2162" y="3008"/>
                  </a:lnTo>
                  <a:lnTo>
                    <a:pt x="1441" y="3008"/>
                  </a:lnTo>
                  <a:lnTo>
                    <a:pt x="721" y="3008"/>
                  </a:lnTo>
                  <a:lnTo>
                    <a:pt x="0" y="3008"/>
                  </a:lnTo>
                  <a:close/>
                  <a:moveTo>
                    <a:pt x="0" y="2975"/>
                  </a:moveTo>
                  <a:lnTo>
                    <a:pt x="0" y="2958"/>
                  </a:lnTo>
                  <a:lnTo>
                    <a:pt x="721" y="2958"/>
                  </a:lnTo>
                  <a:lnTo>
                    <a:pt x="1441" y="2958"/>
                  </a:lnTo>
                  <a:lnTo>
                    <a:pt x="2162" y="2958"/>
                  </a:lnTo>
                  <a:lnTo>
                    <a:pt x="2882" y="2958"/>
                  </a:lnTo>
                  <a:lnTo>
                    <a:pt x="3603" y="2958"/>
                  </a:lnTo>
                  <a:lnTo>
                    <a:pt x="4323" y="2958"/>
                  </a:lnTo>
                  <a:lnTo>
                    <a:pt x="5044" y="2958"/>
                  </a:lnTo>
                  <a:lnTo>
                    <a:pt x="5764" y="2958"/>
                  </a:lnTo>
                  <a:lnTo>
                    <a:pt x="5764" y="2975"/>
                  </a:lnTo>
                  <a:lnTo>
                    <a:pt x="5044" y="2975"/>
                  </a:lnTo>
                  <a:lnTo>
                    <a:pt x="4323" y="2975"/>
                  </a:lnTo>
                  <a:lnTo>
                    <a:pt x="3603" y="2975"/>
                  </a:lnTo>
                  <a:lnTo>
                    <a:pt x="2882" y="2975"/>
                  </a:lnTo>
                  <a:lnTo>
                    <a:pt x="2162" y="2975"/>
                  </a:lnTo>
                  <a:lnTo>
                    <a:pt x="1441" y="2975"/>
                  </a:lnTo>
                  <a:lnTo>
                    <a:pt x="721" y="2975"/>
                  </a:lnTo>
                  <a:lnTo>
                    <a:pt x="0" y="2975"/>
                  </a:lnTo>
                  <a:close/>
                  <a:moveTo>
                    <a:pt x="0" y="2942"/>
                  </a:moveTo>
                  <a:lnTo>
                    <a:pt x="0" y="2926"/>
                  </a:lnTo>
                  <a:lnTo>
                    <a:pt x="721" y="2926"/>
                  </a:lnTo>
                  <a:lnTo>
                    <a:pt x="1441" y="2926"/>
                  </a:lnTo>
                  <a:lnTo>
                    <a:pt x="2162" y="2926"/>
                  </a:lnTo>
                  <a:lnTo>
                    <a:pt x="2882" y="2926"/>
                  </a:lnTo>
                  <a:lnTo>
                    <a:pt x="3603" y="2926"/>
                  </a:lnTo>
                  <a:lnTo>
                    <a:pt x="4323" y="2926"/>
                  </a:lnTo>
                  <a:lnTo>
                    <a:pt x="5044" y="2926"/>
                  </a:lnTo>
                  <a:lnTo>
                    <a:pt x="5764" y="2926"/>
                  </a:lnTo>
                  <a:lnTo>
                    <a:pt x="5764" y="2942"/>
                  </a:lnTo>
                  <a:lnTo>
                    <a:pt x="5044" y="2942"/>
                  </a:lnTo>
                  <a:lnTo>
                    <a:pt x="4323" y="2942"/>
                  </a:lnTo>
                  <a:lnTo>
                    <a:pt x="3603" y="2942"/>
                  </a:lnTo>
                  <a:lnTo>
                    <a:pt x="2882" y="2942"/>
                  </a:lnTo>
                  <a:lnTo>
                    <a:pt x="2162" y="2942"/>
                  </a:lnTo>
                  <a:lnTo>
                    <a:pt x="1441" y="2942"/>
                  </a:lnTo>
                  <a:lnTo>
                    <a:pt x="721" y="2942"/>
                  </a:lnTo>
                  <a:lnTo>
                    <a:pt x="0" y="2942"/>
                  </a:lnTo>
                  <a:close/>
                  <a:moveTo>
                    <a:pt x="0" y="2909"/>
                  </a:moveTo>
                  <a:lnTo>
                    <a:pt x="0" y="2893"/>
                  </a:lnTo>
                  <a:lnTo>
                    <a:pt x="721" y="2893"/>
                  </a:lnTo>
                  <a:lnTo>
                    <a:pt x="1441" y="2893"/>
                  </a:lnTo>
                  <a:lnTo>
                    <a:pt x="2162" y="2893"/>
                  </a:lnTo>
                  <a:lnTo>
                    <a:pt x="2882" y="2893"/>
                  </a:lnTo>
                  <a:lnTo>
                    <a:pt x="3603" y="2893"/>
                  </a:lnTo>
                  <a:lnTo>
                    <a:pt x="4323" y="2893"/>
                  </a:lnTo>
                  <a:lnTo>
                    <a:pt x="5044" y="2893"/>
                  </a:lnTo>
                  <a:lnTo>
                    <a:pt x="5764" y="2893"/>
                  </a:lnTo>
                  <a:lnTo>
                    <a:pt x="5764" y="2909"/>
                  </a:lnTo>
                  <a:lnTo>
                    <a:pt x="5044" y="2909"/>
                  </a:lnTo>
                  <a:lnTo>
                    <a:pt x="4323" y="2909"/>
                  </a:lnTo>
                  <a:lnTo>
                    <a:pt x="3603" y="2909"/>
                  </a:lnTo>
                  <a:lnTo>
                    <a:pt x="2882" y="2909"/>
                  </a:lnTo>
                  <a:lnTo>
                    <a:pt x="2162" y="2909"/>
                  </a:lnTo>
                  <a:lnTo>
                    <a:pt x="1441" y="2909"/>
                  </a:lnTo>
                  <a:lnTo>
                    <a:pt x="721" y="2909"/>
                  </a:lnTo>
                  <a:lnTo>
                    <a:pt x="0" y="2909"/>
                  </a:lnTo>
                  <a:close/>
                  <a:moveTo>
                    <a:pt x="0" y="2877"/>
                  </a:moveTo>
                  <a:lnTo>
                    <a:pt x="0" y="2860"/>
                  </a:lnTo>
                  <a:lnTo>
                    <a:pt x="721" y="2860"/>
                  </a:lnTo>
                  <a:lnTo>
                    <a:pt x="1441" y="2860"/>
                  </a:lnTo>
                  <a:lnTo>
                    <a:pt x="2162" y="2860"/>
                  </a:lnTo>
                  <a:lnTo>
                    <a:pt x="2882" y="2860"/>
                  </a:lnTo>
                  <a:lnTo>
                    <a:pt x="3603" y="2860"/>
                  </a:lnTo>
                  <a:lnTo>
                    <a:pt x="4323" y="2860"/>
                  </a:lnTo>
                  <a:lnTo>
                    <a:pt x="5044" y="2860"/>
                  </a:lnTo>
                  <a:lnTo>
                    <a:pt x="5764" y="2860"/>
                  </a:lnTo>
                  <a:lnTo>
                    <a:pt x="5764" y="2877"/>
                  </a:lnTo>
                  <a:lnTo>
                    <a:pt x="5044" y="2877"/>
                  </a:lnTo>
                  <a:lnTo>
                    <a:pt x="4323" y="2877"/>
                  </a:lnTo>
                  <a:lnTo>
                    <a:pt x="3603" y="2877"/>
                  </a:lnTo>
                  <a:lnTo>
                    <a:pt x="2882" y="2877"/>
                  </a:lnTo>
                  <a:lnTo>
                    <a:pt x="2162" y="2877"/>
                  </a:lnTo>
                  <a:lnTo>
                    <a:pt x="1441" y="2877"/>
                  </a:lnTo>
                  <a:lnTo>
                    <a:pt x="721" y="2877"/>
                  </a:lnTo>
                  <a:lnTo>
                    <a:pt x="0" y="2877"/>
                  </a:lnTo>
                  <a:close/>
                  <a:moveTo>
                    <a:pt x="0" y="2844"/>
                  </a:moveTo>
                  <a:lnTo>
                    <a:pt x="0" y="2827"/>
                  </a:lnTo>
                  <a:lnTo>
                    <a:pt x="721" y="2827"/>
                  </a:lnTo>
                  <a:lnTo>
                    <a:pt x="1441" y="2827"/>
                  </a:lnTo>
                  <a:lnTo>
                    <a:pt x="2162" y="2827"/>
                  </a:lnTo>
                  <a:lnTo>
                    <a:pt x="2882" y="2827"/>
                  </a:lnTo>
                  <a:lnTo>
                    <a:pt x="3603" y="2827"/>
                  </a:lnTo>
                  <a:lnTo>
                    <a:pt x="4323" y="2827"/>
                  </a:lnTo>
                  <a:lnTo>
                    <a:pt x="5044" y="2827"/>
                  </a:lnTo>
                  <a:lnTo>
                    <a:pt x="5764" y="2827"/>
                  </a:lnTo>
                  <a:lnTo>
                    <a:pt x="5764" y="2844"/>
                  </a:lnTo>
                  <a:lnTo>
                    <a:pt x="5044" y="2844"/>
                  </a:lnTo>
                  <a:lnTo>
                    <a:pt x="4323" y="2844"/>
                  </a:lnTo>
                  <a:lnTo>
                    <a:pt x="3603" y="2844"/>
                  </a:lnTo>
                  <a:lnTo>
                    <a:pt x="2882" y="2844"/>
                  </a:lnTo>
                  <a:lnTo>
                    <a:pt x="2162" y="2844"/>
                  </a:lnTo>
                  <a:lnTo>
                    <a:pt x="1441" y="2844"/>
                  </a:lnTo>
                  <a:lnTo>
                    <a:pt x="721" y="2844"/>
                  </a:lnTo>
                  <a:lnTo>
                    <a:pt x="0" y="2844"/>
                  </a:lnTo>
                  <a:close/>
                  <a:moveTo>
                    <a:pt x="0" y="2811"/>
                  </a:moveTo>
                  <a:lnTo>
                    <a:pt x="0" y="2794"/>
                  </a:lnTo>
                  <a:lnTo>
                    <a:pt x="721" y="2794"/>
                  </a:lnTo>
                  <a:lnTo>
                    <a:pt x="1441" y="2794"/>
                  </a:lnTo>
                  <a:lnTo>
                    <a:pt x="2162" y="2794"/>
                  </a:lnTo>
                  <a:lnTo>
                    <a:pt x="2882" y="2794"/>
                  </a:lnTo>
                  <a:lnTo>
                    <a:pt x="3603" y="2794"/>
                  </a:lnTo>
                  <a:lnTo>
                    <a:pt x="4323" y="2794"/>
                  </a:lnTo>
                  <a:lnTo>
                    <a:pt x="5044" y="2794"/>
                  </a:lnTo>
                  <a:lnTo>
                    <a:pt x="5764" y="2794"/>
                  </a:lnTo>
                  <a:lnTo>
                    <a:pt x="5764" y="2811"/>
                  </a:lnTo>
                  <a:lnTo>
                    <a:pt x="5044" y="2811"/>
                  </a:lnTo>
                  <a:lnTo>
                    <a:pt x="4323" y="2811"/>
                  </a:lnTo>
                  <a:lnTo>
                    <a:pt x="3603" y="2811"/>
                  </a:lnTo>
                  <a:lnTo>
                    <a:pt x="2882" y="2811"/>
                  </a:lnTo>
                  <a:lnTo>
                    <a:pt x="2162" y="2811"/>
                  </a:lnTo>
                  <a:lnTo>
                    <a:pt x="1441" y="2811"/>
                  </a:lnTo>
                  <a:lnTo>
                    <a:pt x="721" y="2811"/>
                  </a:lnTo>
                  <a:lnTo>
                    <a:pt x="0" y="2811"/>
                  </a:lnTo>
                  <a:close/>
                  <a:moveTo>
                    <a:pt x="0" y="2778"/>
                  </a:moveTo>
                  <a:lnTo>
                    <a:pt x="0" y="2761"/>
                  </a:lnTo>
                  <a:lnTo>
                    <a:pt x="721" y="2761"/>
                  </a:lnTo>
                  <a:lnTo>
                    <a:pt x="1441" y="2761"/>
                  </a:lnTo>
                  <a:lnTo>
                    <a:pt x="2162" y="2761"/>
                  </a:lnTo>
                  <a:lnTo>
                    <a:pt x="2882" y="2761"/>
                  </a:lnTo>
                  <a:lnTo>
                    <a:pt x="3603" y="2761"/>
                  </a:lnTo>
                  <a:lnTo>
                    <a:pt x="4323" y="2761"/>
                  </a:lnTo>
                  <a:lnTo>
                    <a:pt x="5044" y="2761"/>
                  </a:lnTo>
                  <a:lnTo>
                    <a:pt x="5764" y="2761"/>
                  </a:lnTo>
                  <a:lnTo>
                    <a:pt x="5764" y="2778"/>
                  </a:lnTo>
                  <a:lnTo>
                    <a:pt x="5044" y="2778"/>
                  </a:lnTo>
                  <a:lnTo>
                    <a:pt x="4323" y="2778"/>
                  </a:lnTo>
                  <a:lnTo>
                    <a:pt x="3603" y="2778"/>
                  </a:lnTo>
                  <a:lnTo>
                    <a:pt x="2882" y="2778"/>
                  </a:lnTo>
                  <a:lnTo>
                    <a:pt x="2162" y="2778"/>
                  </a:lnTo>
                  <a:lnTo>
                    <a:pt x="1441" y="2778"/>
                  </a:lnTo>
                  <a:lnTo>
                    <a:pt x="721" y="2778"/>
                  </a:lnTo>
                  <a:lnTo>
                    <a:pt x="0" y="2778"/>
                  </a:lnTo>
                  <a:close/>
                  <a:moveTo>
                    <a:pt x="0" y="2745"/>
                  </a:moveTo>
                  <a:lnTo>
                    <a:pt x="0" y="2728"/>
                  </a:lnTo>
                  <a:lnTo>
                    <a:pt x="721" y="2728"/>
                  </a:lnTo>
                  <a:lnTo>
                    <a:pt x="1441" y="2728"/>
                  </a:lnTo>
                  <a:lnTo>
                    <a:pt x="2162" y="2728"/>
                  </a:lnTo>
                  <a:lnTo>
                    <a:pt x="2882" y="2728"/>
                  </a:lnTo>
                  <a:lnTo>
                    <a:pt x="3603" y="2728"/>
                  </a:lnTo>
                  <a:lnTo>
                    <a:pt x="4323" y="2728"/>
                  </a:lnTo>
                  <a:lnTo>
                    <a:pt x="5044" y="2728"/>
                  </a:lnTo>
                  <a:lnTo>
                    <a:pt x="5764" y="2728"/>
                  </a:lnTo>
                  <a:lnTo>
                    <a:pt x="5764" y="2745"/>
                  </a:lnTo>
                  <a:lnTo>
                    <a:pt x="5044" y="2745"/>
                  </a:lnTo>
                  <a:lnTo>
                    <a:pt x="4323" y="2745"/>
                  </a:lnTo>
                  <a:lnTo>
                    <a:pt x="3603" y="2745"/>
                  </a:lnTo>
                  <a:lnTo>
                    <a:pt x="2882" y="2745"/>
                  </a:lnTo>
                  <a:lnTo>
                    <a:pt x="2162" y="2745"/>
                  </a:lnTo>
                  <a:lnTo>
                    <a:pt x="1441" y="2745"/>
                  </a:lnTo>
                  <a:lnTo>
                    <a:pt x="721" y="2745"/>
                  </a:lnTo>
                  <a:lnTo>
                    <a:pt x="0" y="2745"/>
                  </a:lnTo>
                  <a:close/>
                  <a:moveTo>
                    <a:pt x="0" y="2712"/>
                  </a:moveTo>
                  <a:lnTo>
                    <a:pt x="0" y="2696"/>
                  </a:lnTo>
                  <a:lnTo>
                    <a:pt x="721" y="2696"/>
                  </a:lnTo>
                  <a:lnTo>
                    <a:pt x="1441" y="2696"/>
                  </a:lnTo>
                  <a:lnTo>
                    <a:pt x="2162" y="2696"/>
                  </a:lnTo>
                  <a:lnTo>
                    <a:pt x="2882" y="2696"/>
                  </a:lnTo>
                  <a:lnTo>
                    <a:pt x="3603" y="2696"/>
                  </a:lnTo>
                  <a:lnTo>
                    <a:pt x="4323" y="2696"/>
                  </a:lnTo>
                  <a:lnTo>
                    <a:pt x="5044" y="2696"/>
                  </a:lnTo>
                  <a:lnTo>
                    <a:pt x="5764" y="2696"/>
                  </a:lnTo>
                  <a:lnTo>
                    <a:pt x="5764" y="2712"/>
                  </a:lnTo>
                  <a:lnTo>
                    <a:pt x="5044" y="2712"/>
                  </a:lnTo>
                  <a:lnTo>
                    <a:pt x="4323" y="2712"/>
                  </a:lnTo>
                  <a:lnTo>
                    <a:pt x="3603" y="2712"/>
                  </a:lnTo>
                  <a:lnTo>
                    <a:pt x="2882" y="2712"/>
                  </a:lnTo>
                  <a:lnTo>
                    <a:pt x="2162" y="2712"/>
                  </a:lnTo>
                  <a:lnTo>
                    <a:pt x="1441" y="2712"/>
                  </a:lnTo>
                  <a:lnTo>
                    <a:pt x="721" y="2712"/>
                  </a:lnTo>
                  <a:lnTo>
                    <a:pt x="0" y="2712"/>
                  </a:lnTo>
                  <a:close/>
                  <a:moveTo>
                    <a:pt x="0" y="2680"/>
                  </a:moveTo>
                  <a:lnTo>
                    <a:pt x="0" y="2663"/>
                  </a:lnTo>
                  <a:lnTo>
                    <a:pt x="721" y="2663"/>
                  </a:lnTo>
                  <a:lnTo>
                    <a:pt x="1441" y="2663"/>
                  </a:lnTo>
                  <a:lnTo>
                    <a:pt x="2162" y="2663"/>
                  </a:lnTo>
                  <a:lnTo>
                    <a:pt x="2882" y="2663"/>
                  </a:lnTo>
                  <a:lnTo>
                    <a:pt x="3603" y="2663"/>
                  </a:lnTo>
                  <a:lnTo>
                    <a:pt x="4323" y="2663"/>
                  </a:lnTo>
                  <a:lnTo>
                    <a:pt x="5044" y="2663"/>
                  </a:lnTo>
                  <a:lnTo>
                    <a:pt x="5764" y="2663"/>
                  </a:lnTo>
                  <a:lnTo>
                    <a:pt x="5764" y="2680"/>
                  </a:lnTo>
                  <a:lnTo>
                    <a:pt x="5044" y="2680"/>
                  </a:lnTo>
                  <a:lnTo>
                    <a:pt x="4323" y="2680"/>
                  </a:lnTo>
                  <a:lnTo>
                    <a:pt x="3603" y="2680"/>
                  </a:lnTo>
                  <a:lnTo>
                    <a:pt x="2882" y="2680"/>
                  </a:lnTo>
                  <a:lnTo>
                    <a:pt x="2162" y="2680"/>
                  </a:lnTo>
                  <a:lnTo>
                    <a:pt x="1441" y="2680"/>
                  </a:lnTo>
                  <a:lnTo>
                    <a:pt x="721" y="2680"/>
                  </a:lnTo>
                  <a:lnTo>
                    <a:pt x="0" y="2680"/>
                  </a:lnTo>
                  <a:close/>
                  <a:moveTo>
                    <a:pt x="0" y="2647"/>
                  </a:moveTo>
                  <a:lnTo>
                    <a:pt x="0" y="2630"/>
                  </a:lnTo>
                  <a:lnTo>
                    <a:pt x="721" y="2630"/>
                  </a:lnTo>
                  <a:lnTo>
                    <a:pt x="1441" y="2630"/>
                  </a:lnTo>
                  <a:lnTo>
                    <a:pt x="2162" y="2630"/>
                  </a:lnTo>
                  <a:lnTo>
                    <a:pt x="2882" y="2630"/>
                  </a:lnTo>
                  <a:lnTo>
                    <a:pt x="3603" y="2630"/>
                  </a:lnTo>
                  <a:lnTo>
                    <a:pt x="4323" y="2630"/>
                  </a:lnTo>
                  <a:lnTo>
                    <a:pt x="5044" y="2630"/>
                  </a:lnTo>
                  <a:lnTo>
                    <a:pt x="5764" y="2630"/>
                  </a:lnTo>
                  <a:lnTo>
                    <a:pt x="5764" y="2647"/>
                  </a:lnTo>
                  <a:lnTo>
                    <a:pt x="5044" y="2647"/>
                  </a:lnTo>
                  <a:lnTo>
                    <a:pt x="4323" y="2647"/>
                  </a:lnTo>
                  <a:lnTo>
                    <a:pt x="3603" y="2647"/>
                  </a:lnTo>
                  <a:lnTo>
                    <a:pt x="2882" y="2647"/>
                  </a:lnTo>
                  <a:lnTo>
                    <a:pt x="2162" y="2647"/>
                  </a:lnTo>
                  <a:lnTo>
                    <a:pt x="1441" y="2647"/>
                  </a:lnTo>
                  <a:lnTo>
                    <a:pt x="721" y="2647"/>
                  </a:lnTo>
                  <a:lnTo>
                    <a:pt x="0" y="2647"/>
                  </a:lnTo>
                  <a:close/>
                  <a:moveTo>
                    <a:pt x="0" y="2614"/>
                  </a:moveTo>
                  <a:lnTo>
                    <a:pt x="0" y="2597"/>
                  </a:lnTo>
                  <a:lnTo>
                    <a:pt x="721" y="2597"/>
                  </a:lnTo>
                  <a:lnTo>
                    <a:pt x="1441" y="2597"/>
                  </a:lnTo>
                  <a:lnTo>
                    <a:pt x="2162" y="2597"/>
                  </a:lnTo>
                  <a:lnTo>
                    <a:pt x="2882" y="2597"/>
                  </a:lnTo>
                  <a:lnTo>
                    <a:pt x="3603" y="2597"/>
                  </a:lnTo>
                  <a:lnTo>
                    <a:pt x="4323" y="2597"/>
                  </a:lnTo>
                  <a:lnTo>
                    <a:pt x="5044" y="2597"/>
                  </a:lnTo>
                  <a:lnTo>
                    <a:pt x="5764" y="2597"/>
                  </a:lnTo>
                  <a:lnTo>
                    <a:pt x="5764" y="2614"/>
                  </a:lnTo>
                  <a:lnTo>
                    <a:pt x="5044" y="2614"/>
                  </a:lnTo>
                  <a:lnTo>
                    <a:pt x="4323" y="2614"/>
                  </a:lnTo>
                  <a:lnTo>
                    <a:pt x="3603" y="2614"/>
                  </a:lnTo>
                  <a:lnTo>
                    <a:pt x="2882" y="2614"/>
                  </a:lnTo>
                  <a:lnTo>
                    <a:pt x="2162" y="2614"/>
                  </a:lnTo>
                  <a:lnTo>
                    <a:pt x="1441" y="2614"/>
                  </a:lnTo>
                  <a:lnTo>
                    <a:pt x="721" y="2614"/>
                  </a:lnTo>
                  <a:lnTo>
                    <a:pt x="0" y="2614"/>
                  </a:lnTo>
                  <a:close/>
                  <a:moveTo>
                    <a:pt x="0" y="2581"/>
                  </a:moveTo>
                  <a:lnTo>
                    <a:pt x="0" y="2564"/>
                  </a:lnTo>
                  <a:lnTo>
                    <a:pt x="721" y="2564"/>
                  </a:lnTo>
                  <a:lnTo>
                    <a:pt x="1441" y="2564"/>
                  </a:lnTo>
                  <a:lnTo>
                    <a:pt x="2162" y="2564"/>
                  </a:lnTo>
                  <a:lnTo>
                    <a:pt x="2882" y="2564"/>
                  </a:lnTo>
                  <a:lnTo>
                    <a:pt x="3603" y="2564"/>
                  </a:lnTo>
                  <a:lnTo>
                    <a:pt x="4323" y="2564"/>
                  </a:lnTo>
                  <a:lnTo>
                    <a:pt x="5044" y="2564"/>
                  </a:lnTo>
                  <a:lnTo>
                    <a:pt x="5764" y="2564"/>
                  </a:lnTo>
                  <a:lnTo>
                    <a:pt x="5764" y="2581"/>
                  </a:lnTo>
                  <a:lnTo>
                    <a:pt x="5044" y="2581"/>
                  </a:lnTo>
                  <a:lnTo>
                    <a:pt x="4323" y="2581"/>
                  </a:lnTo>
                  <a:lnTo>
                    <a:pt x="3603" y="2581"/>
                  </a:lnTo>
                  <a:lnTo>
                    <a:pt x="2882" y="2581"/>
                  </a:lnTo>
                  <a:lnTo>
                    <a:pt x="2162" y="2581"/>
                  </a:lnTo>
                  <a:lnTo>
                    <a:pt x="1441" y="2581"/>
                  </a:lnTo>
                  <a:lnTo>
                    <a:pt x="721" y="2581"/>
                  </a:lnTo>
                  <a:lnTo>
                    <a:pt x="0" y="2581"/>
                  </a:lnTo>
                  <a:close/>
                  <a:moveTo>
                    <a:pt x="0" y="2548"/>
                  </a:moveTo>
                  <a:lnTo>
                    <a:pt x="0" y="2531"/>
                  </a:lnTo>
                  <a:lnTo>
                    <a:pt x="721" y="2531"/>
                  </a:lnTo>
                  <a:lnTo>
                    <a:pt x="1441" y="2531"/>
                  </a:lnTo>
                  <a:lnTo>
                    <a:pt x="2162" y="2531"/>
                  </a:lnTo>
                  <a:lnTo>
                    <a:pt x="2882" y="2531"/>
                  </a:lnTo>
                  <a:lnTo>
                    <a:pt x="3603" y="2531"/>
                  </a:lnTo>
                  <a:lnTo>
                    <a:pt x="4323" y="2531"/>
                  </a:lnTo>
                  <a:lnTo>
                    <a:pt x="5044" y="2531"/>
                  </a:lnTo>
                  <a:lnTo>
                    <a:pt x="5764" y="2531"/>
                  </a:lnTo>
                  <a:lnTo>
                    <a:pt x="5764" y="2548"/>
                  </a:lnTo>
                  <a:lnTo>
                    <a:pt x="5044" y="2548"/>
                  </a:lnTo>
                  <a:lnTo>
                    <a:pt x="4323" y="2548"/>
                  </a:lnTo>
                  <a:lnTo>
                    <a:pt x="3603" y="2548"/>
                  </a:lnTo>
                  <a:lnTo>
                    <a:pt x="2882" y="2548"/>
                  </a:lnTo>
                  <a:lnTo>
                    <a:pt x="2162" y="2548"/>
                  </a:lnTo>
                  <a:lnTo>
                    <a:pt x="1441" y="2548"/>
                  </a:lnTo>
                  <a:lnTo>
                    <a:pt x="721" y="2548"/>
                  </a:lnTo>
                  <a:lnTo>
                    <a:pt x="0" y="2548"/>
                  </a:lnTo>
                  <a:close/>
                  <a:moveTo>
                    <a:pt x="0" y="2515"/>
                  </a:moveTo>
                  <a:lnTo>
                    <a:pt x="0" y="2499"/>
                  </a:lnTo>
                  <a:lnTo>
                    <a:pt x="721" y="2499"/>
                  </a:lnTo>
                  <a:lnTo>
                    <a:pt x="1441" y="2499"/>
                  </a:lnTo>
                  <a:lnTo>
                    <a:pt x="2162" y="2499"/>
                  </a:lnTo>
                  <a:lnTo>
                    <a:pt x="2882" y="2499"/>
                  </a:lnTo>
                  <a:lnTo>
                    <a:pt x="3603" y="2499"/>
                  </a:lnTo>
                  <a:lnTo>
                    <a:pt x="4323" y="2499"/>
                  </a:lnTo>
                  <a:lnTo>
                    <a:pt x="5044" y="2499"/>
                  </a:lnTo>
                  <a:lnTo>
                    <a:pt x="5764" y="2499"/>
                  </a:lnTo>
                  <a:lnTo>
                    <a:pt x="5764" y="2515"/>
                  </a:lnTo>
                  <a:lnTo>
                    <a:pt x="5044" y="2515"/>
                  </a:lnTo>
                  <a:lnTo>
                    <a:pt x="4323" y="2515"/>
                  </a:lnTo>
                  <a:lnTo>
                    <a:pt x="3603" y="2515"/>
                  </a:lnTo>
                  <a:lnTo>
                    <a:pt x="2882" y="2515"/>
                  </a:lnTo>
                  <a:lnTo>
                    <a:pt x="2162" y="2515"/>
                  </a:lnTo>
                  <a:lnTo>
                    <a:pt x="1441" y="2515"/>
                  </a:lnTo>
                  <a:lnTo>
                    <a:pt x="721" y="2515"/>
                  </a:lnTo>
                  <a:lnTo>
                    <a:pt x="0" y="2515"/>
                  </a:lnTo>
                  <a:close/>
                  <a:moveTo>
                    <a:pt x="0" y="2482"/>
                  </a:moveTo>
                  <a:lnTo>
                    <a:pt x="0" y="2466"/>
                  </a:lnTo>
                  <a:lnTo>
                    <a:pt x="721" y="2466"/>
                  </a:lnTo>
                  <a:lnTo>
                    <a:pt x="1441" y="2466"/>
                  </a:lnTo>
                  <a:lnTo>
                    <a:pt x="2162" y="2466"/>
                  </a:lnTo>
                  <a:lnTo>
                    <a:pt x="2882" y="2466"/>
                  </a:lnTo>
                  <a:lnTo>
                    <a:pt x="3603" y="2466"/>
                  </a:lnTo>
                  <a:lnTo>
                    <a:pt x="4323" y="2466"/>
                  </a:lnTo>
                  <a:lnTo>
                    <a:pt x="5044" y="2466"/>
                  </a:lnTo>
                  <a:lnTo>
                    <a:pt x="5764" y="2466"/>
                  </a:lnTo>
                  <a:lnTo>
                    <a:pt x="5764" y="2482"/>
                  </a:lnTo>
                  <a:lnTo>
                    <a:pt x="5044" y="2482"/>
                  </a:lnTo>
                  <a:lnTo>
                    <a:pt x="4323" y="2482"/>
                  </a:lnTo>
                  <a:lnTo>
                    <a:pt x="3603" y="2482"/>
                  </a:lnTo>
                  <a:lnTo>
                    <a:pt x="2882" y="2482"/>
                  </a:lnTo>
                  <a:lnTo>
                    <a:pt x="2162" y="2482"/>
                  </a:lnTo>
                  <a:lnTo>
                    <a:pt x="1441" y="2482"/>
                  </a:lnTo>
                  <a:lnTo>
                    <a:pt x="721" y="2482"/>
                  </a:lnTo>
                  <a:lnTo>
                    <a:pt x="0" y="2482"/>
                  </a:lnTo>
                  <a:close/>
                  <a:moveTo>
                    <a:pt x="0" y="2450"/>
                  </a:moveTo>
                  <a:lnTo>
                    <a:pt x="0" y="2433"/>
                  </a:lnTo>
                  <a:lnTo>
                    <a:pt x="721" y="2433"/>
                  </a:lnTo>
                  <a:lnTo>
                    <a:pt x="1441" y="2433"/>
                  </a:lnTo>
                  <a:lnTo>
                    <a:pt x="2162" y="2433"/>
                  </a:lnTo>
                  <a:lnTo>
                    <a:pt x="2882" y="2433"/>
                  </a:lnTo>
                  <a:lnTo>
                    <a:pt x="3603" y="2433"/>
                  </a:lnTo>
                  <a:lnTo>
                    <a:pt x="4323" y="2433"/>
                  </a:lnTo>
                  <a:lnTo>
                    <a:pt x="5044" y="2433"/>
                  </a:lnTo>
                  <a:lnTo>
                    <a:pt x="5764" y="2433"/>
                  </a:lnTo>
                  <a:lnTo>
                    <a:pt x="5764" y="2450"/>
                  </a:lnTo>
                  <a:lnTo>
                    <a:pt x="5044" y="2450"/>
                  </a:lnTo>
                  <a:lnTo>
                    <a:pt x="4323" y="2450"/>
                  </a:lnTo>
                  <a:lnTo>
                    <a:pt x="3603" y="2450"/>
                  </a:lnTo>
                  <a:lnTo>
                    <a:pt x="2882" y="2450"/>
                  </a:lnTo>
                  <a:lnTo>
                    <a:pt x="2162" y="2450"/>
                  </a:lnTo>
                  <a:lnTo>
                    <a:pt x="1441" y="2450"/>
                  </a:lnTo>
                  <a:lnTo>
                    <a:pt x="721" y="2450"/>
                  </a:lnTo>
                  <a:lnTo>
                    <a:pt x="0" y="2450"/>
                  </a:lnTo>
                  <a:close/>
                  <a:moveTo>
                    <a:pt x="0" y="2417"/>
                  </a:moveTo>
                  <a:lnTo>
                    <a:pt x="0" y="2400"/>
                  </a:lnTo>
                  <a:lnTo>
                    <a:pt x="721" y="2400"/>
                  </a:lnTo>
                  <a:lnTo>
                    <a:pt x="1441" y="2400"/>
                  </a:lnTo>
                  <a:lnTo>
                    <a:pt x="2162" y="2400"/>
                  </a:lnTo>
                  <a:lnTo>
                    <a:pt x="2882" y="2400"/>
                  </a:lnTo>
                  <a:lnTo>
                    <a:pt x="3603" y="2400"/>
                  </a:lnTo>
                  <a:lnTo>
                    <a:pt x="4323" y="2400"/>
                  </a:lnTo>
                  <a:lnTo>
                    <a:pt x="5044" y="2400"/>
                  </a:lnTo>
                  <a:lnTo>
                    <a:pt x="5764" y="2400"/>
                  </a:lnTo>
                  <a:lnTo>
                    <a:pt x="5764" y="2417"/>
                  </a:lnTo>
                  <a:lnTo>
                    <a:pt x="5044" y="2417"/>
                  </a:lnTo>
                  <a:lnTo>
                    <a:pt x="4323" y="2417"/>
                  </a:lnTo>
                  <a:lnTo>
                    <a:pt x="3603" y="2417"/>
                  </a:lnTo>
                  <a:lnTo>
                    <a:pt x="2882" y="2417"/>
                  </a:lnTo>
                  <a:lnTo>
                    <a:pt x="2162" y="2417"/>
                  </a:lnTo>
                  <a:lnTo>
                    <a:pt x="1441" y="2417"/>
                  </a:lnTo>
                  <a:lnTo>
                    <a:pt x="721" y="2417"/>
                  </a:lnTo>
                  <a:lnTo>
                    <a:pt x="0" y="2417"/>
                  </a:lnTo>
                  <a:close/>
                  <a:moveTo>
                    <a:pt x="0" y="2384"/>
                  </a:moveTo>
                  <a:lnTo>
                    <a:pt x="0" y="2367"/>
                  </a:lnTo>
                  <a:lnTo>
                    <a:pt x="721" y="2367"/>
                  </a:lnTo>
                  <a:lnTo>
                    <a:pt x="1441" y="2367"/>
                  </a:lnTo>
                  <a:lnTo>
                    <a:pt x="2162" y="2367"/>
                  </a:lnTo>
                  <a:lnTo>
                    <a:pt x="2882" y="2367"/>
                  </a:lnTo>
                  <a:lnTo>
                    <a:pt x="3603" y="2367"/>
                  </a:lnTo>
                  <a:lnTo>
                    <a:pt x="4323" y="2367"/>
                  </a:lnTo>
                  <a:lnTo>
                    <a:pt x="5044" y="2367"/>
                  </a:lnTo>
                  <a:lnTo>
                    <a:pt x="5764" y="2367"/>
                  </a:lnTo>
                  <a:lnTo>
                    <a:pt x="5764" y="2384"/>
                  </a:lnTo>
                  <a:lnTo>
                    <a:pt x="5044" y="2384"/>
                  </a:lnTo>
                  <a:lnTo>
                    <a:pt x="4323" y="2384"/>
                  </a:lnTo>
                  <a:lnTo>
                    <a:pt x="3603" y="2384"/>
                  </a:lnTo>
                  <a:lnTo>
                    <a:pt x="2882" y="2384"/>
                  </a:lnTo>
                  <a:lnTo>
                    <a:pt x="2162" y="2384"/>
                  </a:lnTo>
                  <a:lnTo>
                    <a:pt x="1441" y="2384"/>
                  </a:lnTo>
                  <a:lnTo>
                    <a:pt x="721" y="2384"/>
                  </a:lnTo>
                  <a:lnTo>
                    <a:pt x="0" y="2384"/>
                  </a:lnTo>
                  <a:close/>
                  <a:moveTo>
                    <a:pt x="0" y="2351"/>
                  </a:moveTo>
                  <a:lnTo>
                    <a:pt x="0" y="2334"/>
                  </a:lnTo>
                  <a:lnTo>
                    <a:pt x="721" y="2334"/>
                  </a:lnTo>
                  <a:lnTo>
                    <a:pt x="1441" y="2334"/>
                  </a:lnTo>
                  <a:lnTo>
                    <a:pt x="2162" y="2334"/>
                  </a:lnTo>
                  <a:lnTo>
                    <a:pt x="2882" y="2334"/>
                  </a:lnTo>
                  <a:lnTo>
                    <a:pt x="3603" y="2334"/>
                  </a:lnTo>
                  <a:lnTo>
                    <a:pt x="4323" y="2334"/>
                  </a:lnTo>
                  <a:lnTo>
                    <a:pt x="5044" y="2334"/>
                  </a:lnTo>
                  <a:lnTo>
                    <a:pt x="5764" y="2334"/>
                  </a:lnTo>
                  <a:lnTo>
                    <a:pt x="5764" y="2351"/>
                  </a:lnTo>
                  <a:lnTo>
                    <a:pt x="5044" y="2351"/>
                  </a:lnTo>
                  <a:lnTo>
                    <a:pt x="4323" y="2351"/>
                  </a:lnTo>
                  <a:lnTo>
                    <a:pt x="3603" y="2351"/>
                  </a:lnTo>
                  <a:lnTo>
                    <a:pt x="2882" y="2351"/>
                  </a:lnTo>
                  <a:lnTo>
                    <a:pt x="2162" y="2351"/>
                  </a:lnTo>
                  <a:lnTo>
                    <a:pt x="1441" y="2351"/>
                  </a:lnTo>
                  <a:lnTo>
                    <a:pt x="721" y="2351"/>
                  </a:lnTo>
                  <a:lnTo>
                    <a:pt x="0" y="2351"/>
                  </a:lnTo>
                  <a:close/>
                  <a:moveTo>
                    <a:pt x="0" y="2318"/>
                  </a:moveTo>
                  <a:lnTo>
                    <a:pt x="0" y="2301"/>
                  </a:lnTo>
                  <a:lnTo>
                    <a:pt x="721" y="2301"/>
                  </a:lnTo>
                  <a:lnTo>
                    <a:pt x="1441" y="2301"/>
                  </a:lnTo>
                  <a:lnTo>
                    <a:pt x="2162" y="2301"/>
                  </a:lnTo>
                  <a:lnTo>
                    <a:pt x="2882" y="2301"/>
                  </a:lnTo>
                  <a:lnTo>
                    <a:pt x="3603" y="2301"/>
                  </a:lnTo>
                  <a:lnTo>
                    <a:pt x="4323" y="2301"/>
                  </a:lnTo>
                  <a:lnTo>
                    <a:pt x="5044" y="2301"/>
                  </a:lnTo>
                  <a:lnTo>
                    <a:pt x="5764" y="2301"/>
                  </a:lnTo>
                  <a:lnTo>
                    <a:pt x="5764" y="2318"/>
                  </a:lnTo>
                  <a:lnTo>
                    <a:pt x="5044" y="2318"/>
                  </a:lnTo>
                  <a:lnTo>
                    <a:pt x="4323" y="2318"/>
                  </a:lnTo>
                  <a:lnTo>
                    <a:pt x="3603" y="2318"/>
                  </a:lnTo>
                  <a:lnTo>
                    <a:pt x="2882" y="2318"/>
                  </a:lnTo>
                  <a:lnTo>
                    <a:pt x="2162" y="2318"/>
                  </a:lnTo>
                  <a:lnTo>
                    <a:pt x="1441" y="2318"/>
                  </a:lnTo>
                  <a:lnTo>
                    <a:pt x="721" y="2318"/>
                  </a:lnTo>
                  <a:lnTo>
                    <a:pt x="0" y="2318"/>
                  </a:lnTo>
                  <a:close/>
                  <a:moveTo>
                    <a:pt x="0" y="2285"/>
                  </a:moveTo>
                  <a:lnTo>
                    <a:pt x="0" y="2269"/>
                  </a:lnTo>
                  <a:lnTo>
                    <a:pt x="721" y="2269"/>
                  </a:lnTo>
                  <a:lnTo>
                    <a:pt x="1441" y="2269"/>
                  </a:lnTo>
                  <a:lnTo>
                    <a:pt x="2162" y="2269"/>
                  </a:lnTo>
                  <a:lnTo>
                    <a:pt x="2882" y="2269"/>
                  </a:lnTo>
                  <a:lnTo>
                    <a:pt x="3603" y="2269"/>
                  </a:lnTo>
                  <a:lnTo>
                    <a:pt x="4323" y="2269"/>
                  </a:lnTo>
                  <a:lnTo>
                    <a:pt x="5044" y="2269"/>
                  </a:lnTo>
                  <a:lnTo>
                    <a:pt x="5764" y="2269"/>
                  </a:lnTo>
                  <a:lnTo>
                    <a:pt x="5764" y="2285"/>
                  </a:lnTo>
                  <a:lnTo>
                    <a:pt x="5044" y="2285"/>
                  </a:lnTo>
                  <a:lnTo>
                    <a:pt x="4323" y="2285"/>
                  </a:lnTo>
                  <a:lnTo>
                    <a:pt x="3603" y="2285"/>
                  </a:lnTo>
                  <a:lnTo>
                    <a:pt x="2882" y="2285"/>
                  </a:lnTo>
                  <a:lnTo>
                    <a:pt x="2162" y="2285"/>
                  </a:lnTo>
                  <a:lnTo>
                    <a:pt x="1441" y="2285"/>
                  </a:lnTo>
                  <a:lnTo>
                    <a:pt x="721" y="2285"/>
                  </a:lnTo>
                  <a:lnTo>
                    <a:pt x="0" y="2285"/>
                  </a:lnTo>
                  <a:close/>
                  <a:moveTo>
                    <a:pt x="0" y="2253"/>
                  </a:moveTo>
                  <a:lnTo>
                    <a:pt x="0" y="2236"/>
                  </a:lnTo>
                  <a:lnTo>
                    <a:pt x="721" y="2236"/>
                  </a:lnTo>
                  <a:lnTo>
                    <a:pt x="1441" y="2236"/>
                  </a:lnTo>
                  <a:lnTo>
                    <a:pt x="2162" y="2236"/>
                  </a:lnTo>
                  <a:lnTo>
                    <a:pt x="2882" y="2236"/>
                  </a:lnTo>
                  <a:lnTo>
                    <a:pt x="3603" y="2236"/>
                  </a:lnTo>
                  <a:lnTo>
                    <a:pt x="4323" y="2236"/>
                  </a:lnTo>
                  <a:lnTo>
                    <a:pt x="5044" y="2236"/>
                  </a:lnTo>
                  <a:lnTo>
                    <a:pt x="5764" y="2236"/>
                  </a:lnTo>
                  <a:lnTo>
                    <a:pt x="5764" y="2253"/>
                  </a:lnTo>
                  <a:lnTo>
                    <a:pt x="5044" y="2253"/>
                  </a:lnTo>
                  <a:lnTo>
                    <a:pt x="4323" y="2253"/>
                  </a:lnTo>
                  <a:lnTo>
                    <a:pt x="3603" y="2253"/>
                  </a:lnTo>
                  <a:lnTo>
                    <a:pt x="2882" y="2253"/>
                  </a:lnTo>
                  <a:lnTo>
                    <a:pt x="2162" y="2253"/>
                  </a:lnTo>
                  <a:lnTo>
                    <a:pt x="1441" y="2253"/>
                  </a:lnTo>
                  <a:lnTo>
                    <a:pt x="721" y="2253"/>
                  </a:lnTo>
                  <a:lnTo>
                    <a:pt x="0" y="2253"/>
                  </a:lnTo>
                  <a:close/>
                  <a:moveTo>
                    <a:pt x="0" y="2220"/>
                  </a:moveTo>
                  <a:lnTo>
                    <a:pt x="0" y="2203"/>
                  </a:lnTo>
                  <a:lnTo>
                    <a:pt x="721" y="2203"/>
                  </a:lnTo>
                  <a:lnTo>
                    <a:pt x="1441" y="2203"/>
                  </a:lnTo>
                  <a:lnTo>
                    <a:pt x="2162" y="2203"/>
                  </a:lnTo>
                  <a:lnTo>
                    <a:pt x="2882" y="2203"/>
                  </a:lnTo>
                  <a:lnTo>
                    <a:pt x="3603" y="2203"/>
                  </a:lnTo>
                  <a:lnTo>
                    <a:pt x="4323" y="2203"/>
                  </a:lnTo>
                  <a:lnTo>
                    <a:pt x="5044" y="2203"/>
                  </a:lnTo>
                  <a:lnTo>
                    <a:pt x="5764" y="2203"/>
                  </a:lnTo>
                  <a:lnTo>
                    <a:pt x="5764" y="2220"/>
                  </a:lnTo>
                  <a:lnTo>
                    <a:pt x="5044" y="2220"/>
                  </a:lnTo>
                  <a:lnTo>
                    <a:pt x="4323" y="2220"/>
                  </a:lnTo>
                  <a:lnTo>
                    <a:pt x="3603" y="2220"/>
                  </a:lnTo>
                  <a:lnTo>
                    <a:pt x="2882" y="2220"/>
                  </a:lnTo>
                  <a:lnTo>
                    <a:pt x="2162" y="2220"/>
                  </a:lnTo>
                  <a:lnTo>
                    <a:pt x="1441" y="2220"/>
                  </a:lnTo>
                  <a:lnTo>
                    <a:pt x="721" y="2220"/>
                  </a:lnTo>
                  <a:lnTo>
                    <a:pt x="0" y="2220"/>
                  </a:lnTo>
                  <a:close/>
                  <a:moveTo>
                    <a:pt x="0" y="2187"/>
                  </a:moveTo>
                  <a:lnTo>
                    <a:pt x="0" y="2170"/>
                  </a:lnTo>
                  <a:lnTo>
                    <a:pt x="721" y="2170"/>
                  </a:lnTo>
                  <a:lnTo>
                    <a:pt x="1441" y="2170"/>
                  </a:lnTo>
                  <a:lnTo>
                    <a:pt x="2162" y="2170"/>
                  </a:lnTo>
                  <a:lnTo>
                    <a:pt x="2882" y="2170"/>
                  </a:lnTo>
                  <a:lnTo>
                    <a:pt x="3603" y="2170"/>
                  </a:lnTo>
                  <a:lnTo>
                    <a:pt x="4323" y="2170"/>
                  </a:lnTo>
                  <a:lnTo>
                    <a:pt x="5044" y="2170"/>
                  </a:lnTo>
                  <a:lnTo>
                    <a:pt x="5764" y="2170"/>
                  </a:lnTo>
                  <a:lnTo>
                    <a:pt x="5764" y="2187"/>
                  </a:lnTo>
                  <a:lnTo>
                    <a:pt x="5044" y="2187"/>
                  </a:lnTo>
                  <a:lnTo>
                    <a:pt x="4323" y="2187"/>
                  </a:lnTo>
                  <a:lnTo>
                    <a:pt x="3603" y="2187"/>
                  </a:lnTo>
                  <a:lnTo>
                    <a:pt x="2882" y="2187"/>
                  </a:lnTo>
                  <a:lnTo>
                    <a:pt x="2162" y="2187"/>
                  </a:lnTo>
                  <a:lnTo>
                    <a:pt x="1441" y="2187"/>
                  </a:lnTo>
                  <a:lnTo>
                    <a:pt x="721" y="2187"/>
                  </a:lnTo>
                  <a:lnTo>
                    <a:pt x="0" y="2187"/>
                  </a:lnTo>
                  <a:close/>
                  <a:moveTo>
                    <a:pt x="0" y="2153"/>
                  </a:moveTo>
                  <a:lnTo>
                    <a:pt x="0" y="2136"/>
                  </a:lnTo>
                  <a:lnTo>
                    <a:pt x="721" y="2136"/>
                  </a:lnTo>
                  <a:lnTo>
                    <a:pt x="1441" y="2136"/>
                  </a:lnTo>
                  <a:lnTo>
                    <a:pt x="2162" y="2136"/>
                  </a:lnTo>
                  <a:lnTo>
                    <a:pt x="2882" y="2136"/>
                  </a:lnTo>
                  <a:lnTo>
                    <a:pt x="3603" y="2136"/>
                  </a:lnTo>
                  <a:lnTo>
                    <a:pt x="4323" y="2136"/>
                  </a:lnTo>
                  <a:lnTo>
                    <a:pt x="5044" y="2136"/>
                  </a:lnTo>
                  <a:lnTo>
                    <a:pt x="5764" y="2136"/>
                  </a:lnTo>
                  <a:lnTo>
                    <a:pt x="5764" y="2153"/>
                  </a:lnTo>
                  <a:lnTo>
                    <a:pt x="5044" y="2153"/>
                  </a:lnTo>
                  <a:lnTo>
                    <a:pt x="4323" y="2153"/>
                  </a:lnTo>
                  <a:lnTo>
                    <a:pt x="3603" y="2153"/>
                  </a:lnTo>
                  <a:lnTo>
                    <a:pt x="2882" y="2153"/>
                  </a:lnTo>
                  <a:lnTo>
                    <a:pt x="2162" y="2153"/>
                  </a:lnTo>
                  <a:lnTo>
                    <a:pt x="1441" y="2153"/>
                  </a:lnTo>
                  <a:lnTo>
                    <a:pt x="721" y="2153"/>
                  </a:lnTo>
                  <a:lnTo>
                    <a:pt x="0" y="2153"/>
                  </a:lnTo>
                  <a:close/>
                  <a:moveTo>
                    <a:pt x="0" y="2120"/>
                  </a:moveTo>
                  <a:lnTo>
                    <a:pt x="0" y="2103"/>
                  </a:lnTo>
                  <a:lnTo>
                    <a:pt x="721" y="2103"/>
                  </a:lnTo>
                  <a:lnTo>
                    <a:pt x="1441" y="2103"/>
                  </a:lnTo>
                  <a:lnTo>
                    <a:pt x="2162" y="2103"/>
                  </a:lnTo>
                  <a:lnTo>
                    <a:pt x="2882" y="2103"/>
                  </a:lnTo>
                  <a:lnTo>
                    <a:pt x="3603" y="2103"/>
                  </a:lnTo>
                  <a:lnTo>
                    <a:pt x="4323" y="2103"/>
                  </a:lnTo>
                  <a:lnTo>
                    <a:pt x="5044" y="2103"/>
                  </a:lnTo>
                  <a:lnTo>
                    <a:pt x="5764" y="2103"/>
                  </a:lnTo>
                  <a:lnTo>
                    <a:pt x="5764" y="2120"/>
                  </a:lnTo>
                  <a:lnTo>
                    <a:pt x="5044" y="2120"/>
                  </a:lnTo>
                  <a:lnTo>
                    <a:pt x="4323" y="2120"/>
                  </a:lnTo>
                  <a:lnTo>
                    <a:pt x="3603" y="2120"/>
                  </a:lnTo>
                  <a:lnTo>
                    <a:pt x="2882" y="2120"/>
                  </a:lnTo>
                  <a:lnTo>
                    <a:pt x="2162" y="2120"/>
                  </a:lnTo>
                  <a:lnTo>
                    <a:pt x="1441" y="2120"/>
                  </a:lnTo>
                  <a:lnTo>
                    <a:pt x="721" y="2120"/>
                  </a:lnTo>
                  <a:lnTo>
                    <a:pt x="0" y="2120"/>
                  </a:lnTo>
                  <a:close/>
                  <a:moveTo>
                    <a:pt x="0" y="2087"/>
                  </a:moveTo>
                  <a:lnTo>
                    <a:pt x="0" y="2070"/>
                  </a:lnTo>
                  <a:lnTo>
                    <a:pt x="721" y="2070"/>
                  </a:lnTo>
                  <a:lnTo>
                    <a:pt x="1441" y="2070"/>
                  </a:lnTo>
                  <a:lnTo>
                    <a:pt x="2162" y="2070"/>
                  </a:lnTo>
                  <a:lnTo>
                    <a:pt x="2882" y="2070"/>
                  </a:lnTo>
                  <a:lnTo>
                    <a:pt x="3603" y="2070"/>
                  </a:lnTo>
                  <a:lnTo>
                    <a:pt x="4323" y="2070"/>
                  </a:lnTo>
                  <a:lnTo>
                    <a:pt x="5044" y="2070"/>
                  </a:lnTo>
                  <a:lnTo>
                    <a:pt x="5764" y="2070"/>
                  </a:lnTo>
                  <a:lnTo>
                    <a:pt x="5764" y="2087"/>
                  </a:lnTo>
                  <a:lnTo>
                    <a:pt x="5044" y="2087"/>
                  </a:lnTo>
                  <a:lnTo>
                    <a:pt x="4323" y="2087"/>
                  </a:lnTo>
                  <a:lnTo>
                    <a:pt x="3603" y="2087"/>
                  </a:lnTo>
                  <a:lnTo>
                    <a:pt x="2882" y="2087"/>
                  </a:lnTo>
                  <a:lnTo>
                    <a:pt x="2162" y="2087"/>
                  </a:lnTo>
                  <a:lnTo>
                    <a:pt x="1441" y="2087"/>
                  </a:lnTo>
                  <a:lnTo>
                    <a:pt x="721" y="2087"/>
                  </a:lnTo>
                  <a:lnTo>
                    <a:pt x="0" y="2087"/>
                  </a:lnTo>
                  <a:close/>
                  <a:moveTo>
                    <a:pt x="0" y="2054"/>
                  </a:moveTo>
                  <a:lnTo>
                    <a:pt x="0" y="2038"/>
                  </a:lnTo>
                  <a:lnTo>
                    <a:pt x="721" y="2038"/>
                  </a:lnTo>
                  <a:lnTo>
                    <a:pt x="1441" y="2038"/>
                  </a:lnTo>
                  <a:lnTo>
                    <a:pt x="2162" y="2038"/>
                  </a:lnTo>
                  <a:lnTo>
                    <a:pt x="2882" y="2038"/>
                  </a:lnTo>
                  <a:lnTo>
                    <a:pt x="3603" y="2038"/>
                  </a:lnTo>
                  <a:lnTo>
                    <a:pt x="4323" y="2038"/>
                  </a:lnTo>
                  <a:lnTo>
                    <a:pt x="5044" y="2038"/>
                  </a:lnTo>
                  <a:lnTo>
                    <a:pt x="5764" y="2038"/>
                  </a:lnTo>
                  <a:lnTo>
                    <a:pt x="5764" y="2054"/>
                  </a:lnTo>
                  <a:lnTo>
                    <a:pt x="5044" y="2054"/>
                  </a:lnTo>
                  <a:lnTo>
                    <a:pt x="4323" y="2054"/>
                  </a:lnTo>
                  <a:lnTo>
                    <a:pt x="3603" y="2054"/>
                  </a:lnTo>
                  <a:lnTo>
                    <a:pt x="2882" y="2054"/>
                  </a:lnTo>
                  <a:lnTo>
                    <a:pt x="2162" y="2054"/>
                  </a:lnTo>
                  <a:lnTo>
                    <a:pt x="1441" y="2054"/>
                  </a:lnTo>
                  <a:lnTo>
                    <a:pt x="721" y="2054"/>
                  </a:lnTo>
                  <a:lnTo>
                    <a:pt x="0" y="2054"/>
                  </a:lnTo>
                  <a:close/>
                  <a:moveTo>
                    <a:pt x="0" y="2022"/>
                  </a:moveTo>
                  <a:lnTo>
                    <a:pt x="0" y="2005"/>
                  </a:lnTo>
                  <a:lnTo>
                    <a:pt x="721" y="2005"/>
                  </a:lnTo>
                  <a:lnTo>
                    <a:pt x="1441" y="2005"/>
                  </a:lnTo>
                  <a:lnTo>
                    <a:pt x="2162" y="2005"/>
                  </a:lnTo>
                  <a:lnTo>
                    <a:pt x="2882" y="2005"/>
                  </a:lnTo>
                  <a:lnTo>
                    <a:pt x="3603" y="2005"/>
                  </a:lnTo>
                  <a:lnTo>
                    <a:pt x="4323" y="2005"/>
                  </a:lnTo>
                  <a:lnTo>
                    <a:pt x="5044" y="2005"/>
                  </a:lnTo>
                  <a:lnTo>
                    <a:pt x="5764" y="2005"/>
                  </a:lnTo>
                  <a:lnTo>
                    <a:pt x="5764" y="2022"/>
                  </a:lnTo>
                  <a:lnTo>
                    <a:pt x="5044" y="2022"/>
                  </a:lnTo>
                  <a:lnTo>
                    <a:pt x="4323" y="2022"/>
                  </a:lnTo>
                  <a:lnTo>
                    <a:pt x="3603" y="2022"/>
                  </a:lnTo>
                  <a:lnTo>
                    <a:pt x="2882" y="2022"/>
                  </a:lnTo>
                  <a:lnTo>
                    <a:pt x="2162" y="2022"/>
                  </a:lnTo>
                  <a:lnTo>
                    <a:pt x="1441" y="2022"/>
                  </a:lnTo>
                  <a:lnTo>
                    <a:pt x="721" y="2022"/>
                  </a:lnTo>
                  <a:lnTo>
                    <a:pt x="0" y="2022"/>
                  </a:lnTo>
                  <a:close/>
                  <a:moveTo>
                    <a:pt x="0" y="1989"/>
                  </a:moveTo>
                  <a:lnTo>
                    <a:pt x="0" y="1972"/>
                  </a:lnTo>
                  <a:lnTo>
                    <a:pt x="721" y="1972"/>
                  </a:lnTo>
                  <a:lnTo>
                    <a:pt x="1441" y="1972"/>
                  </a:lnTo>
                  <a:lnTo>
                    <a:pt x="2162" y="1972"/>
                  </a:lnTo>
                  <a:lnTo>
                    <a:pt x="2882" y="1972"/>
                  </a:lnTo>
                  <a:lnTo>
                    <a:pt x="3603" y="1972"/>
                  </a:lnTo>
                  <a:lnTo>
                    <a:pt x="4323" y="1972"/>
                  </a:lnTo>
                  <a:lnTo>
                    <a:pt x="5044" y="1972"/>
                  </a:lnTo>
                  <a:lnTo>
                    <a:pt x="5764" y="1972"/>
                  </a:lnTo>
                  <a:lnTo>
                    <a:pt x="5764" y="1989"/>
                  </a:lnTo>
                  <a:lnTo>
                    <a:pt x="5044" y="1989"/>
                  </a:lnTo>
                  <a:lnTo>
                    <a:pt x="4323" y="1989"/>
                  </a:lnTo>
                  <a:lnTo>
                    <a:pt x="3603" y="1989"/>
                  </a:lnTo>
                  <a:lnTo>
                    <a:pt x="2882" y="1989"/>
                  </a:lnTo>
                  <a:lnTo>
                    <a:pt x="2162" y="1989"/>
                  </a:lnTo>
                  <a:lnTo>
                    <a:pt x="1441" y="1989"/>
                  </a:lnTo>
                  <a:lnTo>
                    <a:pt x="721" y="1989"/>
                  </a:lnTo>
                  <a:lnTo>
                    <a:pt x="0" y="1989"/>
                  </a:lnTo>
                  <a:close/>
                  <a:moveTo>
                    <a:pt x="0" y="1956"/>
                  </a:moveTo>
                  <a:lnTo>
                    <a:pt x="0" y="1939"/>
                  </a:lnTo>
                  <a:lnTo>
                    <a:pt x="721" y="1939"/>
                  </a:lnTo>
                  <a:lnTo>
                    <a:pt x="1441" y="1939"/>
                  </a:lnTo>
                  <a:lnTo>
                    <a:pt x="2162" y="1939"/>
                  </a:lnTo>
                  <a:lnTo>
                    <a:pt x="2882" y="1939"/>
                  </a:lnTo>
                  <a:lnTo>
                    <a:pt x="3603" y="1939"/>
                  </a:lnTo>
                  <a:lnTo>
                    <a:pt x="4323" y="1939"/>
                  </a:lnTo>
                  <a:lnTo>
                    <a:pt x="5044" y="1939"/>
                  </a:lnTo>
                  <a:lnTo>
                    <a:pt x="5764" y="1939"/>
                  </a:lnTo>
                  <a:lnTo>
                    <a:pt x="5764" y="1956"/>
                  </a:lnTo>
                  <a:lnTo>
                    <a:pt x="5044" y="1956"/>
                  </a:lnTo>
                  <a:lnTo>
                    <a:pt x="4323" y="1956"/>
                  </a:lnTo>
                  <a:lnTo>
                    <a:pt x="3603" y="1956"/>
                  </a:lnTo>
                  <a:lnTo>
                    <a:pt x="2882" y="1956"/>
                  </a:lnTo>
                  <a:lnTo>
                    <a:pt x="2162" y="1956"/>
                  </a:lnTo>
                  <a:lnTo>
                    <a:pt x="1441" y="1956"/>
                  </a:lnTo>
                  <a:lnTo>
                    <a:pt x="721" y="1956"/>
                  </a:lnTo>
                  <a:lnTo>
                    <a:pt x="0" y="1956"/>
                  </a:lnTo>
                  <a:close/>
                  <a:moveTo>
                    <a:pt x="0" y="1923"/>
                  </a:moveTo>
                  <a:lnTo>
                    <a:pt x="0" y="1906"/>
                  </a:lnTo>
                  <a:lnTo>
                    <a:pt x="721" y="1906"/>
                  </a:lnTo>
                  <a:lnTo>
                    <a:pt x="1441" y="1906"/>
                  </a:lnTo>
                  <a:lnTo>
                    <a:pt x="2162" y="1906"/>
                  </a:lnTo>
                  <a:lnTo>
                    <a:pt x="2882" y="1906"/>
                  </a:lnTo>
                  <a:lnTo>
                    <a:pt x="3603" y="1906"/>
                  </a:lnTo>
                  <a:lnTo>
                    <a:pt x="4323" y="1906"/>
                  </a:lnTo>
                  <a:lnTo>
                    <a:pt x="5044" y="1906"/>
                  </a:lnTo>
                  <a:lnTo>
                    <a:pt x="5764" y="1906"/>
                  </a:lnTo>
                  <a:lnTo>
                    <a:pt x="5764" y="1923"/>
                  </a:lnTo>
                  <a:lnTo>
                    <a:pt x="5044" y="1923"/>
                  </a:lnTo>
                  <a:lnTo>
                    <a:pt x="4323" y="1923"/>
                  </a:lnTo>
                  <a:lnTo>
                    <a:pt x="3603" y="1923"/>
                  </a:lnTo>
                  <a:lnTo>
                    <a:pt x="2882" y="1923"/>
                  </a:lnTo>
                  <a:lnTo>
                    <a:pt x="2162" y="1923"/>
                  </a:lnTo>
                  <a:lnTo>
                    <a:pt x="1441" y="1923"/>
                  </a:lnTo>
                  <a:lnTo>
                    <a:pt x="721" y="1923"/>
                  </a:lnTo>
                  <a:lnTo>
                    <a:pt x="0" y="1923"/>
                  </a:lnTo>
                  <a:close/>
                  <a:moveTo>
                    <a:pt x="0" y="1890"/>
                  </a:moveTo>
                  <a:lnTo>
                    <a:pt x="0" y="1873"/>
                  </a:lnTo>
                  <a:lnTo>
                    <a:pt x="721" y="1873"/>
                  </a:lnTo>
                  <a:lnTo>
                    <a:pt x="1441" y="1873"/>
                  </a:lnTo>
                  <a:lnTo>
                    <a:pt x="2162" y="1873"/>
                  </a:lnTo>
                  <a:lnTo>
                    <a:pt x="2882" y="1873"/>
                  </a:lnTo>
                  <a:lnTo>
                    <a:pt x="3603" y="1873"/>
                  </a:lnTo>
                  <a:lnTo>
                    <a:pt x="4323" y="1873"/>
                  </a:lnTo>
                  <a:lnTo>
                    <a:pt x="5044" y="1873"/>
                  </a:lnTo>
                  <a:lnTo>
                    <a:pt x="5764" y="1873"/>
                  </a:lnTo>
                  <a:lnTo>
                    <a:pt x="5764" y="1890"/>
                  </a:lnTo>
                  <a:lnTo>
                    <a:pt x="5044" y="1890"/>
                  </a:lnTo>
                  <a:lnTo>
                    <a:pt x="4323" y="1890"/>
                  </a:lnTo>
                  <a:lnTo>
                    <a:pt x="3603" y="1890"/>
                  </a:lnTo>
                  <a:lnTo>
                    <a:pt x="2882" y="1890"/>
                  </a:lnTo>
                  <a:lnTo>
                    <a:pt x="2162" y="1890"/>
                  </a:lnTo>
                  <a:lnTo>
                    <a:pt x="1441" y="1890"/>
                  </a:lnTo>
                  <a:lnTo>
                    <a:pt x="721" y="1890"/>
                  </a:lnTo>
                  <a:lnTo>
                    <a:pt x="0" y="1890"/>
                  </a:lnTo>
                  <a:close/>
                  <a:moveTo>
                    <a:pt x="0" y="1857"/>
                  </a:moveTo>
                  <a:lnTo>
                    <a:pt x="0" y="1841"/>
                  </a:lnTo>
                  <a:lnTo>
                    <a:pt x="721" y="1841"/>
                  </a:lnTo>
                  <a:lnTo>
                    <a:pt x="1441" y="1841"/>
                  </a:lnTo>
                  <a:lnTo>
                    <a:pt x="2162" y="1841"/>
                  </a:lnTo>
                  <a:lnTo>
                    <a:pt x="2882" y="1841"/>
                  </a:lnTo>
                  <a:lnTo>
                    <a:pt x="3603" y="1841"/>
                  </a:lnTo>
                  <a:lnTo>
                    <a:pt x="4323" y="1841"/>
                  </a:lnTo>
                  <a:lnTo>
                    <a:pt x="5044" y="1841"/>
                  </a:lnTo>
                  <a:lnTo>
                    <a:pt x="5764" y="1841"/>
                  </a:lnTo>
                  <a:lnTo>
                    <a:pt x="5764" y="1857"/>
                  </a:lnTo>
                  <a:lnTo>
                    <a:pt x="5044" y="1857"/>
                  </a:lnTo>
                  <a:lnTo>
                    <a:pt x="4323" y="1857"/>
                  </a:lnTo>
                  <a:lnTo>
                    <a:pt x="3603" y="1857"/>
                  </a:lnTo>
                  <a:lnTo>
                    <a:pt x="2882" y="1857"/>
                  </a:lnTo>
                  <a:lnTo>
                    <a:pt x="2162" y="1857"/>
                  </a:lnTo>
                  <a:lnTo>
                    <a:pt x="1441" y="1857"/>
                  </a:lnTo>
                  <a:lnTo>
                    <a:pt x="721" y="1857"/>
                  </a:lnTo>
                  <a:lnTo>
                    <a:pt x="0" y="1857"/>
                  </a:lnTo>
                  <a:close/>
                  <a:moveTo>
                    <a:pt x="0" y="1824"/>
                  </a:moveTo>
                  <a:lnTo>
                    <a:pt x="0" y="1808"/>
                  </a:lnTo>
                  <a:lnTo>
                    <a:pt x="721" y="1808"/>
                  </a:lnTo>
                  <a:lnTo>
                    <a:pt x="1441" y="1808"/>
                  </a:lnTo>
                  <a:lnTo>
                    <a:pt x="2162" y="1808"/>
                  </a:lnTo>
                  <a:lnTo>
                    <a:pt x="2882" y="1808"/>
                  </a:lnTo>
                  <a:lnTo>
                    <a:pt x="3603" y="1808"/>
                  </a:lnTo>
                  <a:lnTo>
                    <a:pt x="4323" y="1808"/>
                  </a:lnTo>
                  <a:lnTo>
                    <a:pt x="5044" y="1808"/>
                  </a:lnTo>
                  <a:lnTo>
                    <a:pt x="5764" y="1808"/>
                  </a:lnTo>
                  <a:lnTo>
                    <a:pt x="5764" y="1824"/>
                  </a:lnTo>
                  <a:lnTo>
                    <a:pt x="5044" y="1824"/>
                  </a:lnTo>
                  <a:lnTo>
                    <a:pt x="4323" y="1824"/>
                  </a:lnTo>
                  <a:lnTo>
                    <a:pt x="3603" y="1824"/>
                  </a:lnTo>
                  <a:lnTo>
                    <a:pt x="2882" y="1824"/>
                  </a:lnTo>
                  <a:lnTo>
                    <a:pt x="2162" y="1824"/>
                  </a:lnTo>
                  <a:lnTo>
                    <a:pt x="1441" y="1824"/>
                  </a:lnTo>
                  <a:lnTo>
                    <a:pt x="721" y="1824"/>
                  </a:lnTo>
                  <a:lnTo>
                    <a:pt x="0" y="1824"/>
                  </a:lnTo>
                  <a:close/>
                  <a:moveTo>
                    <a:pt x="0" y="1792"/>
                  </a:moveTo>
                  <a:lnTo>
                    <a:pt x="0" y="1775"/>
                  </a:lnTo>
                  <a:lnTo>
                    <a:pt x="721" y="1775"/>
                  </a:lnTo>
                  <a:lnTo>
                    <a:pt x="1441" y="1775"/>
                  </a:lnTo>
                  <a:lnTo>
                    <a:pt x="2162" y="1775"/>
                  </a:lnTo>
                  <a:lnTo>
                    <a:pt x="2882" y="1775"/>
                  </a:lnTo>
                  <a:lnTo>
                    <a:pt x="3603" y="1775"/>
                  </a:lnTo>
                  <a:lnTo>
                    <a:pt x="4323" y="1775"/>
                  </a:lnTo>
                  <a:lnTo>
                    <a:pt x="5044" y="1775"/>
                  </a:lnTo>
                  <a:lnTo>
                    <a:pt x="5764" y="1775"/>
                  </a:lnTo>
                  <a:lnTo>
                    <a:pt x="5764" y="1792"/>
                  </a:lnTo>
                  <a:lnTo>
                    <a:pt x="5044" y="1792"/>
                  </a:lnTo>
                  <a:lnTo>
                    <a:pt x="4323" y="1792"/>
                  </a:lnTo>
                  <a:lnTo>
                    <a:pt x="3603" y="1792"/>
                  </a:lnTo>
                  <a:lnTo>
                    <a:pt x="2882" y="1792"/>
                  </a:lnTo>
                  <a:lnTo>
                    <a:pt x="2162" y="1792"/>
                  </a:lnTo>
                  <a:lnTo>
                    <a:pt x="1441" y="1792"/>
                  </a:lnTo>
                  <a:lnTo>
                    <a:pt x="721" y="1792"/>
                  </a:lnTo>
                  <a:lnTo>
                    <a:pt x="0" y="1792"/>
                  </a:lnTo>
                  <a:close/>
                  <a:moveTo>
                    <a:pt x="0" y="1759"/>
                  </a:moveTo>
                  <a:lnTo>
                    <a:pt x="0" y="1742"/>
                  </a:lnTo>
                  <a:lnTo>
                    <a:pt x="721" y="1742"/>
                  </a:lnTo>
                  <a:lnTo>
                    <a:pt x="1441" y="1742"/>
                  </a:lnTo>
                  <a:lnTo>
                    <a:pt x="2162" y="1742"/>
                  </a:lnTo>
                  <a:lnTo>
                    <a:pt x="2882" y="1742"/>
                  </a:lnTo>
                  <a:lnTo>
                    <a:pt x="3603" y="1742"/>
                  </a:lnTo>
                  <a:lnTo>
                    <a:pt x="4323" y="1742"/>
                  </a:lnTo>
                  <a:lnTo>
                    <a:pt x="5044" y="1742"/>
                  </a:lnTo>
                  <a:lnTo>
                    <a:pt x="5764" y="1742"/>
                  </a:lnTo>
                  <a:lnTo>
                    <a:pt x="5764" y="1759"/>
                  </a:lnTo>
                  <a:lnTo>
                    <a:pt x="5044" y="1759"/>
                  </a:lnTo>
                  <a:lnTo>
                    <a:pt x="4323" y="1759"/>
                  </a:lnTo>
                  <a:lnTo>
                    <a:pt x="3603" y="1759"/>
                  </a:lnTo>
                  <a:lnTo>
                    <a:pt x="2882" y="1759"/>
                  </a:lnTo>
                  <a:lnTo>
                    <a:pt x="2162" y="1759"/>
                  </a:lnTo>
                  <a:lnTo>
                    <a:pt x="1441" y="1759"/>
                  </a:lnTo>
                  <a:lnTo>
                    <a:pt x="721" y="1759"/>
                  </a:lnTo>
                  <a:lnTo>
                    <a:pt x="0" y="1759"/>
                  </a:lnTo>
                  <a:close/>
                  <a:moveTo>
                    <a:pt x="0" y="1726"/>
                  </a:moveTo>
                  <a:lnTo>
                    <a:pt x="0" y="1709"/>
                  </a:lnTo>
                  <a:lnTo>
                    <a:pt x="721" y="1709"/>
                  </a:lnTo>
                  <a:lnTo>
                    <a:pt x="1441" y="1709"/>
                  </a:lnTo>
                  <a:lnTo>
                    <a:pt x="2162" y="1709"/>
                  </a:lnTo>
                  <a:lnTo>
                    <a:pt x="2882" y="1709"/>
                  </a:lnTo>
                  <a:lnTo>
                    <a:pt x="3603" y="1709"/>
                  </a:lnTo>
                  <a:lnTo>
                    <a:pt x="4323" y="1709"/>
                  </a:lnTo>
                  <a:lnTo>
                    <a:pt x="5044" y="1709"/>
                  </a:lnTo>
                  <a:lnTo>
                    <a:pt x="5764" y="1709"/>
                  </a:lnTo>
                  <a:lnTo>
                    <a:pt x="5764" y="1726"/>
                  </a:lnTo>
                  <a:lnTo>
                    <a:pt x="5044" y="1726"/>
                  </a:lnTo>
                  <a:lnTo>
                    <a:pt x="4323" y="1726"/>
                  </a:lnTo>
                  <a:lnTo>
                    <a:pt x="3603" y="1726"/>
                  </a:lnTo>
                  <a:lnTo>
                    <a:pt x="2882" y="1726"/>
                  </a:lnTo>
                  <a:lnTo>
                    <a:pt x="2162" y="1726"/>
                  </a:lnTo>
                  <a:lnTo>
                    <a:pt x="1441" y="1726"/>
                  </a:lnTo>
                  <a:lnTo>
                    <a:pt x="721" y="1726"/>
                  </a:lnTo>
                  <a:lnTo>
                    <a:pt x="0" y="1726"/>
                  </a:lnTo>
                  <a:close/>
                  <a:moveTo>
                    <a:pt x="0" y="1693"/>
                  </a:moveTo>
                  <a:lnTo>
                    <a:pt x="0" y="1676"/>
                  </a:lnTo>
                  <a:lnTo>
                    <a:pt x="721" y="1676"/>
                  </a:lnTo>
                  <a:lnTo>
                    <a:pt x="1441" y="1676"/>
                  </a:lnTo>
                  <a:lnTo>
                    <a:pt x="2162" y="1676"/>
                  </a:lnTo>
                  <a:lnTo>
                    <a:pt x="2882" y="1676"/>
                  </a:lnTo>
                  <a:lnTo>
                    <a:pt x="3603" y="1676"/>
                  </a:lnTo>
                  <a:lnTo>
                    <a:pt x="4323" y="1676"/>
                  </a:lnTo>
                  <a:lnTo>
                    <a:pt x="5044" y="1676"/>
                  </a:lnTo>
                  <a:lnTo>
                    <a:pt x="5764" y="1676"/>
                  </a:lnTo>
                  <a:lnTo>
                    <a:pt x="5764" y="1693"/>
                  </a:lnTo>
                  <a:lnTo>
                    <a:pt x="5044" y="1693"/>
                  </a:lnTo>
                  <a:lnTo>
                    <a:pt x="4323" y="1693"/>
                  </a:lnTo>
                  <a:lnTo>
                    <a:pt x="3603" y="1693"/>
                  </a:lnTo>
                  <a:lnTo>
                    <a:pt x="2882" y="1693"/>
                  </a:lnTo>
                  <a:lnTo>
                    <a:pt x="2162" y="1693"/>
                  </a:lnTo>
                  <a:lnTo>
                    <a:pt x="1441" y="1693"/>
                  </a:lnTo>
                  <a:lnTo>
                    <a:pt x="721" y="1693"/>
                  </a:lnTo>
                  <a:lnTo>
                    <a:pt x="0" y="1693"/>
                  </a:lnTo>
                  <a:close/>
                  <a:moveTo>
                    <a:pt x="0" y="1660"/>
                  </a:moveTo>
                  <a:lnTo>
                    <a:pt x="0" y="1643"/>
                  </a:lnTo>
                  <a:lnTo>
                    <a:pt x="721" y="1643"/>
                  </a:lnTo>
                  <a:lnTo>
                    <a:pt x="1441" y="1643"/>
                  </a:lnTo>
                  <a:lnTo>
                    <a:pt x="2162" y="1643"/>
                  </a:lnTo>
                  <a:lnTo>
                    <a:pt x="2882" y="1643"/>
                  </a:lnTo>
                  <a:lnTo>
                    <a:pt x="3603" y="1643"/>
                  </a:lnTo>
                  <a:lnTo>
                    <a:pt x="4323" y="1643"/>
                  </a:lnTo>
                  <a:lnTo>
                    <a:pt x="5044" y="1643"/>
                  </a:lnTo>
                  <a:lnTo>
                    <a:pt x="5764" y="1643"/>
                  </a:lnTo>
                  <a:lnTo>
                    <a:pt x="5764" y="1660"/>
                  </a:lnTo>
                  <a:lnTo>
                    <a:pt x="5044" y="1660"/>
                  </a:lnTo>
                  <a:lnTo>
                    <a:pt x="4323" y="1660"/>
                  </a:lnTo>
                  <a:lnTo>
                    <a:pt x="3603" y="1660"/>
                  </a:lnTo>
                  <a:lnTo>
                    <a:pt x="2882" y="1660"/>
                  </a:lnTo>
                  <a:lnTo>
                    <a:pt x="2162" y="1660"/>
                  </a:lnTo>
                  <a:lnTo>
                    <a:pt x="1441" y="1660"/>
                  </a:lnTo>
                  <a:lnTo>
                    <a:pt x="721" y="1660"/>
                  </a:lnTo>
                  <a:lnTo>
                    <a:pt x="0" y="1660"/>
                  </a:lnTo>
                  <a:close/>
                  <a:moveTo>
                    <a:pt x="0" y="1627"/>
                  </a:moveTo>
                  <a:lnTo>
                    <a:pt x="0" y="1611"/>
                  </a:lnTo>
                  <a:lnTo>
                    <a:pt x="721" y="1611"/>
                  </a:lnTo>
                  <a:lnTo>
                    <a:pt x="1441" y="1611"/>
                  </a:lnTo>
                  <a:lnTo>
                    <a:pt x="2162" y="1611"/>
                  </a:lnTo>
                  <a:lnTo>
                    <a:pt x="2882" y="1611"/>
                  </a:lnTo>
                  <a:lnTo>
                    <a:pt x="3603" y="1611"/>
                  </a:lnTo>
                  <a:lnTo>
                    <a:pt x="4323" y="1611"/>
                  </a:lnTo>
                  <a:lnTo>
                    <a:pt x="5044" y="1611"/>
                  </a:lnTo>
                  <a:lnTo>
                    <a:pt x="5764" y="1611"/>
                  </a:lnTo>
                  <a:lnTo>
                    <a:pt x="5764" y="1627"/>
                  </a:lnTo>
                  <a:lnTo>
                    <a:pt x="5044" y="1627"/>
                  </a:lnTo>
                  <a:lnTo>
                    <a:pt x="4323" y="1627"/>
                  </a:lnTo>
                  <a:lnTo>
                    <a:pt x="3603" y="1627"/>
                  </a:lnTo>
                  <a:lnTo>
                    <a:pt x="2882" y="1627"/>
                  </a:lnTo>
                  <a:lnTo>
                    <a:pt x="2162" y="1627"/>
                  </a:lnTo>
                  <a:lnTo>
                    <a:pt x="1441" y="1627"/>
                  </a:lnTo>
                  <a:lnTo>
                    <a:pt x="721" y="1627"/>
                  </a:lnTo>
                  <a:lnTo>
                    <a:pt x="0" y="1627"/>
                  </a:lnTo>
                  <a:close/>
                  <a:moveTo>
                    <a:pt x="0" y="1595"/>
                  </a:moveTo>
                  <a:lnTo>
                    <a:pt x="0" y="1578"/>
                  </a:lnTo>
                  <a:lnTo>
                    <a:pt x="721" y="1578"/>
                  </a:lnTo>
                  <a:lnTo>
                    <a:pt x="1441" y="1578"/>
                  </a:lnTo>
                  <a:lnTo>
                    <a:pt x="2162" y="1578"/>
                  </a:lnTo>
                  <a:lnTo>
                    <a:pt x="2882" y="1578"/>
                  </a:lnTo>
                  <a:lnTo>
                    <a:pt x="3603" y="1578"/>
                  </a:lnTo>
                  <a:lnTo>
                    <a:pt x="4323" y="1578"/>
                  </a:lnTo>
                  <a:lnTo>
                    <a:pt x="5044" y="1578"/>
                  </a:lnTo>
                  <a:lnTo>
                    <a:pt x="5764" y="1578"/>
                  </a:lnTo>
                  <a:lnTo>
                    <a:pt x="5764" y="1595"/>
                  </a:lnTo>
                  <a:lnTo>
                    <a:pt x="5044" y="1595"/>
                  </a:lnTo>
                  <a:lnTo>
                    <a:pt x="4323" y="1595"/>
                  </a:lnTo>
                  <a:lnTo>
                    <a:pt x="3603" y="1595"/>
                  </a:lnTo>
                  <a:lnTo>
                    <a:pt x="2882" y="1595"/>
                  </a:lnTo>
                  <a:lnTo>
                    <a:pt x="2162" y="1595"/>
                  </a:lnTo>
                  <a:lnTo>
                    <a:pt x="1441" y="1595"/>
                  </a:lnTo>
                  <a:lnTo>
                    <a:pt x="721" y="1595"/>
                  </a:lnTo>
                  <a:lnTo>
                    <a:pt x="0" y="1595"/>
                  </a:lnTo>
                  <a:close/>
                  <a:moveTo>
                    <a:pt x="0" y="1562"/>
                  </a:moveTo>
                  <a:lnTo>
                    <a:pt x="0" y="1545"/>
                  </a:lnTo>
                  <a:lnTo>
                    <a:pt x="721" y="1545"/>
                  </a:lnTo>
                  <a:lnTo>
                    <a:pt x="1441" y="1545"/>
                  </a:lnTo>
                  <a:lnTo>
                    <a:pt x="2162" y="1545"/>
                  </a:lnTo>
                  <a:lnTo>
                    <a:pt x="2882" y="1545"/>
                  </a:lnTo>
                  <a:lnTo>
                    <a:pt x="3603" y="1545"/>
                  </a:lnTo>
                  <a:lnTo>
                    <a:pt x="4323" y="1545"/>
                  </a:lnTo>
                  <a:lnTo>
                    <a:pt x="5044" y="1545"/>
                  </a:lnTo>
                  <a:lnTo>
                    <a:pt x="5764" y="1545"/>
                  </a:lnTo>
                  <a:lnTo>
                    <a:pt x="5764" y="1562"/>
                  </a:lnTo>
                  <a:lnTo>
                    <a:pt x="5044" y="1562"/>
                  </a:lnTo>
                  <a:lnTo>
                    <a:pt x="4323" y="1562"/>
                  </a:lnTo>
                  <a:lnTo>
                    <a:pt x="3603" y="1562"/>
                  </a:lnTo>
                  <a:lnTo>
                    <a:pt x="2882" y="1562"/>
                  </a:lnTo>
                  <a:lnTo>
                    <a:pt x="2162" y="1562"/>
                  </a:lnTo>
                  <a:lnTo>
                    <a:pt x="1441" y="1562"/>
                  </a:lnTo>
                  <a:lnTo>
                    <a:pt x="721" y="1562"/>
                  </a:lnTo>
                  <a:lnTo>
                    <a:pt x="0" y="1562"/>
                  </a:lnTo>
                  <a:close/>
                  <a:moveTo>
                    <a:pt x="0" y="1529"/>
                  </a:moveTo>
                  <a:lnTo>
                    <a:pt x="0" y="1512"/>
                  </a:lnTo>
                  <a:lnTo>
                    <a:pt x="721" y="1512"/>
                  </a:lnTo>
                  <a:lnTo>
                    <a:pt x="1441" y="1512"/>
                  </a:lnTo>
                  <a:lnTo>
                    <a:pt x="2162" y="1512"/>
                  </a:lnTo>
                  <a:lnTo>
                    <a:pt x="2882" y="1512"/>
                  </a:lnTo>
                  <a:lnTo>
                    <a:pt x="3603" y="1512"/>
                  </a:lnTo>
                  <a:lnTo>
                    <a:pt x="4323" y="1512"/>
                  </a:lnTo>
                  <a:lnTo>
                    <a:pt x="5044" y="1512"/>
                  </a:lnTo>
                  <a:lnTo>
                    <a:pt x="5764" y="1512"/>
                  </a:lnTo>
                  <a:lnTo>
                    <a:pt x="5764" y="1529"/>
                  </a:lnTo>
                  <a:lnTo>
                    <a:pt x="5044" y="1529"/>
                  </a:lnTo>
                  <a:lnTo>
                    <a:pt x="4323" y="1529"/>
                  </a:lnTo>
                  <a:lnTo>
                    <a:pt x="3603" y="1529"/>
                  </a:lnTo>
                  <a:lnTo>
                    <a:pt x="2882" y="1529"/>
                  </a:lnTo>
                  <a:lnTo>
                    <a:pt x="2162" y="1529"/>
                  </a:lnTo>
                  <a:lnTo>
                    <a:pt x="1441" y="1529"/>
                  </a:lnTo>
                  <a:lnTo>
                    <a:pt x="721" y="1529"/>
                  </a:lnTo>
                  <a:lnTo>
                    <a:pt x="0" y="1529"/>
                  </a:lnTo>
                  <a:close/>
                  <a:moveTo>
                    <a:pt x="0" y="1496"/>
                  </a:moveTo>
                  <a:lnTo>
                    <a:pt x="0" y="1479"/>
                  </a:lnTo>
                  <a:lnTo>
                    <a:pt x="721" y="1479"/>
                  </a:lnTo>
                  <a:lnTo>
                    <a:pt x="1441" y="1479"/>
                  </a:lnTo>
                  <a:lnTo>
                    <a:pt x="2162" y="1479"/>
                  </a:lnTo>
                  <a:lnTo>
                    <a:pt x="2882" y="1479"/>
                  </a:lnTo>
                  <a:lnTo>
                    <a:pt x="3603" y="1479"/>
                  </a:lnTo>
                  <a:lnTo>
                    <a:pt x="4323" y="1479"/>
                  </a:lnTo>
                  <a:lnTo>
                    <a:pt x="5044" y="1479"/>
                  </a:lnTo>
                  <a:lnTo>
                    <a:pt x="5764" y="1479"/>
                  </a:lnTo>
                  <a:lnTo>
                    <a:pt x="5764" y="1496"/>
                  </a:lnTo>
                  <a:lnTo>
                    <a:pt x="5044" y="1496"/>
                  </a:lnTo>
                  <a:lnTo>
                    <a:pt x="4323" y="1496"/>
                  </a:lnTo>
                  <a:lnTo>
                    <a:pt x="3603" y="1496"/>
                  </a:lnTo>
                  <a:lnTo>
                    <a:pt x="2882" y="1496"/>
                  </a:lnTo>
                  <a:lnTo>
                    <a:pt x="2162" y="1496"/>
                  </a:lnTo>
                  <a:lnTo>
                    <a:pt x="1441" y="1496"/>
                  </a:lnTo>
                  <a:lnTo>
                    <a:pt x="721" y="1496"/>
                  </a:lnTo>
                  <a:lnTo>
                    <a:pt x="0" y="1496"/>
                  </a:lnTo>
                  <a:close/>
                  <a:moveTo>
                    <a:pt x="0" y="1463"/>
                  </a:moveTo>
                  <a:lnTo>
                    <a:pt x="0" y="1446"/>
                  </a:lnTo>
                  <a:lnTo>
                    <a:pt x="721" y="1446"/>
                  </a:lnTo>
                  <a:lnTo>
                    <a:pt x="1441" y="1446"/>
                  </a:lnTo>
                  <a:lnTo>
                    <a:pt x="2162" y="1446"/>
                  </a:lnTo>
                  <a:lnTo>
                    <a:pt x="2882" y="1446"/>
                  </a:lnTo>
                  <a:lnTo>
                    <a:pt x="3603" y="1446"/>
                  </a:lnTo>
                  <a:lnTo>
                    <a:pt x="4323" y="1446"/>
                  </a:lnTo>
                  <a:lnTo>
                    <a:pt x="5044" y="1446"/>
                  </a:lnTo>
                  <a:lnTo>
                    <a:pt x="5764" y="1446"/>
                  </a:lnTo>
                  <a:lnTo>
                    <a:pt x="5764" y="1463"/>
                  </a:lnTo>
                  <a:lnTo>
                    <a:pt x="5044" y="1463"/>
                  </a:lnTo>
                  <a:lnTo>
                    <a:pt x="4323" y="1463"/>
                  </a:lnTo>
                  <a:lnTo>
                    <a:pt x="3603" y="1463"/>
                  </a:lnTo>
                  <a:lnTo>
                    <a:pt x="2882" y="1463"/>
                  </a:lnTo>
                  <a:lnTo>
                    <a:pt x="2162" y="1463"/>
                  </a:lnTo>
                  <a:lnTo>
                    <a:pt x="1441" y="1463"/>
                  </a:lnTo>
                  <a:lnTo>
                    <a:pt x="721" y="1463"/>
                  </a:lnTo>
                  <a:lnTo>
                    <a:pt x="0" y="1463"/>
                  </a:lnTo>
                  <a:close/>
                  <a:moveTo>
                    <a:pt x="0" y="1430"/>
                  </a:moveTo>
                  <a:lnTo>
                    <a:pt x="0" y="1414"/>
                  </a:lnTo>
                  <a:lnTo>
                    <a:pt x="721" y="1414"/>
                  </a:lnTo>
                  <a:lnTo>
                    <a:pt x="1441" y="1414"/>
                  </a:lnTo>
                  <a:lnTo>
                    <a:pt x="2162" y="1414"/>
                  </a:lnTo>
                  <a:lnTo>
                    <a:pt x="2882" y="1414"/>
                  </a:lnTo>
                  <a:lnTo>
                    <a:pt x="3603" y="1414"/>
                  </a:lnTo>
                  <a:lnTo>
                    <a:pt x="4323" y="1414"/>
                  </a:lnTo>
                  <a:lnTo>
                    <a:pt x="5044" y="1414"/>
                  </a:lnTo>
                  <a:lnTo>
                    <a:pt x="5764" y="1414"/>
                  </a:lnTo>
                  <a:lnTo>
                    <a:pt x="5764" y="1430"/>
                  </a:lnTo>
                  <a:lnTo>
                    <a:pt x="5044" y="1430"/>
                  </a:lnTo>
                  <a:lnTo>
                    <a:pt x="4323" y="1430"/>
                  </a:lnTo>
                  <a:lnTo>
                    <a:pt x="3603" y="1430"/>
                  </a:lnTo>
                  <a:lnTo>
                    <a:pt x="2882" y="1430"/>
                  </a:lnTo>
                  <a:lnTo>
                    <a:pt x="2162" y="1430"/>
                  </a:lnTo>
                  <a:lnTo>
                    <a:pt x="1441" y="1430"/>
                  </a:lnTo>
                  <a:lnTo>
                    <a:pt x="721" y="1430"/>
                  </a:lnTo>
                  <a:lnTo>
                    <a:pt x="0" y="1430"/>
                  </a:lnTo>
                  <a:close/>
                  <a:moveTo>
                    <a:pt x="0" y="1397"/>
                  </a:moveTo>
                  <a:lnTo>
                    <a:pt x="0" y="1381"/>
                  </a:lnTo>
                  <a:lnTo>
                    <a:pt x="721" y="1381"/>
                  </a:lnTo>
                  <a:lnTo>
                    <a:pt x="1441" y="1381"/>
                  </a:lnTo>
                  <a:lnTo>
                    <a:pt x="2162" y="1381"/>
                  </a:lnTo>
                  <a:lnTo>
                    <a:pt x="2882" y="1381"/>
                  </a:lnTo>
                  <a:lnTo>
                    <a:pt x="3603" y="1381"/>
                  </a:lnTo>
                  <a:lnTo>
                    <a:pt x="4323" y="1381"/>
                  </a:lnTo>
                  <a:lnTo>
                    <a:pt x="5044" y="1381"/>
                  </a:lnTo>
                  <a:lnTo>
                    <a:pt x="5764" y="1381"/>
                  </a:lnTo>
                  <a:lnTo>
                    <a:pt x="5764" y="1397"/>
                  </a:lnTo>
                  <a:lnTo>
                    <a:pt x="5044" y="1397"/>
                  </a:lnTo>
                  <a:lnTo>
                    <a:pt x="4323" y="1397"/>
                  </a:lnTo>
                  <a:lnTo>
                    <a:pt x="3603" y="1397"/>
                  </a:lnTo>
                  <a:lnTo>
                    <a:pt x="2882" y="1397"/>
                  </a:lnTo>
                  <a:lnTo>
                    <a:pt x="2162" y="1397"/>
                  </a:lnTo>
                  <a:lnTo>
                    <a:pt x="1441" y="1397"/>
                  </a:lnTo>
                  <a:lnTo>
                    <a:pt x="721" y="1397"/>
                  </a:lnTo>
                  <a:lnTo>
                    <a:pt x="0" y="1397"/>
                  </a:lnTo>
                  <a:close/>
                  <a:moveTo>
                    <a:pt x="0" y="1365"/>
                  </a:moveTo>
                  <a:lnTo>
                    <a:pt x="0" y="1348"/>
                  </a:lnTo>
                  <a:lnTo>
                    <a:pt x="721" y="1348"/>
                  </a:lnTo>
                  <a:lnTo>
                    <a:pt x="1441" y="1348"/>
                  </a:lnTo>
                  <a:lnTo>
                    <a:pt x="2162" y="1348"/>
                  </a:lnTo>
                  <a:lnTo>
                    <a:pt x="2882" y="1348"/>
                  </a:lnTo>
                  <a:lnTo>
                    <a:pt x="3603" y="1348"/>
                  </a:lnTo>
                  <a:lnTo>
                    <a:pt x="4323" y="1348"/>
                  </a:lnTo>
                  <a:lnTo>
                    <a:pt x="5044" y="1348"/>
                  </a:lnTo>
                  <a:lnTo>
                    <a:pt x="5764" y="1348"/>
                  </a:lnTo>
                  <a:lnTo>
                    <a:pt x="5764" y="1365"/>
                  </a:lnTo>
                  <a:lnTo>
                    <a:pt x="5044" y="1365"/>
                  </a:lnTo>
                  <a:lnTo>
                    <a:pt x="4323" y="1365"/>
                  </a:lnTo>
                  <a:lnTo>
                    <a:pt x="3603" y="1365"/>
                  </a:lnTo>
                  <a:lnTo>
                    <a:pt x="2882" y="1365"/>
                  </a:lnTo>
                  <a:lnTo>
                    <a:pt x="2162" y="1365"/>
                  </a:lnTo>
                  <a:lnTo>
                    <a:pt x="1441" y="1365"/>
                  </a:lnTo>
                  <a:lnTo>
                    <a:pt x="721" y="1365"/>
                  </a:lnTo>
                  <a:lnTo>
                    <a:pt x="0" y="1365"/>
                  </a:lnTo>
                  <a:close/>
                  <a:moveTo>
                    <a:pt x="0" y="1332"/>
                  </a:moveTo>
                  <a:lnTo>
                    <a:pt x="0" y="1315"/>
                  </a:lnTo>
                  <a:lnTo>
                    <a:pt x="721" y="1315"/>
                  </a:lnTo>
                  <a:lnTo>
                    <a:pt x="1441" y="1315"/>
                  </a:lnTo>
                  <a:lnTo>
                    <a:pt x="2162" y="1315"/>
                  </a:lnTo>
                  <a:lnTo>
                    <a:pt x="2882" y="1315"/>
                  </a:lnTo>
                  <a:lnTo>
                    <a:pt x="3603" y="1315"/>
                  </a:lnTo>
                  <a:lnTo>
                    <a:pt x="4323" y="1315"/>
                  </a:lnTo>
                  <a:lnTo>
                    <a:pt x="5044" y="1315"/>
                  </a:lnTo>
                  <a:lnTo>
                    <a:pt x="5764" y="1315"/>
                  </a:lnTo>
                  <a:lnTo>
                    <a:pt x="5764" y="1332"/>
                  </a:lnTo>
                  <a:lnTo>
                    <a:pt x="5044" y="1332"/>
                  </a:lnTo>
                  <a:lnTo>
                    <a:pt x="4323" y="1332"/>
                  </a:lnTo>
                  <a:lnTo>
                    <a:pt x="3603" y="1332"/>
                  </a:lnTo>
                  <a:lnTo>
                    <a:pt x="2882" y="1332"/>
                  </a:lnTo>
                  <a:lnTo>
                    <a:pt x="2162" y="1332"/>
                  </a:lnTo>
                  <a:lnTo>
                    <a:pt x="1441" y="1332"/>
                  </a:lnTo>
                  <a:lnTo>
                    <a:pt x="721" y="1332"/>
                  </a:lnTo>
                  <a:lnTo>
                    <a:pt x="0" y="1332"/>
                  </a:lnTo>
                  <a:close/>
                  <a:moveTo>
                    <a:pt x="0" y="1299"/>
                  </a:moveTo>
                  <a:lnTo>
                    <a:pt x="0" y="1282"/>
                  </a:lnTo>
                  <a:lnTo>
                    <a:pt x="721" y="1282"/>
                  </a:lnTo>
                  <a:lnTo>
                    <a:pt x="1441" y="1282"/>
                  </a:lnTo>
                  <a:lnTo>
                    <a:pt x="2162" y="1282"/>
                  </a:lnTo>
                  <a:lnTo>
                    <a:pt x="2882" y="1282"/>
                  </a:lnTo>
                  <a:lnTo>
                    <a:pt x="3603" y="1282"/>
                  </a:lnTo>
                  <a:lnTo>
                    <a:pt x="4323" y="1282"/>
                  </a:lnTo>
                  <a:lnTo>
                    <a:pt x="5044" y="1282"/>
                  </a:lnTo>
                  <a:lnTo>
                    <a:pt x="5764" y="1282"/>
                  </a:lnTo>
                  <a:lnTo>
                    <a:pt x="5764" y="1299"/>
                  </a:lnTo>
                  <a:lnTo>
                    <a:pt x="5044" y="1299"/>
                  </a:lnTo>
                  <a:lnTo>
                    <a:pt x="4323" y="1299"/>
                  </a:lnTo>
                  <a:lnTo>
                    <a:pt x="3603" y="1299"/>
                  </a:lnTo>
                  <a:lnTo>
                    <a:pt x="2882" y="1299"/>
                  </a:lnTo>
                  <a:lnTo>
                    <a:pt x="2162" y="1299"/>
                  </a:lnTo>
                  <a:lnTo>
                    <a:pt x="1441" y="1299"/>
                  </a:lnTo>
                  <a:lnTo>
                    <a:pt x="721" y="1299"/>
                  </a:lnTo>
                  <a:lnTo>
                    <a:pt x="0" y="1299"/>
                  </a:lnTo>
                  <a:close/>
                  <a:moveTo>
                    <a:pt x="0" y="1266"/>
                  </a:moveTo>
                  <a:lnTo>
                    <a:pt x="0" y="1249"/>
                  </a:lnTo>
                  <a:lnTo>
                    <a:pt x="721" y="1249"/>
                  </a:lnTo>
                  <a:lnTo>
                    <a:pt x="1441" y="1249"/>
                  </a:lnTo>
                  <a:lnTo>
                    <a:pt x="2162" y="1249"/>
                  </a:lnTo>
                  <a:lnTo>
                    <a:pt x="2882" y="1249"/>
                  </a:lnTo>
                  <a:lnTo>
                    <a:pt x="3603" y="1249"/>
                  </a:lnTo>
                  <a:lnTo>
                    <a:pt x="4323" y="1249"/>
                  </a:lnTo>
                  <a:lnTo>
                    <a:pt x="5044" y="1249"/>
                  </a:lnTo>
                  <a:lnTo>
                    <a:pt x="5764" y="1249"/>
                  </a:lnTo>
                  <a:lnTo>
                    <a:pt x="5764" y="1266"/>
                  </a:lnTo>
                  <a:lnTo>
                    <a:pt x="5044" y="1266"/>
                  </a:lnTo>
                  <a:lnTo>
                    <a:pt x="4323" y="1266"/>
                  </a:lnTo>
                  <a:lnTo>
                    <a:pt x="3603" y="1266"/>
                  </a:lnTo>
                  <a:lnTo>
                    <a:pt x="2882" y="1266"/>
                  </a:lnTo>
                  <a:lnTo>
                    <a:pt x="2162" y="1266"/>
                  </a:lnTo>
                  <a:lnTo>
                    <a:pt x="1441" y="1266"/>
                  </a:lnTo>
                  <a:lnTo>
                    <a:pt x="721" y="1266"/>
                  </a:lnTo>
                  <a:lnTo>
                    <a:pt x="0" y="1266"/>
                  </a:lnTo>
                  <a:close/>
                  <a:moveTo>
                    <a:pt x="0" y="1233"/>
                  </a:moveTo>
                  <a:lnTo>
                    <a:pt x="0" y="1216"/>
                  </a:lnTo>
                  <a:lnTo>
                    <a:pt x="721" y="1216"/>
                  </a:lnTo>
                  <a:lnTo>
                    <a:pt x="1441" y="1216"/>
                  </a:lnTo>
                  <a:lnTo>
                    <a:pt x="2162" y="1216"/>
                  </a:lnTo>
                  <a:lnTo>
                    <a:pt x="2882" y="1216"/>
                  </a:lnTo>
                  <a:lnTo>
                    <a:pt x="3603" y="1216"/>
                  </a:lnTo>
                  <a:lnTo>
                    <a:pt x="4323" y="1216"/>
                  </a:lnTo>
                  <a:lnTo>
                    <a:pt x="5044" y="1216"/>
                  </a:lnTo>
                  <a:lnTo>
                    <a:pt x="5764" y="1216"/>
                  </a:lnTo>
                  <a:lnTo>
                    <a:pt x="5764" y="1233"/>
                  </a:lnTo>
                  <a:lnTo>
                    <a:pt x="5044" y="1233"/>
                  </a:lnTo>
                  <a:lnTo>
                    <a:pt x="4323" y="1233"/>
                  </a:lnTo>
                  <a:lnTo>
                    <a:pt x="3603" y="1233"/>
                  </a:lnTo>
                  <a:lnTo>
                    <a:pt x="2882" y="1233"/>
                  </a:lnTo>
                  <a:lnTo>
                    <a:pt x="2162" y="1233"/>
                  </a:lnTo>
                  <a:lnTo>
                    <a:pt x="1441" y="1233"/>
                  </a:lnTo>
                  <a:lnTo>
                    <a:pt x="721" y="1233"/>
                  </a:lnTo>
                  <a:lnTo>
                    <a:pt x="0" y="1233"/>
                  </a:lnTo>
                  <a:close/>
                  <a:moveTo>
                    <a:pt x="0" y="1200"/>
                  </a:moveTo>
                  <a:lnTo>
                    <a:pt x="0" y="1184"/>
                  </a:lnTo>
                  <a:lnTo>
                    <a:pt x="721" y="1184"/>
                  </a:lnTo>
                  <a:lnTo>
                    <a:pt x="1441" y="1184"/>
                  </a:lnTo>
                  <a:lnTo>
                    <a:pt x="2162" y="1184"/>
                  </a:lnTo>
                  <a:lnTo>
                    <a:pt x="2882" y="1184"/>
                  </a:lnTo>
                  <a:lnTo>
                    <a:pt x="3603" y="1184"/>
                  </a:lnTo>
                  <a:lnTo>
                    <a:pt x="4323" y="1184"/>
                  </a:lnTo>
                  <a:lnTo>
                    <a:pt x="5044" y="1184"/>
                  </a:lnTo>
                  <a:lnTo>
                    <a:pt x="5764" y="1184"/>
                  </a:lnTo>
                  <a:lnTo>
                    <a:pt x="5764" y="1200"/>
                  </a:lnTo>
                  <a:lnTo>
                    <a:pt x="5044" y="1200"/>
                  </a:lnTo>
                  <a:lnTo>
                    <a:pt x="4323" y="1200"/>
                  </a:lnTo>
                  <a:lnTo>
                    <a:pt x="3603" y="1200"/>
                  </a:lnTo>
                  <a:lnTo>
                    <a:pt x="2882" y="1200"/>
                  </a:lnTo>
                  <a:lnTo>
                    <a:pt x="2162" y="1200"/>
                  </a:lnTo>
                  <a:lnTo>
                    <a:pt x="1441" y="1200"/>
                  </a:lnTo>
                  <a:lnTo>
                    <a:pt x="721" y="1200"/>
                  </a:lnTo>
                  <a:lnTo>
                    <a:pt x="0" y="1200"/>
                  </a:lnTo>
                  <a:close/>
                  <a:moveTo>
                    <a:pt x="0" y="1168"/>
                  </a:moveTo>
                  <a:lnTo>
                    <a:pt x="0" y="1151"/>
                  </a:lnTo>
                  <a:lnTo>
                    <a:pt x="721" y="1151"/>
                  </a:lnTo>
                  <a:lnTo>
                    <a:pt x="1441" y="1151"/>
                  </a:lnTo>
                  <a:lnTo>
                    <a:pt x="2162" y="1151"/>
                  </a:lnTo>
                  <a:lnTo>
                    <a:pt x="2882" y="1151"/>
                  </a:lnTo>
                  <a:lnTo>
                    <a:pt x="3603" y="1151"/>
                  </a:lnTo>
                  <a:lnTo>
                    <a:pt x="4323" y="1151"/>
                  </a:lnTo>
                  <a:lnTo>
                    <a:pt x="5044" y="1151"/>
                  </a:lnTo>
                  <a:lnTo>
                    <a:pt x="5764" y="1151"/>
                  </a:lnTo>
                  <a:lnTo>
                    <a:pt x="5764" y="1168"/>
                  </a:lnTo>
                  <a:lnTo>
                    <a:pt x="5044" y="1168"/>
                  </a:lnTo>
                  <a:lnTo>
                    <a:pt x="4323" y="1168"/>
                  </a:lnTo>
                  <a:lnTo>
                    <a:pt x="3603" y="1168"/>
                  </a:lnTo>
                  <a:lnTo>
                    <a:pt x="2882" y="1168"/>
                  </a:lnTo>
                  <a:lnTo>
                    <a:pt x="2162" y="1168"/>
                  </a:lnTo>
                  <a:lnTo>
                    <a:pt x="1441" y="1168"/>
                  </a:lnTo>
                  <a:lnTo>
                    <a:pt x="721" y="1168"/>
                  </a:lnTo>
                  <a:lnTo>
                    <a:pt x="0" y="1168"/>
                  </a:lnTo>
                  <a:close/>
                  <a:moveTo>
                    <a:pt x="0" y="1135"/>
                  </a:moveTo>
                  <a:lnTo>
                    <a:pt x="0" y="1118"/>
                  </a:lnTo>
                  <a:lnTo>
                    <a:pt x="721" y="1118"/>
                  </a:lnTo>
                  <a:lnTo>
                    <a:pt x="1441" y="1118"/>
                  </a:lnTo>
                  <a:lnTo>
                    <a:pt x="2162" y="1118"/>
                  </a:lnTo>
                  <a:lnTo>
                    <a:pt x="2882" y="1118"/>
                  </a:lnTo>
                  <a:lnTo>
                    <a:pt x="3603" y="1118"/>
                  </a:lnTo>
                  <a:lnTo>
                    <a:pt x="4323" y="1118"/>
                  </a:lnTo>
                  <a:lnTo>
                    <a:pt x="5044" y="1118"/>
                  </a:lnTo>
                  <a:lnTo>
                    <a:pt x="5764" y="1118"/>
                  </a:lnTo>
                  <a:lnTo>
                    <a:pt x="5764" y="1135"/>
                  </a:lnTo>
                  <a:lnTo>
                    <a:pt x="5044" y="1135"/>
                  </a:lnTo>
                  <a:lnTo>
                    <a:pt x="4323" y="1135"/>
                  </a:lnTo>
                  <a:lnTo>
                    <a:pt x="3603" y="1135"/>
                  </a:lnTo>
                  <a:lnTo>
                    <a:pt x="2882" y="1135"/>
                  </a:lnTo>
                  <a:lnTo>
                    <a:pt x="2162" y="1135"/>
                  </a:lnTo>
                  <a:lnTo>
                    <a:pt x="1441" y="1135"/>
                  </a:lnTo>
                  <a:lnTo>
                    <a:pt x="721" y="1135"/>
                  </a:lnTo>
                  <a:lnTo>
                    <a:pt x="0" y="1135"/>
                  </a:lnTo>
                  <a:close/>
                  <a:moveTo>
                    <a:pt x="0" y="1102"/>
                  </a:moveTo>
                  <a:lnTo>
                    <a:pt x="0" y="1085"/>
                  </a:lnTo>
                  <a:lnTo>
                    <a:pt x="721" y="1085"/>
                  </a:lnTo>
                  <a:lnTo>
                    <a:pt x="1441" y="1085"/>
                  </a:lnTo>
                  <a:lnTo>
                    <a:pt x="2162" y="1085"/>
                  </a:lnTo>
                  <a:lnTo>
                    <a:pt x="2882" y="1085"/>
                  </a:lnTo>
                  <a:lnTo>
                    <a:pt x="3603" y="1085"/>
                  </a:lnTo>
                  <a:lnTo>
                    <a:pt x="4323" y="1085"/>
                  </a:lnTo>
                  <a:lnTo>
                    <a:pt x="5044" y="1085"/>
                  </a:lnTo>
                  <a:lnTo>
                    <a:pt x="5764" y="1085"/>
                  </a:lnTo>
                  <a:lnTo>
                    <a:pt x="5764" y="1102"/>
                  </a:lnTo>
                  <a:lnTo>
                    <a:pt x="5044" y="1102"/>
                  </a:lnTo>
                  <a:lnTo>
                    <a:pt x="4323" y="1102"/>
                  </a:lnTo>
                  <a:lnTo>
                    <a:pt x="3603" y="1102"/>
                  </a:lnTo>
                  <a:lnTo>
                    <a:pt x="2882" y="1102"/>
                  </a:lnTo>
                  <a:lnTo>
                    <a:pt x="2162" y="1102"/>
                  </a:lnTo>
                  <a:lnTo>
                    <a:pt x="1441" y="1102"/>
                  </a:lnTo>
                  <a:lnTo>
                    <a:pt x="721" y="1102"/>
                  </a:lnTo>
                  <a:lnTo>
                    <a:pt x="0" y="1102"/>
                  </a:lnTo>
                  <a:close/>
                  <a:moveTo>
                    <a:pt x="0" y="1069"/>
                  </a:moveTo>
                  <a:lnTo>
                    <a:pt x="0" y="1052"/>
                  </a:lnTo>
                  <a:lnTo>
                    <a:pt x="721" y="1052"/>
                  </a:lnTo>
                  <a:lnTo>
                    <a:pt x="1441" y="1052"/>
                  </a:lnTo>
                  <a:lnTo>
                    <a:pt x="2162" y="1052"/>
                  </a:lnTo>
                  <a:lnTo>
                    <a:pt x="2882" y="1052"/>
                  </a:lnTo>
                  <a:lnTo>
                    <a:pt x="3603" y="1052"/>
                  </a:lnTo>
                  <a:lnTo>
                    <a:pt x="4323" y="1052"/>
                  </a:lnTo>
                  <a:lnTo>
                    <a:pt x="5044" y="1052"/>
                  </a:lnTo>
                  <a:lnTo>
                    <a:pt x="5764" y="1052"/>
                  </a:lnTo>
                  <a:lnTo>
                    <a:pt x="5764" y="1069"/>
                  </a:lnTo>
                  <a:lnTo>
                    <a:pt x="5044" y="1069"/>
                  </a:lnTo>
                  <a:lnTo>
                    <a:pt x="4323" y="1069"/>
                  </a:lnTo>
                  <a:lnTo>
                    <a:pt x="3603" y="1069"/>
                  </a:lnTo>
                  <a:lnTo>
                    <a:pt x="2882" y="1069"/>
                  </a:lnTo>
                  <a:lnTo>
                    <a:pt x="2162" y="1069"/>
                  </a:lnTo>
                  <a:lnTo>
                    <a:pt x="1441" y="1069"/>
                  </a:lnTo>
                  <a:lnTo>
                    <a:pt x="721" y="1069"/>
                  </a:lnTo>
                  <a:lnTo>
                    <a:pt x="0" y="1069"/>
                  </a:lnTo>
                  <a:close/>
                  <a:moveTo>
                    <a:pt x="0" y="1036"/>
                  </a:moveTo>
                  <a:lnTo>
                    <a:pt x="0" y="1019"/>
                  </a:lnTo>
                  <a:lnTo>
                    <a:pt x="721" y="1019"/>
                  </a:lnTo>
                  <a:lnTo>
                    <a:pt x="1441" y="1019"/>
                  </a:lnTo>
                  <a:lnTo>
                    <a:pt x="2162" y="1019"/>
                  </a:lnTo>
                  <a:lnTo>
                    <a:pt x="2882" y="1019"/>
                  </a:lnTo>
                  <a:lnTo>
                    <a:pt x="3603" y="1019"/>
                  </a:lnTo>
                  <a:lnTo>
                    <a:pt x="4323" y="1019"/>
                  </a:lnTo>
                  <a:lnTo>
                    <a:pt x="5044" y="1019"/>
                  </a:lnTo>
                  <a:lnTo>
                    <a:pt x="5764" y="1019"/>
                  </a:lnTo>
                  <a:lnTo>
                    <a:pt x="5764" y="1036"/>
                  </a:lnTo>
                  <a:lnTo>
                    <a:pt x="5044" y="1036"/>
                  </a:lnTo>
                  <a:lnTo>
                    <a:pt x="4323" y="1036"/>
                  </a:lnTo>
                  <a:lnTo>
                    <a:pt x="3603" y="1036"/>
                  </a:lnTo>
                  <a:lnTo>
                    <a:pt x="2882" y="1036"/>
                  </a:lnTo>
                  <a:lnTo>
                    <a:pt x="2162" y="1036"/>
                  </a:lnTo>
                  <a:lnTo>
                    <a:pt x="1441" y="1036"/>
                  </a:lnTo>
                  <a:lnTo>
                    <a:pt x="721" y="1036"/>
                  </a:lnTo>
                  <a:lnTo>
                    <a:pt x="0" y="1036"/>
                  </a:lnTo>
                  <a:close/>
                  <a:moveTo>
                    <a:pt x="0" y="1003"/>
                  </a:moveTo>
                  <a:lnTo>
                    <a:pt x="0" y="986"/>
                  </a:lnTo>
                  <a:lnTo>
                    <a:pt x="721" y="986"/>
                  </a:lnTo>
                  <a:lnTo>
                    <a:pt x="1441" y="986"/>
                  </a:lnTo>
                  <a:lnTo>
                    <a:pt x="2162" y="986"/>
                  </a:lnTo>
                  <a:lnTo>
                    <a:pt x="2882" y="986"/>
                  </a:lnTo>
                  <a:lnTo>
                    <a:pt x="3603" y="986"/>
                  </a:lnTo>
                  <a:lnTo>
                    <a:pt x="4323" y="986"/>
                  </a:lnTo>
                  <a:lnTo>
                    <a:pt x="5044" y="986"/>
                  </a:lnTo>
                  <a:lnTo>
                    <a:pt x="5764" y="986"/>
                  </a:lnTo>
                  <a:lnTo>
                    <a:pt x="5764" y="1003"/>
                  </a:lnTo>
                  <a:lnTo>
                    <a:pt x="5044" y="1003"/>
                  </a:lnTo>
                  <a:lnTo>
                    <a:pt x="4323" y="1003"/>
                  </a:lnTo>
                  <a:lnTo>
                    <a:pt x="3603" y="1003"/>
                  </a:lnTo>
                  <a:lnTo>
                    <a:pt x="2882" y="1003"/>
                  </a:lnTo>
                  <a:lnTo>
                    <a:pt x="2162" y="1003"/>
                  </a:lnTo>
                  <a:lnTo>
                    <a:pt x="1441" y="1003"/>
                  </a:lnTo>
                  <a:lnTo>
                    <a:pt x="721" y="1003"/>
                  </a:lnTo>
                  <a:lnTo>
                    <a:pt x="0" y="1003"/>
                  </a:lnTo>
                  <a:close/>
                  <a:moveTo>
                    <a:pt x="0" y="970"/>
                  </a:moveTo>
                  <a:lnTo>
                    <a:pt x="0" y="954"/>
                  </a:lnTo>
                  <a:lnTo>
                    <a:pt x="721" y="954"/>
                  </a:lnTo>
                  <a:lnTo>
                    <a:pt x="1441" y="954"/>
                  </a:lnTo>
                  <a:lnTo>
                    <a:pt x="2162" y="954"/>
                  </a:lnTo>
                  <a:lnTo>
                    <a:pt x="2882" y="954"/>
                  </a:lnTo>
                  <a:lnTo>
                    <a:pt x="3603" y="954"/>
                  </a:lnTo>
                  <a:lnTo>
                    <a:pt x="4323" y="954"/>
                  </a:lnTo>
                  <a:lnTo>
                    <a:pt x="5044" y="954"/>
                  </a:lnTo>
                  <a:lnTo>
                    <a:pt x="5764" y="954"/>
                  </a:lnTo>
                  <a:lnTo>
                    <a:pt x="5764" y="970"/>
                  </a:lnTo>
                  <a:lnTo>
                    <a:pt x="5044" y="970"/>
                  </a:lnTo>
                  <a:lnTo>
                    <a:pt x="4323" y="970"/>
                  </a:lnTo>
                  <a:lnTo>
                    <a:pt x="3603" y="970"/>
                  </a:lnTo>
                  <a:lnTo>
                    <a:pt x="2882" y="970"/>
                  </a:lnTo>
                  <a:lnTo>
                    <a:pt x="2162" y="970"/>
                  </a:lnTo>
                  <a:lnTo>
                    <a:pt x="1441" y="970"/>
                  </a:lnTo>
                  <a:lnTo>
                    <a:pt x="721" y="970"/>
                  </a:lnTo>
                  <a:lnTo>
                    <a:pt x="0" y="970"/>
                  </a:lnTo>
                  <a:close/>
                  <a:moveTo>
                    <a:pt x="0" y="938"/>
                  </a:moveTo>
                  <a:lnTo>
                    <a:pt x="0" y="921"/>
                  </a:lnTo>
                  <a:lnTo>
                    <a:pt x="721" y="921"/>
                  </a:lnTo>
                  <a:lnTo>
                    <a:pt x="1441" y="921"/>
                  </a:lnTo>
                  <a:lnTo>
                    <a:pt x="2162" y="921"/>
                  </a:lnTo>
                  <a:lnTo>
                    <a:pt x="2882" y="921"/>
                  </a:lnTo>
                  <a:lnTo>
                    <a:pt x="3603" y="921"/>
                  </a:lnTo>
                  <a:lnTo>
                    <a:pt x="4323" y="921"/>
                  </a:lnTo>
                  <a:lnTo>
                    <a:pt x="5044" y="921"/>
                  </a:lnTo>
                  <a:lnTo>
                    <a:pt x="5764" y="921"/>
                  </a:lnTo>
                  <a:lnTo>
                    <a:pt x="5764" y="938"/>
                  </a:lnTo>
                  <a:lnTo>
                    <a:pt x="5044" y="938"/>
                  </a:lnTo>
                  <a:lnTo>
                    <a:pt x="4323" y="938"/>
                  </a:lnTo>
                  <a:lnTo>
                    <a:pt x="3603" y="938"/>
                  </a:lnTo>
                  <a:lnTo>
                    <a:pt x="2882" y="938"/>
                  </a:lnTo>
                  <a:lnTo>
                    <a:pt x="2162" y="938"/>
                  </a:lnTo>
                  <a:lnTo>
                    <a:pt x="1441" y="938"/>
                  </a:lnTo>
                  <a:lnTo>
                    <a:pt x="721" y="938"/>
                  </a:lnTo>
                  <a:lnTo>
                    <a:pt x="0" y="938"/>
                  </a:lnTo>
                  <a:close/>
                  <a:moveTo>
                    <a:pt x="0" y="905"/>
                  </a:moveTo>
                  <a:lnTo>
                    <a:pt x="0" y="888"/>
                  </a:lnTo>
                  <a:lnTo>
                    <a:pt x="721" y="888"/>
                  </a:lnTo>
                  <a:lnTo>
                    <a:pt x="1441" y="888"/>
                  </a:lnTo>
                  <a:lnTo>
                    <a:pt x="2162" y="888"/>
                  </a:lnTo>
                  <a:lnTo>
                    <a:pt x="2882" y="888"/>
                  </a:lnTo>
                  <a:lnTo>
                    <a:pt x="3603" y="888"/>
                  </a:lnTo>
                  <a:lnTo>
                    <a:pt x="4323" y="888"/>
                  </a:lnTo>
                  <a:lnTo>
                    <a:pt x="5044" y="888"/>
                  </a:lnTo>
                  <a:lnTo>
                    <a:pt x="5764" y="888"/>
                  </a:lnTo>
                  <a:lnTo>
                    <a:pt x="5764" y="905"/>
                  </a:lnTo>
                  <a:lnTo>
                    <a:pt x="5044" y="905"/>
                  </a:lnTo>
                  <a:lnTo>
                    <a:pt x="4323" y="905"/>
                  </a:lnTo>
                  <a:lnTo>
                    <a:pt x="3603" y="905"/>
                  </a:lnTo>
                  <a:lnTo>
                    <a:pt x="2882" y="905"/>
                  </a:lnTo>
                  <a:lnTo>
                    <a:pt x="2162" y="905"/>
                  </a:lnTo>
                  <a:lnTo>
                    <a:pt x="1441" y="905"/>
                  </a:lnTo>
                  <a:lnTo>
                    <a:pt x="721" y="905"/>
                  </a:lnTo>
                  <a:lnTo>
                    <a:pt x="0" y="905"/>
                  </a:lnTo>
                  <a:close/>
                  <a:moveTo>
                    <a:pt x="0" y="872"/>
                  </a:moveTo>
                  <a:lnTo>
                    <a:pt x="0" y="855"/>
                  </a:lnTo>
                  <a:lnTo>
                    <a:pt x="721" y="855"/>
                  </a:lnTo>
                  <a:lnTo>
                    <a:pt x="1441" y="855"/>
                  </a:lnTo>
                  <a:lnTo>
                    <a:pt x="2162" y="855"/>
                  </a:lnTo>
                  <a:lnTo>
                    <a:pt x="2882" y="855"/>
                  </a:lnTo>
                  <a:lnTo>
                    <a:pt x="3603" y="855"/>
                  </a:lnTo>
                  <a:lnTo>
                    <a:pt x="4323" y="855"/>
                  </a:lnTo>
                  <a:lnTo>
                    <a:pt x="5044" y="855"/>
                  </a:lnTo>
                  <a:lnTo>
                    <a:pt x="5764" y="855"/>
                  </a:lnTo>
                  <a:lnTo>
                    <a:pt x="5764" y="872"/>
                  </a:lnTo>
                  <a:lnTo>
                    <a:pt x="5044" y="872"/>
                  </a:lnTo>
                  <a:lnTo>
                    <a:pt x="4323" y="872"/>
                  </a:lnTo>
                  <a:lnTo>
                    <a:pt x="3603" y="872"/>
                  </a:lnTo>
                  <a:lnTo>
                    <a:pt x="2882" y="872"/>
                  </a:lnTo>
                  <a:lnTo>
                    <a:pt x="2162" y="872"/>
                  </a:lnTo>
                  <a:lnTo>
                    <a:pt x="1441" y="872"/>
                  </a:lnTo>
                  <a:lnTo>
                    <a:pt x="721" y="872"/>
                  </a:lnTo>
                  <a:lnTo>
                    <a:pt x="0" y="872"/>
                  </a:lnTo>
                  <a:close/>
                  <a:moveTo>
                    <a:pt x="0" y="839"/>
                  </a:moveTo>
                  <a:lnTo>
                    <a:pt x="0" y="822"/>
                  </a:lnTo>
                  <a:lnTo>
                    <a:pt x="721" y="822"/>
                  </a:lnTo>
                  <a:lnTo>
                    <a:pt x="1441" y="822"/>
                  </a:lnTo>
                  <a:lnTo>
                    <a:pt x="2162" y="822"/>
                  </a:lnTo>
                  <a:lnTo>
                    <a:pt x="2882" y="822"/>
                  </a:lnTo>
                  <a:lnTo>
                    <a:pt x="3603" y="822"/>
                  </a:lnTo>
                  <a:lnTo>
                    <a:pt x="4323" y="822"/>
                  </a:lnTo>
                  <a:lnTo>
                    <a:pt x="5044" y="822"/>
                  </a:lnTo>
                  <a:lnTo>
                    <a:pt x="5764" y="822"/>
                  </a:lnTo>
                  <a:lnTo>
                    <a:pt x="5764" y="839"/>
                  </a:lnTo>
                  <a:lnTo>
                    <a:pt x="5044" y="839"/>
                  </a:lnTo>
                  <a:lnTo>
                    <a:pt x="4323" y="839"/>
                  </a:lnTo>
                  <a:lnTo>
                    <a:pt x="3603" y="839"/>
                  </a:lnTo>
                  <a:lnTo>
                    <a:pt x="2882" y="839"/>
                  </a:lnTo>
                  <a:lnTo>
                    <a:pt x="2162" y="839"/>
                  </a:lnTo>
                  <a:lnTo>
                    <a:pt x="1441" y="839"/>
                  </a:lnTo>
                  <a:lnTo>
                    <a:pt x="721" y="839"/>
                  </a:lnTo>
                  <a:lnTo>
                    <a:pt x="0" y="839"/>
                  </a:lnTo>
                  <a:close/>
                  <a:moveTo>
                    <a:pt x="0" y="806"/>
                  </a:moveTo>
                  <a:lnTo>
                    <a:pt x="0" y="789"/>
                  </a:lnTo>
                  <a:lnTo>
                    <a:pt x="721" y="789"/>
                  </a:lnTo>
                  <a:lnTo>
                    <a:pt x="1441" y="789"/>
                  </a:lnTo>
                  <a:lnTo>
                    <a:pt x="2162" y="789"/>
                  </a:lnTo>
                  <a:lnTo>
                    <a:pt x="2882" y="789"/>
                  </a:lnTo>
                  <a:lnTo>
                    <a:pt x="3603" y="789"/>
                  </a:lnTo>
                  <a:lnTo>
                    <a:pt x="4323" y="789"/>
                  </a:lnTo>
                  <a:lnTo>
                    <a:pt x="5044" y="789"/>
                  </a:lnTo>
                  <a:lnTo>
                    <a:pt x="5764" y="789"/>
                  </a:lnTo>
                  <a:lnTo>
                    <a:pt x="5764" y="806"/>
                  </a:lnTo>
                  <a:lnTo>
                    <a:pt x="5044" y="806"/>
                  </a:lnTo>
                  <a:lnTo>
                    <a:pt x="4323" y="806"/>
                  </a:lnTo>
                  <a:lnTo>
                    <a:pt x="3603" y="806"/>
                  </a:lnTo>
                  <a:lnTo>
                    <a:pt x="2882" y="806"/>
                  </a:lnTo>
                  <a:lnTo>
                    <a:pt x="2162" y="806"/>
                  </a:lnTo>
                  <a:lnTo>
                    <a:pt x="1441" y="806"/>
                  </a:lnTo>
                  <a:lnTo>
                    <a:pt x="721" y="806"/>
                  </a:lnTo>
                  <a:lnTo>
                    <a:pt x="0" y="806"/>
                  </a:lnTo>
                  <a:close/>
                  <a:moveTo>
                    <a:pt x="0" y="773"/>
                  </a:moveTo>
                  <a:lnTo>
                    <a:pt x="0" y="757"/>
                  </a:lnTo>
                  <a:lnTo>
                    <a:pt x="721" y="757"/>
                  </a:lnTo>
                  <a:lnTo>
                    <a:pt x="1441" y="757"/>
                  </a:lnTo>
                  <a:lnTo>
                    <a:pt x="2162" y="757"/>
                  </a:lnTo>
                  <a:lnTo>
                    <a:pt x="2882" y="757"/>
                  </a:lnTo>
                  <a:lnTo>
                    <a:pt x="3603" y="757"/>
                  </a:lnTo>
                  <a:lnTo>
                    <a:pt x="4323" y="757"/>
                  </a:lnTo>
                  <a:lnTo>
                    <a:pt x="5044" y="757"/>
                  </a:lnTo>
                  <a:lnTo>
                    <a:pt x="5764" y="757"/>
                  </a:lnTo>
                  <a:lnTo>
                    <a:pt x="5764" y="773"/>
                  </a:lnTo>
                  <a:lnTo>
                    <a:pt x="5044" y="773"/>
                  </a:lnTo>
                  <a:lnTo>
                    <a:pt x="4323" y="773"/>
                  </a:lnTo>
                  <a:lnTo>
                    <a:pt x="3603" y="773"/>
                  </a:lnTo>
                  <a:lnTo>
                    <a:pt x="2882" y="773"/>
                  </a:lnTo>
                  <a:lnTo>
                    <a:pt x="2162" y="773"/>
                  </a:lnTo>
                  <a:lnTo>
                    <a:pt x="1441" y="773"/>
                  </a:lnTo>
                  <a:lnTo>
                    <a:pt x="721" y="773"/>
                  </a:lnTo>
                  <a:lnTo>
                    <a:pt x="0" y="773"/>
                  </a:lnTo>
                  <a:close/>
                  <a:moveTo>
                    <a:pt x="0" y="741"/>
                  </a:moveTo>
                  <a:lnTo>
                    <a:pt x="0" y="724"/>
                  </a:lnTo>
                  <a:lnTo>
                    <a:pt x="721" y="724"/>
                  </a:lnTo>
                  <a:lnTo>
                    <a:pt x="1441" y="724"/>
                  </a:lnTo>
                  <a:lnTo>
                    <a:pt x="2162" y="724"/>
                  </a:lnTo>
                  <a:lnTo>
                    <a:pt x="2882" y="724"/>
                  </a:lnTo>
                  <a:lnTo>
                    <a:pt x="3603" y="724"/>
                  </a:lnTo>
                  <a:lnTo>
                    <a:pt x="4323" y="724"/>
                  </a:lnTo>
                  <a:lnTo>
                    <a:pt x="5044" y="724"/>
                  </a:lnTo>
                  <a:lnTo>
                    <a:pt x="5764" y="724"/>
                  </a:lnTo>
                  <a:lnTo>
                    <a:pt x="5764" y="741"/>
                  </a:lnTo>
                  <a:lnTo>
                    <a:pt x="5044" y="741"/>
                  </a:lnTo>
                  <a:lnTo>
                    <a:pt x="4323" y="741"/>
                  </a:lnTo>
                  <a:lnTo>
                    <a:pt x="3603" y="741"/>
                  </a:lnTo>
                  <a:lnTo>
                    <a:pt x="2882" y="741"/>
                  </a:lnTo>
                  <a:lnTo>
                    <a:pt x="2162" y="741"/>
                  </a:lnTo>
                  <a:lnTo>
                    <a:pt x="1441" y="741"/>
                  </a:lnTo>
                  <a:lnTo>
                    <a:pt x="721" y="741"/>
                  </a:lnTo>
                  <a:lnTo>
                    <a:pt x="0" y="741"/>
                  </a:lnTo>
                  <a:close/>
                  <a:moveTo>
                    <a:pt x="0" y="707"/>
                  </a:moveTo>
                  <a:lnTo>
                    <a:pt x="0" y="690"/>
                  </a:lnTo>
                  <a:lnTo>
                    <a:pt x="721" y="690"/>
                  </a:lnTo>
                  <a:lnTo>
                    <a:pt x="1441" y="690"/>
                  </a:lnTo>
                  <a:lnTo>
                    <a:pt x="2162" y="690"/>
                  </a:lnTo>
                  <a:lnTo>
                    <a:pt x="2882" y="690"/>
                  </a:lnTo>
                  <a:lnTo>
                    <a:pt x="3603" y="690"/>
                  </a:lnTo>
                  <a:lnTo>
                    <a:pt x="4323" y="690"/>
                  </a:lnTo>
                  <a:lnTo>
                    <a:pt x="5044" y="690"/>
                  </a:lnTo>
                  <a:lnTo>
                    <a:pt x="5764" y="690"/>
                  </a:lnTo>
                  <a:lnTo>
                    <a:pt x="5764" y="707"/>
                  </a:lnTo>
                  <a:lnTo>
                    <a:pt x="5044" y="707"/>
                  </a:lnTo>
                  <a:lnTo>
                    <a:pt x="4323" y="707"/>
                  </a:lnTo>
                  <a:lnTo>
                    <a:pt x="3603" y="707"/>
                  </a:lnTo>
                  <a:lnTo>
                    <a:pt x="2882" y="707"/>
                  </a:lnTo>
                  <a:lnTo>
                    <a:pt x="2162" y="707"/>
                  </a:lnTo>
                  <a:lnTo>
                    <a:pt x="1441" y="707"/>
                  </a:lnTo>
                  <a:lnTo>
                    <a:pt x="721" y="707"/>
                  </a:lnTo>
                  <a:lnTo>
                    <a:pt x="0" y="707"/>
                  </a:lnTo>
                  <a:close/>
                  <a:moveTo>
                    <a:pt x="0" y="674"/>
                  </a:moveTo>
                  <a:lnTo>
                    <a:pt x="0" y="657"/>
                  </a:lnTo>
                  <a:lnTo>
                    <a:pt x="721" y="657"/>
                  </a:lnTo>
                  <a:lnTo>
                    <a:pt x="1441" y="657"/>
                  </a:lnTo>
                  <a:lnTo>
                    <a:pt x="2162" y="657"/>
                  </a:lnTo>
                  <a:lnTo>
                    <a:pt x="2882" y="657"/>
                  </a:lnTo>
                  <a:lnTo>
                    <a:pt x="3603" y="657"/>
                  </a:lnTo>
                  <a:lnTo>
                    <a:pt x="4323" y="657"/>
                  </a:lnTo>
                  <a:lnTo>
                    <a:pt x="5044" y="657"/>
                  </a:lnTo>
                  <a:lnTo>
                    <a:pt x="5764" y="657"/>
                  </a:lnTo>
                  <a:lnTo>
                    <a:pt x="5764" y="674"/>
                  </a:lnTo>
                  <a:lnTo>
                    <a:pt x="5044" y="674"/>
                  </a:lnTo>
                  <a:lnTo>
                    <a:pt x="4323" y="674"/>
                  </a:lnTo>
                  <a:lnTo>
                    <a:pt x="3603" y="674"/>
                  </a:lnTo>
                  <a:lnTo>
                    <a:pt x="2882" y="674"/>
                  </a:lnTo>
                  <a:lnTo>
                    <a:pt x="2162" y="674"/>
                  </a:lnTo>
                  <a:lnTo>
                    <a:pt x="1441" y="674"/>
                  </a:lnTo>
                  <a:lnTo>
                    <a:pt x="721" y="674"/>
                  </a:lnTo>
                  <a:lnTo>
                    <a:pt x="0" y="674"/>
                  </a:lnTo>
                  <a:close/>
                  <a:moveTo>
                    <a:pt x="0" y="641"/>
                  </a:moveTo>
                  <a:lnTo>
                    <a:pt x="0" y="624"/>
                  </a:lnTo>
                  <a:lnTo>
                    <a:pt x="721" y="624"/>
                  </a:lnTo>
                  <a:lnTo>
                    <a:pt x="1441" y="624"/>
                  </a:lnTo>
                  <a:lnTo>
                    <a:pt x="2162" y="624"/>
                  </a:lnTo>
                  <a:lnTo>
                    <a:pt x="2882" y="624"/>
                  </a:lnTo>
                  <a:lnTo>
                    <a:pt x="3603" y="624"/>
                  </a:lnTo>
                  <a:lnTo>
                    <a:pt x="4323" y="624"/>
                  </a:lnTo>
                  <a:lnTo>
                    <a:pt x="5044" y="624"/>
                  </a:lnTo>
                  <a:lnTo>
                    <a:pt x="5764" y="624"/>
                  </a:lnTo>
                  <a:lnTo>
                    <a:pt x="5764" y="641"/>
                  </a:lnTo>
                  <a:lnTo>
                    <a:pt x="5044" y="641"/>
                  </a:lnTo>
                  <a:lnTo>
                    <a:pt x="4323" y="641"/>
                  </a:lnTo>
                  <a:lnTo>
                    <a:pt x="3603" y="641"/>
                  </a:lnTo>
                  <a:lnTo>
                    <a:pt x="2882" y="641"/>
                  </a:lnTo>
                  <a:lnTo>
                    <a:pt x="2162" y="641"/>
                  </a:lnTo>
                  <a:lnTo>
                    <a:pt x="1441" y="641"/>
                  </a:lnTo>
                  <a:lnTo>
                    <a:pt x="721" y="641"/>
                  </a:lnTo>
                  <a:lnTo>
                    <a:pt x="0" y="641"/>
                  </a:lnTo>
                  <a:close/>
                  <a:moveTo>
                    <a:pt x="0" y="608"/>
                  </a:moveTo>
                  <a:lnTo>
                    <a:pt x="0" y="591"/>
                  </a:lnTo>
                  <a:lnTo>
                    <a:pt x="721" y="591"/>
                  </a:lnTo>
                  <a:lnTo>
                    <a:pt x="1441" y="591"/>
                  </a:lnTo>
                  <a:lnTo>
                    <a:pt x="2162" y="591"/>
                  </a:lnTo>
                  <a:lnTo>
                    <a:pt x="2882" y="591"/>
                  </a:lnTo>
                  <a:lnTo>
                    <a:pt x="3603" y="591"/>
                  </a:lnTo>
                  <a:lnTo>
                    <a:pt x="4323" y="591"/>
                  </a:lnTo>
                  <a:lnTo>
                    <a:pt x="5044" y="591"/>
                  </a:lnTo>
                  <a:lnTo>
                    <a:pt x="5764" y="591"/>
                  </a:lnTo>
                  <a:lnTo>
                    <a:pt x="5764" y="608"/>
                  </a:lnTo>
                  <a:lnTo>
                    <a:pt x="5044" y="608"/>
                  </a:lnTo>
                  <a:lnTo>
                    <a:pt x="4323" y="608"/>
                  </a:lnTo>
                  <a:lnTo>
                    <a:pt x="3603" y="608"/>
                  </a:lnTo>
                  <a:lnTo>
                    <a:pt x="2882" y="608"/>
                  </a:lnTo>
                  <a:lnTo>
                    <a:pt x="2162" y="608"/>
                  </a:lnTo>
                  <a:lnTo>
                    <a:pt x="1441" y="608"/>
                  </a:lnTo>
                  <a:lnTo>
                    <a:pt x="721" y="608"/>
                  </a:lnTo>
                  <a:lnTo>
                    <a:pt x="0" y="608"/>
                  </a:lnTo>
                  <a:close/>
                  <a:moveTo>
                    <a:pt x="0" y="575"/>
                  </a:moveTo>
                  <a:lnTo>
                    <a:pt x="0" y="558"/>
                  </a:lnTo>
                  <a:lnTo>
                    <a:pt x="721" y="558"/>
                  </a:lnTo>
                  <a:lnTo>
                    <a:pt x="1441" y="558"/>
                  </a:lnTo>
                  <a:lnTo>
                    <a:pt x="2162" y="558"/>
                  </a:lnTo>
                  <a:lnTo>
                    <a:pt x="2882" y="558"/>
                  </a:lnTo>
                  <a:lnTo>
                    <a:pt x="3603" y="558"/>
                  </a:lnTo>
                  <a:lnTo>
                    <a:pt x="4323" y="558"/>
                  </a:lnTo>
                  <a:lnTo>
                    <a:pt x="5044" y="558"/>
                  </a:lnTo>
                  <a:lnTo>
                    <a:pt x="5764" y="558"/>
                  </a:lnTo>
                  <a:lnTo>
                    <a:pt x="5764" y="575"/>
                  </a:lnTo>
                  <a:lnTo>
                    <a:pt x="5044" y="575"/>
                  </a:lnTo>
                  <a:lnTo>
                    <a:pt x="4323" y="575"/>
                  </a:lnTo>
                  <a:lnTo>
                    <a:pt x="3603" y="575"/>
                  </a:lnTo>
                  <a:lnTo>
                    <a:pt x="2882" y="575"/>
                  </a:lnTo>
                  <a:lnTo>
                    <a:pt x="2162" y="575"/>
                  </a:lnTo>
                  <a:lnTo>
                    <a:pt x="1441" y="575"/>
                  </a:lnTo>
                  <a:lnTo>
                    <a:pt x="721" y="575"/>
                  </a:lnTo>
                  <a:lnTo>
                    <a:pt x="0" y="575"/>
                  </a:lnTo>
                  <a:close/>
                  <a:moveTo>
                    <a:pt x="0" y="542"/>
                  </a:moveTo>
                  <a:lnTo>
                    <a:pt x="0" y="526"/>
                  </a:lnTo>
                  <a:lnTo>
                    <a:pt x="721" y="526"/>
                  </a:lnTo>
                  <a:lnTo>
                    <a:pt x="1441" y="526"/>
                  </a:lnTo>
                  <a:lnTo>
                    <a:pt x="2162" y="526"/>
                  </a:lnTo>
                  <a:lnTo>
                    <a:pt x="2882" y="526"/>
                  </a:lnTo>
                  <a:lnTo>
                    <a:pt x="3603" y="526"/>
                  </a:lnTo>
                  <a:lnTo>
                    <a:pt x="4323" y="526"/>
                  </a:lnTo>
                  <a:lnTo>
                    <a:pt x="5044" y="526"/>
                  </a:lnTo>
                  <a:lnTo>
                    <a:pt x="5764" y="526"/>
                  </a:lnTo>
                  <a:lnTo>
                    <a:pt x="5764" y="542"/>
                  </a:lnTo>
                  <a:lnTo>
                    <a:pt x="5044" y="542"/>
                  </a:lnTo>
                  <a:lnTo>
                    <a:pt x="4323" y="542"/>
                  </a:lnTo>
                  <a:lnTo>
                    <a:pt x="3603" y="542"/>
                  </a:lnTo>
                  <a:lnTo>
                    <a:pt x="2882" y="542"/>
                  </a:lnTo>
                  <a:lnTo>
                    <a:pt x="2162" y="542"/>
                  </a:lnTo>
                  <a:lnTo>
                    <a:pt x="1441" y="542"/>
                  </a:lnTo>
                  <a:lnTo>
                    <a:pt x="721" y="542"/>
                  </a:lnTo>
                  <a:lnTo>
                    <a:pt x="0" y="542"/>
                  </a:lnTo>
                  <a:close/>
                  <a:moveTo>
                    <a:pt x="0" y="510"/>
                  </a:moveTo>
                  <a:lnTo>
                    <a:pt x="0" y="493"/>
                  </a:lnTo>
                  <a:lnTo>
                    <a:pt x="721" y="493"/>
                  </a:lnTo>
                  <a:lnTo>
                    <a:pt x="1441" y="493"/>
                  </a:lnTo>
                  <a:lnTo>
                    <a:pt x="2162" y="493"/>
                  </a:lnTo>
                  <a:lnTo>
                    <a:pt x="2882" y="493"/>
                  </a:lnTo>
                  <a:lnTo>
                    <a:pt x="3603" y="493"/>
                  </a:lnTo>
                  <a:lnTo>
                    <a:pt x="4323" y="493"/>
                  </a:lnTo>
                  <a:lnTo>
                    <a:pt x="5044" y="493"/>
                  </a:lnTo>
                  <a:lnTo>
                    <a:pt x="5764" y="493"/>
                  </a:lnTo>
                  <a:lnTo>
                    <a:pt x="5764" y="510"/>
                  </a:lnTo>
                  <a:lnTo>
                    <a:pt x="5044" y="510"/>
                  </a:lnTo>
                  <a:lnTo>
                    <a:pt x="4323" y="510"/>
                  </a:lnTo>
                  <a:lnTo>
                    <a:pt x="3603" y="510"/>
                  </a:lnTo>
                  <a:lnTo>
                    <a:pt x="2882" y="510"/>
                  </a:lnTo>
                  <a:lnTo>
                    <a:pt x="2162" y="510"/>
                  </a:lnTo>
                  <a:lnTo>
                    <a:pt x="1441" y="510"/>
                  </a:lnTo>
                  <a:lnTo>
                    <a:pt x="721" y="510"/>
                  </a:lnTo>
                  <a:lnTo>
                    <a:pt x="0" y="510"/>
                  </a:lnTo>
                  <a:close/>
                  <a:moveTo>
                    <a:pt x="0" y="477"/>
                  </a:moveTo>
                  <a:lnTo>
                    <a:pt x="0" y="460"/>
                  </a:lnTo>
                  <a:lnTo>
                    <a:pt x="721" y="460"/>
                  </a:lnTo>
                  <a:lnTo>
                    <a:pt x="1441" y="460"/>
                  </a:lnTo>
                  <a:lnTo>
                    <a:pt x="2162" y="460"/>
                  </a:lnTo>
                  <a:lnTo>
                    <a:pt x="2882" y="460"/>
                  </a:lnTo>
                  <a:lnTo>
                    <a:pt x="3603" y="460"/>
                  </a:lnTo>
                  <a:lnTo>
                    <a:pt x="4323" y="460"/>
                  </a:lnTo>
                  <a:lnTo>
                    <a:pt x="5044" y="460"/>
                  </a:lnTo>
                  <a:lnTo>
                    <a:pt x="5764" y="460"/>
                  </a:lnTo>
                  <a:lnTo>
                    <a:pt x="5764" y="477"/>
                  </a:lnTo>
                  <a:lnTo>
                    <a:pt x="5044" y="477"/>
                  </a:lnTo>
                  <a:lnTo>
                    <a:pt x="4323" y="477"/>
                  </a:lnTo>
                  <a:lnTo>
                    <a:pt x="3603" y="477"/>
                  </a:lnTo>
                  <a:lnTo>
                    <a:pt x="2882" y="477"/>
                  </a:lnTo>
                  <a:lnTo>
                    <a:pt x="2162" y="477"/>
                  </a:lnTo>
                  <a:lnTo>
                    <a:pt x="1441" y="477"/>
                  </a:lnTo>
                  <a:lnTo>
                    <a:pt x="721" y="477"/>
                  </a:lnTo>
                  <a:lnTo>
                    <a:pt x="0" y="477"/>
                  </a:lnTo>
                  <a:close/>
                  <a:moveTo>
                    <a:pt x="0" y="444"/>
                  </a:moveTo>
                  <a:lnTo>
                    <a:pt x="0" y="427"/>
                  </a:lnTo>
                  <a:lnTo>
                    <a:pt x="721" y="427"/>
                  </a:lnTo>
                  <a:lnTo>
                    <a:pt x="1441" y="427"/>
                  </a:lnTo>
                  <a:lnTo>
                    <a:pt x="2162" y="427"/>
                  </a:lnTo>
                  <a:lnTo>
                    <a:pt x="2882" y="427"/>
                  </a:lnTo>
                  <a:lnTo>
                    <a:pt x="3603" y="427"/>
                  </a:lnTo>
                  <a:lnTo>
                    <a:pt x="4323" y="427"/>
                  </a:lnTo>
                  <a:lnTo>
                    <a:pt x="5044" y="427"/>
                  </a:lnTo>
                  <a:lnTo>
                    <a:pt x="5764" y="427"/>
                  </a:lnTo>
                  <a:lnTo>
                    <a:pt x="5764" y="444"/>
                  </a:lnTo>
                  <a:lnTo>
                    <a:pt x="5044" y="444"/>
                  </a:lnTo>
                  <a:lnTo>
                    <a:pt x="4323" y="444"/>
                  </a:lnTo>
                  <a:lnTo>
                    <a:pt x="3603" y="444"/>
                  </a:lnTo>
                  <a:lnTo>
                    <a:pt x="2882" y="444"/>
                  </a:lnTo>
                  <a:lnTo>
                    <a:pt x="2162" y="444"/>
                  </a:lnTo>
                  <a:lnTo>
                    <a:pt x="1441" y="444"/>
                  </a:lnTo>
                  <a:lnTo>
                    <a:pt x="721" y="444"/>
                  </a:lnTo>
                  <a:lnTo>
                    <a:pt x="0" y="444"/>
                  </a:lnTo>
                  <a:close/>
                  <a:moveTo>
                    <a:pt x="0" y="411"/>
                  </a:moveTo>
                  <a:lnTo>
                    <a:pt x="0" y="394"/>
                  </a:lnTo>
                  <a:lnTo>
                    <a:pt x="721" y="394"/>
                  </a:lnTo>
                  <a:lnTo>
                    <a:pt x="1441" y="394"/>
                  </a:lnTo>
                  <a:lnTo>
                    <a:pt x="2162" y="394"/>
                  </a:lnTo>
                  <a:lnTo>
                    <a:pt x="2882" y="394"/>
                  </a:lnTo>
                  <a:lnTo>
                    <a:pt x="3603" y="394"/>
                  </a:lnTo>
                  <a:lnTo>
                    <a:pt x="4323" y="394"/>
                  </a:lnTo>
                  <a:lnTo>
                    <a:pt x="5044" y="394"/>
                  </a:lnTo>
                  <a:lnTo>
                    <a:pt x="5764" y="394"/>
                  </a:lnTo>
                  <a:lnTo>
                    <a:pt x="5764" y="411"/>
                  </a:lnTo>
                  <a:lnTo>
                    <a:pt x="5044" y="411"/>
                  </a:lnTo>
                  <a:lnTo>
                    <a:pt x="4323" y="411"/>
                  </a:lnTo>
                  <a:lnTo>
                    <a:pt x="3603" y="411"/>
                  </a:lnTo>
                  <a:lnTo>
                    <a:pt x="2882" y="411"/>
                  </a:lnTo>
                  <a:lnTo>
                    <a:pt x="2162" y="411"/>
                  </a:lnTo>
                  <a:lnTo>
                    <a:pt x="1441" y="411"/>
                  </a:lnTo>
                  <a:lnTo>
                    <a:pt x="721" y="411"/>
                  </a:lnTo>
                  <a:lnTo>
                    <a:pt x="0" y="411"/>
                  </a:lnTo>
                  <a:close/>
                  <a:moveTo>
                    <a:pt x="0" y="378"/>
                  </a:moveTo>
                  <a:lnTo>
                    <a:pt x="0" y="361"/>
                  </a:lnTo>
                  <a:lnTo>
                    <a:pt x="721" y="361"/>
                  </a:lnTo>
                  <a:lnTo>
                    <a:pt x="1441" y="361"/>
                  </a:lnTo>
                  <a:lnTo>
                    <a:pt x="2162" y="361"/>
                  </a:lnTo>
                  <a:lnTo>
                    <a:pt x="2882" y="361"/>
                  </a:lnTo>
                  <a:lnTo>
                    <a:pt x="3603" y="361"/>
                  </a:lnTo>
                  <a:lnTo>
                    <a:pt x="4323" y="361"/>
                  </a:lnTo>
                  <a:lnTo>
                    <a:pt x="5044" y="361"/>
                  </a:lnTo>
                  <a:lnTo>
                    <a:pt x="5764" y="361"/>
                  </a:lnTo>
                  <a:lnTo>
                    <a:pt x="5764" y="378"/>
                  </a:lnTo>
                  <a:lnTo>
                    <a:pt x="5044" y="378"/>
                  </a:lnTo>
                  <a:lnTo>
                    <a:pt x="4323" y="378"/>
                  </a:lnTo>
                  <a:lnTo>
                    <a:pt x="3603" y="378"/>
                  </a:lnTo>
                  <a:lnTo>
                    <a:pt x="2882" y="378"/>
                  </a:lnTo>
                  <a:lnTo>
                    <a:pt x="2162" y="378"/>
                  </a:lnTo>
                  <a:lnTo>
                    <a:pt x="1441" y="378"/>
                  </a:lnTo>
                  <a:lnTo>
                    <a:pt x="721" y="378"/>
                  </a:lnTo>
                  <a:lnTo>
                    <a:pt x="0" y="378"/>
                  </a:lnTo>
                  <a:close/>
                  <a:moveTo>
                    <a:pt x="0" y="345"/>
                  </a:moveTo>
                  <a:lnTo>
                    <a:pt x="0" y="329"/>
                  </a:lnTo>
                  <a:lnTo>
                    <a:pt x="721" y="329"/>
                  </a:lnTo>
                  <a:lnTo>
                    <a:pt x="1441" y="329"/>
                  </a:lnTo>
                  <a:lnTo>
                    <a:pt x="2162" y="329"/>
                  </a:lnTo>
                  <a:lnTo>
                    <a:pt x="2882" y="329"/>
                  </a:lnTo>
                  <a:lnTo>
                    <a:pt x="3603" y="329"/>
                  </a:lnTo>
                  <a:lnTo>
                    <a:pt x="4323" y="329"/>
                  </a:lnTo>
                  <a:lnTo>
                    <a:pt x="5044" y="329"/>
                  </a:lnTo>
                  <a:lnTo>
                    <a:pt x="5764" y="329"/>
                  </a:lnTo>
                  <a:lnTo>
                    <a:pt x="5764" y="345"/>
                  </a:lnTo>
                  <a:lnTo>
                    <a:pt x="5044" y="345"/>
                  </a:lnTo>
                  <a:lnTo>
                    <a:pt x="4323" y="345"/>
                  </a:lnTo>
                  <a:lnTo>
                    <a:pt x="3603" y="345"/>
                  </a:lnTo>
                  <a:lnTo>
                    <a:pt x="2882" y="345"/>
                  </a:lnTo>
                  <a:lnTo>
                    <a:pt x="2162" y="345"/>
                  </a:lnTo>
                  <a:lnTo>
                    <a:pt x="1441" y="345"/>
                  </a:lnTo>
                  <a:lnTo>
                    <a:pt x="721" y="345"/>
                  </a:lnTo>
                  <a:lnTo>
                    <a:pt x="0" y="345"/>
                  </a:lnTo>
                  <a:close/>
                  <a:moveTo>
                    <a:pt x="0" y="312"/>
                  </a:moveTo>
                  <a:lnTo>
                    <a:pt x="0" y="296"/>
                  </a:lnTo>
                  <a:lnTo>
                    <a:pt x="721" y="296"/>
                  </a:lnTo>
                  <a:lnTo>
                    <a:pt x="1441" y="296"/>
                  </a:lnTo>
                  <a:lnTo>
                    <a:pt x="2162" y="296"/>
                  </a:lnTo>
                  <a:lnTo>
                    <a:pt x="2882" y="296"/>
                  </a:lnTo>
                  <a:lnTo>
                    <a:pt x="3603" y="296"/>
                  </a:lnTo>
                  <a:lnTo>
                    <a:pt x="4323" y="296"/>
                  </a:lnTo>
                  <a:lnTo>
                    <a:pt x="5044" y="296"/>
                  </a:lnTo>
                  <a:lnTo>
                    <a:pt x="5764" y="296"/>
                  </a:lnTo>
                  <a:lnTo>
                    <a:pt x="5764" y="312"/>
                  </a:lnTo>
                  <a:lnTo>
                    <a:pt x="5044" y="312"/>
                  </a:lnTo>
                  <a:lnTo>
                    <a:pt x="4323" y="312"/>
                  </a:lnTo>
                  <a:lnTo>
                    <a:pt x="3603" y="312"/>
                  </a:lnTo>
                  <a:lnTo>
                    <a:pt x="2882" y="312"/>
                  </a:lnTo>
                  <a:lnTo>
                    <a:pt x="2162" y="312"/>
                  </a:lnTo>
                  <a:lnTo>
                    <a:pt x="1441" y="312"/>
                  </a:lnTo>
                  <a:lnTo>
                    <a:pt x="721" y="312"/>
                  </a:lnTo>
                  <a:lnTo>
                    <a:pt x="0" y="312"/>
                  </a:lnTo>
                  <a:close/>
                  <a:moveTo>
                    <a:pt x="0" y="280"/>
                  </a:moveTo>
                  <a:lnTo>
                    <a:pt x="0" y="263"/>
                  </a:lnTo>
                  <a:lnTo>
                    <a:pt x="721" y="263"/>
                  </a:lnTo>
                  <a:lnTo>
                    <a:pt x="1441" y="263"/>
                  </a:lnTo>
                  <a:lnTo>
                    <a:pt x="2162" y="263"/>
                  </a:lnTo>
                  <a:lnTo>
                    <a:pt x="2882" y="263"/>
                  </a:lnTo>
                  <a:lnTo>
                    <a:pt x="3603" y="263"/>
                  </a:lnTo>
                  <a:lnTo>
                    <a:pt x="4323" y="263"/>
                  </a:lnTo>
                  <a:lnTo>
                    <a:pt x="5044" y="263"/>
                  </a:lnTo>
                  <a:lnTo>
                    <a:pt x="5764" y="263"/>
                  </a:lnTo>
                  <a:lnTo>
                    <a:pt x="5764" y="280"/>
                  </a:lnTo>
                  <a:lnTo>
                    <a:pt x="5044" y="280"/>
                  </a:lnTo>
                  <a:lnTo>
                    <a:pt x="4323" y="280"/>
                  </a:lnTo>
                  <a:lnTo>
                    <a:pt x="3603" y="280"/>
                  </a:lnTo>
                  <a:lnTo>
                    <a:pt x="2882" y="280"/>
                  </a:lnTo>
                  <a:lnTo>
                    <a:pt x="2162" y="280"/>
                  </a:lnTo>
                  <a:lnTo>
                    <a:pt x="1441" y="280"/>
                  </a:lnTo>
                  <a:lnTo>
                    <a:pt x="721" y="280"/>
                  </a:lnTo>
                  <a:lnTo>
                    <a:pt x="0" y="280"/>
                  </a:lnTo>
                  <a:close/>
                  <a:moveTo>
                    <a:pt x="0" y="247"/>
                  </a:moveTo>
                  <a:lnTo>
                    <a:pt x="0" y="230"/>
                  </a:lnTo>
                  <a:lnTo>
                    <a:pt x="721" y="230"/>
                  </a:lnTo>
                  <a:lnTo>
                    <a:pt x="1441" y="230"/>
                  </a:lnTo>
                  <a:lnTo>
                    <a:pt x="2162" y="230"/>
                  </a:lnTo>
                  <a:lnTo>
                    <a:pt x="2882" y="230"/>
                  </a:lnTo>
                  <a:lnTo>
                    <a:pt x="3603" y="230"/>
                  </a:lnTo>
                  <a:lnTo>
                    <a:pt x="4323" y="230"/>
                  </a:lnTo>
                  <a:lnTo>
                    <a:pt x="5044" y="230"/>
                  </a:lnTo>
                  <a:lnTo>
                    <a:pt x="5764" y="230"/>
                  </a:lnTo>
                  <a:lnTo>
                    <a:pt x="5764" y="247"/>
                  </a:lnTo>
                  <a:lnTo>
                    <a:pt x="5044" y="247"/>
                  </a:lnTo>
                  <a:lnTo>
                    <a:pt x="4323" y="247"/>
                  </a:lnTo>
                  <a:lnTo>
                    <a:pt x="3603" y="247"/>
                  </a:lnTo>
                  <a:lnTo>
                    <a:pt x="2882" y="247"/>
                  </a:lnTo>
                  <a:lnTo>
                    <a:pt x="2162" y="247"/>
                  </a:lnTo>
                  <a:lnTo>
                    <a:pt x="1441" y="247"/>
                  </a:lnTo>
                  <a:lnTo>
                    <a:pt x="721" y="247"/>
                  </a:lnTo>
                  <a:lnTo>
                    <a:pt x="0" y="247"/>
                  </a:lnTo>
                  <a:close/>
                  <a:moveTo>
                    <a:pt x="0" y="214"/>
                  </a:moveTo>
                  <a:lnTo>
                    <a:pt x="0" y="197"/>
                  </a:lnTo>
                  <a:lnTo>
                    <a:pt x="721" y="197"/>
                  </a:lnTo>
                  <a:lnTo>
                    <a:pt x="1441" y="197"/>
                  </a:lnTo>
                  <a:lnTo>
                    <a:pt x="2162" y="197"/>
                  </a:lnTo>
                  <a:lnTo>
                    <a:pt x="2882" y="197"/>
                  </a:lnTo>
                  <a:lnTo>
                    <a:pt x="3603" y="197"/>
                  </a:lnTo>
                  <a:lnTo>
                    <a:pt x="4323" y="197"/>
                  </a:lnTo>
                  <a:lnTo>
                    <a:pt x="5044" y="197"/>
                  </a:lnTo>
                  <a:lnTo>
                    <a:pt x="5764" y="197"/>
                  </a:lnTo>
                  <a:lnTo>
                    <a:pt x="5764" y="214"/>
                  </a:lnTo>
                  <a:lnTo>
                    <a:pt x="5044" y="214"/>
                  </a:lnTo>
                  <a:lnTo>
                    <a:pt x="4323" y="214"/>
                  </a:lnTo>
                  <a:lnTo>
                    <a:pt x="3603" y="214"/>
                  </a:lnTo>
                  <a:lnTo>
                    <a:pt x="2882" y="214"/>
                  </a:lnTo>
                  <a:lnTo>
                    <a:pt x="2162" y="214"/>
                  </a:lnTo>
                  <a:lnTo>
                    <a:pt x="1441" y="214"/>
                  </a:lnTo>
                  <a:lnTo>
                    <a:pt x="721" y="214"/>
                  </a:lnTo>
                  <a:lnTo>
                    <a:pt x="0" y="214"/>
                  </a:lnTo>
                  <a:close/>
                  <a:moveTo>
                    <a:pt x="0" y="181"/>
                  </a:moveTo>
                  <a:lnTo>
                    <a:pt x="0" y="164"/>
                  </a:lnTo>
                  <a:lnTo>
                    <a:pt x="721" y="164"/>
                  </a:lnTo>
                  <a:lnTo>
                    <a:pt x="1441" y="164"/>
                  </a:lnTo>
                  <a:lnTo>
                    <a:pt x="2162" y="164"/>
                  </a:lnTo>
                  <a:lnTo>
                    <a:pt x="2882" y="164"/>
                  </a:lnTo>
                  <a:lnTo>
                    <a:pt x="3603" y="164"/>
                  </a:lnTo>
                  <a:lnTo>
                    <a:pt x="4323" y="164"/>
                  </a:lnTo>
                  <a:lnTo>
                    <a:pt x="5044" y="164"/>
                  </a:lnTo>
                  <a:lnTo>
                    <a:pt x="5764" y="164"/>
                  </a:lnTo>
                  <a:lnTo>
                    <a:pt x="5764" y="181"/>
                  </a:lnTo>
                  <a:lnTo>
                    <a:pt x="5044" y="181"/>
                  </a:lnTo>
                  <a:lnTo>
                    <a:pt x="4323" y="181"/>
                  </a:lnTo>
                  <a:lnTo>
                    <a:pt x="3603" y="181"/>
                  </a:lnTo>
                  <a:lnTo>
                    <a:pt x="2882" y="181"/>
                  </a:lnTo>
                  <a:lnTo>
                    <a:pt x="2162" y="181"/>
                  </a:lnTo>
                  <a:lnTo>
                    <a:pt x="1441" y="181"/>
                  </a:lnTo>
                  <a:lnTo>
                    <a:pt x="721" y="181"/>
                  </a:lnTo>
                  <a:lnTo>
                    <a:pt x="0" y="181"/>
                  </a:lnTo>
                  <a:close/>
                  <a:moveTo>
                    <a:pt x="0" y="148"/>
                  </a:moveTo>
                  <a:lnTo>
                    <a:pt x="0" y="131"/>
                  </a:lnTo>
                  <a:lnTo>
                    <a:pt x="721" y="131"/>
                  </a:lnTo>
                  <a:lnTo>
                    <a:pt x="1441" y="131"/>
                  </a:lnTo>
                  <a:lnTo>
                    <a:pt x="2162" y="131"/>
                  </a:lnTo>
                  <a:lnTo>
                    <a:pt x="2882" y="131"/>
                  </a:lnTo>
                  <a:lnTo>
                    <a:pt x="3603" y="131"/>
                  </a:lnTo>
                  <a:lnTo>
                    <a:pt x="4323" y="131"/>
                  </a:lnTo>
                  <a:lnTo>
                    <a:pt x="5044" y="131"/>
                  </a:lnTo>
                  <a:lnTo>
                    <a:pt x="5764" y="131"/>
                  </a:lnTo>
                  <a:lnTo>
                    <a:pt x="5764" y="148"/>
                  </a:lnTo>
                  <a:lnTo>
                    <a:pt x="5044" y="148"/>
                  </a:lnTo>
                  <a:lnTo>
                    <a:pt x="4323" y="148"/>
                  </a:lnTo>
                  <a:lnTo>
                    <a:pt x="3603" y="148"/>
                  </a:lnTo>
                  <a:lnTo>
                    <a:pt x="2882" y="148"/>
                  </a:lnTo>
                  <a:lnTo>
                    <a:pt x="2162" y="148"/>
                  </a:lnTo>
                  <a:lnTo>
                    <a:pt x="1441" y="148"/>
                  </a:lnTo>
                  <a:lnTo>
                    <a:pt x="721" y="148"/>
                  </a:lnTo>
                  <a:lnTo>
                    <a:pt x="0" y="148"/>
                  </a:lnTo>
                  <a:close/>
                  <a:moveTo>
                    <a:pt x="0" y="115"/>
                  </a:moveTo>
                  <a:lnTo>
                    <a:pt x="0" y="99"/>
                  </a:lnTo>
                  <a:lnTo>
                    <a:pt x="721" y="99"/>
                  </a:lnTo>
                  <a:lnTo>
                    <a:pt x="1441" y="99"/>
                  </a:lnTo>
                  <a:lnTo>
                    <a:pt x="2162" y="99"/>
                  </a:lnTo>
                  <a:lnTo>
                    <a:pt x="2882" y="99"/>
                  </a:lnTo>
                  <a:lnTo>
                    <a:pt x="3603" y="99"/>
                  </a:lnTo>
                  <a:lnTo>
                    <a:pt x="4323" y="99"/>
                  </a:lnTo>
                  <a:lnTo>
                    <a:pt x="5044" y="99"/>
                  </a:lnTo>
                  <a:lnTo>
                    <a:pt x="5764" y="99"/>
                  </a:lnTo>
                  <a:lnTo>
                    <a:pt x="5764" y="115"/>
                  </a:lnTo>
                  <a:lnTo>
                    <a:pt x="5044" y="115"/>
                  </a:lnTo>
                  <a:lnTo>
                    <a:pt x="4323" y="115"/>
                  </a:lnTo>
                  <a:lnTo>
                    <a:pt x="3603" y="115"/>
                  </a:lnTo>
                  <a:lnTo>
                    <a:pt x="2882" y="115"/>
                  </a:lnTo>
                  <a:lnTo>
                    <a:pt x="2162" y="115"/>
                  </a:lnTo>
                  <a:lnTo>
                    <a:pt x="1441" y="115"/>
                  </a:lnTo>
                  <a:lnTo>
                    <a:pt x="721" y="115"/>
                  </a:lnTo>
                  <a:lnTo>
                    <a:pt x="0" y="115"/>
                  </a:lnTo>
                  <a:close/>
                  <a:moveTo>
                    <a:pt x="0" y="83"/>
                  </a:moveTo>
                  <a:lnTo>
                    <a:pt x="0" y="66"/>
                  </a:lnTo>
                  <a:lnTo>
                    <a:pt x="721" y="66"/>
                  </a:lnTo>
                  <a:lnTo>
                    <a:pt x="1441" y="66"/>
                  </a:lnTo>
                  <a:lnTo>
                    <a:pt x="2162" y="66"/>
                  </a:lnTo>
                  <a:lnTo>
                    <a:pt x="2882" y="66"/>
                  </a:lnTo>
                  <a:lnTo>
                    <a:pt x="3603" y="66"/>
                  </a:lnTo>
                  <a:lnTo>
                    <a:pt x="4323" y="66"/>
                  </a:lnTo>
                  <a:lnTo>
                    <a:pt x="5044" y="66"/>
                  </a:lnTo>
                  <a:lnTo>
                    <a:pt x="5764" y="66"/>
                  </a:lnTo>
                  <a:lnTo>
                    <a:pt x="5764" y="83"/>
                  </a:lnTo>
                  <a:lnTo>
                    <a:pt x="5044" y="83"/>
                  </a:lnTo>
                  <a:lnTo>
                    <a:pt x="4323" y="83"/>
                  </a:lnTo>
                  <a:lnTo>
                    <a:pt x="3603" y="83"/>
                  </a:lnTo>
                  <a:lnTo>
                    <a:pt x="2882" y="83"/>
                  </a:lnTo>
                  <a:lnTo>
                    <a:pt x="2162" y="83"/>
                  </a:lnTo>
                  <a:lnTo>
                    <a:pt x="1441" y="83"/>
                  </a:lnTo>
                  <a:lnTo>
                    <a:pt x="721" y="83"/>
                  </a:lnTo>
                  <a:lnTo>
                    <a:pt x="0" y="83"/>
                  </a:lnTo>
                  <a:close/>
                  <a:moveTo>
                    <a:pt x="0" y="50"/>
                  </a:moveTo>
                  <a:lnTo>
                    <a:pt x="0" y="33"/>
                  </a:lnTo>
                  <a:lnTo>
                    <a:pt x="721" y="33"/>
                  </a:lnTo>
                  <a:lnTo>
                    <a:pt x="1441" y="33"/>
                  </a:lnTo>
                  <a:lnTo>
                    <a:pt x="2162" y="33"/>
                  </a:lnTo>
                  <a:lnTo>
                    <a:pt x="2882" y="33"/>
                  </a:lnTo>
                  <a:lnTo>
                    <a:pt x="3603" y="33"/>
                  </a:lnTo>
                  <a:lnTo>
                    <a:pt x="4323" y="33"/>
                  </a:lnTo>
                  <a:lnTo>
                    <a:pt x="5044" y="33"/>
                  </a:lnTo>
                  <a:lnTo>
                    <a:pt x="5764" y="33"/>
                  </a:lnTo>
                  <a:lnTo>
                    <a:pt x="5764" y="50"/>
                  </a:lnTo>
                  <a:lnTo>
                    <a:pt x="5044" y="50"/>
                  </a:lnTo>
                  <a:lnTo>
                    <a:pt x="4323" y="50"/>
                  </a:lnTo>
                  <a:lnTo>
                    <a:pt x="3603" y="50"/>
                  </a:lnTo>
                  <a:lnTo>
                    <a:pt x="2882" y="50"/>
                  </a:lnTo>
                  <a:lnTo>
                    <a:pt x="2162" y="50"/>
                  </a:lnTo>
                  <a:lnTo>
                    <a:pt x="1441" y="50"/>
                  </a:lnTo>
                  <a:lnTo>
                    <a:pt x="721" y="50"/>
                  </a:lnTo>
                  <a:lnTo>
                    <a:pt x="0" y="50"/>
                  </a:lnTo>
                  <a:close/>
                  <a:moveTo>
                    <a:pt x="0" y="0"/>
                  </a:moveTo>
                  <a:lnTo>
                    <a:pt x="721" y="0"/>
                  </a:lnTo>
                  <a:lnTo>
                    <a:pt x="1441" y="0"/>
                  </a:lnTo>
                  <a:lnTo>
                    <a:pt x="2162" y="0"/>
                  </a:lnTo>
                  <a:lnTo>
                    <a:pt x="2882" y="0"/>
                  </a:lnTo>
                  <a:lnTo>
                    <a:pt x="3603" y="0"/>
                  </a:lnTo>
                  <a:lnTo>
                    <a:pt x="4323" y="0"/>
                  </a:lnTo>
                  <a:lnTo>
                    <a:pt x="5044" y="0"/>
                  </a:lnTo>
                  <a:lnTo>
                    <a:pt x="5764" y="0"/>
                  </a:lnTo>
                  <a:lnTo>
                    <a:pt x="5764" y="17"/>
                  </a:lnTo>
                  <a:lnTo>
                    <a:pt x="5044" y="17"/>
                  </a:lnTo>
                  <a:lnTo>
                    <a:pt x="4323" y="17"/>
                  </a:lnTo>
                  <a:lnTo>
                    <a:pt x="3603" y="17"/>
                  </a:lnTo>
                  <a:lnTo>
                    <a:pt x="2882" y="17"/>
                  </a:lnTo>
                  <a:lnTo>
                    <a:pt x="2162" y="17"/>
                  </a:lnTo>
                  <a:lnTo>
                    <a:pt x="1441" y="17"/>
                  </a:lnTo>
                  <a:lnTo>
                    <a:pt x="721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TextBox 9"/>
          <p:cNvSpPr/>
          <p:nvPr/>
        </p:nvSpPr>
        <p:spPr>
          <a:xfrm>
            <a:off x="2060640" y="2382840"/>
            <a:ext cx="537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谢谢您的关注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5:06:31Z</dcterms:created>
  <dc:creator>Francisco Galan</dc:creator>
  <dc:description/>
  <dc:language>en-US</dc:language>
  <cp:lastModifiedBy>王玉清</cp:lastModifiedBy>
  <dcterms:modified xsi:type="dcterms:W3CDTF">2016-02-21T04:11:11Z</dcterms:modified>
  <cp:revision>467</cp:revision>
  <dc:subject/>
  <dc:title>Intro Stratpro</dc:title>
</cp:coreProperties>
</file>