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E11-8A01-40A2-8C40-6BD666EC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30D-2F24-4687-9A1C-2C3019ED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BB3-641C-4735-96F8-558CDFFC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53C-341F-4117-9C15-697AB3EE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9EE3-0D33-4E5E-8809-579E11CA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7B0F-4C1E-4D79-A3B1-ACB61A41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25A9-DC45-474F-B127-4D2C6E02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62E2-90A1-4EBF-97C2-03033750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0A38-2ACA-40A9-A365-B681BF91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C0FA-23C8-436E-9F8D-91B1B6C3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4F31-AB43-4D15-A1BE-42E6B033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EF1-7CF0-41E6-9723-1A1844FD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87A5-1CA3-469F-9878-F298651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2E1A-0E46-412E-A2BF-5877F28B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8748-6BEB-4C05-8941-4D376A3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3BC2-8A8C-4F61-B7AF-CCA6975B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7A3E-D0ED-4BBA-86C2-070C74FC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528-A078-4DA2-9EFF-A864BDD2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4C7-81DF-4DA4-93FD-3450558D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CCE-8B40-4628-9E05-7834E4FA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27E-2410-474A-BE1F-D938DA56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BD3-7208-4FE6-8785-98CF5E35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182-F8B6-4F5E-B53F-DEFFECA6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73E-8F42-4EAA-B0FA-38A7D3FF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69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0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1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25F1-9693-42AF-A205-06A3DD0D06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1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Line 132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133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134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35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36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37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38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39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40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3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44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45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46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47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150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151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152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153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154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155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156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157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158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159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160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161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162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163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164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165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Line 166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168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169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170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171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172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173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174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175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176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177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178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180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181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182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3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4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3533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CE8D-8F6E-4EA9-A9A0-37A4286EFD02}" type="slidenum">
              <a:rPr b="0" lang="zh-CN" sz="1200" spc="-1" strike="noStrike">
                <a:solidFill>
                  <a:srgbClr val="33533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99640" y="1699920"/>
            <a:ext cx="80708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5338"/>
                </a:solidFill>
                <a:latin typeface="汉仪中圆简"/>
                <a:ea typeface="汉仪中圆简"/>
              </a:rPr>
              <a:t>经典通用</a:t>
            </a:r>
            <a:r>
              <a:rPr b="0" lang="en-US" sz="4000" spc="-1" strike="noStrike">
                <a:solidFill>
                  <a:srgbClr val="335338"/>
                </a:solidFill>
                <a:latin typeface="汉仪中圆简"/>
                <a:ea typeface="汉仪中圆简"/>
              </a:rPr>
              <a:t>PPT</a:t>
            </a:r>
            <a:r>
              <a:rPr b="0" lang="zh-CN" sz="4000" spc="-1" strike="noStrike">
                <a:solidFill>
                  <a:srgbClr val="335338"/>
                </a:solidFill>
                <a:latin typeface="汉仪中圆简"/>
                <a:ea typeface="汉仪中圆简"/>
              </a:rPr>
              <a:t>模板完整版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93d2e"/>
                </a:gs>
                <a:gs pos="100000">
                  <a:srgbClr val="368463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2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52"/>
                </a:gs>
                <a:gs pos="100000">
                  <a:srgbClr val="2f86b1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2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93d2e"/>
                </a:gs>
                <a:gs pos="100000">
                  <a:srgbClr val="368463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2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52"/>
                </a:gs>
                <a:gs pos="100000">
                  <a:srgbClr val="2f86b1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28800" y="1642680"/>
            <a:ext cx="737712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135080" y="2367000"/>
          <a:ext cx="7040520" cy="3124080"/>
        </p:xfrm>
        <a:graphic>
          <a:graphicData uri="http://schemas.openxmlformats.org/drawingml/2006/table">
            <a:tbl>
              <a:tblPr/>
              <a:tblGrid>
                <a:gridCol w="1587600"/>
                <a:gridCol w="1108080"/>
                <a:gridCol w="1085760"/>
                <a:gridCol w="1084320"/>
                <a:gridCol w="1090440"/>
                <a:gridCol w="10843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5338"/>
                      </a:solidFill>
                    </a:lnR>
                    <a:lnT>
                      <a:noFill/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0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52"/>
              </a:gs>
              <a:gs pos="50000">
                <a:srgbClr val="2f86b1"/>
              </a:gs>
              <a:gs pos="100000">
                <a:srgbClr val="163e5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35" name="Group 60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236" name="Oval 45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7" name="Oval 29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8" name="Oval 30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81ece">
                    <a:alpha val="85098"/>
                  </a:srgbClr>
                </a:gs>
                <a:gs pos="100000">
                  <a:srgbClr val="2e13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9" name="Oval 31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481ece"/>
                </a:gs>
                <a:gs pos="100000">
                  <a:srgbClr val="3416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240" name="Picture 32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3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42" name="Group 59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243" name="Oval 50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5" name="Oval 23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85098"/>
                  </a:srgbClr>
                </a:gs>
                <a:gs pos="100000">
                  <a:srgbClr val="1e5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6b1"/>
                </a:gs>
                <a:gs pos="100000">
                  <a:srgbClr val="2261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247" name="Picture 25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26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49" name="Group 58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250" name="Oval 5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2" name="Oval 16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8463">
                    <a:alpha val="85098"/>
                  </a:srgbClr>
                </a:gs>
                <a:gs pos="100000">
                  <a:srgbClr val="2254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760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254" name="Picture 18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19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56" name="Group 5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257" name="Oval 52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8fa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2761a">
                    <a:alpha val="85098"/>
                  </a:srgbClr>
                </a:gs>
                <a:gs pos="100000">
                  <a:srgbClr val="854b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2761a"/>
                </a:gs>
                <a:gs pos="100000">
                  <a:srgbClr val="9856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261" name="Picture 11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2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3"/>
          <p:cNvSpPr txBox="1"/>
          <p:nvPr/>
        </p:nvSpPr>
        <p:spPr>
          <a:xfrm>
            <a:off x="582480" y="4419720"/>
            <a:ext cx="48024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36846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368463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531108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6:26:37Z</dcterms:created>
  <dc:creator>keke</dc:creator>
  <dc:description/>
  <dc:language>en-US</dc:language>
  <cp:lastModifiedBy>王玉清</cp:lastModifiedBy>
  <dcterms:modified xsi:type="dcterms:W3CDTF">2016-02-21T04:51:37Z</dcterms:modified>
  <cp:revision>4</cp:revision>
  <dc:subject/>
  <dc:title>站长站素材 SC.chinaz.COM</dc:title>
</cp:coreProperties>
</file>