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B873-D3C5-4318-8F9E-400F18DD1F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1564-9BD7-43B2-9682-148140EC909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5FEB-1D45-4664-9EAC-B7C65BC0A29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964E-E536-4BD1-B339-D93B9A43921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A5E-EDD2-4825-A952-31ADE9CD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F4D-4390-4490-81F6-A6886874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67D-0BE9-4661-BFF7-E3508F41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850-B196-4044-8602-819241E6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4BB4-6B5E-4DC9-B926-9351F202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14BD-C205-4AAE-8CDA-B48FD9EC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6F80-711A-41D7-AD4A-9932340A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8143-6CAF-4B9A-BBD8-F2E62E6A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E2A5-30D2-4B76-A865-0538A5B6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952F-D881-4A2E-8559-3E943681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FC9B-569D-49C8-9B49-2D8C79FB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0B4-2322-4C06-A5A7-5F60A4E5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27E2-1E40-4315-A41A-87843FD7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47F2-9FDD-483F-A05A-E3637977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DF6F-D357-48C8-BE91-A5515D7D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0DE1-5025-4909-B3B8-4C0AD74B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9023-F065-4CAC-95A9-0C661153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0F0-0FA2-4225-8976-E7BE733D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2D9-1D0F-4B8A-9F48-AF3DBBCF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D09-574D-4C72-92FB-9E27A145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61C-A585-4B11-A455-ED203E58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73D-4CDE-42BB-8B69-DC7A7B88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296-E980-4C7A-ADC8-A6548955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75F-C6A7-4387-931E-9193133C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b8d98a">
                  <a:alpha val="85098"/>
                </a:srgbClr>
              </a:gs>
              <a:gs pos="100000">
                <a:srgbClr val="b8d98a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D5B6-15F4-4AD2-9274-3312DBA9BCD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7159680" y="0"/>
            <a:ext cx="198432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b8d98a">
                  <a:alpha val="85098"/>
                </a:srgbClr>
              </a:gs>
              <a:gs pos="100000">
                <a:srgbClr val="b8d98a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7159680" y="0"/>
            <a:ext cx="198432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351000" y="441360"/>
            <a:ext cx="8569080" cy="1368360"/>
          </a:xfrm>
          <a:prstGeom prst="rect">
            <a:avLst/>
          </a:prstGeom>
          <a:gradFill rotWithShape="0">
            <a:gsLst>
              <a:gs pos="0">
                <a:srgbClr val="b8d98a">
                  <a:alpha val="60000"/>
                </a:srgbClr>
              </a:gs>
              <a:gs pos="100000">
                <a:srgbClr val="b8d98a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139A-D92C-4345-9914-99F7F75DBD4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2800" y="49644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家鸡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59000" y="1218960"/>
            <a:ext cx="64008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901800" y="1790640"/>
            <a:ext cx="73404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71920" y="286380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648320" y="28638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19280" y="4478400"/>
            <a:ext cx="827280" cy="611280"/>
          </a:xfrm>
          <a:prstGeom prst="rect">
            <a:avLst/>
          </a:prstGeom>
          <a:solidFill>
            <a:srgbClr val="b8d9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587760" y="4478400"/>
            <a:ext cx="82692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656240" y="4478400"/>
            <a:ext cx="826920" cy="61128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6160" y="4478400"/>
            <a:ext cx="826920" cy="61128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5708520" y="286380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03440" y="286380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285640" y="2224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603960" y="2101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553640" y="2224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834520" y="2101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1840" y="38386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609360" y="38386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543560" y="37162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624640" y="37148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15800" y="64213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7080" cy="3853080"/>
          </a:xfrm>
          <a:prstGeom prst="rect">
            <a:avLst/>
          </a:prstGeom>
          <a:ln w="57240">
            <a:solidFill>
              <a:srgbClr val="b8d98a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王玉清</cp:lastModifiedBy>
  <dcterms:modified xsi:type="dcterms:W3CDTF">2016-03-02T07:28:55Z</dcterms:modified>
  <cp:revision>11</cp:revision>
  <dc:subject/>
  <dc:title>Hen PowerPoint Presentation</dc:title>
</cp:coreProperties>
</file>