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8B17-3B72-4A4A-910B-484749A5C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CD20-EC12-46A1-9D6B-2F8B84F3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17CC-ADD1-4E2A-87EC-BF04F4BE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6974-0642-4DDD-A736-DBA9AF1D2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1F2E-3B03-43BC-BE6B-9EFE9466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EF3A-B844-427C-9849-C6107592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AC9B-2591-4664-802C-0A664E1B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932A-7968-496A-9BAA-4287A680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95B1-08CE-4535-8701-40208A1F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EB89-0AC0-4183-B4B3-636AE8EE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0487-A1AF-401C-921B-FA49EBF6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7D21-DB7C-4076-9214-DE75B39B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8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A724-F6CC-4B66-A662-F0AAFC30EDE6}" type="slidenum">
              <a:rPr b="0" lang="en-US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1" lang="en-US" sz="16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1676520" y="15382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正确、流利朗读课文，想一想： 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990720" y="2130480"/>
            <a:ext cx="7086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　　☆果园机器人是什么样子的？有什么特点？你认为哪些特点最有趣？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68" name="Picture 8" descr="小学语文(记叙文）03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9"/>
          <p:cNvSpPr/>
          <p:nvPr/>
        </p:nvSpPr>
        <p:spPr>
          <a:xfrm>
            <a:off x="990720" y="3622680"/>
            <a:ext cx="71625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　　☆ 如果让你来设计果园机器人，你准备设计成什么样子？向大家介绍一下，或者画下来。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小学语文(记叙文）06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1143000" y="167328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　　聪明能干的机器人越来越受到大家的欢迎了，潜入深海寻找宝藏，进入身体查病治病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展开想像，说一说自己想发明什么样的机器人，会有哪些本领。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80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21CA-7A58-402C-AD0B-B39608FE0D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1676520" y="11872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你认识机器人吗？ 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44" name="Picture 9" descr="机器人1"/>
          <p:cNvPicPr/>
          <p:nvPr/>
        </p:nvPicPr>
        <p:blipFill>
          <a:blip r:embed="rId3"/>
          <a:srcRect l="0" t="0" r="-51" b="-73"/>
          <a:stretch/>
        </p:blipFill>
        <p:spPr>
          <a:xfrm>
            <a:off x="1905120" y="2135160"/>
            <a:ext cx="5486400" cy="38084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3809880" y="59436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机 器 人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机器人2"/>
          <p:cNvPicPr/>
          <p:nvPr/>
        </p:nvPicPr>
        <p:blipFill>
          <a:blip r:embed="rId3"/>
          <a:stretch/>
        </p:blipFill>
        <p:spPr>
          <a:xfrm>
            <a:off x="1676520" y="1600200"/>
            <a:ext cx="5790960" cy="4191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7"/>
          <p:cNvSpPr/>
          <p:nvPr/>
        </p:nvSpPr>
        <p:spPr>
          <a:xfrm>
            <a:off x="3809880" y="59436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机 器 人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机器人3"/>
          <p:cNvPicPr/>
          <p:nvPr/>
        </p:nvPicPr>
        <p:blipFill>
          <a:blip r:embed="rId3"/>
          <a:stretch/>
        </p:blipFill>
        <p:spPr>
          <a:xfrm>
            <a:off x="2362320" y="1905120"/>
            <a:ext cx="4724280" cy="35431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3809880" y="57913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机 器 人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026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29" descr="机器人4"/>
          <p:cNvPicPr/>
          <p:nvPr/>
        </p:nvPicPr>
        <p:blipFill>
          <a:blip r:embed="rId3"/>
          <a:stretch/>
        </p:blipFill>
        <p:spPr>
          <a:xfrm>
            <a:off x="2362320" y="1600200"/>
            <a:ext cx="4497120" cy="42624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030"/>
          <p:cNvSpPr/>
          <p:nvPr/>
        </p:nvSpPr>
        <p:spPr>
          <a:xfrm>
            <a:off x="3809880" y="59436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机 器 人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机器人5"/>
          <p:cNvPicPr/>
          <p:nvPr/>
        </p:nvPicPr>
        <p:blipFill>
          <a:blip r:embed="rId3"/>
          <a:stretch/>
        </p:blipFill>
        <p:spPr>
          <a:xfrm>
            <a:off x="2057400" y="1523880"/>
            <a:ext cx="5181480" cy="43005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3809880" y="59436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机 器 人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3809880" y="59436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机 器 人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60" name="Picture 4" descr="机器人6"/>
          <p:cNvPicPr/>
          <p:nvPr/>
        </p:nvPicPr>
        <p:blipFill>
          <a:blip r:embed="rId3"/>
          <a:stretch/>
        </p:blipFill>
        <p:spPr>
          <a:xfrm>
            <a:off x="2286000" y="1604880"/>
            <a:ext cx="448164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1066680" y="1614600"/>
            <a:ext cx="7162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　　机器人技术作为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世纪人类最伟大的发明之一，自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60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年代初问世以来，经历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40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余年的发展已取得长足的进步。走向成熟的工业机器人，各种用途的特种机器人的实用化，昭示着机器人技术灿烂的明天。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小学语文(记叙文）02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1523880" y="2352600"/>
            <a:ext cx="60962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　　借助拼音自读课文，我们来看一看果园机器人是什么样的。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170172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0080"/>
                </a:solidFill>
                <a:latin typeface="Times New Roman"/>
              </a:rPr>
              <a:t>免费</a:t>
            </a:r>
            <a:r>
              <a:rPr b="1" lang="en-US" sz="1600" spc="-1" strike="noStrike">
                <a:solidFill>
                  <a:srgbClr val="800080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800080"/>
                </a:solidFill>
                <a:latin typeface="Times New Roman"/>
              </a:rPr>
              <a:t>模板下载</a:t>
            </a:r>
            <a:r>
              <a:rPr b="1" lang="en-US" sz="16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http://www.eeppt.com</a:t>
            </a:r>
            <a:endParaRPr b="1" lang="en-US" sz="16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2:55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22:18Z</dcterms:modified>
  <cp:revision>13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