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6.png" ContentType="image/png"/>
  <Override PartName="/ppt/media/image7.gif" ContentType="image/gif"/>
  <Override PartName="/ppt/media/image9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200-9A0A-400E-AB12-984FFCF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F3C-B88C-49DC-9DA4-9B9DD212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749-EA17-4B0E-AE9D-24686EE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2DB-F685-427B-958F-ED8F2CE3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A10-1976-45AB-A1AD-837BA6CF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E45D-86FA-489F-8851-3D9DD45E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578-BE80-4887-89E9-C42259C8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93C8-0B07-47F5-800F-BB81535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A34C-CB23-414C-8910-BED0A01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D62-4FF4-42ED-B9CF-4EE742D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2B9-0196-4A1D-852A-92AEBA4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716-92AB-46AB-BEFC-187BD4D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B5E-24D1-4A30-B884-A3E2918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967E-7DEA-4974-A418-1595F7F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2416-0414-4A26-A701-F3D49C26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0C6-F4C8-4750-9376-A7884008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55D-9344-4F37-9B59-DF635093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7A4-8B6A-41E4-935E-39F10EE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01E-02FF-443D-8905-E95D4930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471-5132-4568-BFA6-3D413C1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0B1-E88C-43A7-895C-EBD789E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D99-8515-4854-8FEC-9F0AE08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0B6-3740-43B0-95B0-3B4A012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D0F-FAD7-4A77-A318-C0009B1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7718-0F9B-4138-B3DF-636FB336C1E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未知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469-1336-453C-A0F4-4DEA502491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79.MP3" descr=""/>
          <p:cNvPicPr/>
          <p:nvPr/>
        </p:nvPicPr>
        <p:blipFill>
          <a:blip r:embed="rId2"/>
          <a:stretch/>
        </p:blipFill>
        <p:spPr>
          <a:xfrm>
            <a:off x="46432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ydzx"/>
          <p:cNvPicPr/>
          <p:nvPr/>
        </p:nvPicPr>
        <p:blipFill>
          <a:blip r:embed="rId3"/>
          <a:stretch/>
        </p:blipFill>
        <p:spPr>
          <a:xfrm>
            <a:off x="1835280" y="2924280"/>
            <a:ext cx="5562360" cy="3381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195640" y="692280"/>
            <a:ext cx="453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教书千秋伟业；育人万世丰功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411280" y="162864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</a:rPr>
              <a:t>祝愿老师身体健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859280" y="2565360"/>
            <a:ext cx="18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教师节献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77720" y="1125360"/>
            <a:ext cx="10335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三寸粉笔，三尺讲台系国运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789600" y="1052640"/>
            <a:ext cx="1255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颗丹心，一生秉烛铸民魂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2155320" y="90360"/>
            <a:ext cx="52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教师节主题班会课件通用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长大后我就成了你.mp3" descr=""/>
          <p:cNvPicPr/>
          <p:nvPr/>
        </p:nvPicPr>
        <p:blipFill>
          <a:blip r:embed="rId2"/>
          <a:stretch/>
        </p:blipFill>
        <p:spPr>
          <a:xfrm>
            <a:off x="900000" y="6093000"/>
            <a:ext cx="6984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826920" y="907920"/>
            <a:ext cx="7345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在这个特别的日子里，我想对老师您说声：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老师节日快乐！愿您在今后的日子里健康快乐！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是您用生命的火炬照亮了我前进的道路，我要衷心对您说一声：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谢谢您，老师！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经历了风雨，才知道您的可贵；走上了成功，才知道您的伟大；</a:t>
            </a:r>
            <a:r>
              <a:rPr b="1" lang="en-US" sz="2800" spc="-1" strike="noStrike">
                <a:solidFill>
                  <a:srgbClr val="ffb8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谢谢您，我尊敬的老师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一路上有您的教导，才不会迷失方向；一路上有您的关注，才更加自信勇敢，老师，谢谢您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无尽的恩情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永远铭记心中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每个成长的日子里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我都要祝福你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我的老师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感谢有你老师.mp3" descr=""/>
          <p:cNvPicPr/>
          <p:nvPr/>
        </p:nvPicPr>
        <p:blipFill>
          <a:blip r:embed="rId3"/>
          <a:stretch/>
        </p:blipFill>
        <p:spPr>
          <a:xfrm>
            <a:off x="7236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19377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qrsy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908000" y="1125360"/>
            <a:ext cx="5040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很快的，一年一度的教师节又来临了，这是我们老师的节日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所以，首先，要祝我们所有的老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节日快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钢-爱的纪念.mp3" descr=""/>
          <p:cNvPicPr/>
          <p:nvPr/>
        </p:nvPicPr>
        <p:blipFill>
          <a:blip r:embed="rId2"/>
          <a:stretch/>
        </p:blipFill>
        <p:spPr>
          <a:xfrm>
            <a:off x="0" y="65451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258920" y="692280"/>
            <a:ext cx="6408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Comic Sans MS"/>
              </a:rPr>
              <a:t>每个人都有自己的老师，每个人的成长都要感谢自己的老师，这是有了这些默默无闻的灵魂工程师，才使得我们人民的素质不断提高，社会不断进步，在教师节即将来临之际，让我们一起感谢老师！他们是让我们最感动的人。。。。。。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罗密欧与朱丽叶.MP3" descr=""/>
          <p:cNvPicPr/>
          <p:nvPr/>
        </p:nvPicPr>
        <p:blipFill>
          <a:blip r:embed="rId1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popop"/>
          <p:cNvPicPr/>
          <p:nvPr/>
        </p:nvPicPr>
        <p:blipFill>
          <a:blip r:embed="rId2"/>
          <a:stretch/>
        </p:blipFill>
        <p:spPr>
          <a:xfrm>
            <a:off x="0" y="-16668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bell_left"/>
          <p:cNvPicPr/>
          <p:nvPr/>
        </p:nvPicPr>
        <p:blipFill>
          <a:blip r:embed="rId3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bell_right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OOK9"/>
          <p:cNvPicPr/>
          <p:nvPr/>
        </p:nvPicPr>
        <p:blipFill>
          <a:blip r:embed="rId5"/>
          <a:stretch/>
        </p:blipFill>
        <p:spPr>
          <a:xfrm>
            <a:off x="0" y="5343480"/>
            <a:ext cx="1828800" cy="1514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692360" y="256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dff"/>
                </a:solidFill>
                <a:latin typeface="Comic Sans MS"/>
              </a:rPr>
              <a:t>下面让我们一起欣赏诗朗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教师节朗诵.mp3" descr=""/>
          <p:cNvPicPr/>
          <p:nvPr/>
        </p:nvPicPr>
        <p:blipFill>
          <a:blip r:embed="rId6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教师节朗诵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7408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7408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1988640"/>
            <a:ext cx="687096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Comic Sans MS"/>
              </a:rPr>
              <a:t>一首诗不足表达我们对老师的感谢，让我们一同欣赏下面的诗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8024760" y="522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696080" y="1066680"/>
            <a:ext cx="140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08000" y="981000"/>
            <a:ext cx="60487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教师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别人从生活中捞取黄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只能获取花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黄金是早晨的太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银子是十五的月亮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但您依然快乐的吹着口哨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自豪是桃李芬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-9360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f66"/>
                </a:solidFill>
                <a:latin typeface="Times New Roman"/>
                <a:ea typeface="_x000b__x000c_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95280" y="909720"/>
            <a:ext cx="11764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用辛勤的汗水，浇灌今天的花朵。您用青春与生命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换取绚丽的未来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如慈祥的母亲，给我春天般的温暖。您如严厉的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亲，教我如何做人做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如一叶扁舟，载着我驶向知识的海洋。您如美丽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天使，使我从小插上理想的翅膀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xixi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333360"/>
            <a:ext cx="799308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Comic Sans MS"/>
              </a:rPr>
              <a:t>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我爱我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老师就象红烛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燃起了学生心中的火把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却燃烧了自己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直到红烛成灰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老师就象园丁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养育着我们这一株株花朵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却辛苦了自己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直到体力耗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啊！老师就是这么无私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啊！老师我们爱您！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4360" y="90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社会上流传着许多尊师对联故事，故事中的对联不仅妙趣横生，而且抒发了对教师的敬爱之情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0" y="220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马寅初先生是一位著名的教育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4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年在重庆庆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寿辰时，周恩来为他手书了一副对联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桃李增华坐帐无鹤；琴书作伴支床有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422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中国当代教育家陶行知一生忠诚于教育事业，郭沫若曾为他题写对联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332000" y="5157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教万教教人求真；千学万学学做真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eee</dc:creator>
  <dc:description/>
  <cp:keywords/>
  <dc:language>en-US</dc:language>
  <cp:lastModifiedBy>王玉清</cp:lastModifiedBy>
  <cp:lastPrinted>1899-12-30T00:00:00Z</cp:lastPrinted>
  <dcterms:modified xsi:type="dcterms:W3CDTF">2016-02-24T03:42:33Z</dcterms:modified>
  <cp:revision>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