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1362-16F3-47F8-8F72-E55E0360A03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1557-8D4D-4152-9108-3985D4B2F23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0FA-18B3-40B4-BAA7-A3CFBA52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27280" y="402228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D44-FF8C-4869-8791-D4AE7EAE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7484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484-42BA-4345-A91E-2C8EA9C1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000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308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62728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7000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308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B7D-9445-4C41-BE8C-87A2F863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CDC8-0CB6-43AF-9412-256EC323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44ED-7898-47CE-9315-A444CA25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8E0F-5CF4-4CD1-951E-60EE6856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D67D-F943-4BAA-8119-0483655C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2E13-EE27-4D69-AC29-AF6B0941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627280" y="274320"/>
            <a:ext cx="633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B5AC-4E48-453E-AC00-EF0660B8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2356-FBAD-4F11-BB26-CEE8AE93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798-26A2-4B09-BEF0-64AA87AA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7484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2DBE-29D0-4B68-94EB-2746434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8B29-FE26-4728-AE8B-2DA51933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27280" y="402228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1DD4-8FD8-4ED7-BF01-FBF3A4E9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7484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6E8-5682-464C-A458-E1257AFB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000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1308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2728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7000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1308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3512-23D2-4349-BAEE-8A7C868B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3ED-A819-473B-A87E-800974AE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1DB-AF54-4389-8E75-1F6CB738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A86-C29C-4ADE-B65E-DD4C94AB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274320"/>
            <a:ext cx="633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8BE-6CFA-43A7-973C-58EF63E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338-9EE3-42A8-B9D6-CD8C15A7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7484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8F9-A5BE-4783-92DA-CA5C9671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FAC-3DEC-416D-9C48-3E17E412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20520" y="-3240"/>
            <a:ext cx="2808360" cy="6861240"/>
          </a:xfrm>
          <a:custGeom>
            <a:avLst/>
            <a:gdLst/>
            <a:ahLst/>
            <a:rect l="l" t="t" r="r" b="b"/>
            <a:pathLst>
              <a:path w="1225" h="1483">
                <a:moveTo>
                  <a:pt x="1225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483"/>
                  <a:pt x="0" y="1483"/>
                  <a:pt x="0" y="1483"/>
                </a:cubicBezTo>
                <a:cubicBezTo>
                  <a:pt x="1132" y="1483"/>
                  <a:pt x="1132" y="1483"/>
                  <a:pt x="1132" y="1483"/>
                </a:cubicBezTo>
                <a:cubicBezTo>
                  <a:pt x="1132" y="1483"/>
                  <a:pt x="679" y="793"/>
                  <a:pt x="1225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3320" y="65023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965B-CA13-4D38-B413-5DB6B7F067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23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023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74EF-F952-4350-B9CB-CAD7A5909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389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078C-5270-460F-9DBD-41DCB6191D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389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389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21C2-9C5E-4A7A-8FB3-A8A93C424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40000" y="1412640"/>
            <a:ext cx="6300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Arial"/>
              </a:rPr>
              <a:t>教育通用</a:t>
            </a: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70c0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78040" y="2373120"/>
            <a:ext cx="51894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3"/>
          <p:cNvSpPr/>
          <p:nvPr/>
        </p:nvSpPr>
        <p:spPr>
          <a:xfrm>
            <a:off x="193680" y="65023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5692-E48A-45DD-ACFA-FEFC4F206E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5"/>
          <p:cNvSpPr/>
          <p:nvPr/>
        </p:nvSpPr>
        <p:spPr>
          <a:xfrm>
            <a:off x="6781680" y="65023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C1DD-46B5-49FB-A0B5-CDB240586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单击此处添加标题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09:57:15Z</dcterms:created>
  <dc:creator>Rhea</dc:creator>
  <dc:description>www.nordridesign.cn
</dc:description>
  <dc:language>en-US</dc:language>
  <cp:lastModifiedBy>王玉清</cp:lastModifiedBy>
  <dcterms:modified xsi:type="dcterms:W3CDTF">2016-02-21T07:24:26Z</dcterms:modified>
  <cp:revision>17</cp:revision>
  <dc:subject/>
  <dc:title>教育模板</dc:title>
</cp:coreProperties>
</file>