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4EA5-39E1-493A-85E3-1A93DC7C4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B349-591F-4C55-B7E0-31BF7E6D3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6454-CB3C-4B60-A1DD-AA6F9A4E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BC64-D2CE-49C6-8550-1892B40D4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C645-DB64-47C7-9CF1-04CF658F6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620A-E5E4-47B8-B4F6-F08CBE84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252B-A4F5-4B1F-9E9C-D0A6095DE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9E6F-4CBD-4D7C-86D2-D496CBEB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CF81-205D-4FFE-B223-DA8AC1FE4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36C9-B8CF-4C6F-BCA0-02C938158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B2B5-58EC-4B1D-8F98-40CA0D24F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E8BF-8D06-4DBF-B2AA-F65C775A5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38000" y="6327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615F4CE-CB5A-409A-95F0-DC6249FB631A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7"/>
          <p:cNvSpPr/>
          <p:nvPr/>
        </p:nvSpPr>
        <p:spPr>
          <a:xfrm>
            <a:off x="728964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s.ruideppt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865080" y="4941720"/>
            <a:ext cx="2338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78160" y="39319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92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桔子背景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">
            <a:hlinkClick r:id="rId1"/>
          </p:cNvPr>
          <p:cNvSpPr/>
          <p:nvPr/>
        </p:nvSpPr>
        <p:spPr>
          <a:xfrm>
            <a:off x="4932360" y="642312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网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73836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27B5707-71FD-4B3D-8EDC-1D2EB7716D5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王玉清</cp:lastModifiedBy>
  <dcterms:modified xsi:type="dcterms:W3CDTF">2016-02-22T02:57:36Z</dcterms:modified>
  <cp:revision>226</cp:revision>
  <dc:subject/>
  <dc:title>PowerPoint Template</dc:title>
</cp:coreProperties>
</file>