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media3.m4a" ContentType="audio/mp4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media3.m4a"/><Relationship Id="rId4" Type="http://schemas.microsoft.com/office/2007/relationships/media" Target="../media/media3.m4a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dcc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圆角矩形 1123"/>
          <p:cNvSpPr/>
          <p:nvPr/>
        </p:nvSpPr>
        <p:spPr>
          <a:xfrm>
            <a:off x="2474280" y="2989800"/>
            <a:ext cx="7243200" cy="1151640"/>
          </a:xfrm>
          <a:prstGeom prst="roundRect">
            <a:avLst>
              <a:gd name="adj" fmla="val 50000"/>
            </a:avLst>
          </a:prstGeom>
          <a:solidFill>
            <a:srgbClr val="fce399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矩形 1148"/>
          <p:cNvSpPr/>
          <p:nvPr/>
        </p:nvSpPr>
        <p:spPr>
          <a:xfrm rot="16200000">
            <a:off x="-2413800" y="-767160"/>
            <a:ext cx="1158480" cy="8616960"/>
          </a:xfrm>
          <a:prstGeom prst="rect">
            <a:avLst/>
          </a:pr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任意多边形 147"/>
          <p:cNvSpPr/>
          <p:nvPr/>
        </p:nvSpPr>
        <p:spPr>
          <a:xfrm>
            <a:off x="9000000" y="349380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任意多边形 148"/>
          <p:cNvSpPr/>
          <p:nvPr/>
        </p:nvSpPr>
        <p:spPr>
          <a:xfrm rot="14999400">
            <a:off x="9030600" y="356544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任意多边形 149"/>
          <p:cNvSpPr/>
          <p:nvPr/>
        </p:nvSpPr>
        <p:spPr>
          <a:xfrm rot="17292600">
            <a:off x="8995320" y="345024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任意多边形 150"/>
          <p:cNvSpPr/>
          <p:nvPr/>
        </p:nvSpPr>
        <p:spPr>
          <a:xfrm rot="8763600">
            <a:off x="9034560" y="345204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任意多边形 151"/>
          <p:cNvSpPr/>
          <p:nvPr/>
        </p:nvSpPr>
        <p:spPr>
          <a:xfrm rot="11577000">
            <a:off x="8980560" y="354708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3941400">
            <a:off x="9044640" y="3470040"/>
            <a:ext cx="320040" cy="311760"/>
          </a:xfrm>
          <a:custGeom>
            <a:avLst/>
            <a:gdLst>
              <a:gd name="textAreaLeft" fmla="*/ 0 w 320040"/>
              <a:gd name="textAreaRight" fmla="*/ 320400 w 320040"/>
              <a:gd name="textAreaTop" fmla="*/ 0 h 311760"/>
              <a:gd name="textAreaBottom" fmla="*/ 312120 h 311760"/>
            </a:gdLst>
            <a:ahLst/>
            <a:rect l="textAreaLeft" t="textAreaTop" r="textAreaRight" b="textAreaBottom"/>
            <a:pathLst>
              <a:path w="1401493" h="1364787">
                <a:moveTo>
                  <a:pt x="1401493" y="1364787"/>
                </a:moveTo>
                <a:cubicBezTo>
                  <a:pt x="1381828" y="951833"/>
                  <a:pt x="1232833" y="344877"/>
                  <a:pt x="1077029" y="155419"/>
                </a:cubicBezTo>
                <a:cubicBezTo>
                  <a:pt x="584660" y="-115157"/>
                  <a:pt x="-420499" y="-145221"/>
                  <a:pt x="192126" y="1010825"/>
                </a:cubicBezTo>
                <a:cubicBezTo>
                  <a:pt x="666721" y="1354009"/>
                  <a:pt x="968875" y="1276297"/>
                  <a:pt x="1401493" y="1364787"/>
                </a:cubicBezTo>
                <a:close/>
              </a:path>
            </a:pathLst>
          </a:custGeom>
          <a:solidFill>
            <a:srgbClr val="fe4d0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图片 1150" descr=""/>
          <p:cNvPicPr/>
          <p:nvPr/>
        </p:nvPicPr>
        <p:blipFill>
          <a:blip r:embed="rId1"/>
          <a:stretch/>
        </p:blipFill>
        <p:spPr>
          <a:xfrm>
            <a:off x="0" y="6480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3" descr=""/>
          <p:cNvPicPr/>
          <p:nvPr/>
        </p:nvPicPr>
        <p:blipFill>
          <a:blip r:embed="rId2"/>
          <a:stretch/>
        </p:blipFill>
        <p:spPr>
          <a:xfrm>
            <a:off x="2453400" y="2997360"/>
            <a:ext cx="7284960" cy="1199160"/>
          </a:xfrm>
          <a:prstGeom prst="rect">
            <a:avLst/>
          </a:prstGeom>
          <a:ln w="0">
            <a:noFill/>
          </a:ln>
        </p:spPr>
      </p:pic>
      <p:sp>
        <p:nvSpPr>
          <p:cNvPr id="46" name="椭圆 1124"/>
          <p:cNvSpPr/>
          <p:nvPr/>
        </p:nvSpPr>
        <p:spPr>
          <a:xfrm>
            <a:off x="8529840" y="3016440"/>
            <a:ext cx="1164960" cy="1164960"/>
          </a:xfrm>
          <a:prstGeom prst="ellipse">
            <a:avLst/>
          </a:prstGeom>
          <a:solidFill>
            <a:srgbClr val="fe4d0e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7" name="组合 1131"/>
          <p:cNvGrpSpPr/>
          <p:nvPr/>
        </p:nvGrpSpPr>
        <p:grpSpPr>
          <a:xfrm>
            <a:off x="8745840" y="3195000"/>
            <a:ext cx="777960" cy="753840"/>
            <a:chOff x="8745840" y="3195000"/>
            <a:chExt cx="777960" cy="753840"/>
          </a:xfrm>
        </p:grpSpPr>
        <p:sp>
          <p:nvSpPr>
            <p:cNvPr id="48" name="任意多边形 1128"/>
            <p:cNvSpPr/>
            <p:nvPr/>
          </p:nvSpPr>
          <p:spPr>
            <a:xfrm>
              <a:off x="8753760" y="3195000"/>
              <a:ext cx="366480" cy="3567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401493" h="1364787">
                  <a:moveTo>
                    <a:pt x="1401493" y="1364787"/>
                  </a:moveTo>
                  <a:cubicBezTo>
                    <a:pt x="1381828" y="951833"/>
                    <a:pt x="1232833" y="344877"/>
                    <a:pt x="1077029" y="155419"/>
                  </a:cubicBezTo>
                  <a:cubicBezTo>
                    <a:pt x="584660" y="-115157"/>
                    <a:pt x="-420499" y="-145221"/>
                    <a:pt x="192126" y="1010825"/>
                  </a:cubicBezTo>
                  <a:cubicBezTo>
                    <a:pt x="666721" y="1354009"/>
                    <a:pt x="968875" y="1276297"/>
                    <a:pt x="1401493" y="136478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任意多边形 144"/>
            <p:cNvSpPr/>
            <p:nvPr/>
          </p:nvSpPr>
          <p:spPr>
            <a:xfrm flipH="1">
              <a:off x="9146160" y="3195000"/>
              <a:ext cx="366480" cy="3567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1401493" h="1364787">
                  <a:moveTo>
                    <a:pt x="1401493" y="1364787"/>
                  </a:moveTo>
                  <a:cubicBezTo>
                    <a:pt x="1381828" y="951833"/>
                    <a:pt x="1232833" y="344877"/>
                    <a:pt x="1077029" y="155419"/>
                  </a:cubicBezTo>
                  <a:cubicBezTo>
                    <a:pt x="584660" y="-115157"/>
                    <a:pt x="-420499" y="-145221"/>
                    <a:pt x="192126" y="1010825"/>
                  </a:cubicBezTo>
                  <a:cubicBezTo>
                    <a:pt x="666721" y="1354009"/>
                    <a:pt x="968875" y="1276297"/>
                    <a:pt x="1401493" y="136478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任意多边形 145"/>
            <p:cNvSpPr/>
            <p:nvPr/>
          </p:nvSpPr>
          <p:spPr>
            <a:xfrm flipV="1">
              <a:off x="8745840" y="3591720"/>
              <a:ext cx="366480" cy="3567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-360 h 356760"/>
                <a:gd name="textAreaBottom" fmla="*/ 356760 h 356760"/>
              </a:gdLst>
              <a:ahLst/>
              <a:rect l="textAreaLeft" t="textAreaTop" r="textAreaRight" b="textAreaBottom"/>
              <a:pathLst>
                <a:path w="1401493" h="1364787">
                  <a:moveTo>
                    <a:pt x="1401493" y="1364787"/>
                  </a:moveTo>
                  <a:cubicBezTo>
                    <a:pt x="1381828" y="951833"/>
                    <a:pt x="1232833" y="344877"/>
                    <a:pt x="1077029" y="155419"/>
                  </a:cubicBezTo>
                  <a:cubicBezTo>
                    <a:pt x="584660" y="-115157"/>
                    <a:pt x="-420499" y="-145221"/>
                    <a:pt x="192126" y="1010825"/>
                  </a:cubicBezTo>
                  <a:cubicBezTo>
                    <a:pt x="666721" y="1354009"/>
                    <a:pt x="968875" y="1276297"/>
                    <a:pt x="1401493" y="136478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任意多边形 146"/>
            <p:cNvSpPr/>
            <p:nvPr/>
          </p:nvSpPr>
          <p:spPr>
            <a:xfrm flipH="1" flipV="1">
              <a:off x="9157320" y="3591720"/>
              <a:ext cx="366480" cy="3567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-360 h 356760"/>
                <a:gd name="textAreaBottom" fmla="*/ 356760 h 356760"/>
              </a:gdLst>
              <a:ahLst/>
              <a:rect l="textAreaLeft" t="textAreaTop" r="textAreaRight" b="textAreaBottom"/>
              <a:pathLst>
                <a:path w="1401493" h="1364787">
                  <a:moveTo>
                    <a:pt x="1401493" y="1364787"/>
                  </a:moveTo>
                  <a:cubicBezTo>
                    <a:pt x="1381828" y="951833"/>
                    <a:pt x="1232833" y="344877"/>
                    <a:pt x="1077029" y="155419"/>
                  </a:cubicBezTo>
                  <a:cubicBezTo>
                    <a:pt x="584660" y="-115157"/>
                    <a:pt x="-420499" y="-145221"/>
                    <a:pt x="192126" y="1010825"/>
                  </a:cubicBezTo>
                  <a:cubicBezTo>
                    <a:pt x="666721" y="1354009"/>
                    <a:pt x="968875" y="1276297"/>
                    <a:pt x="1401493" y="1364787"/>
                  </a:cubicBez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椭圆 1130"/>
            <p:cNvSpPr/>
            <p:nvPr/>
          </p:nvSpPr>
          <p:spPr>
            <a:xfrm>
              <a:off x="9112680" y="3554280"/>
              <a:ext cx="44280" cy="44280"/>
            </a:xfrm>
            <a:prstGeom prst="ellipse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tIns="15480" bIns="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" name="文本框 1"/>
          <p:cNvSpPr/>
          <p:nvPr/>
        </p:nvSpPr>
        <p:spPr>
          <a:xfrm>
            <a:off x="5007240" y="2116440"/>
            <a:ext cx="2983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e4d0e"/>
                </a:solidFill>
                <a:latin typeface="微软雅黑"/>
                <a:ea typeface="微软雅黑"/>
              </a:rPr>
              <a:t>正在加载</a:t>
            </a:r>
            <a:r>
              <a:rPr b="0" lang="en-US" sz="3200" spc="-1" strike="noStrike">
                <a:solidFill>
                  <a:srgbClr val="fe4d0e"/>
                </a:solidFill>
                <a:latin typeface="Wingdings 2"/>
                <a:ea typeface="微软雅黑"/>
              </a:rPr>
              <a:t>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embed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1123920" y="45925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0"/>
          <p:cNvSpPr/>
          <p:nvPr/>
        </p:nvSpPr>
        <p:spPr>
          <a:xfrm>
            <a:off x="5007240" y="4489920"/>
            <a:ext cx="2983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e4d0e"/>
                </a:solidFill>
                <a:latin typeface="微软雅黑"/>
                <a:ea typeface="微软雅黑"/>
              </a:rPr>
              <a:t>敬请期待</a:t>
            </a:r>
            <a:r>
              <a:rPr b="0" lang="en-US" sz="3200" spc="-1" strike="noStrike">
                <a:solidFill>
                  <a:srgbClr val="fe4d0e"/>
                </a:solidFill>
                <a:latin typeface="Wingdings 2"/>
                <a:ea typeface="微软雅黑"/>
              </a:rPr>
              <a:t>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"/>
          <p:cNvSpPr/>
          <p:nvPr/>
        </p:nvSpPr>
        <p:spPr>
          <a:xfrm>
            <a:off x="3563640" y="3207240"/>
            <a:ext cx="4345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加载动态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方正行楷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path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45833E-006 -4.44444E-006 L -1.45833E-006 0.00024 C -0.0026 -0.00463 -0.00495 -0.00925 -0.00768 -0.01365 C -0.00872 -0.01527 -0.01614 -0.02314 -0.0164 -0.02314 C -0.01849 -0.025 -0.0207 -0.02569 -0.02292 -0.02708 C -0.02474 -0.02824 -0.02643 -0.03009 -0.02838 -0.03101 C -0.03086 -0.03217 -0.03346 -0.03217 -0.03594 -0.03287 C -0.04088 -0.03449 -0.04531 -0.03657 -0.05013 -0.03865 L -0.07174 -0.03101 C -0.07292 -0.03055 -0.07396 -0.02986 -0.07513 -0.02916 C -0.07838 -0.02662 -0.08528 -0.0206 -0.08919 -0.01944 L -0.10117 -0.0155 C -0.1026 -0.01504 -0.10403 -0.01388 -0.10547 -0.01365 C -0.11276 -0.0125 -0.12005 -0.01226 -0.12721 -0.01157 C -0.1319 -0.01226 -0.13672 -0.01226 -0.1414 -0.01365 C -0.14362 -0.01435 -0.1457 -0.0162 -0.14792 -0.01759 C -0.15573 -0.02245 -0.16068 -0.02314 -0.1664 -0.03101 C -0.16862 -0.03402 -0.17083 -0.03703 -0.17292 -0.04074 C -0.17383 -0.04236 -0.17422 -0.04467 -0.17513 -0.04652 C -0.18177 -0.0618 -0.17838 -0.05694 -0.18919 -0.0618 L -0.19349 -0.06365 C -0.19752 -0.06319 -0.20846 -0.06296 -0.21419 -0.05995 C -0.23112 -0.05069 -0.21601 -0.05648 -0.22838 -0.05231 C -0.23372 -0.04652 -0.23841 -0.04166 -0.24362 -0.03495 C -0.24479 -0.0331 -0.2457 -0.03078 -0.24674 -0.02916 C -0.24896 -0.02569 -0.25482 -0.01689 -0.25768 -0.01365 C -0.26159 -0.00902 -0.26562 -0.00439 -0.26966 -4.44444E-006 C -0.27096 0.00139 -0.27252 0.00278 -0.27409 0.00371 C -0.27578 0.00487 -0.2776 0.00487 -0.27943 0.00556 C -0.28086 0.00625 -0.28242 0.00695 -0.28372 0.00764 L -0.33594 0.00371 C -0.34219 0.00301 -0.33854 0.00162 -0.34349 -0.00208 C -0.35664 -0.0118 -0.34948 -0.0037 -0.35768 -0.01157 C -0.36028 -0.01412 -0.36276 -0.01666 -0.36523 -0.01944 C -0.3664 -0.0206 -0.36732 -0.02245 -0.36849 -0.02314 C -0.36992 -0.0243 -0.37148 -0.02453 -0.37292 -0.02523 C -0.37396 -0.02569 -0.375 -0.02662 -0.37617 -0.02708 C -0.38411 -0.02986 -0.39206 -0.03217 -0.40013 -0.03495 L -0.43047 -0.03287 C -0.43502 -0.03148 -0.43867 -0.02569 -0.44245 -0.02129 C -0.44726 -0.01597 -0.4526 -0.01111 -0.45664 -0.00393 C -0.45729 -0.00277 -0.45794 -0.00115 -0.45872 -4.44444E-006 C -0.45976 0.00093 -0.46094 0.00116 -0.46198 0.00186 C -0.47292 0.00047 -0.48372 -0.00023 -0.49466 -0.00208 C -0.49583 -0.00231 -0.49674 -0.00347 -0.49792 -0.00393 C -0.49974 -0.00486 -0.50156 -0.00532 -0.50338 -0.00601 C -0.50403 -0.00717 -0.50456 -0.00879 -0.50547 -0.00972 C -0.51693 -0.02175 -0.51276 -0.01736 -0.5207 -0.02129 C -0.52187 -0.02199 -0.52292 -0.02291 -0.52396 -0.02314 C -0.52643 -0.02407 -0.52903 -0.02453 -0.53164 -0.02523 C -0.53489 -0.02384 -0.53815 -0.02245 -0.5414 -0.02129 C -0.54388 -0.0206 -0.54648 -0.02083 -0.54896 -0.01944 C -0.55456 -0.0162 -0.55989 -0.01157 -0.56523 -0.00787 C -0.5664 -0.00717 -0.56745 -0.00671 -0.56849 -0.00601 C -0.57005 -0.00486 -0.57148 -0.00347 -0.57292 -0.00208 C -0.57409 -0.00092 -0.575 0.00093 -0.57617 0.00186 C -0.57656 0.00209 -0.58724 0.0088 -0.59023 0.0095 C -0.59466 0.01042 -0.59896 0.01088 -0.60338 0.01158 C -0.60599 0.01112 -0.61601 0.01181 -0.6207 0.00764 C -0.62122 0.00718 -0.62148 0.00625 -0.62174 0.00556 L -0.62174 0.00579 E">
                                      <p:cBhvr>
                                        <p:cTn id="8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0" dur="75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path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08333E-006 4.07407E-006 L -2.08333E-006 0.00023 C -0.00703 -0.00139 -0.01458 -0.00394 -0.02161 4.07407E-006 C -0.02812 0.0037 -0.03385 0.01111 -0.0401 0.01551 C -0.04297 0.01759 -0.04596 0.01828 -0.04883 0.01944 C -0.05716 0.02245 -0.05247 0.02083 -0.06302 0.02338 C -0.075 0.02268 -0.08685 0.02245 -0.09883 0.02129 C -0.10039 0.02129 -0.10195 0.02106 -0.10325 0.01944 C -0.11185 0.0074 -0.11497 -0.00278 -0.12057 -0.01922 C -0.12148 -0.02176 -0.12226 -0.02431 -0.12278 -0.02709 C -0.12513 -0.04005 -0.12331 -0.04885 -0.12929 -0.05602 C -0.13021 -0.05718 -0.13151 -0.05718 -0.13255 -0.05787 C -0.13685 -0.05718 -0.14127 -0.05695 -0.14557 -0.05602 C -0.14674 -0.05579 -0.14791 -0.0551 -0.14883 -0.05394 C -0.14974 -0.05301 -0.15013 -0.05116 -0.15104 -0.05024 C -0.15495 -0.04584 -0.15911 -0.04283 -0.16302 -0.03866 C -0.1638 -0.0375 -0.16432 -0.03588 -0.1651 -0.03473 C -0.16836 -0.03056 -0.172 -0.02755 -0.175 -0.02315 C -0.17747 -0.01922 -0.17956 -0.01436 -0.18255 -0.01158 C -0.18919 -0.00533 -0.19765 -0.00024 -0.20534 0.00208 C -0.2082 0.00277 -0.2112 0.00324 -0.21406 0.00393 C -0.22526 0.00324 -0.23659 0.00439 -0.24778 0.00208 C -0.25338 0.00069 -0.25794 -0.00579 -0.26302 -0.00949 C -0.26406 -0.01042 -0.2651 -0.01088 -0.26627 -0.01158 C -0.2707 -0.01667 -0.27487 -0.02199 -0.27929 -0.02709 C -0.28073 -0.02848 -0.28229 -0.02917 -0.28372 -0.03079 C -0.30495 -0.05602 -0.29219 -0.04422 -0.30325 -0.05394 C -0.3039 -0.05533 -0.30456 -0.05695 -0.30547 -0.05787 C -0.30976 -0.0625 -0.31706 -0.05857 -0.32057 -0.05787 C -0.32317 -0.05487 -0.32591 -0.05186 -0.32825 -0.04815 C -0.3319 -0.0426 -0.33541 -0.03658 -0.33906 -0.03079 C -0.34049 -0.02871 -0.34219 -0.02732 -0.34349 -0.025 C -0.35117 -0.01019 -0.34817 -0.00996 -0.35534 -0.00186 C -0.35677 -0.00024 -0.35833 0.00069 -0.35976 0.00208 C -0.36081 0.00324 -0.36185 0.00486 -0.36302 0.00578 C -0.36523 0.00763 -0.37239 0.01273 -0.37604 0.01365 C -0.37969 0.01458 -0.38333 0.01481 -0.38685 0.01551 C -0.39049 0.01481 -0.39427 0.01481 -0.39778 0.01365 C -0.39974 0.01296 -0.40143 0.01088 -0.40325 0.00972 C -0.40429 0.00902 -0.40534 0.00856 -0.40651 0.00787 C -0.40833 0.00532 -0.41015 0.00277 -0.41185 4.07407E-006 C -0.41263 -0.00116 -0.41328 -0.00255 -0.41406 -0.00371 C -0.41588 -0.00649 -0.41771 -0.0088 -0.41953 -0.01158 C -0.42031 -0.01274 -0.42096 -0.01412 -0.42174 -0.01528 C -0.42461 -0.01991 -0.42747 -0.02431 -0.43034 -0.02894 C -0.43502 -0.03635 -0.43242 -0.03496 -0.43906 -0.04815 C -0.43997 -0.05 -0.44127 -0.0507 -0.44232 -0.05209 C -0.4431 -0.05394 -0.44349 -0.05649 -0.44453 -0.05787 C -0.44544 -0.05926 -0.44661 -0.05996 -0.44778 -0.05973 C -0.45247 -0.05926 -0.45716 -0.05718 -0.46185 -0.05602 C -0.46627 -0.05348 -0.47083 -0.05162 -0.475 -0.04815 C -0.48802 -0.03774 -0.48281 -0.04098 -0.49023 -0.03658 C -0.49127 -0.03542 -0.49232 -0.03403 -0.49349 -0.03287 C -0.497 -0.02894 -0.5013 -0.02639 -0.50429 -0.02107 C -0.50755 -0.01551 -0.50547 -0.01783 -0.51081 -0.01528 C -0.51263 -0.01274 -0.51432 -0.00973 -0.51627 -0.00764 C -0.51719 -0.00649 -0.51849 -0.00649 -0.51953 -0.00579 C -0.52278 -0.00324 -0.52604 -0.00047 -0.52929 0.00208 C -0.53008 0.00324 -0.53047 0.00532 -0.53151 0.00578 C -0.53737 0.00972 -0.54557 0.00671 -0.55104 0.00578 C -0.55208 0.00532 -0.55325 0.00463 -0.55429 0.00393 C -0.56341 -0.00232 -0.57187 -0.01204 -0.58151 -0.01528 L -0.58698 -0.01737 C -0.59674 -0.02616 -0.59778 -0.02755 -0.61406 -0.03473 C -0.61692 -0.03588 -0.62005 -0.03612 -0.62278 -0.03866 C -0.62591 -0.04144 -0.62721 -0.04283 -0.63034 -0.04445 C -0.63073 -0.04445 -0.63112 -0.04445 -0.63151 -0.04445 L -0.63359 -0.0463 E">
                                      <p:cBhvr>
                                        <p:cTn id="12" dur="2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14" dur="75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path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08333E-006 -3.7037E-006 L 2.08333E-006 0.00024 C -0.00182 -0.00509 -0.00326 -0.01088 -0.00547 -0.01551 C -0.00925 -0.02268 -0.01367 -0.02407 -0.01849 -0.02708 C -0.03008 -0.02569 -0.0418 -0.02592 -0.05339 -0.02314 C -0.06328 -0.02083 -0.07279 -0.01389 -0.08268 -0.01157 C -0.0961 -0.00856 -0.08841 -0.00995 -0.10547 -0.00764 L -0.14896 -0.00972 C -0.15196 -0.00995 -0.15482 -0.01088 -0.15768 -0.01157 L -0.16745 -0.01342 C -0.16927 -0.01481 -0.1711 -0.01643 -0.17292 -0.01736 C -0.18073 -0.02152 -0.18516 -0.01851 -0.19466 -0.01736 C -0.19688 -0.01412 -0.19922 -0.01134 -0.20117 -0.00764 C -0.21406 0.01505 -0.1918 -0.01851 -0.2099 0.00973 C -0.21081 0.01111 -0.21198 0.0125 -0.21315 0.01343 C -0.21524 0.01574 -0.21745 0.01783 -0.21966 0.01922 C -0.2211 0.02037 -0.22253 0.02084 -0.22396 0.0213 C -0.228 0.02269 -0.23203 0.02385 -0.23594 0.02524 C -0.24505 0.02385 -0.2543 0.02361 -0.26315 0.0213 C -0.26446 0.02084 -0.26524 0.01829 -0.26641 0.01736 C -0.26784 0.01644 -0.2694 0.01644 -0.27071 0.01551 C -0.27409 0.0132 -0.27722 0.00996 -0.2806 0.00764 C -0.2862 0.00417 -0.29219 0.00139 -0.29792 -0.00185 C -0.30013 -0.00324 -0.30222 -0.00439 -0.30443 -0.00578 C -0.30664 -0.00717 -0.30873 -0.00926 -0.31094 -0.00972 L -0.32292 -0.01157 C -0.3306 -0.01088 -0.33815 -0.01111 -0.34571 -0.00972 C -0.35039 -0.00879 -0.35143 -0.00393 -0.3556 -0.00185 C -0.36328 0.00209 -0.36927 0.00255 -0.37735 0.00394 C -0.40378 0.00232 -0.40547 0.0051 -0.42513 -0.00185 C -0.4263 -0.00231 -0.42735 -0.00301 -0.42839 -0.00393 C -0.43164 -0.00625 -0.4349 -0.00902 -0.43815 -0.01157 C -0.4418 -0.01435 -0.44284 -0.01342 -0.44688 -0.01736 C -0.45026 -0.02083 -0.45287 -0.02685 -0.45664 -0.02893 C -0.4668 -0.03495 -0.45 -0.02453 -0.46537 -0.03657 C -0.46667 -0.03773 -0.46823 -0.03796 -0.46966 -0.03865 C -0.47331 -0.03796 -0.47696 -0.0375 -0.4806 -0.03657 C -0.48203 -0.03634 -0.4836 -0.03611 -0.4849 -0.03472 C -0.49844 -0.02129 -0.48503 -0.03287 -0.49258 -0.02129 C -0.49531 -0.01689 -0.50209 -0.01018 -0.50573 -0.00764 C -0.5069 -0.00671 -0.50847 -0.00648 -0.5099 -0.00578 C -0.51211 -0.00463 -0.51432 -0.00324 -0.51641 -0.00185 C -0.52474 -0.00254 -0.53321 -0.00115 -0.54141 -0.00393 C -0.54505 -0.00509 -0.54792 -0.01064 -0.55117 -0.01342 C -0.55222 -0.01435 -0.55339 -0.01481 -0.55443 -0.01551 C -0.55703 -0.0199 -0.55886 -0.02338 -0.56211 -0.02708 C -0.56485 -0.03009 -0.56797 -0.03194 -0.57084 -0.03472 C -0.57188 -0.03588 -0.57279 -0.03773 -0.57409 -0.03865 C -0.57604 -0.04004 -0.5836 -0.04213 -0.5849 -0.04236 C -0.58776 -0.04328 -0.59076 -0.04421 -0.59362 -0.04444 C -0.61719 -0.0456 -0.64076 -0.0456 -0.66432 -0.04629 C -0.66901 -0.04838 -0.66719 -0.04814 -0.66966 -0.04814 L -0.67617 -0.04814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childTnLst>
                                    <p:animRot by="21600000">
                                      <p:cBhvr>
                                        <p:cTn id="18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16667E-007 -4.81481E-006 L 4.16667E-007 0.00024 C -0.00247 -0.00462 -0.00521 -0.00856 -0.00755 -0.01365 C -0.00859 -0.01574 -0.00859 -0.01921 -0.00977 -0.02129 C -0.01224 -0.02592 -0.01589 -0.02824 -0.01836 -0.03287 C -0.02318 -0.0412 -0.02109 -0.03842 -0.02826 -0.04652 C -0.02995 -0.04837 -0.03164 -0.05092 -0.03359 -0.05231 C -0.03542 -0.05347 -0.03724 -0.05347 -0.03906 -0.05416 C -0.0401 -0.05601 -0.04089 -0.05902 -0.04232 -0.05995 C -0.05742 -0.07037 -0.0681 -0.0574 -0.08477 -0.05023 C -0.0862 -0.04837 -0.08763 -0.04652 -0.08906 -0.04444 C -0.09063 -0.04212 -0.0918 -0.03888 -0.09336 -0.0368 C -0.09466 -0.03495 -0.09635 -0.03425 -0.09792 -0.03287 C -0.09961 -0.02893 -0.10091 -0.02384 -0.10313 -0.02129 C -0.1082 -0.01597 -0.11458 -0.0155 -0.11953 -0.00972 C -0.12578 -0.00231 -0.11927 -0.00879 -0.12813 -0.00393 C -0.13229 -0.00162 -0.1362 0.00093 -0.1401 0.00371 C -0.14167 0.00487 -0.14297 0.00695 -0.14453 0.00764 C -0.14661 0.0088 -0.14883 0.00903 -0.15104 0.00973 C -0.1612 0.00764 -0.17135 0.00672 -0.18138 0.00371 C -0.18268 0.00348 -0.18372 0.00139 -0.18464 -4.81481E-006 C -0.18737 -0.00439 -0.18971 -0.00902 -0.19232 -0.01365 C -0.1974 -0.02268 -0.19857 -0.02523 -0.20638 -0.03472 C -0.20742 -0.03611 -0.20859 -0.03611 -0.20964 -0.0368 C -0.21471 -0.04583 -0.22135 -0.0581 -0.22813 -0.05995 L -0.23594 -0.0618 L -0.26419 -0.05995 C -0.28516 -0.05277 -0.26966 -0.05231 -0.27721 -0.04444 C -0.27813 -0.04351 -0.2793 -0.04328 -0.28047 -0.04259 C -0.29349 -0.02407 -0.29479 -0.02013 -0.30755 -0.00787 C -0.30846 -0.00671 -0.30977 -0.00648 -0.31081 -0.00578 C -0.32122 0.00116 -0.31211 -0.00439 -0.31953 -4.81481E-006 C -0.32852 -0.00069 -0.33763 -0.00092 -0.34661 -0.00208 C -0.34818 -0.00208 -0.34961 -0.00324 -0.35104 -0.00393 C -0.3543 -0.00578 -0.35755 -0.00763 -0.36081 -0.00972 C -0.38151 -0.02384 -0.34323 -0.00069 -0.37161 -0.01736 C -0.37266 -0.01944 -0.3737 -0.02152 -0.37487 -0.02314 C -0.37878 -0.0287 -0.3832 -0.03287 -0.38685 -0.03865 C -0.40117 -0.06226 -0.37839 -0.03379 -0.39232 -0.05023 C -0.39336 -0.05486 -0.39453 -0.05925 -0.39557 -0.06388 C -0.39596 -0.06574 -0.39622 -0.06782 -0.39661 -0.06967 C -0.39727 -0.07222 -0.39766 -0.07523 -0.39883 -0.07731 C -0.39961 -0.0787 -0.40104 -0.0787 -0.40208 -0.07916 C -0.41289 -0.07476 -0.42409 -0.07175 -0.43464 -0.06574 C -0.43802 -0.06388 -0.44063 -0.05601 -0.44336 -0.05231 C -0.46602 -0.02129 -0.45143 -0.0405 -0.46289 -0.02893 C -0.47057 -0.02152 -0.46563 -0.02453 -0.47266 -0.02129 C -0.47708 -0.02199 -0.48151 -0.02129 -0.48581 -0.02314 C -0.49271 -0.02662 -0.49857 -0.03148 -0.50417 -0.03865 C -0.50573 -0.0405 -0.50716 -0.04259 -0.50859 -0.04444 C -0.51641 -0.05439 -0.50742 -0.0405 -0.52057 -0.06388 L -0.52266 -0.06759 C -0.52565 -0.06643 -0.52865 -0.06574 -0.53138 -0.06388 C -0.53411 -0.06203 -0.53737 -0.05694 -0.5401 -0.05416 C -0.54518 -0.04884 -0.55 -0.04328 -0.55534 -0.03865 C -0.56732 -0.02847 -0.57682 -0.03194 -0.59115 -0.03101 C -0.6026 -0.03171 -0.6207 -0.02847 -0.63359 -0.0368 C -0.63477 -0.0375 -0.63568 -0.03935 -0.63685 -0.04074 C -0.6375 -0.04143 -0.63828 -0.04189 -0.63893 -0.04259 L -0.63893 -0.04236 E">
                                      <p:cBhvr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21600000">
                                      <p:cBhvr>
                                        <p:cTn id="22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repeatCount="indefinite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3.33333E-006 2.59259E-006 L 3.33333E-006 0.00023 C -0.00078 -0.00602 -0.00144 -0.01181 -0.00222 -0.0176 C -0.00261 -0.02014 -0.00261 -0.02292 -0.00339 -0.02523 C -0.00378 -0.02685 -0.00469 -0.02801 -0.00547 -0.02917 C -0.00729 -0.03172 -0.00912 -0.03426 -0.01094 -0.03681 C -0.01172 -0.03797 -0.01211 -0.04005 -0.01315 -0.04074 C -0.01485 -0.04213 -0.0168 -0.0419 -0.01849 -0.0426 C -0.01966 -0.04306 -0.02071 -0.04398 -0.02175 -0.04468 C -0.03086 -0.04213 -0.04011 -0.04051 -0.04896 -0.03681 C -0.05104 -0.03611 -0.05261 -0.03287 -0.05443 -0.03102 C -0.05729 -0.02824 -0.06016 -0.0257 -0.06315 -0.02338 C -0.06485 -0.02176 -0.0668 -0.02084 -0.06849 -0.01945 C -0.07149 -0.01713 -0.07422 -0.01389 -0.07722 -0.01181 C -0.08008 -0.00972 -0.09115 -0.0081 -0.09245 -0.00787 C -0.11433 -0.00903 -0.12266 -0.0051 -0.14024 -0.01551 C -0.14323 -0.01736 -0.14584 -0.02431 -0.14792 -0.02709 C -0.14961 -0.0294 -0.15157 -0.03102 -0.15339 -0.0331 C -0.15912 -0.04005 -0.16394 -0.05093 -0.17071 -0.05417 C -0.17943 -0.0588 -0.17578 -0.05672 -0.18164 -0.05996 C -0.18451 -0.05949 -0.1875 -0.05949 -0.19024 -0.0581 C -0.1918 -0.05741 -0.19323 -0.05579 -0.19466 -0.05417 C -0.1987 -0.04931 -0.20261 -0.04398 -0.20664 -0.03889 L -0.2142 -0.02917 C -0.21563 -0.02732 -0.21719 -0.02547 -0.21849 -0.02338 C -0.22253 -0.0169 -0.22631 -0.00996 -0.23047 -0.00394 C -0.23282 -0.0007 -0.23542 2.59259000000007E-006 -0.23815 0.00185 C -0.24362 0.00555 -0.24896 0.00949 -0.25443 0.01342 C -0.25925 0.0169 -0.25886 0.01852 -0.2642 0.02106 C -0.28972 0.03403 -0.26589 0.02014 -0.27722 0.02708 C -0.28737 0.02639 -0.29753 0.02615 -0.30769 0.025 C -0.30925 0.02477 -0.31068 0.0243 -0.31198 0.02315 C -0.31706 0.01852 -0.34037 -0.00834 -0.34141 -0.00972 C -0.34284 -0.01181 -0.3444 -0.01343 -0.34571 -0.01551 C -0.34688 -0.01736 -0.34766 -0.02014 -0.34896 -0.0213 C -0.35352 -0.02593 -0.35847 -0.02894 -0.36315 -0.0331 C -0.36433 -0.03403 -0.36537 -0.03542 -0.36641 -0.03681 C -0.36719 -0.03797 -0.36758 -0.04005 -0.36849 -0.04074 C -0.37136 -0.0426 -0.37435 -0.04329 -0.37722 -0.04468 C -0.39245 -0.04236 -0.38854 -0.04468 -0.40339 -0.03496 C -0.40729 -0.03241 -0.41368 -0.02431 -0.41641 -0.0213 C -0.43321 -0.00394 -0.42774 -0.00764 -0.43698 -0.00209 C -0.43841 2.59258999999986E-006 -0.43972 0.00254 -0.44141 0.0037 C -0.44479 0.00648 -0.44857 0.00764 -0.45222 0.00949 C -0.45339 0.01018 -0.4543 0.01134 -0.45547 0.01157 C -0.46315 0.01273 -0.47071 0.01273 -0.47839 0.01342 C -0.48412 0.01203 -0.49011 0.01227 -0.49571 0.00949 C -0.49714 0.00879 -0.50469 -0.00162 -0.50664 -0.00394 C -0.51133 -0.01644 -0.51446 -0.02639 -0.52071 -0.03681 C -0.52266 -0.04005 -0.52461 -0.04375 -0.52722 -0.04468 C -0.53529 -0.04699 -0.53164 -0.0456 -0.53815 -0.04838 C -0.54427 -0.04722 -0.55052 -0.04699 -0.55664 -0.04468 C -0.56224 -0.04236 -0.56745 -0.0382 -0.57292 -0.03496 C -0.57396 -0.03426 -0.57513 -0.0338 -0.57618 -0.0331 C -0.58243 -0.02755 -0.58151 -0.02778 -0.59024 -0.02338 C -0.59714 -0.01991 -0.60391 -0.01574 -0.61094 -0.01366 L -0.62396 -0.00972 L -0.62722 -0.00787 L -0.62826 -0.00787 E">
                                      <p:cBhvr>
                                        <p:cTn id="2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6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3.95833E-006 -2.59259E-006 L 3.95833E-006 0.00023 C -0.00261 -0.0118 -0.00274 -0.01551 -0.00664 -0.025 C -0.00899 -0.03102 -0.01068 -0.03865 -0.0142 -0.04236 C -0.0224 -0.05115 -0.01771 -0.04653 -0.02839 -0.05578 C -0.03894 -0.05532 -0.04935 -0.05578 -0.0599 -0.05393 C -0.0612 -0.0537 -0.06185 -0.05092 -0.06315 -0.05 C -0.06446 -0.04907 -0.06602 -0.04884 -0.06745 -0.04815 C -0.07071 -0.04421 -0.07396 -0.04028 -0.07722 -0.03657 C -0.07904 -0.03449 -0.08112 -0.03333 -0.08269 -0.03078 C -0.09063 -0.01805 -0.08568 -0.00903 -0.10118 -2.59259E-006 C -0.10873 0.00463 -0.09961 -0.000920000000000001 -0.11315 0.00787 C -0.1142 0.00857 -0.11524 0.00926 -0.11641 0.00972 C -0.1181 0.01065 -0.11993 0.01111 -0.12175 0.01181 L -0.15222 0.00579 C -0.15443 0.00556 -0.15664 0.00533 -0.15873 0.00394 C -0.16185 0.00209 -0.16459 -0.00092 -0.16745 -0.0037 C -0.17149 -0.00787 -0.17592 -0.01157 -0.17943 -0.01736 C -0.18373 -0.0243 -0.18829 -0.03102 -0.19245 -0.03842 C -0.19636 -0.04537 -0.19753 -0.04815 -0.20222 -0.05393 C -0.20664 -0.05949 -0.2155 -0.0669 -0.21967 -0.06944 C -0.22305 -0.07153 -0.22683 -0.07199 -0.23047 -0.07315 C -0.23568 -0.07199 -0.24076 -0.07176 -0.24571 -0.06944 C -0.24753 -0.06852 -0.24844 -0.06528 -0.25 -0.06365 C -0.25482 -0.05856 -0.2556 -0.05833 -0.2599 -0.05578 C -0.26289 -0.05208 -0.2655 -0.04768 -0.26849 -0.04421 C -0.26967 -0.04328 -0.27071 -0.04328 -0.27175 -0.04236 C -0.27435 -0.04004 -0.27683 -0.03703 -0.27956 -0.03472 C -0.28594 -0.02824 -0.29701 -0.02083 -0.30235 -0.01921 C -0.31198 -0.0162 -0.30651 -0.01759 -0.31849 -0.01528 C -0.32644 -0.01597 -0.33451 -0.01551 -0.34245 -0.01736 C -0.34375 -0.01759 -0.34454 -0.0199 -0.34571 -0.02106 C -0.34714 -0.02245 -0.34857 -0.02361 -0.35 -0.025 C -0.353 -0.02801 -0.35573 -0.03148 -0.35873 -0.03472 C -0.36016 -0.03611 -0.36172 -0.0368 -0.36302 -0.03842 C -0.36602 -0.04213 -0.36888 -0.04629 -0.37175 -0.05 C -0.37318 -0.05208 -0.37435 -0.05509 -0.37605 -0.05578 L -0.38047 -0.05787 C -0.38269 -0.05972 -0.38451 -0.06319 -0.38698 -0.06365 C -0.39206 -0.06458 -0.39714 -0.06319 -0.40222 -0.06157 C -0.40352 -0.06134 -0.4043 -0.05903 -0.40547 -0.05787 C -0.40873 -0.05416 -0.41302 -0.05069 -0.41628 -0.04629 C -0.41967 -0.0419 -0.42266 -0.0368 -0.42605 -0.03264 C -0.43633 -0.02014 -0.42552 -0.03518 -0.43373 -0.02685 C -0.43776 -0.02268 -0.44141 -0.01713 -0.44571 -0.01342 C -0.44727 -0.01203 -0.44935 -0.01227 -0.45105 -0.01157 C -0.45326 -0.01041 -0.45547 -0.00879 -0.45756 -0.00764 C -0.46589 -0.00833 -0.47435 -0.00764 -0.48256 -0.00949 C -0.48724 -0.01065 -0.48881 -0.01597 -0.49245 -0.01921 C -0.49349 -0.02014 -0.49467 -0.02014 -0.49571 -0.02106 C -0.49974 -0.02523 -0.50352 -0.03032 -0.50756 -0.03472 C -0.50899 -0.03611 -0.51068 -0.0368 -0.51198 -0.03842 C -0.51315 -0.04004 -0.51407 -0.04259 -0.51524 -0.04421 C -0.51797 -0.04838 -0.51849 -0.04815 -0.52175 -0.05 C -0.52461 -0.04953 -0.52761 -0.04953 -0.53047 -0.04815 C -0.53269 -0.04699 -0.53425 -0.04305 -0.53581 -0.04051 C -0.53763 -0.03773 -0.53972 -0.03565 -0.54128 -0.03264 C -0.54219 -0.03102 -0.54258 -0.0287 -0.54349 -0.02685 C -0.54558 -0.02291 -0.54779 -0.01921 -0.55 -0.01528 C -0.55065 -0.01412 -0.55118 -0.01203 -0.55222 -0.01157 C -0.55795 -0.0081 -0.5543 -0.01018 -0.56302 -0.00578 C -0.57683 -0.00625 -0.59063 -0.00648 -0.6043 -0.00764 C -0.60586 -0.00764 -0.6073 -0.00856 -0.60873 -0.00949 C -0.61133 -0.01111 -0.61368 -0.01365 -0.61628 -0.01528 C -0.61836 -0.0169 -0.62071 -0.01736 -0.62279 -0.01921 C -0.62839 -0.02407 -0.62826 -0.02384 -0.63477 -0.03078 C -0.63763 -0.03379 -0.64102 -0.03611 -0.64349 -0.04051 C -0.64532 -0.04375 -0.6474 -0.04838 -0.65 -0.05 C -0.65065 -0.05046 -0.65144 -0.05 -0.65209 -0.05 L -0.65209 -0.04977 E">
                                      <p:cBhvr>
                                        <p:cTn id="28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30" dur="75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3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6.25E-007 0.00556 L 0.07044 0.00556 E">
                                      <p:cBhvr>
                                        <p:cTn id="32" dur="3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0.07174 0.00764 L 0.19883 0.00764 E">
                                      <p:cBhvr>
                                        <p:cTn id="34" dur="1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20039 0.01274 L 0.31536 0.01274 E">
                                      <p:cBhvr>
                                        <p:cTn id="36" dur="2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63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0.31784 0.01528 L 0.57083 0.01528 E">
                                      <p:cBhvr>
                                        <p:cTn id="38" dur="4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 repeatCount="indefinite">
                                  <p:stCondLst>
                                    <p:cond delay="4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21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>
                  <p:stCondLst>
                    <p:cond delay="indefinite"/>
                  </p:stCondLst>
                  <p:endCondLst>
                    <p:cond delay="0" evt="onStopAudio"/>
                  </p:endCondLst>
                </p:cTn>
                <p:tgtEl>
                  <p:spTgt spid="5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  <Words>18</Words>
  <Paragraphs>4</Paragraphs>
  <Company>http://sdwm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5:39:17Z</dcterms:created>
  <dc:creator>张庆文</dc:creator>
  <dc:description/>
  <dc:language>en-US</dc:language>
  <cp:lastModifiedBy>王玉清</cp:lastModifiedBy>
  <dcterms:modified xsi:type="dcterms:W3CDTF">2016-02-19T03:32:44Z</dcterms:modified>
  <cp:revision>493</cp:revision>
  <dc:subject/>
  <dc:title>年会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Presentation">
    <vt:lpwstr>年会流程</vt:lpwstr>
  </property>
  <property fmtid="{D5CDD505-2E9C-101B-9397-08002B2CF9AE}" pid="4" name="PresentationFormat">
    <vt:lpwstr>宽屏</vt:lpwstr>
  </property>
  <property fmtid="{D5CDD505-2E9C-101B-9397-08002B2CF9AE}" pid="5" name="SlideDescription">
    <vt:lpwstr/>
  </property>
  <property fmtid="{D5CDD505-2E9C-101B-9397-08002B2CF9AE}" pid="6" name="Slides">
    <vt:r8>1</vt:r8>
  </property>
</Properties>
</file>